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A33E4-37E6-4CD3-A859-92A0D3304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A0240-B590-4ABF-8736-7F89069B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6B5D1-A22C-4CE0-89DD-0DDDAF996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2161B-F7EA-4C96-9B86-4BCFA419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C5095-E74F-40F2-9128-97EDA84F1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7A8A2-938D-468E-B275-8A7AF2535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ECA8-F8E3-4890-93BD-6B41D13EA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AE937-35D3-47D9-9314-4C0AC88AA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5BEB9-B2A6-4F79-8710-A3CC0BA46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189A6-EDF4-4988-B33E-3660B6D3B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1E5F-834D-482D-B66D-166573929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DB421-0E68-4436-9EB1-A0484D2E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07911-95F2-45EC-82DC-1E230915B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64C6E-C95F-440E-B520-E6BB1808E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E2368-4F9E-43ED-A199-AE6A18571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E3941-AB64-4187-9DEE-2F334A5B5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334EA-870E-4A88-BBC9-5A0BCEAEB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8BA646-4CBC-47C9-99E1-F032B5BA53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59317-C6F5-46F6-89C9-325EC2BE0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1D0AD-6E87-4110-B923-836EC48CD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AAED1-3111-44B0-8B14-B39A8728F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1D459-41F6-4217-9E1B-CB953E13F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9D6C-C081-4EC2-A4FC-7AFC10EA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4B77E-1C32-4A6A-976E-4F110665F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22631-6264-42B7-8F3E-9290C94D3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B78D2-8D77-425A-8F11-844F070F2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918F0-D621-4DFD-8496-D30FC9271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8359B-F7BF-4410-A86B-4714049BE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C9A24-BBD6-4FA0-A3F4-EF573F6E1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AFADE-13DE-4F68-900A-81C1E0CCB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958C6-7172-4207-A618-802D660EBB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D9483-D4AB-4E4F-A2D5-26A505A62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BA3AA-629C-4275-AF06-FC60145F3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BB56C-0409-433E-A0C4-B799546E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182F9-2CEC-40C3-BD27-9FA5E21A6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48E08-BBE0-41D7-8EFA-95D7F53D3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BDA63-5063-4B4E-AAAC-D63819445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9B17A-EBE1-4BA7-943D-E6197E22F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4F674-034C-48F6-9908-A4E926AA8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BD392-702A-4FB0-8DD7-4F9952198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BC409-0429-4639-BF70-500C4BA0D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1CF2D-F4FB-48AA-A691-4AF81BEBD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A1171-AC96-49D9-BF9E-9776B7D7FD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CAE569-5D54-472D-9D22-3A65EDF55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87A1E-83A5-45A4-AD6C-A571CE3E7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5CB63C-8902-455F-975F-249854411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92DFA-6160-4B75-A54F-219BAD213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43550-F844-4D67-840F-7EDBD6636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C2587-3DE0-4937-81A1-E4CE86DC7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8BA19-5775-4463-AB38-7E83F494B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DD375-A9E4-4238-B8ED-966893883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E23DF-0BA3-4040-BAC3-157E65A2B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A7788-4D93-4B48-B8E8-A4B798A29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CDA3F-01EB-4F88-ADE0-94CA70FF3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18B3B8-A725-4AE2-A7E9-EDD018AF01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994F-2BA6-4963-AAFE-B1A250AF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7FBAE5-9D81-41D0-886C-F349B8F2A3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B69965-AA49-4A1C-91BD-1D982C36E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B8240-A1CE-493A-802E-92105F3F1F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B611E-7FA7-47B0-B48C-9C8E3569C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D71D28-9442-4665-A708-436B3C80E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9E534-615E-42C7-9DFE-0B3DC1D7D8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3ABC00-B6D2-476D-8909-473178E90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C9A3A-E0DB-4899-BB2C-3A25E0688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49013-23ED-4155-9C85-97633D3F8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38655-EB28-4EF8-AE98-69AED8D3B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911A-F2EF-4B2A-8DE9-CE527CBE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97154-9C5E-4633-B1BE-3A6B160E1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73153D-163A-420D-AC50-1F26EF4D25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252E05-FD86-4FCD-8931-4891AAB9AE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6368E-C476-41B8-818A-C8D8BF0F54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D9DE8-EF73-45F9-B6C3-DF22A24F2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A8516-C362-454A-BCD7-64D8EB6C8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32570-BD03-4AE0-8A6E-08634ADA65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773D0-B4C1-4CA3-935A-A1B6239794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47DA9-8DA1-4109-A340-3CBF6C4A3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BDDCD-AF45-4B58-BC59-D3E64B21D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4F37-5C7B-4B15-B7EF-61B46A62B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9AB43-C6B7-4880-99E7-A86870EBF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06C83-9D5F-49D2-89F6-4D702FEE3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ECC51-0CC8-4A80-8F37-8C2109CE8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481566-DFE9-4E53-B390-F2DCFDF89F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FCBAAD-E086-4519-AB4D-9C588D301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8F88F-C374-4FDE-8CE4-0DE7642A6E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9427F-BA12-475D-99AE-88FCDF460C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00910-F203-4763-8C0E-A5C18B2618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D2776-2992-4491-9420-A53D828144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10D6F-40E4-4ABD-B263-4CF221D7D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9D5D5-64DE-4119-9F2F-92C7D1DC0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6CFECD-B43E-435F-AC6D-C4A534D7E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E7869-6C75-4D61-9892-3C7769CE2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E40D7-1B9D-465C-8D7A-767CEB605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D4046-705B-4516-851B-BD7DE5FA6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AF4A7-2A10-48E3-A834-A64910A2B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820A2-BECD-4E1F-8E90-D749846A89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1BAA3F-11D2-41FC-BBB2-B585074D3BD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2A90-A1AA-43B7-885E-B67B22E8FF5A}"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A3EA-A7CB-4D2A-8603-2F945166CF29}"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E837-6B6D-47D3-A2F2-8BB2D0F99220}"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48A2-9953-4F36-860A-5BFEFBEE2FFB}"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9F02-EDB0-4598-970E-E1C52DAEBBEC}"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6296-B7AD-4FCB-BEEF-CB9707E4B24C}"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E3CD-B940-4782-95EA-6B060E022098}"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1CB9-B0B5-4608-BB56-D3E074B12F77}"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706320" y="3492360"/>
            <a:ext cx="8083800" cy="1487520"/>
          </a:xfrm>
          <a:prstGeom prst="rect">
            <a:avLst/>
          </a:prstGeom>
          <a:ln w="0">
            <a:noFill/>
          </a:ln>
        </p:spPr>
      </p:pic>
      <p:sp>
        <p:nvSpPr>
          <p:cNvPr id="371" name="PlaceHolder 1"/>
          <p:cNvSpPr>
            <a:spLocks noGrp="1"/>
          </p:cNvSpPr>
          <p:nvPr>
            <p:ph type="subTitle"/>
          </p:nvPr>
        </p:nvSpPr>
        <p:spPr>
          <a:xfrm>
            <a:off x="1143000" y="10717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64646"/>
                </a:solidFill>
                <a:latin typeface="Lucida Sans Unicode"/>
                <a:cs typeface="Arial"/>
              </a:rPr>
              <a:t>مقرر تصل</a:t>
            </a:r>
            <a:r>
              <a:rPr b="0" lang="ar-SA" sz="4800" spc="-1" strike="noStrike">
                <a:solidFill>
                  <a:srgbClr val="464646"/>
                </a:solidFill>
                <a:latin typeface="Lucida Sans Unicode"/>
                <a:ea typeface="Arial"/>
              </a:rPr>
              <a:t>228</a:t>
            </a:r>
            <a:endParaRPr b="0" lang="en-US" sz="4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64646"/>
                </a:solidFill>
                <a:latin typeface="Lucida Sans Unicode"/>
                <a:cs typeface="Arial"/>
              </a:rPr>
              <a:t>الاتصال بين الثقافات</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fontScale="75000"/>
          </a:bodyPr>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قد تتضافر الرموز والدلالات وتتكتل لتشكل  مايسمى بالخطاب</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Discourse </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هو مفهوم فلسفي معاصر، يقصد به شبكة العلامات التي تدل على حقل دلالي ذي موضوعات مترابطة، سواء تكن هذه العلامات منطوقة</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أو مرئية أو مسموعة أو محسوس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تستخدم هذه المفردة في حقول متعددة كلها تنتمي لمجال الإنسانيات، كالدراسات النقدية ودراسات تحليل النصوص، والدراسات الاجتماعية وغيرها</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p:txBody>
      </p:sp>
      <p:pic>
        <p:nvPicPr>
          <p:cNvPr id="388"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fontScale="98000"/>
          </a:bodyPr>
          <a:p>
            <a:pPr marL="357480" indent="-2502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r>
              <a:rPr b="1" lang="ar-SA" sz="3200" spc="-1" strike="noStrike">
                <a:solidFill>
                  <a:srgbClr val="000000"/>
                </a:solidFill>
                <a:latin typeface="Adobe Arabic"/>
                <a:ea typeface="Adobe Arabic"/>
              </a:rPr>
              <a:t>1_</a:t>
            </a:r>
            <a:r>
              <a:rPr b="1" lang="ar-SA" sz="3200" spc="-1" strike="noStrike">
                <a:solidFill>
                  <a:srgbClr val="000000"/>
                </a:solidFill>
                <a:latin typeface="Adobe Arabic"/>
                <a:cs typeface="Adobe Arabic"/>
              </a:rPr>
              <a:t>الإخبار والإعلام</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_</a:t>
            </a:r>
            <a:r>
              <a:rPr b="1" lang="ar-SA" sz="3200" spc="-1" strike="noStrike">
                <a:solidFill>
                  <a:srgbClr val="000000"/>
                </a:solidFill>
                <a:latin typeface="Adobe Arabic"/>
                <a:cs typeface="Adobe Arabic"/>
              </a:rPr>
              <a:t>الترفيه والتسل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_</a:t>
            </a:r>
            <a:r>
              <a:rPr b="1" lang="ar-SA" sz="3200" spc="-1" strike="noStrike">
                <a:solidFill>
                  <a:srgbClr val="000000"/>
                </a:solidFill>
                <a:latin typeface="Adobe Arabic"/>
                <a:cs typeface="Adobe Arabic"/>
              </a:rPr>
              <a:t>إشباع الاحتياجات النفسية والجسد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_</a:t>
            </a:r>
            <a:r>
              <a:rPr b="1" lang="ar-SA" sz="3200" spc="-1" strike="noStrike">
                <a:solidFill>
                  <a:srgbClr val="000000"/>
                </a:solidFill>
                <a:latin typeface="Adobe Arabic"/>
                <a:cs typeface="Adobe Arabic"/>
              </a:rPr>
              <a:t>وظائف فكرية-تعليم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5_</a:t>
            </a:r>
            <a:r>
              <a:rPr b="1" lang="ar-SA" sz="3200" spc="-1" strike="noStrike">
                <a:solidFill>
                  <a:srgbClr val="000000"/>
                </a:solidFill>
                <a:latin typeface="Adobe Arabic"/>
                <a:cs typeface="Adobe Arabic"/>
              </a:rPr>
              <a:t>وظائف سياسية أيديولوجية (التوعية بأشكالها_تكريس الصور (الستيريوتايب)_ الدعاية السياسية (البروباغندا)..الخ</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p:txBody>
      </p:sp>
      <p:pic>
        <p:nvPicPr>
          <p:cNvPr id="390"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fontScale="76000"/>
          </a:bodyPr>
          <a:p>
            <a:pPr marL="277200" indent="-194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رّ الاتصال عبر التاريخ بمراحل يمكن تحديد معالمها على هذه الشاكلة:</a:t>
            </a:r>
            <a:endParaRPr b="0" lang="en-US" sz="2700" spc="-1" strike="noStrike">
              <a:solidFill>
                <a:srgbClr val="000000"/>
              </a:solidFill>
              <a:latin typeface="Lucida Sans Unicode"/>
            </a:endParaRPr>
          </a:p>
          <a:p>
            <a:pPr marL="277200" indent="-194040" algn="just" rtl="1">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رحلة الشفاهية :</a:t>
            </a:r>
            <a:endParaRPr b="0" lang="en-US" sz="2700" spc="-1" strike="noStrike">
              <a:solidFill>
                <a:srgbClr val="000000"/>
              </a:solidFill>
              <a:latin typeface="Lucida Sans Unicode"/>
            </a:endParaRPr>
          </a:p>
          <a:p>
            <a:pPr marL="277200" indent="-194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 وهي المرحلة التي تلت اكتشاف اللغة، وسبقت اكتشاف الكتابة. وهي تعتبر مرحلة بدائية في علم الإنسان ولكن هذا الكلام ليس على إطلاقه،  فهناك من الأمم من كانت ثقافتها وتواصلها مع العالم روائيا شفاهيا ولم تعترف بالكتابة إلا بشكل متأخر كالأمة العربية التي هي أمة رواية بالدرجة الأولى، وهناك أمم أخرى تشارك العربية هذه الخصيصة الثقافية.</a:t>
            </a:r>
            <a:endParaRPr b="0" lang="en-US" sz="3600" spc="-1" strike="noStrike">
              <a:solidFill>
                <a:srgbClr val="000000"/>
              </a:solidFill>
              <a:latin typeface="Lucida Sans Unicode"/>
            </a:endParaRPr>
          </a:p>
        </p:txBody>
      </p:sp>
      <p:pic>
        <p:nvPicPr>
          <p:cNvPr id="392"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fontScale="68000"/>
          </a:bodyPr>
          <a:p>
            <a:pPr marL="424080" indent="-3495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فترض علماء الاتصال أن اكتشاف الكتابة جاء متأخرا على مرحلة الرواية الشفهية، وتبدأ هذه المرحلة بالكتابة التصويرية التي تتمثل في النقوش على الكهوف والنقوش التصويرية في المعابد والمقابر ، ويعود تاريخ هذا النمط من الكتابة إلى ماقبل التاريخ. </a:t>
            </a:r>
            <a:endParaRPr b="0" lang="en-US" sz="3600" spc="-1" strike="noStrike">
              <a:solidFill>
                <a:srgbClr val="000000"/>
              </a:solidFill>
              <a:latin typeface="Lucida Sans Unicode"/>
            </a:endParaRPr>
          </a:p>
          <a:p>
            <a:pPr marL="424080" indent="-3495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ثم تطوّرت الكتابة إلى مرحلة المزاوجة بين المسموع (الحرف) وبين البصري( المخطوط) في حضارات الشرق الأقصى والهلال الخصيب، ثم انتقل هذا الشكل من التكويد والترميز إلى بقية اللغات المعاصرة، وطوّرت كل لغة نمطها الكتابي .</a:t>
            </a:r>
            <a:endParaRPr b="0" lang="en-US" sz="3600" spc="-1" strike="noStrike">
              <a:solidFill>
                <a:srgbClr val="000000"/>
              </a:solidFill>
              <a:latin typeface="Lucida Sans Unicode"/>
            </a:endParaRPr>
          </a:p>
        </p:txBody>
      </p:sp>
      <p:pic>
        <p:nvPicPr>
          <p:cNvPr id="394"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fontScale="78000"/>
          </a:bodyPr>
          <a:p>
            <a:pPr marL="486360" indent="-401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هي المرحلة التي قفزت فيها عالم الاتصال ونقل المحتوى من مستوى النسخ اليدوي إلى مستوى الطباعة التي اخترعت (بشكلها الحديث) في القرن الثامن عشر.</a:t>
            </a:r>
            <a:endParaRPr b="0" lang="en-US" sz="3600" spc="-1" strike="noStrike">
              <a:solidFill>
                <a:srgbClr val="000000"/>
              </a:solidFill>
              <a:latin typeface="Lucida Sans Unicode"/>
            </a:endParaRPr>
          </a:p>
          <a:p>
            <a:pPr marL="486360" indent="-401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احصل في هذه المرحلة هو تكثف المحتوى وإتاحته لعدد من المتلقين أكبر مما كان عليه الوضع في المرحلة الكتابية، كما أن الإعلام المطبوع (الصحيفة) ولد متزامنا مع اختراع الطابعة، ولذلك تكاد تكون الطابعة واحدة من أهم التحولات في عالم الاتصال ..</a:t>
            </a:r>
            <a:endParaRPr b="0" lang="en-US" sz="3600" spc="-1" strike="noStrike">
              <a:solidFill>
                <a:srgbClr val="000000"/>
              </a:solidFill>
              <a:latin typeface="Lucida Sans Unicode"/>
            </a:endParaRPr>
          </a:p>
        </p:txBody>
      </p:sp>
      <p:pic>
        <p:nvPicPr>
          <p:cNvPr id="396"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857160"/>
            <a:ext cx="8858160" cy="4525920"/>
          </a:xfrm>
          <a:prstGeom prst="rect">
            <a:avLst/>
          </a:prstGeom>
          <a:noFill/>
          <a:ln w="0">
            <a:noFill/>
          </a:ln>
        </p:spPr>
        <p:txBody>
          <a:bodyPr anchor="t">
            <a:normAutofit fontScale="65000"/>
          </a:bodyPr>
          <a:p>
            <a:pPr marL="405360" indent="-3340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دأت هذه المرحلة في القرن التاسع عشر ، حيث تراكمت ومنذ ذلك العصر اكتشافات الفيزياء الحديثة وتطويعها لتطوير عالم الاتصالات السلكية واللاسلكية، فاختراع التلغراف عام </a:t>
            </a:r>
            <a:r>
              <a:rPr b="1" lang="ar-SA" sz="3600" spc="-1" strike="noStrike">
                <a:solidFill>
                  <a:srgbClr val="000000"/>
                </a:solidFill>
                <a:latin typeface="Adobe Arabic"/>
                <a:ea typeface="Adobe Arabic"/>
              </a:rPr>
              <a:t>1844</a:t>
            </a:r>
            <a:r>
              <a:rPr b="1" lang="ar-SA" sz="3600" spc="-1" strike="noStrike">
                <a:solidFill>
                  <a:srgbClr val="000000"/>
                </a:solidFill>
                <a:latin typeface="Adobe Arabic"/>
                <a:ea typeface="Adobe Arabic"/>
              </a:rPr>
              <a:t> ومن ثم الهاتف عام </a:t>
            </a:r>
            <a:r>
              <a:rPr b="1" lang="ar-SA" sz="3600" spc="-1" strike="noStrike">
                <a:solidFill>
                  <a:srgbClr val="000000"/>
                </a:solidFill>
                <a:latin typeface="Adobe Arabic"/>
                <a:ea typeface="Adobe Arabic"/>
              </a:rPr>
              <a:t>1878</a:t>
            </a:r>
            <a:r>
              <a:rPr b="1" lang="ar-SA" sz="3600" spc="-1" strike="noStrike">
                <a:solidFill>
                  <a:srgbClr val="000000"/>
                </a:solidFill>
                <a:latin typeface="Adobe Arabic"/>
                <a:ea typeface="Adobe Arabic"/>
              </a:rPr>
              <a:t> ومن بعده ظهور الصورة المتحركة عام </a:t>
            </a:r>
            <a:r>
              <a:rPr b="1" lang="ar-SA" sz="3600" spc="-1" strike="noStrike">
                <a:solidFill>
                  <a:srgbClr val="000000"/>
                </a:solidFill>
                <a:latin typeface="Adobe Arabic"/>
                <a:ea typeface="Adobe Arabic"/>
              </a:rPr>
              <a:t>1895</a:t>
            </a:r>
            <a:r>
              <a:rPr b="1" lang="ar-SA" sz="3600" spc="-1" strike="noStrike">
                <a:solidFill>
                  <a:srgbClr val="000000"/>
                </a:solidFill>
                <a:latin typeface="Adobe Arabic"/>
                <a:ea typeface="Adobe Arabic"/>
              </a:rPr>
              <a:t> ومن بعده الراديو عام </a:t>
            </a:r>
            <a:r>
              <a:rPr b="1" lang="ar-SA" sz="3600" spc="-1" strike="noStrike">
                <a:solidFill>
                  <a:srgbClr val="000000"/>
                </a:solidFill>
                <a:latin typeface="Adobe Arabic"/>
                <a:ea typeface="Adobe Arabic"/>
              </a:rPr>
              <a:t>1899</a:t>
            </a:r>
            <a:r>
              <a:rPr b="1" lang="ar-SA" sz="3600" spc="-1" strike="noStrike">
                <a:solidFill>
                  <a:srgbClr val="000000"/>
                </a:solidFill>
                <a:latin typeface="Adobe Arabic"/>
                <a:ea typeface="Adobe Arabic"/>
              </a:rPr>
              <a:t> وانتشاره بين المستهلكين عام </a:t>
            </a:r>
            <a:r>
              <a:rPr b="1" lang="ar-SA" sz="3600" spc="-1" strike="noStrike">
                <a:solidFill>
                  <a:srgbClr val="000000"/>
                </a:solidFill>
                <a:latin typeface="Adobe Arabic"/>
                <a:ea typeface="Adobe Arabic"/>
              </a:rPr>
              <a:t>1922</a:t>
            </a:r>
            <a:r>
              <a:rPr b="1" lang="ar-SA" sz="3600" spc="-1" strike="noStrike">
                <a:solidFill>
                  <a:srgbClr val="000000"/>
                </a:solidFill>
                <a:latin typeface="Adobe Arabic"/>
                <a:ea typeface="Adobe Arabic"/>
              </a:rPr>
              <a:t>..ومن ثم التلفزيون في الثلاثينيات الميلادية ..وماحصل من التطور  في عالم الاتصال حتى بداية التسعينات الميلادية.</a:t>
            </a:r>
            <a:endParaRPr b="0" lang="en-US" sz="3600" spc="-1" strike="noStrike">
              <a:solidFill>
                <a:srgbClr val="000000"/>
              </a:solidFill>
              <a:latin typeface="Lucida Sans Unicode"/>
            </a:endParaRPr>
          </a:p>
          <a:p>
            <a:pPr marL="405360" indent="-3340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هذه المرحلة كانت تبدأ بالاكتشاف والاختراع ومن ثم تسويقه بين المستهلكين والجماهير، ليتشكل جوهر الثورة الاتصالية وهي تتعاظم وتزداد سرعة حتى تصل إلى مرحلة اختراع الكومبيوتر في الثمانينات.</a:t>
            </a:r>
            <a:endParaRPr b="0" lang="en-US" sz="3600" spc="-1" strike="noStrike">
              <a:solidFill>
                <a:srgbClr val="000000"/>
              </a:solidFill>
              <a:latin typeface="Lucida Sans Unicode"/>
            </a:endParaRPr>
          </a:p>
        </p:txBody>
      </p:sp>
      <p:pic>
        <p:nvPicPr>
          <p:cNvPr id="398" name="Title 2" descr=""/>
          <p:cNvPicPr/>
          <p:nvPr/>
        </p:nvPicPr>
        <p:blipFill>
          <a:blip r:embed="rId1"/>
          <a:stretch/>
        </p:blipFill>
        <p:spPr>
          <a:xfrm>
            <a:off x="-26820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fontScale="72000"/>
          </a:bodyPr>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تبتدئ هذه المرحلة فعليا بإطلاق خدمة الإنترنت وطرحه للمستهلكين (الذين لم يتحولوا في البداية إلى مستخدمين) منذ عام </a:t>
            </a:r>
            <a:r>
              <a:rPr b="1" lang="ar-SA" sz="3600" spc="-1" strike="noStrike">
                <a:solidFill>
                  <a:srgbClr val="000000"/>
                </a:solidFill>
                <a:latin typeface="Adobe Arabic"/>
                <a:ea typeface="Adobe Arabic"/>
              </a:rPr>
              <a:t>1993</a:t>
            </a:r>
            <a:r>
              <a:rPr b="1" lang="ar-SA" sz="3600" spc="-1" strike="noStrike">
                <a:solidFill>
                  <a:srgbClr val="000000"/>
                </a:solidFill>
                <a:latin typeface="Adobe Arabic"/>
                <a:ea typeface="Adobe Arabic"/>
              </a:rPr>
              <a:t> ، وإن كان الاتصال التفاعلي قد بدأت تقاناته تتطور منذ منتصف الثمانينات</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هذا النوع من الاتصال يدمج بين أكثر من تقنية معلوماتية واتصالية، وتقع الإنترنت موقع العمود الفقري للمرحلة التفاعلية إذ إن تحوّل العالم إلى قرية إلكترونية صغيرة لم يكن ليحصل بالكثافة الهائلة والمتراكمة التي جاءت بها الإنترنت</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071360"/>
            <a:ext cx="8229600" cy="5429160"/>
          </a:xfrm>
          <a:prstGeom prst="rect">
            <a:avLst/>
          </a:prstGeom>
          <a:noFill/>
          <a:ln w="0">
            <a:noFill/>
          </a:ln>
        </p:spPr>
        <p:txBody>
          <a:bodyPr anchor="t">
            <a:normAutofit fontScale="95000"/>
          </a:bodyPr>
          <a:p>
            <a:pPr marL="346680" indent="-24264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Media </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هي جمع كلمة ميديم (الوسيط) وجمعها العربي هو وسائط ويعبر عنه اصطلاحيا بوسائل الإعلام أو الوسائط..</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وهو كل قناة اتصالية تنشر عبرها الأخبار والترفيه، الوثائقيات، المعلومات، الرسائل الترويجية، وهي تتضمن كل وسيط إذاعي واسع الانتشار (برودكاست) أو ضيق الإنتشار (ناروكاست) ، مثل المجلات والجرائد، التلفزيون والراديو، البريد والتليفون والإنترنت، وحتى الجرائد الحائطية ..</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عتبر هذا المصطلح حديثا جدا، حيث ارتبط بعصر وسائل الإعلام الجماهيرية، والتي ارتبط انتشارها بالتحولات الاقتصادية والثقافية  العالمية.</a:t>
            </a: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262080" y="231840"/>
            <a:ext cx="8474040" cy="128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2920" y="857160"/>
            <a:ext cx="8858160" cy="4525920"/>
          </a:xfrm>
          <a:prstGeom prst="rect">
            <a:avLst/>
          </a:prstGeom>
          <a:noFill/>
          <a:ln w="0">
            <a:noFill/>
          </a:ln>
        </p:spPr>
        <p:txBody>
          <a:bodyPr anchor="t">
            <a:normAutofit fontScale="67000"/>
          </a:bodyPr>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الإنترنت هو نظام عالمي من شبكات الحاسوب المتصلة بشكل تفاعلي، والتي تستخدم حزمة بروتوكولات الإنترنت </a:t>
            </a:r>
            <a:r>
              <a:rPr b="1" lang="en-GB" sz="2700" spc="-1" strike="noStrike">
                <a:solidFill>
                  <a:srgbClr val="000000"/>
                </a:solidFill>
                <a:latin typeface="Adobe Arabic"/>
                <a:ea typeface="Adobe Arabic"/>
              </a:rPr>
              <a:t>(</a:t>
            </a:r>
            <a:r>
              <a:rPr b="1" i="1" lang="en-GB" sz="2700" spc="-1" strike="noStrike">
                <a:solidFill>
                  <a:srgbClr val="000000"/>
                </a:solidFill>
                <a:latin typeface="Adobe Arabic"/>
                <a:ea typeface="Adobe Arabic"/>
              </a:rPr>
              <a:t>TCP/IP</a:t>
            </a:r>
            <a:r>
              <a:rPr b="1" lang="en-GB" sz="2700" spc="-1" strike="noStrike">
                <a:solidFill>
                  <a:srgbClr val="000000"/>
                </a:solidFill>
                <a:latin typeface="Adobe Arabic"/>
                <a:ea typeface="Adobe Arabic"/>
              </a:rPr>
              <a:t>)</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هذا النظام يخدم مليار مستخدم حاليا حول العالم وربما أكثر، ويتكوّن من مجموعة هائلة من مصادر المعلومات والخدمات.</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أشكال الاتصال والميديا التقليدية تم إعادة تشكيلها عبر الإنترنت، وذلك لأنها خضعت لبروتوكولات برمجية جعلت كل هذه الخدمات رقمية (مثل الإذاعة الرقمية التي تعتمد على بروتوكول فويس أوفر إنترنت بروتوكول، ومثل التلفزيون الرقمي الذي يعتمد الإنترنت بروتوكول تي في) الصحف أصبحت تستخدم خدمة الهايبر تكست  وبروتوكول الويبسايت.</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مثل هذه الأشكال </a:t>
            </a:r>
            <a:r>
              <a:rPr b="1" lang="ar-SA" sz="2700" spc="-1" strike="noStrike">
                <a:solidFill>
                  <a:srgbClr val="ff0000"/>
                </a:solidFill>
                <a:latin typeface="Adobe Arabic"/>
                <a:cs typeface="Adobe Arabic"/>
              </a:rPr>
              <a:t>تأثرت كل مناحي الحياة بوجود الإنترنت، فظهور الإدارة الإلكترونية أحدث منعطفا كبيرا في مفهوم الإدارة والمنشآت،  والتجارة الإلكترونية أصبحت قفزة نوعية في مفاهيم الاقتصاد العالمي منه والمحلي..</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من الطبيعي جدا أن يلقي الإنترنت بظلاله على العلاقات الاجتماعية وتشكيل المجتمعات البشرية.</a:t>
            </a:r>
            <a:endParaRPr b="0" lang="en-US" sz="2700" spc="-1" strike="noStrike">
              <a:solidFill>
                <a:srgbClr val="000000"/>
              </a:solidFill>
              <a:latin typeface="Lucida Sans Unicode"/>
            </a:endParaRPr>
          </a:p>
          <a:p>
            <a:pPr marL="244440" indent="-189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6820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2" descr=""/>
          <p:cNvPicPr/>
          <p:nvPr/>
        </p:nvPicPr>
        <p:blipFill>
          <a:blip r:embed="rId1"/>
          <a:stretch/>
        </p:blipFill>
        <p:spPr>
          <a:xfrm>
            <a:off x="195120" y="268200"/>
            <a:ext cx="8498160" cy="1158840"/>
          </a:xfrm>
          <a:prstGeom prst="rect">
            <a:avLst/>
          </a:prstGeom>
          <a:ln w="0">
            <a:noFill/>
          </a:ln>
        </p:spPr>
      </p:pic>
      <p:sp>
        <p:nvSpPr>
          <p:cNvPr id="406" name=""/>
          <p:cNvSpPr txBox="1"/>
          <p:nvPr/>
        </p:nvSpPr>
        <p:spPr>
          <a:xfrm>
            <a:off x="457200" y="1357200"/>
            <a:ext cx="8400960" cy="4649760"/>
          </a:xfrm>
          <a:prstGeom prst="rect">
            <a:avLst/>
          </a:prstGeom>
          <a:noFill/>
          <a:ln w="0">
            <a:noFill/>
          </a:ln>
        </p:spPr>
        <p:txBody>
          <a:bodyPr anchor="t">
            <a:normAutofit fontScale="70000"/>
          </a:bodyPr>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بحلول نهاية التسعينات ، ستكون هناك لغات برمجة مثل (بي إتش بي و سي جي آي (بوابة التفاعلية العامة) وَ الأي أس بي والتي كان يتم تطويرها منذ منتصف التسعينات)  تتيح للمستخدم التفاعل مع النص الفائق المعروض أمامه في الويب. وهذا التحوّل نقل .المستهلك إلى مرحلة المستخدم</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cs typeface="Adobe Arabic"/>
              </a:rPr>
              <a:t>اصطلح على تسمية هذه المرحلة ويب </a:t>
            </a:r>
            <a:r>
              <a:rPr b="1" lang="ar-SA" sz="3200" spc="-1" strike="noStrike">
                <a:solidFill>
                  <a:srgbClr val="ff0000"/>
                </a:solidFill>
                <a:latin typeface="Adobe Arabic"/>
                <a:ea typeface="Adobe Arabic"/>
              </a:rPr>
              <a:t>1.0</a:t>
            </a:r>
            <a:r>
              <a:rPr b="1" lang="ar-SA" sz="3200" spc="-1" strike="noStrike">
                <a:solidFill>
                  <a:srgbClr val="ff0000"/>
                </a:solidFill>
                <a:latin typeface="Adobe Arabic"/>
                <a:cs typeface="Adobe Arabic"/>
              </a:rPr>
              <a:t>، وتمتد من نهاية التسعينات وحتى </a:t>
            </a:r>
            <a:r>
              <a:rPr b="1" lang="ar-SA" sz="3200" spc="-1" strike="noStrike">
                <a:solidFill>
                  <a:srgbClr val="ff0000"/>
                </a:solidFill>
                <a:latin typeface="Adobe Arabic"/>
                <a:ea typeface="Adobe Arabic"/>
              </a:rPr>
              <a:t>2005</a:t>
            </a:r>
            <a:r>
              <a:rPr b="1" lang="ar-SA" sz="3200" spc="-1" strike="noStrike">
                <a:solidFill>
                  <a:srgbClr val="ff0000"/>
                </a:solidFill>
                <a:latin typeface="Adobe Arabic"/>
                <a:ea typeface="Adobe Arabic"/>
              </a:rPr>
              <a:t>.</a:t>
            </a:r>
            <a:endParaRPr b="0" lang="en-US" sz="3200" spc="-1" strike="noStrike">
              <a:solidFill>
                <a:srgbClr val="000000"/>
              </a:solidFill>
              <a:latin typeface="Lucida Sans Unicode"/>
            </a:endParaRPr>
          </a:p>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مع تزايد عدد المستخدمين وتراكم المحتوى عالميا، توصل كثير من المبرمجين إلى تطوير أدوات برمجة للمحتوى باستخدام نفس لغات البرمجة التي تتيح التفاعلية مثل بي أتش بي، فظهرت على التوالي مواقع يوتيوب/فيسبوك/تويتر</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99680" y="1142640"/>
            <a:ext cx="8186760" cy="4768920"/>
          </a:xfrm>
          <a:prstGeom prst="rect">
            <a:avLst/>
          </a:prstGeom>
          <a:noFill/>
          <a:ln w="0">
            <a:noFill/>
          </a:ln>
        </p:spPr>
        <p:txBody>
          <a:bodyPr anchor="t">
            <a:normAutofit fontScale="72000"/>
          </a:bodyPr>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r>
              <a:rPr b="1" lang="ar-SA" sz="3600" spc="-1" strike="noStrike">
                <a:solidFill>
                  <a:srgbClr val="000000"/>
                </a:solidFill>
                <a:latin typeface="Adobe Arabic"/>
                <a:cs typeface="Adobe Arabic"/>
              </a:rPr>
              <a:t>يشتق الاتصال لغة من الجذر (وصل)، ومنه جاء وصله، يصله، وصلاً أي بره وتودد اليه ولم يجفه</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ن أقدم استخدامات الجذر (اتصل) هو استخدامه كمصطلح في علم الحديث، حيث يقصد باتصال السند في علم الحديث امتداد سلسلة الرواية دون انقطاع إلى مصدر الحديث المروي أو الأثر، واستخدم نفس هذا المصطلح بنفس المعنى، في علوم أخرى كعلم الأنساب وعلم رواية الشعر</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يأتي استخدام مفردة الاتصال حديثا كترجمة حرفية للمصطلح الإنجليزي</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dobe Arabic"/>
                <a:ea typeface="Adobe Arabic"/>
              </a:rPr>
              <a:t>C</a:t>
            </a:r>
            <a:r>
              <a:rPr b="1" lang="en-GB" sz="2700" spc="-1" strike="noStrike">
                <a:solidFill>
                  <a:srgbClr val="000000"/>
                </a:solidFill>
                <a:latin typeface="Lucida Sans Unicode"/>
              </a:rPr>
              <a:t>ommunication</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5876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2" descr=""/>
          <p:cNvPicPr/>
          <p:nvPr/>
        </p:nvPicPr>
        <p:blipFill>
          <a:blip r:embed="rId1"/>
          <a:stretch/>
        </p:blipFill>
        <p:spPr>
          <a:xfrm>
            <a:off x="804960" y="-6480"/>
            <a:ext cx="7345440" cy="1158840"/>
          </a:xfrm>
          <a:prstGeom prst="rect">
            <a:avLst/>
          </a:prstGeom>
          <a:ln w="0">
            <a:noFill/>
          </a:ln>
        </p:spPr>
      </p:pic>
      <p:sp>
        <p:nvSpPr>
          <p:cNvPr id="408" name=""/>
          <p:cNvSpPr txBox="1"/>
          <p:nvPr/>
        </p:nvSpPr>
        <p:spPr>
          <a:xfrm>
            <a:off x="4714920" y="1071720"/>
            <a:ext cx="3857760" cy="5519520"/>
          </a:xfrm>
          <a:prstGeom prst="rect">
            <a:avLst/>
          </a:prstGeom>
          <a:gradFill rotWithShape="0">
            <a:gsLst>
              <a:gs pos="0">
                <a:srgbClr val="9eafd6"/>
              </a:gs>
              <a:gs pos="100000">
                <a:srgbClr val="dce3f6"/>
              </a:gs>
            </a:gsLst>
            <a:lin ang="16200000"/>
          </a:gradFill>
          <a:ln w="9360">
            <a:solidFill>
              <a:srgbClr val="92d050"/>
            </a:solidFill>
            <a:miter/>
          </a:ln>
          <a:effectLst>
            <a:outerShdw dist="38160" dir="5400000" blurRad="0" rotWithShape="0">
              <a:srgbClr val="000000">
                <a:alpha val="35000"/>
              </a:srgbClr>
            </a:outerShdw>
          </a:effectLst>
        </p:spPr>
        <p:txBody>
          <a:bodyPr anchor="t">
            <a:normAutofit fontScale="98000"/>
          </a:bodyPr>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ويب </a:t>
            </a:r>
            <a:r>
              <a:rPr b="0" lang="ar-SA" sz="2300" spc="-1" strike="noStrike">
                <a:solidFill>
                  <a:srgbClr val="000000"/>
                </a:solidFill>
                <a:latin typeface="Lucida Sans Unicode"/>
                <a:ea typeface="Arial"/>
              </a:rPr>
              <a:t>1.0</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يقصد بها المرحلة الزمنية من عمر الإنترنت والتي بدأ المستخدم فيها بإنشاء المحتوى وإدارته</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منتديات/ البالتوك/غرف الدردشة/إطلاق مقدمي خدمات البريد الإلكتروني مثل ياهو+هوتميل</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بداية عصر ازدهار غوغل ومحركات البحث الأخرى مثل ياهو / ألتافيستا/سندباد</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تفاعلية كانت موجودة ولكن</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محدودة</a:t>
            </a:r>
            <a:r>
              <a:rPr b="0" lang="ar-SA" sz="2300" spc="-1" strike="noStrike">
                <a:solidFill>
                  <a:srgbClr val="000000"/>
                </a:solidFill>
                <a:latin typeface="Lucida Sans Unicode"/>
                <a:ea typeface="Arial"/>
              </a:rPr>
              <a:t> </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بناء المحتوى كان يتم بشكل عمودي</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من المستخدم للمتلقي فقط</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محتوى كان أضعف منه الآن</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p:txBody>
      </p:sp>
      <p:sp>
        <p:nvSpPr>
          <p:cNvPr id="409" name="عنصر نائب للمحتوى 2"/>
          <p:cNvSpPr/>
          <p:nvPr/>
        </p:nvSpPr>
        <p:spPr>
          <a:xfrm>
            <a:off x="500040" y="1071720"/>
            <a:ext cx="4000680" cy="5616360"/>
          </a:xfrm>
          <a:prstGeom prst="rect">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ويب </a:t>
            </a:r>
            <a:r>
              <a:rPr b="0" lang="ar-SA" sz="2100" spc="-1" strike="noStrike">
                <a:solidFill>
                  <a:srgbClr val="000000"/>
                </a:solidFill>
                <a:latin typeface="Lucida Sans Unicode"/>
              </a:rPr>
              <a:t>2.0</a:t>
            </a:r>
            <a:r>
              <a:rPr b="0" lang="ar-SA" sz="2100" spc="-1" strike="noStrike">
                <a:solidFill>
                  <a:srgbClr val="000000"/>
                </a:solidFill>
                <a:latin typeface="Lucida Sans Unicode"/>
              </a:rPr>
              <a:t> </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يقصد بها المرحلة الزمنية من عمر الإنترنت التي تطوّر فيها المستخدم من مستوى إدارة المحتوى إلى مستوى المشاركة في شبكات تواصل اجتماعية ، وذلك باستخدام وتطوير أدوات ضمن لغات البرمجة</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 </a:t>
            </a:r>
            <a:r>
              <a:rPr b="0" lang="ar-SA" sz="2100" spc="-1" strike="noStrike">
                <a:solidFill>
                  <a:srgbClr val="000000"/>
                </a:solidFill>
                <a:latin typeface="Lucida Sans Unicode"/>
              </a:rPr>
              <a:t>هذا هو عصر المدوّنة، ثم فيسبوك، ثم تويتر</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ظهرت في هذا الوقت ويكبيديا والتي اعتمدت على منح السمتخدمين خاصية إدارة صفحات الموسوعة والقدرة على نقاشها وتحريرها</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a:t>
            </a:r>
            <a:r>
              <a:rPr b="0" lang="ar-SA" sz="2100" spc="-1" strike="noStrike">
                <a:solidFill>
                  <a:srgbClr val="000000"/>
                </a:solidFill>
                <a:latin typeface="Lucida Sans Unicode"/>
              </a:rPr>
              <a:t>التفاعلية هنا لامحدودة</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وبناء المحتوى يتم بشكل تبرعمي أفقي وعمودي</a:t>
            </a:r>
            <a:r>
              <a:rPr b="0" lang="ar-SA" sz="2100" spc="-1" strike="noStrike">
                <a:solidFill>
                  <a:srgbClr val="000000"/>
                </a:solidFill>
                <a:latin typeface="Lucida Sans Unicode"/>
              </a:rPr>
              <a:t> </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المحتوى في عصر ويب</a:t>
            </a:r>
            <a:r>
              <a:rPr b="0" lang="ar-SA" sz="2100" spc="-1" strike="noStrike">
                <a:solidFill>
                  <a:srgbClr val="000000"/>
                </a:solidFill>
                <a:latin typeface="Lucida Sans Unicode"/>
              </a:rPr>
              <a:t>2.0</a:t>
            </a:r>
            <a:r>
              <a:rPr b="0" lang="ar-SA" sz="2100" spc="-1" strike="noStrike">
                <a:solidFill>
                  <a:srgbClr val="000000"/>
                </a:solidFill>
                <a:latin typeface="Lucida Sans Unicode"/>
              </a:rPr>
              <a:t> فائق وتراكمي ويتضاعف مع مرور الوقت</a:t>
            </a:r>
            <a:r>
              <a:rPr b="0" lang="ar-SA" sz="2100" spc="-1" strike="noStrike">
                <a:solidFill>
                  <a:srgbClr val="000000"/>
                </a:solidFill>
                <a:latin typeface="Lucida Sans Unicode"/>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2" descr=""/>
          <p:cNvPicPr/>
          <p:nvPr/>
        </p:nvPicPr>
        <p:blipFill>
          <a:blip r:embed="rId1"/>
          <a:stretch/>
        </p:blipFill>
        <p:spPr>
          <a:xfrm>
            <a:off x="450720" y="268200"/>
            <a:ext cx="8242560" cy="115884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anchor="t">
            <a:normAutofit fontScale="94000"/>
          </a:bodyPr>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يقصد به تحويل شبكات التواصل الاجتماعية والمواقع بكل خصائصها إلى (تطبيقات) متاحة على الأجهزة الذكية</a:t>
            </a:r>
            <a:r>
              <a:rPr b="1" lang="ar-SA" sz="2800" spc="-1" strike="noStrike">
                <a:solidFill>
                  <a:srgbClr val="464646"/>
                </a:solidFill>
                <a:latin typeface="Lucida Sans Unicode"/>
                <a:ea typeface="Arial"/>
              </a:rPr>
              <a:t>.</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ويب </a:t>
            </a:r>
            <a:r>
              <a:rPr b="1" lang="ar-SA" sz="2800" spc="-1" strike="noStrike">
                <a:solidFill>
                  <a:srgbClr val="464646"/>
                </a:solidFill>
                <a:latin typeface="Lucida Sans Unicode"/>
                <a:ea typeface="Arial"/>
              </a:rPr>
              <a:t>3.0</a:t>
            </a:r>
            <a:r>
              <a:rPr b="1" lang="ar-SA" sz="2800" spc="-1" strike="noStrike">
                <a:solidFill>
                  <a:srgbClr val="464646"/>
                </a:solidFill>
                <a:latin typeface="Lucida Sans Unicode"/>
                <a:ea typeface="Arial"/>
              </a:rPr>
              <a:t> تشهد انخفاض عدد المستخدمين من الويب، وتزايد عددهم كمستخدمين عبر أنظمة تشغيل مثل أو</a:t>
            </a:r>
            <a:r>
              <a:rPr b="1" lang="ar-SA" sz="2800" spc="-1" strike="noStrike">
                <a:solidFill>
                  <a:srgbClr val="464646"/>
                </a:solidFill>
                <a:latin typeface="Lucida Sans Unicode"/>
                <a:ea typeface="Arial"/>
              </a:rPr>
              <a:t> </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إس أو (حق آيفون) أو أندرويد</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ويب </a:t>
            </a:r>
            <a:r>
              <a:rPr b="1" lang="ar-SA" sz="2800" spc="-1" strike="noStrike">
                <a:solidFill>
                  <a:srgbClr val="464646"/>
                </a:solidFill>
                <a:latin typeface="Lucida Sans Unicode"/>
                <a:ea typeface="Arial"/>
              </a:rPr>
              <a:t>3.0</a:t>
            </a:r>
            <a:r>
              <a:rPr b="1" lang="ar-SA" sz="2800" spc="-1" strike="noStrike">
                <a:solidFill>
                  <a:srgbClr val="464646"/>
                </a:solidFill>
                <a:latin typeface="Lucida Sans Unicode"/>
                <a:ea typeface="Arial"/>
              </a:rPr>
              <a:t> ترتفع فيها القيمة السوقية للتطبيق بسبب تزايد عدد المستخدمين وانخفاض أسعار الهواتف الذكية وتنّوع ماركاتها. (ماخف وزنه وغلا ثمنه</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fontScale="73000"/>
          </a:bodyPr>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1)</a:t>
            </a:r>
            <a:r>
              <a:rPr b="1" lang="ar-SA" sz="3200" spc="-1" strike="noStrike">
                <a:solidFill>
                  <a:srgbClr val="000000"/>
                </a:solidFill>
                <a:latin typeface="Adobe Arabic"/>
                <a:cs typeface="Adobe Arabic"/>
              </a:rPr>
              <a:t>نقلت هذه المرحلة المتلقين من مرحلة التلقي إلى مرحلة الفاعلية والمشاركة في صياغة المحتوى الإعلامي وإدارته</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 </a:t>
            </a:r>
            <a:r>
              <a:rPr b="1" lang="ar-SA" sz="3200" spc="-1" strike="noStrike">
                <a:solidFill>
                  <a:srgbClr val="000000"/>
                </a:solidFill>
                <a:latin typeface="Adobe Arabic"/>
                <a:cs typeface="Adobe Arabic"/>
              </a:rPr>
              <a:t>تشهد هذه المرحلة التطور المتراكم والمتسارع لأنماط الاتصال، فالمسافة الزمنية تقصر بين كل مرحلة وأخرى</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 </a:t>
            </a:r>
            <a:r>
              <a:rPr b="1" lang="ar-SA" sz="3200" spc="-1" strike="noStrike">
                <a:solidFill>
                  <a:srgbClr val="000000"/>
                </a:solidFill>
                <a:latin typeface="Adobe Arabic"/>
                <a:cs typeface="Adobe Arabic"/>
              </a:rPr>
              <a:t>تلاشي الفارق بين القائم بالاتصال وبين المستقبل لأن الأدوار متبادلة بشكل عادل في الاتصال التفاعلي، بخلاف ماكان عليه الحال في الاتصال الجماهيري الممثل في التلفزيون والراديو</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a:t>
            </a:r>
            <a:r>
              <a:rPr b="1" lang="ar-SA" sz="3200" spc="-1" strike="noStrike">
                <a:solidFill>
                  <a:srgbClr val="000000"/>
                </a:solidFill>
                <a:latin typeface="Adobe Arabic"/>
                <a:cs typeface="Adobe Arabic"/>
              </a:rPr>
              <a:t>التفاعلية قد تكون تزامنية (مثل غرف الدردشة) وغير تزامنية مثل البريد الإلكتروني</a:t>
            </a:r>
            <a:r>
              <a:rPr b="1" lang="ar-SA" sz="3200" spc="-1" strike="noStrike">
                <a:solidFill>
                  <a:srgbClr val="000000"/>
                </a:solidFill>
                <a:latin typeface="Adobe Arabic"/>
                <a:ea typeface="Adobe Arabic"/>
              </a:rPr>
              <a:t> </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fontScale="72000"/>
          </a:bodyPr>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يتسم هذا الاتصال بالخصائص التالية</a:t>
            </a:r>
            <a:r>
              <a:rPr b="0"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 </a:t>
            </a:r>
            <a:r>
              <a:rPr b="1" lang="en-GB" sz="3600" spc="-1" strike="noStrike">
                <a:solidFill>
                  <a:srgbClr val="000000"/>
                </a:solidFill>
                <a:latin typeface="Adobe Arabic"/>
                <a:ea typeface="Adobe Arabic"/>
              </a:rPr>
              <a:t>interactivity </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dobe Arabic"/>
                <a:cs typeface="Adobe Arabic"/>
              </a:rPr>
              <a:t>التفاعلية/</a:t>
            </a:r>
            <a:r>
              <a:rPr b="1" lang="ar-SA" sz="3600" spc="-1" strike="noStrike">
                <a:solidFill>
                  <a:srgbClr val="000000"/>
                </a:solidFill>
                <a:latin typeface="Adobe Arabic"/>
                <a:ea typeface="Adobe Arabic"/>
              </a:rPr>
              <a:t> والتي تعني انتهاء مرحلة الاتصال الخطي</a:t>
            </a:r>
            <a:r>
              <a:rPr b="1" lang="ar-SA" sz="3600" spc="-1" strike="noStrike">
                <a:solidFill>
                  <a:srgbClr val="000000"/>
                </a:solidFill>
                <a:latin typeface="Adobe Arabic"/>
                <a:ea typeface="Adobe Arabic"/>
              </a:rPr>
              <a:t> </a:t>
            </a:r>
            <a:r>
              <a:rPr b="1" lang="en-GB" sz="3600" spc="-1" strike="noStrike">
                <a:solidFill>
                  <a:srgbClr val="000000"/>
                </a:solidFill>
                <a:latin typeface="Adobe Arabic"/>
                <a:ea typeface="Adobe Arabic"/>
              </a:rPr>
              <a:t>linear</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الإضافة لإمكانية تعدد المشاركين في الاتصال</a:t>
            </a:r>
            <a:r>
              <a:rPr b="1" lang="ar-SA" sz="3600" spc="-1" strike="noStrike">
                <a:solidFill>
                  <a:srgbClr val="000000"/>
                </a:solidFill>
                <a:latin typeface="Adobe Arabic"/>
                <a:ea typeface="Adobe Arabic"/>
              </a:rPr>
              <a:t>.</a:t>
            </a:r>
            <a:r>
              <a:rPr b="1" lang="en-GB" sz="3600" spc="-1" strike="noStrike">
                <a:solidFill>
                  <a:srgbClr val="000000"/>
                </a:solidFill>
                <a:latin typeface="Adobe Arabic"/>
                <a:ea typeface="Adobe Arabic"/>
              </a:rPr>
              <a:t> </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a:t>
            </a:r>
            <a:r>
              <a:rPr b="1" lang="ar-SA" sz="3600" spc="-1" strike="noStrike">
                <a:solidFill>
                  <a:srgbClr val="7030a0"/>
                </a:solidFill>
                <a:latin typeface="Adobe Arabic"/>
                <a:cs typeface="Adobe Arabic"/>
              </a:rPr>
              <a:t>لتكامل/</a:t>
            </a:r>
            <a:r>
              <a:rPr b="1" lang="ar-SA" sz="3600" spc="-1" strike="noStrike">
                <a:solidFill>
                  <a:srgbClr val="000000"/>
                </a:solidFill>
                <a:latin typeface="Adobe Arabic"/>
                <a:ea typeface="Adobe Arabic"/>
              </a:rPr>
              <a:t> في عناصر الاتصال حيث يمكن مزاوجة النص بالصورة </a:t>
            </a:r>
            <a:r>
              <a:rPr b="0" lang="ar-SA" sz="3600" spc="-1" strike="noStrike">
                <a:solidFill>
                  <a:srgbClr val="000000"/>
                </a:solidFill>
                <a:latin typeface="Adobe Arabic"/>
                <a:cs typeface="Adobe Arabic"/>
              </a:rPr>
              <a:t>والصوت والفيديو</a:t>
            </a:r>
            <a:r>
              <a:rPr b="0"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dobe Arabic"/>
                <a:cs typeface="Adobe Arabic"/>
              </a:rPr>
              <a:t>التنوّع/</a:t>
            </a:r>
            <a:r>
              <a:rPr b="1" lang="ar-SA" sz="3600" spc="-1" strike="noStrike">
                <a:solidFill>
                  <a:srgbClr val="000000"/>
                </a:solidFill>
                <a:latin typeface="Adobe Arabic"/>
                <a:ea typeface="Adobe Arabic"/>
              </a:rPr>
              <a:t> في نمط الاتصال وشكل الوسيط (الجهاز) من مرحلة الكمبيوتر الشخصي وحتى الجهاز اللوحي، بالإضافة للتنوع في </a:t>
            </a:r>
            <a:r>
              <a:rPr b="1" lang="ar-SA" sz="2700" spc="-1" strike="noStrike">
                <a:solidFill>
                  <a:srgbClr val="000000"/>
                </a:solidFill>
                <a:latin typeface="Adobe Arabic"/>
                <a:cs typeface="Adobe Arabic"/>
              </a:rPr>
              <a:t>المحتوى ونمطه</a:t>
            </a:r>
            <a:r>
              <a:rPr b="1" lang="ar-SA" sz="2700" spc="-1" strike="noStrike">
                <a:solidFill>
                  <a:srgbClr val="000000"/>
                </a:solidFill>
                <a:latin typeface="Adobe Arabic"/>
                <a:ea typeface="Adobe Arabic"/>
              </a:rPr>
              <a:t>.</a:t>
            </a:r>
            <a:endParaRPr b="0" lang="en-US" sz="2700" spc="-1" strike="noStrike">
              <a:solidFill>
                <a:srgbClr val="000000"/>
              </a:solidFill>
              <a:latin typeface="Lucida Sans Unicode"/>
            </a:endParaRPr>
          </a:p>
        </p:txBody>
      </p:sp>
      <p:pic>
        <p:nvPicPr>
          <p:cNvPr id="415" name="Title 2" descr=""/>
          <p:cNvPicPr/>
          <p:nvPr/>
        </p:nvPicPr>
        <p:blipFill>
          <a:blip r:embed="rId1"/>
          <a:stretch/>
        </p:blipFill>
        <p:spPr>
          <a:xfrm>
            <a:off x="384120" y="115920"/>
            <a:ext cx="8309160" cy="13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285560"/>
            <a:ext cx="8229600" cy="4840200"/>
          </a:xfrm>
          <a:prstGeom prst="rect">
            <a:avLst/>
          </a:prstGeom>
          <a:noFill/>
          <a:ln w="0">
            <a:noFill/>
          </a:ln>
        </p:spPr>
        <p:txBody>
          <a:bodyPr anchor="t">
            <a:normAutofit fontScale="78000"/>
          </a:bodyPr>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الاتصال اصطلاحا</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عرف عالم الاتصال ولبر شرام عام </a:t>
            </a:r>
            <a:r>
              <a:rPr b="1" lang="ar-SA" sz="2800" spc="-1" strike="noStrike">
                <a:solidFill>
                  <a:srgbClr val="000000"/>
                </a:solidFill>
                <a:latin typeface="Adobe Arabic"/>
                <a:ea typeface="Adobe Arabic"/>
              </a:rPr>
              <a:t>1977</a:t>
            </a:r>
            <a:r>
              <a:rPr b="1" lang="ar-SA" sz="2800" spc="-1" strike="noStrike">
                <a:solidFill>
                  <a:srgbClr val="000000"/>
                </a:solidFill>
                <a:latin typeface="Adobe Arabic"/>
                <a:ea typeface="Adobe Arabic"/>
              </a:rPr>
              <a:t> الاتصال</a:t>
            </a:r>
            <a:r>
              <a:rPr b="1" lang="ar-SA" sz="2800" spc="-1" strike="noStrike">
                <a:solidFill>
                  <a:srgbClr val="000000"/>
                </a:solidFill>
                <a:latin typeface="Adobe Arabic"/>
                <a:ea typeface="Adobe Arabic"/>
              </a:rPr>
              <a:t>: </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بأنه المشاركة في المعرفة عن طريق استخدام رموز تحمل دلالات</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وعرفته جيهان رشتي أستاذ الاتصال والإعلام في كلية الإعلام في جامعة القاهرة عام </a:t>
            </a:r>
            <a:r>
              <a:rPr b="1" lang="ar-SA" sz="2800" spc="-1" strike="noStrike">
                <a:solidFill>
                  <a:srgbClr val="000000"/>
                </a:solidFill>
                <a:latin typeface="Adobe Arabic"/>
                <a:ea typeface="Adobe Arabic"/>
              </a:rPr>
              <a:t>1975</a:t>
            </a:r>
            <a:r>
              <a:rPr b="1" lang="ar-SA" sz="2800" spc="-1" strike="noStrike">
                <a:solidFill>
                  <a:srgbClr val="000000"/>
                </a:solidFill>
                <a:latin typeface="Adobe Arabic"/>
                <a:ea typeface="Adobe Arabic"/>
              </a:rPr>
              <a:t> بأنها العملية التي يتفاعل بمقتضاها متلقي ومرسل الرسالة_ كائنات حية أو بشرا أو آلات_ في مضامين اجتماعية معينة، حيث يتم خلال هذا التفاعل نقل أفكار ومعلومات ومنبهات عن قضية معينة أو معنى مجرد أو دافع معين</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إلا أن هو المفهوم العام للاتصال فلسفيا، ولكنه عندما يرتبط بحقول معرفية محددة تتغير دلالته</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فعندما يستخدم الاتصال في حقل علوم الحاسب يختلف معناه عن استخدامه في علم السياسة، وبالتأكيد يختلف عن استخدامه في سياق العلوم الطبية</a:t>
            </a:r>
            <a:r>
              <a:rPr b="1" lang="ar-SA" sz="2800" spc="-1" strike="noStrike">
                <a:solidFill>
                  <a:srgbClr val="000000"/>
                </a:solidFill>
                <a:latin typeface="Adobe Arabic"/>
                <a:ea typeface="Adobe Arabic"/>
              </a:rPr>
              <a:t> </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5"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80000"/>
          </a:bodyPr>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في عملية الاتصال، يقوم المرسل بعملية تكويد (ترميز) للرسالة، ثم يقوم باستخدام وسيط/ قناة، من أجل إرسالها إلى المستقبل، والذي يقوم بدوره بفك التكويد (فك الرموز)، وبعد معالجة المعلومات والرموز يقوم بدوره بإرسال ردة فعل_ تغذية راجعة مناسبة للموقف، مستخدما نفس الوسيط / القناة.</a:t>
            </a:r>
            <a:endParaRPr b="0" lang="en-US" sz="4000" spc="-1" strike="noStrike">
              <a:solidFill>
                <a:srgbClr val="000000"/>
              </a:solidFill>
              <a:latin typeface="Lucida Sans Unicode"/>
            </a:endParaRPr>
          </a:p>
        </p:txBody>
      </p:sp>
      <p:pic>
        <p:nvPicPr>
          <p:cNvPr id="377" name="Title 2" descr=""/>
          <p:cNvPicPr/>
          <p:nvPr/>
        </p:nvPicPr>
        <p:blipFill>
          <a:blip r:embed="rId1"/>
          <a:stretch/>
        </p:blipFill>
        <p:spPr>
          <a:xfrm>
            <a:off x="420840" y="208080"/>
            <a:ext cx="8485200" cy="115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fontScale="83000"/>
          </a:bodyPr>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عبر عقود من البحث في علم الاتصال تعددت النظريات حول أركان وعناصر العملية الاتصالية، ومتى يقال أن هذا الموقف هو اتصال أم لا..</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الحقيقة أن كل موقف حيوي يتضمن شكلا من أشكال الاتصال بطريقة أو بأخرى..</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لو حصرنا سؤالنا في الاتصال في المحيط البشري لوجدنا أن غالبية العمليات الاتصالية تتكون من هذه العناصر:</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مرسل - الرسالة - القناة الاتصالية (الوسيلة) - المرسل - رجع الصدى (التأثير).</a:t>
            </a:r>
            <a:endParaRPr b="0" lang="en-US" sz="3200" spc="-1" strike="noStrike">
              <a:solidFill>
                <a:srgbClr val="000000"/>
              </a:solidFill>
              <a:latin typeface="Lucida Sans Unicode"/>
            </a:endParaRPr>
          </a:p>
          <a:p>
            <a:pPr marL="302760" indent="-2120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79" name="Title 1" descr=""/>
          <p:cNvPicPr/>
          <p:nvPr/>
        </p:nvPicPr>
        <p:blipFill>
          <a:blip r:embed="rId1"/>
          <a:stretch/>
        </p:blipFill>
        <p:spPr>
          <a:xfrm>
            <a:off x="262080" y="55440"/>
            <a:ext cx="847404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نموذج_الاتصال_التعليمي_الحديث.jpg"/>
          <p:cNvPicPr/>
          <p:nvPr/>
        </p:nvPicPr>
        <p:blipFill>
          <a:blip r:embed="rId1"/>
          <a:stretch/>
        </p:blipFill>
        <p:spPr>
          <a:xfrm>
            <a:off x="642960" y="357120"/>
            <a:ext cx="8215200" cy="5715000"/>
          </a:xfrm>
          <a:prstGeom prst="rect">
            <a:avLst/>
          </a:prstGeom>
          <a:ln w="0">
            <a:noFill/>
          </a:ln>
        </p:spPr>
      </p:pic>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428760"/>
            <a:ext cx="8229600" cy="6000480"/>
          </a:xfrm>
          <a:prstGeom prst="rect">
            <a:avLst/>
          </a:prstGeom>
          <a:noFill/>
          <a:ln w="0">
            <a:noFill/>
          </a:ln>
        </p:spPr>
        <p:txBody>
          <a:bodyPr anchor="t">
            <a:normAutofit fontScale="80000"/>
          </a:bodyPr>
          <a:p>
            <a:pPr marL="291960" indent="-20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1</a:t>
            </a:r>
            <a:r>
              <a:rPr b="1" lang="ar-SA" sz="3200" spc="-1" strike="noStrike">
                <a:solidFill>
                  <a:srgbClr val="000000"/>
                </a:solidFill>
                <a:latin typeface="Adobe Arabic"/>
                <a:ea typeface="Adobe Arabic"/>
              </a:rPr>
              <a:t>_مرسل: تصدر عنه بداية العملية الاتصالية.</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a:t>
            </a:r>
            <a:r>
              <a:rPr b="1" lang="ar-SA" sz="3200" spc="-1" strike="noStrike">
                <a:solidFill>
                  <a:srgbClr val="000000"/>
                </a:solidFill>
                <a:latin typeface="Adobe Arabic"/>
                <a:ea typeface="Adobe Arabic"/>
              </a:rPr>
              <a:t>_رسالة (محتوى): حيث يفترض أن يكوّن المرسل المحتوى، أو ينقله (واعيا) ويعيد تشكيله .</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a:t>
            </a:r>
            <a:r>
              <a:rPr b="1" lang="ar-SA" sz="3200" spc="-1" strike="noStrike">
                <a:solidFill>
                  <a:srgbClr val="000000"/>
                </a:solidFill>
                <a:latin typeface="Adobe Arabic"/>
                <a:ea typeface="Adobe Arabic"/>
              </a:rPr>
              <a:t>_مستقبل: يكون هو المستهدف في العملية الاتصالية، قد يكون فردا أو جماعة، </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a:t>
            </a:r>
            <a:r>
              <a:rPr b="1" lang="ar-SA" sz="3200" spc="-1" strike="noStrike">
                <a:solidFill>
                  <a:srgbClr val="000000"/>
                </a:solidFill>
                <a:latin typeface="Adobe Arabic"/>
                <a:ea typeface="Adobe Arabic"/>
              </a:rPr>
              <a:t>_ وسيلة الاتصال (صوتية_كتابية_ حسية)</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5</a:t>
            </a:r>
            <a:r>
              <a:rPr b="1" lang="ar-SA" sz="3200" spc="-1" strike="noStrike">
                <a:solidFill>
                  <a:srgbClr val="000000"/>
                </a:solidFill>
                <a:latin typeface="Adobe Arabic"/>
                <a:ea typeface="Adobe Arabic"/>
              </a:rPr>
              <a:t>_ معنى (أو هدف) : هو ماتنتهي إليه العملية الاتصالية (غالبا) ، حيث يمكن للعملية الاتصالية أن لاتنتهي بنفس الهدف الذي أنشئ الاتصال لأجله.</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6</a:t>
            </a:r>
            <a:r>
              <a:rPr b="1" lang="ar-SA" sz="3200" spc="-1" strike="noStrike">
                <a:solidFill>
                  <a:srgbClr val="000000"/>
                </a:solidFill>
                <a:latin typeface="Adobe Arabic"/>
                <a:ea typeface="Adobe Arabic"/>
              </a:rPr>
              <a:t>_ رجع الصدى (أو التغذية الراجعة): وهو غالبا مايتكون خلال أو بعد العملية الاتصالية..</a:t>
            </a:r>
            <a:endParaRPr b="0" lang="en-US" sz="3200" spc="-1" strike="noStrike">
              <a:solidFill>
                <a:srgbClr val="000000"/>
              </a:solidFill>
              <a:latin typeface="Lucida Sans Unicode"/>
            </a:endParaRPr>
          </a:p>
          <a:p>
            <a:pPr marL="291960" indent="-20448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291960" indent="-204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fontScale="86000"/>
          </a:bodyPr>
          <a:p>
            <a:pPr marL="313920" indent="-219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bal communication</a:t>
            </a:r>
            <a:r>
              <a:rPr b="0" lang="en-GB" sz="2700" spc="-1" strike="noStrike">
                <a:solidFill>
                  <a:srgbClr val="000000"/>
                </a:solidFill>
                <a:latin typeface="Lucida Sans Unicode"/>
              </a:rPr>
              <a:t> </a:t>
            </a:r>
            <a:r>
              <a:rPr b="1" lang="ar-SA" sz="3200" spc="-1" strike="noStrike">
                <a:solidFill>
                  <a:srgbClr val="000000"/>
                </a:solidFill>
                <a:latin typeface="Adobe Arabic"/>
                <a:cs typeface="Adobe Arabic"/>
              </a:rPr>
              <a:t>اتصال لغوي :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كون الوسيط فيه هو اللغة إما بشكلها المنطوق (اتصال </a:t>
            </a:r>
            <a:r>
              <a:rPr b="1" lang="en-GB" sz="3200" spc="-1" strike="noStrike">
                <a:solidFill>
                  <a:srgbClr val="000000"/>
                </a:solidFill>
                <a:latin typeface="Adobe Arabic"/>
                <a:ea typeface="Adobe Arabic"/>
              </a:rPr>
              <a:t>oral</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شفاهي)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Written</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أو بشكلها المكتوب (اتصال كتابي).</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Non verbal communication</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اتصال غير لغوي: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تكون عملية الترميز معتمدة على وسائط أخرى غير اللغة، كالإشارات والإيماءات، نبرة الصوت، تعابير الوجه، الموسيقى</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0720" y="2682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fontScale="88000"/>
          </a:bodyPr>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صوتي (عبر اللغة _ الموسيقى)</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جسدي (المصافحة_ الرقص عند بعض الشعوب)</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ترميزي (الكتابة_لغة الإشارة)</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لاتخلو عملية اتصالية من تداخل هذه الأنماط</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قد تتضافر الرموز والدلالات وتتكتل لتشكل  مايسمى بالخطاب</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Discourse </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هو مفهوم فلسفي معاصر</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86" name="Title 1" descr=""/>
          <p:cNvPicPr/>
          <p:nvPr/>
        </p:nvPicPr>
        <p:blipFill>
          <a:blip r:embed="rId1"/>
          <a:stretch/>
        </p:blipFill>
        <p:spPr>
          <a:xfrm>
            <a:off x="219240" y="73080"/>
            <a:ext cx="8474040" cy="13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7T14:49:43Z</dcterms:created>
  <dc:creator>ba</dc:creator>
  <dc:description/>
  <dc:language>en-US</dc:language>
  <cp:lastModifiedBy>ba</cp:lastModifiedBy>
  <dcterms:modified xsi:type="dcterms:W3CDTF">2014-02-06T20:35:56Z</dcterms:modified>
  <cp:revision>47</cp:revision>
  <dc:subject/>
  <dc:title>مدرّسة المقرر: بدرية العبيد</dc:title>
</cp:coreProperties>
</file>