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9472A-0FB5-44B8-8109-34E900448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D50B0-483D-4389-8A37-BED95E59C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727E2-DB61-499E-B112-650A3DEEE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7BF2D-B0DD-4D24-BBD7-27BB128AB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9C533-D407-430C-88B7-3541E7E58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9ED4A-6195-42C9-A640-01CB4AA2F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A4401-3358-4381-A4EE-7D8C24BD4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DFACE-47D0-4B11-9C43-AE594A789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EB842-823D-41F8-99CE-8D697B5E0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2F66E-8B8E-4DDE-975E-558F90251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E3A90-DBC2-43BB-93BF-8D9443000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A3293-D559-43DC-919A-1F6E8B457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9B16A-2644-4317-B907-45BFB57D2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B9078-68CD-4E91-BD5A-FCDA067DD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BEF78-87AD-4A32-A1A5-4D53C0B07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5A527-52AA-49B9-966C-5FCBB651A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813BC-E4B0-4F23-8806-3507073AA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24CD6A-A4C2-42F9-9C89-387CA32535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C1B03F-BE73-44C3-8581-410BA72B9E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4DEB9-30EA-4033-8BE0-B9AB22B8B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A1C15-F2F7-4610-AA00-48560AB38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4D8B32-7C24-444A-AF68-9296BAE28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534E1-0A17-4D65-80D0-7D2A05091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47B60-ABAE-48CC-B0EA-55424A91F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8BBB4-F549-4815-81F9-DBB071345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54774-4E63-485C-954D-121CF8F33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89112-D2EE-4BC1-8AD8-538B6DF27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C32582-3EBB-4445-9C8B-53E401853A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CC2289-7EAF-4EF0-8873-47BB4BA8A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8F4935-54C7-4BC7-9383-336B15C412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A65774-F409-48A9-AA10-4ADC609312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8DFC2-70DF-4982-B5F4-65E9CB0EB9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14E57F-C17B-49D7-B65A-884A4A6360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26850-C88B-4DD5-BFAB-3BA837332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A013BC-0755-492A-B224-4E60003C9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C1E19-C848-42BB-9A80-8A932F971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038E5-F0FF-43B2-825D-36D3E199F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245BE-EDFE-4EEC-91AF-B1071F34F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0E447-E5B9-4FCF-BF89-E003E044C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9E9BB-A186-442D-AA03-C849CCFE9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01740C-7701-4A24-B48C-FAC19082F5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2B7355-BF43-46B9-840A-CD3B418F41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2E5CD8-9726-43AF-9FC1-D75A6300BB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4DF9-9AF8-4837-A9FC-96E1B4D39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B174E-5152-447C-86EE-8642547C8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EAD6-6572-470F-B5B6-11006DFF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5B80-A4D8-400C-A961-AAA7B713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A78D4-B40F-4FF1-9AD7-CEFA06333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C3FF-6640-4F08-92D2-B7E84416997A}"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C12E-62E6-42A8-8BCF-1014DCF0F6AE}"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1F2A-7AB2-46F1-B487-E1FFD2FBE087}"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BF3D-B3CF-4E76-801A-4529982C40A5}"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83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أولى</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خصائص البحث التربوي</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87000"/>
          </a:bodyPr>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1</a:t>
            </a:r>
            <a:r>
              <a:rPr b="0" lang="ar-SA" sz="2600" spc="-1" strike="noStrike" u="sng">
                <a:solidFill>
                  <a:srgbClr val="03495c"/>
                </a:solidFill>
                <a:uFillTx/>
                <a:latin typeface="Constantia"/>
              </a:rPr>
              <a:t>- الموضوعية: </a:t>
            </a:r>
            <a:r>
              <a:rPr b="0" lang="ar-SA" sz="2600" spc="-1" strike="noStrike">
                <a:solidFill>
                  <a:srgbClr val="000000"/>
                </a:solidFill>
                <a:latin typeface="Constantia"/>
              </a:rPr>
              <a:t>عدم تدخل الباحث في عملية جمع البيانات أو تفسيرها أو تحليلها أي يلزمه تجنب إصدار انطباعاته الشخصية على مجريات بحثه.</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2</a:t>
            </a:r>
            <a:r>
              <a:rPr b="0" lang="ar-SA" sz="2600" spc="-1" strike="noStrike" u="sng">
                <a:solidFill>
                  <a:srgbClr val="03495c"/>
                </a:solidFill>
                <a:uFillTx/>
                <a:latin typeface="Constantia"/>
              </a:rPr>
              <a:t>- الدقة: </a:t>
            </a:r>
            <a:r>
              <a:rPr b="0" lang="ar-SA" sz="2600" spc="-1" strike="noStrike">
                <a:solidFill>
                  <a:srgbClr val="000000"/>
                </a:solidFill>
                <a:latin typeface="Constantia"/>
              </a:rPr>
              <a:t>العمل على توظيف اللغة الفنية في أثناء الكتابة من قبل الباحث تسهل على القارئ استيعاب المفاهيم البحثية التي يطالعها في البحث، مثال مفهوم البيئة الصفية والإبداع لها معانٍ ودلالات دقيقة في البحث التربوي يميزها عن غيرها من المفاهيم الرائجة تقليدياً.</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3</a:t>
            </a:r>
            <a:r>
              <a:rPr b="0" lang="ar-SA" sz="2600" spc="-1" strike="noStrike" u="sng">
                <a:solidFill>
                  <a:srgbClr val="03495c"/>
                </a:solidFill>
                <a:uFillTx/>
                <a:latin typeface="Constantia"/>
              </a:rPr>
              <a:t>- المنطقية: </a:t>
            </a:r>
            <a:r>
              <a:rPr b="0" lang="ar-SA" sz="2600" spc="-1" strike="noStrike">
                <a:solidFill>
                  <a:srgbClr val="000000"/>
                </a:solidFill>
                <a:latin typeface="Constantia"/>
              </a:rPr>
              <a:t>تتطلب من الباحث أن يتملك مهارات التفكير الاستنباطي(استخلاص فرضيات ثم تعميم نتائجها في مواقف معينة) والتفكير الاستقرائي (استخلاص نتائج البحث من مجموعة من البيانات).</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خصائص البحث التربو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86000"/>
          </a:bodyPr>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4</a:t>
            </a:r>
            <a:r>
              <a:rPr b="0" lang="ar-SA" sz="2600" spc="-1" strike="noStrike" u="sng">
                <a:solidFill>
                  <a:srgbClr val="03495c"/>
                </a:solidFill>
                <a:uFillTx/>
                <a:latin typeface="Constantia"/>
              </a:rPr>
              <a:t>- الإثبات والتحقق: </a:t>
            </a:r>
            <a:r>
              <a:rPr b="0" lang="ar-SA" sz="2600" spc="-1" strike="noStrike">
                <a:solidFill>
                  <a:srgbClr val="000000"/>
                </a:solidFill>
                <a:latin typeface="Constantia"/>
              </a:rPr>
              <a:t>تطوير المعرفة من خلال تعاقب الأبحاث والتوسع فيها.</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5</a:t>
            </a:r>
            <a:r>
              <a:rPr b="0" lang="ar-SA" sz="2600" spc="-1" strike="noStrike" u="sng">
                <a:solidFill>
                  <a:srgbClr val="03495c"/>
                </a:solidFill>
                <a:uFillTx/>
                <a:latin typeface="Constantia"/>
              </a:rPr>
              <a:t>- التجريب: </a:t>
            </a:r>
            <a:r>
              <a:rPr b="0" lang="ar-SA" sz="2600" spc="-1" strike="noStrike">
                <a:solidFill>
                  <a:srgbClr val="000000"/>
                </a:solidFill>
                <a:latin typeface="Constantia"/>
              </a:rPr>
              <a:t>الاسترشاد بالأدلة التي تم الحصول عليها من خلال طرق البحث والتجريب وليس الاعتماد على الآراء أو المرجعيات.</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6</a:t>
            </a:r>
            <a:r>
              <a:rPr b="0" lang="ar-SA" sz="2600" spc="-1" strike="noStrike" u="sng">
                <a:solidFill>
                  <a:srgbClr val="03495c"/>
                </a:solidFill>
                <a:uFillTx/>
                <a:latin typeface="Constantia"/>
              </a:rPr>
              <a:t>- الاستنتاج الاحتمالي: </a:t>
            </a:r>
            <a:r>
              <a:rPr b="0" lang="ar-SA" sz="2600" spc="-1" strike="noStrike">
                <a:solidFill>
                  <a:srgbClr val="000000"/>
                </a:solidFill>
                <a:latin typeface="Constantia"/>
              </a:rPr>
              <a:t>عادة ما يفرز البحث في العلوم الطبيعية والإنسانية مجموعة من الاستنتاجات محتملة الصحة وليست بدرجة الإطلاق واليقين.</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7</a:t>
            </a:r>
            <a:r>
              <a:rPr b="0" lang="ar-SA" sz="2600" spc="-1" strike="noStrike" u="sng">
                <a:solidFill>
                  <a:srgbClr val="03495c"/>
                </a:solidFill>
                <a:uFillTx/>
                <a:latin typeface="Constantia"/>
              </a:rPr>
              <a:t>- الاختزالية: </a:t>
            </a:r>
            <a:r>
              <a:rPr b="0" lang="ar-SA" sz="2600" spc="-1" strike="noStrike">
                <a:solidFill>
                  <a:srgbClr val="000000"/>
                </a:solidFill>
                <a:latin typeface="Constantia"/>
              </a:rPr>
              <a:t>تلخيص كمية من البيانات من خلال التحليل والتي تأتي على شكل جداول ورسوم بيانيه.</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8</a:t>
            </a:r>
            <a:r>
              <a:rPr b="0" lang="ar-SA" sz="2600" spc="-1" strike="noStrike" u="sng">
                <a:solidFill>
                  <a:srgbClr val="03495c"/>
                </a:solidFill>
                <a:uFillTx/>
                <a:latin typeface="Constantia"/>
              </a:rPr>
              <a:t>- القابلية للنشر والتعميم: </a:t>
            </a:r>
            <a:r>
              <a:rPr b="0" lang="ar-SA" sz="2600" spc="-1" strike="noStrike">
                <a:solidFill>
                  <a:srgbClr val="000000"/>
                </a:solidFill>
                <a:latin typeface="Constantia"/>
              </a:rPr>
              <a:t>نشر النتائج على عينات مشابهة لتتاح الفرصة لباحثين آخرين لتحسين حياة الأفراد، حيث العمل على نشر المعرفة يؤدي إلى عملية توليد معرفة جديدة أو توسيع المعارف التي تم التوصل إليها.</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ددت الطرق والأساليب التي لجأ إليها الإنسان للحصول على المعرفة التي تشبع لديه حاجة منه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Content Placeholder 3" descr=""/>
          <p:cNvPicPr/>
          <p:nvPr/>
        </p:nvPicPr>
        <p:blipFill>
          <a:blip r:embed="rId1"/>
          <a:stretch/>
        </p:blipFill>
        <p:spPr>
          <a:xfrm>
            <a:off x="907920" y="2992320"/>
            <a:ext cx="7242480" cy="332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1</a:t>
            </a:r>
            <a:r>
              <a:rPr b="1" lang="ar-SA" sz="2600" spc="-1" strike="noStrike">
                <a:solidFill>
                  <a:srgbClr val="03495c"/>
                </a:solidFill>
                <a:latin typeface="Constantia"/>
              </a:rPr>
              <a:t>- الخبرة الحس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شكلت الحواس الخمسة أسرع  وسيلة اتصال للحصول على المعلومات محققة بذلك المعرفة للفر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3" descr=""/>
          <p:cNvPicPr/>
          <p:nvPr/>
        </p:nvPicPr>
        <p:blipFill>
          <a:blip r:embed="rId1"/>
          <a:stretch/>
        </p:blipFill>
        <p:spPr>
          <a:xfrm>
            <a:off x="1547640" y="3645000"/>
            <a:ext cx="6728040" cy="252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2</a:t>
            </a:r>
            <a:r>
              <a:rPr b="1" lang="ar-SA" sz="2600" spc="-1" strike="noStrike">
                <a:solidFill>
                  <a:srgbClr val="115964"/>
                </a:solidFill>
                <a:latin typeface="Constantia"/>
              </a:rPr>
              <a:t>- الاتفاق مع الآخرين:</a:t>
            </a:r>
            <a:endParaRPr b="0" lang="en-US" sz="26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الفرد يعيش في وسط اجتماعي يؤثر ويتأثر به، وكون الفرد يسخر حواسه للحصول على المعرفة فإنه يطمح أن يشاركه الآخرون من خلال حواسهم للتحقق من مصداقية حواسه مقارنة مع إدراكات الآخرين الحسية.</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29" name="صورة 3" descr="تصويت.jpg"/>
          <p:cNvPicPr/>
          <p:nvPr/>
        </p:nvPicPr>
        <p:blipFill>
          <a:blip r:embed="rId1"/>
          <a:stretch/>
        </p:blipFill>
        <p:spPr>
          <a:xfrm>
            <a:off x="2411280" y="4221000"/>
            <a:ext cx="4537080" cy="233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3</a:t>
            </a:r>
            <a:r>
              <a:rPr b="1" lang="ar-SA" sz="2600" spc="-1" strike="noStrike">
                <a:solidFill>
                  <a:srgbClr val="115964"/>
                </a:solidFill>
                <a:latin typeface="Constantia"/>
              </a:rPr>
              <a:t>- آراء الخبراء:</a:t>
            </a:r>
            <a:endParaRPr b="0" lang="en-US" sz="26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واجه الفرد مشكلات متعددة قد لا يتمكن من حلها وحده، فيلجأ إلى بعض الأشخاص المؤهلين في حقل من حقول المعرفة والذين يوصفون بالخبراء في مجال تخصصاتهم، حيث تتوافر لديهم معرفة معمقة عما نحن بحاجة إليه.</a:t>
            </a:r>
            <a:endParaRPr b="0" lang="en-US" sz="28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0c9f8"/>
                </a:solidFill>
                <a:latin typeface="Constantia"/>
              </a:rPr>
              <a:t>مثال: </a:t>
            </a:r>
            <a:r>
              <a:rPr b="0" lang="ar-SA" sz="2800" spc="-1" strike="noStrike">
                <a:solidFill>
                  <a:srgbClr val="000000"/>
                </a:solidFill>
                <a:latin typeface="Constantia"/>
              </a:rPr>
              <a:t>شخص يشكو من ألم في صدره وشخصه طبيب قلب على أنه مرض في القلب، فمن المؤكد أننا سنثق برأي الطبيب لأنه يمثل رأي خبير في هذا الموضوع.</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2" name="صورة 4" descr="الخبراء.jpg"/>
          <p:cNvPicPr/>
          <p:nvPr/>
        </p:nvPicPr>
        <p:blipFill>
          <a:blip r:embed="rId1"/>
          <a:stretch/>
        </p:blipFill>
        <p:spPr>
          <a:xfrm>
            <a:off x="1763640" y="5367240"/>
            <a:ext cx="2644920" cy="14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34" name=""/>
          <p:cNvSpPr txBox="1"/>
          <p:nvPr/>
        </p:nvSpPr>
        <p:spPr>
          <a:xfrm>
            <a:off x="250920" y="1935000"/>
            <a:ext cx="8642160" cy="4734000"/>
          </a:xfrm>
          <a:prstGeom prst="rect">
            <a:avLst/>
          </a:prstGeom>
          <a:noFill/>
          <a:ln w="0">
            <a:noFill/>
          </a:ln>
        </p:spPr>
        <p:txBody>
          <a:bodyPr anchor="t">
            <a:normAutofit fontScale="94000"/>
          </a:bodyPr>
          <a:p>
            <a:pPr marL="256320" indent="-2563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4</a:t>
            </a:r>
            <a:r>
              <a:rPr b="1" lang="ar-SA" sz="2600" spc="-1" strike="noStrike">
                <a:solidFill>
                  <a:srgbClr val="115964"/>
                </a:solidFill>
                <a:latin typeface="Constantia"/>
              </a:rPr>
              <a:t>- المنطق:</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أ- المنطق الاستنباطي: </a:t>
            </a:r>
            <a:r>
              <a:rPr b="0" lang="ar-SA" sz="2600" spc="-1" strike="noStrike">
                <a:solidFill>
                  <a:srgbClr val="000000"/>
                </a:solidFill>
                <a:latin typeface="Constantia"/>
              </a:rPr>
              <a:t>أن ما يصدق على فئة من الأشياء أو الأحداث يصدق على أي واحد منها.</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6a3"/>
                </a:solidFill>
                <a:latin typeface="Constantia"/>
              </a:rPr>
              <a:t>* مثال</a:t>
            </a:r>
            <a:r>
              <a:rPr b="0" lang="ar-SA" sz="2600" spc="-1" strike="noStrike">
                <a:solidFill>
                  <a:srgbClr val="000000"/>
                </a:solidFill>
                <a:latin typeface="Constantia"/>
              </a:rPr>
              <a:t>:</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ل إنسان فان( مقدمة كبرى)</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حمد إنسان ( مقدمة صغرى)</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أحمد فانٍ ( نتيجة)</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استخدام المنطق الاستنباطي وسيلة هامة في الوصول إلى المعرفة  لكثير من أصحاب المهن كالمحامين والمحققين حيث يقودهم المنطق الاستنباطي إلى الوصول إلى استنتاجات من حقائق معطاة، أو مشتقاة من مشاهدات حس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36" name=""/>
          <p:cNvSpPr txBox="1"/>
          <p:nvPr/>
        </p:nvSpPr>
        <p:spPr>
          <a:xfrm>
            <a:off x="179280" y="1934640"/>
            <a:ext cx="8785440" cy="4389480"/>
          </a:xfrm>
          <a:prstGeom prst="rect">
            <a:avLst/>
          </a:prstGeom>
          <a:noFill/>
          <a:ln w="0">
            <a:noFill/>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4</a:t>
            </a:r>
            <a:r>
              <a:rPr b="1" lang="ar-SA" sz="2600" spc="-1" strike="noStrike">
                <a:solidFill>
                  <a:srgbClr val="115964"/>
                </a:solidFill>
                <a:latin typeface="Constantia"/>
              </a:rPr>
              <a:t>- المنطق:</a:t>
            </a:r>
            <a:endParaRPr b="0" lang="en-US" sz="2600" spc="-1" strike="noStrike">
              <a:solidFill>
                <a:srgbClr val="000000"/>
              </a:solidFill>
              <a:latin typeface="Constantia"/>
            </a:endParaRPr>
          </a:p>
          <a:p>
            <a:pPr marL="264600" indent="-2646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ب- التكفير الاستقرائي: </a:t>
            </a:r>
            <a:r>
              <a:rPr b="0" lang="ar-SA" sz="2600" spc="-1" strike="noStrike">
                <a:solidFill>
                  <a:srgbClr val="000000"/>
                </a:solidFill>
                <a:latin typeface="Constantia"/>
              </a:rPr>
              <a:t>والذي يستخدمه الباحث للتحقق من صدق المعرفة الجزئية اعتماداً على الملاحظة والتجربة الحسية، ونتيجة تكرار الباحث أو الفرد للتكفير الاستقرائي فإنه يحصل على النتيجة نفسها، وعندئذ يتوصل إلى تعميمات.</a:t>
            </a:r>
            <a:endParaRPr b="0" lang="en-US" sz="2600" spc="-1" strike="noStrike">
              <a:solidFill>
                <a:srgbClr val="000000"/>
              </a:solidFill>
              <a:latin typeface="Constantia"/>
            </a:endParaRPr>
          </a:p>
          <a:p>
            <a:pPr marL="264600" indent="-2646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5</a:t>
            </a:r>
            <a:r>
              <a:rPr b="1" lang="ar-SA" sz="2600" spc="-1" strike="noStrike">
                <a:solidFill>
                  <a:srgbClr val="115964"/>
                </a:solidFill>
                <a:latin typeface="Constantia"/>
              </a:rPr>
              <a:t>- الطريقة العلمية:</a:t>
            </a:r>
            <a:endParaRPr b="0" lang="en-US" sz="2600" spc="-1" strike="noStrike">
              <a:solidFill>
                <a:srgbClr val="000000"/>
              </a:solidFill>
              <a:latin typeface="Constantia"/>
            </a:endParaRPr>
          </a:p>
          <a:p>
            <a:pPr marL="264600" indent="-2646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تضمن أساسُ لاختبار الفرضيات، وذلك عندما يتمكن الباحث من عملية الربط بين الحوادث أو الوقائع، ومن ثم إدراك تلك العلاقات والارتباطات بين تلك الحوادث أو الوقائع.</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fontScale="94000"/>
          </a:bodyPr>
          <a:p>
            <a:pPr marL="256320" indent="-2563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قصد بالافتراض المسلمة التي يستند إليها الباحث في تفسير نتائجه، والمسلمة يستفاد منها في تصميم الدراسة، وهي تختلف عن الفرضية والتي تشير إلى إجابة محتملة لمشكلة ما.</a:t>
            </a: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وفي مجال البحث التربوي يوجد افتراضان أساسيان يستند إليهما المنهج العلمي هما:</a:t>
            </a: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أولاً: الافتراض بانتظام الطبيعة</a:t>
            </a: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ثانياً: الافتراض المتعلق بالعلميات العقلية أو الذهنية</a:t>
            </a:r>
            <a:endParaRPr b="0" lang="en-US" sz="2600" spc="-1" strike="noStrike">
              <a:solidFill>
                <a:srgbClr val="000000"/>
              </a:solidFill>
              <a:latin typeface="Constantia"/>
            </a:endParaRPr>
          </a:p>
          <a:p>
            <a:pPr marL="256320" indent="-2563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40" name=""/>
          <p:cNvSpPr txBox="1"/>
          <p:nvPr/>
        </p:nvSpPr>
        <p:spPr>
          <a:xfrm>
            <a:off x="250560" y="1934640"/>
            <a:ext cx="856908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أولاً: الافتراض بانتظام الطبيع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ما يحدث من أحداث  في الطبيعة يمكن أن يتكرر مرة ثانية إذا ما توافرت درجة كافية من التشابه في الظروف المحيط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رتب على هذا الافتراض مسلمات ثلاث هي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1" name="رسم تخطيطي 3" descr=""/>
          <p:cNvPicPr/>
          <p:nvPr/>
        </p:nvPicPr>
        <p:blipFill>
          <a:blip r:embed="rId1"/>
          <a:stretch/>
        </p:blipFill>
        <p:spPr>
          <a:xfrm>
            <a:off x="1889280" y="3852720"/>
            <a:ext cx="5749920" cy="265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3495c"/>
                </a:solidFill>
                <a:latin typeface="Agency FB"/>
              </a:rPr>
              <a:t>لماذا مناهج البحث؟؟؟؟</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15964"/>
                </a:solidFill>
                <a:latin typeface="Constantia"/>
                <a:ea typeface="Calibri"/>
              </a:rPr>
              <a:t>(</a:t>
            </a:r>
            <a:r>
              <a:rPr b="1" lang="ar-SA" sz="2400" spc="-1" strike="noStrike">
                <a:solidFill>
                  <a:srgbClr val="115964"/>
                </a:solidFill>
                <a:latin typeface="Constantia"/>
                <a:ea typeface="Calibri"/>
              </a:rPr>
              <a:t>1</a:t>
            </a:r>
            <a:r>
              <a:rPr b="1" lang="ar-SA" sz="2400" spc="-1" strike="noStrike">
                <a:solidFill>
                  <a:srgbClr val="115964"/>
                </a:solidFill>
                <a:latin typeface="Constantia"/>
                <a:ea typeface="Calibri"/>
              </a:rPr>
              <a:t>) لم يعد في وسع أي مجتمع أو أي فرد أن يختار بين الطرق العلمية والطرق غير العلمية.</a:t>
            </a:r>
            <a:endParaRPr b="0" lang="en-US" sz="2400" spc="-1" strike="noStrike">
              <a:solidFill>
                <a:srgbClr val="000000"/>
              </a:solidFill>
              <a:latin typeface="Constantia"/>
            </a:endParaRPr>
          </a:p>
          <a:p>
            <a:pPr marL="272880" indent="-272880" algn="just"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Sakkal Majalla"/>
                <a:cs typeface="Calibri"/>
              </a:rPr>
              <a:t>فالمجتمعات المتقدمة</a:t>
            </a:r>
            <a:r>
              <a:rPr b="0" lang="ar-SA" sz="2400" spc="-1" strike="noStrike">
                <a:solidFill>
                  <a:srgbClr val="ff0000"/>
                </a:solidFill>
                <a:latin typeface="Sakkal Majalla"/>
                <a:ea typeface="Calibri"/>
              </a:rPr>
              <a:t> </a:t>
            </a:r>
            <a:r>
              <a:rPr b="0" lang="ar-SA" sz="2400" spc="-1" strike="noStrike">
                <a:solidFill>
                  <a:srgbClr val="000000"/>
                </a:solidFill>
                <a:latin typeface="Sakkal Majalla"/>
                <a:cs typeface="Calibri"/>
              </a:rPr>
              <a:t>اختارت طريقها منذ أكثر من أربعة قرون وقطعت أشواطاً في ميادين الحياة المختلفة . </a:t>
            </a:r>
            <a:endParaRPr b="0" lang="en-US" sz="2400" spc="-1" strike="noStrike">
              <a:solidFill>
                <a:srgbClr val="000000"/>
              </a:solidFill>
              <a:latin typeface="Constantia"/>
            </a:endParaRPr>
          </a:p>
          <a:p>
            <a:pPr marL="272880" indent="-272880" algn="just"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akkal Majalla"/>
                <a:cs typeface="Calibri"/>
              </a:rPr>
              <a:t>أما </a:t>
            </a:r>
            <a:r>
              <a:rPr b="1" lang="ar-SA" sz="2400" spc="-1" strike="noStrike">
                <a:solidFill>
                  <a:srgbClr val="ff0000"/>
                </a:solidFill>
                <a:latin typeface="Sakkal Majalla"/>
                <a:cs typeface="Calibri"/>
              </a:rPr>
              <a:t>المجتمعات النامية</a:t>
            </a:r>
            <a:r>
              <a:rPr b="0" lang="ar-SA" sz="2400" spc="-1" strike="noStrike">
                <a:solidFill>
                  <a:srgbClr val="ff0000"/>
                </a:solidFill>
                <a:latin typeface="Sakkal Majalla"/>
                <a:ea typeface="Calibri"/>
              </a:rPr>
              <a:t> </a:t>
            </a:r>
            <a:r>
              <a:rPr b="0" lang="ar-SA" sz="2400" spc="-1" strike="noStrike">
                <a:solidFill>
                  <a:srgbClr val="000000"/>
                </a:solidFill>
                <a:latin typeface="Sakkal Majalla"/>
                <a:cs typeface="Calibri"/>
              </a:rPr>
              <a:t>فليس أمامها إلا أن تتبع الأسلوب العلمي لتقليص الفجوة بينها وبين المجتمعات النامية.</a:t>
            </a:r>
            <a:endParaRPr b="0" lang="en-US" sz="2400" spc="-1" strike="noStrike">
              <a:solidFill>
                <a:srgbClr val="000000"/>
              </a:solidFill>
              <a:latin typeface="Constantia"/>
            </a:endParaRPr>
          </a:p>
          <a:p>
            <a:pPr marL="272880" indent="-272880" algn="just"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Sakkal Majalla"/>
                <a:cs typeface="Calibri"/>
              </a:rPr>
              <a:t>فالبحث العلمي هو الطريق الوحيد للتقدم الاجتماعي والإنساني في جميع المجالات.</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1000"/>
          </a:bodyPr>
          <a:p>
            <a:pPr marL="248040" indent="-24804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3495c"/>
                </a:solidFill>
                <a:uFillTx/>
                <a:latin typeface="Constantia"/>
              </a:rPr>
              <a:t>أولاً: الافتراض بانتظام الطبيعة:</a:t>
            </a:r>
            <a:endParaRPr b="0" lang="en-US" sz="2200" spc="-1" strike="noStrike">
              <a:solidFill>
                <a:srgbClr val="000000"/>
              </a:solidFill>
              <a:latin typeface="Constantia"/>
            </a:endParaRPr>
          </a:p>
          <a:p>
            <a:pPr marL="248040" indent="-2480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15964"/>
                </a:solidFill>
                <a:latin typeface="Constantia"/>
              </a:rPr>
              <a:t>1</a:t>
            </a:r>
            <a:r>
              <a:rPr b="0" lang="ar-SA" sz="2200" spc="-1" strike="noStrike">
                <a:solidFill>
                  <a:srgbClr val="115964"/>
                </a:solidFill>
                <a:latin typeface="Constantia"/>
              </a:rPr>
              <a:t>- الثبات:</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15964"/>
                </a:solidFill>
                <a:latin typeface="Constantia"/>
              </a:rPr>
              <a:t>   </a:t>
            </a:r>
            <a:r>
              <a:rPr b="0" lang="ar-SA" sz="2200" spc="-1" strike="noStrike">
                <a:solidFill>
                  <a:srgbClr val="000000"/>
                </a:solidFill>
                <a:latin typeface="Constantia"/>
              </a:rPr>
              <a:t>يستند هذا الافتراض إلى أن التغيرات والوقائع التي تحدث في الطبيعة تسير وفق نسق أو نظام محدد، وليس بشكل اعتباطي، إي أن هناك ثباتاً نسبياً واستقراراً في أحداث الطبيعة، وأن الأحداث الطبيعية لا تحدث بشكل عشوائي، وإنما بشكل منتظم نسبياً.</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15964"/>
                </a:solidFill>
                <a:latin typeface="Constantia"/>
              </a:rPr>
              <a:t>2</a:t>
            </a:r>
            <a:r>
              <a:rPr b="0" lang="ar-SA" sz="2200" spc="-1" strike="noStrike">
                <a:solidFill>
                  <a:srgbClr val="115964"/>
                </a:solidFill>
                <a:latin typeface="Constantia"/>
              </a:rPr>
              <a:t>- الحتمية:</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أن الأحداث والظواهر الطبيعية التي تحدث في الكون تسير وفق تسلسل مضبوط، وليس بتأثير الصدفة، وأن هذه الاحداث لها مسبباتها التي تؤدي إلى نتائج معينة، بمعنى آخر كل نتيجة أو حدث له أسبابه التي أدت إلى حدوثه.</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15964"/>
                </a:solidFill>
                <a:latin typeface="Constantia"/>
              </a:rPr>
              <a:t>3</a:t>
            </a:r>
            <a:r>
              <a:rPr b="0" lang="ar-SA" sz="2200" spc="-1" strike="noStrike">
                <a:solidFill>
                  <a:srgbClr val="115964"/>
                </a:solidFill>
                <a:latin typeface="Constantia"/>
              </a:rPr>
              <a:t>- مسلمة الأنواع الطبيعية:</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أن الظواهر والحوادث الموجودة في الطبيعة بينها خواص مشتركة، بحيث تسمح هذه الخصائص بوجود تصنيفات محددة في البيئة، مثال: وجود تشابه كبير بين جميع النباتات.</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115964"/>
                </a:solidFill>
                <a:uFillTx/>
                <a:latin typeface="Constantia"/>
              </a:rPr>
              <a:t>ثانياً: الافتراض المتعلق بالعلميات العقلية أو الذهن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ني هذا الافتراض ان كل شي موجود في الطبيعة يمكن ملاحظته بالوسائل الحس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رتب على هذا الافتراض مسلمات ثلاث هي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6" name="رسم تخطيطي 3" descr=""/>
          <p:cNvPicPr/>
          <p:nvPr/>
        </p:nvPicPr>
        <p:blipFill>
          <a:blip r:embed="rId1"/>
          <a:stretch/>
        </p:blipFill>
        <p:spPr>
          <a:xfrm>
            <a:off x="1749600" y="3925800"/>
            <a:ext cx="5741640" cy="26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fontScale="83000"/>
          </a:bodyPr>
          <a:p>
            <a:pPr marL="226440" indent="-2264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115964"/>
                </a:solidFill>
                <a:uFillTx/>
                <a:latin typeface="Constantia"/>
              </a:rPr>
              <a:t>ثانياً: الافتراض المتعلق بالعلميات العقلية أو الذهنية</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115964"/>
                </a:solidFill>
                <a:latin typeface="Constantia"/>
              </a:rPr>
              <a:t>1</a:t>
            </a:r>
            <a:r>
              <a:rPr b="0" lang="ar-SA" sz="2600" spc="-1" strike="noStrike">
                <a:solidFill>
                  <a:srgbClr val="115964"/>
                </a:solidFill>
                <a:latin typeface="Constantia"/>
              </a:rPr>
              <a:t>- مسلمة صحة الإدراك:</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عني التعرف إلى المثيرات، أو إعطاء تفسير مبدئي لها، </a:t>
            </a:r>
            <a:r>
              <a:rPr b="0" lang="ar-SA" sz="2600" spc="-1" strike="noStrike">
                <a:solidFill>
                  <a:srgbClr val="21b2c9"/>
                </a:solidFill>
                <a:latin typeface="Constantia"/>
              </a:rPr>
              <a:t>مثال: </a:t>
            </a:r>
            <a:r>
              <a:rPr b="0" lang="ar-SA" sz="2600" spc="-1" strike="noStrike">
                <a:solidFill>
                  <a:srgbClr val="000000"/>
                </a:solidFill>
                <a:latin typeface="Constantia"/>
              </a:rPr>
              <a:t>تختلف من شخص إلى آخر، لا بل تختلف عند الشخص الواحد نفسه من حال إلى حال.</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115964"/>
                </a:solidFill>
                <a:latin typeface="Constantia"/>
              </a:rPr>
              <a:t>2</a:t>
            </a:r>
            <a:r>
              <a:rPr b="0" lang="ar-SA" sz="2600" spc="-1" strike="noStrike">
                <a:solidFill>
                  <a:srgbClr val="115964"/>
                </a:solidFill>
                <a:latin typeface="Constantia"/>
              </a:rPr>
              <a:t>- مسلمة صحة التذكر:</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تذكر عملية معرفية تستند إلى عملية الإدراك، حيث أن الذاكرة بعيدة المدى تحتفظ بمعلومات مفيدة سبق وأن تم تخزينها، ويمكن الوثوق بها.</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115964"/>
                </a:solidFill>
                <a:latin typeface="Constantia"/>
              </a:rPr>
              <a:t>3</a:t>
            </a:r>
            <a:r>
              <a:rPr b="0" lang="ar-SA" sz="2600" spc="-1" strike="noStrike">
                <a:solidFill>
                  <a:srgbClr val="115964"/>
                </a:solidFill>
                <a:latin typeface="Constantia"/>
              </a:rPr>
              <a:t>- مسلمة صحة التفكير والاستدلال:</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شكل التفكير الاستدلالي بما يتضمنه من تفكير استنباطي واستقرائي منهجاً مهماً في البحث، حيث يعتبر جوهر البحث العلمي، ويمثل منطق التفكي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عنصر نائب للمحتوى 3" descr=""/>
          <p:cNvPicPr/>
          <p:nvPr/>
        </p:nvPicPr>
        <p:blipFill>
          <a:blip r:embed="rId1"/>
          <a:stretch/>
        </p:blipFill>
        <p:spPr>
          <a:xfrm>
            <a:off x="450720" y="1554120"/>
            <a:ext cx="8242560" cy="4694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داف البحث العلمي</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1000"/>
          </a:bodyPr>
          <a:p>
            <a:pPr marL="248040" indent="-2480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1</a:t>
            </a:r>
            <a:r>
              <a:rPr b="1" lang="ar-SA" sz="2600" spc="-1" strike="noStrike">
                <a:solidFill>
                  <a:srgbClr val="115964"/>
                </a:solidFill>
                <a:latin typeface="Constantia"/>
              </a:rPr>
              <a:t>- الوصف ( الفهم ):</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بدأ عملية المعرفة بالوصف، ويقصد به قدرة الباحث على إقامة الدليل على أن ظاهرة ما موجودة فعلاً، إضافة إلى القدرة على تحديد مدى توافرها. تتطلب عملية الوصف تحديد مظاهر السمات النفسية والتربوية، والتعرف إلى جميع المتغيرات المرتبطة بها، من حيث تحديد درجة كل متغير من هذه المتغيرات.</a:t>
            </a:r>
            <a:endParaRPr b="0" lang="en-US" sz="26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0c9f8"/>
                </a:solidFill>
                <a:latin typeface="Constantia"/>
              </a:rPr>
              <a:t> </a:t>
            </a:r>
            <a:endParaRPr b="0" lang="en-US" sz="26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20c9f8"/>
                </a:solidFill>
                <a:uFillTx/>
                <a:latin typeface="Constantia"/>
              </a:rPr>
              <a:t>مثال</a:t>
            </a:r>
            <a:r>
              <a:rPr b="0" lang="ar-SA" sz="2600" spc="-1" strike="noStrike">
                <a:solidFill>
                  <a:srgbClr val="20c9f8"/>
                </a:solidFill>
                <a:latin typeface="Constantia"/>
              </a:rPr>
              <a:t>:</a:t>
            </a:r>
            <a:endParaRPr b="0" lang="en-US" sz="26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دراسات (بياجيه) بدأت بملاحظة سلوك أطفاله، ومن ثم وصفه وصفاً دقيق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داف البحث العلمي</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2</a:t>
            </a:r>
            <a:r>
              <a:rPr b="1" lang="ar-SA" sz="2600" spc="-1" strike="noStrike">
                <a:solidFill>
                  <a:srgbClr val="115964"/>
                </a:solidFill>
                <a:latin typeface="Constantia"/>
              </a:rPr>
              <a:t>- التفسير:</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بحث عن أسباب حدوث الظاهرة أو العوامل السابقة التي ساهمت في إحداثها وتقديم ذلك في صورة علاقة أو تعميم يحدد من خلالها تلك العوامل التي أثرت في هذه الظاهر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داف البحث العلمي</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3</a:t>
            </a:r>
            <a:r>
              <a:rPr b="1" lang="ar-SA" sz="2600" spc="-1" strike="noStrike">
                <a:solidFill>
                  <a:srgbClr val="115964"/>
                </a:solidFill>
                <a:latin typeface="Constantia"/>
              </a:rPr>
              <a:t>- التنبؤ:</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ة الباحث على توقع حدث قبل وقوعه فعل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20c9f8"/>
                </a:solidFill>
                <a:uFillTx/>
                <a:latin typeface="Constantia"/>
              </a:rPr>
              <a:t>مثال:</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علم الذي فهم العوامل التي تؤدي بالطالب إلى التفوق في الدراسة فإنه قادر على التنبؤ بمن سيكون من طلبته متفوقاً، ومن سيكون فاشل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داف البحث العلمي</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3000"/>
          </a:bodyPr>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15964"/>
                </a:solidFill>
                <a:latin typeface="Constantia"/>
              </a:rPr>
              <a:t>4</a:t>
            </a:r>
            <a:r>
              <a:rPr b="1" lang="ar-SA" sz="2400" spc="-1" strike="noStrike">
                <a:solidFill>
                  <a:srgbClr val="115964"/>
                </a:solidFill>
                <a:latin typeface="Constantia"/>
              </a:rPr>
              <a:t>- الضبط والتحكم:</a:t>
            </a:r>
            <a:endParaRPr b="0" lang="en-US" sz="24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هو العملية التي يمكن من خلالها العمل على ضبط الظروف والعوامل التي تؤدي إلى حدوث ظاهرة ما، بحيث يتمكن الباحث من التحكم بها ويجعل عدم حدوثها أمراً محتملاً.</a:t>
            </a:r>
            <a:endParaRPr b="0" lang="en-US" sz="24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حيث إن السيطرة أو الضبط هو تحكم في الأسباب المؤدية إلى حدوث الظاهرة وليس السيطرة على الظاهرة نفسها.</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20c9f8"/>
                </a:solidFill>
                <a:uFillTx/>
                <a:latin typeface="Constantia"/>
              </a:rPr>
              <a:t>مثال:</a:t>
            </a:r>
            <a:endParaRPr b="0" lang="en-US" sz="24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إذا علمنا من مراجعة الادب التربوي أن (الإحباط يقود إلى ممارسة سلوكات عدوانية) فإنه بناء على هذا الافتراض يمكن التحكم بسلوك الأفراد؛ فقيام المعلم بإشباع حاجات الأفراد في الصف يقود إلى عد الإحباط وبالتالي تقليل السلوكات العدوانية (تحكم المعلم بدرجات الإشباع)، وعند قيام المعلم بعدم إشباع حاجات الطلبة فإنه يدفعهم إلى ممارسة السلوكات العدوانية.</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3495c"/>
                </a:solidFill>
                <a:latin typeface="Agency FB"/>
              </a:rPr>
              <a:t>لماذا مناهج البحث؟؟؟؟</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3495c"/>
                </a:solidFill>
                <a:latin typeface="Constantia"/>
                <a:ea typeface="Simplified Arabic"/>
              </a:rPr>
              <a:t>(</a:t>
            </a:r>
            <a:r>
              <a:rPr b="0" lang="ar-SA" sz="2600" spc="-1" strike="noStrike">
                <a:solidFill>
                  <a:srgbClr val="03495c"/>
                </a:solidFill>
                <a:latin typeface="Constantia"/>
                <a:ea typeface="Simplified Arabic"/>
              </a:rPr>
              <a:t>2</a:t>
            </a:r>
            <a:r>
              <a:rPr b="0" lang="ar-SA" sz="2600" spc="-1" strike="noStrike">
                <a:solidFill>
                  <a:srgbClr val="03495c"/>
                </a:solidFill>
                <a:latin typeface="Constantia"/>
                <a:ea typeface="Simplified Arabic"/>
              </a:rPr>
              <a:t>) من المهم أن نميز بين البحث وبين النشاط العلمي المتخصص الذي يمارسه العلماء.</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cs typeface="Simplified Arabic"/>
              </a:rPr>
              <a:t>فالبحث العلمي </a:t>
            </a:r>
            <a:r>
              <a:rPr b="0" lang="ar-SA" sz="2600" spc="-1" strike="noStrike">
                <a:solidFill>
                  <a:srgbClr val="000000"/>
                </a:solidFill>
                <a:latin typeface="Constantia"/>
                <a:cs typeface="Simplified Arabic"/>
              </a:rPr>
              <a:t>طريقة أو محاولة منظمة يمكن أن تواجه لحل مشكلات الإنسان في مجالات متعددة .</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Simplified Arabic"/>
              </a:rPr>
              <a:t>بينما </a:t>
            </a:r>
            <a:r>
              <a:rPr b="1" lang="ar-SA" sz="2600" spc="-1" strike="noStrike">
                <a:solidFill>
                  <a:srgbClr val="ff0000"/>
                </a:solidFill>
                <a:latin typeface="Constantia"/>
                <a:cs typeface="Simplified Arabic"/>
              </a:rPr>
              <a:t>النشاط العلمي </a:t>
            </a:r>
            <a:r>
              <a:rPr b="0" lang="ar-SA" sz="2600" spc="-1" strike="noStrike">
                <a:solidFill>
                  <a:srgbClr val="000000"/>
                </a:solidFill>
                <a:latin typeface="Constantia"/>
                <a:cs typeface="Simplified Arabic"/>
              </a:rPr>
              <a:t>للعلماء يبقى مقتصراً على مجال علمي معين ضمن تخصص مع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1" name="Picture 2" descr="http://2.bp.blogspot.com/_Nz31aU-T5yg/TP0afHIuvtI/AAAAAAAAABA/PP5MHIhyIVA/s1600/learn_diff.jpg"/>
          <p:cNvPicPr/>
          <p:nvPr/>
        </p:nvPicPr>
        <p:blipFill>
          <a:blip r:embed="rId1"/>
          <a:stretch/>
        </p:blipFill>
        <p:spPr>
          <a:xfrm>
            <a:off x="1042920" y="4653000"/>
            <a:ext cx="2752920" cy="115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3495c"/>
                </a:solidFill>
                <a:latin typeface="Agency FB"/>
              </a:rPr>
              <a:t>لماذا مناهج البحث؟؟؟؟</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8000"/>
          </a:bodyPr>
          <a:p>
            <a:pPr marL="267120" indent="-26712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onstantia"/>
                <a:ea typeface="Calibri"/>
              </a:rPr>
              <a:t>(</a:t>
            </a:r>
            <a:r>
              <a:rPr b="0" lang="ar-SA" sz="2400" spc="-1" strike="noStrike">
                <a:solidFill>
                  <a:srgbClr val="03495c"/>
                </a:solidFill>
                <a:latin typeface="Constantia"/>
                <a:ea typeface="Calibri"/>
              </a:rPr>
              <a:t>3</a:t>
            </a:r>
            <a:r>
              <a:rPr b="0" lang="ar-SA" sz="2400" spc="-1" strike="noStrike">
                <a:solidFill>
                  <a:srgbClr val="03495c"/>
                </a:solidFill>
                <a:latin typeface="Constantia"/>
                <a:ea typeface="Calibri"/>
              </a:rPr>
              <a:t>) </a:t>
            </a:r>
            <a:r>
              <a:rPr b="0" lang="ar-SA" sz="2400" spc="-1" strike="noStrike">
                <a:solidFill>
                  <a:srgbClr val="000000"/>
                </a:solidFill>
                <a:latin typeface="Constantia"/>
                <a:cs typeface="Calibri"/>
              </a:rPr>
              <a:t>الإنسان العادي يحتاج إلى التفكير العلمي في مواجهة مشكلاته.</a:t>
            </a:r>
            <a:endParaRPr b="0" lang="en-US" sz="2400" spc="-1" strike="noStrike">
              <a:solidFill>
                <a:srgbClr val="000000"/>
              </a:solidFill>
              <a:latin typeface="Constantia"/>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onstantia"/>
                <a:ea typeface="Calibri"/>
              </a:rPr>
              <a:t>(</a:t>
            </a:r>
            <a:r>
              <a:rPr b="0" lang="ar-SA" sz="2400" spc="-1" strike="noStrike">
                <a:solidFill>
                  <a:srgbClr val="03495c"/>
                </a:solidFill>
                <a:latin typeface="Constantia"/>
                <a:ea typeface="Calibri"/>
              </a:rPr>
              <a:t>4</a:t>
            </a:r>
            <a:r>
              <a:rPr b="0" lang="ar-SA" sz="2400" spc="-1" strike="noStrike">
                <a:solidFill>
                  <a:srgbClr val="03495c"/>
                </a:solidFill>
                <a:latin typeface="Constantia"/>
                <a:ea typeface="Calibri"/>
              </a:rPr>
              <a:t>) </a:t>
            </a:r>
            <a:r>
              <a:rPr b="0" lang="ar-SA" sz="2400" spc="-1" strike="noStrike">
                <a:solidFill>
                  <a:srgbClr val="000000"/>
                </a:solidFill>
                <a:latin typeface="Constantia"/>
                <a:cs typeface="Calibri"/>
              </a:rPr>
              <a:t>البحث العلمي أو التفكير العلمي لا يعيش في الجامعات أو في المؤسسات العلمية المتخصصة .</a:t>
            </a:r>
            <a:endParaRPr b="0" lang="en-US" sz="2400" spc="-1" strike="noStrike">
              <a:solidFill>
                <a:srgbClr val="000000"/>
              </a:solidFill>
              <a:latin typeface="Constantia"/>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onstantia"/>
                <a:ea typeface="Calibri"/>
              </a:rPr>
              <a:t>(</a:t>
            </a:r>
            <a:r>
              <a:rPr b="0" lang="ar-SA" sz="2400" spc="-1" strike="noStrike">
                <a:solidFill>
                  <a:srgbClr val="03495c"/>
                </a:solidFill>
                <a:latin typeface="Constantia"/>
                <a:ea typeface="Calibri"/>
              </a:rPr>
              <a:t>5</a:t>
            </a:r>
            <a:r>
              <a:rPr b="0" lang="ar-SA" sz="2400" spc="-1" strike="noStrike">
                <a:solidFill>
                  <a:srgbClr val="03495c"/>
                </a:solidFill>
                <a:latin typeface="Constantia"/>
                <a:ea typeface="Calibri"/>
              </a:rPr>
              <a:t>) </a:t>
            </a:r>
            <a:r>
              <a:rPr b="0" lang="ar-SA" sz="2400" spc="-1" strike="noStrike">
                <a:solidFill>
                  <a:srgbClr val="000000"/>
                </a:solidFill>
                <a:latin typeface="Constantia"/>
                <a:cs typeface="Calibri"/>
              </a:rPr>
              <a:t>أن أبسط تطبيق للتفكير العلمي أو البحث العلمي في الحياة هو </a:t>
            </a:r>
            <a:r>
              <a:rPr b="1" lang="ar-SA" sz="2400" spc="-1" strike="noStrike" u="sng">
                <a:solidFill>
                  <a:srgbClr val="0070c0"/>
                </a:solidFill>
                <a:uFillTx/>
                <a:latin typeface="Constantia"/>
                <a:cs typeface="Calibri"/>
              </a:rPr>
              <a:t>اعتماد التخطيط </a:t>
            </a:r>
            <a:r>
              <a:rPr b="0" lang="ar-SA" sz="2400" spc="-1" strike="noStrike">
                <a:solidFill>
                  <a:srgbClr val="000000"/>
                </a:solidFill>
                <a:latin typeface="Constantia"/>
                <a:cs typeface="Calibri"/>
              </a:rPr>
              <a:t>كمبدأ في مواجهة مشكلاتنا الفردية والإجتماعية.</a:t>
            </a:r>
            <a:endParaRPr b="0" lang="en-US" sz="2400" spc="-1" strike="noStrike">
              <a:solidFill>
                <a:srgbClr val="000000"/>
              </a:solidFill>
              <a:latin typeface="Constantia"/>
            </a:endParaRPr>
          </a:p>
          <a:p>
            <a:pPr marL="267120" indent="-26712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Calibri"/>
              </a:rPr>
              <a:t>فالأبحاث العلمية من إنتاج الدول المتقدمة، والدول النامية </a:t>
            </a:r>
            <a:r>
              <a:rPr b="1" lang="ar-SA" sz="2400" spc="-1" strike="noStrike">
                <a:solidFill>
                  <a:srgbClr val="ff0000"/>
                </a:solidFill>
                <a:latin typeface="Constantia"/>
                <a:cs typeface="Calibri"/>
              </a:rPr>
              <a:t>تستورد</a:t>
            </a:r>
            <a:r>
              <a:rPr b="0" lang="ar-SA" sz="2400" spc="-1" strike="noStrike">
                <a:solidFill>
                  <a:srgbClr val="000000"/>
                </a:solidFill>
                <a:latin typeface="Constantia"/>
                <a:ea typeface="Calibri"/>
              </a:rPr>
              <a:t> بعض هذه الأبحاث وتستفيد منها.</a:t>
            </a:r>
            <a:endParaRPr b="0" lang="en-US" sz="2400" spc="-1" strike="noStrike">
              <a:solidFill>
                <a:srgbClr val="000000"/>
              </a:solidFill>
              <a:latin typeface="Constantia"/>
            </a:endParaRPr>
          </a:p>
          <a:p>
            <a:pPr marL="267120" indent="-26712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3495c"/>
                </a:solidFill>
                <a:latin typeface="Calibri"/>
                <a:cs typeface="Simplified Arabic"/>
              </a:rPr>
              <a:t>ماذا يعني أن نتعلم أساليب البحث العلمي؟؟</a:t>
            </a:r>
            <a:endParaRPr b="0" lang="en-US" sz="3600" spc="-1" strike="noStrike">
              <a:solidFill>
                <a:srgbClr val="04617b"/>
              </a:solidFill>
              <a:latin typeface="Calibri"/>
            </a:endParaRPr>
          </a:p>
        </p:txBody>
      </p:sp>
      <p:sp>
        <p:nvSpPr>
          <p:cNvPr id="205" name=""/>
          <p:cNvSpPr txBox="1"/>
          <p:nvPr/>
        </p:nvSpPr>
        <p:spPr>
          <a:xfrm>
            <a:off x="250560" y="1934640"/>
            <a:ext cx="8569080" cy="4389480"/>
          </a:xfrm>
          <a:prstGeom prst="rect">
            <a:avLst/>
          </a:prstGeom>
          <a:noFill/>
          <a:ln w="0">
            <a:noFill/>
          </a:ln>
        </p:spPr>
        <p:txBody>
          <a:bodyPr anchor="t">
            <a:normAutofit fontScale="85000"/>
          </a:bodyPr>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686d"/>
                </a:solidFill>
                <a:latin typeface="Constantia"/>
                <a:ea typeface="Simplified Arabic"/>
              </a:rPr>
              <a:t>(</a:t>
            </a:r>
            <a:r>
              <a:rPr b="0" lang="ar-SA" sz="2800" spc="-1" strike="noStrike">
                <a:solidFill>
                  <a:srgbClr val="06686d"/>
                </a:solidFill>
                <a:latin typeface="Constantia"/>
                <a:ea typeface="Simplified Arabic"/>
              </a:rPr>
              <a:t>1</a:t>
            </a:r>
            <a:r>
              <a:rPr b="0" lang="ar-SA" sz="2800" spc="-1" strike="noStrike">
                <a:solidFill>
                  <a:srgbClr val="06686d"/>
                </a:solidFill>
                <a:latin typeface="Constantia"/>
                <a:ea typeface="Simplified Arabic"/>
              </a:rPr>
              <a:t>) أن منهج البحث العلمي يعني أننا نستخدم طريقة علمية منظمة في مواجهة مشكلاتنا اليومية ومشكلاتنا العامة. وهذا يعني أننا نكون قادرين على ما يلي:</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Simplified Arabic"/>
              </a:rPr>
              <a:t>  أ- تحديد مشكلاتنا بشكل دقيق يساعدنا على تناولها بالدراسة والبحث.</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Simplified Arabic"/>
              </a:rPr>
              <a:t>  ب- وضع الفروض المبدئية التي تساعدنا على حل مشكلاتنا.</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Simplified Arabic"/>
              </a:rPr>
              <a:t>  ج- تحديد الإجراءات اللازمة لاختبار الفروض والوصول إلى حل للمشكلات.</a:t>
            </a:r>
            <a:endParaRPr b="0" lang="en-US" sz="2800" spc="-1" strike="noStrike">
              <a:solidFill>
                <a:srgbClr val="000000"/>
              </a:solidFill>
              <a:latin typeface="Constantia"/>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4617b"/>
                </a:solidFill>
                <a:latin typeface="Constantia"/>
                <a:ea typeface="Simplified Arabic"/>
              </a:rPr>
              <a:t>(</a:t>
            </a:r>
            <a:r>
              <a:rPr b="0" lang="ar-SA" sz="2800" spc="-1" strike="noStrike">
                <a:solidFill>
                  <a:srgbClr val="06686d"/>
                </a:solidFill>
                <a:latin typeface="Constantia"/>
                <a:ea typeface="Simplified Arabic"/>
              </a:rPr>
              <a:t>2</a:t>
            </a:r>
            <a:r>
              <a:rPr b="0" lang="ar-SA" sz="2800" spc="-1" strike="noStrike">
                <a:solidFill>
                  <a:srgbClr val="06686d"/>
                </a:solidFill>
                <a:latin typeface="Constantia"/>
                <a:ea typeface="Simplified Arabic"/>
              </a:rPr>
              <a:t>) إن دراسة أساليب البحث العلمي ستساعدنا على دراسة الأبحاث العلمية التي أنتجها الآخرون، وتحديد مدى الإفادة منها وتطبيق نتائجها.</a:t>
            </a:r>
            <a:endParaRPr b="0" lang="en-US" sz="2800" spc="-1" strike="noStrike">
              <a:solidFill>
                <a:srgbClr val="000000"/>
              </a:solidFill>
              <a:latin typeface="Constantia"/>
            </a:endParaRPr>
          </a:p>
          <a:p>
            <a:pPr marL="231840" indent="-2318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3495c"/>
                </a:solidFill>
                <a:latin typeface="Calibri"/>
                <a:cs typeface="Simplified Arabic"/>
              </a:rPr>
              <a:t>ماذا يعني أن نتعلم أساليب البحث العلمي؟؟</a:t>
            </a:r>
            <a:endParaRPr b="0" lang="en-US" sz="36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83000"/>
          </a:bodyPr>
          <a:p>
            <a:pPr marL="226440" indent="-2264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Constantia"/>
                <a:ea typeface="Simplified Arabic"/>
              </a:rPr>
              <a:t>(</a:t>
            </a:r>
            <a:r>
              <a:rPr b="0" lang="ar-SA" sz="2400" spc="-1" strike="noStrike">
                <a:solidFill>
                  <a:srgbClr val="04617b"/>
                </a:solidFill>
                <a:latin typeface="Constantia"/>
                <a:ea typeface="Simplified Arabic"/>
              </a:rPr>
              <a:t>3</a:t>
            </a:r>
            <a:r>
              <a:rPr b="0" lang="ar-SA" sz="2400" spc="-1" strike="noStrike">
                <a:solidFill>
                  <a:srgbClr val="04617b"/>
                </a:solidFill>
                <a:latin typeface="Constantia"/>
                <a:ea typeface="Simplified Arabic"/>
              </a:rPr>
              <a:t>) أن ممارسة أي عمل يتطلب أن تكون لدينا أساليب ومهارات البحث العلمي لكي نفهم هذا العمل، ونحلل أبعاده ومهاراته الأساسية.</a:t>
            </a:r>
            <a:endParaRPr b="0" lang="en-US" sz="2400" spc="-1" strike="noStrike">
              <a:solidFill>
                <a:srgbClr val="000000"/>
              </a:solidFill>
              <a:latin typeface="Constantia"/>
            </a:endParaRPr>
          </a:p>
          <a:p>
            <a:pPr marL="226440" indent="-2264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Constantia"/>
                <a:ea typeface="Simplified Arabic"/>
              </a:rPr>
              <a:t>(</a:t>
            </a:r>
            <a:r>
              <a:rPr b="0" lang="ar-SA" sz="2400" spc="-1" strike="noStrike">
                <a:solidFill>
                  <a:srgbClr val="04617b"/>
                </a:solidFill>
                <a:latin typeface="Constantia"/>
                <a:ea typeface="Simplified Arabic"/>
              </a:rPr>
              <a:t>4</a:t>
            </a:r>
            <a:r>
              <a:rPr b="0" lang="ar-SA" sz="2400" spc="-1" strike="noStrike">
                <a:solidFill>
                  <a:srgbClr val="04617b"/>
                </a:solidFill>
                <a:latin typeface="Constantia"/>
                <a:ea typeface="Simplified Arabic"/>
              </a:rPr>
              <a:t>) أن اختيارنا لأعمالنا – أيضاً- يتطلب أن نستخدم مهارات البحث العلمي.</a:t>
            </a:r>
            <a:endParaRPr b="0" lang="en-US" sz="2400" spc="-1" strike="noStrike">
              <a:solidFill>
                <a:srgbClr val="000000"/>
              </a:solidFill>
              <a:latin typeface="Constantia"/>
            </a:endParaRPr>
          </a:p>
          <a:p>
            <a:pPr marL="226440" indent="-226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Simplified Arabic"/>
              </a:rPr>
              <a:t>   </a:t>
            </a:r>
            <a:r>
              <a:rPr b="0" lang="ar-SA" sz="2400" spc="-1" strike="noStrike" u="sng">
                <a:solidFill>
                  <a:srgbClr val="000000"/>
                </a:solidFill>
                <a:uFillTx/>
                <a:latin typeface="Constantia"/>
                <a:cs typeface="Simplified Arabic"/>
              </a:rPr>
              <a:t>وعلى هذا يمكن القول:</a:t>
            </a:r>
            <a:r>
              <a:rPr b="0" lang="ar-SA" sz="2400" spc="-1" strike="noStrike">
                <a:solidFill>
                  <a:srgbClr val="000000"/>
                </a:solidFill>
                <a:latin typeface="Constantia"/>
                <a:ea typeface="Simplified Arabic"/>
              </a:rPr>
              <a:t> أن علينا أن نفكر علمياً قبل أن نلتحق بأي مهنة، وأن نجري بعض الدراسات المسحية عن ظروف العمل ومستقبله.</a:t>
            </a:r>
            <a:endParaRPr b="0" lang="en-US" sz="2400" spc="-1" strike="noStrike">
              <a:solidFill>
                <a:srgbClr val="000000"/>
              </a:solidFill>
              <a:latin typeface="Constantia"/>
            </a:endParaRPr>
          </a:p>
          <a:p>
            <a:pPr marL="226440" indent="-2264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4617b"/>
                </a:solidFill>
                <a:latin typeface="Constantia"/>
                <a:ea typeface="Simplified Arabic"/>
              </a:rPr>
              <a:t>(</a:t>
            </a:r>
            <a:r>
              <a:rPr b="1" lang="ar-SA" sz="2400" spc="-1" strike="noStrike">
                <a:solidFill>
                  <a:srgbClr val="04617b"/>
                </a:solidFill>
                <a:latin typeface="Constantia"/>
                <a:ea typeface="Simplified Arabic"/>
              </a:rPr>
              <a:t>5</a:t>
            </a:r>
            <a:r>
              <a:rPr b="1" lang="ar-SA" sz="2400" spc="-1" strike="noStrike">
                <a:solidFill>
                  <a:srgbClr val="04617b"/>
                </a:solidFill>
                <a:latin typeface="Constantia"/>
                <a:ea typeface="Simplified Arabic"/>
              </a:rPr>
              <a:t>) </a:t>
            </a:r>
            <a:r>
              <a:rPr b="0" lang="ar-SA" sz="2400" spc="-1" strike="noStrike">
                <a:solidFill>
                  <a:srgbClr val="04617b"/>
                </a:solidFill>
                <a:latin typeface="Constantia"/>
                <a:cs typeface="Simplified Arabic"/>
              </a:rPr>
              <a:t>وهل يحق لنا أن نسأل: هل نحن بحاجة إلى التفكير العلمي أم لا؟</a:t>
            </a:r>
            <a:endParaRPr b="0" lang="en-US" sz="2400" spc="-1" strike="noStrike">
              <a:solidFill>
                <a:srgbClr val="000000"/>
              </a:solidFill>
              <a:latin typeface="Constantia"/>
            </a:endParaRPr>
          </a:p>
          <a:p>
            <a:pPr marL="226440" indent="-226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Constantia"/>
                <a:ea typeface="Simplified Arabic"/>
              </a:rPr>
              <a:t>   وأن دراسة أساليب البحث العلمي تعني أن نستخدم الأسلوب العلمي في التفكير، ولا يستطيع أحد أن يستغني عن التفكير العلمي في حياته وفي عمله.</a:t>
            </a:r>
            <a:endParaRPr b="0" lang="en-US" sz="2400" spc="-1" strike="noStrike">
              <a:solidFill>
                <a:srgbClr val="000000"/>
              </a:solidFill>
              <a:latin typeface="Constantia"/>
            </a:endParaRPr>
          </a:p>
          <a:p>
            <a:pPr marL="226440" indent="-2264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Constantia"/>
                <a:ea typeface="Simplified Arabic"/>
              </a:rPr>
              <a:t>(</a:t>
            </a:r>
            <a:r>
              <a:rPr b="0" lang="ar-SA" sz="2400" spc="-1" strike="noStrike">
                <a:solidFill>
                  <a:srgbClr val="04617b"/>
                </a:solidFill>
                <a:latin typeface="Constantia"/>
                <a:ea typeface="Simplified Arabic"/>
              </a:rPr>
              <a:t>6</a:t>
            </a:r>
            <a:r>
              <a:rPr b="0" lang="ar-SA" sz="2400" spc="-1" strike="noStrike">
                <a:solidFill>
                  <a:srgbClr val="04617b"/>
                </a:solidFill>
                <a:latin typeface="Constantia"/>
                <a:ea typeface="Simplified Arabic"/>
              </a:rPr>
              <a:t>) أن دراسة أساليب البحث العلمي تزودنا بالوسائل العلمية الضرورية لتحسين أساليب حياتنا وتحسين عملنا وتطوير أنفسنا عن طريق تنمية ذاتية.</a:t>
            </a:r>
            <a:endParaRPr b="0" lang="en-US" sz="2400" spc="-1" strike="noStrike">
              <a:solidFill>
                <a:srgbClr val="000000"/>
              </a:solidFill>
              <a:latin typeface="Constantia"/>
            </a:endParaRPr>
          </a:p>
          <a:p>
            <a:pPr marL="226440" indent="-2264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26440" indent="-2264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3495c"/>
                </a:solidFill>
                <a:latin typeface="Calibri"/>
                <a:cs typeface="Simplified Arabic"/>
              </a:rPr>
              <a:t>ماذا يعني أن نتعلم أساليب البحث العلمي؟؟</a:t>
            </a:r>
            <a:endParaRPr b="0" lang="en-US" sz="36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gn="ct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onstantia"/>
                <a:cs typeface="Simplified Arabic"/>
              </a:rPr>
              <a:t>إن التخطيط لحياتنا</a:t>
            </a:r>
            <a:r>
              <a:rPr b="0" lang="ar-SA" sz="2800" spc="-1" strike="noStrike">
                <a:solidFill>
                  <a:srgbClr val="ff0000"/>
                </a:solidFill>
                <a:latin typeface="Constantia"/>
                <a:ea typeface="Simplified Arabic"/>
              </a:rPr>
              <a:t> </a:t>
            </a:r>
            <a:r>
              <a:rPr b="0" lang="ar-SA" sz="2800" spc="-1" strike="noStrike">
                <a:solidFill>
                  <a:srgbClr val="000000"/>
                </a:solidFill>
                <a:latin typeface="Constantia"/>
                <a:cs typeface="Simplified Arabic"/>
              </a:rPr>
              <a:t>وفق نتائج الأبحاث والدراسات والتجارب يمكن أن يؤدي إلى نجاحنا في تحسين أوضاعنا الشخصية والنفسية والإجتماعية والإقتصادية.</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0" name="صورة 3" descr="بحث5.jpg"/>
          <p:cNvPicPr/>
          <p:nvPr/>
        </p:nvPicPr>
        <p:blipFill>
          <a:blip r:embed="rId1"/>
          <a:stretch/>
        </p:blipFill>
        <p:spPr>
          <a:xfrm>
            <a:off x="3276720" y="4005360"/>
            <a:ext cx="2825640" cy="15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البحث التربوي</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ثمة تعريفات كثيرة ومتنوعة يطرحها الأدب التربوي للبحث التربوي، فيما يلي بعض منها:</a:t>
            </a:r>
            <a:endParaRPr b="0" lang="en-US" sz="2800" spc="-1" strike="noStrike">
              <a:solidFill>
                <a:srgbClr val="000000"/>
              </a:solidFill>
              <a:latin typeface="Constantia"/>
            </a:endParaRPr>
          </a:p>
          <a:p>
            <a:pPr marL="272880" indent="-2728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ملية منظمة لجمع المعلومات، والعمل على تحليلها منطقياً لأغراض معينة.</a:t>
            </a:r>
            <a:endParaRPr b="0" lang="en-US" sz="2800" spc="-1" strike="noStrike">
              <a:solidFill>
                <a:srgbClr val="000000"/>
              </a:solidFill>
              <a:latin typeface="Constantia"/>
            </a:endParaRPr>
          </a:p>
          <a:p>
            <a:pPr marL="272880" indent="-2728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جهد إنساني عقلي منظم وفق منهج محدد في البحث يتضمن خطوات وطرائق محددة ويؤدي إلى تحقيق معرفة عن الكون والنفس والمجتمع ويسهم في تطوير أنماط الحياة وحل المشكلات التي تواجه الفرد والجماعة.</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3" name="صورة 3" descr="بحث5.jpg"/>
          <p:cNvPicPr/>
          <p:nvPr/>
        </p:nvPicPr>
        <p:blipFill>
          <a:blip r:embed="rId1"/>
          <a:stretch/>
        </p:blipFill>
        <p:spPr>
          <a:xfrm>
            <a:off x="324000" y="5300640"/>
            <a:ext cx="2489040" cy="136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وظائف البحث التربوي</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5000"/>
          </a:bodyPr>
          <a:p>
            <a:pPr marL="259200" indent="-2592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العمل على تقدم المعرفة من خلال إيجاد ظروف أفضل لحياة الأفراد.</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قدرة على مواجهة المشكلات من خلال توليد المعرفة.</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إشباع الدوافع الاستطلاعية لدى الفرد والجماعة وتقود إلى تحقيق ذاته.</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عمل على تنمية وتشجيع التفكير لدى الأفراد على اختلاف مواقعهم، طلاب، ومديرين، ومشرفين، وتحقق صفات مرغوبة لديهم مثل تكوين الفرد المبدع والمنتج والمرن.</a:t>
            </a:r>
            <a:endParaRPr b="0" lang="en-US" sz="2600" spc="-1" strike="noStrike">
              <a:solidFill>
                <a:srgbClr val="000000"/>
              </a:solidFill>
              <a:latin typeface="Constantia"/>
            </a:endParaRPr>
          </a:p>
        </p:txBody>
      </p:sp>
      <p:pic>
        <p:nvPicPr>
          <p:cNvPr id="216" name="صورة 3" descr="بحث 4.jpg"/>
          <p:cNvPicPr/>
          <p:nvPr/>
        </p:nvPicPr>
        <p:blipFill>
          <a:blip r:embed="rId1"/>
          <a:stretch/>
        </p:blipFill>
        <p:spPr>
          <a:xfrm>
            <a:off x="539640" y="5013360"/>
            <a:ext cx="266724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1T22:02:02Z</dcterms:created>
  <dc:creator>shr</dc:creator>
  <dc:description/>
  <dc:language>en-US</dc:language>
  <cp:lastModifiedBy>shr</cp:lastModifiedBy>
  <dcterms:modified xsi:type="dcterms:W3CDTF">2016-02-07T13:59:02Z</dcterms:modified>
  <cp:revision>31</cp:revision>
  <dc:subject/>
  <dc:title>مقدمة في البحث التربوي</dc:title>
</cp:coreProperties>
</file>