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9CA9-D4D9-4D51-9C5D-760476AB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3AC1-330B-4738-89E0-DF94C3A9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EE08-71A5-409A-A57E-C78801B5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D8AF-96BD-4D48-93A2-AD0824DD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9695-D0D9-484F-9A40-7A29E96B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FC7D-DB64-414D-B86E-426F19CC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903A-BE8B-4206-BA54-5FFED918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1BEC-DDF6-45F1-806C-9B07E27B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717B-112E-47D9-A211-F917B308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E8F1-0C36-471D-A830-07DA7666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7FC1-7CC3-4101-8472-D42C1A6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F7D9-5450-44EA-A4E2-F400C165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2380-169D-4966-BDFA-BB86D566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8F29-A2E1-4995-A331-68523D76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814A-7B7F-47A9-818D-8CBD1526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41B9-37E5-4835-B5A6-C64D9BBE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7433-64C1-4975-90F3-21EABF53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3544-8955-4309-9EBD-FA40383E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3C32-06DB-4366-91B2-11526EAA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B9B9-5E93-428B-9389-130D032B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3BF1-45EA-4427-98F0-CA36A58D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A2F9-EADD-4FAD-8C2C-B7EF0C64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852F-B571-414A-B846-DC1267BF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26E5-4B0B-4B8A-835D-CFBB7532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79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07BD-D96B-4246-905A-2058ED02CAC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a79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4a79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79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a79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92CD-F5BF-4C19-B297-BA28F5CC996D}" type="slidenum">
              <a:rPr b="0" lang="ar-SA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0920" y="1828800"/>
            <a:ext cx="6580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 صعوبات القراءة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ffffff"/>
                </a:solidFill>
                <a:latin typeface="Arial"/>
              </a:rPr>
              <a:t>المحاضرة الاولى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طرق قياس الاستعداد للقراء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Arial"/>
              </a:rPr>
              <a:t>اختبارات الذكا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Arial"/>
              </a:rPr>
              <a:t>طريقة اختبارات الاستعداد للقراء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Arial"/>
              </a:rPr>
              <a:t>تقدير المعلم لعوامل الاستعدا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خطوات قراءة جملة بسيط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رؤية الكلمات المكتوبة وهنا  تظهر حاسة البص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طق بهذه الرموز المكتوبة ويشترك فيها أداة النطق وحاسة السم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إدراك معنى الكلمات منفردة ومجتمعة وهنا تظهر القدرة على التجريد و التعم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فعال القارئ ومدى تأثره بما يقرأ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هذه الخطوات تستوجب توفر القدرات التالي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نظر إلى المكت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ضع الكلمة في مكان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رتيب المادة المقروء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تباع اتجاه الكتابة من اليمين إلى اليس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راك المعنى العام للمادة المقروء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راءة مع التنبؤ بالنتائ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مييز بين أجزاء وفصول وتفرعات المادة المقروء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قد وتمحيص المادة المقروء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قراءة مواد أخرى لها علاقة بموضوع الدر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ختلفت الآراء في فهم عملية القراء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رأي الأول: إن القراءة هي عملية إدراك الكلمات المكتو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رأي الثاني: السرعة في القراءة والفه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رأي  الثالث: يتعدى ذلك إلى أن ينفعل القارىء بما يقرأ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راءة نشاط فكري متكامل يبدأ بمشكلة تتطلب عملا وانفعالا وتفكيرا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تعليمها يقوم على أربعة أبعا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عرف و النطق- الفهم- النقد - وحل المشكل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تعليمها يمر بخمسة مراحل : الاستعداد* البدء* التوسع في الخبرات * زيادة القدرات والكفايات * تهذيب العادات والميول والأذوا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للغ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جموعة من الرموز التي تمثل معاني مختلف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هارة اختص بها الانسا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ي نوعان: لفظية وغير لفظ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ي وسيلة من وسائل الاتصا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ظهر من مظاهر النمو العقلي و الحسي والحرك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حن نسمعها منطوقة ونقرؤها مكتوبة ونفهم لغة الاشا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يعتبر تحصيلها أكبر انجاز في إطار النمو العقلي للطف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لكلام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صورة من صور اللغ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ستعمل فيها الانسان الكلمات للتعبير عن أفكار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و مزيج من التفكير والادراك و النشاط الحرك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إن الاستعداد للكلام فطري ,أما اللغة فمكتسب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لقراءة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إحدى مخرجات اللغ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يراد بها إبراز الصلة بين لغة الكلام والرموز الكتاب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تقوم على رؤية الكلمات المكتوبة وإدراك معناها للوقوف على مضمونها والعمل بمقتضاه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تعلم القراءة ليس له نقطة بدء محدودة ولا انتها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مو الغوي يسبق النمو القرائ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مفهوم القراء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عملية فكرية عقلية شديدة التعقيد وهي أداة التفكير الحر وتستوجب الفهم الدقيق والتفكير العميق و القدرة على الربط بين أجزاء المادة المقروء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طور مفهوم القراء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تقل من الادراك البصري للرموز و النطق بها إل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رجمة هذه الرموز إلى مدلولاتها من الأفكار ثم إل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ضرورة تفاعل القارئ مع النص المقروء إل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ستخلاص المقروء وتوظيفه على شكل خبرات لمواجهة مشكلات الحياة اليومية. إلى أن وصل إلى مفهوم الاستمتا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 flipH="1">
            <a:off x="900000" y="2349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 flipH="1">
            <a:off x="755280" y="2924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H="1">
            <a:off x="1619280" y="350028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أهداف القراء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20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عامة                 خا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ضربي أمثلة ؟؟؟؟؟؟؟؟؟؟؟؟؟؟؟؟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سهم إلى اليسار واليمين 7"/>
          <p:cNvSpPr/>
          <p:nvPr/>
        </p:nvSpPr>
        <p:spPr>
          <a:xfrm>
            <a:off x="5572080" y="214308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666633"/>
          </a:solidFill>
          <a:ln w="25560">
            <a:solidFill>
              <a:srgbClr val="494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أنواع القراءة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                من حيث طبيعة الأدا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الصامتة  والجهر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                من حيث الغر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السريعة العاجلة – لتكوين فكرة عامة عن موضوع متسع- القراءة التحصيلية – قراءة لجمع المعلومات – للمتعة – النقدية التحلي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سهم إلى اليسار 3"/>
          <p:cNvSpPr/>
          <p:nvPr/>
        </p:nvSpPr>
        <p:spPr>
          <a:xfrm flipV="1">
            <a:off x="6643800" y="2143080"/>
            <a:ext cx="1046160" cy="2858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666633"/>
          </a:solidFill>
          <a:ln w="25560">
            <a:solidFill>
              <a:srgbClr val="494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سهم إلى اليسار 4"/>
          <p:cNvSpPr/>
          <p:nvPr/>
        </p:nvSpPr>
        <p:spPr>
          <a:xfrm flipV="1">
            <a:off x="6572160" y="3286080"/>
            <a:ext cx="1046160" cy="2858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666633"/>
          </a:solidFill>
          <a:ln w="25560">
            <a:solidFill>
              <a:srgbClr val="494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عوامل الاستعداد للقراءة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ستعداد العقل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ستعداد الجسم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ستعداد العاطفي الشخص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ستعداد في الخبرات والقد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6:22:32Z</dcterms:created>
  <dc:creator>User</dc:creator>
  <dc:description/>
  <dc:language>en-US</dc:language>
  <cp:lastModifiedBy>وداد</cp:lastModifiedBy>
  <dcterms:modified xsi:type="dcterms:W3CDTF">2016-06-20T14:52:58Z</dcterms:modified>
  <cp:revision>9</cp:revision>
  <dc:subject/>
  <dc:title>صعوبات القراءة</dc:title>
</cp:coreProperties>
</file>