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CB3D-AFDF-4485-B556-9A87F124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C5E2-715C-4D8C-B823-40F3513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0BBB-728B-494D-9E18-BC38DA4B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5F71-54A3-4F47-AFE4-B1E4A6FD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B2BB-9992-4809-BF37-B75A19BC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E58A-A500-47E8-A4FF-3297A2C7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3748-BC63-4299-93A6-9C66A791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75DD-CE15-4EA0-B2C4-8ACB7CD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1BFB-A841-4F75-BD8B-E7DAF948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F618-0BA3-4691-8FEE-E1A9138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EEE-1516-4E16-A089-49E32CB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14F3-E867-44F3-BBA4-9385F8C5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860-8363-4624-AABF-7545BF4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2EC-F725-4FAD-8486-4D6A09B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6B5-DB82-48D7-A6AB-9C0B2D7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7DA1-6CF6-4FEF-9872-78491EFA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DE82-6366-4068-BF98-FFAED142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88D6-C417-4E51-98D8-473D56CD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F64E-1490-44FF-9FFC-F8B88EEF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0866-2E56-4EFF-86FD-73B8AC4B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2D9E-4EF5-4AD3-A3F2-0794593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41CB-DA26-4988-9685-86509C3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F50D-CCF4-407C-B764-915F10C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E8DD-8886-4B60-BB98-0DDBB46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7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EE9-04A3-4F58-B7AF-247794AC2F3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7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B78-819D-455A-97A5-1CA4D7503BF3}" type="slidenum">
              <a:rPr b="0" lang="ar-SA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0920" y="1828800"/>
            <a:ext cx="6580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 صعوبات القراءة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ffffff"/>
                </a:solidFill>
                <a:latin typeface="Arial"/>
              </a:rPr>
              <a:t>المحاضرة الاولى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رق قياس الاستعداد ل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Arial"/>
              </a:rPr>
              <a:t>اختبارات الذكا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Arial"/>
              </a:rPr>
              <a:t>طريقة اختبارات الاستعداد للقراء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Arial"/>
              </a:rPr>
              <a:t>تقدير المعلم لعوامل الاستعدا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خطوات قراءة جملة بسيط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رؤية الكلمات المكتوبة وهنا  تظهر حاسة البص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طق بهذه الرموز المكتوبة ويشترك فيها أداة النطق وحاسة السم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دراك معنى الكلمات منفردة ومجتمعة وهنا تظهر القدرة على التجريد و التعم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فعال القارئ ومدى تأثره بما يقر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هذه الخطوات تستوجب توفر القدرات التالي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ظر إلى المكت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ضع الكلمة في مكان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رتيب المادة المقروء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باع اتجاه الكتابة من اليمين إلى اليس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راك المعنى العام للمادة المقروء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راءة مع التنبؤ بالنتائ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مييز بين أجزاء وفصول وتفرعات المادة المقروء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قد وتمحيص المادة المقروء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قراءة مواد أخرى لها علاقة بموضوع الدر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ختلفت الآراء في فهم عملية القراء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أي الأول: إن القراءة هي عملية إدراك الكلمات المكتو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أي الثاني: السرعة في القراءة والفه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أي  الثالث: يتعدى ذلك إلى أن ينفعل القارىء بما يقر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راءة نشاط فكري متكامل يبدأ بمشكلة تتطلب عملا وانفعالا وتفكيرا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عليمها يقوم على أربعة أبعا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عرف و النطق- الفهم- النقد - وحل المشك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عليمها يمر بخمسة مراحل : الاستعداد* البدء* التوسع في الخبرات * زيادة القدرات والكفايات * تهذيب العادات والميول والأذو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لغ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جموعة من الرموز التي تمثل معاني مختلف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هارة اختص بها الانسا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نوعان: لفظية وغير لفظ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وسيلة من وسائل الاتصا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ظهر من مظاهر النمو العقلي و الحسي والحرك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حن نسمعها منطوقة ونقرؤها مكتوبة ونفهم لغة الاشا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يعتبر تحصيلها أكبر انجاز في إطار النمو العقلي للطف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كلام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صورة من صور اللغ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ستعمل فيها الانسان الكلمات للتعبير عن أفكا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مزيج من التفكير والادراك و النشاط الحرك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إن الاستعداد للكلام فطري ,أما اللغة فمكتسب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قراءة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حدى مخرجات اللغ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يراد بها إبراز الصلة بين لغة الكلام والرموز الكتاب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قوم على رؤية الكلمات المكتوبة وإدراك معناها للوقوف على مضمونها والعمل بمقتضا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علم القراءة ليس له نقطة بدء محدودة ولا انتها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مو الغوي يسبق النمو القرائ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مفهوم ا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عملية فكرية عقلية شديدة التعقيد وهي أداة التفكير الحر وتستوجب الفهم الدقيق والتفكير العميق و القدرة على الربط بين أجزاء المادة المقروء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طور مفهوم ا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تقل من الادراك البصري للرموز و النطق بها إ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رجمة هذه الرموز إلى مدلولاتها من الأفكار ثم إ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ضرورة تفاعل القارئ مع النص المقروء إ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ستخلاص المقروء وتوظيفه على شكل خبرات لمواجهة مشكلات الحياة اليومية. إلى أن وصل إلى مفهوم الاستمتا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900000" y="2349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755280" y="2924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1619280" y="3500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أهداف ا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20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امة                 خا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ضربي أمثلة ؟؟؟؟؟؟؟؟؟؟؟؟؟؟؟؟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سهم إلى اليسار واليمين 7"/>
          <p:cNvSpPr/>
          <p:nvPr/>
        </p:nvSpPr>
        <p:spPr>
          <a:xfrm>
            <a:off x="5572080" y="21430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أنواع القراءة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                من حيث طبيعة الأدا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الصامتة  والجه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                من حيث الغر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السريعة العاجلة – لتكوين فكرة عامة عن موضوع متسع- القراءة التحصيلية – قراءة لجمع المعلومات – للمتعة – النقدية التحلي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سهم إلى اليسار 3"/>
          <p:cNvSpPr/>
          <p:nvPr/>
        </p:nvSpPr>
        <p:spPr>
          <a:xfrm flipV="1">
            <a:off x="6643800" y="2143080"/>
            <a:ext cx="1046160" cy="285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سهم إلى اليسار 4"/>
          <p:cNvSpPr/>
          <p:nvPr/>
        </p:nvSpPr>
        <p:spPr>
          <a:xfrm flipV="1">
            <a:off x="6572160" y="3286080"/>
            <a:ext cx="1046160" cy="285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عوامل الاستعداد للقراءة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العق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الجسم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العاطفي الشخص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في الخبرات والقد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6:22:32Z</dcterms:created>
  <dc:creator>User</dc:creator>
  <dc:description/>
  <dc:language>en-US</dc:language>
  <cp:lastModifiedBy>وداد</cp:lastModifiedBy>
  <dcterms:modified xsi:type="dcterms:W3CDTF">2016-06-20T14:52:58Z</dcterms:modified>
  <cp:revision>9</cp:revision>
  <dc:subject/>
  <dc:title>صعوبات القراءة</dc:title>
</cp:coreProperties>
</file>