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9B76-1B9A-4CA4-9C67-147817776D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loyee, Department,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loyee must works in one depart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loyee may participate in one or more pro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  has more than one employ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department should have one or mor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 should belong to one depart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C74B-ADFD-4D35-AAF8-646168D0580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574A-3B7F-4835-979E-6217FD87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FA52-D5F9-4551-BDD8-44988869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5DEF-C263-4CE1-BA22-6DE94107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EB5A-C062-4DD8-8E26-A47B0717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7E60-0003-489E-A62A-0E79109A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337C-61AA-461A-A442-5853CB35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BB48-69BF-47B1-8BD7-8C935D86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108A-9636-47EF-BB06-878F731B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00E7-E357-49E2-ACF1-8358B420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2E8B-3154-44E6-8F67-9A26B942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842F-2FA9-4906-B2E0-A0D03A4D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7375-E63A-42F7-8AF8-5F25C81F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F9A7-4BCC-4F50-AF4D-7EBCAF9C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E0BF-A3EC-4093-9A33-03B27601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0D59-FD08-4567-8647-0C64A3A2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4188-DB64-4D9F-853B-E49EA20B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164B-46D5-44B4-8A33-7262B0A6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380C2-EE96-4878-9A50-294BE505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B59315-F437-4708-95E1-2DE3A9B6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2124CA-0DE7-415F-9519-9364C4F9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30580C-F8B6-44DB-AD12-CF16762D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5EC399-ADD0-41F0-B7EB-1431BAA2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6860-0BDE-4273-84CF-3307C7CB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D2E75D-38C6-42B0-9C2C-1E2835AE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7416C1-E2DB-4644-8282-1D8DF0CA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839D58-AEEA-4153-8EB5-6924E7CD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B5064-09DC-4ACA-8E13-33B79C81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448108-DD7B-4AA7-9731-58245622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2E4B00-4FEE-44BC-9A0B-8B2084F0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F97100-0011-4E62-B312-9DA6E7E7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446B31-1277-48F1-A6FB-E55BBBE9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105491-18F3-409D-827F-6A9AC4D5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18A46C-D18C-4998-ADC9-6C00894B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0DA0-7EF5-4FC8-B94E-325C9DFB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12794D-E95E-4CA4-8695-BF6C4720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C764AE-638A-4D26-B0F0-9C6ADCEF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F15215-7DE5-4F61-B1BC-7DF6D763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150C65-4A7A-4D31-9CB5-0F7715DD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C914FC-CA0F-4B66-A5F4-6770D441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9CEEC5-94B6-42CB-84F5-F4197BB8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00072B-BF55-4853-882E-B7F9CAC8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50E7F0-924B-4D99-8965-52E4E582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27270D-ADD4-48A2-8C81-ED14BB41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6E4934-357D-40BC-B78A-03338A0D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E57B-BA98-4FAF-BB96-1D28B9B0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85DC2E-D5FF-4210-B73D-F48746A6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A9E48C-9E8C-43C7-A5BE-0C804500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63DEBD-7B75-458C-9AE2-A7361E37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7E56F5-D8B0-44EB-B089-5904D5FA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9570CD-9E93-4032-9FC6-7CF47902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DAADA7-3426-4D1F-8287-2867116C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34D5C6-12EA-4D26-9EA9-0FCA86AB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90909A-FD7F-4F36-9BED-1053BD45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0CFBB3-C9FF-4613-BA2B-6C64A5FC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A48380-C34B-46BE-9D89-0DE817C6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C53F-15F7-4EEC-B181-1652AD5C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C458C4-A737-4E4C-900A-7E35A099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1941A-CE3B-4CF9-8665-AFEA89D0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1594A-E152-4E84-B072-089B83F6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0468A-BB87-4335-A9B9-5879EB42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4E03D-3606-40B5-AB21-F6A7025E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C41DE-0B15-4AC5-9A03-3069567E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A524E-A94D-4B08-AFD5-65DF41EB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4E0F9-A908-48CF-85CB-203A7FAD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A17F1-99AA-4D81-8980-94708317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57350-ABC3-478A-8DC0-7833CB62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7894-555F-4E60-BF0D-A91E4464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96629-FE4E-4FA0-8043-A3EEB805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F5FF8-0648-4BE9-A9BF-EF74D528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0CC0A-1BFB-4D3B-BB88-A5273574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277057-41AB-4398-88BD-FCBF9312E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8758DB-39F3-4865-BE61-E6D83199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2BF4F2-3A10-4907-BF4B-27AFCBA3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3C96E5-2010-4188-8AF0-3653B515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44CF8C-AA8A-4B15-9275-D261AEFE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B11477-4612-4A2A-B0FA-B2B0FF71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DBF277-0F14-4508-A7D2-DED14319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1D28-2A4B-4785-B448-DFB60F0D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9BCCB5-051D-4E27-B8DE-B54AB6A6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91A193-5F56-47E5-91DB-DCD52CB4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783289-82D3-4A01-AAE7-276AED4F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01DA01-5B87-4B75-9452-7DA5249E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76C3BF-37A1-49F7-8788-130CCB49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2E826-0B90-4DA2-8829-3B29A048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A544A-99D8-4976-B6CF-A1E7F063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229B8-059D-4982-AC60-E55F6DFC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380DB-FF6C-4865-BB60-7725CA52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64EA8-F715-43C0-8F81-EC80C462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5BE1-E870-4EE5-9135-96365B02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29D09-19DA-49AB-8D44-9954ED67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D8F3C-6636-4813-9FFD-FBD2C980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19E33-7A41-4B69-8105-AD6A973C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B2BCE-0792-4D70-A537-42911F95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B570E-083A-4DB1-BCB3-B6BCB195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7E53A-59DB-4797-A2D8-E4A593F4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4CCE2-949C-4A28-ABA9-88C5B5B8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1FA5-F824-4F5B-B310-CB21779D808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EFC2-8E90-441C-9C0C-E7CFF5EB3DA9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6D71-9AB7-4689-B04C-3BAD4023B3C8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9A1D-0D68-46DC-9F48-A524AA39639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7B02-299B-4D73-80A4-D35BCA3F60C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0C4D-0CC0-4E72-AA2E-0D7EEEF65374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4D65-D643-428C-A46D-06216D87E52A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0292-3286-4552-8783-9C67124E37C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LECTURE #4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w Cen MT"/>
              </a:rPr>
              <a:t>Er-Diagram</a:t>
            </a:r>
            <a:endParaRPr b="0" lang="en-US" sz="47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 algn="r" rtl="1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rial"/>
              </a:rPr>
              <a:t>هناك نوع من الـ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Entity</a:t>
            </a:r>
            <a:r>
              <a:rPr b="1" lang="ar-SA" sz="2800" spc="-1" strike="noStrike">
                <a:solidFill>
                  <a:srgbClr val="000000"/>
                </a:solidFill>
                <a:latin typeface="Tw Cen MT"/>
                <a:ea typeface="Arial"/>
              </a:rPr>
              <a:t> لا يستطيع أن يكون لنفسه مفتـــاح أساسي أو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Key attribute</a:t>
            </a:r>
            <a:r>
              <a:rPr b="1" lang="ar-SA" sz="2800" spc="-1" strike="noStrike">
                <a:solidFill>
                  <a:srgbClr val="000000"/>
                </a:solidFill>
                <a:latin typeface="Tw Cen MT"/>
                <a:ea typeface="Arial"/>
              </a:rPr>
              <a:t> ،، فمثل هذا الـ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w Cen MT"/>
                <a:ea typeface="Arial"/>
              </a:rPr>
              <a:t> يسمى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Weak Entity</a:t>
            </a:r>
            <a:r>
              <a:rPr b="1" lang="ar-SA" sz="2800" spc="-1" strike="noStrike">
                <a:solidFill>
                  <a:srgbClr val="000000"/>
                </a:solidFill>
                <a:latin typeface="Tw Cen MT"/>
                <a:ea typeface="Arial"/>
              </a:rPr>
              <a:t> أي ضعيف لا يستطيع أن يكون لنفسه مفتاح ،،، فمثلا هناك شركة تأمين السيارات لديها قاعدة بيانات مكونة من الأرك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ea typeface="Arial"/>
              </a:rPr>
              <a:t> (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Entities</a:t>
            </a:r>
            <a:r>
              <a:rPr b="1" lang="ar-SA" sz="2800" spc="-1" strike="noStrike">
                <a:solidFill>
                  <a:srgbClr val="000000"/>
                </a:solidFill>
                <a:latin typeface="Tw Cen MT"/>
                <a:ea typeface="Arial"/>
              </a:rPr>
              <a:t> ) التالية 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rial"/>
              </a:rPr>
              <a:t>السيارا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rial"/>
              </a:rPr>
              <a:t>العملاء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rial"/>
              </a:rPr>
              <a:t>الحوادث  </a:t>
            </a:r>
            <a:r>
              <a:rPr b="1" lang="ar-S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ar-SA" sz="2800" spc="-1" strike="noStrike">
                <a:solidFill>
                  <a:srgbClr val="000000"/>
                </a:solidFill>
                <a:latin typeface="Tw Cen MT"/>
                <a:ea typeface="Arial"/>
              </a:rPr>
              <a:t> فالحوادث هنا تعتبر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Weak Entity</a:t>
            </a:r>
            <a:r>
              <a:rPr b="1" lang="ar-SA" sz="2800" spc="-1" strike="noStrike">
                <a:solidFill>
                  <a:srgbClr val="000000"/>
                </a:solidFill>
                <a:latin typeface="Tw Cen MT"/>
                <a:ea typeface="Arial"/>
              </a:rPr>
              <a:t> لأن الحادث معرف بسيارة معينة ، أي أن الحادث لا يستطيع أن يُميز إلا بتميز السيارة التي حصل لها الحادث ،، والعلاقة التي بينها وبين السيارة تعتبر هي المعرفة للحادث فتسمى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Identifying relationship</a:t>
            </a:r>
            <a:r>
              <a:rPr b="1" lang="ar-SA" sz="2800" spc="-1" strike="noStrike">
                <a:solidFill>
                  <a:srgbClr val="000000"/>
                </a:solidFill>
                <a:latin typeface="Tw Cen MT"/>
                <a:ea typeface="Arial"/>
              </a:rPr>
              <a:t> ،، وأيضا الاشتراك بينها وبين العلاقة يعتبر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Tot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"/>
          <p:cNvGrpSpPr/>
          <p:nvPr/>
        </p:nvGrpSpPr>
        <p:grpSpPr>
          <a:xfrm>
            <a:off x="609480" y="457200"/>
            <a:ext cx="7963200" cy="5410080"/>
            <a:chOff x="609480" y="457200"/>
            <a:chExt cx="7963200" cy="5410080"/>
          </a:xfrm>
        </p:grpSpPr>
        <p:grpSp>
          <p:nvGrpSpPr>
            <p:cNvPr id="523" name="Group 5"/>
            <p:cNvGrpSpPr/>
            <p:nvPr/>
          </p:nvGrpSpPr>
          <p:grpSpPr>
            <a:xfrm>
              <a:off x="1633680" y="457200"/>
              <a:ext cx="5726880" cy="4976280"/>
              <a:chOff x="1633680" y="457200"/>
              <a:chExt cx="5726880" cy="4976280"/>
            </a:xfrm>
          </p:grpSpPr>
          <p:sp>
            <p:nvSpPr>
              <p:cNvPr id="524" name="Line 6"/>
              <p:cNvSpPr/>
              <p:nvPr/>
            </p:nvSpPr>
            <p:spPr>
              <a:xfrm>
                <a:off x="3061800" y="1921680"/>
                <a:ext cx="0" cy="80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7"/>
              <p:cNvSpPr/>
              <p:nvPr/>
            </p:nvSpPr>
            <p:spPr>
              <a:xfrm>
                <a:off x="5932440" y="2519640"/>
                <a:ext cx="1428120" cy="806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100" spc="-1" strike="noStrike">
                    <a:solidFill>
                      <a:srgbClr val="000000"/>
                    </a:solidFill>
                    <a:latin typeface="Perpetua"/>
                    <a:cs typeface="Times New Roman"/>
                  </a:rPr>
                  <a:t>العمـــــلاء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8"/>
              <p:cNvSpPr/>
              <p:nvPr/>
            </p:nvSpPr>
            <p:spPr>
              <a:xfrm>
                <a:off x="2412720" y="3954240"/>
                <a:ext cx="1428120" cy="806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100" spc="-1" strike="noStrike">
                    <a:solidFill>
                      <a:srgbClr val="000000"/>
                    </a:solidFill>
                    <a:latin typeface="Perpetua"/>
                    <a:cs typeface="Times New Roman"/>
                  </a:rPr>
                  <a:t>الحوادث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9"/>
              <p:cNvSpPr/>
              <p:nvPr/>
            </p:nvSpPr>
            <p:spPr>
              <a:xfrm>
                <a:off x="2412720" y="1129680"/>
                <a:ext cx="1428120" cy="806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100" spc="-1" strike="noStrike">
                    <a:solidFill>
                      <a:srgbClr val="000000"/>
                    </a:solidFill>
                    <a:latin typeface="Perpetua"/>
                    <a:cs typeface="Times New Roman"/>
                  </a:rPr>
                  <a:t>السيارات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AutoShape 10"/>
              <p:cNvSpPr/>
              <p:nvPr/>
            </p:nvSpPr>
            <p:spPr>
              <a:xfrm>
                <a:off x="2542320" y="2609280"/>
                <a:ext cx="1038600" cy="941400"/>
              </a:xfrm>
              <a:prstGeom prst="flowChartDecisi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100" spc="-1" strike="noStrike">
                    <a:solidFill>
                      <a:srgbClr val="000000"/>
                    </a:solidFill>
                    <a:latin typeface="Perpetua"/>
                    <a:cs typeface="Times New Roman"/>
                  </a:rPr>
                  <a:t>حدث لها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11"/>
              <p:cNvSpPr/>
              <p:nvPr/>
            </p:nvSpPr>
            <p:spPr>
              <a:xfrm>
                <a:off x="3061800" y="3550680"/>
                <a:ext cx="0" cy="403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12"/>
              <p:cNvSpPr/>
              <p:nvPr/>
            </p:nvSpPr>
            <p:spPr>
              <a:xfrm>
                <a:off x="2152800" y="5030280"/>
                <a:ext cx="1298160" cy="40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100" spc="-1" strike="noStrike">
                    <a:solidFill>
                      <a:srgbClr val="000000"/>
                    </a:solidFill>
                    <a:latin typeface="Perpetua"/>
                    <a:cs typeface="Times New Roman"/>
                  </a:rPr>
                  <a:t>رقم الحادث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Perpetua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13"/>
              <p:cNvSpPr/>
              <p:nvPr/>
            </p:nvSpPr>
            <p:spPr>
              <a:xfrm>
                <a:off x="2801880" y="4761360"/>
                <a:ext cx="0" cy="26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14"/>
              <p:cNvSpPr/>
              <p:nvPr/>
            </p:nvSpPr>
            <p:spPr>
              <a:xfrm flipH="1">
                <a:off x="2383560" y="5314320"/>
                <a:ext cx="77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Oval 15"/>
              <p:cNvSpPr/>
              <p:nvPr/>
            </p:nvSpPr>
            <p:spPr>
              <a:xfrm>
                <a:off x="1633680" y="457200"/>
                <a:ext cx="1298160" cy="40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100" spc="-1" strike="noStrike" u="sng">
                    <a:solidFill>
                      <a:srgbClr val="000000"/>
                    </a:solidFill>
                    <a:uFillTx/>
                    <a:latin typeface="Perpetua"/>
                    <a:cs typeface="Times New Roman"/>
                  </a:rPr>
                  <a:t>رقم السيارة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16"/>
              <p:cNvSpPr/>
              <p:nvPr/>
            </p:nvSpPr>
            <p:spPr>
              <a:xfrm>
                <a:off x="2397960" y="860400"/>
                <a:ext cx="389520" cy="26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17"/>
            <p:cNvGrpSpPr/>
            <p:nvPr/>
          </p:nvGrpSpPr>
          <p:grpSpPr>
            <a:xfrm>
              <a:off x="4014000" y="4073760"/>
              <a:ext cx="4543920" cy="403200"/>
              <a:chOff x="4014000" y="4073760"/>
              <a:chExt cx="4543920" cy="403200"/>
            </a:xfrm>
          </p:grpSpPr>
          <p:sp>
            <p:nvSpPr>
              <p:cNvPr id="536" name="Text Box 18"/>
              <p:cNvSpPr/>
              <p:nvPr/>
            </p:nvSpPr>
            <p:spPr>
              <a:xfrm>
                <a:off x="4793040" y="4073760"/>
                <a:ext cx="3764880" cy="403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00"/>
                    </a:solidFill>
                    <a:latin typeface="Perpetua"/>
                    <a:cs typeface="Times New Roman"/>
                  </a:rPr>
                  <a:t>هذا هو الـ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Weak Entity</a:t>
                </a:r>
                <a:r>
                  <a:rPr b="1" lang="ar-SA" sz="1400" spc="-1" strike="noStrike">
                    <a:solidFill>
                      <a:srgbClr val="000000"/>
                    </a:solidFill>
                    <a:latin typeface="Perpetua"/>
                    <a:ea typeface="Times New Roman"/>
                  </a:rPr>
                  <a:t> ،، يمثل بمستطيل ذوخطين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19"/>
              <p:cNvSpPr/>
              <p:nvPr/>
            </p:nvSpPr>
            <p:spPr>
              <a:xfrm flipH="1">
                <a:off x="4014000" y="4312440"/>
                <a:ext cx="77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Group 20"/>
            <p:cNvGrpSpPr/>
            <p:nvPr/>
          </p:nvGrpSpPr>
          <p:grpSpPr>
            <a:xfrm>
              <a:off x="3754080" y="4925880"/>
              <a:ext cx="4818600" cy="941400"/>
              <a:chOff x="3754080" y="4925880"/>
              <a:chExt cx="4818600" cy="941400"/>
            </a:xfrm>
          </p:grpSpPr>
          <p:sp>
            <p:nvSpPr>
              <p:cNvPr id="539" name="Text Box 21"/>
              <p:cNvSpPr/>
              <p:nvPr/>
            </p:nvSpPr>
            <p:spPr>
              <a:xfrm>
                <a:off x="4807440" y="4925880"/>
                <a:ext cx="3765240" cy="9414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 rtl="1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00"/>
                    </a:solidFill>
                    <a:latin typeface="Perpetua"/>
                    <a:cs typeface="Times New Roman"/>
                  </a:rPr>
                  <a:t>رقم الحادث هنا سوف يكون له علاقة مع الـمفتاح الأساسي للسيارة (رقم السيارة) التي حصل لها هذه الحوادث ،، ويمثل بخط متقطع  ويسمى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Partial key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Perpetua"/>
                  </a:rPr>
                  <a:t> 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Line 22"/>
              <p:cNvSpPr/>
              <p:nvPr/>
            </p:nvSpPr>
            <p:spPr>
              <a:xfrm flipH="1">
                <a:off x="3754080" y="5290200"/>
                <a:ext cx="103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1" name="Group 23"/>
            <p:cNvGrpSpPr/>
            <p:nvPr/>
          </p:nvGrpSpPr>
          <p:grpSpPr>
            <a:xfrm>
              <a:off x="609480" y="2340360"/>
              <a:ext cx="2351520" cy="1329480"/>
              <a:chOff x="609480" y="2340360"/>
              <a:chExt cx="2351520" cy="1329480"/>
            </a:xfrm>
          </p:grpSpPr>
          <p:sp>
            <p:nvSpPr>
              <p:cNvPr id="542" name="Rectangle 24"/>
              <p:cNvSpPr/>
              <p:nvPr/>
            </p:nvSpPr>
            <p:spPr>
              <a:xfrm>
                <a:off x="609480" y="2340360"/>
                <a:ext cx="1688040" cy="9414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 rtl="1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00"/>
                    </a:solidFill>
                    <a:latin typeface="Perpetua"/>
                    <a:cs typeface="Times New Roman"/>
                  </a:rPr>
                  <a:t>الاشتراك هنا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Tot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00"/>
                    </a:solidFill>
                    <a:latin typeface="Perpetua"/>
                    <a:cs typeface="Times New Roman"/>
                  </a:rPr>
                  <a:t>لأنه لا يوجد حادث بدون سيارة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25"/>
              <p:cNvSpPr/>
              <p:nvPr/>
            </p:nvSpPr>
            <p:spPr>
              <a:xfrm>
                <a:off x="2268720" y="3266640"/>
                <a:ext cx="692280" cy="40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26"/>
            <p:cNvGrpSpPr/>
            <p:nvPr/>
          </p:nvGrpSpPr>
          <p:grpSpPr>
            <a:xfrm>
              <a:off x="3653280" y="1293840"/>
              <a:ext cx="3765240" cy="1464480"/>
              <a:chOff x="3653280" y="1293840"/>
              <a:chExt cx="3765240" cy="1464480"/>
            </a:xfrm>
          </p:grpSpPr>
          <p:sp>
            <p:nvSpPr>
              <p:cNvPr id="545" name="Rectangle 27"/>
              <p:cNvSpPr/>
              <p:nvPr/>
            </p:nvSpPr>
            <p:spPr>
              <a:xfrm>
                <a:off x="4432320" y="1293840"/>
                <a:ext cx="2986200" cy="807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 rtl="1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00"/>
                    </a:solidFill>
                    <a:latin typeface="Perpetua"/>
                    <a:cs typeface="Times New Roman"/>
                  </a:rPr>
                  <a:t>العلاقة هنا تمثل بشكل معين ذو خطين ،، يسمى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Identifying relationshi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28"/>
              <p:cNvSpPr/>
              <p:nvPr/>
            </p:nvSpPr>
            <p:spPr>
              <a:xfrm flipH="1">
                <a:off x="3653280" y="2085840"/>
                <a:ext cx="779040" cy="67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33"/>
                </a:solidFill>
                <a:latin typeface="Tw Cen MT"/>
                <a:cs typeface="Arial"/>
              </a:rPr>
              <a:t>وضع اشتراكات</a:t>
            </a:r>
            <a:br>
              <a:rPr sz="4000"/>
            </a:br>
            <a:r>
              <a:rPr b="1" lang="ar-SA" sz="4000" spc="-1" strike="noStrike">
                <a:solidFill>
                  <a:srgbClr val="ccff33"/>
                </a:solidFill>
                <a:latin typeface="Tw Cen MT"/>
                <a:ea typeface="Arial"/>
              </a:rPr>
              <a:t> </a:t>
            </a:r>
            <a:r>
              <a:rPr b="1" lang="en-US" sz="4000" spc="-1" strike="noStrike">
                <a:solidFill>
                  <a:srgbClr val="ccff33"/>
                </a:solidFill>
                <a:latin typeface="Tw Cen MT"/>
              </a:rPr>
              <a:t>Participation Constraints</a:t>
            </a:r>
            <a:r>
              <a:rPr b="1" lang="ar-SA" sz="4000" spc="-1" strike="noStrike">
                <a:solidFill>
                  <a:srgbClr val="ccff33"/>
                </a:solidFill>
                <a:latin typeface="Tw Cen MT"/>
                <a:ea typeface="Arial"/>
              </a:rPr>
              <a:t> :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w Cen MT"/>
                <a:cs typeface="Arial"/>
              </a:rPr>
              <a:t>يوجد لدينا نوعين من الاشتراكات الأول يسمى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Partial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ea typeface="Arial"/>
              </a:rPr>
              <a:t> والثاني يسمى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Total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ea typeface="Arial"/>
              </a:rPr>
              <a:t> 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Partial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ea typeface="Arial"/>
              </a:rPr>
              <a:t>: يوجد احتمال للصفر في العلاقة بين الـ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ntities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ea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Total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ea typeface="Arial"/>
              </a:rPr>
              <a:t>:   لا يسمح بوجود الصفر في العلاقة بين الـ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ntities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ea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Tw Cen MT"/>
              </a:rPr>
              <a:t>Participation Constrai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64600" indent="-264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3399"/>
                </a:solidFill>
                <a:latin typeface="Tw Cen MT"/>
                <a:cs typeface="Arial"/>
              </a:rPr>
              <a:t>السؤال الأول : هل هناك احتمال أن المدربة لا يوجد لديها متدربات ؟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3399"/>
                </a:solidFill>
                <a:latin typeface="Tw Cen MT"/>
                <a:cs typeface="Arial"/>
              </a:rPr>
              <a:t>السؤال الثاني : هل هناك احتمال أن المتدربة لا يوجد مدربة تدربها ؟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Tw Cen MT"/>
                <a:cs typeface="Arial"/>
              </a:rPr>
              <a:t>جواب السؤال الأول 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Tw Cen MT"/>
                <a:cs typeface="Arial"/>
              </a:rPr>
              <a:t>احتمال أن توجد مدربة ليس لديها أي متدربة ،، اي أن هناك احتمال للصفر عند المدربات فالعلاقة تكون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Partial</a:t>
            </a:r>
            <a:r>
              <a:rPr b="1" lang="ar-SA" sz="2700" spc="-1" strike="noStrike">
                <a:solidFill>
                  <a:srgbClr val="000000"/>
                </a:solidFill>
                <a:latin typeface="Tw Cen MT"/>
                <a:ea typeface="Arial"/>
              </a:rPr>
              <a:t> وتمثل في التصميم بخط واحد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Tw Cen MT"/>
                <a:cs typeface="Arial"/>
              </a:rPr>
              <a:t>جواب السؤال الثاني 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Tw Cen MT"/>
                <a:cs typeface="Arial"/>
              </a:rPr>
              <a:t>لا يمكن أن تكون متدربة بدون مدربة تقوم بتدريبها ،، أي أن احتمال الصفر غير موجود أو لا يسمح بوجود الصفر عند المتدربات فالعلاقة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Total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ar-SA" sz="2700" spc="-1" strike="noStrike">
                <a:solidFill>
                  <a:srgbClr val="000000"/>
                </a:solidFill>
                <a:latin typeface="Tw Cen MT"/>
                <a:ea typeface="Arial"/>
              </a:rPr>
              <a:t> وتمثل في التصميم بخطين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Tw Cen MT"/>
              </a:rPr>
              <a:t>Participation Constrai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64600" indent="-264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ccff33"/>
                </a:solidFill>
                <a:latin typeface="Tw Cen MT"/>
                <a:cs typeface="Arial"/>
              </a:rPr>
              <a:t>المدربات يدربن على دورات 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3399"/>
                </a:solidFill>
                <a:latin typeface="Tw Cen MT"/>
                <a:cs typeface="Arial"/>
              </a:rPr>
              <a:t>السؤال الأول : هل هناك احتمال أن المدربة لا يوجد لديها دورات ؟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3399"/>
                </a:solidFill>
                <a:latin typeface="Tw Cen MT"/>
                <a:cs typeface="Arial"/>
              </a:rPr>
              <a:t>السؤال الثاني : هل هناك احتمال أن تقام دورة من دون مدربات ؟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w Cen MT"/>
                <a:cs typeface="Arial"/>
              </a:rPr>
              <a:t>جواب السؤال الأول 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w Cen MT"/>
                <a:cs typeface="Arial"/>
              </a:rPr>
              <a:t>احتمال أن توجد مدربة ليس لديها دورة  ،، أي أن احتمال الصفر وارد عند المدربات فالعلاقة تكون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Partial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ea typeface="Arial"/>
              </a:rPr>
              <a:t> 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w Cen MT"/>
                <a:cs typeface="Arial"/>
              </a:rPr>
              <a:t>جواب السؤال الثاني 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w Cen MT"/>
                <a:cs typeface="Arial"/>
              </a:rPr>
              <a:t>لا يمكن أن تقام دورة من غير وجود مدربات ،، أي لا يسمح بوجود الصفر عند الدورات فالعلاقة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Total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ea typeface="Arial"/>
              </a:rPr>
              <a:t> .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Tw Cen MT"/>
              </a:rPr>
              <a:t>Participation Constrai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ccff33"/>
                </a:solidFill>
                <a:latin typeface="Tw Cen MT"/>
                <a:cs typeface="Arial"/>
              </a:rPr>
              <a:t>المتدربات يأخذن دورات 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3399"/>
                </a:solidFill>
                <a:latin typeface="Tw Cen MT"/>
                <a:cs typeface="Arial"/>
              </a:rPr>
              <a:t>السؤال الأول : هل هناك احتمال وجود متدربة من غير دورة ؟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3399"/>
                </a:solidFill>
                <a:latin typeface="Tw Cen MT"/>
                <a:cs typeface="Arial"/>
              </a:rPr>
              <a:t>السؤال الثاني : هل هناك احتمال وجود دورة من غير وجود متدربة ؟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w Cen MT"/>
                <a:cs typeface="Arial"/>
              </a:rPr>
              <a:t>جواب السؤال الأول 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w Cen MT"/>
                <a:cs typeface="Arial"/>
              </a:rPr>
              <a:t>لا يمكن وجود متدربة بدون دورة ،، أي لا يسمح بوجود الصفر عند المتدربات ،، فالعلاقة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Total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ea typeface="Arial"/>
              </a:rPr>
              <a:t> 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w Cen MT"/>
                <a:cs typeface="Arial"/>
              </a:rPr>
              <a:t>جواب السؤال الثاني 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w Cen MT"/>
                <a:cs typeface="Arial"/>
              </a:rPr>
              <a:t>لا يمكن وجود دورة من غير متدربة ،، أي لا يسمح بوجود الصفر عند الدورات ،، فالعلاقة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Total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ea typeface="Arial"/>
              </a:rPr>
              <a:t> .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4"/>
          <p:cNvGrpSpPr/>
          <p:nvPr/>
        </p:nvGrpSpPr>
        <p:grpSpPr>
          <a:xfrm>
            <a:off x="457200" y="380880"/>
            <a:ext cx="8312040" cy="5866920"/>
            <a:chOff x="457200" y="380880"/>
            <a:chExt cx="8312040" cy="5866920"/>
          </a:xfrm>
        </p:grpSpPr>
        <p:grpSp>
          <p:nvGrpSpPr>
            <p:cNvPr id="368" name="Group 5"/>
            <p:cNvGrpSpPr/>
            <p:nvPr/>
          </p:nvGrpSpPr>
          <p:grpSpPr>
            <a:xfrm>
              <a:off x="457200" y="380880"/>
              <a:ext cx="8312040" cy="5866920"/>
              <a:chOff x="457200" y="380880"/>
              <a:chExt cx="8312040" cy="5866920"/>
            </a:xfrm>
          </p:grpSpPr>
          <p:grpSp>
            <p:nvGrpSpPr>
              <p:cNvPr id="369" name="Group 6"/>
              <p:cNvGrpSpPr/>
              <p:nvPr/>
            </p:nvGrpSpPr>
            <p:grpSpPr>
              <a:xfrm>
                <a:off x="3117960" y="1595880"/>
                <a:ext cx="4099320" cy="3245760"/>
                <a:chOff x="3117960" y="1595880"/>
                <a:chExt cx="4099320" cy="3245760"/>
              </a:xfrm>
            </p:grpSpPr>
            <p:grpSp>
              <p:nvGrpSpPr>
                <p:cNvPr id="370" name="Group 7"/>
                <p:cNvGrpSpPr/>
                <p:nvPr/>
              </p:nvGrpSpPr>
              <p:grpSpPr>
                <a:xfrm>
                  <a:off x="3374280" y="1616040"/>
                  <a:ext cx="2826000" cy="1977120"/>
                  <a:chOff x="3374280" y="1616040"/>
                  <a:chExt cx="2826000" cy="1977120"/>
                </a:xfrm>
              </p:grpSpPr>
              <p:grpSp>
                <p:nvGrpSpPr>
                  <p:cNvPr id="371" name="Group 8"/>
                  <p:cNvGrpSpPr/>
                  <p:nvPr/>
                </p:nvGrpSpPr>
                <p:grpSpPr>
                  <a:xfrm>
                    <a:off x="4659120" y="2594160"/>
                    <a:ext cx="898920" cy="748800"/>
                    <a:chOff x="4659120" y="2594160"/>
                    <a:chExt cx="898920" cy="748800"/>
                  </a:xfrm>
                </p:grpSpPr>
                <p:sp>
                  <p:nvSpPr>
                    <p:cNvPr id="372" name="AutoShape 9"/>
                    <p:cNvSpPr/>
                    <p:nvPr/>
                  </p:nvSpPr>
                  <p:spPr>
                    <a:xfrm>
                      <a:off x="4659120" y="2594160"/>
                      <a:ext cx="898920" cy="748800"/>
                    </a:xfrm>
                    <a:prstGeom prst="diamond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Text Box 10"/>
                    <p:cNvSpPr/>
                    <p:nvPr/>
                  </p:nvSpPr>
                  <p:spPr>
                    <a:xfrm>
                      <a:off x="4701600" y="2801880"/>
                      <a:ext cx="770760" cy="374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3399"/>
                          </a:solidFill>
                          <a:latin typeface="Perpetua"/>
                          <a:cs typeface="Times New Roman"/>
                        </a:rPr>
                        <a:t>يدرب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4" name="Line 11"/>
                  <p:cNvSpPr/>
                  <p:nvPr/>
                </p:nvSpPr>
                <p:spPr>
                  <a:xfrm flipV="1">
                    <a:off x="5301360" y="1616040"/>
                    <a:ext cx="898920" cy="1123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Line 12"/>
                  <p:cNvSpPr/>
                  <p:nvPr/>
                </p:nvSpPr>
                <p:spPr>
                  <a:xfrm flipH="1">
                    <a:off x="3374280" y="3093840"/>
                    <a:ext cx="1413000" cy="499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Group 13"/>
                <p:cNvGrpSpPr/>
                <p:nvPr/>
              </p:nvGrpSpPr>
              <p:grpSpPr>
                <a:xfrm>
                  <a:off x="3117960" y="3967920"/>
                  <a:ext cx="2697120" cy="873720"/>
                  <a:chOff x="3117960" y="3967920"/>
                  <a:chExt cx="2697120" cy="873720"/>
                </a:xfrm>
              </p:grpSpPr>
              <p:grpSp>
                <p:nvGrpSpPr>
                  <p:cNvPr id="377" name="Group 14"/>
                  <p:cNvGrpSpPr/>
                  <p:nvPr/>
                </p:nvGrpSpPr>
                <p:grpSpPr>
                  <a:xfrm>
                    <a:off x="3888360" y="3967920"/>
                    <a:ext cx="898920" cy="831960"/>
                    <a:chOff x="3888360" y="3967920"/>
                    <a:chExt cx="898920" cy="831960"/>
                  </a:xfrm>
                </p:grpSpPr>
                <p:sp>
                  <p:nvSpPr>
                    <p:cNvPr id="378" name="AutoShape 15"/>
                    <p:cNvSpPr/>
                    <p:nvPr/>
                  </p:nvSpPr>
                  <p:spPr>
                    <a:xfrm>
                      <a:off x="3888360" y="3967920"/>
                      <a:ext cx="898920" cy="831960"/>
                    </a:xfrm>
                    <a:prstGeom prst="diamond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Text Box 16"/>
                    <p:cNvSpPr/>
                    <p:nvPr/>
                  </p:nvSpPr>
                  <p:spPr>
                    <a:xfrm>
                      <a:off x="3931200" y="4217400"/>
                      <a:ext cx="813240" cy="416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3399"/>
                          </a:solidFill>
                          <a:latin typeface="Perpetua"/>
                          <a:cs typeface="Times New Roman"/>
                        </a:rPr>
                        <a:t>يدربن عل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0" name="Line 17"/>
                  <p:cNvSpPr/>
                  <p:nvPr/>
                </p:nvSpPr>
                <p:spPr>
                  <a:xfrm flipH="1" flipV="1">
                    <a:off x="3117960" y="3967920"/>
                    <a:ext cx="770400" cy="37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Line 18"/>
                  <p:cNvSpPr/>
                  <p:nvPr/>
                </p:nvSpPr>
                <p:spPr>
                  <a:xfrm>
                    <a:off x="4787640" y="4342320"/>
                    <a:ext cx="1027440" cy="499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Group 19"/>
                <p:cNvGrpSpPr/>
                <p:nvPr/>
              </p:nvGrpSpPr>
              <p:grpSpPr>
                <a:xfrm>
                  <a:off x="6318360" y="1595880"/>
                  <a:ext cx="898920" cy="3245760"/>
                  <a:chOff x="6318360" y="1595880"/>
                  <a:chExt cx="898920" cy="3245760"/>
                </a:xfrm>
              </p:grpSpPr>
              <p:grpSp>
                <p:nvGrpSpPr>
                  <p:cNvPr id="383" name="Group 20"/>
                  <p:cNvGrpSpPr/>
                  <p:nvPr/>
                </p:nvGrpSpPr>
                <p:grpSpPr>
                  <a:xfrm>
                    <a:off x="6318360" y="2615400"/>
                    <a:ext cx="898920" cy="831960"/>
                    <a:chOff x="6318360" y="2615400"/>
                    <a:chExt cx="898920" cy="831960"/>
                  </a:xfrm>
                </p:grpSpPr>
                <p:sp>
                  <p:nvSpPr>
                    <p:cNvPr id="384" name="AutoShape 21"/>
                    <p:cNvSpPr/>
                    <p:nvPr/>
                  </p:nvSpPr>
                  <p:spPr>
                    <a:xfrm>
                      <a:off x="6318360" y="2615400"/>
                      <a:ext cx="898920" cy="831960"/>
                    </a:xfrm>
                    <a:prstGeom prst="diamond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Text Box 22"/>
                    <p:cNvSpPr/>
                    <p:nvPr/>
                  </p:nvSpPr>
                  <p:spPr>
                    <a:xfrm>
                      <a:off x="6361200" y="2864880"/>
                      <a:ext cx="813240" cy="416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3399"/>
                          </a:solidFill>
                          <a:latin typeface="Perpetua"/>
                          <a:cs typeface="Times New Roman"/>
                        </a:rPr>
                        <a:t>يأخذ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6" name="Line 23"/>
                  <p:cNvSpPr/>
                  <p:nvPr/>
                </p:nvSpPr>
                <p:spPr>
                  <a:xfrm>
                    <a:off x="6756840" y="1595880"/>
                    <a:ext cx="0" cy="998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Line 24"/>
                  <p:cNvSpPr/>
                  <p:nvPr/>
                </p:nvSpPr>
                <p:spPr>
                  <a:xfrm flipH="1">
                    <a:off x="6329160" y="3416400"/>
                    <a:ext cx="438480" cy="1425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8" name="Group 25"/>
              <p:cNvGrpSpPr/>
              <p:nvPr/>
            </p:nvGrpSpPr>
            <p:grpSpPr>
              <a:xfrm>
                <a:off x="457200" y="380880"/>
                <a:ext cx="8312040" cy="5866920"/>
                <a:chOff x="457200" y="380880"/>
                <a:chExt cx="8312040" cy="5866920"/>
              </a:xfrm>
            </p:grpSpPr>
            <p:grpSp>
              <p:nvGrpSpPr>
                <p:cNvPr id="389" name="Group 26"/>
                <p:cNvGrpSpPr/>
                <p:nvPr/>
              </p:nvGrpSpPr>
              <p:grpSpPr>
                <a:xfrm>
                  <a:off x="4402440" y="4861440"/>
                  <a:ext cx="4366800" cy="1386360"/>
                  <a:chOff x="4402440" y="4861440"/>
                  <a:chExt cx="4366800" cy="1386360"/>
                </a:xfrm>
              </p:grpSpPr>
              <p:grpSp>
                <p:nvGrpSpPr>
                  <p:cNvPr id="390" name="Group 27"/>
                  <p:cNvGrpSpPr/>
                  <p:nvPr/>
                </p:nvGrpSpPr>
                <p:grpSpPr>
                  <a:xfrm>
                    <a:off x="5815080" y="4861440"/>
                    <a:ext cx="1284120" cy="624240"/>
                    <a:chOff x="5815080" y="4861440"/>
                    <a:chExt cx="1284120" cy="624240"/>
                  </a:xfrm>
                </p:grpSpPr>
                <p:sp>
                  <p:nvSpPr>
                    <p:cNvPr id="391" name="Rectangle 28"/>
                    <p:cNvSpPr/>
                    <p:nvPr/>
                  </p:nvSpPr>
                  <p:spPr>
                    <a:xfrm>
                      <a:off x="5815080" y="4861440"/>
                      <a:ext cx="1284120" cy="6242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Text Box 29"/>
                    <p:cNvSpPr/>
                    <p:nvPr/>
                  </p:nvSpPr>
                  <p:spPr>
                    <a:xfrm>
                      <a:off x="6071760" y="5013720"/>
                      <a:ext cx="770400" cy="374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3399"/>
                          </a:solidFill>
                          <a:latin typeface="Perpetua"/>
                          <a:cs typeface="Times New Roman"/>
                        </a:rPr>
                        <a:t>الدور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Group 30"/>
                  <p:cNvGrpSpPr/>
                  <p:nvPr/>
                </p:nvGrpSpPr>
                <p:grpSpPr>
                  <a:xfrm>
                    <a:off x="4402440" y="5485680"/>
                    <a:ext cx="1155960" cy="499320"/>
                    <a:chOff x="4402440" y="5485680"/>
                    <a:chExt cx="1155960" cy="499320"/>
                  </a:xfrm>
                </p:grpSpPr>
                <p:sp>
                  <p:nvSpPr>
                    <p:cNvPr id="394" name="Oval 31"/>
                    <p:cNvSpPr/>
                    <p:nvPr/>
                  </p:nvSpPr>
                  <p:spPr>
                    <a:xfrm>
                      <a:off x="4473720" y="5485680"/>
                      <a:ext cx="1027800" cy="49932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Text Box 32"/>
                    <p:cNvSpPr/>
                    <p:nvPr/>
                  </p:nvSpPr>
                  <p:spPr>
                    <a:xfrm>
                      <a:off x="4402440" y="5554800"/>
                      <a:ext cx="1155960" cy="31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 u="sng">
                          <a:solidFill>
                            <a:srgbClr val="ff3399"/>
                          </a:solidFill>
                          <a:uFillTx/>
                          <a:latin typeface="Perpetua"/>
                          <a:cs typeface="Times New Roman"/>
                        </a:rPr>
                        <a:t>رقم الدو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Group 33"/>
                  <p:cNvGrpSpPr/>
                  <p:nvPr/>
                </p:nvGrpSpPr>
                <p:grpSpPr>
                  <a:xfrm>
                    <a:off x="5815080" y="5735160"/>
                    <a:ext cx="1155600" cy="499320"/>
                    <a:chOff x="5815080" y="5735160"/>
                    <a:chExt cx="1155600" cy="499320"/>
                  </a:xfrm>
                </p:grpSpPr>
                <p:sp>
                  <p:nvSpPr>
                    <p:cNvPr id="397" name="Oval 34"/>
                    <p:cNvSpPr/>
                    <p:nvPr/>
                  </p:nvSpPr>
                  <p:spPr>
                    <a:xfrm>
                      <a:off x="5886360" y="5735160"/>
                      <a:ext cx="1027440" cy="49932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Text Box 35"/>
                    <p:cNvSpPr/>
                    <p:nvPr/>
                  </p:nvSpPr>
                  <p:spPr>
                    <a:xfrm>
                      <a:off x="5815080" y="5804280"/>
                      <a:ext cx="1155600" cy="31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3399"/>
                          </a:solidFill>
                          <a:latin typeface="Perpetua"/>
                          <a:cs typeface="Times New Roman"/>
                        </a:rPr>
                        <a:t>مسمى الدو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Group 36"/>
                  <p:cNvGrpSpPr/>
                  <p:nvPr/>
                </p:nvGrpSpPr>
                <p:grpSpPr>
                  <a:xfrm>
                    <a:off x="7099560" y="5735160"/>
                    <a:ext cx="1669680" cy="512640"/>
                    <a:chOff x="7099560" y="5735160"/>
                    <a:chExt cx="1669680" cy="512640"/>
                  </a:xfrm>
                </p:grpSpPr>
                <p:sp>
                  <p:nvSpPr>
                    <p:cNvPr id="400" name="Oval 37"/>
                    <p:cNvSpPr/>
                    <p:nvPr/>
                  </p:nvSpPr>
                  <p:spPr>
                    <a:xfrm>
                      <a:off x="7170840" y="5735160"/>
                      <a:ext cx="1598400" cy="49932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Text Box 38"/>
                    <p:cNvSpPr/>
                    <p:nvPr/>
                  </p:nvSpPr>
                  <p:spPr>
                    <a:xfrm>
                      <a:off x="7099560" y="5859720"/>
                      <a:ext cx="1669680" cy="388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3399"/>
                          </a:solidFill>
                          <a:latin typeface="Perpetua"/>
                          <a:cs typeface="Times New Roman"/>
                        </a:rPr>
                        <a:t>عدد ساعات الدو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2" name="Line 39"/>
                  <p:cNvSpPr/>
                  <p:nvPr/>
                </p:nvSpPr>
                <p:spPr>
                  <a:xfrm flipV="1">
                    <a:off x="5172840" y="5110920"/>
                    <a:ext cx="641880" cy="37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Line 40"/>
                  <p:cNvSpPr/>
                  <p:nvPr/>
                </p:nvSpPr>
                <p:spPr>
                  <a:xfrm flipV="1">
                    <a:off x="6328800" y="5485320"/>
                    <a:ext cx="0" cy="249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Line 41"/>
                  <p:cNvSpPr/>
                  <p:nvPr/>
                </p:nvSpPr>
                <p:spPr>
                  <a:xfrm flipH="1" flipV="1">
                    <a:off x="7099200" y="5360760"/>
                    <a:ext cx="641880" cy="37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5" name="Group 42"/>
                <p:cNvGrpSpPr/>
                <p:nvPr/>
              </p:nvGrpSpPr>
              <p:grpSpPr>
                <a:xfrm>
                  <a:off x="3254040" y="380880"/>
                  <a:ext cx="5286600" cy="1609200"/>
                  <a:chOff x="3254040" y="380880"/>
                  <a:chExt cx="5286600" cy="1609200"/>
                </a:xfrm>
              </p:grpSpPr>
              <p:grpSp>
                <p:nvGrpSpPr>
                  <p:cNvPr id="406" name="Group 43"/>
                  <p:cNvGrpSpPr/>
                  <p:nvPr/>
                </p:nvGrpSpPr>
                <p:grpSpPr>
                  <a:xfrm>
                    <a:off x="4716000" y="380880"/>
                    <a:ext cx="3824640" cy="1609200"/>
                    <a:chOff x="4716000" y="380880"/>
                    <a:chExt cx="3824640" cy="1609200"/>
                  </a:xfrm>
                </p:grpSpPr>
                <p:grpSp>
                  <p:nvGrpSpPr>
                    <p:cNvPr id="407" name="Group 44"/>
                    <p:cNvGrpSpPr/>
                    <p:nvPr/>
                  </p:nvGrpSpPr>
                  <p:grpSpPr>
                    <a:xfrm>
                      <a:off x="6071760" y="991080"/>
                      <a:ext cx="1284120" cy="623880"/>
                      <a:chOff x="6071760" y="991080"/>
                      <a:chExt cx="1284120" cy="623880"/>
                    </a:xfrm>
                  </p:grpSpPr>
                  <p:sp>
                    <p:nvSpPr>
                      <p:cNvPr id="408" name="Rectangle 45"/>
                      <p:cNvSpPr/>
                      <p:nvPr/>
                    </p:nvSpPr>
                    <p:spPr>
                      <a:xfrm>
                        <a:off x="6071760" y="991080"/>
                        <a:ext cx="1284120" cy="6238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9" name="Text Box 46"/>
                      <p:cNvSpPr/>
                      <p:nvPr/>
                    </p:nvSpPr>
                    <p:spPr>
                      <a:xfrm>
                        <a:off x="6328440" y="1143360"/>
                        <a:ext cx="770400" cy="429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ar-SA" sz="1400" spc="-1" strike="noStrike">
                            <a:solidFill>
                              <a:srgbClr val="ff3399"/>
                            </a:solidFill>
                            <a:latin typeface="Perpetua"/>
                            <a:cs typeface="Times New Roman"/>
                          </a:rPr>
                          <a:t>المتدربات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0" name="Group 47"/>
                    <p:cNvGrpSpPr/>
                    <p:nvPr/>
                  </p:nvGrpSpPr>
                  <p:grpSpPr>
                    <a:xfrm>
                      <a:off x="4858560" y="1490760"/>
                      <a:ext cx="1155960" cy="499320"/>
                      <a:chOff x="4858560" y="1490760"/>
                      <a:chExt cx="1155960" cy="499320"/>
                    </a:xfrm>
                  </p:grpSpPr>
                  <p:sp>
                    <p:nvSpPr>
                      <p:cNvPr id="411" name="Oval 48"/>
                      <p:cNvSpPr/>
                      <p:nvPr/>
                    </p:nvSpPr>
                    <p:spPr>
                      <a:xfrm>
                        <a:off x="4929840" y="1490760"/>
                        <a:ext cx="1027800" cy="49932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2" name="Text Box 49"/>
                      <p:cNvSpPr/>
                      <p:nvPr/>
                    </p:nvSpPr>
                    <p:spPr>
                      <a:xfrm>
                        <a:off x="4858560" y="1559880"/>
                        <a:ext cx="1155960" cy="318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ar-SA" sz="1400" spc="-1" strike="noStrike" u="sng">
                            <a:solidFill>
                              <a:srgbClr val="ff3399"/>
                            </a:solidFill>
                            <a:uFillTx/>
                            <a:latin typeface="Perpetua"/>
                            <a:cs typeface="Times New Roman"/>
                          </a:rPr>
                          <a:t>السجل الأكاديمي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3" name="Group 50"/>
                    <p:cNvGrpSpPr/>
                    <p:nvPr/>
                  </p:nvGrpSpPr>
                  <p:grpSpPr>
                    <a:xfrm>
                      <a:off x="4716000" y="991080"/>
                      <a:ext cx="1155960" cy="499320"/>
                      <a:chOff x="4716000" y="991080"/>
                      <a:chExt cx="1155960" cy="499320"/>
                    </a:xfrm>
                  </p:grpSpPr>
                  <p:sp>
                    <p:nvSpPr>
                      <p:cNvPr id="414" name="Oval 51"/>
                      <p:cNvSpPr/>
                      <p:nvPr/>
                    </p:nvSpPr>
                    <p:spPr>
                      <a:xfrm>
                        <a:off x="4787280" y="991080"/>
                        <a:ext cx="1027800" cy="49932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5" name="Text Box 52"/>
                      <p:cNvSpPr/>
                      <p:nvPr/>
                    </p:nvSpPr>
                    <p:spPr>
                      <a:xfrm>
                        <a:off x="4716000" y="1060200"/>
                        <a:ext cx="1155960" cy="318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ar-SA" sz="1400" spc="-1" strike="noStrike">
                            <a:solidFill>
                              <a:srgbClr val="ff3399"/>
                            </a:solidFill>
                            <a:latin typeface="Perpetua"/>
                            <a:cs typeface="Times New Roman"/>
                          </a:rPr>
                          <a:t>اسم المتدربة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6" name="Group 53"/>
                    <p:cNvGrpSpPr/>
                    <p:nvPr/>
                  </p:nvGrpSpPr>
                  <p:grpSpPr>
                    <a:xfrm>
                      <a:off x="4915800" y="491760"/>
                      <a:ext cx="1155960" cy="499320"/>
                      <a:chOff x="4915800" y="491760"/>
                      <a:chExt cx="1155960" cy="499320"/>
                    </a:xfrm>
                  </p:grpSpPr>
                  <p:sp>
                    <p:nvSpPr>
                      <p:cNvPr id="417" name="Oval 54"/>
                      <p:cNvSpPr/>
                      <p:nvPr/>
                    </p:nvSpPr>
                    <p:spPr>
                      <a:xfrm>
                        <a:off x="4987080" y="491760"/>
                        <a:ext cx="1027800" cy="49932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8" name="Text Box 55"/>
                      <p:cNvSpPr/>
                      <p:nvPr/>
                    </p:nvSpPr>
                    <p:spPr>
                      <a:xfrm>
                        <a:off x="4915800" y="560880"/>
                        <a:ext cx="1155960" cy="318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ar-SA" sz="1400" spc="-1" strike="noStrike">
                            <a:solidFill>
                              <a:srgbClr val="ff3399"/>
                            </a:solidFill>
                            <a:latin typeface="Perpetua"/>
                            <a:cs typeface="Times New Roman"/>
                          </a:rPr>
                          <a:t>تاريخ الميلاد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9" name="Group 56"/>
                    <p:cNvGrpSpPr/>
                    <p:nvPr/>
                  </p:nvGrpSpPr>
                  <p:grpSpPr>
                    <a:xfrm>
                      <a:off x="6100200" y="380880"/>
                      <a:ext cx="1155960" cy="499320"/>
                      <a:chOff x="6100200" y="380880"/>
                      <a:chExt cx="1155960" cy="499320"/>
                    </a:xfrm>
                  </p:grpSpPr>
                  <p:sp>
                    <p:nvSpPr>
                      <p:cNvPr id="420" name="Oval 57"/>
                      <p:cNvSpPr/>
                      <p:nvPr/>
                    </p:nvSpPr>
                    <p:spPr>
                      <a:xfrm>
                        <a:off x="6171480" y="380880"/>
                        <a:ext cx="1027800" cy="49932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1" name="Text Box 58"/>
                      <p:cNvSpPr/>
                      <p:nvPr/>
                    </p:nvSpPr>
                    <p:spPr>
                      <a:xfrm>
                        <a:off x="6100200" y="450000"/>
                        <a:ext cx="1155960" cy="318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ar-SA" sz="1400" spc="-1" strike="noStrike">
                            <a:solidFill>
                              <a:srgbClr val="ff3399"/>
                            </a:solidFill>
                            <a:latin typeface="Perpetua"/>
                            <a:cs typeface="Times New Roman"/>
                          </a:rPr>
                          <a:t>السكن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22" name="Group 59"/>
                    <p:cNvGrpSpPr/>
                    <p:nvPr/>
                  </p:nvGrpSpPr>
                  <p:grpSpPr>
                    <a:xfrm>
                      <a:off x="7384680" y="616680"/>
                      <a:ext cx="1155960" cy="499320"/>
                      <a:chOff x="7384680" y="616680"/>
                      <a:chExt cx="1155960" cy="499320"/>
                    </a:xfrm>
                  </p:grpSpPr>
                  <p:sp>
                    <p:nvSpPr>
                      <p:cNvPr id="423" name="Oval 60"/>
                      <p:cNvSpPr/>
                      <p:nvPr/>
                    </p:nvSpPr>
                    <p:spPr>
                      <a:xfrm>
                        <a:off x="7455960" y="616680"/>
                        <a:ext cx="1027800" cy="499320"/>
                      </a:xfrm>
                      <a:prstGeom prst="ellipse">
                        <a:avLst/>
                      </a:pr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4" name="Text Box 61"/>
                      <p:cNvSpPr/>
                      <p:nvPr/>
                    </p:nvSpPr>
                    <p:spPr>
                      <a:xfrm>
                        <a:off x="7384680" y="685800"/>
                        <a:ext cx="1155960" cy="318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ar-SA" sz="1400" spc="-1" strike="noStrike">
                            <a:solidFill>
                              <a:srgbClr val="ff3399"/>
                            </a:solidFill>
                            <a:latin typeface="Perpetua"/>
                            <a:cs typeface="Times New Roman"/>
                          </a:rPr>
                          <a:t>رقم الهاتف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25" name="Line 62"/>
                    <p:cNvSpPr/>
                    <p:nvPr/>
                  </p:nvSpPr>
                  <p:spPr>
                    <a:xfrm flipV="1">
                      <a:off x="5843160" y="1490760"/>
                      <a:ext cx="256680" cy="124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63"/>
                    <p:cNvSpPr/>
                    <p:nvPr/>
                  </p:nvSpPr>
                  <p:spPr>
                    <a:xfrm>
                      <a:off x="5814720" y="1240920"/>
                      <a:ext cx="256680" cy="124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64"/>
                    <p:cNvSpPr/>
                    <p:nvPr/>
                  </p:nvSpPr>
                  <p:spPr>
                    <a:xfrm>
                      <a:off x="5943240" y="866160"/>
                      <a:ext cx="128160" cy="124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65"/>
                    <p:cNvSpPr/>
                    <p:nvPr/>
                  </p:nvSpPr>
                  <p:spPr>
                    <a:xfrm>
                      <a:off x="6714000" y="866160"/>
                      <a:ext cx="0" cy="124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66"/>
                    <p:cNvSpPr/>
                    <p:nvPr/>
                  </p:nvSpPr>
                  <p:spPr>
                    <a:xfrm flipH="1">
                      <a:off x="7356240" y="1116000"/>
                      <a:ext cx="385200" cy="124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0" name="Oval 67"/>
                  <p:cNvSpPr/>
                  <p:nvPr/>
                </p:nvSpPr>
                <p:spPr>
                  <a:xfrm>
                    <a:off x="3639240" y="727560"/>
                    <a:ext cx="898920" cy="3744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1400" spc="-1" strike="noStrike">
                        <a:solidFill>
                          <a:srgbClr val="ff3399"/>
                        </a:solidFill>
                        <a:latin typeface="Perpetua"/>
                        <a:cs typeface="Times New Roman"/>
                      </a:rPr>
                      <a:t>الأول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Line 68"/>
                  <p:cNvSpPr/>
                  <p:nvPr/>
                </p:nvSpPr>
                <p:spPr>
                  <a:xfrm>
                    <a:off x="4538160" y="921960"/>
                    <a:ext cx="428040" cy="12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Line 69"/>
                  <p:cNvSpPr/>
                  <p:nvPr/>
                </p:nvSpPr>
                <p:spPr>
                  <a:xfrm>
                    <a:off x="4152960" y="1254600"/>
                    <a:ext cx="642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Oval 70"/>
                  <p:cNvSpPr/>
                  <p:nvPr/>
                </p:nvSpPr>
                <p:spPr>
                  <a:xfrm>
                    <a:off x="3254040" y="1088280"/>
                    <a:ext cx="898920" cy="3744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1400" spc="-1" strike="noStrike">
                        <a:solidFill>
                          <a:srgbClr val="ff3399"/>
                        </a:solidFill>
                        <a:latin typeface="Perpetua"/>
                        <a:cs typeface="Times New Roman"/>
                      </a:rPr>
                      <a:t>الأب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Line 71"/>
                  <p:cNvSpPr/>
                  <p:nvPr/>
                </p:nvSpPr>
                <p:spPr>
                  <a:xfrm flipV="1">
                    <a:off x="4395600" y="1351440"/>
                    <a:ext cx="442080" cy="291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Oval 72"/>
                  <p:cNvSpPr/>
                  <p:nvPr/>
                </p:nvSpPr>
                <p:spPr>
                  <a:xfrm>
                    <a:off x="3524760" y="1518480"/>
                    <a:ext cx="898920" cy="3744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1400" spc="-1" strike="noStrike">
                        <a:solidFill>
                          <a:srgbClr val="ff3399"/>
                        </a:solidFill>
                        <a:latin typeface="Perpetua"/>
                        <a:cs typeface="Times New Roman"/>
                      </a:rPr>
                      <a:t>العائلة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Group 73"/>
                <p:cNvGrpSpPr/>
                <p:nvPr/>
              </p:nvGrpSpPr>
              <p:grpSpPr>
                <a:xfrm>
                  <a:off x="457200" y="2335320"/>
                  <a:ext cx="2874600" cy="2900520"/>
                  <a:chOff x="457200" y="2335320"/>
                  <a:chExt cx="2874600" cy="2900520"/>
                </a:xfrm>
              </p:grpSpPr>
              <p:grpSp>
                <p:nvGrpSpPr>
                  <p:cNvPr id="437" name="Group 74"/>
                  <p:cNvGrpSpPr/>
                  <p:nvPr/>
                </p:nvGrpSpPr>
                <p:grpSpPr>
                  <a:xfrm>
                    <a:off x="677520" y="2335320"/>
                    <a:ext cx="2654280" cy="2372040"/>
                    <a:chOff x="677520" y="2335320"/>
                    <a:chExt cx="2654280" cy="2372040"/>
                  </a:xfrm>
                </p:grpSpPr>
                <p:grpSp>
                  <p:nvGrpSpPr>
                    <p:cNvPr id="438" name="Group 75"/>
                    <p:cNvGrpSpPr/>
                    <p:nvPr/>
                  </p:nvGrpSpPr>
                  <p:grpSpPr>
                    <a:xfrm>
                      <a:off x="2047320" y="3333960"/>
                      <a:ext cx="1284480" cy="624240"/>
                      <a:chOff x="2047320" y="3333960"/>
                      <a:chExt cx="1284480" cy="624240"/>
                    </a:xfrm>
                  </p:grpSpPr>
                  <p:sp>
                    <p:nvSpPr>
                      <p:cNvPr id="439" name="Rectangle 76"/>
                      <p:cNvSpPr/>
                      <p:nvPr/>
                    </p:nvSpPr>
                    <p:spPr>
                      <a:xfrm>
                        <a:off x="2047320" y="3333960"/>
                        <a:ext cx="1284480" cy="6242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Text Box 77"/>
                      <p:cNvSpPr/>
                      <p:nvPr/>
                    </p:nvSpPr>
                    <p:spPr>
                      <a:xfrm>
                        <a:off x="2289600" y="3486240"/>
                        <a:ext cx="770760" cy="416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ar-SA" sz="1400" spc="-1" strike="noStrike">
                            <a:solidFill>
                              <a:srgbClr val="ff3399"/>
                            </a:solidFill>
                            <a:latin typeface="Perpetua"/>
                            <a:cs typeface="Times New Roman"/>
                          </a:rPr>
                          <a:t>المدربات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41" name="Group 78"/>
                    <p:cNvGrpSpPr/>
                    <p:nvPr/>
                  </p:nvGrpSpPr>
                  <p:grpSpPr>
                    <a:xfrm>
                      <a:off x="2175840" y="2709720"/>
                      <a:ext cx="1155960" cy="499320"/>
                      <a:chOff x="2175840" y="2709720"/>
                      <a:chExt cx="1155960" cy="499320"/>
                    </a:xfrm>
                  </p:grpSpPr>
                  <p:sp>
                    <p:nvSpPr>
                      <p:cNvPr id="442" name="Oval 79"/>
                      <p:cNvSpPr/>
                      <p:nvPr/>
                    </p:nvSpPr>
                    <p:spPr>
                      <a:xfrm>
                        <a:off x="2247120" y="2709720"/>
                        <a:ext cx="1027800" cy="499320"/>
                      </a:xfrm>
                      <a:prstGeom prst="ellipse">
                        <a:avLst/>
                      </a:pr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3" name="Text Box 80"/>
                      <p:cNvSpPr/>
                      <p:nvPr/>
                    </p:nvSpPr>
                    <p:spPr>
                      <a:xfrm>
                        <a:off x="2175840" y="2778840"/>
                        <a:ext cx="1155960" cy="318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ar-SA" sz="1400" spc="-1" strike="noStrike">
                            <a:solidFill>
                              <a:srgbClr val="ff3399"/>
                            </a:solidFill>
                            <a:latin typeface="Perpetua"/>
                            <a:cs typeface="Times New Roman"/>
                          </a:rPr>
                          <a:t>رقم الهاتف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44" name="Group 81"/>
                    <p:cNvGrpSpPr/>
                    <p:nvPr/>
                  </p:nvGrpSpPr>
                  <p:grpSpPr>
                    <a:xfrm>
                      <a:off x="1676160" y="4208040"/>
                      <a:ext cx="1155960" cy="499320"/>
                      <a:chOff x="1676160" y="4208040"/>
                      <a:chExt cx="1155960" cy="499320"/>
                    </a:xfrm>
                  </p:grpSpPr>
                  <p:sp>
                    <p:nvSpPr>
                      <p:cNvPr id="445" name="Oval 82"/>
                      <p:cNvSpPr/>
                      <p:nvPr/>
                    </p:nvSpPr>
                    <p:spPr>
                      <a:xfrm>
                        <a:off x="1747440" y="4208040"/>
                        <a:ext cx="1027800" cy="49932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6" name="Text Box 83"/>
                      <p:cNvSpPr/>
                      <p:nvPr/>
                    </p:nvSpPr>
                    <p:spPr>
                      <a:xfrm>
                        <a:off x="1676160" y="4277160"/>
                        <a:ext cx="1155960" cy="318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ar-SA" sz="1400" spc="-1" strike="noStrike" u="sng">
                            <a:solidFill>
                              <a:srgbClr val="ff3399"/>
                            </a:solidFill>
                            <a:uFillTx/>
                            <a:latin typeface="Perpetua"/>
                            <a:cs typeface="Times New Roman"/>
                          </a:rPr>
                          <a:t>رقم المدربة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47" name="Group 84"/>
                    <p:cNvGrpSpPr/>
                    <p:nvPr/>
                  </p:nvGrpSpPr>
                  <p:grpSpPr>
                    <a:xfrm>
                      <a:off x="891360" y="3833280"/>
                      <a:ext cx="1155600" cy="499320"/>
                      <a:chOff x="891360" y="3833280"/>
                      <a:chExt cx="1155600" cy="499320"/>
                    </a:xfrm>
                  </p:grpSpPr>
                  <p:sp>
                    <p:nvSpPr>
                      <p:cNvPr id="448" name="Oval 85"/>
                      <p:cNvSpPr/>
                      <p:nvPr/>
                    </p:nvSpPr>
                    <p:spPr>
                      <a:xfrm>
                        <a:off x="962640" y="3833280"/>
                        <a:ext cx="1027440" cy="49932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9" name="Text Box 86"/>
                      <p:cNvSpPr/>
                      <p:nvPr/>
                    </p:nvSpPr>
                    <p:spPr>
                      <a:xfrm>
                        <a:off x="891360" y="3902400"/>
                        <a:ext cx="1155600" cy="318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ar-SA" sz="1400" spc="-1" strike="noStrike">
                            <a:solidFill>
                              <a:srgbClr val="ff3399"/>
                            </a:solidFill>
                            <a:latin typeface="Perpetua"/>
                            <a:cs typeface="Times New Roman"/>
                          </a:rPr>
                          <a:t>اسم المدربة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0" name="Group 87"/>
                    <p:cNvGrpSpPr/>
                    <p:nvPr/>
                  </p:nvGrpSpPr>
                  <p:grpSpPr>
                    <a:xfrm>
                      <a:off x="762840" y="3264480"/>
                      <a:ext cx="1155960" cy="499320"/>
                      <a:chOff x="762840" y="3264480"/>
                      <a:chExt cx="1155960" cy="499320"/>
                    </a:xfrm>
                  </p:grpSpPr>
                  <p:sp>
                    <p:nvSpPr>
                      <p:cNvPr id="451" name="Oval 88"/>
                      <p:cNvSpPr/>
                      <p:nvPr/>
                    </p:nvSpPr>
                    <p:spPr>
                      <a:xfrm>
                        <a:off x="834120" y="3264480"/>
                        <a:ext cx="1027800" cy="49932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2" name="Text Box 89"/>
                      <p:cNvSpPr/>
                      <p:nvPr/>
                    </p:nvSpPr>
                    <p:spPr>
                      <a:xfrm>
                        <a:off x="762840" y="3333600"/>
                        <a:ext cx="1155960" cy="318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ar-SA" sz="1400" spc="-1" strike="noStrike">
                            <a:solidFill>
                              <a:srgbClr val="ff3399"/>
                            </a:solidFill>
                            <a:latin typeface="Perpetua"/>
                            <a:cs typeface="Times New Roman"/>
                          </a:rPr>
                          <a:t>التخصص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3" name="Group 90"/>
                    <p:cNvGrpSpPr/>
                    <p:nvPr/>
                  </p:nvGrpSpPr>
                  <p:grpSpPr>
                    <a:xfrm>
                      <a:off x="677520" y="2723760"/>
                      <a:ext cx="1155960" cy="499320"/>
                      <a:chOff x="677520" y="2723760"/>
                      <a:chExt cx="1155960" cy="499320"/>
                    </a:xfrm>
                  </p:grpSpPr>
                  <p:sp>
                    <p:nvSpPr>
                      <p:cNvPr id="454" name="Oval 91"/>
                      <p:cNvSpPr/>
                      <p:nvPr/>
                    </p:nvSpPr>
                    <p:spPr>
                      <a:xfrm>
                        <a:off x="748800" y="2723760"/>
                        <a:ext cx="1027800" cy="49932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5" name="Text Box 92"/>
                      <p:cNvSpPr/>
                      <p:nvPr/>
                    </p:nvSpPr>
                    <p:spPr>
                      <a:xfrm>
                        <a:off x="677520" y="2792880"/>
                        <a:ext cx="1155960" cy="318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ar-SA" sz="1400" spc="-1" strike="noStrike">
                            <a:solidFill>
                              <a:srgbClr val="ff3399"/>
                            </a:solidFill>
                            <a:latin typeface="Perpetua"/>
                            <a:cs typeface="Times New Roman"/>
                          </a:rPr>
                          <a:t>مصدر التخصص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6" name="Group 93"/>
                    <p:cNvGrpSpPr/>
                    <p:nvPr/>
                  </p:nvGrpSpPr>
                  <p:grpSpPr>
                    <a:xfrm>
                      <a:off x="1405080" y="2335320"/>
                      <a:ext cx="1155600" cy="499320"/>
                      <a:chOff x="1405080" y="2335320"/>
                      <a:chExt cx="1155600" cy="499320"/>
                    </a:xfrm>
                  </p:grpSpPr>
                  <p:sp>
                    <p:nvSpPr>
                      <p:cNvPr id="457" name="Oval 94"/>
                      <p:cNvSpPr/>
                      <p:nvPr/>
                    </p:nvSpPr>
                    <p:spPr>
                      <a:xfrm>
                        <a:off x="1476360" y="2335320"/>
                        <a:ext cx="1027440" cy="49932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8" name="Text Box 95"/>
                      <p:cNvSpPr/>
                      <p:nvPr/>
                    </p:nvSpPr>
                    <p:spPr>
                      <a:xfrm>
                        <a:off x="1405080" y="2404440"/>
                        <a:ext cx="1155600" cy="318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ar-SA" sz="1400" spc="-1" strike="noStrike">
                            <a:solidFill>
                              <a:srgbClr val="ff3399"/>
                            </a:solidFill>
                            <a:latin typeface="Perpetua"/>
                            <a:cs typeface="Times New Roman"/>
                          </a:rPr>
                          <a:t>السكن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59" name="Line 96"/>
                    <p:cNvSpPr/>
                    <p:nvPr/>
                  </p:nvSpPr>
                  <p:spPr>
                    <a:xfrm flipV="1">
                      <a:off x="2175840" y="3972240"/>
                      <a:ext cx="256680" cy="235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Line 97"/>
                    <p:cNvSpPr/>
                    <p:nvPr/>
                  </p:nvSpPr>
                  <p:spPr>
                    <a:xfrm flipV="1">
                      <a:off x="1662120" y="3708360"/>
                      <a:ext cx="385200" cy="124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Line 98"/>
                    <p:cNvSpPr/>
                    <p:nvPr/>
                  </p:nvSpPr>
                  <p:spPr>
                    <a:xfrm>
                      <a:off x="1790640" y="3458880"/>
                      <a:ext cx="256680" cy="124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Line 99"/>
                    <p:cNvSpPr/>
                    <p:nvPr/>
                  </p:nvSpPr>
                  <p:spPr>
                    <a:xfrm>
                      <a:off x="1733400" y="3070440"/>
                      <a:ext cx="385200" cy="249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Line 100"/>
                    <p:cNvSpPr/>
                    <p:nvPr/>
                  </p:nvSpPr>
                  <p:spPr>
                    <a:xfrm>
                      <a:off x="2047320" y="2834640"/>
                      <a:ext cx="256680" cy="499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Line 101"/>
                    <p:cNvSpPr/>
                    <p:nvPr/>
                  </p:nvSpPr>
                  <p:spPr>
                    <a:xfrm flipH="1">
                      <a:off x="2689560" y="3209040"/>
                      <a:ext cx="128160" cy="124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5" name="Oval 102"/>
                  <p:cNvSpPr/>
                  <p:nvPr/>
                </p:nvSpPr>
                <p:spPr>
                  <a:xfrm>
                    <a:off x="457200" y="4500720"/>
                    <a:ext cx="898920" cy="3744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1400" spc="-1" strike="noStrike">
                        <a:solidFill>
                          <a:srgbClr val="ff3399"/>
                        </a:solidFill>
                        <a:latin typeface="Perpetua"/>
                        <a:cs typeface="Times New Roman"/>
                      </a:rPr>
                      <a:t>الأول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103"/>
                  <p:cNvSpPr/>
                  <p:nvPr/>
                </p:nvSpPr>
                <p:spPr>
                  <a:xfrm flipV="1">
                    <a:off x="970920" y="4223160"/>
                    <a:ext cx="70920" cy="27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104"/>
                  <p:cNvSpPr/>
                  <p:nvPr/>
                </p:nvSpPr>
                <p:spPr>
                  <a:xfrm flipV="1">
                    <a:off x="1470240" y="4333680"/>
                    <a:ext cx="0" cy="54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Oval 105"/>
                  <p:cNvSpPr/>
                  <p:nvPr/>
                </p:nvSpPr>
                <p:spPr>
                  <a:xfrm>
                    <a:off x="727920" y="4861440"/>
                    <a:ext cx="898920" cy="3744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1400" spc="-1" strike="noStrike">
                        <a:solidFill>
                          <a:srgbClr val="ff3399"/>
                        </a:solidFill>
                        <a:latin typeface="Perpetua"/>
                        <a:cs typeface="Times New Roman"/>
                      </a:rPr>
                      <a:t>الأب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Line 106"/>
                  <p:cNvSpPr/>
                  <p:nvPr/>
                </p:nvSpPr>
                <p:spPr>
                  <a:xfrm flipH="1" flipV="1">
                    <a:off x="1612800" y="4320000"/>
                    <a:ext cx="385200" cy="499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Oval 107"/>
                  <p:cNvSpPr/>
                  <p:nvPr/>
                </p:nvSpPr>
                <p:spPr>
                  <a:xfrm>
                    <a:off x="1655640" y="4805640"/>
                    <a:ext cx="898920" cy="3744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1400" spc="-1" strike="noStrike">
                        <a:solidFill>
                          <a:srgbClr val="ff3399"/>
                        </a:solidFill>
                        <a:latin typeface="Perpetua"/>
                        <a:cs typeface="Times New Roman"/>
                      </a:rPr>
                      <a:t>العائلة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71" name="Text Box 108"/>
            <p:cNvSpPr/>
            <p:nvPr/>
          </p:nvSpPr>
          <p:spPr>
            <a:xfrm>
              <a:off x="6336720" y="2128680"/>
              <a:ext cx="513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ff3399"/>
                  </a:solidFill>
                  <a:latin typeface="Perpetua"/>
                  <a:cs typeface="Times New Roman"/>
                </a:rPr>
                <a:t>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109"/>
            <p:cNvSpPr/>
            <p:nvPr/>
          </p:nvSpPr>
          <p:spPr>
            <a:xfrm>
              <a:off x="6179760" y="3654360"/>
              <a:ext cx="513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ff3399"/>
                  </a:solidFill>
                  <a:latin typeface="Perpetua"/>
                  <a:cs typeface="Times New Roman"/>
                </a:rPr>
                <a:t>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10"/>
            <p:cNvSpPr/>
            <p:nvPr/>
          </p:nvSpPr>
          <p:spPr>
            <a:xfrm>
              <a:off x="3511080" y="3917880"/>
              <a:ext cx="513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ff3399"/>
                  </a:solidFill>
                  <a:latin typeface="Perpetua"/>
                  <a:cs typeface="Times New Roman"/>
                </a:rPr>
                <a:t>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111"/>
            <p:cNvSpPr/>
            <p:nvPr/>
          </p:nvSpPr>
          <p:spPr>
            <a:xfrm>
              <a:off x="4824000" y="4473000"/>
              <a:ext cx="513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ff3399"/>
                  </a:solidFill>
                  <a:latin typeface="Perpetua"/>
                  <a:cs typeface="Times New Roman"/>
                </a:rPr>
                <a:t>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112"/>
            <p:cNvSpPr/>
            <p:nvPr/>
          </p:nvSpPr>
          <p:spPr>
            <a:xfrm>
              <a:off x="4110480" y="2877840"/>
              <a:ext cx="513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ff3399"/>
                  </a:solidFill>
                  <a:latin typeface="Perpetua"/>
                  <a:cs typeface="Times New Roman"/>
                </a:rPr>
                <a:t>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13"/>
            <p:cNvSpPr/>
            <p:nvPr/>
          </p:nvSpPr>
          <p:spPr>
            <a:xfrm>
              <a:off x="5081040" y="2211840"/>
              <a:ext cx="513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ff3399"/>
                  </a:solidFill>
                  <a:latin typeface="Perpetua"/>
                  <a:cs typeface="Times New Roman"/>
                </a:rPr>
                <a:t>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1371600" y="2742840"/>
            <a:ext cx="7122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5f55"/>
                </a:solidFill>
                <a:latin typeface="Tw Cen MT"/>
              </a:rPr>
              <a:t>A company wants to create a database to store information about: Employee, Department and Project. The following information is to be included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775f55"/>
                </a:solidFill>
                <a:latin typeface="Tw Cen MT"/>
              </a:rPr>
              <a:t>Employee: E-id, name, address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775f55"/>
                </a:solidFill>
                <a:latin typeface="Tw Cen MT"/>
              </a:rPr>
              <a:t>Department: id, name, telephone, number of employe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775f55"/>
                </a:solidFill>
                <a:latin typeface="Tw Cen MT"/>
              </a:rPr>
              <a:t>Project: id, nam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1" lang="en-US" sz="2000" spc="-1" strike="noStrike">
                <a:solidFill>
                  <a:srgbClr val="775f55"/>
                </a:solidFill>
                <a:latin typeface="Tw Cen MT"/>
              </a:rPr>
              <a:t>Draw an ERD to present the following: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5f55"/>
                </a:solidFill>
                <a:latin typeface="Tw Cen MT"/>
              </a:rPr>
              <a:t>Employee must works for one departmen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5f55"/>
                </a:solidFill>
                <a:latin typeface="Tw Cen MT"/>
              </a:rPr>
              <a:t>Employee may participates in more than one projec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5f55"/>
                </a:solidFill>
                <a:latin typeface="Tw Cen MT"/>
              </a:rPr>
              <a:t>Each department should have at least projec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5f55"/>
                </a:solidFill>
                <a:latin typeface="Tw Cen MT"/>
              </a:rPr>
              <a:t>Each Project should belong to one departmen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nsw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0" name="مستطيل 3"/>
          <p:cNvSpPr/>
          <p:nvPr/>
        </p:nvSpPr>
        <p:spPr>
          <a:xfrm>
            <a:off x="1905120" y="2666880"/>
            <a:ext cx="1295280" cy="60984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مستطيل 4"/>
          <p:cNvSpPr/>
          <p:nvPr/>
        </p:nvSpPr>
        <p:spPr>
          <a:xfrm>
            <a:off x="5715000" y="2666880"/>
            <a:ext cx="1600200" cy="60984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مستطيل 5"/>
          <p:cNvSpPr/>
          <p:nvPr/>
        </p:nvSpPr>
        <p:spPr>
          <a:xfrm>
            <a:off x="4038480" y="4648320"/>
            <a:ext cx="1295640" cy="6094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معين 6"/>
          <p:cNvSpPr/>
          <p:nvPr/>
        </p:nvSpPr>
        <p:spPr>
          <a:xfrm>
            <a:off x="3962520" y="2666880"/>
            <a:ext cx="1257120" cy="685800"/>
          </a:xfrm>
          <a:prstGeom prst="diamond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w Cen MT"/>
              </a:rPr>
              <a:t>Works f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معين 7"/>
          <p:cNvSpPr/>
          <p:nvPr/>
        </p:nvSpPr>
        <p:spPr>
          <a:xfrm>
            <a:off x="1981080" y="3886200"/>
            <a:ext cx="1828800" cy="685800"/>
          </a:xfrm>
          <a:prstGeom prst="diamond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w Cen MT"/>
              </a:rPr>
              <a:t>particip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معين 8"/>
          <p:cNvSpPr/>
          <p:nvPr/>
        </p:nvSpPr>
        <p:spPr>
          <a:xfrm>
            <a:off x="5638680" y="3809880"/>
            <a:ext cx="1143000" cy="685800"/>
          </a:xfrm>
          <a:prstGeom prst="diamond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w Cen MT"/>
              </a:rPr>
              <a:t>h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شكل بيضاوي 9"/>
          <p:cNvSpPr/>
          <p:nvPr/>
        </p:nvSpPr>
        <p:spPr>
          <a:xfrm>
            <a:off x="2209680" y="1676520"/>
            <a:ext cx="685800" cy="5331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w Cen MT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شكل بيضاوي 11"/>
          <p:cNvSpPr/>
          <p:nvPr/>
        </p:nvSpPr>
        <p:spPr>
          <a:xfrm>
            <a:off x="838080" y="1676520"/>
            <a:ext cx="1067040" cy="5331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شكل بيضاوي 12"/>
          <p:cNvSpPr/>
          <p:nvPr/>
        </p:nvSpPr>
        <p:spPr>
          <a:xfrm>
            <a:off x="152280" y="2514600"/>
            <a:ext cx="1295640" cy="53352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بيضاوي 13"/>
          <p:cNvSpPr/>
          <p:nvPr/>
        </p:nvSpPr>
        <p:spPr>
          <a:xfrm>
            <a:off x="5638680" y="1676520"/>
            <a:ext cx="685800" cy="5331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w Cen MT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شكل بيضاوي 14"/>
          <p:cNvSpPr/>
          <p:nvPr/>
        </p:nvSpPr>
        <p:spPr>
          <a:xfrm>
            <a:off x="6477120" y="1676520"/>
            <a:ext cx="1066680" cy="5331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شكل بيضاوي 15"/>
          <p:cNvSpPr/>
          <p:nvPr/>
        </p:nvSpPr>
        <p:spPr>
          <a:xfrm>
            <a:off x="7391520" y="2057400"/>
            <a:ext cx="1600200" cy="60948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tele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شكل بيضاوي 16"/>
          <p:cNvSpPr/>
          <p:nvPr/>
        </p:nvSpPr>
        <p:spPr>
          <a:xfrm>
            <a:off x="5105520" y="5486400"/>
            <a:ext cx="685800" cy="53352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w Cen MT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شكل بيضاوي 17"/>
          <p:cNvSpPr/>
          <p:nvPr/>
        </p:nvSpPr>
        <p:spPr>
          <a:xfrm>
            <a:off x="3733920" y="5486400"/>
            <a:ext cx="1066680" cy="53352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شكل بيضاوي 18"/>
          <p:cNvSpPr/>
          <p:nvPr/>
        </p:nvSpPr>
        <p:spPr>
          <a:xfrm>
            <a:off x="3809880" y="1676520"/>
            <a:ext cx="1295640" cy="5331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w Cen MT"/>
              </a:rPr>
              <a:t>#employ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رابط مستقيم 20"/>
          <p:cNvSpPr/>
          <p:nvPr/>
        </p:nvSpPr>
        <p:spPr>
          <a:xfrm flipV="1">
            <a:off x="5219640" y="2971800"/>
            <a:ext cx="495360" cy="38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رابط مستقيم 22"/>
          <p:cNvSpPr/>
          <p:nvPr/>
        </p:nvSpPr>
        <p:spPr>
          <a:xfrm flipH="1" flipV="1">
            <a:off x="3200040" y="2971800"/>
            <a:ext cx="762120" cy="38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رابط مستقيم 24"/>
          <p:cNvSpPr/>
          <p:nvPr/>
        </p:nvSpPr>
        <p:spPr>
          <a:xfrm flipH="1" flipV="1">
            <a:off x="2819160" y="3276360"/>
            <a:ext cx="7596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رابط مستقيم 26"/>
          <p:cNvSpPr/>
          <p:nvPr/>
        </p:nvSpPr>
        <p:spPr>
          <a:xfrm>
            <a:off x="2895480" y="4572000"/>
            <a:ext cx="114300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رابط مستقيم 28"/>
          <p:cNvSpPr/>
          <p:nvPr/>
        </p:nvSpPr>
        <p:spPr>
          <a:xfrm flipV="1">
            <a:off x="6209640" y="3276360"/>
            <a:ext cx="30492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رابط مستقيم 30"/>
          <p:cNvSpPr/>
          <p:nvPr/>
        </p:nvSpPr>
        <p:spPr>
          <a:xfrm flipH="1">
            <a:off x="5334120" y="4495680"/>
            <a:ext cx="87624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رابط مستقيم 32"/>
          <p:cNvSpPr/>
          <p:nvPr/>
        </p:nvSpPr>
        <p:spPr>
          <a:xfrm>
            <a:off x="5981040" y="2209680"/>
            <a:ext cx="266760" cy="45720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رابط مستقيم 34"/>
          <p:cNvSpPr/>
          <p:nvPr/>
        </p:nvSpPr>
        <p:spPr>
          <a:xfrm flipH="1">
            <a:off x="6514920" y="2209680"/>
            <a:ext cx="495000" cy="45720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رابط مستقيم 36"/>
          <p:cNvSpPr/>
          <p:nvPr/>
        </p:nvSpPr>
        <p:spPr>
          <a:xfrm flipH="1">
            <a:off x="7315200" y="2577960"/>
            <a:ext cx="311040" cy="24156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رابط مستقيم 38"/>
          <p:cNvSpPr/>
          <p:nvPr/>
        </p:nvSpPr>
        <p:spPr>
          <a:xfrm>
            <a:off x="2552760" y="2209680"/>
            <a:ext cx="0" cy="45720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رابط مستقيم 40"/>
          <p:cNvSpPr/>
          <p:nvPr/>
        </p:nvSpPr>
        <p:spPr>
          <a:xfrm>
            <a:off x="1600200" y="2209680"/>
            <a:ext cx="380880" cy="45720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رابط مستقيم 42"/>
          <p:cNvSpPr/>
          <p:nvPr/>
        </p:nvSpPr>
        <p:spPr>
          <a:xfrm>
            <a:off x="1447920" y="2781360"/>
            <a:ext cx="457200" cy="19044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رابط مستقيم 44"/>
          <p:cNvSpPr/>
          <p:nvPr/>
        </p:nvSpPr>
        <p:spPr>
          <a:xfrm flipV="1">
            <a:off x="4267080" y="5257440"/>
            <a:ext cx="76320" cy="22860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رابط مستقيم 46"/>
          <p:cNvSpPr/>
          <p:nvPr/>
        </p:nvSpPr>
        <p:spPr>
          <a:xfrm flipH="1" flipV="1">
            <a:off x="5028840" y="5257440"/>
            <a:ext cx="304920" cy="22860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رابط مستقيم 48"/>
          <p:cNvSpPr/>
          <p:nvPr/>
        </p:nvSpPr>
        <p:spPr>
          <a:xfrm>
            <a:off x="4457880" y="2209680"/>
            <a:ext cx="1257120" cy="45720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رابط مستقيم 53"/>
          <p:cNvSpPr/>
          <p:nvPr/>
        </p:nvSpPr>
        <p:spPr>
          <a:xfrm flipH="1" flipV="1">
            <a:off x="3200040" y="281916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رابط مستقيم 55"/>
          <p:cNvSpPr/>
          <p:nvPr/>
        </p:nvSpPr>
        <p:spPr>
          <a:xfrm flipH="1">
            <a:off x="3200040" y="297108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رابط مستقيم 58"/>
          <p:cNvSpPr/>
          <p:nvPr/>
        </p:nvSpPr>
        <p:spPr>
          <a:xfrm flipH="1" flipV="1">
            <a:off x="5333760" y="480060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رابط مستقيم 60"/>
          <p:cNvSpPr/>
          <p:nvPr/>
        </p:nvSpPr>
        <p:spPr>
          <a:xfrm flipH="1">
            <a:off x="5333760" y="4876920"/>
            <a:ext cx="1522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رابط مستقيم 63"/>
          <p:cNvSpPr/>
          <p:nvPr/>
        </p:nvSpPr>
        <p:spPr>
          <a:xfrm>
            <a:off x="3885480" y="4876920"/>
            <a:ext cx="1522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رابط مستقيم 65"/>
          <p:cNvSpPr/>
          <p:nvPr/>
        </p:nvSpPr>
        <p:spPr>
          <a:xfrm flipV="1">
            <a:off x="3886200" y="480060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رابط مستقيم 69"/>
          <p:cNvSpPr/>
          <p:nvPr/>
        </p:nvSpPr>
        <p:spPr>
          <a:xfrm flipV="1">
            <a:off x="2895480" y="3276360"/>
            <a:ext cx="763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رابط مستقيم 71"/>
          <p:cNvSpPr/>
          <p:nvPr/>
        </p:nvSpPr>
        <p:spPr>
          <a:xfrm flipH="1" flipV="1">
            <a:off x="2666520" y="327636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-152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RD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FF8A-70B5-40B8-978F-75E175E2CC12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Content Placeholder 4" descr="er_diagram"/>
          <p:cNvPicPr/>
          <p:nvPr/>
        </p:nvPicPr>
        <p:blipFill>
          <a:blip r:embed="rId1"/>
          <a:srcRect l="453" t="12849" r="3283" b="9429"/>
          <a:stretch/>
        </p:blipFill>
        <p:spPr>
          <a:xfrm>
            <a:off x="457200" y="1273320"/>
            <a:ext cx="8001000" cy="5279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08:24:27Z</dcterms:created>
  <dc:creator>User</dc:creator>
  <dc:description/>
  <dc:language>en-US</dc:language>
  <cp:lastModifiedBy>User</cp:lastModifiedBy>
  <dcterms:modified xsi:type="dcterms:W3CDTF">2012-09-09T18:01:49Z</dcterms:modified>
  <cp:revision>3</cp:revision>
  <dc:subject/>
  <dc:title>Lecture #4</dc:title>
</cp:coreProperties>
</file>