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19A9-1EE2-48FE-9E61-3A0CD8AD3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loyee, Department,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loyee must works in one depart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loyee may participate in one or more pro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 has more than one employ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department should have one or mor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 should belong to one depart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4DB8-D9F3-4F8C-946E-301B4BA35A5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70AF-7F15-4D1A-B61F-192C984D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FCFF-6B05-4557-9535-33A0A56F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4B61-5FE0-4B8B-A6D2-A11CD06D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848-4DAB-4097-ADE7-4EE13108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BB8E-4140-4D66-8152-1A0E2D2E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11EB-0860-4885-8806-410DD8F3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B4E3-AF29-4CD9-BBD0-7B418DF0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6F5C-FA15-433C-8D31-B7CA56B5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4EB0-3148-4C80-A62C-0981DC76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5EA7-2D35-40F3-B81E-DE15038C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4DA2-424A-4D87-8381-21EB3190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AA11-BDE0-4834-B92D-2AD96914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43F6-ADAA-4753-BB56-FB065424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6536-A009-4E08-AEB5-4195CA67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0FE4-425E-43E1-9FB4-065F6EE9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0676-68A4-437B-A3D6-4A453F8D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344A-29C9-465D-94F5-6CACA6A9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6EA81-B5C6-402C-9BAA-C8E3440B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DE870-7AAC-4FC3-83C0-CDCBB76B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C457E-5E94-40AC-9ECF-D6342954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F9B6F-3E55-439C-9006-F6C4DAE4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EF4AF1-DF6E-4C68-A670-9F24F2FE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5E46-39F5-466F-8623-AAC33290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7077C0-A9C3-45E5-B099-36F9E0D0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5DE678-767A-4753-B815-0D309894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28441-DF2E-4B07-913C-F3491E5A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1D3CB-5ADD-4C09-AF26-EBE997EA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3D6A5-8780-4D54-AE14-E292333E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94F36A-0ECB-49D0-9EB3-79D40B11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7FE6D-CF8D-4925-9A04-C06F8B00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CA6402-74C1-41D6-8256-62C9C66C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F5B176-E9CE-4962-8319-F64D54C5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8B7026-E45C-4271-8DDA-2877EFBB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5D9D-5339-4320-9CE6-6801109D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5B4592-8815-4468-A26A-576C0413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B8D026-970E-4FD6-80AE-C274EC26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0ACFE8-3AC0-494E-AADC-3983DF52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E45CF7-46C2-41F5-B527-4A026720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058214-2A31-4943-8B7B-4400B724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63B4F3-0714-43C3-8E7D-9FE4FB73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B87493-5A1E-4795-B124-897F6861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11164B-7B42-460E-883C-96125CC8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E26357-C463-4475-BDB1-30F21438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000282-02AC-4BE6-9FA9-4D4C65D9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5606-8F63-4026-9EF6-8674D721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302D2-014E-42A3-82C2-E1AFCBFD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D9B674-0956-48C4-867E-551505E2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5A968-BA27-49B1-9139-B4E7A554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217934-A297-47CB-86B1-3EB0D21F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89CC2-3FEE-4346-8F5D-9CFCF0CA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5A7F8D-9CC6-48CE-8A9A-A30FEC08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0EDA22-46F9-4889-8CC6-20243AEB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A4BB36-257F-4078-9231-53ECBD05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BD4EDB-FF35-4C6B-89D7-4BB1E71E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6E32BD-85A5-4C1D-B3AF-5E594EE2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921F-121C-4978-9B8F-35C2AFBA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99865D-42BE-4733-8C56-4003CD3C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50F50-6211-4E19-8D53-48851CC1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50CFD-913C-4A97-A20A-F15190D3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5EDCE-4844-4C88-A037-FF05D209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FD7C2-1D3C-4293-A350-6DA6196C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1B6D4-8C71-4C3D-A4EC-7DC4DB95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6CE2B-BC13-4683-A8F6-D60CC1D2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2C89A-7C9D-4D64-991F-EAC1F8DB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B34D2-D8AA-4CDD-B10D-8EC7AF78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F9DFC-D2D0-4AB3-8178-0B64D349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C2F6-BA8F-4592-9E45-36B71CED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4EDA8-8F2F-41FF-A0E0-CA712F96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8C72A-909C-4759-AEBE-82A27F4F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2888D-D75C-4786-8639-41F9F30F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D6C83E-3D8D-4C5D-A931-E4611A14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DF1DE2-A665-4A38-B6E1-8AF841E0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C426C2-4F51-40B0-8942-DECE2F3C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0D72B0-689D-4C73-B7AC-5C9D5AC0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EEA65C-295E-48C8-8590-5E38B9F8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9C885E-797B-4F28-8E7A-1B0ED30D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A2A314-5AEC-4A58-9F02-C7E08166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784-1500-45F3-8EBB-9D9248B2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1CE681-F48E-41A5-9EC7-369AE1C8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92984E-49F3-44F1-97FE-01743373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66877A-F011-4221-A887-51D4A0BA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C59825-5FC0-4AA5-88BD-FD7C94FF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46619E-41B1-4D46-869D-44FB5F87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F00CC-954B-4D9A-8AF8-F9C05B97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98FD5-0471-447C-96EB-2278FF86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1C9B7-19B6-4974-9B2C-CAB8F39E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20DF6-0D96-43C6-8532-B1DE8FEC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68055-86C9-483C-999E-D45C3444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B736-7D36-49C2-80C1-40DDA829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AA0CD-DC70-4D96-9D44-3D397336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5D9B8-5C97-4783-BD40-52ADBA93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E9D08-BEBD-465A-972E-6A736A85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F2592-8339-4FD6-8031-6E1315C8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30DAA-9932-4C4A-B183-1BDDCA85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F92B4-70A2-4A3D-9AF8-0BCDECC1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30A78-9A18-4368-940F-1471030F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1E0A-5B16-416A-84EB-2ACD0B6ED3B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E1DC-FF2C-408A-85E6-9081EB0B14DD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06C1-C8A5-407B-9CBB-C0813339E680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B476-D6DF-4DF1-ADF1-65EF4351FB5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4039-B3CC-4E1D-8258-11F33C0C0B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0089-7EC1-4135-BCBF-BC6369A9F4C6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159C-A315-49C0-8C99-8E5756BA68FB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EEAF-A7A8-4B4F-BFBB-11CF17180D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LECTURE #4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w Cen MT"/>
              </a:rPr>
              <a:t>Er-Diagram</a:t>
            </a:r>
            <a:endParaRPr b="0" lang="en-US" sz="47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 algn="r" rtl="1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rial"/>
              </a:rPr>
              <a:t>هناك نوع من الـ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Entity</a:t>
            </a:r>
            <a:r>
              <a:rPr b="1" lang="ar-SA" sz="2800" spc="-1" strike="noStrike">
                <a:solidFill>
                  <a:srgbClr val="000000"/>
                </a:solidFill>
                <a:latin typeface="Tw Cen MT"/>
                <a:ea typeface="Arial"/>
              </a:rPr>
              <a:t> لا يستطيع أن يكون لنفسه مفتـــاح أساسي أو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Key attribute</a:t>
            </a:r>
            <a:r>
              <a:rPr b="1" lang="ar-SA" sz="2800" spc="-1" strike="noStrike">
                <a:solidFill>
                  <a:srgbClr val="000000"/>
                </a:solidFill>
                <a:latin typeface="Tw Cen MT"/>
                <a:ea typeface="Arial"/>
              </a:rPr>
              <a:t> ،، فمثل هذا الـ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w Cen MT"/>
                <a:ea typeface="Arial"/>
              </a:rPr>
              <a:t> يسمى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Weak Entity</a:t>
            </a:r>
            <a:r>
              <a:rPr b="1" lang="ar-SA" sz="2800" spc="-1" strike="noStrike">
                <a:solidFill>
                  <a:srgbClr val="000000"/>
                </a:solidFill>
                <a:latin typeface="Tw Cen MT"/>
                <a:ea typeface="Arial"/>
              </a:rPr>
              <a:t> أي ضعيف لا يستطيع أن يكون لنفسه مفتاح ،،، فمثلا هناك شركة تأمين السيارات لديها قاعدة بيانات مكونة من الأرك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ea typeface="Arial"/>
              </a:rPr>
              <a:t> (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Entities</a:t>
            </a:r>
            <a:r>
              <a:rPr b="1" lang="ar-SA" sz="2800" spc="-1" strike="noStrike">
                <a:solidFill>
                  <a:srgbClr val="000000"/>
                </a:solidFill>
                <a:latin typeface="Tw Cen MT"/>
                <a:ea typeface="Arial"/>
              </a:rPr>
              <a:t> ) التالية 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rial"/>
              </a:rPr>
              <a:t>السيارا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rial"/>
              </a:rPr>
              <a:t>العملاء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rial"/>
              </a:rPr>
              <a:t>الحوادث  </a:t>
            </a:r>
            <a:r>
              <a:rPr b="1" lang="ar-S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ar-SA" sz="2800" spc="-1" strike="noStrike">
                <a:solidFill>
                  <a:srgbClr val="000000"/>
                </a:solidFill>
                <a:latin typeface="Tw Cen MT"/>
                <a:ea typeface="Arial"/>
              </a:rPr>
              <a:t> فالحوادث هنا تعتبر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Weak Entity</a:t>
            </a:r>
            <a:r>
              <a:rPr b="1" lang="ar-SA" sz="2800" spc="-1" strike="noStrike">
                <a:solidFill>
                  <a:srgbClr val="000000"/>
                </a:solidFill>
                <a:latin typeface="Tw Cen MT"/>
                <a:ea typeface="Arial"/>
              </a:rPr>
              <a:t> لأن الحادث معرف بسيارة معينة ، أي أن الحادث لا يستطيع أن يُميز إلا بتميز السيارة التي حصل لها الحادث ،، والعلاقة التي بينها وبين السيارة تعتبر هي المعرفة للحادث فتسمى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Identifying relationship</a:t>
            </a:r>
            <a:r>
              <a:rPr b="1" lang="ar-SA" sz="2800" spc="-1" strike="noStrike">
                <a:solidFill>
                  <a:srgbClr val="000000"/>
                </a:solidFill>
                <a:latin typeface="Tw Cen MT"/>
                <a:ea typeface="Arial"/>
              </a:rPr>
              <a:t> ،، وأيضا الاشتراك بينها وبين العلاقة يعتبر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Tot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"/>
          <p:cNvGrpSpPr/>
          <p:nvPr/>
        </p:nvGrpSpPr>
        <p:grpSpPr>
          <a:xfrm>
            <a:off x="609480" y="457200"/>
            <a:ext cx="7963200" cy="5410080"/>
            <a:chOff x="609480" y="457200"/>
            <a:chExt cx="7963200" cy="5410080"/>
          </a:xfrm>
        </p:grpSpPr>
        <p:grpSp>
          <p:nvGrpSpPr>
            <p:cNvPr id="523" name="Group 5"/>
            <p:cNvGrpSpPr/>
            <p:nvPr/>
          </p:nvGrpSpPr>
          <p:grpSpPr>
            <a:xfrm>
              <a:off x="1633680" y="457200"/>
              <a:ext cx="5726880" cy="4976280"/>
              <a:chOff x="1633680" y="457200"/>
              <a:chExt cx="5726880" cy="4976280"/>
            </a:xfrm>
          </p:grpSpPr>
          <p:sp>
            <p:nvSpPr>
              <p:cNvPr id="524" name="Line 6"/>
              <p:cNvSpPr/>
              <p:nvPr/>
            </p:nvSpPr>
            <p:spPr>
              <a:xfrm>
                <a:off x="3061800" y="1921680"/>
                <a:ext cx="0" cy="80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7"/>
              <p:cNvSpPr/>
              <p:nvPr/>
            </p:nvSpPr>
            <p:spPr>
              <a:xfrm>
                <a:off x="5932440" y="2519640"/>
                <a:ext cx="1428120" cy="806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1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العمـــــلاء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8"/>
              <p:cNvSpPr/>
              <p:nvPr/>
            </p:nvSpPr>
            <p:spPr>
              <a:xfrm>
                <a:off x="2412720" y="3954240"/>
                <a:ext cx="1428120" cy="806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1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الحوادث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9"/>
              <p:cNvSpPr/>
              <p:nvPr/>
            </p:nvSpPr>
            <p:spPr>
              <a:xfrm>
                <a:off x="2412720" y="1129680"/>
                <a:ext cx="1428120" cy="806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1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السيارات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AutoShape 10"/>
              <p:cNvSpPr/>
              <p:nvPr/>
            </p:nvSpPr>
            <p:spPr>
              <a:xfrm>
                <a:off x="2542320" y="2609280"/>
                <a:ext cx="1038600" cy="941400"/>
              </a:xfrm>
              <a:prstGeom prst="flowChartDecisi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1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حدث لها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11"/>
              <p:cNvSpPr/>
              <p:nvPr/>
            </p:nvSpPr>
            <p:spPr>
              <a:xfrm>
                <a:off x="3061800" y="3550680"/>
                <a:ext cx="0" cy="403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12"/>
              <p:cNvSpPr/>
              <p:nvPr/>
            </p:nvSpPr>
            <p:spPr>
              <a:xfrm>
                <a:off x="2152800" y="5030280"/>
                <a:ext cx="1298160" cy="40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1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رقم الحادث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Perpetua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13"/>
              <p:cNvSpPr/>
              <p:nvPr/>
            </p:nvSpPr>
            <p:spPr>
              <a:xfrm>
                <a:off x="2801880" y="4761360"/>
                <a:ext cx="0" cy="26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14"/>
              <p:cNvSpPr/>
              <p:nvPr/>
            </p:nvSpPr>
            <p:spPr>
              <a:xfrm flipH="1">
                <a:off x="2383560" y="5314320"/>
                <a:ext cx="77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15"/>
              <p:cNvSpPr/>
              <p:nvPr/>
            </p:nvSpPr>
            <p:spPr>
              <a:xfrm>
                <a:off x="1633680" y="457200"/>
                <a:ext cx="1298160" cy="40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100" spc="-1" strike="noStrike" u="sng">
                    <a:solidFill>
                      <a:srgbClr val="000000"/>
                    </a:solidFill>
                    <a:uFillTx/>
                    <a:latin typeface="Perpetua"/>
                    <a:cs typeface="Times New Roman"/>
                  </a:rPr>
                  <a:t>رقم السيارة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16"/>
              <p:cNvSpPr/>
              <p:nvPr/>
            </p:nvSpPr>
            <p:spPr>
              <a:xfrm>
                <a:off x="2397960" y="860400"/>
                <a:ext cx="389520" cy="26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17"/>
            <p:cNvGrpSpPr/>
            <p:nvPr/>
          </p:nvGrpSpPr>
          <p:grpSpPr>
            <a:xfrm>
              <a:off x="4014000" y="4073760"/>
              <a:ext cx="4543920" cy="403200"/>
              <a:chOff x="4014000" y="4073760"/>
              <a:chExt cx="4543920" cy="403200"/>
            </a:xfrm>
          </p:grpSpPr>
          <p:sp>
            <p:nvSpPr>
              <p:cNvPr id="536" name="Text Box 18"/>
              <p:cNvSpPr/>
              <p:nvPr/>
            </p:nvSpPr>
            <p:spPr>
              <a:xfrm>
                <a:off x="4793040" y="4073760"/>
                <a:ext cx="3764880" cy="403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هذا هو الـ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Weak Entity</a:t>
                </a:r>
                <a:r>
                  <a:rPr b="1" lang="ar-SA" sz="1400" spc="-1" strike="noStrike">
                    <a:solidFill>
                      <a:srgbClr val="000000"/>
                    </a:solidFill>
                    <a:latin typeface="Perpetua"/>
                    <a:ea typeface="Times New Roman"/>
                  </a:rPr>
                  <a:t> ،، يمثل بمستطيل ذوخطين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19"/>
              <p:cNvSpPr/>
              <p:nvPr/>
            </p:nvSpPr>
            <p:spPr>
              <a:xfrm flipH="1">
                <a:off x="4014000" y="4312440"/>
                <a:ext cx="77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20"/>
            <p:cNvGrpSpPr/>
            <p:nvPr/>
          </p:nvGrpSpPr>
          <p:grpSpPr>
            <a:xfrm>
              <a:off x="3754080" y="4925880"/>
              <a:ext cx="4818600" cy="941400"/>
              <a:chOff x="3754080" y="4925880"/>
              <a:chExt cx="4818600" cy="941400"/>
            </a:xfrm>
          </p:grpSpPr>
          <p:sp>
            <p:nvSpPr>
              <p:cNvPr id="539" name="Text Box 21"/>
              <p:cNvSpPr/>
              <p:nvPr/>
            </p:nvSpPr>
            <p:spPr>
              <a:xfrm>
                <a:off x="4807440" y="4925880"/>
                <a:ext cx="3765240" cy="941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 rtl="1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رقم الحادث هنا سوف يكون له علاقة مع الـمفتاح الأساسي للسيارة (رقم السيارة) التي حصل لها هذه الحوادث ،، ويمثل بخط متقطع  ويسمى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Partial key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Perpetua"/>
                  </a:rPr>
                  <a:t> 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22"/>
              <p:cNvSpPr/>
              <p:nvPr/>
            </p:nvSpPr>
            <p:spPr>
              <a:xfrm flipH="1">
                <a:off x="3754080" y="5290200"/>
                <a:ext cx="103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" name="Group 23"/>
            <p:cNvGrpSpPr/>
            <p:nvPr/>
          </p:nvGrpSpPr>
          <p:grpSpPr>
            <a:xfrm>
              <a:off x="609480" y="2340360"/>
              <a:ext cx="2351520" cy="1329480"/>
              <a:chOff x="609480" y="2340360"/>
              <a:chExt cx="2351520" cy="1329480"/>
            </a:xfrm>
          </p:grpSpPr>
          <p:sp>
            <p:nvSpPr>
              <p:cNvPr id="542" name="Rectangle 24"/>
              <p:cNvSpPr/>
              <p:nvPr/>
            </p:nvSpPr>
            <p:spPr>
              <a:xfrm>
                <a:off x="609480" y="2340360"/>
                <a:ext cx="1688040" cy="941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 rtl="1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الاشتراك هنا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Tot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لأنه لا يوجد حادث بدون سيار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25"/>
              <p:cNvSpPr/>
              <p:nvPr/>
            </p:nvSpPr>
            <p:spPr>
              <a:xfrm>
                <a:off x="2268720" y="3266640"/>
                <a:ext cx="692280" cy="40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26"/>
            <p:cNvGrpSpPr/>
            <p:nvPr/>
          </p:nvGrpSpPr>
          <p:grpSpPr>
            <a:xfrm>
              <a:off x="3653280" y="1293840"/>
              <a:ext cx="3765240" cy="1464480"/>
              <a:chOff x="3653280" y="1293840"/>
              <a:chExt cx="3765240" cy="1464480"/>
            </a:xfrm>
          </p:grpSpPr>
          <p:sp>
            <p:nvSpPr>
              <p:cNvPr id="545" name="Rectangle 27"/>
              <p:cNvSpPr/>
              <p:nvPr/>
            </p:nvSpPr>
            <p:spPr>
              <a:xfrm>
                <a:off x="4432320" y="1293840"/>
                <a:ext cx="2986200" cy="807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 rtl="1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العلاقة هنا تمثل بشكل معين ذو خطين ،، يسمى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Identifying relationshi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28"/>
              <p:cNvSpPr/>
              <p:nvPr/>
            </p:nvSpPr>
            <p:spPr>
              <a:xfrm flipH="1">
                <a:off x="3653280" y="2085840"/>
                <a:ext cx="779040" cy="67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33"/>
                </a:solidFill>
                <a:latin typeface="Tw Cen MT"/>
                <a:cs typeface="Arial"/>
              </a:rPr>
              <a:t>وضع اشتراكات</a:t>
            </a:r>
            <a:br>
              <a:rPr sz="4000"/>
            </a:br>
            <a:r>
              <a:rPr b="1" lang="ar-SA" sz="4000" spc="-1" strike="noStrike">
                <a:solidFill>
                  <a:srgbClr val="ccff33"/>
                </a:solidFill>
                <a:latin typeface="Tw Cen MT"/>
                <a:ea typeface="Arial"/>
              </a:rPr>
              <a:t> </a:t>
            </a:r>
            <a:r>
              <a:rPr b="1" lang="en-US" sz="4000" spc="-1" strike="noStrike">
                <a:solidFill>
                  <a:srgbClr val="ccff33"/>
                </a:solidFill>
                <a:latin typeface="Tw Cen MT"/>
              </a:rPr>
              <a:t>Participation Constraints</a:t>
            </a:r>
            <a:r>
              <a:rPr b="1" lang="ar-SA" sz="4000" spc="-1" strike="noStrike">
                <a:solidFill>
                  <a:srgbClr val="ccff33"/>
                </a:solidFill>
                <a:latin typeface="Tw Cen MT"/>
                <a:ea typeface="Arial"/>
              </a:rPr>
              <a:t> :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يوجد لدينا نوعين من الاشتراكات الأول يسمى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Partial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 والثاني يسمى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Total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 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Partial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: يوجد احتمال للصفر في العلاقة بين الـ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tities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Total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:   لا يسمح بوجود الصفر في العلاقة بين الـ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tities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Tw Cen MT"/>
              </a:rPr>
              <a:t>Participation Constrai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64600" indent="-264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3399"/>
                </a:solidFill>
                <a:latin typeface="Tw Cen MT"/>
                <a:cs typeface="Arial"/>
              </a:rPr>
              <a:t>السؤال الأول : هل هناك احتمال أن المدربة لا يوجد لديها متدربات ؟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3399"/>
                </a:solidFill>
                <a:latin typeface="Tw Cen MT"/>
                <a:cs typeface="Arial"/>
              </a:rPr>
              <a:t>السؤال الثاني : هل هناك احتمال أن المتدربة لا يوجد مدربة تدربها ؟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w Cen MT"/>
                <a:cs typeface="Arial"/>
              </a:rPr>
              <a:t>جواب السؤال الأول 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w Cen MT"/>
                <a:cs typeface="Arial"/>
              </a:rPr>
              <a:t>احتمال أن توجد مدربة ليس لديها أي متدربة ،، اي أن هناك احتمال للصفر عند المدربات فالعلاقة تكون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Partial</a:t>
            </a:r>
            <a:r>
              <a:rPr b="1" lang="ar-SA" sz="2700" spc="-1" strike="noStrike">
                <a:solidFill>
                  <a:srgbClr val="000000"/>
                </a:solidFill>
                <a:latin typeface="Tw Cen MT"/>
                <a:ea typeface="Arial"/>
              </a:rPr>
              <a:t> وتمثل في التصميم بخط واحد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w Cen MT"/>
                <a:cs typeface="Arial"/>
              </a:rPr>
              <a:t>جواب السؤال الثاني 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w Cen MT"/>
                <a:cs typeface="Arial"/>
              </a:rPr>
              <a:t>لا يمكن أن تكون متدربة بدون مدربة تقوم بتدريبها ،، أي أن احتمال الصفر غير موجود أو لا يسمح بوجود الصفر عند المتدربات فالعلاقة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Total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ar-SA" sz="2700" spc="-1" strike="noStrike">
                <a:solidFill>
                  <a:srgbClr val="000000"/>
                </a:solidFill>
                <a:latin typeface="Tw Cen MT"/>
                <a:ea typeface="Arial"/>
              </a:rPr>
              <a:t> وتمثل في التصميم بخطين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Tw Cen MT"/>
              </a:rPr>
              <a:t>Participation Constrai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64600" indent="-264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ccff33"/>
                </a:solidFill>
                <a:latin typeface="Tw Cen MT"/>
                <a:cs typeface="Arial"/>
              </a:rPr>
              <a:t>المدربات يدربن على دورات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3399"/>
                </a:solidFill>
                <a:latin typeface="Tw Cen MT"/>
                <a:cs typeface="Arial"/>
              </a:rPr>
              <a:t>السؤال الأول : هل هناك احتمال أن المدربة لا يوجد لديها دورات ؟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3399"/>
                </a:solidFill>
                <a:latin typeface="Tw Cen MT"/>
                <a:cs typeface="Arial"/>
              </a:rPr>
              <a:t>السؤال الثاني : هل هناك احتمال أن تقام دورة من دون مدربات ؟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جواب السؤال الأول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احتمال أن توجد مدربة ليس لديها دورة  ،، أي أن احتمال الصفر وارد عند المدربات فالعلاقة تكون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Partial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 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جواب السؤال الثاني 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لا يمكن أن تقام دورة من غير وجود مدربات ،، أي لا يسمح بوجود الصفر عند الدورات فالعلاقة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Total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 .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Tw Cen MT"/>
              </a:rPr>
              <a:t>Participation Constrai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ccff33"/>
                </a:solidFill>
                <a:latin typeface="Tw Cen MT"/>
                <a:cs typeface="Arial"/>
              </a:rPr>
              <a:t>المتدربات يأخذن دورات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3399"/>
                </a:solidFill>
                <a:latin typeface="Tw Cen MT"/>
                <a:cs typeface="Arial"/>
              </a:rPr>
              <a:t>السؤال الأول : هل هناك احتمال وجود متدربة من غير دورة ؟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3399"/>
                </a:solidFill>
                <a:latin typeface="Tw Cen MT"/>
                <a:cs typeface="Arial"/>
              </a:rPr>
              <a:t>السؤال الثاني : هل هناك احتمال وجود دورة من غير وجود متدربة ؟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جواب السؤال الأول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لا يمكن وجود متدربة بدون دورة ،، أي لا يسمح بوجود الصفر عند المتدربات ،، فالعلاقة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Total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 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جواب السؤال الثاني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لا يمكن وجود دورة من غير متدربة ،، أي لا يسمح بوجود الصفر عند الدورات ،، فالعلاقة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Total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 .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"/>
          <p:cNvGrpSpPr/>
          <p:nvPr/>
        </p:nvGrpSpPr>
        <p:grpSpPr>
          <a:xfrm>
            <a:off x="457200" y="380880"/>
            <a:ext cx="8312040" cy="5866920"/>
            <a:chOff x="457200" y="380880"/>
            <a:chExt cx="8312040" cy="5866920"/>
          </a:xfrm>
        </p:grpSpPr>
        <p:grpSp>
          <p:nvGrpSpPr>
            <p:cNvPr id="368" name="Group 5"/>
            <p:cNvGrpSpPr/>
            <p:nvPr/>
          </p:nvGrpSpPr>
          <p:grpSpPr>
            <a:xfrm>
              <a:off x="457200" y="380880"/>
              <a:ext cx="8312040" cy="5866920"/>
              <a:chOff x="457200" y="380880"/>
              <a:chExt cx="8312040" cy="5866920"/>
            </a:xfrm>
          </p:grpSpPr>
          <p:grpSp>
            <p:nvGrpSpPr>
              <p:cNvPr id="369" name="Group 6"/>
              <p:cNvGrpSpPr/>
              <p:nvPr/>
            </p:nvGrpSpPr>
            <p:grpSpPr>
              <a:xfrm>
                <a:off x="3117960" y="1595880"/>
                <a:ext cx="4099320" cy="3245760"/>
                <a:chOff x="3117960" y="1595880"/>
                <a:chExt cx="4099320" cy="3245760"/>
              </a:xfrm>
            </p:grpSpPr>
            <p:grpSp>
              <p:nvGrpSpPr>
                <p:cNvPr id="370" name="Group 7"/>
                <p:cNvGrpSpPr/>
                <p:nvPr/>
              </p:nvGrpSpPr>
              <p:grpSpPr>
                <a:xfrm>
                  <a:off x="3374280" y="1616040"/>
                  <a:ext cx="2826000" cy="1977120"/>
                  <a:chOff x="3374280" y="1616040"/>
                  <a:chExt cx="2826000" cy="1977120"/>
                </a:xfrm>
              </p:grpSpPr>
              <p:grpSp>
                <p:nvGrpSpPr>
                  <p:cNvPr id="371" name="Group 8"/>
                  <p:cNvGrpSpPr/>
                  <p:nvPr/>
                </p:nvGrpSpPr>
                <p:grpSpPr>
                  <a:xfrm>
                    <a:off x="4659120" y="2594160"/>
                    <a:ext cx="898920" cy="748800"/>
                    <a:chOff x="4659120" y="2594160"/>
                    <a:chExt cx="898920" cy="748800"/>
                  </a:xfrm>
                </p:grpSpPr>
                <p:sp>
                  <p:nvSpPr>
                    <p:cNvPr id="372" name="AutoShape 9"/>
                    <p:cNvSpPr/>
                    <p:nvPr/>
                  </p:nvSpPr>
                  <p:spPr>
                    <a:xfrm>
                      <a:off x="4659120" y="2594160"/>
                      <a:ext cx="898920" cy="748800"/>
                    </a:xfrm>
                    <a:prstGeom prst="diamond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Text Box 10"/>
                    <p:cNvSpPr/>
                    <p:nvPr/>
                  </p:nvSpPr>
                  <p:spPr>
                    <a:xfrm>
                      <a:off x="4701600" y="2801880"/>
                      <a:ext cx="770760" cy="374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3399"/>
                          </a:solidFill>
                          <a:latin typeface="Perpetua"/>
                          <a:cs typeface="Times New Roman"/>
                        </a:rPr>
                        <a:t>يدرب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Line 11"/>
                  <p:cNvSpPr/>
                  <p:nvPr/>
                </p:nvSpPr>
                <p:spPr>
                  <a:xfrm flipV="1">
                    <a:off x="5301360" y="1616040"/>
                    <a:ext cx="898920" cy="1123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Line 12"/>
                  <p:cNvSpPr/>
                  <p:nvPr/>
                </p:nvSpPr>
                <p:spPr>
                  <a:xfrm flipH="1">
                    <a:off x="3374280" y="3093840"/>
                    <a:ext cx="1413000" cy="499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Group 13"/>
                <p:cNvGrpSpPr/>
                <p:nvPr/>
              </p:nvGrpSpPr>
              <p:grpSpPr>
                <a:xfrm>
                  <a:off x="3117960" y="3967920"/>
                  <a:ext cx="2697120" cy="873720"/>
                  <a:chOff x="3117960" y="3967920"/>
                  <a:chExt cx="2697120" cy="873720"/>
                </a:xfrm>
              </p:grpSpPr>
              <p:grpSp>
                <p:nvGrpSpPr>
                  <p:cNvPr id="377" name="Group 14"/>
                  <p:cNvGrpSpPr/>
                  <p:nvPr/>
                </p:nvGrpSpPr>
                <p:grpSpPr>
                  <a:xfrm>
                    <a:off x="3888360" y="3967920"/>
                    <a:ext cx="898920" cy="831960"/>
                    <a:chOff x="3888360" y="3967920"/>
                    <a:chExt cx="898920" cy="831960"/>
                  </a:xfrm>
                </p:grpSpPr>
                <p:sp>
                  <p:nvSpPr>
                    <p:cNvPr id="378" name="AutoShape 15"/>
                    <p:cNvSpPr/>
                    <p:nvPr/>
                  </p:nvSpPr>
                  <p:spPr>
                    <a:xfrm>
                      <a:off x="3888360" y="3967920"/>
                      <a:ext cx="898920" cy="831960"/>
                    </a:xfrm>
                    <a:prstGeom prst="diamond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Text Box 16"/>
                    <p:cNvSpPr/>
                    <p:nvPr/>
                  </p:nvSpPr>
                  <p:spPr>
                    <a:xfrm>
                      <a:off x="3931200" y="4217400"/>
                      <a:ext cx="813240" cy="416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3399"/>
                          </a:solidFill>
                          <a:latin typeface="Perpetua"/>
                          <a:cs typeface="Times New Roman"/>
                        </a:rPr>
                        <a:t>يدربن عل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0" name="Line 17"/>
                  <p:cNvSpPr/>
                  <p:nvPr/>
                </p:nvSpPr>
                <p:spPr>
                  <a:xfrm flipH="1" flipV="1">
                    <a:off x="3117960" y="3967920"/>
                    <a:ext cx="770400" cy="37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Line 18"/>
                  <p:cNvSpPr/>
                  <p:nvPr/>
                </p:nvSpPr>
                <p:spPr>
                  <a:xfrm>
                    <a:off x="4787640" y="4342320"/>
                    <a:ext cx="1027440" cy="499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Group 19"/>
                <p:cNvGrpSpPr/>
                <p:nvPr/>
              </p:nvGrpSpPr>
              <p:grpSpPr>
                <a:xfrm>
                  <a:off x="6318360" y="1595880"/>
                  <a:ext cx="898920" cy="3245760"/>
                  <a:chOff x="6318360" y="1595880"/>
                  <a:chExt cx="898920" cy="3245760"/>
                </a:xfrm>
              </p:grpSpPr>
              <p:grpSp>
                <p:nvGrpSpPr>
                  <p:cNvPr id="383" name="Group 20"/>
                  <p:cNvGrpSpPr/>
                  <p:nvPr/>
                </p:nvGrpSpPr>
                <p:grpSpPr>
                  <a:xfrm>
                    <a:off x="6318360" y="2615400"/>
                    <a:ext cx="898920" cy="831960"/>
                    <a:chOff x="6318360" y="2615400"/>
                    <a:chExt cx="898920" cy="831960"/>
                  </a:xfrm>
                </p:grpSpPr>
                <p:sp>
                  <p:nvSpPr>
                    <p:cNvPr id="384" name="AutoShape 21"/>
                    <p:cNvSpPr/>
                    <p:nvPr/>
                  </p:nvSpPr>
                  <p:spPr>
                    <a:xfrm>
                      <a:off x="6318360" y="2615400"/>
                      <a:ext cx="898920" cy="831960"/>
                    </a:xfrm>
                    <a:prstGeom prst="diamond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Text Box 22"/>
                    <p:cNvSpPr/>
                    <p:nvPr/>
                  </p:nvSpPr>
                  <p:spPr>
                    <a:xfrm>
                      <a:off x="6361200" y="2864880"/>
                      <a:ext cx="813240" cy="416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3399"/>
                          </a:solidFill>
                          <a:latin typeface="Perpetua"/>
                          <a:cs typeface="Times New Roman"/>
                        </a:rPr>
                        <a:t>يأخذ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6" name="Line 23"/>
                  <p:cNvSpPr/>
                  <p:nvPr/>
                </p:nvSpPr>
                <p:spPr>
                  <a:xfrm>
                    <a:off x="6756840" y="1595880"/>
                    <a:ext cx="0" cy="998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Line 24"/>
                  <p:cNvSpPr/>
                  <p:nvPr/>
                </p:nvSpPr>
                <p:spPr>
                  <a:xfrm flipH="1">
                    <a:off x="6329160" y="3416400"/>
                    <a:ext cx="438480" cy="1425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8" name="Group 25"/>
              <p:cNvGrpSpPr/>
              <p:nvPr/>
            </p:nvGrpSpPr>
            <p:grpSpPr>
              <a:xfrm>
                <a:off x="457200" y="380880"/>
                <a:ext cx="8312040" cy="5866920"/>
                <a:chOff x="457200" y="380880"/>
                <a:chExt cx="8312040" cy="5866920"/>
              </a:xfrm>
            </p:grpSpPr>
            <p:grpSp>
              <p:nvGrpSpPr>
                <p:cNvPr id="389" name="Group 26"/>
                <p:cNvGrpSpPr/>
                <p:nvPr/>
              </p:nvGrpSpPr>
              <p:grpSpPr>
                <a:xfrm>
                  <a:off x="4402440" y="4861440"/>
                  <a:ext cx="4366800" cy="1386360"/>
                  <a:chOff x="4402440" y="4861440"/>
                  <a:chExt cx="4366800" cy="1386360"/>
                </a:xfrm>
              </p:grpSpPr>
              <p:grpSp>
                <p:nvGrpSpPr>
                  <p:cNvPr id="390" name="Group 27"/>
                  <p:cNvGrpSpPr/>
                  <p:nvPr/>
                </p:nvGrpSpPr>
                <p:grpSpPr>
                  <a:xfrm>
                    <a:off x="5815080" y="4861440"/>
                    <a:ext cx="1284120" cy="624240"/>
                    <a:chOff x="5815080" y="4861440"/>
                    <a:chExt cx="1284120" cy="624240"/>
                  </a:xfrm>
                </p:grpSpPr>
                <p:sp>
                  <p:nvSpPr>
                    <p:cNvPr id="391" name="Rectangle 28"/>
                    <p:cNvSpPr/>
                    <p:nvPr/>
                  </p:nvSpPr>
                  <p:spPr>
                    <a:xfrm>
                      <a:off x="5815080" y="4861440"/>
                      <a:ext cx="1284120" cy="6242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Text Box 29"/>
                    <p:cNvSpPr/>
                    <p:nvPr/>
                  </p:nvSpPr>
                  <p:spPr>
                    <a:xfrm>
                      <a:off x="6071760" y="5013720"/>
                      <a:ext cx="770400" cy="374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3399"/>
                          </a:solidFill>
                          <a:latin typeface="Perpetua"/>
                          <a:cs typeface="Times New Roman"/>
                        </a:rPr>
                        <a:t>الدور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Group 30"/>
                  <p:cNvGrpSpPr/>
                  <p:nvPr/>
                </p:nvGrpSpPr>
                <p:grpSpPr>
                  <a:xfrm>
                    <a:off x="4402440" y="5485680"/>
                    <a:ext cx="1155960" cy="499320"/>
                    <a:chOff x="4402440" y="5485680"/>
                    <a:chExt cx="1155960" cy="499320"/>
                  </a:xfrm>
                </p:grpSpPr>
                <p:sp>
                  <p:nvSpPr>
                    <p:cNvPr id="394" name="Oval 31"/>
                    <p:cNvSpPr/>
                    <p:nvPr/>
                  </p:nvSpPr>
                  <p:spPr>
                    <a:xfrm>
                      <a:off x="4473720" y="5485680"/>
                      <a:ext cx="1027800" cy="49932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Text Box 32"/>
                    <p:cNvSpPr/>
                    <p:nvPr/>
                  </p:nvSpPr>
                  <p:spPr>
                    <a:xfrm>
                      <a:off x="4402440" y="5554800"/>
                      <a:ext cx="1155960" cy="31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 u="sng">
                          <a:solidFill>
                            <a:srgbClr val="ff3399"/>
                          </a:solidFill>
                          <a:uFillTx/>
                          <a:latin typeface="Perpetua"/>
                          <a:cs typeface="Times New Roman"/>
                        </a:rPr>
                        <a:t>رقم الدو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Group 33"/>
                  <p:cNvGrpSpPr/>
                  <p:nvPr/>
                </p:nvGrpSpPr>
                <p:grpSpPr>
                  <a:xfrm>
                    <a:off x="5815080" y="5735160"/>
                    <a:ext cx="1155600" cy="499320"/>
                    <a:chOff x="5815080" y="5735160"/>
                    <a:chExt cx="1155600" cy="499320"/>
                  </a:xfrm>
                </p:grpSpPr>
                <p:sp>
                  <p:nvSpPr>
                    <p:cNvPr id="397" name="Oval 34"/>
                    <p:cNvSpPr/>
                    <p:nvPr/>
                  </p:nvSpPr>
                  <p:spPr>
                    <a:xfrm>
                      <a:off x="5886360" y="5735160"/>
                      <a:ext cx="1027440" cy="49932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Text Box 35"/>
                    <p:cNvSpPr/>
                    <p:nvPr/>
                  </p:nvSpPr>
                  <p:spPr>
                    <a:xfrm>
                      <a:off x="5815080" y="5804280"/>
                      <a:ext cx="1155600" cy="31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3399"/>
                          </a:solidFill>
                          <a:latin typeface="Perpetua"/>
                          <a:cs typeface="Times New Roman"/>
                        </a:rPr>
                        <a:t>مسمى الدو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Group 36"/>
                  <p:cNvGrpSpPr/>
                  <p:nvPr/>
                </p:nvGrpSpPr>
                <p:grpSpPr>
                  <a:xfrm>
                    <a:off x="7099560" y="5735160"/>
                    <a:ext cx="1669680" cy="512640"/>
                    <a:chOff x="7099560" y="5735160"/>
                    <a:chExt cx="1669680" cy="512640"/>
                  </a:xfrm>
                </p:grpSpPr>
                <p:sp>
                  <p:nvSpPr>
                    <p:cNvPr id="400" name="Oval 37"/>
                    <p:cNvSpPr/>
                    <p:nvPr/>
                  </p:nvSpPr>
                  <p:spPr>
                    <a:xfrm>
                      <a:off x="7170840" y="5735160"/>
                      <a:ext cx="1598400" cy="49932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Text Box 38"/>
                    <p:cNvSpPr/>
                    <p:nvPr/>
                  </p:nvSpPr>
                  <p:spPr>
                    <a:xfrm>
                      <a:off x="7099560" y="5859720"/>
                      <a:ext cx="1669680" cy="388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3399"/>
                          </a:solidFill>
                          <a:latin typeface="Perpetua"/>
                          <a:cs typeface="Times New Roman"/>
                        </a:rPr>
                        <a:t>عدد ساعات الدو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2" name="Line 39"/>
                  <p:cNvSpPr/>
                  <p:nvPr/>
                </p:nvSpPr>
                <p:spPr>
                  <a:xfrm flipV="1">
                    <a:off x="5172840" y="5110920"/>
                    <a:ext cx="641880" cy="37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40"/>
                  <p:cNvSpPr/>
                  <p:nvPr/>
                </p:nvSpPr>
                <p:spPr>
                  <a:xfrm flipV="1">
                    <a:off x="6328800" y="5485320"/>
                    <a:ext cx="0" cy="249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Line 41"/>
                  <p:cNvSpPr/>
                  <p:nvPr/>
                </p:nvSpPr>
                <p:spPr>
                  <a:xfrm flipH="1" flipV="1">
                    <a:off x="7099200" y="5360760"/>
                    <a:ext cx="641880" cy="37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" name="Group 42"/>
                <p:cNvGrpSpPr/>
                <p:nvPr/>
              </p:nvGrpSpPr>
              <p:grpSpPr>
                <a:xfrm>
                  <a:off x="3254040" y="380880"/>
                  <a:ext cx="5286600" cy="1609200"/>
                  <a:chOff x="3254040" y="380880"/>
                  <a:chExt cx="5286600" cy="1609200"/>
                </a:xfrm>
              </p:grpSpPr>
              <p:grpSp>
                <p:nvGrpSpPr>
                  <p:cNvPr id="406" name="Group 43"/>
                  <p:cNvGrpSpPr/>
                  <p:nvPr/>
                </p:nvGrpSpPr>
                <p:grpSpPr>
                  <a:xfrm>
                    <a:off x="4716000" y="380880"/>
                    <a:ext cx="3824640" cy="1609200"/>
                    <a:chOff x="4716000" y="380880"/>
                    <a:chExt cx="3824640" cy="1609200"/>
                  </a:xfrm>
                </p:grpSpPr>
                <p:grpSp>
                  <p:nvGrpSpPr>
                    <p:cNvPr id="407" name="Group 44"/>
                    <p:cNvGrpSpPr/>
                    <p:nvPr/>
                  </p:nvGrpSpPr>
                  <p:grpSpPr>
                    <a:xfrm>
                      <a:off x="6071760" y="991080"/>
                      <a:ext cx="1284120" cy="623880"/>
                      <a:chOff x="6071760" y="991080"/>
                      <a:chExt cx="1284120" cy="623880"/>
                    </a:xfrm>
                  </p:grpSpPr>
                  <p:sp>
                    <p:nvSpPr>
                      <p:cNvPr id="408" name="Rectangle 45"/>
                      <p:cNvSpPr/>
                      <p:nvPr/>
                    </p:nvSpPr>
                    <p:spPr>
                      <a:xfrm>
                        <a:off x="6071760" y="991080"/>
                        <a:ext cx="1284120" cy="6238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9" name="Text Box 46"/>
                      <p:cNvSpPr/>
                      <p:nvPr/>
                    </p:nvSpPr>
                    <p:spPr>
                      <a:xfrm>
                        <a:off x="6328440" y="1143360"/>
                        <a:ext cx="770400" cy="429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ar-SA" sz="1400" spc="-1" strike="noStrike">
                            <a:solidFill>
                              <a:srgbClr val="ff3399"/>
                            </a:solidFill>
                            <a:latin typeface="Perpetua"/>
                            <a:cs typeface="Times New Roman"/>
                          </a:rPr>
                          <a:t>المتدربات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0" name="Group 47"/>
                    <p:cNvGrpSpPr/>
                    <p:nvPr/>
                  </p:nvGrpSpPr>
                  <p:grpSpPr>
                    <a:xfrm>
                      <a:off x="4858560" y="1490760"/>
                      <a:ext cx="1155960" cy="499320"/>
                      <a:chOff x="4858560" y="1490760"/>
                      <a:chExt cx="1155960" cy="499320"/>
                    </a:xfrm>
                  </p:grpSpPr>
                  <p:sp>
                    <p:nvSpPr>
                      <p:cNvPr id="411" name="Oval 48"/>
                      <p:cNvSpPr/>
                      <p:nvPr/>
                    </p:nvSpPr>
                    <p:spPr>
                      <a:xfrm>
                        <a:off x="4929840" y="1490760"/>
                        <a:ext cx="1027800" cy="49932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2" name="Text Box 49"/>
                      <p:cNvSpPr/>
                      <p:nvPr/>
                    </p:nvSpPr>
                    <p:spPr>
                      <a:xfrm>
                        <a:off x="4858560" y="1559880"/>
                        <a:ext cx="1155960" cy="318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ar-SA" sz="1400" spc="-1" strike="noStrike" u="sng">
                            <a:solidFill>
                              <a:srgbClr val="ff3399"/>
                            </a:solidFill>
                            <a:uFillTx/>
                            <a:latin typeface="Perpetua"/>
                            <a:cs typeface="Times New Roman"/>
                          </a:rPr>
                          <a:t>السجل الأكاديمي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3" name="Group 50"/>
                    <p:cNvGrpSpPr/>
                    <p:nvPr/>
                  </p:nvGrpSpPr>
                  <p:grpSpPr>
                    <a:xfrm>
                      <a:off x="4716000" y="991080"/>
                      <a:ext cx="1155960" cy="499320"/>
                      <a:chOff x="4716000" y="991080"/>
                      <a:chExt cx="1155960" cy="499320"/>
                    </a:xfrm>
                  </p:grpSpPr>
                  <p:sp>
                    <p:nvSpPr>
                      <p:cNvPr id="414" name="Oval 51"/>
                      <p:cNvSpPr/>
                      <p:nvPr/>
                    </p:nvSpPr>
                    <p:spPr>
                      <a:xfrm>
                        <a:off x="4787280" y="991080"/>
                        <a:ext cx="1027800" cy="49932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5" name="Text Box 52"/>
                      <p:cNvSpPr/>
                      <p:nvPr/>
                    </p:nvSpPr>
                    <p:spPr>
                      <a:xfrm>
                        <a:off x="4716000" y="1060200"/>
                        <a:ext cx="1155960" cy="318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ar-SA" sz="1400" spc="-1" strike="noStrike">
                            <a:solidFill>
                              <a:srgbClr val="ff3399"/>
                            </a:solidFill>
                            <a:latin typeface="Perpetua"/>
                            <a:cs typeface="Times New Roman"/>
                          </a:rPr>
                          <a:t>اسم المتدربة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6" name="Group 53"/>
                    <p:cNvGrpSpPr/>
                    <p:nvPr/>
                  </p:nvGrpSpPr>
                  <p:grpSpPr>
                    <a:xfrm>
                      <a:off x="4915800" y="491760"/>
                      <a:ext cx="1155960" cy="499320"/>
                      <a:chOff x="4915800" y="491760"/>
                      <a:chExt cx="1155960" cy="499320"/>
                    </a:xfrm>
                  </p:grpSpPr>
                  <p:sp>
                    <p:nvSpPr>
                      <p:cNvPr id="417" name="Oval 54"/>
                      <p:cNvSpPr/>
                      <p:nvPr/>
                    </p:nvSpPr>
                    <p:spPr>
                      <a:xfrm>
                        <a:off x="4987080" y="491760"/>
                        <a:ext cx="1027800" cy="49932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8" name="Text Box 55"/>
                      <p:cNvSpPr/>
                      <p:nvPr/>
                    </p:nvSpPr>
                    <p:spPr>
                      <a:xfrm>
                        <a:off x="4915800" y="560880"/>
                        <a:ext cx="1155960" cy="318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ar-SA" sz="1400" spc="-1" strike="noStrike">
                            <a:solidFill>
                              <a:srgbClr val="ff3399"/>
                            </a:solidFill>
                            <a:latin typeface="Perpetua"/>
                            <a:cs typeface="Times New Roman"/>
                          </a:rPr>
                          <a:t>تاريخ الميلاد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9" name="Group 56"/>
                    <p:cNvGrpSpPr/>
                    <p:nvPr/>
                  </p:nvGrpSpPr>
                  <p:grpSpPr>
                    <a:xfrm>
                      <a:off x="6100200" y="380880"/>
                      <a:ext cx="1155960" cy="499320"/>
                      <a:chOff x="6100200" y="380880"/>
                      <a:chExt cx="1155960" cy="499320"/>
                    </a:xfrm>
                  </p:grpSpPr>
                  <p:sp>
                    <p:nvSpPr>
                      <p:cNvPr id="420" name="Oval 57"/>
                      <p:cNvSpPr/>
                      <p:nvPr/>
                    </p:nvSpPr>
                    <p:spPr>
                      <a:xfrm>
                        <a:off x="6171480" y="380880"/>
                        <a:ext cx="1027800" cy="49932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1" name="Text Box 58"/>
                      <p:cNvSpPr/>
                      <p:nvPr/>
                    </p:nvSpPr>
                    <p:spPr>
                      <a:xfrm>
                        <a:off x="6100200" y="450000"/>
                        <a:ext cx="1155960" cy="318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ar-SA" sz="1400" spc="-1" strike="noStrike">
                            <a:solidFill>
                              <a:srgbClr val="ff3399"/>
                            </a:solidFill>
                            <a:latin typeface="Perpetua"/>
                            <a:cs typeface="Times New Roman"/>
                          </a:rPr>
                          <a:t>السكن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22" name="Group 59"/>
                    <p:cNvGrpSpPr/>
                    <p:nvPr/>
                  </p:nvGrpSpPr>
                  <p:grpSpPr>
                    <a:xfrm>
                      <a:off x="7384680" y="616680"/>
                      <a:ext cx="1155960" cy="499320"/>
                      <a:chOff x="7384680" y="616680"/>
                      <a:chExt cx="1155960" cy="499320"/>
                    </a:xfrm>
                  </p:grpSpPr>
                  <p:sp>
                    <p:nvSpPr>
                      <p:cNvPr id="423" name="Oval 60"/>
                      <p:cNvSpPr/>
                      <p:nvPr/>
                    </p:nvSpPr>
                    <p:spPr>
                      <a:xfrm>
                        <a:off x="7455960" y="616680"/>
                        <a:ext cx="1027800" cy="499320"/>
                      </a:xfrm>
                      <a:prstGeom prst="ellipse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4" name="Text Box 61"/>
                      <p:cNvSpPr/>
                      <p:nvPr/>
                    </p:nvSpPr>
                    <p:spPr>
                      <a:xfrm>
                        <a:off x="7384680" y="685800"/>
                        <a:ext cx="1155960" cy="318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ar-SA" sz="1400" spc="-1" strike="noStrike">
                            <a:solidFill>
                              <a:srgbClr val="ff3399"/>
                            </a:solidFill>
                            <a:latin typeface="Perpetua"/>
                            <a:cs typeface="Times New Roman"/>
                          </a:rPr>
                          <a:t>رقم الهاتف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25" name="Line 62"/>
                    <p:cNvSpPr/>
                    <p:nvPr/>
                  </p:nvSpPr>
                  <p:spPr>
                    <a:xfrm flipV="1">
                      <a:off x="5843160" y="1490760"/>
                      <a:ext cx="256680" cy="12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63"/>
                    <p:cNvSpPr/>
                    <p:nvPr/>
                  </p:nvSpPr>
                  <p:spPr>
                    <a:xfrm>
                      <a:off x="5814720" y="1240920"/>
                      <a:ext cx="256680" cy="12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64"/>
                    <p:cNvSpPr/>
                    <p:nvPr/>
                  </p:nvSpPr>
                  <p:spPr>
                    <a:xfrm>
                      <a:off x="5943240" y="866160"/>
                      <a:ext cx="128160" cy="12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65"/>
                    <p:cNvSpPr/>
                    <p:nvPr/>
                  </p:nvSpPr>
                  <p:spPr>
                    <a:xfrm>
                      <a:off x="6714000" y="866160"/>
                      <a:ext cx="0" cy="12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66"/>
                    <p:cNvSpPr/>
                    <p:nvPr/>
                  </p:nvSpPr>
                  <p:spPr>
                    <a:xfrm flipH="1">
                      <a:off x="7356240" y="1116000"/>
                      <a:ext cx="385200" cy="12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Oval 67"/>
                  <p:cNvSpPr/>
                  <p:nvPr/>
                </p:nvSpPr>
                <p:spPr>
                  <a:xfrm>
                    <a:off x="3639240" y="727560"/>
                    <a:ext cx="898920" cy="374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400" spc="-1" strike="noStrike">
                        <a:solidFill>
                          <a:srgbClr val="ff3399"/>
                        </a:solidFill>
                        <a:latin typeface="Perpetua"/>
                        <a:cs typeface="Times New Roman"/>
                      </a:rPr>
                      <a:t>الأول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Line 68"/>
                  <p:cNvSpPr/>
                  <p:nvPr/>
                </p:nvSpPr>
                <p:spPr>
                  <a:xfrm>
                    <a:off x="4538160" y="921960"/>
                    <a:ext cx="428040" cy="12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Line 69"/>
                  <p:cNvSpPr/>
                  <p:nvPr/>
                </p:nvSpPr>
                <p:spPr>
                  <a:xfrm>
                    <a:off x="4152960" y="1254600"/>
                    <a:ext cx="642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Oval 70"/>
                  <p:cNvSpPr/>
                  <p:nvPr/>
                </p:nvSpPr>
                <p:spPr>
                  <a:xfrm>
                    <a:off x="3254040" y="1088280"/>
                    <a:ext cx="898920" cy="374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400" spc="-1" strike="noStrike">
                        <a:solidFill>
                          <a:srgbClr val="ff3399"/>
                        </a:solidFill>
                        <a:latin typeface="Perpetua"/>
                        <a:cs typeface="Times New Roman"/>
                      </a:rPr>
                      <a:t>الأب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Line 71"/>
                  <p:cNvSpPr/>
                  <p:nvPr/>
                </p:nvSpPr>
                <p:spPr>
                  <a:xfrm flipV="1">
                    <a:off x="4395600" y="1351440"/>
                    <a:ext cx="442080" cy="291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72"/>
                  <p:cNvSpPr/>
                  <p:nvPr/>
                </p:nvSpPr>
                <p:spPr>
                  <a:xfrm>
                    <a:off x="3524760" y="1518480"/>
                    <a:ext cx="898920" cy="374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400" spc="-1" strike="noStrike">
                        <a:solidFill>
                          <a:srgbClr val="ff3399"/>
                        </a:solidFill>
                        <a:latin typeface="Perpetua"/>
                        <a:cs typeface="Times New Roman"/>
                      </a:rPr>
                      <a:t>العائلة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Group 73"/>
                <p:cNvGrpSpPr/>
                <p:nvPr/>
              </p:nvGrpSpPr>
              <p:grpSpPr>
                <a:xfrm>
                  <a:off x="457200" y="2335320"/>
                  <a:ext cx="2874600" cy="2900520"/>
                  <a:chOff x="457200" y="2335320"/>
                  <a:chExt cx="2874600" cy="2900520"/>
                </a:xfrm>
              </p:grpSpPr>
              <p:grpSp>
                <p:nvGrpSpPr>
                  <p:cNvPr id="437" name="Group 74"/>
                  <p:cNvGrpSpPr/>
                  <p:nvPr/>
                </p:nvGrpSpPr>
                <p:grpSpPr>
                  <a:xfrm>
                    <a:off x="677520" y="2335320"/>
                    <a:ext cx="2654280" cy="2372040"/>
                    <a:chOff x="677520" y="2335320"/>
                    <a:chExt cx="2654280" cy="2372040"/>
                  </a:xfrm>
                </p:grpSpPr>
                <p:grpSp>
                  <p:nvGrpSpPr>
                    <p:cNvPr id="438" name="Group 75"/>
                    <p:cNvGrpSpPr/>
                    <p:nvPr/>
                  </p:nvGrpSpPr>
                  <p:grpSpPr>
                    <a:xfrm>
                      <a:off x="2047320" y="3333960"/>
                      <a:ext cx="1284480" cy="624240"/>
                      <a:chOff x="2047320" y="3333960"/>
                      <a:chExt cx="1284480" cy="624240"/>
                    </a:xfrm>
                  </p:grpSpPr>
                  <p:sp>
                    <p:nvSpPr>
                      <p:cNvPr id="439" name="Rectangle 76"/>
                      <p:cNvSpPr/>
                      <p:nvPr/>
                    </p:nvSpPr>
                    <p:spPr>
                      <a:xfrm>
                        <a:off x="2047320" y="3333960"/>
                        <a:ext cx="1284480" cy="6242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Text Box 77"/>
                      <p:cNvSpPr/>
                      <p:nvPr/>
                    </p:nvSpPr>
                    <p:spPr>
                      <a:xfrm>
                        <a:off x="2289600" y="3486240"/>
                        <a:ext cx="770760" cy="416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ar-SA" sz="1400" spc="-1" strike="noStrike">
                            <a:solidFill>
                              <a:srgbClr val="ff3399"/>
                            </a:solidFill>
                            <a:latin typeface="Perpetua"/>
                            <a:cs typeface="Times New Roman"/>
                          </a:rPr>
                          <a:t>المدربات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41" name="Group 78"/>
                    <p:cNvGrpSpPr/>
                    <p:nvPr/>
                  </p:nvGrpSpPr>
                  <p:grpSpPr>
                    <a:xfrm>
                      <a:off x="2175840" y="2709720"/>
                      <a:ext cx="1155960" cy="499320"/>
                      <a:chOff x="2175840" y="2709720"/>
                      <a:chExt cx="1155960" cy="499320"/>
                    </a:xfrm>
                  </p:grpSpPr>
                  <p:sp>
                    <p:nvSpPr>
                      <p:cNvPr id="442" name="Oval 79"/>
                      <p:cNvSpPr/>
                      <p:nvPr/>
                    </p:nvSpPr>
                    <p:spPr>
                      <a:xfrm>
                        <a:off x="2247120" y="2709720"/>
                        <a:ext cx="1027800" cy="499320"/>
                      </a:xfrm>
                      <a:prstGeom prst="ellipse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3" name="Text Box 80"/>
                      <p:cNvSpPr/>
                      <p:nvPr/>
                    </p:nvSpPr>
                    <p:spPr>
                      <a:xfrm>
                        <a:off x="2175840" y="2778840"/>
                        <a:ext cx="1155960" cy="318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ar-SA" sz="1400" spc="-1" strike="noStrike">
                            <a:solidFill>
                              <a:srgbClr val="ff3399"/>
                            </a:solidFill>
                            <a:latin typeface="Perpetua"/>
                            <a:cs typeface="Times New Roman"/>
                          </a:rPr>
                          <a:t>رقم الهاتف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44" name="Group 81"/>
                    <p:cNvGrpSpPr/>
                    <p:nvPr/>
                  </p:nvGrpSpPr>
                  <p:grpSpPr>
                    <a:xfrm>
                      <a:off x="1676160" y="4208040"/>
                      <a:ext cx="1155960" cy="499320"/>
                      <a:chOff x="1676160" y="4208040"/>
                      <a:chExt cx="1155960" cy="499320"/>
                    </a:xfrm>
                  </p:grpSpPr>
                  <p:sp>
                    <p:nvSpPr>
                      <p:cNvPr id="445" name="Oval 82"/>
                      <p:cNvSpPr/>
                      <p:nvPr/>
                    </p:nvSpPr>
                    <p:spPr>
                      <a:xfrm>
                        <a:off x="1747440" y="4208040"/>
                        <a:ext cx="1027800" cy="49932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6" name="Text Box 83"/>
                      <p:cNvSpPr/>
                      <p:nvPr/>
                    </p:nvSpPr>
                    <p:spPr>
                      <a:xfrm>
                        <a:off x="1676160" y="4277160"/>
                        <a:ext cx="1155960" cy="318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ar-SA" sz="1400" spc="-1" strike="noStrike" u="sng">
                            <a:solidFill>
                              <a:srgbClr val="ff3399"/>
                            </a:solidFill>
                            <a:uFillTx/>
                            <a:latin typeface="Perpetua"/>
                            <a:cs typeface="Times New Roman"/>
                          </a:rPr>
                          <a:t>رقم المدربة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47" name="Group 84"/>
                    <p:cNvGrpSpPr/>
                    <p:nvPr/>
                  </p:nvGrpSpPr>
                  <p:grpSpPr>
                    <a:xfrm>
                      <a:off x="891360" y="3833280"/>
                      <a:ext cx="1155600" cy="499320"/>
                      <a:chOff x="891360" y="3833280"/>
                      <a:chExt cx="1155600" cy="499320"/>
                    </a:xfrm>
                  </p:grpSpPr>
                  <p:sp>
                    <p:nvSpPr>
                      <p:cNvPr id="448" name="Oval 85"/>
                      <p:cNvSpPr/>
                      <p:nvPr/>
                    </p:nvSpPr>
                    <p:spPr>
                      <a:xfrm>
                        <a:off x="962640" y="3833280"/>
                        <a:ext cx="1027440" cy="49932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9" name="Text Box 86"/>
                      <p:cNvSpPr/>
                      <p:nvPr/>
                    </p:nvSpPr>
                    <p:spPr>
                      <a:xfrm>
                        <a:off x="891360" y="3902400"/>
                        <a:ext cx="1155600" cy="318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ar-SA" sz="1400" spc="-1" strike="noStrike">
                            <a:solidFill>
                              <a:srgbClr val="ff3399"/>
                            </a:solidFill>
                            <a:latin typeface="Perpetua"/>
                            <a:cs typeface="Times New Roman"/>
                          </a:rPr>
                          <a:t>اسم المدربة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0" name="Group 87"/>
                    <p:cNvGrpSpPr/>
                    <p:nvPr/>
                  </p:nvGrpSpPr>
                  <p:grpSpPr>
                    <a:xfrm>
                      <a:off x="762840" y="3264480"/>
                      <a:ext cx="1155960" cy="499320"/>
                      <a:chOff x="762840" y="3264480"/>
                      <a:chExt cx="1155960" cy="499320"/>
                    </a:xfrm>
                  </p:grpSpPr>
                  <p:sp>
                    <p:nvSpPr>
                      <p:cNvPr id="451" name="Oval 88"/>
                      <p:cNvSpPr/>
                      <p:nvPr/>
                    </p:nvSpPr>
                    <p:spPr>
                      <a:xfrm>
                        <a:off x="834120" y="3264480"/>
                        <a:ext cx="1027800" cy="49932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2" name="Text Box 89"/>
                      <p:cNvSpPr/>
                      <p:nvPr/>
                    </p:nvSpPr>
                    <p:spPr>
                      <a:xfrm>
                        <a:off x="762840" y="3333600"/>
                        <a:ext cx="1155960" cy="318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ar-SA" sz="1400" spc="-1" strike="noStrike">
                            <a:solidFill>
                              <a:srgbClr val="ff3399"/>
                            </a:solidFill>
                            <a:latin typeface="Perpetua"/>
                            <a:cs typeface="Times New Roman"/>
                          </a:rPr>
                          <a:t>التخصص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3" name="Group 90"/>
                    <p:cNvGrpSpPr/>
                    <p:nvPr/>
                  </p:nvGrpSpPr>
                  <p:grpSpPr>
                    <a:xfrm>
                      <a:off x="677520" y="2723760"/>
                      <a:ext cx="1155960" cy="499320"/>
                      <a:chOff x="677520" y="2723760"/>
                      <a:chExt cx="1155960" cy="499320"/>
                    </a:xfrm>
                  </p:grpSpPr>
                  <p:sp>
                    <p:nvSpPr>
                      <p:cNvPr id="454" name="Oval 91"/>
                      <p:cNvSpPr/>
                      <p:nvPr/>
                    </p:nvSpPr>
                    <p:spPr>
                      <a:xfrm>
                        <a:off x="748800" y="2723760"/>
                        <a:ext cx="1027800" cy="49932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5" name="Text Box 92"/>
                      <p:cNvSpPr/>
                      <p:nvPr/>
                    </p:nvSpPr>
                    <p:spPr>
                      <a:xfrm>
                        <a:off x="677520" y="2792880"/>
                        <a:ext cx="1155960" cy="318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ar-SA" sz="1400" spc="-1" strike="noStrike">
                            <a:solidFill>
                              <a:srgbClr val="ff3399"/>
                            </a:solidFill>
                            <a:latin typeface="Perpetua"/>
                            <a:cs typeface="Times New Roman"/>
                          </a:rPr>
                          <a:t>مصدر التخصص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6" name="Group 93"/>
                    <p:cNvGrpSpPr/>
                    <p:nvPr/>
                  </p:nvGrpSpPr>
                  <p:grpSpPr>
                    <a:xfrm>
                      <a:off x="1405080" y="2335320"/>
                      <a:ext cx="1155600" cy="499320"/>
                      <a:chOff x="1405080" y="2335320"/>
                      <a:chExt cx="1155600" cy="499320"/>
                    </a:xfrm>
                  </p:grpSpPr>
                  <p:sp>
                    <p:nvSpPr>
                      <p:cNvPr id="457" name="Oval 94"/>
                      <p:cNvSpPr/>
                      <p:nvPr/>
                    </p:nvSpPr>
                    <p:spPr>
                      <a:xfrm>
                        <a:off x="1476360" y="2335320"/>
                        <a:ext cx="1027440" cy="49932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8" name="Text Box 95"/>
                      <p:cNvSpPr/>
                      <p:nvPr/>
                    </p:nvSpPr>
                    <p:spPr>
                      <a:xfrm>
                        <a:off x="1405080" y="2404440"/>
                        <a:ext cx="1155600" cy="318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ar-SA" sz="1400" spc="-1" strike="noStrike">
                            <a:solidFill>
                              <a:srgbClr val="ff3399"/>
                            </a:solidFill>
                            <a:latin typeface="Perpetua"/>
                            <a:cs typeface="Times New Roman"/>
                          </a:rPr>
                          <a:t>السكن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9" name="Line 96"/>
                    <p:cNvSpPr/>
                    <p:nvPr/>
                  </p:nvSpPr>
                  <p:spPr>
                    <a:xfrm flipV="1">
                      <a:off x="2175840" y="3972240"/>
                      <a:ext cx="256680" cy="235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Line 97"/>
                    <p:cNvSpPr/>
                    <p:nvPr/>
                  </p:nvSpPr>
                  <p:spPr>
                    <a:xfrm flipV="1">
                      <a:off x="1662120" y="3708360"/>
                      <a:ext cx="385200" cy="12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Line 98"/>
                    <p:cNvSpPr/>
                    <p:nvPr/>
                  </p:nvSpPr>
                  <p:spPr>
                    <a:xfrm>
                      <a:off x="1790640" y="3458880"/>
                      <a:ext cx="256680" cy="12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Line 99"/>
                    <p:cNvSpPr/>
                    <p:nvPr/>
                  </p:nvSpPr>
                  <p:spPr>
                    <a:xfrm>
                      <a:off x="1733400" y="3070440"/>
                      <a:ext cx="385200" cy="249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Line 100"/>
                    <p:cNvSpPr/>
                    <p:nvPr/>
                  </p:nvSpPr>
                  <p:spPr>
                    <a:xfrm>
                      <a:off x="2047320" y="2834640"/>
                      <a:ext cx="256680" cy="499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Line 101"/>
                    <p:cNvSpPr/>
                    <p:nvPr/>
                  </p:nvSpPr>
                  <p:spPr>
                    <a:xfrm flipH="1">
                      <a:off x="2689560" y="3209040"/>
                      <a:ext cx="128160" cy="12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5" name="Oval 102"/>
                  <p:cNvSpPr/>
                  <p:nvPr/>
                </p:nvSpPr>
                <p:spPr>
                  <a:xfrm>
                    <a:off x="457200" y="4500720"/>
                    <a:ext cx="898920" cy="374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400" spc="-1" strike="noStrike">
                        <a:solidFill>
                          <a:srgbClr val="ff3399"/>
                        </a:solidFill>
                        <a:latin typeface="Perpetua"/>
                        <a:cs typeface="Times New Roman"/>
                      </a:rPr>
                      <a:t>الأول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103"/>
                  <p:cNvSpPr/>
                  <p:nvPr/>
                </p:nvSpPr>
                <p:spPr>
                  <a:xfrm flipV="1">
                    <a:off x="970920" y="4223160"/>
                    <a:ext cx="70920" cy="27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104"/>
                  <p:cNvSpPr/>
                  <p:nvPr/>
                </p:nvSpPr>
                <p:spPr>
                  <a:xfrm flipV="1">
                    <a:off x="1470240" y="4333680"/>
                    <a:ext cx="0" cy="54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105"/>
                  <p:cNvSpPr/>
                  <p:nvPr/>
                </p:nvSpPr>
                <p:spPr>
                  <a:xfrm>
                    <a:off x="727920" y="4861440"/>
                    <a:ext cx="898920" cy="374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400" spc="-1" strike="noStrike">
                        <a:solidFill>
                          <a:srgbClr val="ff3399"/>
                        </a:solidFill>
                        <a:latin typeface="Perpetua"/>
                        <a:cs typeface="Times New Roman"/>
                      </a:rPr>
                      <a:t>الأب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Line 106"/>
                  <p:cNvSpPr/>
                  <p:nvPr/>
                </p:nvSpPr>
                <p:spPr>
                  <a:xfrm flipH="1" flipV="1">
                    <a:off x="1612800" y="4320000"/>
                    <a:ext cx="385200" cy="499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Oval 107"/>
                  <p:cNvSpPr/>
                  <p:nvPr/>
                </p:nvSpPr>
                <p:spPr>
                  <a:xfrm>
                    <a:off x="1655640" y="4805640"/>
                    <a:ext cx="898920" cy="374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400" spc="-1" strike="noStrike">
                        <a:solidFill>
                          <a:srgbClr val="ff3399"/>
                        </a:solidFill>
                        <a:latin typeface="Perpetua"/>
                        <a:cs typeface="Times New Roman"/>
                      </a:rPr>
                      <a:t>العائلة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71" name="Text Box 108"/>
            <p:cNvSpPr/>
            <p:nvPr/>
          </p:nvSpPr>
          <p:spPr>
            <a:xfrm>
              <a:off x="6336720" y="2128680"/>
              <a:ext cx="513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3399"/>
                  </a:solidFill>
                  <a:latin typeface="Perpetua"/>
                  <a:cs typeface="Times New Roman"/>
                </a:rPr>
                <a:t>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09"/>
            <p:cNvSpPr/>
            <p:nvPr/>
          </p:nvSpPr>
          <p:spPr>
            <a:xfrm>
              <a:off x="6179760" y="3654360"/>
              <a:ext cx="513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3399"/>
                  </a:solidFill>
                  <a:latin typeface="Perpetua"/>
                  <a:cs typeface="Times New Roman"/>
                </a:rPr>
                <a:t>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10"/>
            <p:cNvSpPr/>
            <p:nvPr/>
          </p:nvSpPr>
          <p:spPr>
            <a:xfrm>
              <a:off x="3511080" y="3917880"/>
              <a:ext cx="513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3399"/>
                  </a:solidFill>
                  <a:latin typeface="Perpetua"/>
                  <a:cs typeface="Times New Roman"/>
                </a:rPr>
                <a:t>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11"/>
            <p:cNvSpPr/>
            <p:nvPr/>
          </p:nvSpPr>
          <p:spPr>
            <a:xfrm>
              <a:off x="4824000" y="4473000"/>
              <a:ext cx="513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3399"/>
                  </a:solidFill>
                  <a:latin typeface="Perpetua"/>
                  <a:cs typeface="Times New Roman"/>
                </a:rPr>
                <a:t>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112"/>
            <p:cNvSpPr/>
            <p:nvPr/>
          </p:nvSpPr>
          <p:spPr>
            <a:xfrm>
              <a:off x="4110480" y="2877840"/>
              <a:ext cx="513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3399"/>
                  </a:solidFill>
                  <a:latin typeface="Perpetua"/>
                  <a:cs typeface="Times New Roman"/>
                </a:rPr>
                <a:t>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13"/>
            <p:cNvSpPr/>
            <p:nvPr/>
          </p:nvSpPr>
          <p:spPr>
            <a:xfrm>
              <a:off x="5081040" y="2211840"/>
              <a:ext cx="513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3399"/>
                  </a:solidFill>
                  <a:latin typeface="Perpetua"/>
                  <a:cs typeface="Times New Roman"/>
                </a:rPr>
                <a:t>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1371600" y="2742840"/>
            <a:ext cx="71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5f55"/>
                </a:solidFill>
                <a:latin typeface="Tw Cen MT"/>
              </a:rPr>
              <a:t>A company wants to create a database to store information about: Employee, Department and Project. The following information is to be included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775f55"/>
                </a:solidFill>
                <a:latin typeface="Tw Cen MT"/>
              </a:rPr>
              <a:t>Employee: E-id, name, address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775f55"/>
                </a:solidFill>
                <a:latin typeface="Tw Cen MT"/>
              </a:rPr>
              <a:t>Department: id, name, telephone, number of employe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775f55"/>
                </a:solidFill>
                <a:latin typeface="Tw Cen MT"/>
              </a:rPr>
              <a:t>Project: id, nam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1" lang="en-US" sz="2000" spc="-1" strike="noStrike">
                <a:solidFill>
                  <a:srgbClr val="775f55"/>
                </a:solidFill>
                <a:latin typeface="Tw Cen MT"/>
              </a:rPr>
              <a:t>Draw an ERD to present the following: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5f55"/>
                </a:solidFill>
                <a:latin typeface="Tw Cen MT"/>
              </a:rPr>
              <a:t>Employee must works for one departmen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5f55"/>
                </a:solidFill>
                <a:latin typeface="Tw Cen MT"/>
              </a:rPr>
              <a:t>Employee may participates in more than one projec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5f55"/>
                </a:solidFill>
                <a:latin typeface="Tw Cen MT"/>
              </a:rPr>
              <a:t>Each department should have at least projec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5f55"/>
                </a:solidFill>
                <a:latin typeface="Tw Cen MT"/>
              </a:rPr>
              <a:t>Each Project should belong to one departmen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nsw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0" name="مستطيل 3"/>
          <p:cNvSpPr/>
          <p:nvPr/>
        </p:nvSpPr>
        <p:spPr>
          <a:xfrm>
            <a:off x="1905120" y="2666880"/>
            <a:ext cx="1295280" cy="60984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مستطيل 4"/>
          <p:cNvSpPr/>
          <p:nvPr/>
        </p:nvSpPr>
        <p:spPr>
          <a:xfrm>
            <a:off x="5715000" y="2666880"/>
            <a:ext cx="1600200" cy="60984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مستطيل 5"/>
          <p:cNvSpPr/>
          <p:nvPr/>
        </p:nvSpPr>
        <p:spPr>
          <a:xfrm>
            <a:off x="4038480" y="4648320"/>
            <a:ext cx="1295640" cy="6094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معين 6"/>
          <p:cNvSpPr/>
          <p:nvPr/>
        </p:nvSpPr>
        <p:spPr>
          <a:xfrm>
            <a:off x="3962520" y="2666880"/>
            <a:ext cx="1257120" cy="685800"/>
          </a:xfrm>
          <a:prstGeom prst="diamond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w Cen MT"/>
              </a:rPr>
              <a:t>Works f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معين 7"/>
          <p:cNvSpPr/>
          <p:nvPr/>
        </p:nvSpPr>
        <p:spPr>
          <a:xfrm>
            <a:off x="1981080" y="3886200"/>
            <a:ext cx="1828800" cy="685800"/>
          </a:xfrm>
          <a:prstGeom prst="diamond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w Cen MT"/>
              </a:rPr>
              <a:t>particip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معين 8"/>
          <p:cNvSpPr/>
          <p:nvPr/>
        </p:nvSpPr>
        <p:spPr>
          <a:xfrm>
            <a:off x="5638680" y="3809880"/>
            <a:ext cx="1143000" cy="685800"/>
          </a:xfrm>
          <a:prstGeom prst="diamond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w Cen MT"/>
              </a:rPr>
              <a:t>h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شكل بيضاوي 9"/>
          <p:cNvSpPr/>
          <p:nvPr/>
        </p:nvSpPr>
        <p:spPr>
          <a:xfrm>
            <a:off x="2209680" y="1676520"/>
            <a:ext cx="685800" cy="5331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w Cen MT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شكل بيضاوي 11"/>
          <p:cNvSpPr/>
          <p:nvPr/>
        </p:nvSpPr>
        <p:spPr>
          <a:xfrm>
            <a:off x="838080" y="1676520"/>
            <a:ext cx="1067040" cy="5331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شكل بيضاوي 12"/>
          <p:cNvSpPr/>
          <p:nvPr/>
        </p:nvSpPr>
        <p:spPr>
          <a:xfrm>
            <a:off x="152280" y="2514600"/>
            <a:ext cx="1295640" cy="53352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بيضاوي 13"/>
          <p:cNvSpPr/>
          <p:nvPr/>
        </p:nvSpPr>
        <p:spPr>
          <a:xfrm>
            <a:off x="5638680" y="1676520"/>
            <a:ext cx="685800" cy="5331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w Cen MT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شكل بيضاوي 14"/>
          <p:cNvSpPr/>
          <p:nvPr/>
        </p:nvSpPr>
        <p:spPr>
          <a:xfrm>
            <a:off x="6477120" y="1676520"/>
            <a:ext cx="1066680" cy="5331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شكل بيضاوي 15"/>
          <p:cNvSpPr/>
          <p:nvPr/>
        </p:nvSpPr>
        <p:spPr>
          <a:xfrm>
            <a:off x="7391520" y="2057400"/>
            <a:ext cx="1600200" cy="60948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tele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شكل بيضاوي 16"/>
          <p:cNvSpPr/>
          <p:nvPr/>
        </p:nvSpPr>
        <p:spPr>
          <a:xfrm>
            <a:off x="5105520" y="5486400"/>
            <a:ext cx="685800" cy="53352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w Cen MT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شكل بيضاوي 17"/>
          <p:cNvSpPr/>
          <p:nvPr/>
        </p:nvSpPr>
        <p:spPr>
          <a:xfrm>
            <a:off x="3733920" y="5486400"/>
            <a:ext cx="1066680" cy="53352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شكل بيضاوي 18"/>
          <p:cNvSpPr/>
          <p:nvPr/>
        </p:nvSpPr>
        <p:spPr>
          <a:xfrm>
            <a:off x="3809880" y="1676520"/>
            <a:ext cx="1295640" cy="5331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w Cen MT"/>
              </a:rPr>
              <a:t>#employ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رابط مستقيم 20"/>
          <p:cNvSpPr/>
          <p:nvPr/>
        </p:nvSpPr>
        <p:spPr>
          <a:xfrm flipV="1">
            <a:off x="5219640" y="2971800"/>
            <a:ext cx="495360" cy="38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رابط مستقيم 22"/>
          <p:cNvSpPr/>
          <p:nvPr/>
        </p:nvSpPr>
        <p:spPr>
          <a:xfrm flipH="1" flipV="1">
            <a:off x="3200040" y="2971800"/>
            <a:ext cx="762120" cy="38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رابط مستقيم 24"/>
          <p:cNvSpPr/>
          <p:nvPr/>
        </p:nvSpPr>
        <p:spPr>
          <a:xfrm flipH="1" flipV="1">
            <a:off x="2819160" y="3276360"/>
            <a:ext cx="7596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رابط مستقيم 26"/>
          <p:cNvSpPr/>
          <p:nvPr/>
        </p:nvSpPr>
        <p:spPr>
          <a:xfrm>
            <a:off x="2895480" y="4572000"/>
            <a:ext cx="114300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رابط مستقيم 28"/>
          <p:cNvSpPr/>
          <p:nvPr/>
        </p:nvSpPr>
        <p:spPr>
          <a:xfrm flipV="1">
            <a:off x="6209640" y="3276360"/>
            <a:ext cx="30492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رابط مستقيم 30"/>
          <p:cNvSpPr/>
          <p:nvPr/>
        </p:nvSpPr>
        <p:spPr>
          <a:xfrm flipH="1">
            <a:off x="5334120" y="4495680"/>
            <a:ext cx="87624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رابط مستقيم 32"/>
          <p:cNvSpPr/>
          <p:nvPr/>
        </p:nvSpPr>
        <p:spPr>
          <a:xfrm>
            <a:off x="5981040" y="2209680"/>
            <a:ext cx="266760" cy="45720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رابط مستقيم 34"/>
          <p:cNvSpPr/>
          <p:nvPr/>
        </p:nvSpPr>
        <p:spPr>
          <a:xfrm flipH="1">
            <a:off x="6514920" y="2209680"/>
            <a:ext cx="495000" cy="45720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رابط مستقيم 36"/>
          <p:cNvSpPr/>
          <p:nvPr/>
        </p:nvSpPr>
        <p:spPr>
          <a:xfrm flipH="1">
            <a:off x="7315200" y="2577960"/>
            <a:ext cx="311040" cy="24156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رابط مستقيم 38"/>
          <p:cNvSpPr/>
          <p:nvPr/>
        </p:nvSpPr>
        <p:spPr>
          <a:xfrm>
            <a:off x="2552760" y="2209680"/>
            <a:ext cx="0" cy="45720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رابط مستقيم 40"/>
          <p:cNvSpPr/>
          <p:nvPr/>
        </p:nvSpPr>
        <p:spPr>
          <a:xfrm>
            <a:off x="1600200" y="2209680"/>
            <a:ext cx="380880" cy="45720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رابط مستقيم 42"/>
          <p:cNvSpPr/>
          <p:nvPr/>
        </p:nvSpPr>
        <p:spPr>
          <a:xfrm>
            <a:off x="1447920" y="2781360"/>
            <a:ext cx="457200" cy="19044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رابط مستقيم 44"/>
          <p:cNvSpPr/>
          <p:nvPr/>
        </p:nvSpPr>
        <p:spPr>
          <a:xfrm flipV="1">
            <a:off x="4267080" y="5257440"/>
            <a:ext cx="76320" cy="22860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رابط مستقيم 46"/>
          <p:cNvSpPr/>
          <p:nvPr/>
        </p:nvSpPr>
        <p:spPr>
          <a:xfrm flipH="1" flipV="1">
            <a:off x="5028840" y="5257440"/>
            <a:ext cx="304920" cy="22860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رابط مستقيم 48"/>
          <p:cNvSpPr/>
          <p:nvPr/>
        </p:nvSpPr>
        <p:spPr>
          <a:xfrm>
            <a:off x="4457880" y="2209680"/>
            <a:ext cx="1257120" cy="45720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رابط مستقيم 53"/>
          <p:cNvSpPr/>
          <p:nvPr/>
        </p:nvSpPr>
        <p:spPr>
          <a:xfrm flipH="1" flipV="1">
            <a:off x="3200040" y="281916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رابط مستقيم 55"/>
          <p:cNvSpPr/>
          <p:nvPr/>
        </p:nvSpPr>
        <p:spPr>
          <a:xfrm flipH="1">
            <a:off x="3200040" y="297108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رابط مستقيم 58"/>
          <p:cNvSpPr/>
          <p:nvPr/>
        </p:nvSpPr>
        <p:spPr>
          <a:xfrm flipH="1" flipV="1">
            <a:off x="5333760" y="48006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رابط مستقيم 60"/>
          <p:cNvSpPr/>
          <p:nvPr/>
        </p:nvSpPr>
        <p:spPr>
          <a:xfrm flipH="1">
            <a:off x="5333760" y="4876920"/>
            <a:ext cx="1522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رابط مستقيم 63"/>
          <p:cNvSpPr/>
          <p:nvPr/>
        </p:nvSpPr>
        <p:spPr>
          <a:xfrm>
            <a:off x="3885480" y="4876920"/>
            <a:ext cx="1522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رابط مستقيم 65"/>
          <p:cNvSpPr/>
          <p:nvPr/>
        </p:nvSpPr>
        <p:spPr>
          <a:xfrm flipV="1">
            <a:off x="3886200" y="48006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رابط مستقيم 69"/>
          <p:cNvSpPr/>
          <p:nvPr/>
        </p:nvSpPr>
        <p:spPr>
          <a:xfrm flipV="1">
            <a:off x="2895480" y="3276360"/>
            <a:ext cx="763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رابط مستقيم 71"/>
          <p:cNvSpPr/>
          <p:nvPr/>
        </p:nvSpPr>
        <p:spPr>
          <a:xfrm flipH="1" flipV="1">
            <a:off x="2666520" y="327636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-15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RD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DAAB-C3C9-48DA-A93C-63992A0E4027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Content Placeholder 4" descr="er_diagram"/>
          <p:cNvPicPr/>
          <p:nvPr/>
        </p:nvPicPr>
        <p:blipFill>
          <a:blip r:embed="rId1"/>
          <a:srcRect l="453" t="12849" r="3283" b="9429"/>
          <a:stretch/>
        </p:blipFill>
        <p:spPr>
          <a:xfrm>
            <a:off x="457200" y="1273320"/>
            <a:ext cx="8001000" cy="5279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08:24:27Z</dcterms:created>
  <dc:creator>User</dc:creator>
  <dc:description/>
  <dc:language>en-US</dc:language>
  <cp:lastModifiedBy>User</cp:lastModifiedBy>
  <dcterms:modified xsi:type="dcterms:W3CDTF">2012-09-09T18:01:49Z</dcterms:modified>
  <cp:revision>3</cp:revision>
  <dc:subject/>
  <dc:title>Lecture #4</dc:title>
</cp:coreProperties>
</file>