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329-D744-418F-9845-30456F13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C38-E51E-4CEA-B971-E6384083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24980-69FC-481F-8CD6-DDCBDECD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82D914-09FE-40CE-BE6F-4911E10C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D4995-5104-434B-90B4-99B277C3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0A10A7-0655-4648-859D-0BADEBFA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5DB857-A090-42C3-9901-205C69A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59C758-F3D1-47CE-BE29-35427A82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428CD-7648-48D3-956D-DA62D12D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998AFC-626E-4B13-9D9B-0DC710A7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46D499-A8EA-4E63-A185-DC40A838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DE1-DF61-471E-9D26-AB14A5F8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E866-B785-4D69-9939-CBA2E0BA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ABC1C-E46E-4EB1-90C8-731BF5FE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CE77B-7D99-4AB2-9F02-D1C7DE9C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2AC9B-6978-43E8-841A-DF5A491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8E975-03B9-4398-89DE-407A0AF4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B7E12-CF5A-4F3F-8FE9-CFA0876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520F3-0BE6-4DA9-8F70-DEBAB54F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3C577-1FE1-4EFA-9583-633E12A6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874-251A-4D72-811F-DA69044D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B6849-1595-49A0-93BA-D22DC6C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06AFE-9098-4401-9516-C13D942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440DA3-4764-4D4A-8645-84AE836B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F113EA-15CF-4281-AB08-875FB3DD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A5DE1-87B0-4A29-862B-D53E5869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338B-FA70-45CD-9641-94664D74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5A3D9-1044-476B-8AD8-C09D2A37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B860-A677-4C78-A7E3-00FE0F16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0546-F4C6-4ACB-9FEA-E423001A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9DD90-5FC4-43EA-9E7E-CF620FD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A53-35F0-4A97-A499-17BBD029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4D64F-DF78-45F1-81D6-26F219D0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6EDB0-A350-439A-973E-B4D6D4E8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54EC-6003-47B3-BBB6-D481D4AA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D47A8-94EC-4C32-96FC-F187421C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D149A-7F3D-4A3B-A3BD-DCC021AB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E2164-4B86-49A5-930A-501923D5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DCBA-3248-4874-AE78-C560AEF6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6BAAA-DBFB-4BB8-8918-7E8840EC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547CB9-A0F1-4C39-A71F-CE24A08E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6172CA-6CA4-40C0-81D4-2C0EDE51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028-6DD8-4F87-A64E-43168346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EB5E0-FC3A-483C-BEF3-1B8351B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7EEB73-E341-4C6F-B648-7E158AAF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8D5A48-2E0B-4581-A98B-C083794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DB860-91D5-4150-9411-0C852119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43A7F-DD40-4E54-81FB-FDE6BB0E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08DF7-F0C7-4D59-951B-B6B774B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4166F-737A-4FD2-BFFF-468D58B8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C16325-44E3-4136-A5BF-11ED8370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43F71C-E50E-42D9-813A-613B8CDC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CCD8-0863-4B8E-804E-FD97A4CD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E8F-5CC0-4170-A5AD-8E5EB99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9BC7-57F2-483D-80C7-D43A6AE9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1F77-4BFB-4315-B439-F221ABBF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3AE32-5DC6-4741-B5C7-2716028D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0D83C-B7A3-4629-9A3E-050843AD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EE37-3BC8-4CC2-A246-51E9EB0F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8AEF0-F76C-4BD0-83D4-99395D3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2CA01-396F-4365-9841-67C307C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84D1-FD56-4B10-9269-A4F73AA4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B0F4F-6BEF-4141-8AB1-4688D3E1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0D2D7-AA32-485D-A214-956FED93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FD4-5A68-4A52-8C7E-115CF81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6D2EF-299D-4A47-85F8-05A4D47A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3F18A-465B-4C34-B00D-80359B19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A2E6-CF88-42B3-AE02-0556CF62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B7CFB-59A3-43AC-BF09-93B73181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225E-BEB3-40B1-90A0-FBFF6A93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70055-A5CE-40ED-90A1-44F3FBC8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07D89-3EB6-45CF-AE8C-1AB55E5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7CD8F-826B-4819-AF55-F9E6B959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5AA23-D72F-45CF-A217-5E7EA42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0966-24FE-4DE6-BE57-08CF1DD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0BA-A8E1-4551-9D55-9C0A151A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50177-1C63-4554-BF92-5175AA54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C439-9FDF-40EF-AFEE-A1CFF9D4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9968F-033D-4F7C-B990-BC1B1B135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0605A-890C-4633-9452-FC3FE88F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A54B3-01CA-4997-9F61-7A37221A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1E100-A51C-4900-BE7E-8EDBD39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EAE99-E2F0-4DDB-ADA3-307CC296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28EAC-77BA-42FC-942F-061DBBCB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5F139-400C-4B6B-831E-D508D69A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B22E-7F9D-4B1C-8699-6C04869F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137-24B3-49D4-A971-8448A01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27E6-9BF3-4B28-AEDE-3E68D93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B4D8-9C5C-42FE-ADEC-A2D3C4C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95986-0B28-457A-A02A-529F51FA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A6D4-18B2-4108-8FAB-03C68F58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F69F-5223-4910-8AE8-C193C79F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B011C8-FB56-473C-8643-171057F1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4D6EEE-4434-4936-8CEB-871C9C4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DE0A25-9631-450C-AA7D-A5FD789D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605100-84BE-4326-A34D-0EF906C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06F752-EDBC-45A8-B3C2-E2A40069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6157-943E-4867-847D-76860820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DB3A3D-D1FF-4701-9F5C-AED3BB87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52779A-550C-4661-A5F2-264CB485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43804B-3982-42A2-A85C-4ED3AE6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502457-E5FB-45D4-8408-9E48EBA0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3DABE8-B89D-4FF8-870E-87A6958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114B4-48A2-42D3-B527-A0991C33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54887B-1C90-472A-AD54-CAFE942C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400E9-2B96-4B4E-82CF-8CA6C2E3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70E56E-B60E-49B2-94DD-EB64B7B5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B85F7-1C4C-4659-A0A9-D31A54EA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1A89-B810-4064-9C6A-C9BE6533ACD8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ذو زوايا قطرية مستديرة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مستطيل ذو زوايا قطرية مستديرة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9167-8211-41D3-A8B9-6C75EA2136A0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D783-B871-4CF0-BBE4-45C6AB637789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8BA7-6AA4-4898-9C08-17C220B550B0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42D1-86B3-435F-80E2-B65E1ADDAC44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مستطيل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ستطيل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15BF-6D26-4021-970F-05D4EB165331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مستطيل ذو زوايا قطرية مستديرة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مستطيل ذو زوايا قطرية مستديرة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مستطيل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23DF-B1A1-4E64-B72A-1F03B9559D60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مستطيل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7103-D2FC-42CA-826E-F2739B4BB369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d7442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639720" indent="-228600" algn="r" rtl="1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822240" indent="-19044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00476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1187280" indent="-182520" algn="r" rtl="1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1187280" indent="-182520" algn="r" rtl="1"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300" spc="-1" strike="noStrike">
                <a:solidFill>
                  <a:srgbClr val="f4f5ea"/>
                </a:solidFill>
                <a:latin typeface="Rockwell"/>
                <a:ea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286E-5FDB-4018-94CB-9A16DD062888}" type="slidenum">
              <a:rPr b="0" lang="ar-SA" sz="1600" spc="-1" strike="noStrike">
                <a:solidFill>
                  <a:srgbClr val="626551"/>
                </a:solidFill>
                <a:latin typeface="Rockwell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عنوان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7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عنوان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394840" cy="1420920"/>
          </a:xfrm>
          <a:prstGeom prst="rect">
            <a:avLst/>
          </a:prstGeom>
          <a:ln w="0">
            <a:noFill/>
          </a:ln>
        </p:spPr>
      </p:pic>
      <p:pic>
        <p:nvPicPr>
          <p:cNvPr id="419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38120" y="1627200"/>
            <a:ext cx="834552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-23760" y="-23760"/>
            <a:ext cx="9271080" cy="11574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22" name="Picture 3" descr="ريحة الهيموسيتوميترية.htmشكل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1" descr="grid.jpg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4" name="TextBox 2"/>
          <p:cNvSpPr/>
          <p:nvPr/>
        </p:nvSpPr>
        <p:spPr>
          <a:xfrm>
            <a:off x="6705720" y="1447920"/>
            <a:ext cx="60948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2133720" y="1447920"/>
            <a:ext cx="41256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6705720" y="4952880"/>
            <a:ext cx="53316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1981080" y="5105520"/>
            <a:ext cx="412920" cy="368280"/>
          </a:xfrm>
          <a:prstGeom prst="rect">
            <a:avLst/>
          </a:prstGeom>
          <a:solidFill>
            <a:srgbClr val="8a8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7227720" y="1170000"/>
            <a:ext cx="238320" cy="233280"/>
          </a:xfrm>
          <a:custGeom>
            <a:avLst/>
            <a:gdLst/>
            <a:ahLst/>
            <a:rect l="l" t="t" r="r" b="b"/>
            <a:pathLst>
              <a:path w="237107" h="232973">
                <a:moveTo>
                  <a:pt x="237107" y="57609"/>
                </a:moveTo>
                <a:cubicBezTo>
                  <a:pt x="0" y="71556"/>
                  <a:pt x="6630" y="0"/>
                  <a:pt x="36691" y="195395"/>
                </a:cubicBezTo>
                <a:cubicBezTo>
                  <a:pt x="38699" y="208445"/>
                  <a:pt x="45042" y="220447"/>
                  <a:pt x="49217" y="232973"/>
                </a:cubicBezTo>
                <a:cubicBezTo>
                  <a:pt x="53392" y="220447"/>
                  <a:pt x="61743" y="208599"/>
                  <a:pt x="61743" y="195395"/>
                </a:cubicBezTo>
                <a:cubicBezTo>
                  <a:pt x="61743" y="182191"/>
                  <a:pt x="51084" y="170888"/>
                  <a:pt x="49217" y="157817"/>
                </a:cubicBezTo>
                <a:cubicBezTo>
                  <a:pt x="46855" y="141284"/>
                  <a:pt x="49217" y="124414"/>
                  <a:pt x="49217" y="1077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6305400" y="1055520"/>
            <a:ext cx="959040" cy="384480"/>
          </a:xfrm>
          <a:custGeom>
            <a:avLst/>
            <a:gdLst/>
            <a:ahLst/>
            <a:rect l="l" t="t" r="r" b="b"/>
            <a:pathLst>
              <a:path w="960308" h="384182">
                <a:moveTo>
                  <a:pt x="960308" y="171240"/>
                </a:moveTo>
                <a:cubicBezTo>
                  <a:pt x="947782" y="179591"/>
                  <a:pt x="937769" y="195608"/>
                  <a:pt x="922730" y="196292"/>
                </a:cubicBezTo>
                <a:cubicBezTo>
                  <a:pt x="838282" y="200131"/>
                  <a:pt x="715786" y="194660"/>
                  <a:pt x="622105" y="171240"/>
                </a:cubicBezTo>
                <a:cubicBezTo>
                  <a:pt x="609296" y="168038"/>
                  <a:pt x="597053" y="162889"/>
                  <a:pt x="584527" y="158714"/>
                </a:cubicBezTo>
                <a:cubicBezTo>
                  <a:pt x="0" y="172971"/>
                  <a:pt x="70960" y="0"/>
                  <a:pt x="70960" y="384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1"/>
          <p:cNvSpPr/>
          <p:nvPr/>
        </p:nvSpPr>
        <p:spPr>
          <a:xfrm>
            <a:off x="7075440" y="1290600"/>
            <a:ext cx="14400" cy="149400"/>
          </a:xfrm>
          <a:custGeom>
            <a:avLst/>
            <a:gdLst/>
            <a:ahLst/>
            <a:rect l="l" t="t" r="r" b="b"/>
            <a:pathLst>
              <a:path w="13910" h="150312">
                <a:moveTo>
                  <a:pt x="13910" y="0"/>
                </a:moveTo>
                <a:cubicBezTo>
                  <a:pt x="0" y="125183"/>
                  <a:pt x="1383" y="74925"/>
                  <a:pt x="1383" y="15031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2"/>
          <p:cNvSpPr/>
          <p:nvPr/>
        </p:nvSpPr>
        <p:spPr>
          <a:xfrm>
            <a:off x="6813720" y="1201680"/>
            <a:ext cx="360" cy="263520"/>
          </a:xfrm>
          <a:custGeom>
            <a:avLst/>
            <a:gdLst/>
            <a:ahLst/>
            <a:rect l="l" t="t" r="r" b="b"/>
            <a:pathLst>
              <a:path w="0" h="263046">
                <a:moveTo>
                  <a:pt x="0" y="0"/>
                </a:moveTo>
                <a:lnTo>
                  <a:pt x="0" y="263046"/>
                </a:ln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6613560" y="1278000"/>
            <a:ext cx="12600" cy="137880"/>
          </a:xfrm>
          <a:custGeom>
            <a:avLst/>
            <a:gdLst/>
            <a:ahLst/>
            <a:rect l="l" t="t" r="r" b="b"/>
            <a:pathLst>
              <a:path w="12526" h="137786">
                <a:moveTo>
                  <a:pt x="12526" y="0"/>
                </a:moveTo>
                <a:lnTo>
                  <a:pt x="0" y="13778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سحابة 13"/>
          <p:cNvSpPr/>
          <p:nvPr/>
        </p:nvSpPr>
        <p:spPr>
          <a:xfrm>
            <a:off x="0" y="285840"/>
            <a:ext cx="2143080" cy="150012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25</a:t>
            </a: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 مربع كب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16</a:t>
            </a:r>
            <a:r>
              <a:rPr b="1" lang="ar-SA" sz="1800" spc="-1" strike="noStrike">
                <a:solidFill>
                  <a:srgbClr val="ffffff"/>
                </a:solidFill>
                <a:latin typeface="Rockwell"/>
                <a:ea typeface="Times New Roman"/>
              </a:rPr>
              <a:t> مربع صغي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000"/>
                </a:solidFill>
                <a:latin typeface="Rockwell"/>
              </a:rPr>
              <a:t>عيوب استخدامها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Rockwell"/>
              </a:rPr>
              <a:t>لا تميز بين الخلايا الحية او الميتة , صعب استخدامها مع الانواع الطحلبية ذات الاحجام الصغيرة جدا , و يصعب استخدامها مع العدسة الزيتية نظرا لسماكة الشريحة , و من الممكن ان تتجمع الخلايا مع بعضها البعض مما ينتج عنه صعوبة في عد الخلايا بصورة مفردة</a:t>
            </a:r>
            <a:r>
              <a:rPr b="1" lang="ar-SA" sz="28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7030a0"/>
                </a:solidFill>
                <a:latin typeface="Rockwell"/>
              </a:rPr>
              <a:t>مميزات استخدامها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Rockwell"/>
              </a:rPr>
              <a:t>سريعة النتائج , و تحتاج امكانيات قليلة , كما انها تعتمد على كمية قليلة من المعلق المحتوي على الخلايا الطحلبية.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Cloud 1"/>
          <p:cNvSpPr/>
          <p:nvPr/>
        </p:nvSpPr>
        <p:spPr>
          <a:xfrm>
            <a:off x="5181480" y="762120"/>
            <a:ext cx="3353040" cy="2590560"/>
          </a:xfrm>
          <a:prstGeom prst="pie">
            <a:avLst/>
          </a:prstGeom>
          <a:solidFill>
            <a:srgbClr val="72a376"/>
          </a:solidFill>
          <a:ln w="381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Rockwell"/>
                <a:cs typeface="Times New Roman"/>
              </a:rPr>
              <a:t>للتمييز السريع بين العوالق النباتية الحية والميتة يمكن استعمال مجاهر الفلوروسن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" descr="http://uqu.edu.sa/files2/tiny_mce/plugins/imagemanager/files/4281680/microscop/fluorescent_microscope.jpg"/>
          <p:cNvPicPr/>
          <p:nvPr/>
        </p:nvPicPr>
        <p:blipFill>
          <a:blip r:embed="rId1"/>
          <a:stretch/>
        </p:blipFill>
        <p:spPr>
          <a:xfrm>
            <a:off x="838080" y="457200"/>
            <a:ext cx="3552840" cy="3657600"/>
          </a:xfrm>
          <a:prstGeom prst="rect">
            <a:avLst/>
          </a:prstGeom>
          <a:ln w="0">
            <a:noFill/>
          </a:ln>
        </p:spPr>
      </p:pic>
      <p:cxnSp>
        <p:nvCxnSpPr>
          <p:cNvPr id="440" name="Straight Arrow Connector 4"/>
          <p:cNvCxnSpPr>
            <a:stCxn id="438" idx="22"/>
          </p:cNvCxnSpPr>
          <p:nvPr/>
        </p:nvCxnSpPr>
        <p:spPr>
          <a:xfrm flipH="1">
            <a:off x="4266360" y="2057040"/>
            <a:ext cx="926280" cy="153000"/>
          </a:xfrm>
          <a:prstGeom prst="straightConnector1">
            <a:avLst/>
          </a:prstGeom>
          <a:ln w="38160">
            <a:solidFill>
              <a:srgbClr val="67936a"/>
            </a:solidFill>
            <a:miter/>
            <a:tailEnd len="med" type="arrow" w="med"/>
          </a:ln>
        </p:spPr>
      </p:cxnSp>
      <p:sp>
        <p:nvSpPr>
          <p:cNvPr id="441" name="Rectangle 5"/>
          <p:cNvSpPr/>
          <p:nvPr/>
        </p:nvSpPr>
        <p:spPr>
          <a:xfrm>
            <a:off x="1204920" y="4267080"/>
            <a:ext cx="268020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Rockwell"/>
                <a:cs typeface="Times New Roman"/>
              </a:rPr>
              <a:t>مجهر فلورسنتي حدي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38120" y="237960"/>
            <a:ext cx="8497800" cy="1530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67936a"/>
            </a:solidFill>
            <a:miter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txBody>
          <a:bodyPr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Rockwell"/>
              </a:rPr>
              <a:t>عند زراعة الانواع الطحلبية في اوساط غذائية مختلفة او في ظروف نمو مختلفة , فانها اما ان تنمو نمو مثالي او قد يتأثر نموها سلبيا و ذلك باختلاف العامل المؤثر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Rockwell"/>
              </a:rPr>
              <a:t>تقدر مجاميع العوالق النباتية عن طريق :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4352a"/>
                </a:solidFill>
                <a:latin typeface="Rockwell"/>
              </a:rPr>
              <a:t>طريق العد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Rockwel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4352a"/>
                </a:solidFill>
                <a:latin typeface="Rockwell"/>
              </a:rPr>
              <a:t>طريق كتلة الكائنات الحيوية الموجودة في حجم معين من الماء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ffff00"/>
              </a:solidFill>
              <a:latin typeface="Rockwel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و لتقدير ذلك التغيير في النمو تستخدم احد المعايير الآتية </a:t>
            </a: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يمكن استخدام معيار واحد  للانواع الطحلبية سواء وحيدة الخلية او تلك الكبيرة في الحجم </a:t>
            </a: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(</a:t>
            </a:r>
            <a:r>
              <a:rPr b="1" lang="ar-SA" sz="3200" spc="-1" strike="noStrike">
                <a:solidFill>
                  <a:srgbClr val="000000"/>
                </a:solidFill>
                <a:latin typeface="Rockwel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عنوان 3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512720"/>
          </a:xfrm>
          <a:prstGeom prst="rect">
            <a:avLst/>
          </a:prstGeom>
          <a:ln w="0">
            <a:noFill/>
          </a:ln>
        </p:spPr>
      </p:pic>
      <p:pic>
        <p:nvPicPr>
          <p:cNvPr id="401" name="عنصر نائب للمحتوى 1" descr=""/>
          <p:cNvPicPr/>
          <p:nvPr/>
        </p:nvPicPr>
        <p:blipFill>
          <a:blip r:embed="rId2"/>
          <a:stretch/>
        </p:blipFill>
        <p:spPr>
          <a:xfrm>
            <a:off x="438120" y="1646280"/>
            <a:ext cx="8304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عنوان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478720" cy="1512720"/>
          </a:xfrm>
          <a:prstGeom prst="rect">
            <a:avLst/>
          </a:prstGeom>
          <a:ln w="0">
            <a:noFill/>
          </a:ln>
        </p:spPr>
      </p:pic>
      <p:pic>
        <p:nvPicPr>
          <p:cNvPr id="403" name="عنصر نائب للمحتوى 3" descr=""/>
          <p:cNvPicPr/>
          <p:nvPr/>
        </p:nvPicPr>
        <p:blipFill>
          <a:blip r:embed="rId2"/>
          <a:stretch/>
        </p:blipFill>
        <p:spPr>
          <a:xfrm>
            <a:off x="438120" y="1646280"/>
            <a:ext cx="83041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236160" cy="1195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Rockwell"/>
              </a:rPr>
              <a:t>فيها يكون تركيز الكائنات ضروريا قبل بدء عملية العد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2060"/>
                </a:solidFill>
                <a:latin typeface="Rockwell"/>
              </a:rPr>
              <a:t>فاحتواء العوالق النباتية على اعداد كبيرة من السوطيات فان الطرد المركزي هو الوسيلة الوحيدة التي يمكن الاعتماد عليها.   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cxnSp>
        <p:nvCxnSpPr>
          <p:cNvPr id="406" name="Straight Arrow Connector 12"/>
          <p:cNvCxnSpPr/>
          <p:nvPr/>
        </p:nvCxnSpPr>
        <p:spPr>
          <a:xfrm flipH="1">
            <a:off x="4952520" y="3809520"/>
            <a:ext cx="610560" cy="686520"/>
          </a:xfrm>
          <a:prstGeom prst="straightConnector1">
            <a:avLst/>
          </a:prstGeom>
          <a:ln w="38160">
            <a:solidFill>
              <a:srgbClr val="67936a"/>
            </a:solidFill>
            <a:miter/>
            <a:tailEnd len="med" type="arrow" w="med"/>
          </a:ln>
        </p:spPr>
      </p:cxnSp>
      <p:pic>
        <p:nvPicPr>
          <p:cNvPr id="407" name="رسم تخطيطي 11" descr=""/>
          <p:cNvPicPr/>
          <p:nvPr/>
        </p:nvPicPr>
        <p:blipFill>
          <a:blip r:embed="rId2"/>
          <a:stretch/>
        </p:blipFill>
        <p:spPr>
          <a:xfrm>
            <a:off x="3029040" y="2425680"/>
            <a:ext cx="6134040" cy="4146480"/>
          </a:xfrm>
          <a:prstGeom prst="rect">
            <a:avLst/>
          </a:prstGeom>
          <a:ln w="0">
            <a:noFill/>
          </a:ln>
        </p:spPr>
      </p:pic>
      <p:pic>
        <p:nvPicPr>
          <p:cNvPr id="408" name="رسم تخطيطي 13" descr=""/>
          <p:cNvPicPr/>
          <p:nvPr/>
        </p:nvPicPr>
        <p:blipFill>
          <a:blip r:embed="rId3"/>
          <a:stretch/>
        </p:blipFill>
        <p:spPr>
          <a:xfrm>
            <a:off x="268200" y="3286080"/>
            <a:ext cx="25113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3786120" y="304920"/>
            <a:ext cx="5265720" cy="981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785760" y="1107720"/>
            <a:ext cx="5108760" cy="106668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txBody>
          <a:bodyPr anchor="t">
            <a:norm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d4715"/>
                </a:solidFill>
                <a:latin typeface="Rockwell"/>
              </a:rPr>
              <a:t>في حال غياب الطحالب العالقة  الكبيرة.</a:t>
            </a: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28240" y="2209320"/>
            <a:ext cx="8666280" cy="1791000"/>
          </a:xfrm>
          <a:prstGeom prst="rect">
            <a:avLst/>
          </a:prstGeom>
          <a:solidFill>
            <a:srgbClr val="676a55"/>
          </a:solidFill>
          <a:ln w="0">
            <a:noFill/>
          </a:ln>
        </p:spPr>
        <p:txBody>
          <a:bodyPr anchor="t">
            <a:normAutofit/>
          </a:bodyPr>
          <a:p>
            <a:pPr marL="291960" indent="-29196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Rockwell"/>
              </a:rPr>
              <a:t>الهدف من التجربة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Rockwell"/>
              </a:rPr>
              <a:t>تقدير نمو الطحالب و معرفة عدد الخلايا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marL="291960" indent="-29196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Rockwell"/>
              </a:rPr>
              <a:t>لعد الطحالب وحيدة الخلية.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6d7442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Rockwell"/>
              </a:rPr>
              <a:t>طريقة العمل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903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Rockwell"/>
              </a:rPr>
              <a:t>الادوات: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تحضر العينة المراد عد الطحالب فيها  يؤخذ منها عدة قطرات وتوضع في قناة الشريحة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يوضع غطاء على الشريحة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تفحص الطحالب تحت المجهر بالقوة 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10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عد الطحالب الموجودة داخل خمس مربعات كبيرة بدلا من العد في 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25</a:t>
            </a: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مربع 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في حالة وجود طحالب كثيرة في العينة يجرى تخفيف للعينة .وفي حالة وجود طحالب قليلة يجرى طرد مركزي للعينة ثم تؤخذ الطحالب الموجودة فيها ويتم عدها.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  <a:p>
            <a:pPr marL="616680" indent="-616680" algn="r" rtl="1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واذا وجد طحالب تتحرك ذات اسواط يتم اضافة الفورمالين لقتهلها  ليتسنى العد. </a:t>
            </a:r>
            <a:br>
              <a:rPr sz="1800"/>
            </a:b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Rockwel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644720" y="2361960"/>
            <a:ext cx="404172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8720" indent="-28872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شريحة العد </a:t>
            </a:r>
            <a:r>
              <a:rPr b="0" lang="en-US" sz="2200" spc="-1" strike="noStrike">
                <a:solidFill>
                  <a:srgbClr val="000000"/>
                </a:solidFill>
                <a:latin typeface="Rockwell"/>
              </a:rPr>
              <a:t>Hemacytometer</a:t>
            </a:r>
            <a:br>
              <a:rPr sz="2200"/>
            </a:b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ميكروسكوب</a:t>
            </a:r>
            <a:br>
              <a:rPr sz="2200"/>
            </a:br>
            <a:r>
              <a:rPr b="0" lang="ar-SA" sz="2200" spc="-1" strike="noStrike">
                <a:solidFill>
                  <a:srgbClr val="000000"/>
                </a:solidFill>
                <a:latin typeface="Rockwell"/>
              </a:rPr>
              <a:t>عينة طحالب متجانسة وحيدة الخلية.</a:t>
            </a: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  <a:p>
            <a:pPr marL="288720" indent="-288720" algn="r" rtl="1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49120" y="219240"/>
            <a:ext cx="853452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13:07:11Z</dcterms:created>
  <dc:creator>العنود</dc:creator>
  <dc:description/>
  <dc:language>en-US</dc:language>
  <cp:lastModifiedBy>Amal Alotibi</cp:lastModifiedBy>
  <dcterms:modified xsi:type="dcterms:W3CDTF">2015-02-25T08:03:53Z</dcterms:modified>
  <cp:revision>14</cp:revision>
  <dc:subject/>
  <dc:title>الطرق المختلفة لتقدير النمو الطحلبي</dc:title>
</cp:coreProperties>
</file>