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C6C-433D-4848-B014-DDF10CD5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B23-C927-44DD-8330-7B8096B6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03A5A5-EBBF-4EB2-B671-C2D7EA0C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3F65B8-758E-48D9-8389-31652E4E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0429DB-4A12-4515-BFA2-4A13CE40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A1F05A-83CE-4787-B845-4926BAEA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BB25A8-3966-44F7-8401-00B9214B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CD3FD7-9507-4BCF-ACEB-E3EF05D6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09080D-2B16-41AA-BAA5-851FD7A6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268DF6-546C-485F-B662-EBE80C18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A788D7-F3AB-4E1B-82B9-ED6E0520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49A-41F6-497C-BA64-1B4B6D8F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C8C-7DD1-4BE4-8D32-9439308A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87C0D-1DB8-499A-8CCD-6DEB52A0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234FB-F75B-4D27-8C37-41CA22F5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A85DC-BE94-4DBD-84D0-0DC8A7B6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85FBE-EDE6-4ED5-8130-3664CC40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25458-8AE6-4A33-BD2F-10793872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5780F-520E-4A8E-B377-0A4F5837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C3E0F-8617-4E2C-A48E-E57B3983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2E6-E168-4DC0-9935-2868C5BC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741F4-B96D-4634-8CD1-B8A29253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49826-CC23-4587-81CA-DFD03684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8190F-B829-42DC-BD7B-255215F9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49A80-E7FC-46D4-8406-C2DE22CC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2602A-6F4B-48F2-B464-3339D05C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EAA7-7E8E-4197-AD5E-994EF0BA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288EF-6E74-4058-BCCE-6AE83122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3A8D-1616-4D45-A08A-A7DF1988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03BDA-A49F-4E2D-8063-A87767B4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835E-2038-4842-B0D6-FDDFD302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A6C-F7CB-4CE8-8CB6-35A2C45E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1BF99-CB21-40EC-8AD3-7A10752D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A6AC7-847D-4C7F-BAE8-0A9BA8C8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3CB58-0C1D-4F2E-83D8-5BBDB064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8A603-58F6-4E0A-9F1B-B84D5317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3A14B-D26A-427F-B064-211C53D3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AF9E-A2F3-495C-A060-441E71A6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D8AB3-BC59-422D-9CE7-82CBA3E0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A7568-A6A3-43B2-AA83-904A3E59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F64CE-C0DE-4989-9A75-FE775C1A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50086-D84A-4B0E-B7B5-DDF85814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C43-2A84-4EEF-A649-028154D2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EE7FA-02EE-4BF7-BA01-319E0492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3FB5FB-5FE0-43C0-8A24-0F855E07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223B3-9720-4F75-9014-123E95F4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9BE90A-1B62-4EDF-ABE4-717B1C40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C9924D-F3D7-496B-9E75-5B2EF722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431E6C-BF4F-4B10-B572-0DC25F3D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00D515-9D8E-4431-8097-954BF3BD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F6C3DF-5B9A-427F-BA98-C0C2354D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B524DE-C3AD-4166-8250-3BD36B0C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4D717-ADCC-42A4-9904-4291019E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A642-4915-4D79-8659-93A403A3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46682-5989-4A92-AFA2-EFA21262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CC717-BCED-4502-8688-AF5485F0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159A3-1123-4A24-B243-19171C8F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DF0C9-0A25-479A-9DFE-F9A79D75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CC919-05C4-4FAF-8647-54F727C8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4DF21-E57B-463F-A5C5-52F7EBDD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27527-B6E8-4297-834B-C18FC012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A274C-CFED-430D-9434-B4657409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9F50B-58C9-4D02-A27A-DA59B7D0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F3517-CD66-47A5-9799-E5C5CD26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834-425F-4242-91DB-48406906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B023F-10B9-4998-8B42-A48C269B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C67A9-2832-4A6F-AC0F-A6F016E2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A1402-3F2E-4F14-BDD1-5DB28753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060CC-307B-4497-A628-87CD91E2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BCD3E-15AF-4B56-BFDD-2636C07B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70621-0583-4EB2-9706-DF527F8B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92A81-8DB4-49BB-9F9B-C9D0C543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F0D0E-F4FA-400A-817F-656185FB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0E290-9611-47FA-9C68-BF5F55C8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14FBC-AD1A-4DAA-BB21-0C3B0DA7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903-1307-467C-97E9-606EC3DE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B1AAC-234F-4FF1-BA68-1A74DACF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A1CDA-D5C8-4D8A-A71B-35E11B06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7564D-4C52-4A90-ACD4-A022FD97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B8A72-A0A8-483C-B271-7D29B5D3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BCAE3-26FB-4CEC-ABB2-65B5FEF9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02155-9143-400F-8D28-3ECF1233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5B4E1-3EC2-4EE3-9FF3-4DC22803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75398-6C01-4BB4-A50B-44BDAE92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CB383-E5D2-4310-AB6F-E1BE29FA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5CCA4-363D-4A40-AC0A-FF7E7A2B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003-9FDA-4B97-98F8-266F19B0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0D304-FC21-400D-835C-B574A215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58A31-FF9F-4835-9EFB-10302D62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3C026-1EBF-4FBC-8AF7-65A66C8A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03AA2-B756-4085-AC3A-6256D2D4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E38C3-BB27-45F5-B037-1732CB10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F281B0-E4AD-47CF-BCDA-6B7882ED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741791-78D2-485B-ABAC-58C255EA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D13C20-61C0-479C-8FCF-609D63BA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E6A7BA-6DC9-42B6-9269-298F30EC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B63244-20A9-4889-81EB-A2D98A7B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B24-9B7C-43F3-B28B-59278AFC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A2496D-446A-431E-BCE9-DFB2599D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047CA2-03BA-4025-B77C-D102DDA2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4DD848-734D-4884-AD36-99419376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07E9FF-AD90-4B06-BC4A-71FF6F48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1A54A1-5944-4004-AB68-12DCED63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CCB10F-8769-449A-A13E-94072A03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5E786F-788C-4A97-8B18-64A3C991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D90FA1-C033-4C78-BA0B-537F5A44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7817C3-D4CF-4865-A4EB-22C7B7EF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231063-192E-43B3-AC40-147ED2DC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E7FA-85B7-417B-858C-5EFAC0B7C8E3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مستطيل ذو زوايا قطرية مستديرة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مستطيل ذو زوايا قطرية مستديرة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7C93-749B-4D1D-B725-625BBE696476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مستطيل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3CE1-1282-45D5-9703-0549734DCA80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مستطيل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E2D2-45A6-4D5C-859B-AD3EF9944A08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مستطيل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8E96-DE23-41FE-A35E-935D57A55C98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مستطيل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مستطيل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DEDA-44EE-4D9F-9259-0E32A470B4BC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مستطيل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2A38-9966-4C98-A13C-96D87B5FB484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مستطيل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F14E-891C-4480-90AD-75836BB60060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B519-A36F-40EE-8970-7EF8E13DDFED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عنوان 1" descr=""/>
          <p:cNvPicPr/>
          <p:nvPr/>
        </p:nvPicPr>
        <p:blipFill>
          <a:blip r:embed="rId1"/>
          <a:stretch/>
        </p:blipFill>
        <p:spPr>
          <a:xfrm>
            <a:off x="463680" y="384120"/>
            <a:ext cx="8412120" cy="25970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عنوان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394840" cy="1420920"/>
          </a:xfrm>
          <a:prstGeom prst="rect">
            <a:avLst/>
          </a:prstGeom>
          <a:ln w="0">
            <a:noFill/>
          </a:ln>
        </p:spPr>
      </p:pic>
      <p:pic>
        <p:nvPicPr>
          <p:cNvPr id="419" name="عنصر نائب للمحتوى 3" descr=""/>
          <p:cNvPicPr/>
          <p:nvPr/>
        </p:nvPicPr>
        <p:blipFill>
          <a:blip r:embed="rId2"/>
          <a:stretch/>
        </p:blipFill>
        <p:spPr>
          <a:xfrm>
            <a:off x="438120" y="1627200"/>
            <a:ext cx="834552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271080" cy="1157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22" name="Picture 3" descr="ريحة الهيموسيتوميترية.htmشكل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1" descr="grid.jpg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424" name="TextBox 2"/>
          <p:cNvSpPr/>
          <p:nvPr/>
        </p:nvSpPr>
        <p:spPr>
          <a:xfrm>
            <a:off x="6705720" y="1447920"/>
            <a:ext cx="609480" cy="368280"/>
          </a:xfrm>
          <a:prstGeom prst="rect">
            <a:avLst/>
          </a:prstGeom>
          <a:solidFill>
            <a:srgbClr val="8a8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"/>
          <p:cNvSpPr/>
          <p:nvPr/>
        </p:nvSpPr>
        <p:spPr>
          <a:xfrm>
            <a:off x="2133720" y="1447920"/>
            <a:ext cx="412560" cy="368280"/>
          </a:xfrm>
          <a:prstGeom prst="rect">
            <a:avLst/>
          </a:prstGeom>
          <a:solidFill>
            <a:srgbClr val="8a8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6705720" y="4952880"/>
            <a:ext cx="533160" cy="368280"/>
          </a:xfrm>
          <a:prstGeom prst="rect">
            <a:avLst/>
          </a:prstGeom>
          <a:solidFill>
            <a:srgbClr val="8a8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1981080" y="5105520"/>
            <a:ext cx="412920" cy="368280"/>
          </a:xfrm>
          <a:prstGeom prst="rect">
            <a:avLst/>
          </a:prstGeom>
          <a:solidFill>
            <a:srgbClr val="8a8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9"/>
          <p:cNvSpPr/>
          <p:nvPr/>
        </p:nvSpPr>
        <p:spPr>
          <a:xfrm>
            <a:off x="7227720" y="1170000"/>
            <a:ext cx="238320" cy="233280"/>
          </a:xfrm>
          <a:custGeom>
            <a:avLst/>
            <a:gdLst/>
            <a:ahLst/>
            <a:rect l="l" t="t" r="r" b="b"/>
            <a:pathLst>
              <a:path w="237107" h="232973">
                <a:moveTo>
                  <a:pt x="237107" y="57609"/>
                </a:moveTo>
                <a:cubicBezTo>
                  <a:pt x="0" y="71556"/>
                  <a:pt x="6630" y="0"/>
                  <a:pt x="36691" y="195395"/>
                </a:cubicBezTo>
                <a:cubicBezTo>
                  <a:pt x="38699" y="208445"/>
                  <a:pt x="45042" y="220447"/>
                  <a:pt x="49217" y="232973"/>
                </a:cubicBezTo>
                <a:cubicBezTo>
                  <a:pt x="53392" y="220447"/>
                  <a:pt x="61743" y="208599"/>
                  <a:pt x="61743" y="195395"/>
                </a:cubicBezTo>
                <a:cubicBezTo>
                  <a:pt x="61743" y="182191"/>
                  <a:pt x="51084" y="170888"/>
                  <a:pt x="49217" y="157817"/>
                </a:cubicBezTo>
                <a:cubicBezTo>
                  <a:pt x="46855" y="141284"/>
                  <a:pt x="49217" y="124414"/>
                  <a:pt x="49217" y="10771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0"/>
          <p:cNvSpPr/>
          <p:nvPr/>
        </p:nvSpPr>
        <p:spPr>
          <a:xfrm>
            <a:off x="6305400" y="1055520"/>
            <a:ext cx="959040" cy="384480"/>
          </a:xfrm>
          <a:custGeom>
            <a:avLst/>
            <a:gdLst/>
            <a:ahLst/>
            <a:rect l="l" t="t" r="r" b="b"/>
            <a:pathLst>
              <a:path w="960308" h="384182">
                <a:moveTo>
                  <a:pt x="960308" y="171240"/>
                </a:moveTo>
                <a:cubicBezTo>
                  <a:pt x="947782" y="179591"/>
                  <a:pt x="937769" y="195608"/>
                  <a:pt x="922730" y="196292"/>
                </a:cubicBezTo>
                <a:cubicBezTo>
                  <a:pt x="838282" y="200131"/>
                  <a:pt x="715786" y="194660"/>
                  <a:pt x="622105" y="171240"/>
                </a:cubicBezTo>
                <a:cubicBezTo>
                  <a:pt x="609296" y="168038"/>
                  <a:pt x="597053" y="162889"/>
                  <a:pt x="584527" y="158714"/>
                </a:cubicBezTo>
                <a:cubicBezTo>
                  <a:pt x="0" y="172971"/>
                  <a:pt x="70960" y="0"/>
                  <a:pt x="70960" y="3841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1"/>
          <p:cNvSpPr/>
          <p:nvPr/>
        </p:nvSpPr>
        <p:spPr>
          <a:xfrm>
            <a:off x="7075440" y="1290600"/>
            <a:ext cx="14400" cy="149400"/>
          </a:xfrm>
          <a:custGeom>
            <a:avLst/>
            <a:gdLst/>
            <a:ahLst/>
            <a:rect l="l" t="t" r="r" b="b"/>
            <a:pathLst>
              <a:path w="13910" h="150312">
                <a:moveTo>
                  <a:pt x="13910" y="0"/>
                </a:moveTo>
                <a:cubicBezTo>
                  <a:pt x="0" y="125183"/>
                  <a:pt x="1383" y="74925"/>
                  <a:pt x="1383" y="15031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2"/>
          <p:cNvSpPr/>
          <p:nvPr/>
        </p:nvSpPr>
        <p:spPr>
          <a:xfrm>
            <a:off x="6813720" y="1201680"/>
            <a:ext cx="360" cy="263520"/>
          </a:xfrm>
          <a:custGeom>
            <a:avLst/>
            <a:gdLst/>
            <a:ahLst/>
            <a:rect l="l" t="t" r="r" b="b"/>
            <a:pathLst>
              <a:path w="0" h="263046">
                <a:moveTo>
                  <a:pt x="0" y="0"/>
                </a:moveTo>
                <a:lnTo>
                  <a:pt x="0" y="263046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4"/>
          <p:cNvSpPr/>
          <p:nvPr/>
        </p:nvSpPr>
        <p:spPr>
          <a:xfrm>
            <a:off x="6613560" y="1278000"/>
            <a:ext cx="12600" cy="137880"/>
          </a:xfrm>
          <a:custGeom>
            <a:avLst/>
            <a:gdLst/>
            <a:ahLst/>
            <a:rect l="l" t="t" r="r" b="b"/>
            <a:pathLst>
              <a:path w="12526" h="137786">
                <a:moveTo>
                  <a:pt x="12526" y="0"/>
                </a:moveTo>
                <a:lnTo>
                  <a:pt x="0" y="13778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سحابة 13"/>
          <p:cNvSpPr/>
          <p:nvPr/>
        </p:nvSpPr>
        <p:spPr>
          <a:xfrm>
            <a:off x="0" y="285840"/>
            <a:ext cx="2143080" cy="1500120"/>
          </a:xfrm>
          <a:prstGeom prst="pi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Rockwell"/>
                <a:ea typeface="Times New Roman"/>
              </a:rPr>
              <a:t>25</a:t>
            </a:r>
            <a:r>
              <a:rPr b="1" lang="ar-SA" sz="1800" spc="-1" strike="noStrike">
                <a:solidFill>
                  <a:srgbClr val="ffffff"/>
                </a:solidFill>
                <a:latin typeface="Rockwell"/>
                <a:ea typeface="Times New Roman"/>
              </a:rPr>
              <a:t> مربع كب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Rockwell"/>
                <a:ea typeface="Times New Roman"/>
              </a:rPr>
              <a:t>16</a:t>
            </a:r>
            <a:r>
              <a:rPr b="1" lang="ar-SA" sz="1800" spc="-1" strike="noStrike">
                <a:solidFill>
                  <a:srgbClr val="ffffff"/>
                </a:solidFill>
                <a:latin typeface="Rockwell"/>
                <a:ea typeface="Times New Roman"/>
              </a:rPr>
              <a:t> مربع صغ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0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Rockwell"/>
              </a:rPr>
              <a:t>عيوب استخدامها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236196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Rockwell"/>
              </a:rPr>
              <a:t>لا تميز بين الخلايا الحية او الميتة , صعب استخدامها مع الانواع الطحلبية ذات الاحجام الصغيرة جدا , و يصعب استخدامها مع العدسة الزيتية نظرا لسماكة الشريحة , و من الممكن ان تتجمع الخلايا مع بعضها البعض مما ينتج عنه صعوبة في عد الخلايا بصورة مفردة</a:t>
            </a:r>
            <a:r>
              <a:rPr b="1" lang="ar-SA" sz="28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0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030a0"/>
                </a:solidFill>
                <a:latin typeface="Rockwell"/>
              </a:rPr>
              <a:t>مميزات استخدامها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644720" y="236196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Rockwell"/>
              </a:rPr>
              <a:t>سريعة النتائج , و تحتاج امكانيات قليلة , كما انها تعتمد على كمية قليلة من المعلق المحتوي على الخلايا الطحلبية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Cloud 1"/>
          <p:cNvSpPr/>
          <p:nvPr/>
        </p:nvSpPr>
        <p:spPr>
          <a:xfrm>
            <a:off x="5181480" y="762120"/>
            <a:ext cx="3353040" cy="2590560"/>
          </a:xfrm>
          <a:prstGeom prst="pi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Rockwell"/>
                <a:cs typeface="Times New Roman"/>
              </a:rPr>
              <a:t>للتمييز السريع بين العوالق النباتية الحية والميتة يمكن استعمال مجاهر الفلوروسن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http://uqu.edu.sa/files2/tiny_mce/plugins/imagemanager/files/4281680/microscop/fluorescent_microscope.jpg"/>
          <p:cNvPicPr/>
          <p:nvPr/>
        </p:nvPicPr>
        <p:blipFill>
          <a:blip r:embed="rId1"/>
          <a:stretch/>
        </p:blipFill>
        <p:spPr>
          <a:xfrm>
            <a:off x="838080" y="457200"/>
            <a:ext cx="3552840" cy="3657600"/>
          </a:xfrm>
          <a:prstGeom prst="rect">
            <a:avLst/>
          </a:prstGeom>
          <a:ln w="0">
            <a:noFill/>
          </a:ln>
        </p:spPr>
      </p:pic>
      <p:cxnSp>
        <p:nvCxnSpPr>
          <p:cNvPr id="440" name="Straight Arrow Connector 4"/>
          <p:cNvCxnSpPr>
            <a:stCxn id="438" idx="22"/>
          </p:cNvCxnSpPr>
          <p:nvPr/>
        </p:nvCxnSpPr>
        <p:spPr>
          <a:xfrm flipH="1">
            <a:off x="4266360" y="2057040"/>
            <a:ext cx="926280" cy="153000"/>
          </a:xfrm>
          <a:prstGeom prst="straightConnector1">
            <a:avLst/>
          </a:prstGeom>
          <a:ln w="38160">
            <a:solidFill>
              <a:srgbClr val="67936a"/>
            </a:solidFill>
            <a:miter/>
            <a:tailEnd len="med" type="arrow" w="med"/>
          </a:ln>
        </p:spPr>
      </p:cxnSp>
      <p:sp>
        <p:nvSpPr>
          <p:cNvPr id="441" name="Rectangle 5"/>
          <p:cNvSpPr/>
          <p:nvPr/>
        </p:nvSpPr>
        <p:spPr>
          <a:xfrm>
            <a:off x="1204920" y="4267080"/>
            <a:ext cx="268020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Rockwell"/>
                <a:cs typeface="Times New Roman"/>
              </a:rPr>
              <a:t>مجهر فلورسنتي حدي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38120" y="237960"/>
            <a:ext cx="8497800" cy="1530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67936a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txBody>
          <a:bodyPr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Rockwell"/>
              </a:rPr>
              <a:t>عند زراعة الانواع الطحلبية في اوساط غذائية مختلفة او في ظروف نمو مختلفة , فانها اما ان تنمو نمو مثالي او قد يتأثر نموها سلبيا و ذلك باختلاف العامل المؤثر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Rockwell"/>
              </a:rPr>
              <a:t>تقدر مجاميع العوالق النباتية عن طريق :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buClr>
                <a:srgbClr val="72a376"/>
              </a:buClr>
              <a:buSzPct val="70000"/>
              <a:buFont typeface="Rockw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4352a"/>
                </a:solidFill>
                <a:latin typeface="Rockwell"/>
              </a:rPr>
              <a:t>طريق العد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buClr>
                <a:srgbClr val="72a376"/>
              </a:buClr>
              <a:buSzPct val="70000"/>
              <a:buFont typeface="Rockw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4352a"/>
                </a:solidFill>
                <a:latin typeface="Rockwell"/>
              </a:rPr>
              <a:t>طريق كتلة الكائنات الحيوية الموجودة في حجم معين من الماء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ffff00"/>
              </a:solidFill>
              <a:latin typeface="Rockwel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و لتقدير ذلك التغيير في النمو تستخدم احد المعايير الآتية 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Rockwell"/>
              </a:rPr>
              <a:t>(</a:t>
            </a: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يمكن استخدام معيار واحد  للانواع الطحلبية سواء وحيدة الخلية او تلك الكبيرة في الحجم </a:t>
            </a: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(</a:t>
            </a: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عنوان 3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78720" cy="1512720"/>
          </a:xfrm>
          <a:prstGeom prst="rect">
            <a:avLst/>
          </a:prstGeom>
          <a:ln w="0">
            <a:noFill/>
          </a:ln>
        </p:spPr>
      </p:pic>
      <p:pic>
        <p:nvPicPr>
          <p:cNvPr id="401" name="عنصر نائب للمحتوى 1" descr=""/>
          <p:cNvPicPr/>
          <p:nvPr/>
        </p:nvPicPr>
        <p:blipFill>
          <a:blip r:embed="rId2"/>
          <a:stretch/>
        </p:blipFill>
        <p:spPr>
          <a:xfrm>
            <a:off x="438120" y="1646280"/>
            <a:ext cx="83041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عنوان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78720" cy="1512720"/>
          </a:xfrm>
          <a:prstGeom prst="rect">
            <a:avLst/>
          </a:prstGeom>
          <a:ln w="0">
            <a:noFill/>
          </a:ln>
        </p:spPr>
      </p:pic>
      <p:pic>
        <p:nvPicPr>
          <p:cNvPr id="403" name="عنصر نائب للمحتوى 3" descr=""/>
          <p:cNvPicPr/>
          <p:nvPr/>
        </p:nvPicPr>
        <p:blipFill>
          <a:blip r:embed="rId2"/>
          <a:stretch/>
        </p:blipFill>
        <p:spPr>
          <a:xfrm>
            <a:off x="438120" y="1646280"/>
            <a:ext cx="83041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236160" cy="1195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Rockwell"/>
              </a:rPr>
              <a:t>فيها يكون تركيز الكائنات ضروريا قبل بدء عملية العد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Rockwell"/>
              </a:rPr>
              <a:t>فاحتواء العوالق النباتية على اعداد كبيرة من السوطيات فان الطرد المركزي هو الوسيلة الوحيدة التي يمكن الاعتماد عليها.  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cxnSp>
        <p:nvCxnSpPr>
          <p:cNvPr id="406" name="Straight Arrow Connector 12"/>
          <p:cNvCxnSpPr/>
          <p:nvPr/>
        </p:nvCxnSpPr>
        <p:spPr>
          <a:xfrm flipH="1">
            <a:off x="4952520" y="3809520"/>
            <a:ext cx="610560" cy="686520"/>
          </a:xfrm>
          <a:prstGeom prst="straightConnector1">
            <a:avLst/>
          </a:prstGeom>
          <a:ln w="38160">
            <a:solidFill>
              <a:srgbClr val="67936a"/>
            </a:solidFill>
            <a:miter/>
            <a:tailEnd len="med" type="arrow" w="med"/>
          </a:ln>
        </p:spPr>
      </p:cxnSp>
      <p:pic>
        <p:nvPicPr>
          <p:cNvPr id="407" name="رسم تخطيطي 11" descr=""/>
          <p:cNvPicPr/>
          <p:nvPr/>
        </p:nvPicPr>
        <p:blipFill>
          <a:blip r:embed="rId2"/>
          <a:stretch/>
        </p:blipFill>
        <p:spPr>
          <a:xfrm>
            <a:off x="3029040" y="2425680"/>
            <a:ext cx="6134040" cy="4146480"/>
          </a:xfrm>
          <a:prstGeom prst="rect">
            <a:avLst/>
          </a:prstGeom>
          <a:ln w="0">
            <a:noFill/>
          </a:ln>
        </p:spPr>
      </p:pic>
      <p:pic>
        <p:nvPicPr>
          <p:cNvPr id="408" name="رسم تخطيطي 13" descr=""/>
          <p:cNvPicPr/>
          <p:nvPr/>
        </p:nvPicPr>
        <p:blipFill>
          <a:blip r:embed="rId3"/>
          <a:stretch/>
        </p:blipFill>
        <p:spPr>
          <a:xfrm>
            <a:off x="268200" y="3286080"/>
            <a:ext cx="25113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3786120" y="304920"/>
            <a:ext cx="5265720" cy="981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785760" y="1107720"/>
            <a:ext cx="5108760" cy="1066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txBody>
          <a:bodyPr anchor="t">
            <a:norm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d4715"/>
                </a:solidFill>
                <a:latin typeface="Rockwell"/>
              </a:rPr>
              <a:t>في حال غياب الطحالب العالقة  الكبيرة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240" y="2209320"/>
            <a:ext cx="8666280" cy="179100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txBody>
          <a:bodyPr anchor="t">
            <a:normAutofit/>
          </a:bodyPr>
          <a:p>
            <a:pPr marL="291960" indent="-291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Rockwell"/>
              </a:rPr>
              <a:t>الهدف من التجربة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r" rtl="1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Rockwell"/>
              </a:rPr>
              <a:t>تقدير نمو الطحالب و معرفة عدد الخلايا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r" rtl="1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Rockwell"/>
              </a:rPr>
              <a:t>لعد الطحالب وحيدة الخلية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0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Rockwell"/>
              </a:rPr>
              <a:t>طريقة العمل: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0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Rockwell"/>
              </a:rPr>
              <a:t>الادوات: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236196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616680" indent="-616680" algn="r" rtl="1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تحضر العينة المراد عد الطحالب فيها  يؤخذ منها عدة قطرات وتوضع في قناة الشريحة.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616680" indent="-616680" algn="r" rtl="1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يوضع غطاء على الشريحة.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616680" indent="-616680" algn="r" rtl="1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تفحص الطحالب تحت المجهر بالقوة </a:t>
            </a: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10</a:t>
            </a: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616680" indent="-616680" algn="r" rtl="1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عد الطحالب الموجودة داخل خمس مربعات كبيرة بدلا من العد في </a:t>
            </a: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25</a:t>
            </a: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 مربع .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616680" indent="-616680" algn="r" rtl="1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في حالة وجود طحالب كثيرة في العينة يجرى تخفيف للعينة .وفي حالة وجود طحالب قليلة يجرى طرد مركزي للعينة ثم تؤخذ الطحالب الموجودة فيها ويتم عدها.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616680" indent="-616680" algn="r" rtl="1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واذا وجد طحالب تتحرك ذات اسواط يتم اضافة الفورمالين لقتهلها  ليتسنى العد. </a:t>
            </a: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44720" y="2361960"/>
            <a:ext cx="4041720" cy="14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720" indent="-28872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Rockwell"/>
              </a:rPr>
              <a:t>شريحة العد 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</a:rPr>
              <a:t>Hemacytometer</a:t>
            </a:r>
            <a:br>
              <a:rPr sz="2200"/>
            </a:br>
            <a:r>
              <a:rPr b="0" lang="ar-SA" sz="2200" spc="-1" strike="noStrike">
                <a:solidFill>
                  <a:srgbClr val="000000"/>
                </a:solidFill>
                <a:latin typeface="Rockwell"/>
              </a:rPr>
              <a:t>ميكروسكوب</a:t>
            </a:r>
            <a:br>
              <a:rPr sz="2200"/>
            </a:br>
            <a:r>
              <a:rPr b="0" lang="ar-SA" sz="2200" spc="-1" strike="noStrike">
                <a:solidFill>
                  <a:srgbClr val="000000"/>
                </a:solidFill>
                <a:latin typeface="Rockwell"/>
              </a:rPr>
              <a:t>عينة طحالب متجانسة وحيدة الخلية.</a:t>
            </a:r>
            <a:endParaRPr b="0" lang="en-US" sz="2200" spc="-1" strike="noStrike">
              <a:solidFill>
                <a:srgbClr val="000000"/>
              </a:solidFill>
              <a:latin typeface="Rockwell"/>
            </a:endParaRPr>
          </a:p>
          <a:p>
            <a:pPr marL="288720" indent="-28872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49120" y="219240"/>
            <a:ext cx="853452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3:07:11Z</dcterms:created>
  <dc:creator>العنود</dc:creator>
  <dc:description/>
  <dc:language>en-US</dc:language>
  <cp:lastModifiedBy>Amal Alotibi</cp:lastModifiedBy>
  <dcterms:modified xsi:type="dcterms:W3CDTF">2015-02-25T08:03:53Z</dcterms:modified>
  <cp:revision>14</cp:revision>
  <dc:subject/>
  <dc:title>الطرق المختلفة لتقدير النمو الطحلبي</dc:title>
</cp:coreProperties>
</file>