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AC31-BC97-428D-A83D-DFD4BAA09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F2DD-DA1C-4EDF-9E8A-352FA8B28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D519-0FB4-4FB1-A3F3-0F1EEC7CE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984F-CC46-405F-889B-F44F6918F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6C43-ACCF-4234-BC96-5C35F2C04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79D8-B393-494B-AB78-1E3256A76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E88A-6510-40EA-8BB2-FC48AD082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5792-26B9-4519-9FEC-B9FFC36BB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4913-2A72-4685-B443-353DECC7D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5A42-CA1C-45D4-BC9C-DD927B42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794E-0907-470B-86AD-140BF298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483D-9A7C-4CFC-A9F8-80BC1828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B7A4A-BCB8-4BAC-98AA-05E75C9CA93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727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عالجة الحيوية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hytoremed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المعالجة الحيو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تقنية يُستخدم فيها عدد من الكائنات الحية لتحلل أو استخلاص أو احتواء أو تقليل حركة الملوثات سواءً في التربة أو الماء، 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  <a:cs typeface="Traditional Arabic"/>
              </a:rPr>
              <a:t>وتعتبر النباتات الأكثر استخداما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yto= plant and remediation= corr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1991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PA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حماية صحة الإنسان والبيئة من المخاطر المصاحبة لمواقع وعمليات التخلص من المخلفات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تشجيع تطوير تقنيات المعالجة الحيوية لإعادة معالجة تلك المواق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تطبيقات المعالجة الحيو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أولاً: التفكك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Degradation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تفكيك وتحلل في التربة الملامسة للجذور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Rhizosphere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ملوثات الهيدروكربونية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TNT, TPH, PC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)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ثانياً: الاستخلاص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Extraction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استخلاص الحيوي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Phytoextraction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Rhizofiltration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Volatilization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500040"/>
            <a:ext cx="8229600" cy="5929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ثالثاً: منع وإيقاف الحركة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inment and Immobilization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تركيز في الجذور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تحويل لصور غير خطر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428760"/>
            <a:ext cx="8229600" cy="5929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محددات المعالجة الحيوية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نظام الجذر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عدل النمو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تركيز الملوثات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غطاء الخضري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عتبارات تقنية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وجود دراسات معملية سابق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عرفة ميكانيكية عمل النباتات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وجود بدائل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زمن المستغر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مراقبة الدائمة لفاعلية المعالجة الحيوي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500040" y="428760"/>
            <a:ext cx="5072040" cy="2357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" descr=""/>
          <p:cNvPicPr/>
          <p:nvPr/>
        </p:nvPicPr>
        <p:blipFill>
          <a:blip r:embed="rId2"/>
          <a:stretch/>
        </p:blipFill>
        <p:spPr>
          <a:xfrm>
            <a:off x="468360" y="2781360"/>
            <a:ext cx="3887640" cy="24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عتبارات اقتصادية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50-80%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أقل تكلف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2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أيكر ملوث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Pb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2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مليون،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6.3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مليون،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200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أل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674640" y="3141720"/>
            <a:ext cx="7353360" cy="296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" descr=""/>
          <p:cNvPicPr/>
          <p:nvPr/>
        </p:nvPicPr>
        <p:blipFill>
          <a:blip r:embed="rId2"/>
          <a:stretch/>
        </p:blipFill>
        <p:spPr>
          <a:xfrm>
            <a:off x="684360" y="533520"/>
            <a:ext cx="330804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3T20:48:41Z</dcterms:created>
  <dc:creator>Dr.Farraj</dc:creator>
  <dc:description/>
  <dc:language>en-US</dc:language>
  <cp:lastModifiedBy>Abdullah Al-Farraj</cp:lastModifiedBy>
  <dcterms:modified xsi:type="dcterms:W3CDTF">2014-10-21T04:42:20Z</dcterms:modified>
  <cp:revision>47</cp:revision>
  <dc:subject/>
  <dc:title>Slide 1</dc:title>
</cp:coreProperties>
</file>