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80E-BA78-4A02-8634-5FF11A2C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0839-F95B-4651-91A9-B684C465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211-91DA-40DF-AE31-FB39D3FC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685-B7D8-4F4B-B49E-1872AFCE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91C-0DF9-47E2-8D3F-9AC85912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A47-929E-441B-9B3E-3BB06EE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8BE-90D6-444A-AA79-E4D18B3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7C8-CA91-469A-9839-8F46C97D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E6F5-4F5C-4E4E-AC3F-BF93097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6821-7725-4A6E-B523-254E51AF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C2B-512E-437B-B574-690A7B45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EC7-6189-4474-8168-CA0838F2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BAF2-3F34-4325-BB19-721B0BB4C9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عالجة الحيوية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toreme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معالجة الحي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قنية يُستخدم فيها عدد من الكائنات الحية لتحلل أو استخلاص أو احتواء أو تقليل حركة الملوثات سواءً في التربة أو الماء،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  <a:cs typeface="Traditional Arabic"/>
              </a:rPr>
              <a:t>وتعتبر النباتات الأكثر استخداما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to= plant and remediation=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99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PA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حماية صحة الإنسان والبيئة من المخاطر المصاحبة لمواقع وعمليات التخلص من المخلف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شجيع تطوير تقنيات المعالجة الحيوية لإعادة معالجة تلك المواق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طبيقات المعالجة الحيو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لاً: التفكك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Degrada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فكيك وتحلل في التربة الملامسة للجذو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Rhizosphere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لوثات الهيدروكربوني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TNT, TPH, PC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ثانياً: الاستخلا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Extrac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استخلاص الحيو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Phytoextrac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Rhizofiltrat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Volatilizat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9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ثالثاً: منع وإيقاف الحركة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ment and Immobilization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كيز في الجذو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حويل لصور غير خطر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28760"/>
            <a:ext cx="8229600" cy="5929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حددات المعالجة الحيو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ظام الجذ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دل النم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ركيز الملوث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غطاء الخضر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تبارات تقن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جود دراسات معملية 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رفة ميكانيكية عمل النباتا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وجود بدائ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زمن المستغر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راقبة الدائمة لفاعلية المعالجة الحي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5072040" cy="2357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3887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عتبارات اقتصادي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50-80%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قل تكلف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يكر ملوث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Pb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يون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6.3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مليون،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200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أل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74640" y="3141720"/>
            <a:ext cx="7353360" cy="296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684360" y="533520"/>
            <a:ext cx="33080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0:48:41Z</dcterms:created>
  <dc:creator>Dr.Farraj</dc:creator>
  <dc:description/>
  <dc:language>en-US</dc:language>
  <cp:lastModifiedBy>Abdullah Al-Farraj</cp:lastModifiedBy>
  <dcterms:modified xsi:type="dcterms:W3CDTF">2014-10-21T04:42:20Z</dcterms:modified>
  <cp:revision>47</cp:revision>
  <dc:subject/>
  <dc:title>Slide 1</dc:title>
</cp:coreProperties>
</file>