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C02-4FB2-43AA-9375-FAFAEA24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682B-E4BC-4FAB-8D6E-18B97DF71D7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6A4D-E4A3-423F-8A92-D88F04F897F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9391-7E3B-40B2-8A5D-E0E15D74961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6882-2B7C-4690-8682-CA5CC4251B8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7226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7226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7226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7226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0920" y="573228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  <a:cs typeface="PT Simple Bold Ruled"/>
              </a:rPr>
              <a:t>التقدير المباشر لعدد الخلايا البكتيرية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47973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raditional Arabic"/>
                <a:cs typeface="PT Simple Bold Ruled"/>
              </a:rPr>
              <a:t>قياس حجم الخلايا البكتيرية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19664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إيجاد متوسط الطول بالميكرون وذلك كما يلي :  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ذا فرضنا أن متوسط الطول لـ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بكتيرية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أجزاء من أجزاء الميكروميتر العيني  فإن  طول الخلية بالميكرون  =  ( عدد أجزاء الميكروميتر العيني المساوي لطول الخلية×قيمة كل جزء من أجزاء الميكروميتر العيني  )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.6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.68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ذا فرضنا أن متوسط العرض لـ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بكتيرية يساوي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زء من أجزاء الميكروميتر العيني,فإن عرض الخلية بالميكرون= (عدد أجزاء الميكروميتر العيني المساوي لعرض الخلية   ×قيمة كل جزء من أجزاء الميكروميتر العيني)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.6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3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بما أن حجم الخلية البكتيرية = الطول × العرض 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ذا حجم الخلية البكتيرية  =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.68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3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.  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( نلاحظ هنا أننا لا نوجد ناتج الضرب حيث أن هذه النتيجة تعني أن البكتيريا عصوية في شكلها لها طول يساوي  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6.68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 ميكرون  ولها عرض يساوي  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3.34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 ميكرون ) </a:t>
            </a:r>
            <a:r>
              <a:rPr b="1" lang="ar-SA" sz="2800" spc="-1" strike="noStrike" u="sng">
                <a:solidFill>
                  <a:srgbClr val="4d4d4d"/>
                </a:solidFill>
                <a:uFillTx/>
                <a:latin typeface="Traditional Arabic"/>
                <a:ea typeface="Traditional Arabic"/>
              </a:rPr>
              <a:t>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51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64880"/>
                </a:solidFill>
                <a:latin typeface="Microsoft Sans Serif"/>
                <a:cs typeface="PT Simple Bold Ruled"/>
              </a:rPr>
              <a:t>التقدير الكمي للنمو البكتيري</a:t>
            </a:r>
            <a:br>
              <a:rPr sz="3600"/>
            </a:br>
            <a:r>
              <a:rPr b="1" lang="ar-SA" sz="3600" spc="-1" strike="noStrike">
                <a:solidFill>
                  <a:srgbClr val="f64880"/>
                </a:solidFill>
                <a:latin typeface="Microsoft Sans Serif"/>
                <a:cs typeface="PT Simple Bold Ruled"/>
              </a:rPr>
              <a:t>تقدير عدد الخلايا البكتيرية في عينة  ما ( التربة )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19664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cs typeface="Traditional Arabic"/>
              </a:rPr>
              <a:t>أولا: التقدير المباشر لعدد الخلايا </a:t>
            </a:r>
            <a:r>
              <a:rPr b="1" lang="en-US" sz="2800" spc="-1" strike="noStrike">
                <a:solidFill>
                  <a:srgbClr val="382e46"/>
                </a:solidFill>
                <a:latin typeface="Traditional Arabic"/>
                <a:ea typeface="Traditional Arabic"/>
              </a:rPr>
              <a:t>Cell Count</a:t>
            </a: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ea typeface="Traditional Arabic"/>
              </a:rPr>
              <a:t> (استعمال شرائح ( خاصة – عادية)) فيها يتم تقدير العدد الكلي للخلايا ( سواء الحية أو الميتة 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cs typeface="Traditional Arabic"/>
              </a:rPr>
              <a:t>ثانيا: التقدير الغير مباشر لعدد الخلايا فيها يتم تقدير عدد الخلايا الحية فقط (طريقة العد بالطباق) </a:t>
            </a:r>
            <a:r>
              <a:rPr b="1" lang="en-US" sz="2800" spc="-1" strike="noStrike">
                <a:solidFill>
                  <a:srgbClr val="382e46"/>
                </a:solidFill>
                <a:latin typeface="Traditional Arabic"/>
                <a:ea typeface="Traditional Arabic"/>
              </a:rPr>
              <a:t>Plate coun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-252360" y="3357720"/>
            <a:ext cx="9396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التقدير المباشر لعدد الخلايا البكتيرية  في التربة بالطريقة الميكروسكوبية المباشرة أو بطريقة الشريحة العادية أو بطريقة </a:t>
            </a:r>
            <a:r>
              <a:rPr b="1" lang="en-US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Conn's method</a:t>
            </a: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مربع نص 4"/>
          <p:cNvSpPr/>
          <p:nvPr/>
        </p:nvSpPr>
        <p:spPr>
          <a:xfrm>
            <a:off x="-995760" y="3811680"/>
            <a:ext cx="1283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مزايا هذه الطريقة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ساعد على الدراسة الوصفية (النوع والشكل) للأحياء الدقيقة ( البكتيريا ) في التربة 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عطي نتائج سريعة 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عيوبها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عدم ظهور بعض أنواع الميكروبات 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صعوبة التميز بين البكتريا وحبيبات التربة وبعض المواد العضوية 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كون غير مجدية عندما يكون عدد الأحياء الدقيقة قليل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في هذه الطريقة تعد الميكروبات ( البكتيريا )  الحية والميتة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شرائح زجاجية عادية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رق رسم بياني .                  </a:t>
            </a:r>
            <a:r>
              <a:rPr b="1" lang="ar-SA" sz="2800" spc="-1" strike="noStrike">
                <a:solidFill>
                  <a:srgbClr val="4d4d4d"/>
                </a:solidFill>
                <a:latin typeface="Segoe Print"/>
                <a:ea typeface="Traditional Arabic"/>
              </a:rPr>
              <a:t>▪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شريحة  ميكرومترية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Stage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اصات معقمة سعة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0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يليتر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.           </a:t>
            </a:r>
            <a:r>
              <a:rPr b="1" lang="ar-SA" sz="2800" spc="-1" strike="noStrike">
                <a:solidFill>
                  <a:srgbClr val="4d4d4d"/>
                </a:solidFill>
                <a:latin typeface="Segoe Print"/>
                <a:ea typeface="Traditional Arabic"/>
              </a:rPr>
              <a:t>▪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صبغة كاربول اوثروسين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التربة  أو العينة المراد تقدير عدد الأحياء الدقيقة فيها ( البكتيريا )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حلول مثبت (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% اجار أو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0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% جلاتين في ماء مقطر)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مستطيل 3"/>
          <p:cNvSpPr/>
          <p:nvPr/>
        </p:nvSpPr>
        <p:spPr>
          <a:xfrm>
            <a:off x="2030760" y="33336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64880"/>
                </a:solidFill>
                <a:latin typeface="Traditional Arabic"/>
                <a:cs typeface="PT Simple Bold Ruled"/>
              </a:rPr>
              <a:t>الأدوات والمواد اللازمة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عنصر نائب للمحتوى 2"/>
          <p:cNvSpPr/>
          <p:nvPr/>
        </p:nvSpPr>
        <p:spPr>
          <a:xfrm>
            <a:off x="316080" y="3618000"/>
            <a:ext cx="88279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هذا العمل يتطلب إجراء عدد من الخطوات هي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قطر  ومساحة المجال المجهري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عدد المجالات المجه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عداد غشاء بكتيري وصبغة ( من عينة التربة ) 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متوسط عدد الخلايا البكت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حقل مجهري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عدد الخلايا البكت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رام (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يليتر )  من العينة 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09520" y="1197000"/>
            <a:ext cx="8934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– حساب قطر و مساحة المجال الميكروسكوبي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ذلك باستخدام كل من </a:t>
            </a:r>
            <a:r>
              <a:rPr b="1" lang="ar-SA" sz="2800" spc="-1" strike="noStrike" u="sng">
                <a:solidFill>
                  <a:srgbClr val="4d4d4d"/>
                </a:solidFill>
                <a:uFillTx/>
                <a:latin typeface="Traditional Arabic"/>
                <a:cs typeface="Traditional Arabic"/>
              </a:rPr>
              <a:t>الشريحة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الميكروميترية و العدسة العينية(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) (×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) والعدسة </a:t>
            </a:r>
            <a:r>
              <a:rPr b="1" lang="ar-SA" sz="2800" spc="-1" strike="noStrike" u="sng">
                <a:solidFill>
                  <a:srgbClr val="4d4d4d"/>
                </a:solidFill>
                <a:uFillTx/>
                <a:latin typeface="Traditional Arabic"/>
                <a:cs typeface="Traditional Arabic"/>
              </a:rPr>
              <a:t>الزيتية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.وذلك بمعلومية أن الشريحة الميكرومتيرية تحتوي على تدريج مقسم إلى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زء كل جزء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أ / يحسب قطر المجال المجهري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يث تثبت الشريحة الميكرومترية على منصة المجهر, ثم تفحص باستخدام الشيئية ذات القوة (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) وذلك لتحديد موقع التدريج الخاص بالشريحة، بعد ذلك توضع قطرة من زيت السيدر على الشريحة الميكرومترية وتستخدم العدسة الزيتية ثم يستخدم الضابط الدقيق حتى يمكن مشاهدة التقسيمات أو التدريج بوضوح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ددي طول قطر المجال المجهري وذلك بضبط بداية تدريج الشريحة الميكروميترية مع بداية ضوء دائرة المجال المجهري ثم احسبي عدد أقسام الشريحة الميكروميترية المقابلة لدائرة المجال المجهري ، وبذلك تكوني قد حسبتي قطر المجال المجهري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9" name="مستطيل 3"/>
          <p:cNvSpPr/>
          <p:nvPr/>
        </p:nvSpPr>
        <p:spPr>
          <a:xfrm>
            <a:off x="2686320" y="26028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64880"/>
                </a:solidFill>
                <a:latin typeface="Traditional Arabic"/>
                <a:cs typeface="PT Simple Bold Ruled"/>
              </a:rPr>
              <a:t>طريقة العمل: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35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0800" y="1267920"/>
            <a:ext cx="886284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بفرض أن قطر المجال المجهري كان (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) جزء من أجزاء الشريحة الميكروميترية وكل جزء من هذه الأجزاء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يكرو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قطر المجال المجهري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=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يكرون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ب / مساحة المجال المجهري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تم هذه الخطوة باستخدام القان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ساحة المجال المجهري = ط نق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يث أن نق = نصف القطر      ط =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14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القطر 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0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ق= ــــــ = ــــــ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المساحة  =  ط نق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1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 (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)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2758.7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12500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- حساب عدد المجالات المجهرية في  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u="sng" baseline="30000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800" spc="-1" strike="noStrike" u="sng" baseline="30000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أ/  يتم تحويل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u="sng" baseline="30000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 إلى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كل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 فيه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م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كل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م فيه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م ×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بما انه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إذا قيمته بالميكرون تساوي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.00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( طول الضلع  مضروب في طول الضلع )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ب / عدد المجالات المجهرية في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u="sng" baseline="30000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2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00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∕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ساحة المجال المجهري  . ( مقسوم على مساحة المجال المجهري )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00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∕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2758.7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393.9144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جال مجهري /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سم 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1645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12500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3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 -  إعداد غشاء بكتيري من عينة التربة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رسم على الشريحة الزجاجي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أوأربعة سنتيمترات مربعة بواسطة قلم فولومستر مستعينة بورق الرسم البياني أو المسطرة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نقل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رام من التربة المستخدمة في التدريب السابق إلى أنبوبة اختبار محتوية على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 من المحلول المثبت (الاجار أو الجلاتين) يكون التخفيف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/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مزج الأنابيب جيدا ثم تترك لمد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-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دقيقة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بواسطة ماصة دقيقة يؤخذ مقدار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0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ن السائل السابق ثم ينشر جيدا على المربع (وبذلك يكون معامل التخفيف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/1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) 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ترك الشريحة تجف في جو المعمل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بعد جفاف الغشاء تغمس الشريح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% حامض الخليك لمد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-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دقائق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غسل بعد ذلك جيدا بالماء ثم توضع الشريحة على كأس به ماء يغلي ( فوق حمام  مائي يغلي 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155700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غمر الغشاء بصبغة كاربول ارثروسين وتترك لمدة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-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دقائق مع مراعاة عدم جفاف الصبغة أو غليانها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بعد الشريحة من على الكأس وتترك لتبرد ثم تغسل تحت تيار ماء خفيف ثم تترك لتجف من جو المعمل أو تجفف باحتراس بين ورقتي الترشيح 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فحص الشريحة تحت المجهر باستخدام العدسة الزيتية ويقدر عدد الميكروبات أو البكتريا الموجودة في عشرة إلى عشرين مجالا مجهريا مختارة عشوئيا في كل الـ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المرسوم أو الأربعة سنتيمترات المربعة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أكملي بقية العمليات الحسابية لإيجاد عدد البكتيريا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رام من العينة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308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196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4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- حساب متوسط عدد الخلايا البكترية في 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7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مجالات  مجهرية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cs typeface="Traditional Arabic"/>
              </a:rPr>
              <a:t>مثال لذلك الجدول الآتي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توسط عدد الخلايا البكترية في سبعة مجالات مجهرية=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عدد الخلايا البكتيرية في كل المجالات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ـــــــــــــــــــ =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  عدد المجالات المجهرية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7+10+22+13+5+24+26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ـــــــــــــــــ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/ مجال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7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700280"/>
          <a:ext cx="2736720" cy="55245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</a:tblGrid>
              <a:tr h="198972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ffffff"/>
                          </a:solidFill>
                          <a:latin typeface="Traditional Arabic"/>
                          <a:cs typeface="Traditional Arabic"/>
                        </a:rPr>
                        <a:t>عدد الخلايا البكتيرية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aaaf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ffffff"/>
                          </a:solidFill>
                          <a:latin typeface="Traditional Arabic"/>
                          <a:cs typeface="Traditional Arabic"/>
                        </a:rPr>
                        <a:t>رقم المجال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aaaf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7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1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10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2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3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13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4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5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5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4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6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6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7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119664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5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- حساب عدد الخلايا البكترية في جرام واحد من العينة ( 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مليليتر من العينة )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( حسب المثال المستخدم في الشرح ) فإن عدد الخلايا البكترية في جرام واحد من العينة =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توسط عدد الخلايا البكترية  × عدد المجالات المجه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مقلوب التخفيف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=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393.9144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590871.6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بكترية / جرام تربة (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 معلق بكتيري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ملاحظة :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إعداد غشاء بكتيري وصبغة صبغ بسيط إذا كانت العينة المدروسة عبارة عن مزرعة بكتيرية فقط واضعين في الاعتبار طبيعة العينة المراد تقدير عدد الخلايا البكتيرية فيها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03280" y="1196640"/>
            <a:ext cx="594036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لتقدير حجم الخلية أو الجرثومة يقاس طول وعرض الخلية, ويستعان في ذلك بمقياس عيني يعرف بـ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Ocular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يوضع في العدسة العينية من المجهر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2400" indent="-2124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عاير اقسام المقياس ( إيجاد قيمة كل قسم  ) بالاستعانة بمقياس دقيق معروف ومثبت على شريحة خاصة يعرف بـ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Stage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( عبارة عن تدريج طوله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م مقسم لـ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زء , كل جزء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)  يوضع على مسرح المجهر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2400" indent="-2124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( تختلف المعايرة لأجزاء المقياس العيني باختلاف قوة التكبير( العدسة الشيئية )حيث أن القيمة في حالة استخدام القو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تختلف عن القيمة في حالة استخدام القو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وهكذا)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6" name="Picture 6" descr="stagemic"/>
          <p:cNvPicPr/>
          <p:nvPr/>
        </p:nvPicPr>
        <p:blipFill>
          <a:blip r:embed="rId1"/>
          <a:stretch/>
        </p:blipFill>
        <p:spPr>
          <a:xfrm>
            <a:off x="179280" y="5972040"/>
            <a:ext cx="2987640" cy="885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micsco6"/>
          <p:cNvPicPr/>
          <p:nvPr/>
        </p:nvPicPr>
        <p:blipFill>
          <a:blip r:embed="rId2"/>
          <a:stretch/>
        </p:blipFill>
        <p:spPr>
          <a:xfrm>
            <a:off x="395280" y="3500280"/>
            <a:ext cx="2665440" cy="223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icsco5"/>
          <p:cNvPicPr/>
          <p:nvPr/>
        </p:nvPicPr>
        <p:blipFill>
          <a:blip r:embed="rId3"/>
          <a:stretch/>
        </p:blipFill>
        <p:spPr>
          <a:xfrm>
            <a:off x="250920" y="1125360"/>
            <a:ext cx="279864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مستطيل 6"/>
          <p:cNvSpPr/>
          <p:nvPr/>
        </p:nvSpPr>
        <p:spPr>
          <a:xfrm>
            <a:off x="338040" y="31417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4880"/>
                </a:solidFill>
                <a:latin typeface="Arial"/>
              </a:rPr>
              <a:t>Ocular Micromet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338400" y="5589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4880"/>
                </a:solidFill>
                <a:latin typeface="Arial"/>
              </a:rPr>
              <a:t>Stage Micromet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64880"/>
                </a:solidFill>
                <a:latin typeface="Microsoft Sans Serif"/>
                <a:cs typeface="PT Simple Bold Ruled"/>
              </a:rPr>
              <a:t>قياس حجم البكتيريا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allen3"/>
          <p:cNvPicPr/>
          <p:nvPr/>
        </p:nvPicPr>
        <p:blipFill>
          <a:blip r:embed="rId1"/>
          <a:stretch/>
        </p:blipFill>
        <p:spPr>
          <a:xfrm>
            <a:off x="4932360" y="2754360"/>
            <a:ext cx="3887640" cy="410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grid"/>
          <p:cNvPicPr/>
          <p:nvPr/>
        </p:nvPicPr>
        <p:blipFill>
          <a:blip r:embed="rId2"/>
          <a:srcRect l="0" t="0" r="34140" b="0"/>
          <a:stretch/>
        </p:blipFill>
        <p:spPr>
          <a:xfrm>
            <a:off x="468360" y="2708280"/>
            <a:ext cx="3382920" cy="3960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030a0"/>
                </a:solidFill>
                <a:latin typeface="Microsoft Sans Serif"/>
                <a:cs typeface="PT Simple Bold Ruled"/>
              </a:rPr>
              <a:t>باستخدام شرائح زجاجية عاديه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AC889E13"/>
          <p:cNvPicPr/>
          <p:nvPr/>
        </p:nvPicPr>
        <p:blipFill>
          <a:blip r:embed="rId1"/>
          <a:stretch/>
        </p:blipFill>
        <p:spPr>
          <a:xfrm>
            <a:off x="4788000" y="1413000"/>
            <a:ext cx="4032000" cy="504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ield"/>
          <p:cNvPicPr/>
          <p:nvPr/>
        </p:nvPicPr>
        <p:blipFill>
          <a:blip r:embed="rId2"/>
          <a:stretch/>
        </p:blipFill>
        <p:spPr>
          <a:xfrm>
            <a:off x="539640" y="1628640"/>
            <a:ext cx="3289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y5720e0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40428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64880"/>
                </a:solidFill>
                <a:latin typeface="Traditional Arabic"/>
                <a:cs typeface="PT Simple Bold Ruled"/>
              </a:rPr>
              <a:t>خطوات العمل:</a:t>
            </a:r>
            <a:br>
              <a:rPr sz="4400"/>
            </a:b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738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نزع العدسة العينية المركبة من المجهر , يفصل الجزء العلوي منها , ثم يوضع الميكرومتر العيني بأنبوبتها  ( تأكدي من ارتكازه على المكان المخصص له ) , ثم يعاد تركيب الجزء العلوي من العدسة في مكانه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46960" indent="-2469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وضع الشريحة الميكروميترية على مسرح الميكروسكوب تثبت  ثم تضبط حتى يمكن مشاهدة تقسيماتها بالعدسة الصغرى (لاحظ أن تدريج الشريحة يوجد بداخل دائرة سوداء ) يستعمل الضابط الدقيق حتى ترى التقسيمات بوضوح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46960" indent="-2469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وضع قطرة من زيت السيدر على الشريحة الميكروميترية, ثم تحرك القطعة الأنفية لتكون العدسة الزيتية في وضع الاستعمال . يحرك الضابط الدقيق حتى تشاهد أقسام تدريج الشريحة الميكروميترية بوضوح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4696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979640" y="692280"/>
            <a:ext cx="7164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570a1"/>
                </a:solidFill>
                <a:latin typeface="Microsoft Sans Serif"/>
                <a:cs typeface="PT Simple Bold Ruled"/>
              </a:rPr>
              <a:t>أولا:معايرة العدسة الميكرومترية </a:t>
            </a:r>
            <a:r>
              <a:rPr b="1" lang="ar-SA" sz="3600" spc="-1" strike="noStrike">
                <a:solidFill>
                  <a:srgbClr val="8570a1"/>
                </a:solidFill>
                <a:latin typeface="Traditional Arabic"/>
                <a:ea typeface="PT Simple Bold Ruled"/>
              </a:rPr>
              <a:t>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44800" y="188640"/>
            <a:ext cx="70992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دد منطقة من التدريج العيني ( الميكروميتر العيني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Ocular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)   تكون مساوية في الطول ومقابلة لمنطقة من تدريج الشريحة الميكروميترية ( يفضل أن يكون الخطان المتطابقان من كل التدريجين ابعد ما يمكن عن بعضهما ) قدر عدد أقسام الميكروميتر العيني التي تقابل عدد من أقسام الشريحة الميكروميترية في المناطق المتطابقة.  وحيث أن القسم الواحد من أقسام تدريج الشريحة الميكروميترية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, فبذلك يمكن تقدير طول القسم الواحد من أقسام الميكروميتر العيني باستعمال الشيئية المغمورة في الزيت ( العدسة الزيتية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)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مستطيل 6"/>
          <p:cNvSpPr/>
          <p:nvPr/>
        </p:nvSpPr>
        <p:spPr>
          <a:xfrm>
            <a:off x="4643280" y="4941720"/>
            <a:ext cx="48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ايجاد قيمة كل جزء من اجزاء</a:t>
            </a: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الميكروميتر العيني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1763640" y="3645000"/>
            <a:ext cx="34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560" y="1267920"/>
            <a:ext cx="868356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فمثلا إذا وجد أن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9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قسم من الميكروميتر العيني تنطبق على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قسم من أقسام الشريحة الميكروميترية فان طول القسم الواحد من الميكروميتر العيني  = عدد أجزاء الشريحة الميكروميترية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/ ( مقسوم ) عدد أجزاء الميكروميتر العيني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ــــ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.6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90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رفع الشريحة الميكروميترية وتنظف جيدا من زيت السيدر وتحتفظ  في مكان أمي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micrometer"/>
          <p:cNvPicPr/>
          <p:nvPr/>
        </p:nvPicPr>
        <p:blipFill>
          <a:blip r:embed="rId1"/>
          <a:stretch/>
        </p:blipFill>
        <p:spPr>
          <a:xfrm>
            <a:off x="611280" y="1268280"/>
            <a:ext cx="4800600" cy="163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icsco4"/>
          <p:cNvPicPr/>
          <p:nvPr/>
        </p:nvPicPr>
        <p:blipFill>
          <a:blip r:embed="rId2"/>
          <a:stretch/>
        </p:blipFill>
        <p:spPr>
          <a:xfrm>
            <a:off x="0" y="3833640"/>
            <a:ext cx="6912000" cy="3024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2050920" y="2708280"/>
            <a:ext cx="97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قيمة كل جزء من اجزاء الميكروميتر العيني=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عدد اجزاء الشريحة الميكرومترية ×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10</a:t>
            </a:r>
            <a:br>
              <a:rPr sz="2800"/>
            </a:b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   عدد أجزاء العدسة الميكرومترية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مستطيل 8"/>
          <p:cNvSpPr/>
          <p:nvPr/>
        </p:nvSpPr>
        <p:spPr>
          <a:xfrm>
            <a:off x="1764360" y="1341360"/>
            <a:ext cx="82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570a1"/>
                </a:solidFill>
                <a:latin typeface="Arial"/>
                <a:cs typeface="PT Simple Bold Ruled"/>
              </a:rPr>
              <a:t>ثانيا : إعداد الغشاء البكتيري وصبغة</a:t>
            </a:r>
            <a:r>
              <a:rPr b="1" lang="ar-SA" sz="3600" spc="-1" strike="noStrike">
                <a:solidFill>
                  <a:srgbClr val="8570a1"/>
                </a:solidFill>
                <a:latin typeface="Arial"/>
                <a:ea typeface="PT Simple Bold Ruled"/>
              </a:rPr>
              <a:t> </a:t>
            </a:r>
            <a:r>
              <a:rPr b="1" lang="ar-SA" sz="3600" spc="-1" strike="noStrike">
                <a:solidFill>
                  <a:srgbClr val="8570a1"/>
                </a:solidFill>
                <a:latin typeface="Arial"/>
                <a:ea typeface="PT Simple Bold Ruled"/>
              </a:rPr>
              <a:t>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51280" y="2060280"/>
            <a:ext cx="50832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إعداد الغشاء البكتيري بالطرق التي تم شرحها في الصبغ البسيط , كما يتم تثبيت الغشاء البكتيري بتمرير الشريحة في اللهب من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–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رات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صبغ الغشاء البكتيري وذلك بغمرة بكمية مناسبة من صبغة أزرق الميثلين المخففة لمدة دقيقتين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تخلص من الصبغة الزائدة في الحوض ثم تغسل الشريحة تحت تيار ماء خفيف  , ثم تجفف بين ورقتي ترشيح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64960" y="2276640"/>
            <a:ext cx="3167280" cy="381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730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570a1"/>
                </a:solidFill>
                <a:latin typeface="Microsoft Sans Serif"/>
                <a:cs typeface="PT Simple Bold Ruled"/>
              </a:rPr>
              <a:t>ثالثا : فحص الغشاء البكتيري وقياس طول وعرض الخلايا</a:t>
            </a:r>
            <a:r>
              <a:rPr b="1" lang="ar-SA" sz="3200" spc="-1" strike="noStrike">
                <a:solidFill>
                  <a:srgbClr val="8570a1"/>
                </a:solidFill>
                <a:latin typeface="Microsoft Sans Serif"/>
                <a:ea typeface="PT Simple Bold Ruled"/>
              </a:rPr>
              <a:t> </a:t>
            </a:r>
            <a:r>
              <a:rPr b="1" lang="ar-SA" sz="3200" spc="-1" strike="noStrike">
                <a:solidFill>
                  <a:srgbClr val="8570a1"/>
                </a:solidFill>
                <a:latin typeface="Microsoft Sans Serif"/>
                <a:ea typeface="PT Simple Bold Ruled"/>
              </a:rPr>
              <a:t>: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00720" y="1052280"/>
            <a:ext cx="46432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وضع الشريحة المحتوية على الغشاء البكتيري المصبوغ على منصة المجهر ثم تفحص باستخدام العدسة الزيتية 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فحص الغشاء باستخدام العدسة العينية المحتوية على الميكروميتر العيني ,  يتم اختيار إحدى الخلايا البكتيرية ثم يحدد طولها بتقدير عدد أجزاء الميكروميتر العيني المساوية له , كذلك يحدد العرض وذلك  بتحديد عدد أجزاء الميكروميتر العيني المساوية له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كرر هذا العملية مع عدد من الخلايا ( لا يقل عن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 ) , ثم يتم إيجاد متوسط طول الخلايا ومتوسط عرض الخلايا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7" name="Picture 9" descr="bactshape"/>
          <p:cNvPicPr/>
          <p:nvPr/>
        </p:nvPicPr>
        <p:blipFill>
          <a:blip r:embed="rId2"/>
          <a:stretch/>
        </p:blipFill>
        <p:spPr>
          <a:xfrm>
            <a:off x="1835280" y="2060640"/>
            <a:ext cx="2520720" cy="388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961080" cy="432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446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1:37:01Z</dcterms:created>
  <dc:creator>for me</dc:creator>
  <dc:description/>
  <dc:language>en-US</dc:language>
  <cp:lastModifiedBy>m e l o</cp:lastModifiedBy>
  <dcterms:modified xsi:type="dcterms:W3CDTF">2017-04-16T06:37:04Z</dcterms:modified>
  <cp:revision>36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56E7219FECF24CB93BE561B0BA2F78</vt:lpwstr>
  </property>
</Properties>
</file>