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0977-009A-42B3-8024-9D60F9CDD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A603-DDC7-40E9-B776-F2BEE081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7FEF-76D3-4DDB-ACB0-8EC12BF69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AC61-44A2-467D-9E35-892F8F02D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96A0-29FE-4F13-B0B0-D2803072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0439-B5BB-45D3-BD53-A0A3EBF1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E302-6B22-4AF5-8CC6-3974AD5B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C6FA-31BD-4EF3-B620-47263DFB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355C-0373-491D-84A0-B01B36E1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2AAA-AE07-4947-BCB1-968FF745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C362-9217-4F65-9D87-060E512C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7ECB-3AA0-473F-A1F5-299B3464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7886-908C-43D7-8051-9781825741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مارسات المناسبة في تعلم القراءة والكتابة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Content Placeholder 9" descr="girlandboyreading.jpg"/>
          <p:cNvPicPr/>
          <p:nvPr/>
        </p:nvPicPr>
        <p:blipFill>
          <a:blip r:embed="rId1"/>
          <a:stretch/>
        </p:blipFill>
        <p:spPr>
          <a:xfrm>
            <a:off x="380880" y="1828800"/>
            <a:ext cx="7391520" cy="3732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ff0000"/>
                </a:solidFill>
                <a:uFillTx/>
                <a:latin typeface="Calibri"/>
                <a:cs typeface="Times New Roman"/>
              </a:rPr>
              <a:t>الممارسات المناسبة في تعلم القراءة والكتاب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اتحاد الدولي للقراء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tional Reading Association-I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اتحاد القومي لتربية الطفولة المبكر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onal Association for the Education of Young Children-NAY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رحلة الاولى: الوعي بعملية القراءة والكتابة واكتشافها ( مرحلة ما قبل المدرسة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باستطاعة الاطفا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7960" y="1676160"/>
            <a:ext cx="4041720" cy="44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استمتاع بالقصص من الكتب ومناقشته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دراك ان الكلمة المطبوعة تحمل رسال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محاولة ممارسة القراءة والكتابة من تلقاء انفس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تعرف على بعض الاشارات واللافتات في بيئت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مشاركة في اللعب الايقاعي ( الاناشيد- اللعب بالكلمات المسجوعة..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تعرف على بعض الحروف وذكر الحروف التي تشبهها في الصو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ستخدام بعض الحروف المعروفة لديهم لتمثل لغة مكتوبة ( كلمات تعنيهم مثل اسماءهم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9" descr="DSC02308.JPG"/>
          <p:cNvPicPr/>
          <p:nvPr/>
        </p:nvPicPr>
        <p:blipFill>
          <a:blip r:embed="rId1"/>
          <a:stretch/>
        </p:blipFill>
        <p:spPr>
          <a:xfrm>
            <a:off x="457200" y="1523880"/>
            <a:ext cx="404028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ذا يفعل المعلم</a:t>
            </a:r>
            <a:r>
              <a:rPr b="0" lang="ar-SA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alibri"/>
                <a:cs typeface="Arial"/>
              </a:rPr>
              <a:t>مثال : استخدام اللغة في وصفات الطهي مع الاطفال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4720" y="1676520"/>
            <a:ext cx="40417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شرك الاطفال في قراءة الكتب الكبيرة الحجم ويقدم قدوة في سلوكيات القراءة( مثل طريقة تصفح الكتاب ، الاشارة الى اتجاه القراءة من اليمين الى اليسار..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تحدث عن اسماء واصوات الحروف: من خلال الانشطة المختلف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وجد بيئة ثرية تثري خبرات القراءة والكتابة(ادوات القراءة والكتابة موجودة في كل مكان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قرأ قصص يحبها الاطفال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7" descr="mouse-cookies-1-e1314668835987.jpg"/>
          <p:cNvPicPr/>
          <p:nvPr/>
        </p:nvPicPr>
        <p:blipFill>
          <a:blip r:embed="rId1"/>
          <a:stretch/>
        </p:blipFill>
        <p:spPr>
          <a:xfrm>
            <a:off x="533520" y="2133720"/>
            <a:ext cx="33732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يدخل الاطفال في العاب لغوية مثل العاب اللقاء الاخير          ( مثلا: يسحب الطفل بطاقة ويصف الصورة التي بها وبأي صوت تبدأ والاطفال يخمنون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يقدم افكارا لانشطة مرتبطة بالقراءة والكتابة: جميع الانشطة يمكن ربطها بالقراءة والكتابة حتى الرحلات يمكن ان يرسم تجربته بعد الرحلة ويكتب عليها ما يريد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يشجع الاطفال على تجربة الكتابة( بحرية من خلال اللعب او من خلال اوراق العمل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رحلة الثانية: تجارب في القراءة والكتابة ( اهداف لرياض الاطفال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4039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1752120"/>
            <a:ext cx="4040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1640" y="99036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باستطاعة الاطفا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4720" y="1904760"/>
            <a:ext cx="40417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يستمتعوا بما يقرأ عليهم ويقوموا بانفسهم بسرد القصص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يستخدموا لغة وصفية للشرح والاكتشا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يتعرفوا على الحروف المتشابهه في الصوت والوز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يظهروا معرفتهم بالنغمة ومخارج الصو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يفهموا الاتجاهات بالنسبة للغ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يطابقوا الكلمة المسموعة بالمكتوبة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يبدأوا بكتابة بعض الحروف وبعض الكلمات المتداولة باستمرا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Billy-Reading-Story-Edited1.jpg"/>
          <p:cNvPicPr/>
          <p:nvPr/>
        </p:nvPicPr>
        <p:blipFill>
          <a:blip r:embed="rId1"/>
          <a:stretch/>
        </p:blipFill>
        <p:spPr>
          <a:xfrm>
            <a:off x="533520" y="1047600"/>
            <a:ext cx="38098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دور المعل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r" rt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يشجع الاطفال على التحدث عن خبراتهم القرائية والكتابية ( يعيدون سرد القصة – يتحدث عن ما يحاول كتابته على العمل الفني ..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يوفر العديد من الفرص للاطفال لان يكتشفوا ويتعرفوا العلاقات بين الاصوات والرموز في نصوص ذات معنى بالنسبة لهم مثل( القصص والاناشيد- العاب التمييز السمعي بين الكلمات المسجوعة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يساعد الاطفال على تجزئة الكلمات الى مقاطع واصوات واعادة دمجها الى كلمة كاملة مثل ( ق..طار)  ( م..طار)...الخ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قراءة قصص مسلية وغنية بالمفاهيم على الاطفال باستمرا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توفير فرص يومية للكتابة ( رسم قصة والتعليق عليها- كتابة الاسم- كتابة الكلمات الجديدة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57560" indent="-4575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مساعدة الاطفال على بناء قاموس ( بصري)..وهي كلمات يدركها بالبصر مثل  ( باب) ( خروج) ( ماما)، وذلك من خلال تعريض الطفل باستمرار لها وتعليقها في جدار الصف او في الركن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يجاد بيئة ثرية تغري الاطفال على ممارسة القراءة والكتابة بشكل مستقل ، مثل استخدامها في كتابة وصفة طبية في ركن الطبيب، التعليق على العمل الفني، قراءة وصفة طهي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9900ff"/>
                </a:solidFill>
                <a:uFillTx/>
                <a:latin typeface="Calibri"/>
                <a:cs typeface="Times New Roman"/>
              </a:rPr>
              <a:t>ثالثا...البرنامج اللغوي المتوازن وعناصر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r" rtl="1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لا بد من تنويع طرق التدريس.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لابد من معرفة خصائص الاطفال ورغباتهم وميولهم والفروق الفردية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منظور المتوازن ليس خليط من استراتيجيات عشوائية بل (استراتيجيات متنوعة ومتوازنة من مختلف النظريات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برنامج المتوازن هو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الذي يركز على احتياجات الطفل نفسه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أكثر من تركيزه على آخر المستجدات في تعليم القراءة والكتاب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900000" y="1773360"/>
            <a:ext cx="7344000" cy="9363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IR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ليس هناك طريقة واحدة فقط ناجحة في تعليم القراءة والكتاب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0T20:32:24Z</dcterms:created>
  <dc:creator>Guest</dc:creator>
  <dc:description/>
  <dc:language>en-US</dc:language>
  <cp:lastModifiedBy>H S</cp:lastModifiedBy>
  <dcterms:modified xsi:type="dcterms:W3CDTF">2014-01-26T19:32:17Z</dcterms:modified>
  <cp:revision>35</cp:revision>
  <dc:subject/>
  <dc:title>Slide 1</dc:title>
</cp:coreProperties>
</file>