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F9C-5B89-48E4-BB32-3A8156C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9B9-A48E-4AA4-A836-80A8EDD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6A4-2BBC-4CBB-8745-4A9B5771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0CF-FCF0-4721-A884-1073A86D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2A5-17B1-41F7-8F0E-7581E7E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D9F-54B3-44CC-9372-DB601E93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414-0C4C-4430-B0BA-ACF40CD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D26-D7F3-47E4-8BF7-21E5BF0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853-D4E3-4FE3-93A5-A2BE5F25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20D-2ED9-4C28-8B37-BA256392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5CE-51CA-45F7-B5AF-0319C1D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AEB-DE85-4CFE-8A90-B176CBD0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500-D7D6-41B6-9A4D-AE8727CC3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مارسات المناسبة في تعلم القراءة والكتاب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9" descr="girlandboyreading.jpg"/>
          <p:cNvPicPr/>
          <p:nvPr/>
        </p:nvPicPr>
        <p:blipFill>
          <a:blip r:embed="rId1"/>
          <a:stretch/>
        </p:blipFill>
        <p:spPr>
          <a:xfrm>
            <a:off x="380880" y="1828800"/>
            <a:ext cx="7391520" cy="373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ممارسات المناسبة في تعلم القراءة والكت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حاد الدولي للقر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Reading Association-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حاد القومي لتربية الطفولة المبك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Association for the Education of Young Children-NAY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رحلة الاولى: الوعي بعملية القراءة والكتابة واكتشافها ( مرحلة ما قبل المدرسة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استطاعة الاطف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676160"/>
            <a:ext cx="404172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متاع بالقصص من الكتب ومناقشت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راك ان الكلمة المطبوعة تحمل رس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حاولة ممارسة القراءة والكتابة من تلقاء ا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بعض الاشارات واللافتات في بيئ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في اللعب الايقاعي ( الاناشيد- اللعب بالكلمات المسجوعة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بعض الحروف وذكر الحروف التي تشبهها في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بعض الحروف المعروفة لديهم لتمثل لغة مكتوبة ( كلمات تعنيهم مثل اسماءهم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9" descr="DSC02308.JPG"/>
          <p:cNvPicPr/>
          <p:nvPr/>
        </p:nvPicPr>
        <p:blipFill>
          <a:blip r:embed="rId1"/>
          <a:stretch/>
        </p:blipFill>
        <p:spPr>
          <a:xfrm>
            <a:off x="457200" y="1523880"/>
            <a:ext cx="40402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ذا يفعل المعلم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Arial"/>
              </a:rPr>
              <a:t>مثال : استخدام اللغة في وصفات الطهي مع الاطفا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شرك الاطفال في قراءة الكتب الكبيرة الحجم ويقدم قدوة في سلوكيات القراءة( مثل طريقة تصفح الكتاب ، الاشارة الى اتجاه القراءة من اليمين الى اليسار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حدث عن اسماء واصوات الحروف: من خلال الانشطة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وجد بيئة ثرية تثري خبرات القراءة والكتابة(ادوات القراءة والكتابة موجودة في كل مكا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قرأ قصص يحبها الاطف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7" descr="mouse-cookies-1-e1314668835987.jpg"/>
          <p:cNvPicPr/>
          <p:nvPr/>
        </p:nvPicPr>
        <p:blipFill>
          <a:blip r:embed="rId1"/>
          <a:stretch/>
        </p:blipFill>
        <p:spPr>
          <a:xfrm>
            <a:off x="533520" y="2133720"/>
            <a:ext cx="3373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دخل الاطفال في العاب لغوية مثل العاب اللقاء الاخير          ( مثلا: يسحب الطفل بطاقة ويصف الصورة التي بها وبأي صوت تبدأ والاطفال يخمنون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قدم افكارا لانشطة مرتبطة بالقراءة والكتابة: جميع الانشطة يمكن ربطها بالقراءة والكتابة حتى الرحلات يمكن ان يرسم تجربته بعد الرحلة ويكتب عليها ما يري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شجع الاطفال على تجربة الكتابة( بحرية من خلال اللعب او من خلال اوراق العم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رحلة الثانية: تجارب في القراءة والكتابة ( اهداف لرياض الاطفال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039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52120"/>
            <a:ext cx="4040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1640" y="99036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استطاعة الاطف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1904760"/>
            <a:ext cx="4041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ستمتعوا بما يقرأ عليهم ويقوموا بانفسهم بسرد القصص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ستخدموا لغة وصفية للشرح والاكتشا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تعرفوا على الحروف المتشابهه في الصوت والوز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ظهروا معرفتهم بالنغمة ومخارج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فهموا الاتجاهات بالنسبة للغ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طابقوا الكلمة المسموعة بالمكتوبة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بدأوا بكتابة بعض الحروف وبعض الكلمات المتداولة باستمر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Billy-Reading-Story-Edited1.jpg"/>
          <p:cNvPicPr/>
          <p:nvPr/>
        </p:nvPicPr>
        <p:blipFill>
          <a:blip r:embed="rId1"/>
          <a:stretch/>
        </p:blipFill>
        <p:spPr>
          <a:xfrm>
            <a:off x="533520" y="1047600"/>
            <a:ext cx="3809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ر المع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شجع الاطفال على التحدث عن خبراتهم القرائية والكتابية ( يعيدون سرد القصة – يتحدث عن ما يحاول كتابته على العمل الفني 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وفر العديد من الفرص للاطفال لان يكتشفوا ويتعرفوا العلاقات بين الاصوات والرموز في نصوص ذات معنى بالنسبة لهم مثل( القصص والاناشيد- العاب التمييز السمعي بين الكلمات المسجوعة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يساعد الاطفال على تجزئة الكلمات الى مقاطع واصوات واعادة دمجها الى كلمة كاملة مثل ( ق..طار)  ( م..طار)...ال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راءة قصص مسلية وغنية بالمفاهيم على الاطفال باستمر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وفير فرص يومية للكتابة ( رسم قصة والتعليق عليها- كتابة الاسم- كتابة الكلمات الجديد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اعدة الاطفال على بناء قاموس ( بصري)..وهي كلمات يدركها بالبصر مثل  ( باب) ( خروج) ( ماما)، وذلك من خلال تعريض الطفل باستمرار لها وتعليقها في جدار الصف او في الرك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يجاد بيئة ثرية تغري الاطفال على ممارسة القراءة والكتابة بشكل مستقل ، مثل استخدامها في كتابة وصفة طبية في ركن الطبيب، التعليق على العمل الفني، قراءة وصفة طهي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9900ff"/>
                </a:solidFill>
                <a:uFillTx/>
                <a:latin typeface="Calibri"/>
                <a:cs typeface="Times New Roman"/>
              </a:rPr>
              <a:t>ثالثا...البرنامج اللغوي المتوازن وعناص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 بد من تنويع طرق التدريس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بد من معرفة خصائص الاطفال ورغباتهم وميولهم والفروق الفردية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نظور المتوازن ليس خليط من استراتيجيات عشوائية بل (استراتيجيات متنوعة ومتوازنة من مختلف النظريات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برنامج المتوازن هو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ذي يركز على احتياجات الطفل نفسه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أكثر من تركيزه على آخر المستجدات في تعليم القراءة والكتا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00000" y="1773360"/>
            <a:ext cx="7344000" cy="93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I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يس هناك طريقة واحدة فقط ناجحة في تعليم القراءة والكتاب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0:32:24Z</dcterms:created>
  <dc:creator>Guest</dc:creator>
  <dc:description/>
  <dc:language>en-US</dc:language>
  <cp:lastModifiedBy>H S</cp:lastModifiedBy>
  <dcterms:modified xsi:type="dcterms:W3CDTF">2014-01-26T19:32:17Z</dcterms:modified>
  <cp:revision>35</cp:revision>
  <dc:subject/>
  <dc:title>Slide 1</dc:title>
</cp:coreProperties>
</file>