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2AF50-5722-42DD-804D-5CA721AD8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040E-B7DA-43A7-A531-4B1A72A1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5D58E-6444-48F0-B594-B8902D85E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69FEA-ADA9-4E26-8E3D-2CC90D03F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972D2-AFA1-4C42-AA92-909D86721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AAE7C-B5B3-41AD-ADE0-2E05DE8B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0E3D0-C112-45F5-881E-D8EB0BD8F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F8C09-0F21-43C8-BFC9-EDA136D64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DCF4B-C05C-4FF1-9626-035CF9EDA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92189-7269-4719-AB81-A60E55413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9C051-E10F-4FC1-A4E1-7E953FE6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5751-5E86-4EFE-AD8F-08A9780D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83AE-CE0B-4686-85CF-3341B58C1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F4694-D83E-45F6-8CD7-4E8AD0DDF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03908-3B25-4484-9D57-ED1AD343B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057FD-7267-4A03-8938-3C996AB2B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ED6FF-7FA0-4274-9A0A-ACF221603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539263-CEF1-4041-9AB1-02125D398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BA253-7FAA-41E8-8CCA-3D6306D27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55F5D-3439-4C30-9724-A12EFB53C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C2E16-9C40-4005-AAE7-62C4E8DDB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B3CFB-C82B-4DDD-AF8C-0712F92BB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FE9F3-1AFB-4D79-9F33-EB8D2C68D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ED295-47EE-41DF-AFC4-30E2C2912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52D3B-CE68-444B-9B64-D4427E0B3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948D1-0931-4110-8411-200014EBE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88E98-C6BE-4CEE-9A2B-30A836D6B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F2A3B-F65C-4A91-BB69-94E33E0EA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A9E20-F601-4E97-940E-615941A6AC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56C927-0B1B-4E84-B461-52ECBF86F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0CED1-2F1C-472E-9DFD-739A1DC6F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6E842-3661-41FD-8EBC-B58394E0E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FA687-4716-4668-BB17-62D10AE78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AF26-C42D-457D-8B0F-6C27503BF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8E1C5-93D2-4D9C-B84F-92F531683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C6758-F31A-4389-BF0D-3EB38F58C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47844-F0A9-49B7-AB34-76D649972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9E1E2-ED92-4AB0-A96F-70357D85C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024C7-AF33-4811-82E2-5191F22CB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A905A-4450-4270-AE66-3E66D7169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5D408-D7A0-438B-A186-AA4E53D28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BC848-7905-4356-821C-7C819EA852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A2D9E1-B4E4-4EF2-B94E-90D4EAAFAB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765922-6CFA-4979-8D58-AB1C55482F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08E7-9B39-4350-9C6E-871B0CFC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678374-1887-499C-B627-4B47D2018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90AEF-32ED-483B-B768-5791CC6C04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5AE8A-D0AF-4661-AC97-4D7D5B6E7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11ED3-1486-49EB-9D7F-A55CD873B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E56B4-FBF8-4B1A-9CBE-7D39AD353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6A80B-C054-465E-8C98-B328C0430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434BC-7BD6-4022-A0F8-B1A0F92DD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7DDA1-E108-4586-BE28-6624F3E42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B54A7-BC64-477E-AAF2-2BC524A8B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D54281-ABC2-4974-98AE-A79A44D10F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C362-F2AA-47F2-A8DE-FF296A5E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918F0-B69B-482C-A471-82162B9304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BD1FB7-F871-43A8-9158-6565DE8562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326F2-2361-4F9B-BC17-10B7CEE2D1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96ACF-9E43-4700-85BC-29D06BECB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C275B4-24E3-4E15-91AA-73CCAAA4C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A5390-9862-4E0D-96DC-DB567AE024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EC265-7C7C-4E99-A12D-D468F012C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8FED2-5294-421C-82BB-3460A97AE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D1284-70F1-4F00-AFA9-C73DC60F6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653D9-6FC3-49FF-8E5A-28C080E44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8428-CAD3-498C-94F7-C380D0AB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3A7D4-DB5F-4210-9BA7-03D2EACE6B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E12EB-A803-48E8-9557-B47EC44C5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1BF839-BEC7-42BD-99DA-D830BF38F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802BB-0990-4E5F-99EC-2C83D6B401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47208C-037B-4D22-96B5-651209AF1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EE464-6717-44EB-999C-D9AAE3EA5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BA1C7C-C5A0-48A5-979C-4AEE0AF84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37465-79CA-4E7F-8831-3CBB94BD0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652DF-C9BC-40B5-BE78-6C8E280B4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484BD-F356-4586-9D45-C98CAB8AE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1867-80C8-470F-8C80-7A921FF8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F2D07-E3FC-41C3-838B-0A7D36D4E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5A6BD-E194-4CB3-8956-47173049A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AED20-7B8E-4AB4-854B-818158D1F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6E182D-6F63-4475-86E2-1929A1D7DD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4FC9E-73F2-4A21-9EBA-7E54C4C904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16E5-5526-4D59-890F-C13805D85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5035-1B8A-4A2A-83D6-02D867B287E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C10F-FCE0-4C4D-8C8F-4D9ACA92F2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C956-DB3C-4069-9B96-70E01E9E58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1916-1728-4FA6-B606-B4529E51B0C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F5E6-DE0E-4384-922E-207A700D897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658E-6A00-47B1-BF89-6C3722EF818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41F5-C3E1-492D-BA88-1720C95FCC5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mailto:oelsheikh@ksu.edu.sa"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274680" y="1444680"/>
            <a:ext cx="8650080" cy="1834920"/>
          </a:xfrm>
          <a:prstGeom prst="rect">
            <a:avLst/>
          </a:prstGeom>
          <a:ln w="0">
            <a:noFill/>
          </a:ln>
        </p:spPr>
      </p:pic>
      <p:sp>
        <p:nvSpPr>
          <p:cNvPr id="304" name="PlaceHolder 1"/>
          <p:cNvSpPr>
            <a:spLocks noGrp="1"/>
          </p:cNvSpPr>
          <p:nvPr>
            <p:ph type="subTitle"/>
          </p:nvPr>
        </p:nvSpPr>
        <p:spPr>
          <a:xfrm>
            <a:off x="0" y="5357520"/>
            <a:ext cx="914400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08080" y="152280"/>
            <a:ext cx="86547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rbel"/>
                <a:ea typeface="Tahoma"/>
              </a:rPr>
              <a:t>	</a:t>
            </a:r>
            <a:endParaRPr b="0" lang="en-US" sz="2800" spc="-1" strike="noStrike">
              <a:solidFill>
                <a:srgbClr val="000000"/>
              </a:solidFill>
              <a:latin typeface="Corbel"/>
            </a:endParaRPr>
          </a:p>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ea typeface="Tahoma"/>
              </a:rPr>
              <a:t>"</a:t>
            </a:r>
            <a:r>
              <a:rPr b="1" lang="ar-SA" sz="2800" spc="-1" strike="noStrike">
                <a:solidFill>
                  <a:srgbClr val="000000"/>
                </a:solidFill>
                <a:latin typeface="Corbel"/>
                <a:cs typeface="Tahoma"/>
              </a:rPr>
              <a:t>علي الطالب المنتظم حضور المحاضرات والدروس العملية ويحرم من الاستمرار في المادة كما يحرم من دخول الاختبار النهائي فيها </a:t>
            </a:r>
            <a:r>
              <a:rPr b="1" lang="ar-SA" sz="2800" spc="-1" strike="noStrike" u="sng">
                <a:solidFill>
                  <a:srgbClr val="000000"/>
                </a:solidFill>
                <a:uFillTx/>
                <a:latin typeface="Corbel"/>
                <a:cs typeface="Tahoma"/>
              </a:rPr>
              <a:t>اذا قلت نسبة حضوره عن (</a:t>
            </a:r>
            <a:r>
              <a:rPr b="1" lang="ar-SA" sz="2800" spc="-1" strike="noStrike" u="sng">
                <a:solidFill>
                  <a:srgbClr val="000000"/>
                </a:solidFill>
                <a:uFillTx/>
                <a:latin typeface="Corbel"/>
                <a:ea typeface="Tahoma"/>
              </a:rPr>
              <a:t>75</a:t>
            </a:r>
            <a:r>
              <a:rPr b="1" lang="ar-SA" sz="2800" spc="-1" strike="noStrike" u="sng">
                <a:solidFill>
                  <a:srgbClr val="000000"/>
                </a:solidFill>
                <a:uFillTx/>
                <a:latin typeface="Corbel"/>
                <a:ea typeface="Tahoma"/>
              </a:rPr>
              <a:t>%)</a:t>
            </a:r>
            <a:r>
              <a:rPr b="1" lang="ar-SA" sz="2800" spc="-1" strike="noStrike">
                <a:solidFill>
                  <a:srgbClr val="000000"/>
                </a:solidFill>
                <a:latin typeface="Corbel"/>
                <a:ea typeface="Tahoma"/>
              </a:rPr>
              <a:t> من المحاضرات النظرية والدروس العملية......... ويعتبر الطالب الذي حرم من دخول الاختبار بسبب الغياب راسباً في المقرر.</a:t>
            </a:r>
            <a:r>
              <a:rPr b="1" lang="ar-SA" sz="2800" spc="-1" strike="noStrike">
                <a:solidFill>
                  <a:srgbClr val="ff0000"/>
                </a:solidFill>
                <a:latin typeface="Corbel"/>
                <a:ea typeface="Tahoma"/>
              </a:rPr>
              <a:t>"</a:t>
            </a:r>
            <a:endParaRPr b="0" lang="en-US" sz="2800" spc="-1" strike="noStrike">
              <a:solidFill>
                <a:srgbClr val="000000"/>
              </a:solidFill>
              <a:latin typeface="Corbe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3"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5"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7"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9"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31"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33"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589400" y="2274840"/>
            <a:ext cx="5326200" cy="2111040"/>
          </a:xfrm>
          <a:prstGeom prst="rect">
            <a:avLst/>
          </a:prstGeom>
          <a:noFill/>
          <a:ln w="9360">
            <a:solidFill>
              <a:srgbClr val="000000"/>
            </a:solidFill>
            <a:round/>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          </a:t>
            </a:r>
            <a:r>
              <a:rPr b="1" lang="en-US" sz="4400" spc="-1" strike="noStrike">
                <a:solidFill>
                  <a:srgbClr val="000000"/>
                </a:solidFill>
                <a:latin typeface="Bradley Hand ITC"/>
              </a:rPr>
              <a:t>Thank you</a:t>
            </a:r>
            <a:endParaRPr b="0" lang="en-US" sz="4400" spc="-1" strike="noStrike">
              <a:solidFill>
                <a:srgbClr val="000000"/>
              </a:solidFill>
              <a:latin typeface="Corbe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151920" y="1676160"/>
            <a:ext cx="8991720" cy="5181480"/>
          </a:xfrm>
          <a:prstGeom prst="rect">
            <a:avLst/>
          </a:prstGeom>
          <a:noFill/>
          <a:ln w="0">
            <a:noFill/>
          </a:ln>
        </p:spPr>
        <p:txBody>
          <a:bodyPr lIns="54720" tIns="91440" anchor="t">
            <a:normAutofit/>
          </a:bodyPr>
          <a:p>
            <a:pPr marL="438120" indent="-318960" algn="just" rtl="1">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اسم المحاضر: </a:t>
            </a:r>
            <a:r>
              <a:rPr b="1" lang="en-US" sz="3600" spc="-1" strike="noStrike">
                <a:solidFill>
                  <a:srgbClr val="000000"/>
                </a:solidFill>
                <a:latin typeface="Andalus"/>
                <a:ea typeface="Andalus"/>
              </a:rPr>
              <a:t>	</a:t>
            </a:r>
            <a:r>
              <a:rPr b="1" lang="ar-SA" sz="3600" spc="-1" strike="noStrike">
                <a:solidFill>
                  <a:srgbClr val="000000"/>
                </a:solidFill>
                <a:latin typeface="Andalus"/>
                <a:cs typeface="Andalus"/>
              </a:rPr>
              <a:t>د. عمر الجيلي الشيخ الأمين </a:t>
            </a:r>
            <a:endParaRPr b="0" lang="en-US" sz="3600" spc="-1" strike="noStrike">
              <a:solidFill>
                <a:srgbClr val="000000"/>
              </a:solidFill>
              <a:latin typeface="Corbel"/>
            </a:endParaRPr>
          </a:p>
          <a:p>
            <a:pPr marL="438120" indent="-318960" algn="just" rtl="1">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المكتب</a:t>
            </a:r>
            <a:r>
              <a:rPr b="1" lang="en-US" sz="3600" spc="-1" strike="noStrike">
                <a:solidFill>
                  <a:srgbClr val="000000"/>
                </a:solidFill>
                <a:latin typeface="Andalus"/>
                <a:ea typeface="Andalus"/>
              </a:rPr>
              <a:t>: </a:t>
            </a:r>
            <a:r>
              <a:rPr b="1" lang="ar-SA" sz="3600" spc="-1" strike="noStrike">
                <a:solidFill>
                  <a:srgbClr val="000000"/>
                </a:solidFill>
                <a:latin typeface="Andalus"/>
                <a:ea typeface="Andalus"/>
              </a:rPr>
              <a:t> </a:t>
            </a:r>
            <a:r>
              <a:rPr b="1" lang="en-US" sz="3600" spc="-1" strike="noStrike">
                <a:solidFill>
                  <a:srgbClr val="000000"/>
                </a:solidFill>
                <a:latin typeface="Andalus"/>
                <a:ea typeface="Andalus"/>
              </a:rPr>
              <a:t>	</a:t>
            </a:r>
            <a:r>
              <a:rPr b="1" lang="ar-SA" sz="3600" spc="-1" strike="noStrike">
                <a:solidFill>
                  <a:srgbClr val="000000"/>
                </a:solidFill>
                <a:latin typeface="Andalus"/>
                <a:cs typeface="Andalus"/>
              </a:rPr>
              <a:t>رقم </a:t>
            </a:r>
            <a:r>
              <a:rPr b="1" lang="ar-SA" sz="3600" spc="-1" strike="noStrike">
                <a:solidFill>
                  <a:srgbClr val="000000"/>
                </a:solidFill>
                <a:latin typeface="Andalus"/>
                <a:ea typeface="Andalus"/>
              </a:rPr>
              <a:t>2</a:t>
            </a:r>
            <a:r>
              <a:rPr b="1" lang="ar-SA" sz="3600" spc="-1" strike="noStrike">
                <a:solidFill>
                  <a:srgbClr val="000000"/>
                </a:solidFill>
                <a:latin typeface="Andalus"/>
                <a:cs typeface="Andalus"/>
              </a:rPr>
              <a:t>أ </a:t>
            </a:r>
            <a:r>
              <a:rPr b="1" lang="ar-SA" sz="3600" spc="-1" strike="noStrike">
                <a:solidFill>
                  <a:srgbClr val="000000"/>
                </a:solidFill>
                <a:latin typeface="Andalus"/>
                <a:ea typeface="Andalus"/>
              </a:rPr>
              <a:t>66</a:t>
            </a:r>
            <a:endParaRPr b="0" lang="en-US" sz="3600" spc="-1" strike="noStrike">
              <a:solidFill>
                <a:srgbClr val="000000"/>
              </a:solidFill>
              <a:latin typeface="Corbel"/>
            </a:endParaRPr>
          </a:p>
          <a:p>
            <a:pPr marL="438120" indent="-318960" algn="just" rtl="1">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تلفون مكتب:</a:t>
            </a:r>
            <a:r>
              <a:rPr b="1" lang="ar-SA" sz="3600" spc="-1" strike="noStrike">
                <a:solidFill>
                  <a:srgbClr val="000000"/>
                </a:solidFill>
                <a:latin typeface="Andalus"/>
                <a:ea typeface="Andalus"/>
              </a:rPr>
              <a:t>	</a:t>
            </a:r>
            <a:r>
              <a:rPr b="1" lang="ar-SA" sz="3600" spc="-1" strike="noStrike">
                <a:solidFill>
                  <a:srgbClr val="000000"/>
                </a:solidFill>
                <a:latin typeface="Andalus"/>
                <a:ea typeface="Andalus"/>
              </a:rPr>
              <a:t>4678506</a:t>
            </a:r>
            <a:r>
              <a:rPr b="1" lang="ar-SA" sz="3600" spc="-1" strike="noStrike">
                <a:solidFill>
                  <a:srgbClr val="000000"/>
                </a:solidFill>
                <a:latin typeface="Andalus"/>
                <a:ea typeface="Andalus"/>
              </a:rPr>
              <a:t>	</a:t>
            </a:r>
            <a:endParaRPr b="0" lang="en-US" sz="3600" spc="-1" strike="noStrike">
              <a:solidFill>
                <a:srgbClr val="000000"/>
              </a:solidFill>
              <a:latin typeface="Corbel"/>
            </a:endParaRPr>
          </a:p>
          <a:p>
            <a:pPr marL="438120" indent="-318960" algn="just" rtl="1">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بريد الكتروني:</a:t>
            </a:r>
            <a:r>
              <a:rPr b="1" lang="ar-SA" sz="3600" spc="-1" strike="noStrike">
                <a:solidFill>
                  <a:srgbClr val="000000"/>
                </a:solidFill>
                <a:latin typeface="Andalus"/>
                <a:ea typeface="Andalus"/>
              </a:rPr>
              <a:t>	</a:t>
            </a:r>
            <a:r>
              <a:rPr b="0" lang="en-GB" sz="3600" spc="-1" strike="noStrike" u="sng">
                <a:solidFill>
                  <a:srgbClr val="168bba"/>
                </a:solidFill>
                <a:uFillTx/>
                <a:latin typeface="Andalus"/>
                <a:ea typeface="Andalus"/>
                <a:hlinkClick r:id="rId5"/>
              </a:rPr>
              <a:t>oelsheikh@ksu.edu.sa</a:t>
            </a:r>
            <a:endParaRPr b="0" lang="en-US" sz="3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547120" cy="1262160"/>
          </a:xfrm>
          <a:prstGeom prst="rect">
            <a:avLst/>
          </a:prstGeom>
          <a:ln w="0">
            <a:noFill/>
          </a:ln>
        </p:spPr>
      </p:pic>
      <p:sp>
        <p:nvSpPr>
          <p:cNvPr id="307" name=""/>
          <p:cNvSpPr txBox="1"/>
          <p:nvPr/>
        </p:nvSpPr>
        <p:spPr>
          <a:xfrm>
            <a:off x="151920" y="1676160"/>
            <a:ext cx="8991720" cy="518148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تعريف بقواعد سلوك المستهلك للسلعة الغذائية ( منحنيات الإشباع و دالة المنفعة)، معظمة دالة المنفعة المباشرة وغير المباشرة، دالة الطلب على السلعة الزراعية و أساليب التقدير المختلفة لدالة الطلب، تقدير أثر الإحلال و أثر الدخل، تطبيقات دوال الإنفاق على السلع الغذائية و منحنيات أنجل، والأرقام القياسية لتكاليف المعيشة.</a:t>
            </a:r>
            <a:endParaRPr b="0" lang="en-US" sz="3200" spc="-1" strike="noStrike">
              <a:solidFill>
                <a:srgbClr val="000000"/>
              </a:solidFill>
              <a:latin typeface="Corbe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54712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orbel"/>
                <a:cs typeface="Tahoma"/>
              </a:rPr>
              <a:t>تأهيل الدارسين للمساهمة في التنمية الاقتصادية عبر تزويدهم بالمعارف الضرورية لفهم أسس وقواعد سلوك المستهلك للسلعة الغذائية، والالمام بالموضوعات الاقتصادية لاستهلاك الغذاء، والتعرف على المفاهيم الأساسية المطلوبة لصانع القرارات ذات العلاقة.</a:t>
            </a:r>
            <a:endParaRPr b="0" lang="en-US" sz="3000" spc="-1" strike="noStrike">
              <a:solidFill>
                <a:srgbClr val="000000"/>
              </a:solidFill>
              <a:latin typeface="Corbe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6480"/>
            <a:ext cx="8510760" cy="1427400"/>
          </a:xfrm>
          <a:prstGeom prst="rect">
            <a:avLst/>
          </a:prstGeom>
          <a:ln w="0">
            <a:noFill/>
          </a:ln>
        </p:spPr>
      </p:pic>
      <p:sp>
        <p:nvSpPr>
          <p:cNvPr id="311" name=""/>
          <p:cNvSpPr txBox="1"/>
          <p:nvPr/>
        </p:nvSpPr>
        <p:spPr>
          <a:xfrm>
            <a:off x="228240" y="1774800"/>
            <a:ext cx="84582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Tahoma"/>
              </a:rPr>
              <a:t>ا</a:t>
            </a:r>
            <a:r>
              <a:rPr b="1" lang="ar-SA" sz="3200" spc="-1" strike="noStrike">
                <a:solidFill>
                  <a:srgbClr val="000000"/>
                </a:solidFill>
                <a:latin typeface="Corbel"/>
                <a:cs typeface="Tahoma"/>
              </a:rPr>
              <a:t>لمواظبة على حضور المحاضرات والتطبيقات بشكل منتظم.</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إطلاع المسبق على فصول المقرر قبل المحاضرات.</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اشتراك في المناقشة والأنشطة وحل التمارين، وزيارة أستاذ المادة لأية استفسارات.</a:t>
            </a:r>
            <a:endParaRPr b="0" lang="en-US" sz="3200" spc="-1" strike="noStrike">
              <a:solidFill>
                <a:srgbClr val="000000"/>
              </a:solidFill>
              <a:latin typeface="Corbe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431200" cy="1262160"/>
          </a:xfrm>
          <a:prstGeom prst="rect">
            <a:avLst/>
          </a:prstGeom>
          <a:ln w="0">
            <a:noFill/>
          </a:ln>
        </p:spPr>
      </p:pic>
      <p:sp>
        <p:nvSpPr>
          <p:cNvPr id="313" name=""/>
          <p:cNvSpPr txBox="1"/>
          <p:nvPr/>
        </p:nvSpPr>
        <p:spPr>
          <a:xfrm>
            <a:off x="228240" y="1447920"/>
            <a:ext cx="8458200" cy="541008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شرح، المناقشة، و طرح الأسئلة لتمكين الطلبة من استنباط، فهم، وتطبيق القواعد وذلك من خلال نقاط في شكل عرض تقديمي.</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تطبيق المادة العلمية من خلال التمارين الأسبوعية وأية وسائل أخري مناسبة.  </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قد يكلف الطلاب بالقيام ببعض العروض التقديمية  (كمجموعات أو فرادي) لمواضيع يحددها أستاذ المادة لاحقاً.</a:t>
            </a:r>
            <a:endParaRPr b="0" lang="en-US" sz="3200" spc="-1" strike="noStrike">
              <a:solidFill>
                <a:srgbClr val="000000"/>
              </a:solidFill>
              <a:latin typeface="Corbe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49120" y="-85680"/>
            <a:ext cx="8589960" cy="1500120"/>
          </a:xfrm>
          <a:prstGeom prst="rect">
            <a:avLst/>
          </a:prstGeom>
          <a:ln w="0">
            <a:noFill/>
          </a:ln>
        </p:spPr>
      </p:pic>
      <p:pic>
        <p:nvPicPr>
          <p:cNvPr id="315" name="Picture 3" descr=""/>
          <p:cNvPicPr/>
          <p:nvPr/>
        </p:nvPicPr>
        <p:blipFill>
          <a:blip r:embed="rId2"/>
          <a:stretch/>
        </p:blipFill>
        <p:spPr>
          <a:xfrm>
            <a:off x="0" y="2057400"/>
            <a:ext cx="8915400" cy="441972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547120" cy="1262160"/>
          </a:xfrm>
          <a:prstGeom prst="rect">
            <a:avLst/>
          </a:prstGeom>
          <a:ln w="0">
            <a:noFill/>
          </a:ln>
        </p:spPr>
      </p:pic>
      <p:pic>
        <p:nvPicPr>
          <p:cNvPr id="317" name="Picture 5" descr=""/>
          <p:cNvPicPr/>
          <p:nvPr/>
        </p:nvPicPr>
        <p:blipFill>
          <a:blip r:embed="rId2"/>
          <a:stretch/>
        </p:blipFill>
        <p:spPr>
          <a:xfrm>
            <a:off x="0" y="1398600"/>
            <a:ext cx="9372600" cy="5459400"/>
          </a:xfrm>
          <a:prstGeom prst="rect">
            <a:avLst/>
          </a:prstGeom>
          <a:ln w="0">
            <a:noFill/>
          </a:ln>
        </p:spPr>
      </p:pic>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547120" cy="1262160"/>
          </a:xfrm>
          <a:prstGeom prst="rect">
            <a:avLst/>
          </a:prstGeom>
          <a:ln w="0">
            <a:noFill/>
          </a:ln>
        </p:spPr>
      </p:pic>
      <p:sp>
        <p:nvSpPr>
          <p:cNvPr id="319" name=""/>
          <p:cNvSpPr txBox="1"/>
          <p:nvPr/>
        </p:nvSpPr>
        <p:spPr>
          <a:xfrm>
            <a:off x="152280" y="1774800"/>
            <a:ext cx="8763120" cy="4626000"/>
          </a:xfrm>
          <a:prstGeom prst="rect">
            <a:avLst/>
          </a:prstGeom>
          <a:noFill/>
          <a:ln w="0">
            <a:noFill/>
          </a:ln>
        </p:spPr>
        <p:txBody>
          <a:bodyPr lIns="54720" tIns="91440" anchor="t">
            <a:normAutofit/>
          </a:bodyPr>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وف تطبق لوائح الجامعة في هذا الصدد</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يقوم أستاذ المادة بتسجيل الغياب/الحضور بعد كل محاضرة .</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يكون متاحا للطالب  معرفة نسبة غيابه فور تسجيل الغياب بعد كل محاضرة.</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طالب الذي </a:t>
            </a:r>
            <a:r>
              <a:rPr b="1" lang="ar-SA" sz="2400" spc="-1" strike="noStrike" u="sng">
                <a:solidFill>
                  <a:srgbClr val="000000"/>
                </a:solidFill>
                <a:uFillTx/>
                <a:latin typeface="Corbel"/>
                <a:cs typeface="Tahoma"/>
              </a:rPr>
              <a:t>تتجاوز نسبة غيابه </a:t>
            </a:r>
            <a:r>
              <a:rPr b="1" lang="ar-SA" sz="2400" spc="-1" strike="noStrike" u="sng">
                <a:solidFill>
                  <a:srgbClr val="000000"/>
                </a:solidFill>
                <a:uFillTx/>
                <a:latin typeface="Corbel"/>
                <a:ea typeface="Tahoma"/>
              </a:rPr>
              <a:t>25</a:t>
            </a:r>
            <a:r>
              <a:rPr b="1" lang="ar-SA" sz="2400" spc="-1" strike="noStrike" u="sng">
                <a:solidFill>
                  <a:srgbClr val="000000"/>
                </a:solidFill>
                <a:uFillTx/>
                <a:latin typeface="Corbel"/>
                <a:ea typeface="Tahoma"/>
              </a:rPr>
              <a:t>%</a:t>
            </a:r>
            <a:r>
              <a:rPr b="1" lang="ar-SA" sz="2400" spc="-1" strike="noStrike">
                <a:solidFill>
                  <a:srgbClr val="000000"/>
                </a:solidFill>
                <a:latin typeface="Corbel"/>
                <a:ea typeface="Tahoma"/>
              </a:rPr>
              <a:t> سوف يرفع إسمه للحرمان لدي مجلس القسم. </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حضور من أجل "التحضير"—مثلا في آخر المحاضرة- لا يعني الحضور</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أي أعذار في هذا الصدد تقدم لمجلس الكلية (وليس لأستاذ المادة) بعد صدور قرار الحرمان.</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استئذان من أستاذ المادة </a:t>
            </a:r>
            <a:r>
              <a:rPr b="1" lang="ar-SA" sz="2400" spc="-1" strike="noStrike" u="sng">
                <a:solidFill>
                  <a:srgbClr val="000000"/>
                </a:solidFill>
                <a:uFillTx/>
                <a:latin typeface="Corbel"/>
                <a:cs typeface="Tahoma"/>
              </a:rPr>
              <a:t>لا يعني التحضير .</a:t>
            </a:r>
            <a:endParaRPr b="0" lang="en-US" sz="24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5T04:46:49Z</dcterms:created>
  <dc:creator>lc06</dc:creator>
  <dc:description/>
  <dc:language>en-US</dc:language>
  <cp:lastModifiedBy>Omer</cp:lastModifiedBy>
  <dcterms:modified xsi:type="dcterms:W3CDTF">2016-09-28T06:56:44Z</dcterms:modified>
  <cp:revision>239</cp:revision>
  <dc:subject/>
  <dc:title>إدارة المعلومات والتوع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