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1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ea typeface="Arial"/>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F0AA1-2222-4566-BCB5-0BD38E743C9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685800" y="1143000"/>
            <a:ext cx="5486400" cy="3086280"/>
          </a:xfrm>
          <a:prstGeom prst="rect">
            <a:avLst/>
          </a:prstGeom>
          <a:ln w="0">
            <a:noFill/>
          </a:ln>
        </p:spPr>
      </p:sp>
      <p:sp>
        <p:nvSpPr>
          <p:cNvPr id="37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إختيار مدير وحدة المراجعة الداخلية: يراعى أن يكون مدير وحدة المراجعة الداخلية من الحاصلين على درجة البكالوريوس في المحاسبة ولديه خبرة في مجال المراجعة لا تقل عن سبع سنوات وتكون درجته المالية لا تقل عن الحادية عشر</a:t>
            </a:r>
            <a:r>
              <a:rPr b="0" lang="ar-SA" sz="1200" spc="-1" strike="noStrike">
                <a:solidFill>
                  <a:srgbClr val="000000"/>
                </a:solidFill>
                <a:latin typeface="Calibri"/>
                <a:ea typeface="Arial"/>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08F240-3382-48B0-B829-1D5367183DF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685800" y="1143000"/>
            <a:ext cx="5486400" cy="3086280"/>
          </a:xfrm>
          <a:prstGeom prst="rect">
            <a:avLst/>
          </a:prstGeom>
          <a:ln w="0">
            <a:noFill/>
          </a:ln>
        </p:spPr>
      </p:sp>
      <p:sp>
        <p:nvSpPr>
          <p:cNvPr id="377" name="PlaceHolder 2"/>
          <p:cNvSpPr>
            <a:spLocks noGrp="1"/>
          </p:cNvSpPr>
          <p:nvPr>
            <p:ph type="body"/>
          </p:nvPr>
        </p:nvSpPr>
        <p:spPr>
          <a:xfrm>
            <a:off x="685800" y="4400280"/>
            <a:ext cx="5486400" cy="3600360"/>
          </a:xfrm>
          <a:prstGeom prst="rect">
            <a:avLst/>
          </a:prstGeom>
          <a:noFill/>
          <a:ln w="0">
            <a:noFill/>
          </a:ln>
        </p:spPr>
        <p:txBody>
          <a:bodyPr anchor="t">
            <a:noAutofit/>
          </a:bodyPr>
          <a:p>
            <a:pPr lvl="2" marL="9144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1" lang="ar-SA" sz="1800" spc="-1" strike="noStrike">
                <a:solidFill>
                  <a:srgbClr val="000000"/>
                </a:solidFill>
                <a:latin typeface="Calibri"/>
                <a:cs typeface="Arial"/>
              </a:rPr>
              <a:t>إدارة المراجعة</a:t>
            </a:r>
            <a:r>
              <a:rPr b="0" lang="ar-SA" sz="1800" spc="-1" strike="noStrike">
                <a:solidFill>
                  <a:srgbClr val="000000"/>
                </a:solidFill>
                <a:latin typeface="Calibri"/>
                <a:ea typeface="Arial"/>
              </a:rPr>
              <a:t>: تختص بأعمال المراجعة والفحص</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lvl="2" marL="9144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a:solidFill>
                  <a:srgbClr val="000000"/>
                </a:solidFill>
                <a:latin typeface="Calibri"/>
                <a:cs typeface="Arial"/>
              </a:rPr>
              <a:t>إدارة الإستشارات</a:t>
            </a:r>
            <a:r>
              <a:rPr b="0" lang="ar-SA" sz="1800" spc="-1" strike="noStrike">
                <a:solidFill>
                  <a:srgbClr val="000000"/>
                </a:solidFill>
                <a:latin typeface="Calibri"/>
                <a:ea typeface="Arial"/>
              </a:rPr>
              <a:t>: تختص بتقديم الإستشارات للإدارات الأخرى</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lvl="2" marL="9144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إدارة مراقبة الجودة</a:t>
            </a:r>
            <a:r>
              <a:rPr b="0" lang="ar-SA" sz="1800" spc="-1" strike="noStrike">
                <a:solidFill>
                  <a:srgbClr val="000000"/>
                </a:solidFill>
                <a:latin typeface="Calibri"/>
                <a:ea typeface="Arial"/>
              </a:rPr>
              <a:t>: وتختص بمراقبة وتقويم جودة الأداء بوحدة المراجعة الداخلية</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lvl="2" marL="9144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a:solidFill>
                  <a:srgbClr val="000000"/>
                </a:solidFill>
                <a:latin typeface="Calibri"/>
                <a:cs typeface="Arial"/>
              </a:rPr>
              <a:t>إدارة الأعمال المساندة والإتصالات</a:t>
            </a:r>
            <a:r>
              <a:rPr b="0" lang="ar-SA" sz="1800" spc="-1" strike="noStrike">
                <a:solidFill>
                  <a:srgbClr val="000000"/>
                </a:solidFill>
                <a:latin typeface="Calibri"/>
                <a:ea typeface="Arial"/>
              </a:rPr>
              <a:t>: وتختص بالأعمال المساندة كالنسخ والحفظ والإتصال بالإدارات الأخرى داخل الجهة</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lvl="2" marL="9144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a:solidFill>
                  <a:srgbClr val="000000"/>
                </a:solidFill>
                <a:latin typeface="Calibri"/>
                <a:cs typeface="Arial"/>
              </a:rPr>
              <a:t>إدارة العمليات الخاصة</a:t>
            </a:r>
            <a:r>
              <a:rPr b="0" lang="ar-SA" sz="1800" spc="-1" strike="noStrike">
                <a:solidFill>
                  <a:srgbClr val="000000"/>
                </a:solidFill>
                <a:latin typeface="Calibri"/>
                <a:ea typeface="Arial"/>
              </a:rPr>
              <a:t>: يمكن أن يكون هناك إدارة خاصة تتولى أعمال الفحص والمراجعة ذات الطبيعة الخاصة مثل التي تتضمن فحص عمليات غش أو إختلاسات</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8D0A6-23CB-4EC6-A3AB-27F5343B5F1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1981D-6657-4FA0-8AAF-F935A5E4A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8F24E-C313-4A0B-A6EE-DB884A762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24949-7321-428C-9ABD-5F7782EBE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3A27D-09CD-4DE3-B42A-381EB4031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6D533C-34F0-4728-809E-1F03A9C278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B725F-2E5E-4139-B630-959E9E616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166CB-16D1-40BC-9C23-B4BF4AA7F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9202A-C08B-4179-9F13-B306F3187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A4CFF-E3A7-445A-8459-164D28BDC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1BE1A-AD1B-488B-8F46-3966D9673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D24A9-8BDB-4B10-820A-94E258EB6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ADA11-32EB-403E-B6B0-BA6CE98C2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42B6F-E057-4290-B72A-EAA1FF9DC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01D0F-D517-4A34-82B2-44FFF15D6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FB8AE-512E-4291-A5CE-6DEDE2A3C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0A10F-CABB-4557-A229-2330737E4A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5DE44-45AD-4ED4-AF1E-0EC6B11C0F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D78CAE-A6B4-4DCE-AE15-B98957B937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4FB2C8-5BC7-4A9F-A536-E73DBA41D0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F2119C-98D1-43D8-B90B-C8A14F0AA8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14CE94-E333-411B-A3E0-A76087A5E6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1E460B-40D5-40CC-87DC-AB52CAB0DA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1C3A8-155D-44B7-804F-4DD9D6DBB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EE7330-08E7-4F64-8C24-59A1E7FBF0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BB70AC-483A-4139-83B1-EFBA6295DB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F8BE79-3C71-4D83-B80C-8B09C244B3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B97F55-7AA2-4DD6-9AFB-EC2CAD63B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606843-DFF9-4F97-9309-4304B0C1B3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C76A95-622F-4413-BDD8-88A37319B3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6C8498-7AB5-4F55-A07A-160BE28E18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67F2B2-DE57-4A5C-A1AB-FFC942799C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83FD97-89EF-4BC4-A79D-18768F6B9B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578197-BC32-418D-8553-1173F0B4F1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E3634-4089-4C94-8C93-388964A0D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75ACF7-43D3-4152-B43D-FC057F2894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AA33B5-DF89-42FC-ABC3-140F8313CE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E239EF-54B9-475A-9556-70A9A805D1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DC31E1-4D4E-4BB6-890C-52B12F2AE4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7E8FF5-F9B9-4FC9-879D-DDC63DDAA4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2576DE-AFCC-4287-AC90-030D197139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612E36-24B4-4014-BB87-7898BECD7C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6012D6-2E93-4DB3-AA99-66DC6F927E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9C5B4C-33C0-4272-B3B7-64B5353A83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0E7210-E4B1-43BE-9CD6-65E8630908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38776-7121-4A56-912A-3869324D0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52B82A-11A0-4242-9EF2-A76E809A2B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D0D537-777E-43AF-A4EF-B8B5860DF6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506191-C49A-409D-8CD7-947B2EE112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A055D6-4DA2-4EC3-A137-5B163179C4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2913B9-F1F5-4CE6-B13D-A412AAEF62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DEFFB7-344E-4E17-8D80-4BE2E67EA7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0A68A7-BF1A-4C07-BAB0-EEEA034E51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FB97AF-CC7E-42A9-BD51-0FC8853BE4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D7BA29-FC17-4E59-B37B-E1C2241B53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CD99E0-B4BD-4122-90E5-3763B8E90B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A3767-A5C5-4A24-B19C-B429848CC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80782B-919A-4761-94B3-E1096BF213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EA7448-950D-432F-98E5-FA43FDB289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8C5769-30C8-4373-91D8-81C684C66D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20984B-8C33-43DA-BDC5-FF9378FC05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FA8C1D-9AFF-4B68-8B40-3E3FB997AB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DC238E-E497-4B1E-9B63-BFAFECBC4C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17BFAB-4A8A-4C95-9857-1600A7C522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847E93-B7E4-4CAA-802F-B923CD4EE1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6A4BE7-9E18-4712-9686-4B27224134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C7EAD2-99B7-46DD-915E-23E3B13B81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10CFC-7AD5-4C9E-9E65-77860DD9D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43180F-C586-4CBA-B178-A202A016B0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20EAE0-B9DD-4E97-9EE2-14F1330A47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A18F53-CFFA-410B-9E33-ECD05CB6EE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E7C507-34A1-406F-8752-612BDC9F4E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D71030-8B77-41EB-944E-82AE878F56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62C1FD-D47D-446F-BC43-F1B4DE8C96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8DE01C-EAC0-4741-AEBB-5FF8BAF8D9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5041DD-1FED-4709-B520-65BABEA457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FB395B-9259-4EF2-9060-5972ACD81E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7C20D8-F29E-4152-AA8A-8F3F13CD1F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B9385-17BA-4C5A-8651-2D14D3535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D86850-1B4A-4715-B48D-4AE3617AAC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963D68-0E73-4CA9-9F01-127F74F327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01287C-0944-4180-8620-B9DCB13F93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C31022-31E0-4E12-BE68-19C1D566F9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BD650A-EDF2-4621-850B-729A8E3812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410BE-ED0C-418C-BA5A-C7F30431C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 name="Donut 10"/>
          <p:cNvGrpSpPr/>
          <p:nvPr/>
        </p:nvGrpSpPr>
        <p:grpSpPr>
          <a:xfrm>
            <a:off x="298440" y="963720"/>
            <a:ext cx="1397160" cy="1309680"/>
            <a:chOff x="298440" y="963720"/>
            <a:chExt cx="1397160" cy="1309680"/>
          </a:xfrm>
        </p:grpSpPr>
        <p:pic>
          <p:nvPicPr>
            <p:cNvPr id="3" name="Donut 10" descr=""/>
            <p:cNvPicPr/>
            <p:nvPr/>
          </p:nvPicPr>
          <p:blipFill>
            <a:blip r:embed="rId3"/>
            <a:stretch/>
          </p:blipFill>
          <p:spPr>
            <a:xfrm>
              <a:off x="298440" y="963720"/>
              <a:ext cx="1397160" cy="1309680"/>
            </a:xfrm>
            <a:prstGeom prst="rect">
              <a:avLst/>
            </a:prstGeom>
            <a:ln w="0">
              <a:noFill/>
            </a:ln>
          </p:spPr>
        </p:pic>
        <p:sp>
          <p:nvSpPr>
            <p:cNvPr id="4"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A84978-B544-4565-AECE-288FA0F86BC3}"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
        <p:nvSpPr>
          <p:cNvPr id="11"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0" name="Donut 10"/>
          <p:cNvGrpSpPr/>
          <p:nvPr/>
        </p:nvGrpSpPr>
        <p:grpSpPr>
          <a:xfrm>
            <a:off x="298440" y="963720"/>
            <a:ext cx="1397160" cy="1309680"/>
            <a:chOff x="298440" y="963720"/>
            <a:chExt cx="1397160" cy="1309680"/>
          </a:xfrm>
        </p:grpSpPr>
        <p:pic>
          <p:nvPicPr>
            <p:cNvPr id="51" name="Donut 10" descr=""/>
            <p:cNvPicPr/>
            <p:nvPr/>
          </p:nvPicPr>
          <p:blipFill>
            <a:blip r:embed="rId3"/>
            <a:stretch/>
          </p:blipFill>
          <p:spPr>
            <a:xfrm>
              <a:off x="298440" y="963720"/>
              <a:ext cx="1397160" cy="1309680"/>
            </a:xfrm>
            <a:prstGeom prst="rect">
              <a:avLst/>
            </a:prstGeom>
            <a:ln w="0">
              <a:noFill/>
            </a:ln>
          </p:spPr>
        </p:pic>
        <p:sp>
          <p:nvSpPr>
            <p:cNvPr id="52"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3"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5" name="Oval 12"/>
          <p:cNvGrpSpPr/>
          <p:nvPr/>
        </p:nvGrpSpPr>
        <p:grpSpPr>
          <a:xfrm>
            <a:off x="1231920" y="1414440"/>
            <a:ext cx="285840" cy="212760"/>
            <a:chOff x="1231920" y="1414440"/>
            <a:chExt cx="285840" cy="212760"/>
          </a:xfrm>
        </p:grpSpPr>
        <p:pic>
          <p:nvPicPr>
            <p:cNvPr id="56" name="Oval 12" descr=""/>
            <p:cNvPicPr/>
            <p:nvPr/>
          </p:nvPicPr>
          <p:blipFill>
            <a:blip r:embed="rId4"/>
            <a:stretch/>
          </p:blipFill>
          <p:spPr>
            <a:xfrm>
              <a:off x="1231920" y="1414440"/>
              <a:ext cx="285840" cy="212760"/>
            </a:xfrm>
            <a:prstGeom prst="rect">
              <a:avLst/>
            </a:prstGeom>
            <a:ln w="0">
              <a:noFill/>
            </a:ln>
          </p:spPr>
        </p:pic>
        <p:sp>
          <p:nvSpPr>
            <p:cNvPr id="57" name=""/>
            <p:cNvSpPr/>
            <p:nvPr/>
          </p:nvSpPr>
          <p:spPr>
            <a:xfrm>
              <a:off x="1270080" y="1444680"/>
              <a:ext cx="19836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8" name="Oval 13"/>
          <p:cNvSpPr/>
          <p:nvPr/>
        </p:nvSpPr>
        <p:spPr>
          <a:xfrm>
            <a:off x="1542960" y="1344600"/>
            <a:ext cx="8568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0D5BA9-9840-43F3-803B-9DCFE64A8D10}"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304308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1" name="Rectangle 13"/>
          <p:cNvSpPr/>
          <p:nvPr/>
        </p:nvSpPr>
        <p:spPr>
          <a:xfrm>
            <a:off x="3048120" y="0"/>
            <a:ext cx="1015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02" name="Oval 15"/>
          <p:cNvGrpSpPr/>
          <p:nvPr/>
        </p:nvGrpSpPr>
        <p:grpSpPr>
          <a:xfrm>
            <a:off x="2895480" y="2816280"/>
            <a:ext cx="285840" cy="212760"/>
            <a:chOff x="2895480" y="2816280"/>
            <a:chExt cx="285840" cy="212760"/>
          </a:xfrm>
        </p:grpSpPr>
        <p:pic>
          <p:nvPicPr>
            <p:cNvPr id="103" name="Oval 15" descr=""/>
            <p:cNvPicPr/>
            <p:nvPr/>
          </p:nvPicPr>
          <p:blipFill>
            <a:blip r:embed="rId3"/>
            <a:stretch/>
          </p:blipFill>
          <p:spPr>
            <a:xfrm>
              <a:off x="2895480" y="2816280"/>
              <a:ext cx="285840" cy="212760"/>
            </a:xfrm>
            <a:prstGeom prst="rect">
              <a:avLst/>
            </a:prstGeom>
            <a:ln w="0">
              <a:noFill/>
            </a:ln>
          </p:spPr>
        </p:pic>
        <p:sp>
          <p:nvSpPr>
            <p:cNvPr id="104" name=""/>
            <p:cNvSpPr/>
            <p:nvPr/>
          </p:nvSpPr>
          <p:spPr>
            <a:xfrm>
              <a:off x="2936880" y="2844720"/>
              <a:ext cx="19836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05" name="Oval 16"/>
          <p:cNvSpPr/>
          <p:nvPr/>
        </p:nvSpPr>
        <p:spPr>
          <a:xfrm>
            <a:off x="3211560" y="2746440"/>
            <a:ext cx="8424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0" name="PlaceHolder 5"/>
          <p:cNvSpPr>
            <a:spLocks noGrp="1"/>
          </p:cNvSpPr>
          <p:nvPr>
            <p:ph type="sldNum" idx="9"/>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20773-6A3E-4DB5-A4FD-E12002FE2734}"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 name="PlaceHolder 5"/>
          <p:cNvSpPr>
            <a:spLocks noGrp="1"/>
          </p:cNvSpPr>
          <p:nvPr>
            <p:ph type="sldNum" idx="12"/>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8F228-DF79-434E-BE23-EABB6A847535}"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352520" y="0"/>
            <a:ext cx="108396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Rectangle 13"/>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4" name="PlaceHolder 5"/>
          <p:cNvSpPr>
            <a:spLocks noGrp="1"/>
          </p:cNvSpPr>
          <p:nvPr>
            <p:ph type="sldNum" idx="15"/>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0550E4-C1C0-435B-AD09-A4E784F853A5}"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5" name="PlaceHolder 5"/>
          <p:cNvSpPr>
            <a:spLocks noGrp="1"/>
          </p:cNvSpPr>
          <p:nvPr>
            <p:ph type="sldNum" idx="18"/>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D17207-79C8-4F69-90F2-29BFD2A8DAD9}"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907920" y="974880"/>
            <a:ext cx="6321600" cy="4797360"/>
            <a:chOff x="907920" y="974880"/>
            <a:chExt cx="6321600" cy="4797360"/>
          </a:xfrm>
        </p:grpSpPr>
        <p:pic>
          <p:nvPicPr>
            <p:cNvPr id="273" name="Rectangle 12" descr=""/>
            <p:cNvPicPr/>
            <p:nvPr/>
          </p:nvPicPr>
          <p:blipFill>
            <a:blip r:embed="rId3"/>
            <a:stretch/>
          </p:blipFill>
          <p:spPr>
            <a:xfrm>
              <a:off x="907920" y="974880"/>
              <a:ext cx="6321600" cy="4797360"/>
            </a:xfrm>
            <a:prstGeom prst="rect">
              <a:avLst/>
            </a:prstGeom>
            <a:ln w="0">
              <a:noFill/>
            </a:ln>
          </p:spPr>
        </p:pic>
        <p:sp>
          <p:nvSpPr>
            <p:cNvPr id="274" name=""/>
            <p:cNvSpPr/>
            <p:nvPr/>
          </p:nvSpPr>
          <p:spPr>
            <a:xfrm>
              <a:off x="1015920" y="1066680"/>
              <a:ext cx="609624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75" name="Flowchart: Process 13"/>
          <p:cNvSpPr/>
          <p:nvPr/>
        </p:nvSpPr>
        <p:spPr>
          <a:xfrm rot="19468200">
            <a:off x="528120" y="953640"/>
            <a:ext cx="9144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6" name="Flowchart: Process 15"/>
          <p:cNvSpPr/>
          <p:nvPr/>
        </p:nvSpPr>
        <p:spPr>
          <a:xfrm flipH="1" rot="2103600">
            <a:off x="6672240" y="936360"/>
            <a:ext cx="86508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1" name="PlaceHolder 5"/>
          <p:cNvSpPr>
            <a:spLocks noGrp="1"/>
          </p:cNvSpPr>
          <p:nvPr>
            <p:ph type="sldNum" idx="21"/>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D0B98C-D05E-4850-8422-3557A7A5C394}"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898280" y="1887480"/>
            <a:ext cx="9875880" cy="147168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572314"/>
                </a:solidFill>
                <a:latin typeface="Times New Roman"/>
                <a:cs typeface="Arabic Transparent"/>
              </a:rPr>
              <a:t>المراجعه </a:t>
            </a:r>
            <a:r>
              <a:rPr b="1" lang="ar-EG" sz="5400" spc="-1" strike="noStrike">
                <a:solidFill>
                  <a:srgbClr val="572314"/>
                </a:solidFill>
                <a:latin typeface="Times New Roman"/>
                <a:cs typeface="Arabic Transparent"/>
              </a:rPr>
              <a:t>الداخلية </a:t>
            </a:r>
            <a:r>
              <a:rPr b="1" lang="ar-SA" sz="5400" spc="-1" strike="noStrike">
                <a:solidFill>
                  <a:srgbClr val="572314"/>
                </a:solidFill>
                <a:latin typeface="Times New Roman"/>
                <a:cs typeface="Arabic Transparent"/>
              </a:rPr>
              <a:t>في الوحدات الحكومية</a:t>
            </a:r>
            <a:endParaRPr b="0" lang="en-US" sz="5400" spc="-1" strike="noStrike">
              <a:solidFill>
                <a:srgbClr val="572314"/>
              </a:solidFill>
              <a:latin typeface="Gill Sans MT"/>
            </a:endParaRPr>
          </a:p>
        </p:txBody>
      </p:sp>
      <p:sp>
        <p:nvSpPr>
          <p:cNvPr id="326" name="PlaceHolder 2"/>
          <p:cNvSpPr>
            <a:spLocks noGrp="1"/>
          </p:cNvSpPr>
          <p:nvPr>
            <p:ph type="subTitle"/>
          </p:nvPr>
        </p:nvSpPr>
        <p:spPr>
          <a:xfrm>
            <a:off x="1887120" y="3735360"/>
            <a:ext cx="9875880" cy="1752480"/>
          </a:xfrm>
          <a:prstGeom prst="rect">
            <a:avLst/>
          </a:prstGeom>
          <a:noFill/>
          <a:ln w="0">
            <a:noFill/>
          </a:ln>
        </p:spPr>
        <p:txBody>
          <a:bodyPr tIns="0" anchor="t">
            <a:noAutofit/>
          </a:bodyPr>
          <a:p>
            <a:pPr marL="2700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320e04"/>
                </a:solidFill>
                <a:latin typeface="Gill Sans MT"/>
                <a:cs typeface="Majalla UI"/>
              </a:rPr>
              <a:t>الفصل السابع</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فقرة الأولى: معلومات عامة</a:t>
            </a:r>
            <a:endParaRPr b="0" lang="en-US" sz="4300" spc="-1" strike="noStrike">
              <a:solidFill>
                <a:srgbClr val="572314"/>
              </a:solidFill>
              <a:latin typeface="Gill Sans MT"/>
            </a:endParaRPr>
          </a:p>
        </p:txBody>
      </p:sp>
      <p:sp>
        <p:nvSpPr>
          <p:cNvPr id="345"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تضمن هذه الفقرة الهدف والغاية من صياغة الدليل بالإضافة إلى أي معلومات يرغب رئيس وحدة المراجعة والمسؤول الأول وضعها مثل إجراءات تداول الدليل وإشارة إلى ملكيته لوحدة المراجعة</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611617"/>
                </a:solidFill>
                <a:latin typeface="Gill Sans MT"/>
                <a:cs typeface="Majalla UI"/>
              </a:rPr>
              <a:t>الفقرة الثانية: الجهة الحكومية التي تعمل بها وحدة المراجعة</a:t>
            </a:r>
            <a:endParaRPr b="0" lang="en-US" sz="3900" spc="-1" strike="noStrike">
              <a:solidFill>
                <a:srgbClr val="572314"/>
              </a:solidFill>
              <a:latin typeface="Gill Sans MT"/>
            </a:endParaRPr>
          </a:p>
        </p:txBody>
      </p:sp>
      <p:sp>
        <p:nvSpPr>
          <p:cNvPr id="347"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قدمة:</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عرض فيها معلومات عن الجهة التي تعمل بها وحدة المراجعة من حيث تاريخ إنشائها والتطورات التي حدثت فيها.</a:t>
            </a:r>
            <a:endParaRPr b="0" lang="en-US" sz="20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أهداف ورسالة الجهة:</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عرض في هذا الجزء أهداف ورسالة الجهة الحكومية التي تنتمي إليها وحدة المراجعة.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فقرة الثالثة: معلومات عن وحدة المراجعة الداخلية</a:t>
            </a:r>
            <a:endParaRPr b="0" lang="en-US" sz="4300" spc="-1" strike="noStrike">
              <a:solidFill>
                <a:srgbClr val="572314"/>
              </a:solidFill>
              <a:latin typeface="Gill Sans MT"/>
            </a:endParaRPr>
          </a:p>
        </p:txBody>
      </p:sp>
      <p:sp>
        <p:nvSpPr>
          <p:cNvPr id="349"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فهوم المراجعة الداخلية</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وضع التنظيمي لوحدة المراجعة الداخلية</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رؤيا (الرسالة)الخاصة بوحدة المراجعة الداخلية</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صياغة رسالة (رؤيا) واضحة لوحدة المراجعة الداخلية يكون جميع العاملين بالوحدة على علم تام بها</a:t>
            </a:r>
            <a:endParaRPr b="0" lang="en-US" sz="20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هدف عام للوحدة يكون جميع العاملين بالوحدة على علم تام وقناعة تامة به</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سرية المعلومات المتداولة في الوحدة </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فقرة الرابعة: إدارة وحدة المراجعة الداخلية</a:t>
            </a:r>
            <a:endParaRPr b="0" lang="en-US" sz="4300" spc="-1" strike="noStrike">
              <a:solidFill>
                <a:srgbClr val="572314"/>
              </a:solidFill>
              <a:latin typeface="Gill Sans MT"/>
            </a:endParaRPr>
          </a:p>
        </p:txBody>
      </p:sp>
      <p:sp>
        <p:nvSpPr>
          <p:cNvPr id="351"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جب أن يتضمن الدليل فقرة مستقلة عن الإجراءات التي يجب اتباعها لإدارة وحدة المراجعة الداخلية بشكل يضمن الحفاظ على مستوى جودة مقبول ويضمن الإلتزام بباقي فقرات الدليل.</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نعرض فيما يلي لأهم ما يجب أن يتضمنه دليل المراجعة في هذا الخصوص وهو: </a:t>
            </a:r>
            <a:endParaRPr b="0" lang="en-US" sz="2400" spc="-1" strike="noStrike">
              <a:solidFill>
                <a:srgbClr val="000000"/>
              </a:solidFill>
              <a:latin typeface="Gill Sans MT"/>
            </a:endParaRPr>
          </a:p>
          <a:p>
            <a:pPr lvl="1" marL="639720" indent="-236520" algn="r" rtl="1">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تدريب و التعليم المستمر </a:t>
            </a:r>
            <a:endParaRPr b="0" lang="en-US" sz="2000" spc="-1" strike="noStrike">
              <a:solidFill>
                <a:srgbClr val="000000"/>
              </a:solidFill>
              <a:latin typeface="Gill Sans MT"/>
            </a:endParaRPr>
          </a:p>
          <a:p>
            <a:pPr lvl="1" marL="639720" indent="-236520" algn="r" rtl="1">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ويم أداء العاملين بوحدة المراجعة الداخلية </a:t>
            </a:r>
            <a:endParaRPr b="0" lang="en-US" sz="2000" spc="-1" strike="noStrike">
              <a:solidFill>
                <a:srgbClr val="000000"/>
              </a:solidFill>
              <a:latin typeface="Gill Sans MT"/>
            </a:endParaRPr>
          </a:p>
          <a:p>
            <a:pPr lvl="1" marL="639720" indent="-236520" algn="r" rtl="1">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رقابة الجودة </a:t>
            </a:r>
            <a:endParaRPr b="0" lang="en-US" sz="2000" spc="-1" strike="noStrike">
              <a:solidFill>
                <a:srgbClr val="000000"/>
              </a:solidFill>
              <a:latin typeface="Gill Sans MT"/>
            </a:endParaRPr>
          </a:p>
          <a:p>
            <a:pPr lvl="1" marL="639720" indent="-236520" algn="r" rtl="1">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تحقق من رضاء العميل</a:t>
            </a:r>
            <a:r>
              <a:rPr b="0" lang="ar-SA" sz="2000" spc="-1" strike="noStrike">
                <a:solidFill>
                  <a:srgbClr val="000000"/>
                </a:solidFill>
                <a:latin typeface="Gill Sans MT"/>
                <a:ea typeface="Majalla UI"/>
              </a:rPr>
              <a:t>	</a:t>
            </a:r>
            <a:r>
              <a:rPr b="0" lang="ar-SA" sz="2000" spc="-1" strike="noStrike">
                <a:solidFill>
                  <a:srgbClr val="000000"/>
                </a:solidFill>
                <a:latin typeface="Gill Sans MT"/>
                <a:ea typeface="Majalla UI"/>
              </a:rPr>
              <a:t> </a:t>
            </a:r>
            <a:endParaRPr b="0" lang="en-US" sz="2000" spc="-1" strike="noStrike">
              <a:solidFill>
                <a:srgbClr val="000000"/>
              </a:solidFill>
              <a:latin typeface="Gill Sans MT"/>
            </a:endParaRPr>
          </a:p>
          <a:p>
            <a:pPr lvl="1" marL="639720" indent="-236520" algn="r" rtl="1">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توثيق حفظ السجلات </a:t>
            </a:r>
            <a:endParaRPr b="0" lang="en-US" sz="20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فقرة الرابعة: إدارة وحدة المراجعة الداخلية</a:t>
            </a:r>
            <a:endParaRPr b="0" lang="en-US" sz="4300" spc="-1" strike="noStrike">
              <a:solidFill>
                <a:srgbClr val="572314"/>
              </a:solidFill>
              <a:latin typeface="Gill Sans MT"/>
            </a:endParaRPr>
          </a:p>
        </p:txBody>
      </p:sp>
      <p:sp>
        <p:nvSpPr>
          <p:cNvPr id="353"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تدريب :</a:t>
            </a:r>
            <a:endParaRPr b="0" lang="en-US" sz="2400" spc="-1" strike="noStrike">
              <a:solidFill>
                <a:srgbClr val="000000"/>
              </a:solidFill>
              <a:latin typeface="Gill Sans MT"/>
            </a:endParaRPr>
          </a:p>
          <a:p>
            <a:pPr lvl="1" marL="858960" indent="-45720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التدريب على رأس العمل: </a:t>
            </a:r>
            <a:endParaRPr b="0" lang="en-US" sz="2000" spc="-1" strike="noStrike">
              <a:solidFill>
                <a:srgbClr val="000000"/>
              </a:solidFill>
              <a:latin typeface="Gill Sans MT"/>
            </a:endParaRPr>
          </a:p>
          <a:p>
            <a:pPr lvl="2" marL="933480" indent="-285840" algn="r"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عني الإستفادة من الخبرات التي يكتسبها المراجع الداخلي بنفسه أثناء تنفيذ عمله.</a:t>
            </a:r>
            <a:endParaRPr b="0" lang="en-US" sz="1600" spc="-1" strike="noStrike">
              <a:solidFill>
                <a:srgbClr val="000000"/>
              </a:solidFill>
              <a:latin typeface="Gill Sans MT"/>
            </a:endParaRPr>
          </a:p>
          <a:p>
            <a:pPr lvl="1" marL="858960" indent="-45720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r>
              <a:rPr b="1" lang="ar-SA" sz="2000" spc="-1" strike="noStrike">
                <a:solidFill>
                  <a:srgbClr val="000000"/>
                </a:solidFill>
                <a:latin typeface="Gill Sans MT"/>
                <a:cs typeface="Majalla UI"/>
              </a:rPr>
              <a:t>التدريب المخطط</a:t>
            </a:r>
            <a:r>
              <a:rPr b="0" lang="ar-SA" sz="2000" spc="-1" strike="noStrike">
                <a:solidFill>
                  <a:srgbClr val="000000"/>
                </a:solidFill>
                <a:latin typeface="Gill Sans MT"/>
                <a:ea typeface="Majalla UI"/>
              </a:rPr>
              <a:t>: </a:t>
            </a:r>
            <a:endParaRPr b="0" lang="en-US" sz="2000" spc="-1" strike="noStrike">
              <a:solidFill>
                <a:srgbClr val="000000"/>
              </a:solidFill>
              <a:latin typeface="Gill Sans MT"/>
            </a:endParaRPr>
          </a:p>
          <a:p>
            <a:pPr lvl="2" marL="933480" indent="-285840" algn="r"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r>
              <a:rPr b="0" lang="ar-SA" sz="1600" spc="-1" strike="noStrike">
                <a:solidFill>
                  <a:srgbClr val="000000"/>
                </a:solidFill>
                <a:latin typeface="Gill Sans MT"/>
                <a:cs typeface="Majalla UI"/>
              </a:rPr>
              <a:t>يجب على الجهة ووحدة المراجعة الداخلية بها أن يلتزمان بتقديم دورات تدريب منتظمة للعاملين بوحدة المراجعة الداخلية.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611617"/>
                </a:solidFill>
                <a:latin typeface="Gill Sans MT"/>
                <a:cs typeface="Majalla UI"/>
              </a:rPr>
              <a:t>الفقرة الرابعة: إدارة وحدة المراجعة الداخلية </a:t>
            </a:r>
            <a:br>
              <a:rPr sz="3900"/>
            </a:br>
            <a:endParaRPr b="0" lang="en-US" sz="3900" spc="-1" strike="noStrike">
              <a:solidFill>
                <a:srgbClr val="572314"/>
              </a:solidFill>
              <a:latin typeface="Gill Sans MT"/>
            </a:endParaRPr>
          </a:p>
        </p:txBody>
      </p:sp>
      <p:sp>
        <p:nvSpPr>
          <p:cNvPr id="355"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تعليم المستمر والشهادات المهنية: </a:t>
            </a:r>
            <a:endParaRPr b="0" lang="en-US" sz="2400" spc="-1" strike="noStrike">
              <a:solidFill>
                <a:srgbClr val="000000"/>
              </a:solidFill>
              <a:latin typeface="Gill Sans MT"/>
            </a:endParaRPr>
          </a:p>
        </p:txBody>
      </p:sp>
      <p:graphicFrame>
        <p:nvGraphicFramePr>
          <p:cNvPr id="356" name=""/>
          <p:cNvGraphicFramePr/>
          <p:nvPr/>
        </p:nvGraphicFramePr>
        <p:xfrm>
          <a:off x="1717560" y="2179800"/>
          <a:ext cx="10058400" cy="4108320"/>
        </p:xfrm>
        <a:graphic>
          <a:graphicData uri="http://schemas.openxmlformats.org/drawingml/2006/table">
            <a:tbl>
              <a:tblPr/>
              <a:tblGrid>
                <a:gridCol w="5783400"/>
                <a:gridCol w="4275000"/>
              </a:tblGrid>
              <a:tr h="514080">
                <a:tc>
                  <a:txBody>
                    <a:bodyPr lIns="47160" rIns="47160" tIns="0" bIns="0" anchor="t">
                      <a:noAutofit/>
                    </a:bodyPr>
                    <a:p>
                      <a:pPr algn="r">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ertified Internal Audito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7160" rIns="47160" tIns="0" bIns="0" anchor="t">
                      <a:noAutofit/>
                    </a:bodyPr>
                    <a:p>
                      <a:pPr algn="r" rtl="1">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ill Sans MT"/>
                          <a:cs typeface="Majalla UI"/>
                        </a:rPr>
                        <a:t>شهادة مراجع داخل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13000">
                <a:tc>
                  <a:txBody>
                    <a:bodyPr lIns="47160" rIns="47160" tIns="0" bIns="0" anchor="t">
                      <a:noAutofit/>
                    </a:bodyPr>
                    <a:p>
                      <a:pPr algn="r">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ertified Financial Audito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47160" rIns="47160" tIns="0" bIns="0" anchor="t">
                      <a:noAutofit/>
                    </a:bodyPr>
                    <a:p>
                      <a:pPr algn="r" rtl="1">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ill Sans MT"/>
                          <a:cs typeface="Majalla UI"/>
                        </a:rPr>
                        <a:t>شهادة مراجع مال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r h="514080">
                <a:tc>
                  <a:txBody>
                    <a:bodyPr lIns="47160" rIns="47160" tIns="0" bIns="0" anchor="t">
                      <a:noAutofit/>
                    </a:bodyPr>
                    <a:p>
                      <a:pPr algn="r">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ertified Fraud Examine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7160" rIns="47160" tIns="0" bIns="0" anchor="t">
                      <a:noAutofit/>
                    </a:bodyPr>
                    <a:p>
                      <a:pPr algn="r" rtl="1">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ill Sans MT"/>
                          <a:cs typeface="Majalla UI"/>
                        </a:rPr>
                        <a:t>شهادة مراجع اختلاس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513000">
                <a:tc>
                  <a:txBody>
                    <a:bodyPr lIns="47160" rIns="47160" tIns="0" bIns="0" anchor="t">
                      <a:noAutofit/>
                    </a:bodyPr>
                    <a:p>
                      <a:pPr algn="r">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ertified Financial Manage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7160" rIns="47160" tIns="0" bIns="0" anchor="t">
                      <a:noAutofit/>
                    </a:bodyPr>
                    <a:p>
                      <a:pPr algn="r" rtl="1">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ill Sans MT"/>
                          <a:cs typeface="Majalla UI"/>
                        </a:rPr>
                        <a:t>شهادة مدير مال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769680">
                <a:tc>
                  <a:txBody>
                    <a:bodyPr lIns="47160" rIns="47160" tIns="0" bIns="0" anchor="t">
                      <a:noAutofit/>
                    </a:bodyPr>
                    <a:p>
                      <a:pPr algn="r">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ertified Information System Audito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7160" rIns="47160" tIns="0" bIns="0" anchor="t">
                      <a:noAutofit/>
                    </a:bodyPr>
                    <a:p>
                      <a:pPr algn="r" rtl="1">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ill Sans MT"/>
                          <a:cs typeface="Majalla UI"/>
                        </a:rPr>
                        <a:t>شهادة مراجع أنظمة المعلومات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514440">
                <a:tc>
                  <a:txBody>
                    <a:bodyPr lIns="47160" rIns="47160" tIns="0" bIns="0" anchor="t">
                      <a:noAutofit/>
                    </a:bodyPr>
                    <a:p>
                      <a:pPr algn="r">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ertified Public Accountant</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7160" rIns="47160" tIns="0" bIns="0" anchor="t">
                      <a:noAutofit/>
                    </a:bodyPr>
                    <a:p>
                      <a:pPr algn="r" rtl="1">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ill Sans MT"/>
                          <a:cs typeface="Majalla UI"/>
                        </a:rPr>
                        <a:t>شهادة محاسب قانون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770040">
                <a:tc>
                  <a:txBody>
                    <a:bodyPr lIns="47160" rIns="47160" tIns="0" bIns="0" anchor="t">
                      <a:noAutofit/>
                    </a:bodyPr>
                    <a:p>
                      <a:pPr algn="r">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ertified Management Accountant</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47160" rIns="47160" tIns="0" bIns="0" anchor="t">
                      <a:noAutofit/>
                    </a:bodyPr>
                    <a:p>
                      <a:pPr algn="r" rtl="1">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ill Sans MT"/>
                          <a:cs typeface="Majalla UI"/>
                        </a:rPr>
                        <a:t>شهادة محاسب إداري مرخص .</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611617"/>
                </a:solidFill>
                <a:latin typeface="Gill Sans MT"/>
                <a:cs typeface="Majalla UI"/>
              </a:rPr>
              <a:t>الفقرة الرابعة:إدارة وحدة المراجعة الداخلية </a:t>
            </a:r>
            <a:br>
              <a:rPr sz="3900"/>
            </a:br>
            <a:endParaRPr b="0" lang="en-US" sz="3900" spc="-1" strike="noStrike">
              <a:solidFill>
                <a:srgbClr val="572314"/>
              </a:solidFill>
              <a:latin typeface="Gill Sans MT"/>
            </a:endParaRPr>
          </a:p>
        </p:txBody>
      </p:sp>
      <p:sp>
        <p:nvSpPr>
          <p:cNvPr id="358"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تقويم أداء العاملين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تتبنى وحدة المراجعة الداخلية نظام جيد لتقويم أداء العاملين بها وبصفة خاصة المراجعين الداخليين</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ويم الأداء يستخدم لمساعدة المراجعين في تحديد نقاط ضعفهم والعمل على تحسينها قبل موعد عمليات التقويم اللاحقة.</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جب الاحتفاظ بنماذج تقويم المراجعين الداخليين داخل ملفاتهم الشخصية وليس في ملف مراجعة المهمة. </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بصفة عامة يمكن استخدام نوعين مختلفين لعمليات تقويم أداء المراجعين الداخليين ، وهما: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تقويم الخاص بكل مهمة</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تقويم السنوي</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611617"/>
                </a:solidFill>
                <a:latin typeface="Gill Sans MT"/>
                <a:cs typeface="Majalla UI"/>
              </a:rPr>
              <a:t>الفقرة الرابعة:إدارة وحدة المراجعة الداخلية </a:t>
            </a:r>
            <a:br>
              <a:rPr sz="3900"/>
            </a:br>
            <a:endParaRPr b="0" lang="en-US" sz="3900" spc="-1" strike="noStrike">
              <a:solidFill>
                <a:srgbClr val="572314"/>
              </a:solidFill>
              <a:latin typeface="Gill Sans MT"/>
            </a:endParaRPr>
          </a:p>
        </p:txBody>
      </p:sp>
      <p:sp>
        <p:nvSpPr>
          <p:cNvPr id="360" name=""/>
          <p:cNvSpPr txBox="1"/>
          <p:nvPr/>
        </p:nvSpPr>
        <p:spPr>
          <a:xfrm>
            <a:off x="1593720" y="1072800"/>
            <a:ext cx="10058400" cy="4940280"/>
          </a:xfrm>
          <a:prstGeom prst="rect">
            <a:avLst/>
          </a:prstGeom>
          <a:noFill/>
          <a:ln w="0">
            <a:noFill/>
          </a:ln>
        </p:spPr>
        <p:txBody>
          <a:bodyPr anchor="t">
            <a:normAutofit fontScale="94000"/>
          </a:bodyPr>
          <a:p>
            <a:pPr marL="343080" indent="-2653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تقويم الخاص بكل مهمة:</a:t>
            </a:r>
            <a:endParaRPr b="0" lang="en-US" sz="2400" spc="-1" strike="noStrike">
              <a:solidFill>
                <a:srgbClr val="000000"/>
              </a:solidFill>
              <a:latin typeface="Gill Sans MT"/>
            </a:endParaRPr>
          </a:p>
          <a:p>
            <a:pPr lvl="1" marL="601200" indent="-2221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م تقويم أداء المراجعين في نهاية كل مهمة يتم تنفيذها </a:t>
            </a:r>
            <a:endParaRPr b="0" lang="en-US" sz="2000" spc="-1" strike="noStrike">
              <a:solidFill>
                <a:srgbClr val="000000"/>
              </a:solidFill>
              <a:latin typeface="Gill Sans MT"/>
            </a:endParaRPr>
          </a:p>
          <a:p>
            <a:pPr lvl="1" marL="601200" indent="-2221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قوم مدير وحدة المراجعة بإعداد هذا التقويم لكل أعضاء فرق مهمة المراجعة الداخلية.</a:t>
            </a:r>
            <a:endParaRPr b="0" lang="en-US" sz="2000" spc="-1" strike="noStrike">
              <a:solidFill>
                <a:srgbClr val="000000"/>
              </a:solidFill>
              <a:latin typeface="Gill Sans MT"/>
            </a:endParaRPr>
          </a:p>
          <a:p>
            <a:pPr lvl="1" marL="601200" indent="-2221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كن تصنيف الملاحظات بغرض تقويم أداء المراجعين الى:</a:t>
            </a:r>
            <a:endParaRPr b="0" lang="en-US" sz="2000" spc="-1" strike="noStrike">
              <a:solidFill>
                <a:srgbClr val="000000"/>
              </a:solidFill>
              <a:latin typeface="Gill Sans MT"/>
            </a:endParaRPr>
          </a:p>
          <a:p>
            <a:pPr lvl="2" marL="832680" indent="-214560" algn="r"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cs typeface="Majalla UI"/>
              </a:rPr>
              <a:t>الملاحظات الاستيفائية: </a:t>
            </a:r>
            <a:r>
              <a:rPr b="0" lang="ar-SA" sz="1800" spc="-1" strike="noStrike">
                <a:solidFill>
                  <a:srgbClr val="000000"/>
                </a:solidFill>
                <a:latin typeface="Gill Sans MT"/>
                <a:cs typeface="Majalla UI"/>
              </a:rPr>
              <a:t>وهي الملاحظات التي تتضمن طلب استيفاء مستندات صرف مبلغ معين أو الاستفسار عن مبررات صرفة. </a:t>
            </a:r>
            <a:endParaRPr b="0" lang="en-US" sz="1800" spc="-1" strike="noStrike">
              <a:solidFill>
                <a:srgbClr val="000000"/>
              </a:solidFill>
              <a:latin typeface="Gill Sans MT"/>
            </a:endParaRPr>
          </a:p>
          <a:p>
            <a:pPr lvl="2" marL="832680" indent="-214560" algn="r"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cs typeface="Majalla UI"/>
              </a:rPr>
              <a:t>الملاحظة النظامية: </a:t>
            </a:r>
            <a:r>
              <a:rPr b="0" lang="ar-SA" sz="1800" spc="-1" strike="noStrike">
                <a:solidFill>
                  <a:srgbClr val="000000"/>
                </a:solidFill>
                <a:latin typeface="Gill Sans MT"/>
                <a:cs typeface="Majalla UI"/>
              </a:rPr>
              <a:t>وهي الملاحظات التي تتضمن عدم الالتزام بالأنظمة أو القرارات والتعاميم المعمول بها في الجهة ولا يترتب عليها ضياع مبالغ نقدية على الجهة. </a:t>
            </a:r>
            <a:endParaRPr b="0" lang="en-US" sz="1800" spc="-1" strike="noStrike">
              <a:solidFill>
                <a:srgbClr val="000000"/>
              </a:solidFill>
              <a:latin typeface="Gill Sans MT"/>
            </a:endParaRPr>
          </a:p>
          <a:p>
            <a:pPr lvl="2" marL="832680" indent="-214560" algn="r"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cs typeface="Majalla UI"/>
              </a:rPr>
              <a:t>الملاحظات المالية: </a:t>
            </a:r>
            <a:r>
              <a:rPr b="0" lang="ar-SA" sz="1800" spc="-1" strike="noStrike">
                <a:solidFill>
                  <a:srgbClr val="000000"/>
                </a:solidFill>
                <a:latin typeface="Gill Sans MT"/>
                <a:cs typeface="Majalla UI"/>
              </a:rPr>
              <a:t>وهي الملاحظات التي تتضمن تحصيل مبلغ معين أو توفير مبلغ معين أو حمايته من الضياع. </a:t>
            </a:r>
            <a:endParaRPr b="0" lang="en-US" sz="1800" spc="-1" strike="noStrike">
              <a:solidFill>
                <a:srgbClr val="000000"/>
              </a:solidFill>
              <a:latin typeface="Gill Sans MT"/>
            </a:endParaRPr>
          </a:p>
          <a:p>
            <a:pPr marL="343080" indent="-2653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تقويم السنوي: </a:t>
            </a:r>
            <a:endParaRPr b="0" lang="en-US" sz="2400" spc="-1" strike="noStrike">
              <a:solidFill>
                <a:srgbClr val="000000"/>
              </a:solidFill>
              <a:latin typeface="Gill Sans MT"/>
            </a:endParaRPr>
          </a:p>
          <a:p>
            <a:pPr lvl="1" marL="601200" indent="-2221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ستخدم كأساس في أخذ القرارات الإدارية مثل الترقية، تقييم الراتب، والتوصيات بالتدريب، أو الإجراءات التصحيحية. </a:t>
            </a:r>
            <a:endParaRPr b="0" lang="en-US" sz="2000" spc="-1" strike="noStrike">
              <a:solidFill>
                <a:srgbClr val="000000"/>
              </a:solidFill>
              <a:latin typeface="Gill Sans MT"/>
            </a:endParaRPr>
          </a:p>
          <a:p>
            <a:pPr lvl="1" marL="601200" indent="-2221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رتكز التقويم السنوي على تجميع نماذج التقويم الخاصة بالمهام والتي تم إعدادها طوال العام في نهاية كل مهمة.</a:t>
            </a:r>
            <a:endParaRPr b="0" lang="en-US" sz="2000" spc="-1" strike="noStrike">
              <a:solidFill>
                <a:srgbClr val="000000"/>
              </a:solidFill>
              <a:latin typeface="Gill Sans MT"/>
            </a:endParaRPr>
          </a:p>
          <a:p>
            <a:pPr lvl="2" marL="832680" indent="-214560" algn="r"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611617"/>
                </a:solidFill>
                <a:latin typeface="Gill Sans MT"/>
                <a:cs typeface="Majalla UI"/>
              </a:rPr>
              <a:t>الفقرة الرابعة:إدارة وحدة المراجعة الداخلية</a:t>
            </a:r>
            <a:br>
              <a:rPr sz="3900"/>
            </a:br>
            <a:r>
              <a:rPr b="0" lang="ar-SA" sz="3900" spc="-1" strike="noStrike">
                <a:solidFill>
                  <a:srgbClr val="611617"/>
                </a:solidFill>
                <a:latin typeface="Gill Sans MT"/>
                <a:ea typeface="Majalla UI"/>
              </a:rPr>
              <a:t> </a:t>
            </a:r>
            <a:endParaRPr b="0" lang="en-US" sz="3900" spc="-1" strike="noStrike">
              <a:solidFill>
                <a:srgbClr val="572314"/>
              </a:solidFill>
              <a:latin typeface="Gill Sans MT"/>
            </a:endParaRPr>
          </a:p>
        </p:txBody>
      </p:sp>
      <p:sp>
        <p:nvSpPr>
          <p:cNvPr id="362"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رقابة الجود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عمل مدير وحدة المراجعة على ضمان الالتزام بمعايير المراجعة الداخلية والسياسات المرسومة لوحدة المراجعة الداخلية وكذلك برامج المراجعة عن طريق عمليات تقويم  مستمرة لعمل الوحدة وسياساتها وبرامجها.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كن أن يقوم بدور رقابة الجودة قسم مستقل داخل وحدة المراجعة الداخلية تكون مهمته إدارة وضبط الجودة  عن طريق إنشاء ومتابعة برنامج ضبط الجودة وذلك لتقويم أداء المراجعة الداخلية في مختلف الأنشط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كن أن تتم عملية رقابة الجودة عن طريق ما يلي: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ولا: التقويم الداخلي لوحدة المراجعة الداخلية ( سنويا )</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ثانيا: التقويم الخارجي لوحدة المراجعة الداخلية ( كل ثلاث سنوات)</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فقرة الرابعة:إدارة وحدة المراجعة الداخلية</a:t>
            </a:r>
            <a:endParaRPr b="0" lang="en-US" sz="4300" spc="-1" strike="noStrike">
              <a:solidFill>
                <a:srgbClr val="572314"/>
              </a:solidFill>
              <a:latin typeface="Gill Sans MT"/>
            </a:endParaRPr>
          </a:p>
        </p:txBody>
      </p:sp>
      <p:sp>
        <p:nvSpPr>
          <p:cNvPr id="364"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ill Sans MT"/>
                <a:cs typeface="Majalla UI"/>
              </a:rPr>
              <a:t>قائمة تقويم الأداء:</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سواء كان تقويم الأداء يتم ذاتيا أو كان من جانب طرف خارجي يمكن الاسترشاد بقائمة تقويم الأداء التالية المقتبسة من دليل تقويم الأداء بديوان المراقبة العام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مقدمة </a:t>
            </a:r>
            <a:endParaRPr b="0" lang="en-US" sz="4300" spc="-1" strike="noStrike">
              <a:solidFill>
                <a:srgbClr val="572314"/>
              </a:solidFill>
              <a:latin typeface="Gill Sans MT"/>
            </a:endParaRPr>
          </a:p>
        </p:txBody>
      </p:sp>
      <p:sp>
        <p:nvSpPr>
          <p:cNvPr id="328"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ill Sans MT"/>
                <a:cs typeface="Majalla UI"/>
              </a:rPr>
              <a:t>طالبت اللائحة الموحدة لوحدات المراجعة الداخلية بالوحدات الحكومية والمؤسسات العامة ( </a:t>
            </a:r>
            <a:r>
              <a:rPr b="0" lang="ar-SA" sz="3600" spc="-1" strike="noStrike">
                <a:solidFill>
                  <a:srgbClr val="000000"/>
                </a:solidFill>
                <a:latin typeface="Gill Sans MT"/>
                <a:ea typeface="Majalla UI"/>
              </a:rPr>
              <a:t>2007</a:t>
            </a:r>
            <a:r>
              <a:rPr b="0" lang="ar-SA" sz="3600" spc="-1" strike="noStrike">
                <a:solidFill>
                  <a:srgbClr val="000000"/>
                </a:solidFill>
                <a:latin typeface="Gill Sans MT"/>
                <a:ea typeface="Majalla UI"/>
              </a:rPr>
              <a:t>) كل جهة أو مؤسسة عامة بإنشاء وحدة للمراجعة الداخلية.</a:t>
            </a:r>
            <a:endParaRPr b="0" lang="en-US" sz="36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ill Sans MT"/>
                <a:cs typeface="Majalla UI"/>
              </a:rPr>
              <a:t>تقع مسئولية إنشاء وحدة المراجعة الداخلية على عاتق المسئول الأول بالجهة ( أعلى سلطة ادارية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5" name=""/>
          <p:cNvGraphicFramePr/>
          <p:nvPr/>
        </p:nvGraphicFramePr>
        <p:xfrm>
          <a:off x="0" y="0"/>
          <a:ext cx="12192120" cy="6889680"/>
        </p:xfrm>
        <a:graphic>
          <a:graphicData uri="http://schemas.openxmlformats.org/drawingml/2006/table">
            <a:tbl>
              <a:tblPr/>
              <a:tblGrid>
                <a:gridCol w="2176560"/>
                <a:gridCol w="955440"/>
                <a:gridCol w="997200"/>
                <a:gridCol w="969840"/>
                <a:gridCol w="7093080"/>
              </a:tblGrid>
              <a:tr h="167760">
                <a:tc rowSpan="2">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ill Sans MT"/>
                          <a:cs typeface="Majalla UI"/>
                        </a:rPr>
                        <a:t>الملاحظات</a:t>
                      </a:r>
                      <a:endParaRPr b="0" lang="en-US" sz="16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gridSpan="3">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Gill Sans MT"/>
                          <a:cs typeface="Majalla UI"/>
                        </a:rPr>
                        <a:t>الإنجـــاز</a:t>
                      </a:r>
                      <a:endParaRPr b="0" lang="en-US" sz="11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ill Sans MT"/>
                          <a:cs typeface="Majalla UI"/>
                        </a:rPr>
                        <a:t>عناصر تقويم جودة الأداء</a:t>
                      </a:r>
                      <a:endParaRPr b="0" lang="en-US" sz="16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243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لا ينطبق</a:t>
                      </a:r>
                      <a:endParaRPr b="0" lang="en-US" sz="16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لا</a:t>
                      </a:r>
                      <a:endParaRPr b="0" lang="en-US" sz="16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نعم</a:t>
                      </a:r>
                      <a:endParaRPr b="0" lang="en-US" sz="16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528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أولاً- اختيار مهمة المراجعة:</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91512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1</a:t>
                      </a:r>
                      <a:r>
                        <a:rPr b="1" lang="ar-SA" sz="2000" spc="-1" strike="noStrike">
                          <a:solidFill>
                            <a:srgbClr val="000000"/>
                          </a:solidFill>
                          <a:latin typeface="Gill Sans MT"/>
                          <a:ea typeface="Majalla UI"/>
                        </a:rPr>
                        <a:t>- هل قررت إدارة المراجعة عند تقييمها للمهمة المتوقعة أنها من المهام التي يمكن أن تسفر عن تقرير هام؟</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30528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t">
                      <a:noAutofit/>
                    </a:bodyPr>
                    <a:p>
                      <a:pPr marL="343080" indent="-343080" algn="r" rtl="1">
                        <a:lnSpc>
                          <a:spcPct val="100000"/>
                        </a:lnSpc>
                        <a:buClr>
                          <a:srgbClr val="000000"/>
                        </a:buClr>
                        <a:buFont typeface="Gill Sans MT"/>
                        <a:buAutoNum type="alphaL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تشجيع إنفاق حكومي كفء وفعال من حيث التكلفة.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61020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ب- الكشف عن التبذير، والتلاعب، وسوء الاستعمال، وسوء الإدارة.</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61020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ج- التأثير بشكل كبير على إنجازات برامج وعمليات الجهة المراجع عليها.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30528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د- ضمان الالتزام بالأنظمة والسياسات واللوائح الهامة.</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30528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2</a:t>
                      </a:r>
                      <a:r>
                        <a:rPr b="1" lang="ar-SA" sz="2000" spc="-1" strike="noStrike">
                          <a:solidFill>
                            <a:srgbClr val="000000"/>
                          </a:solidFill>
                          <a:latin typeface="Gill Sans MT"/>
                          <a:ea typeface="Majalla UI"/>
                        </a:rPr>
                        <a:t>- هل قررت إدارة المراجعة أنه:</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61020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t">
                      <a:noAutofit/>
                    </a:bodyPr>
                    <a:p>
                      <a:pPr marL="299880" indent="-114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أ- يوجد مراجعين داخليين لديهم المعرفة، والخبرة والمهارات المطلوبة لتنفيذ العمل؟</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91512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1224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1224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1224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12240">
                      <a:solidFill>
                        <a:srgbClr val="feb80a"/>
                      </a:solidFill>
                    </a:lnB>
                    <a:solidFill>
                      <a:srgbClr val="ffe6cc"/>
                    </a:solidFill>
                  </a:tcPr>
                </a:tc>
                <a:tc>
                  <a:txBody>
                    <a:bodyPr lIns="52560" rIns="52560" tIns="0" bIns="0" anchor="t">
                      <a:noAutofit/>
                    </a:bodyPr>
                    <a:p>
                      <a:pPr marL="299880" indent="-114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ب- يوجد وقت كافٍ للمراجعين الداخليين وموارد أخرى لإنجاز العمل آخذين في الاعتبار الأهداف والنطاق المقترحين.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12240">
                      <a:solidFill>
                        <a:srgbClr val="feb80a"/>
                      </a:solidFill>
                    </a:lnB>
                    <a:solidFill>
                      <a:srgbClr val="fff3e7"/>
                    </a:solidFill>
                  </a:tcPr>
                </a:tc>
              </a:tr>
              <a:tr h="61020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1224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1224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1224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12240">
                      <a:solidFill>
                        <a:srgbClr val="feb80a"/>
                      </a:solidFill>
                    </a:lnT>
                    <a:lnB w="5760">
                      <a:solidFill>
                        <a:srgbClr val="feb80a"/>
                      </a:solidFill>
                    </a:lnB>
                    <a:solidFill>
                      <a:srgbClr val="fff3e7"/>
                    </a:solidFill>
                  </a:tcPr>
                </a:tc>
                <a:tc>
                  <a:txBody>
                    <a:bodyPr lIns="52560" rIns="52560" tIns="0" bIns="0" anchor="t">
                      <a:noAutofit/>
                    </a:bodyPr>
                    <a:p>
                      <a:pPr marL="299880" indent="-114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ج- لا توجد أمثلة رئيسة لم يتم حسمها حول الأهداف، والنطاق، والمنهج، ومدى توفر البيانات؟</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12240">
                      <a:solidFill>
                        <a:srgbClr val="feb80a"/>
                      </a:solidFill>
                    </a:lnT>
                    <a:lnB w="5760">
                      <a:solidFill>
                        <a:srgbClr val="feb80a"/>
                      </a:solidFill>
                    </a:lnB>
                    <a:solidFill>
                      <a:srgbClr val="fff3e7"/>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6" name=""/>
          <p:cNvGraphicFramePr/>
          <p:nvPr/>
        </p:nvGraphicFramePr>
        <p:xfrm>
          <a:off x="0" y="68400"/>
          <a:ext cx="12192120" cy="6837120"/>
        </p:xfrm>
        <a:graphic>
          <a:graphicData uri="http://schemas.openxmlformats.org/drawingml/2006/table">
            <a:tbl>
              <a:tblPr/>
              <a:tblGrid>
                <a:gridCol w="1882800"/>
                <a:gridCol w="1092240"/>
                <a:gridCol w="1106280"/>
                <a:gridCol w="995400"/>
                <a:gridCol w="7115400"/>
              </a:tblGrid>
              <a:tr h="30528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t">
                      <a:noAutofit/>
                    </a:bodyPr>
                    <a:p>
                      <a:pPr marL="299880" indent="-114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t">
                      <a:noAutofit/>
                    </a:bodyPr>
                    <a:p>
                      <a:pPr marL="299880" indent="-114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د- الفوائد المحتملة للمهمة المقترحة تفوق التكاليف المتوقعة؟ </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30528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ثانياً- بدء مهمة المراجعة:</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1</a:t>
                      </a:r>
                      <a:r>
                        <a:rPr b="1" lang="ar-SA" sz="2000" spc="-1" strike="noStrike">
                          <a:solidFill>
                            <a:srgbClr val="000000"/>
                          </a:solidFill>
                          <a:latin typeface="Gill Sans MT"/>
                          <a:ea typeface="Majalla UI"/>
                        </a:rPr>
                        <a:t>- هل أعد وحدة المراجعة الداخلية خطاباً بتنفيذ المهمة وتكليف المراجعين الداخليين؟ </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2</a:t>
                      </a:r>
                      <a:r>
                        <a:rPr b="1" lang="ar-SA" sz="2000" spc="-1" strike="noStrike">
                          <a:solidFill>
                            <a:srgbClr val="000000"/>
                          </a:solidFill>
                          <a:latin typeface="Gill Sans MT"/>
                          <a:ea typeface="Majalla UI"/>
                        </a:rPr>
                        <a:t>- هل قام وحدة المراجعة الداخلية بإشعار الجهة المراجع عليها المعنية كتابة بمهمة المراجعة المخطط لها؟ </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3</a:t>
                      </a:r>
                      <a:r>
                        <a:rPr b="1" lang="ar-SA" sz="2000" spc="-1" strike="noStrike">
                          <a:solidFill>
                            <a:srgbClr val="000000"/>
                          </a:solidFill>
                          <a:latin typeface="Gill Sans MT"/>
                          <a:ea typeface="Majalla UI"/>
                        </a:rPr>
                        <a:t>- هل تم تنسيق المهمة مع المهام الأخرى ذات الصلة في كافة إدارات وحدة المراجعة الداخلية؟ </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91512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4</a:t>
                      </a:r>
                      <a:r>
                        <a:rPr b="1" lang="ar-SA" sz="2000" spc="-1" strike="noStrike">
                          <a:solidFill>
                            <a:srgbClr val="000000"/>
                          </a:solidFill>
                          <a:latin typeface="Gill Sans MT"/>
                          <a:ea typeface="Majalla UI"/>
                        </a:rPr>
                        <a:t>- هل تم عقد اجتماع مع مسؤولي الجهة المراجع عليها لمناقشة أهداف المراجعة والبدء في الحصول على البيانات والمعلومات؟ </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30528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ثالثاً- اقتراح مهمة المراجعة وتحديد نطاقها:</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1</a:t>
                      </a:r>
                      <a:r>
                        <a:rPr b="1" lang="ar-SA" sz="2000" spc="-1" strike="noStrike">
                          <a:solidFill>
                            <a:srgbClr val="000000"/>
                          </a:solidFill>
                          <a:latin typeface="Gill Sans MT"/>
                          <a:ea typeface="Majalla UI"/>
                        </a:rPr>
                        <a:t>- هل تم القيام بعمل كافٍ فيما يتعلق بمرحلة الاقتراح لما يأتي ؟ : </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30528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أ – تحديد الأهداف المقترحة والتأكد من مشروعيتها</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30528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ب- وضع مساهمة وحدة المراجعة الداخلية المتوقعة.</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30528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1224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1224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1224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12240">
                      <a:solidFill>
                        <a:srgbClr val="feb80a"/>
                      </a:solidFill>
                    </a:lnB>
                    <a:solidFill>
                      <a:srgbClr val="ffe6cc"/>
                    </a:solidFill>
                  </a:tcPr>
                </a:tc>
                <a:tc>
                  <a:txBody>
                    <a:bodyPr lIns="43200" rIns="4320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ج- تحديد التكاليف والفوائد المتوقعة للمهمة.</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12240">
                      <a:solidFill>
                        <a:srgbClr val="feb80a"/>
                      </a:solidFill>
                    </a:lnB>
                    <a:solidFill>
                      <a:srgbClr val="ffe6cc"/>
                    </a:solid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1224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1224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1224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12240">
                      <a:solidFill>
                        <a:srgbClr val="feb80a"/>
                      </a:solidFill>
                    </a:lnT>
                    <a:lnB w="5760">
                      <a:solidFill>
                        <a:srgbClr val="feb80a"/>
                      </a:solidFill>
                    </a:lnB>
                    <a:solidFill>
                      <a:srgbClr val="fff3e7"/>
                    </a:solidFill>
                  </a:tcPr>
                </a:tc>
                <a:tc>
                  <a:txBody>
                    <a:bodyPr lIns="43200" rIns="4320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د- تحديد ما إذا كانت نتائج المراجعة ستكون مفيدة وفي الوقت المناسب.</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12240">
                      <a:solidFill>
                        <a:srgbClr val="feb80a"/>
                      </a:solidFill>
                    </a:lnT>
                    <a:lnB w="5760">
                      <a:solidFill>
                        <a:srgbClr val="feb80a"/>
                      </a:solidFill>
                    </a:lnB>
                    <a:solidFill>
                      <a:srgbClr val="fff3e7"/>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فقرة الرابعة:إدارة وحدة المراجعة الداخلية</a:t>
            </a:r>
            <a:endParaRPr b="0" lang="en-US" sz="4300" spc="-1" strike="noStrike">
              <a:solidFill>
                <a:srgbClr val="572314"/>
              </a:solidFill>
              <a:latin typeface="Gill Sans MT"/>
            </a:endParaRPr>
          </a:p>
        </p:txBody>
      </p:sp>
      <p:sp>
        <p:nvSpPr>
          <p:cNvPr id="368"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تحقق من رضاء العميل</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كجزء من التزامها بعمل التحسينات المستمرة لأداء المراجعة الداخلية ومراقبة جودتها يمكن أن تقوم وحدة المراجعة الداخلية بتبني استبيان رضاء العميل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م تعبئته من قبل الإدارات التي يتم مراجعتها على أن تتم إعادته مباشرة إلى مدير وحدة المراجعة. ويجب تسجيل وتلخيص وحفظ الرد على الاستبانات في ملف أوراق عمل المهمة.</a:t>
            </a:r>
            <a:endParaRPr b="0" lang="en-US" sz="20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توثيق وحفظ السجلات</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يحرص مدير وحدة المراجعة على ضرورة التوثيق الكافي لكل إجراءات المراجعة بما يحقق وجود مستند يؤيد كل إجراء تم تنفيذه.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يتضمن الدليل الخاص بالمراجعة الداخلية توضيحا أو إرشادات لضوابط حفظ السجلات من قبل وحدة المراجعة الداخلية.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ثلا يمكن أن يتضمن الدليل أن يتم الإحتفاظ بالنسخة الأخيرة فقط من برنامج المراجعة بينما يتم الاحتفاظ بأوراق عمل المراجعة  لثلاث سنوات وملفات المراجعة الدائمة خمس سنوات وتقارير المراجعة الداخلية مدة غير محددة.</a:t>
            </a:r>
            <a:endParaRPr b="0" lang="en-US" sz="16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سؤولية عن اكتشاف عمليات الغش والاحتيال</a:t>
            </a:r>
            <a:br>
              <a:rPr sz="4000"/>
            </a:br>
            <a:endParaRPr b="0" lang="en-US" sz="4000" spc="-1" strike="noStrike">
              <a:solidFill>
                <a:srgbClr val="572314"/>
              </a:solidFill>
              <a:latin typeface="Gill Sans MT"/>
            </a:endParaRPr>
          </a:p>
        </p:txBody>
      </p:sp>
      <p:sp>
        <p:nvSpPr>
          <p:cNvPr id="370" name=""/>
          <p:cNvSpPr txBox="1"/>
          <p:nvPr/>
        </p:nvSpPr>
        <p:spPr>
          <a:xfrm>
            <a:off x="1914480" y="1447560"/>
            <a:ext cx="9996480" cy="4800600"/>
          </a:xfrm>
          <a:prstGeom prst="rect">
            <a:avLst/>
          </a:prstGeom>
          <a:noFill/>
          <a:ln w="0">
            <a:noFill/>
          </a:ln>
        </p:spPr>
        <p:txBody>
          <a:bodyPr anchor="t">
            <a:normAutofit fontScale="94000"/>
          </a:bodyPr>
          <a:p>
            <a:pPr marL="343080" indent="-2653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كتشاف عمليات الغش والاحتيال والتلاعبات الأخرى لا يعتبر من مسؤوليات وحدة المرجعة الداخلية. </a:t>
            </a:r>
            <a:endParaRPr b="0" lang="en-US" sz="2400" spc="-1" strike="noStrike">
              <a:solidFill>
                <a:srgbClr val="000000"/>
              </a:solidFill>
              <a:latin typeface="Gill Sans MT"/>
            </a:endParaRPr>
          </a:p>
          <a:p>
            <a:pPr lvl="1" marL="601200" indent="-2653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و هدف ثانوي يمكن الوصول إليه أثناء تنفيذ إجراءات المراجعة العادية ولكنه هام ، لذلك يجب على موظفي المراجعة الداخلية ممارسة العناية المهنية تحت ظروف المراجعة العادية وأن يكونوا مدركين لاحتمال وجود مثل هذه العمليات. </a:t>
            </a:r>
            <a:endParaRPr b="0" lang="en-US" sz="2000" spc="-1" strike="noStrike">
              <a:solidFill>
                <a:srgbClr val="000000"/>
              </a:solidFill>
              <a:latin typeface="Gill Sans MT"/>
            </a:endParaRPr>
          </a:p>
          <a:p>
            <a:pPr marL="343080" indent="-2653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عند الشك في ارتكاب عمليات غش أو احتيال أو تلاعبات أخرى، يجب على المراجع  أن يخبر قائد الفريق مدير وحدة المراجعة والذي يجب عليه أن يرفع الأمر إلى بدوره المسئول الأول بالجهة.</a:t>
            </a:r>
            <a:endParaRPr b="0" lang="en-US" sz="2400" spc="-1" strike="noStrike">
              <a:solidFill>
                <a:srgbClr val="000000"/>
              </a:solidFill>
              <a:latin typeface="Gill Sans MT"/>
            </a:endParaRPr>
          </a:p>
          <a:p>
            <a:pPr lvl="1" marL="601200" indent="-2653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سيقوم الأخير بمراجعة الأمر وتحديد مجريات الأحداث الملائمة. التي قد تشمل توسيع نطاق المراجعة لتحديد درجة وطبيعة هذه العمليات، وتحديد المستويات الإدارية أو الرقابية التي يجب إبلاغها بالأمر.  </a:t>
            </a:r>
            <a:endParaRPr b="0" lang="en-US" sz="2000" spc="-1" strike="noStrike">
              <a:solidFill>
                <a:srgbClr val="000000"/>
              </a:solidFill>
              <a:latin typeface="Gill Sans MT"/>
            </a:endParaRPr>
          </a:p>
          <a:p>
            <a:pPr marL="343080" indent="-2653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في بعض المنشأت قد يتضمن تنظيم وحدة المراجعة الداخلية قسم خاص بمراجعة الحالات الخاصة التي تنطوى على عمليات غش أو احتيال أو تلاعبات أخرى</a:t>
            </a:r>
            <a:endParaRPr b="0" lang="en-US" sz="2400" spc="-1" strike="noStrike">
              <a:solidFill>
                <a:srgbClr val="000000"/>
              </a:solidFill>
              <a:latin typeface="Gill Sans MT"/>
            </a:endParaRPr>
          </a:p>
          <a:p>
            <a:pPr lvl="1" marL="601200" indent="-2653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مصادر </a:t>
            </a:r>
            <a:endParaRPr b="0" lang="en-US" sz="4300" spc="-1" strike="noStrike">
              <a:solidFill>
                <a:srgbClr val="572314"/>
              </a:solidFill>
              <a:latin typeface="Gill Sans MT"/>
            </a:endParaRPr>
          </a:p>
        </p:txBody>
      </p:sp>
      <p:sp>
        <p:nvSpPr>
          <p:cNvPr id="372"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رقابة والمراجعة الداخلية في الأجهزة الحكومية والمؤسسات العامة – </a:t>
            </a:r>
            <a:r>
              <a:rPr b="0" lang="en-US" sz="3200" spc="-1" strike="noStrike">
                <a:solidFill>
                  <a:srgbClr val="000000"/>
                </a:solidFill>
                <a:latin typeface="Gill Sans MT"/>
                <a:ea typeface="Majalla UI"/>
              </a:rPr>
              <a:t>SOCPA</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ملاحظات و عروض الاستاذه هناء العقيل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أجندة</a:t>
            </a:r>
            <a:endParaRPr b="0" lang="en-US" sz="4300" spc="-1" strike="noStrike">
              <a:solidFill>
                <a:srgbClr val="572314"/>
              </a:solidFill>
              <a:latin typeface="Gill Sans MT"/>
            </a:endParaRPr>
          </a:p>
        </p:txBody>
      </p:sp>
      <p:sp>
        <p:nvSpPr>
          <p:cNvPr id="330" name=""/>
          <p:cNvSpPr txBox="1"/>
          <p:nvPr/>
        </p:nvSpPr>
        <p:spPr>
          <a:xfrm>
            <a:off x="1914480" y="144756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جراءات انشاء وحدة المراجعة الداخلية</a:t>
            </a:r>
            <a:endParaRPr b="0" lang="en-US" sz="3200" spc="-1" strike="noStrike">
              <a:solidFill>
                <a:srgbClr val="000000"/>
              </a:solidFill>
              <a:latin typeface="Gill Sans MT"/>
            </a:endParaRPr>
          </a:p>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تنظيم العمل بوحدات المراجعة الداخلية</a:t>
            </a:r>
            <a:endParaRPr b="0" lang="en-US" sz="3200" spc="-1" strike="noStrike">
              <a:solidFill>
                <a:srgbClr val="000000"/>
              </a:solidFill>
              <a:latin typeface="Gill Sans MT"/>
            </a:endParaRPr>
          </a:p>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هيكل العام لدليل المراجعة الداخلية</a:t>
            </a:r>
            <a:endParaRPr b="0" lang="en-US" sz="3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فقرة الأولى: معلومات عـام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الفقرة الثانية: معلومات عن الوحدة الحكومي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فقرة الثالثة: معلومات عن وحدة المراجعة الداخلي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فقرة الرابعة: إدارة وحدة المراجعة </a:t>
            </a:r>
            <a:endParaRPr b="0" lang="en-US" sz="2400" spc="-1" strike="noStrike">
              <a:solidFill>
                <a:srgbClr val="000000"/>
              </a:solidFill>
              <a:latin typeface="Gill Sans MT"/>
            </a:endParaRPr>
          </a:p>
          <a:p>
            <a:pPr marL="457200" indent="-457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مسؤوليةعن اكتشاف عمليات الغش والاحتيال</a:t>
            </a:r>
            <a:br>
              <a:rPr sz="2800"/>
            </a:br>
            <a:r>
              <a:rPr b="0" lang="ar-SA" sz="2800" spc="-1" strike="noStrike">
                <a:solidFill>
                  <a:srgbClr val="000000"/>
                </a:solidFill>
                <a:latin typeface="Gill Sans MT"/>
              </a:rPr>
              <a:t> </a:t>
            </a:r>
            <a:endParaRPr b="0" lang="en-US" sz="2800" spc="-1" strike="noStrike">
              <a:solidFill>
                <a:srgbClr val="000000"/>
              </a:solidFill>
              <a:latin typeface="Gill Sans MT"/>
            </a:endParaRPr>
          </a:p>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698120" y="286920"/>
            <a:ext cx="9456840" cy="14288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إجراءات إنشاء وحدة مراجعة داخلية</a:t>
            </a:r>
            <a:endParaRPr b="0" lang="en-US" sz="4300" spc="-1" strike="noStrike">
              <a:solidFill>
                <a:srgbClr val="572314"/>
              </a:solidFill>
              <a:latin typeface="Gill Sans MT"/>
            </a:endParaRPr>
          </a:p>
        </p:txBody>
      </p:sp>
      <p:sp>
        <p:nvSpPr>
          <p:cNvPr id="332" name=""/>
          <p:cNvSpPr txBox="1"/>
          <p:nvPr/>
        </p:nvSpPr>
        <p:spPr>
          <a:xfrm>
            <a:off x="1211400" y="1906200"/>
            <a:ext cx="9943920" cy="3962520"/>
          </a:xfrm>
          <a:prstGeom prst="rect">
            <a:avLst/>
          </a:prstGeom>
          <a:noFill/>
          <a:ln w="0">
            <a:noFill/>
          </a:ln>
        </p:spPr>
        <p:txBody>
          <a:bodyPr anchor="t">
            <a:normAutofit/>
          </a:bodyPr>
          <a:p>
            <a:pPr marL="514440" indent="-51444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إختيار مدير وحدة المراجعة الداخلية </a:t>
            </a:r>
            <a:endParaRPr b="0" lang="en-US" sz="2800" spc="-1" strike="noStrike">
              <a:solidFill>
                <a:srgbClr val="000000"/>
              </a:solidFill>
              <a:latin typeface="Gill Sans MT"/>
            </a:endParaRPr>
          </a:p>
          <a:p>
            <a:pPr marL="514440" indent="-51444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حديد الموقع التنظيمي لوحدة المراجعة الداخلية </a:t>
            </a:r>
            <a:endParaRPr b="0" lang="en-US" sz="2800" spc="-1" strike="noStrike">
              <a:solidFill>
                <a:srgbClr val="000000"/>
              </a:solidFill>
              <a:latin typeface="Gill Sans MT"/>
            </a:endParaRPr>
          </a:p>
          <a:p>
            <a:pPr marL="514440" indent="-51444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خصيص مكان لوحدة المراجعة الداخلية  </a:t>
            </a:r>
            <a:endParaRPr b="0" lang="en-US" sz="2800" spc="-1" strike="noStrike">
              <a:solidFill>
                <a:srgbClr val="000000"/>
              </a:solidFill>
              <a:latin typeface="Gill Sans MT"/>
            </a:endParaRPr>
          </a:p>
          <a:p>
            <a:pPr marL="514440" indent="-51444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إختيار الأفراد المؤهلين للعمل بوحدة المراجعة الداخلية:</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من حيث المؤهلات</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من حيث الخبرة العملي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من حيث الصفات الشخصي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تنظيم العمل بوحدات المراجعة الداخلية</a:t>
            </a:r>
            <a:endParaRPr b="0" lang="en-US" sz="4300" spc="-1" strike="noStrike">
              <a:solidFill>
                <a:srgbClr val="572314"/>
              </a:solidFill>
              <a:latin typeface="Gill Sans MT"/>
            </a:endParaRPr>
          </a:p>
        </p:txBody>
      </p:sp>
      <p:sp>
        <p:nvSpPr>
          <p:cNvPr id="334"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نظيم العمل بوحدات المراجعة الداخلية يعتبر من المسئوليات الأساسية لمدير الوحدة</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ea typeface="Majalla UI"/>
              </a:rPr>
              <a:t> يشمل تنظيم العمل بوحدات المراجعة الداخلية ما يلي:</a:t>
            </a:r>
            <a:endParaRPr b="0" lang="en-US" sz="2800" spc="-1" strike="noStrike">
              <a:solidFill>
                <a:srgbClr val="000000"/>
              </a:solidFill>
              <a:latin typeface="Gill Sans MT"/>
            </a:endParaRPr>
          </a:p>
          <a:p>
            <a:pPr lvl="1" marL="787320" indent="-514440" algn="r"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عريف المراجعين الداخلين بمهام وحدة المراجعة الداخلية</a:t>
            </a:r>
            <a:endParaRPr b="0" lang="en-US" sz="2400" spc="-1" strike="noStrike">
              <a:solidFill>
                <a:srgbClr val="000000"/>
              </a:solidFill>
              <a:latin typeface="Gill Sans MT"/>
            </a:endParaRPr>
          </a:p>
          <a:p>
            <a:pPr lvl="1" marL="787320" indent="-514440" algn="r"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حديد الرتب الوظيفية داخل وحدة المراجعة</a:t>
            </a:r>
            <a:endParaRPr b="0" lang="en-US" sz="2400" spc="-1" strike="noStrike">
              <a:solidFill>
                <a:srgbClr val="000000"/>
              </a:solidFill>
              <a:latin typeface="Gill Sans MT"/>
            </a:endParaRPr>
          </a:p>
          <a:p>
            <a:pPr lvl="1" marL="787320" indent="-514440" algn="r"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حديد الأقسام أو الإدارات داخل وحدة المراجعة</a:t>
            </a:r>
            <a:endParaRPr b="0" lang="en-US" sz="2400" spc="-1" strike="noStrike">
              <a:solidFill>
                <a:srgbClr val="000000"/>
              </a:solidFill>
              <a:latin typeface="Gill Sans MT"/>
            </a:endParaRPr>
          </a:p>
          <a:p>
            <a:pPr lvl="1" marL="787320" indent="-514440" algn="r"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إعداد وإصدار دليل المراجعة الداخلية</a:t>
            </a:r>
            <a:r>
              <a:rPr b="0" lang="ar-SA" sz="2000" spc="-1" strike="noStrike">
                <a:solidFill>
                  <a:srgbClr val="000000"/>
                </a:solidFill>
                <a:latin typeface="Gill Sans MT"/>
                <a:ea typeface="Majalla UI"/>
              </a:rPr>
              <a:t> </a:t>
            </a:r>
            <a:endParaRPr b="0" lang="en-US" sz="2000" spc="-1" strike="noStrike">
              <a:solidFill>
                <a:srgbClr val="000000"/>
              </a:solidFill>
              <a:latin typeface="Gill Sans MT"/>
            </a:endParaRPr>
          </a:p>
          <a:p>
            <a:pPr lvl="2" marL="806400" indent="-285840" algn="r" rtl="1">
              <a:spcBef>
                <a:spcPts val="451"/>
              </a:spcBef>
              <a:buClr>
                <a:srgbClr val="1cade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قد يلجا مدير الوحدة إلى جهة خارجية تتولى إعداد هذا الدليل.</a:t>
            </a:r>
            <a:endParaRPr b="0" lang="en-US" sz="1800" spc="-1" strike="noStrike">
              <a:solidFill>
                <a:srgbClr val="000000"/>
              </a:solidFill>
              <a:latin typeface="Gill Sans MT"/>
            </a:endParaRPr>
          </a:p>
          <a:p>
            <a:pPr lvl="2" marL="806400" indent="-285840" algn="r" rtl="1">
              <a:spcBef>
                <a:spcPts val="451"/>
              </a:spcBef>
              <a:buClr>
                <a:srgbClr val="1cade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هذا الدليل يجب أن يبين الإجراءات والسياسات الواجب أتباعها أثناء ممارسة وحدة المراجعة الداخلية لأعمالها.</a:t>
            </a:r>
            <a:endParaRPr b="0" lang="en-US" sz="1800" spc="-1" strike="noStrike">
              <a:solidFill>
                <a:srgbClr val="000000"/>
              </a:solidFill>
              <a:latin typeface="Gill Sans MT"/>
            </a:endParaRPr>
          </a:p>
          <a:p>
            <a:pPr lvl="1" marL="787320" indent="-514440" algn="r"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06400" indent="-28584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هيكل العام لدليل المراجعة</a:t>
            </a:r>
            <a:endParaRPr b="0" lang="en-US" sz="4300" spc="-1" strike="noStrike">
              <a:solidFill>
                <a:srgbClr val="572314"/>
              </a:solidFill>
              <a:latin typeface="Gill Sans MT"/>
            </a:endParaRPr>
          </a:p>
        </p:txBody>
      </p:sp>
      <p:sp>
        <p:nvSpPr>
          <p:cNvPr id="336" name=""/>
          <p:cNvSpPr txBox="1"/>
          <p:nvPr/>
        </p:nvSpPr>
        <p:spPr>
          <a:xfrm>
            <a:off x="1501560" y="1682640"/>
            <a:ext cx="9653400" cy="42004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جب أن يشتمل الدليل على الفقرات التالية (على الأقل):</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فقرة الأولى: معلومات عـام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الفقرة الثانية: معلومات عن الوحدة الحكوم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فقرة الثالثة: معلومات عن وحدة المراجعة الداخل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فقرة الرابعة: إدارة وحدة المراجع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فقرة الخامسة: تخطيط المراجعة الداخل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فقرة السادسة: تنفيذ مشاريع المراجعة            </a:t>
            </a:r>
            <a:r>
              <a:rPr b="0" lang="ar-SA" sz="2000" spc="-1" strike="noStrike">
                <a:solidFill>
                  <a:srgbClr val="ff0000"/>
                </a:solidFill>
                <a:latin typeface="Gill Sans MT"/>
                <a:cs typeface="Majalla UI"/>
              </a:rPr>
              <a:t>تم تغطيته في الفصل الرابع و الخامس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فقرة السابعة: إعداد ورفع التقارير  </a:t>
            </a:r>
            <a:endParaRPr b="0" lang="en-US" sz="2000" spc="-1" strike="noStrike">
              <a:solidFill>
                <a:srgbClr val="000000"/>
              </a:solidFill>
              <a:latin typeface="Gill Sans MT"/>
            </a:endParaRPr>
          </a:p>
        </p:txBody>
      </p:sp>
      <p:sp>
        <p:nvSpPr>
          <p:cNvPr id="337" name="Left Bracket 2"/>
          <p:cNvSpPr/>
          <p:nvPr/>
        </p:nvSpPr>
        <p:spPr>
          <a:xfrm>
            <a:off x="6931080" y="3714840"/>
            <a:ext cx="90360" cy="1038240"/>
          </a:xfrm>
          <a:custGeom>
            <a:avLst/>
            <a:gdLst>
              <a:gd name="textAreaLeft" fmla="*/ 26640 w 90360"/>
              <a:gd name="textAreaRight" fmla="*/ 90720 w 90360"/>
              <a:gd name="textAreaTop" fmla="*/ 3600 h 1038240"/>
              <a:gd name="textAreaBottom" fmla="*/ 1034640 h 1038240"/>
            </a:gdLst>
            <a:ahLst/>
            <a:rect l="textAreaLeft" t="textAreaTop" r="textAreaRight" b="textAreaBottom"/>
            <a:pathLst>
              <a:path w="21600" h="21600">
                <a:moveTo>
                  <a:pt x="21600" y="0"/>
                </a:moveTo>
                <a:cubicBezTo>
                  <a:pt x="10800" y="0"/>
                  <a:pt x="0" y="79"/>
                  <a:pt x="0" y="157"/>
                </a:cubicBezTo>
                <a:lnTo>
                  <a:pt x="0" y="21443"/>
                </a:lnTo>
                <a:cubicBezTo>
                  <a:pt x="0" y="21522"/>
                  <a:pt x="10800" y="21600"/>
                  <a:pt x="21600" y="21600"/>
                </a:cubicBezTo>
              </a:path>
            </a:pathLst>
          </a:custGeom>
          <a:noFill/>
          <a:ln w="93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هيكل العام لدليل المراجعة</a:t>
            </a:r>
            <a:endParaRPr b="0" lang="en-US" sz="4300" spc="-1" strike="noStrike">
              <a:solidFill>
                <a:srgbClr val="572314"/>
              </a:solidFill>
              <a:latin typeface="Gill Sans MT"/>
            </a:endParaRPr>
          </a:p>
        </p:txBody>
      </p:sp>
      <p:sp>
        <p:nvSpPr>
          <p:cNvPr id="339" name=""/>
          <p:cNvSpPr txBox="1"/>
          <p:nvPr/>
        </p:nvSpPr>
        <p:spPr>
          <a:xfrm>
            <a:off x="1914480" y="1447560"/>
            <a:ext cx="9996480" cy="4800600"/>
          </a:xfrm>
          <a:prstGeom prst="rect">
            <a:avLst/>
          </a:prstGeom>
          <a:noFill/>
          <a:ln w="0">
            <a:noFill/>
          </a:ln>
        </p:spPr>
        <p:txBody>
          <a:bodyPr anchor="t">
            <a:normAutofit/>
          </a:bodyPr>
          <a:p>
            <a:pPr marL="281160" indent="-281160" algn="r" rtl="1">
              <a:lnSpc>
                <a:spcPct val="100000"/>
              </a:lnSpc>
              <a:buClr>
                <a:srgbClr val="3891a7"/>
              </a:buClr>
              <a:buSzPct val="80000"/>
              <a:buFont typeface="Wingdings 2"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Arabic Transparent"/>
              </a:rPr>
              <a:t> </a:t>
            </a:r>
            <a:r>
              <a:rPr b="1" lang="ar-SA" sz="2800" spc="-1" strike="noStrike">
                <a:solidFill>
                  <a:srgbClr val="000000"/>
                </a:solidFill>
                <a:latin typeface="Gill Sans MT"/>
                <a:cs typeface="Arabic Transparent"/>
              </a:rPr>
              <a:t>أهداف دليل المراجعة الداخلية</a:t>
            </a:r>
            <a:endParaRPr b="0" lang="en-US" sz="2800" spc="-1" strike="noStrike">
              <a:solidFill>
                <a:srgbClr val="000000"/>
              </a:solidFill>
              <a:latin typeface="Gill Sans MT"/>
            </a:endParaRPr>
          </a:p>
          <a:p>
            <a:pPr lvl="1" marL="615960" indent="-343080" algn="r" rtl="1">
              <a:lnSpc>
                <a:spcPct val="100000"/>
              </a:lnSpc>
              <a:buClr>
                <a:srgbClr val="3891a7"/>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وضع سياسات ومعايير لتخطيط عمليات المراجعة وتنفيذها وكتابة التقارير ، بحيث تتفق مع المعايير العالمية لمعهد المراجعين الداخليين والمعايير المحلية ان وجدت</a:t>
            </a:r>
            <a:endParaRPr b="0" lang="en-US" sz="2000" spc="-1" strike="noStrike">
              <a:solidFill>
                <a:srgbClr val="000000"/>
              </a:solidFill>
              <a:latin typeface="Gill Sans MT"/>
            </a:endParaRPr>
          </a:p>
          <a:p>
            <a:pPr lvl="1" marL="615960" indent="-343080" algn="r" rtl="1">
              <a:lnSpc>
                <a:spcPct val="100000"/>
              </a:lnSpc>
              <a:buClr>
                <a:srgbClr val="3891a7"/>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وضع إجراءات محددة تضمن التزام المراجعين الداخليين بالمعايير المهنية. </a:t>
            </a:r>
            <a:endParaRPr b="0" lang="en-US" sz="2000" spc="-1" strike="noStrike">
              <a:solidFill>
                <a:srgbClr val="000000"/>
              </a:solidFill>
              <a:latin typeface="Gill Sans MT"/>
            </a:endParaRPr>
          </a:p>
          <a:p>
            <a:pPr lvl="1" marL="615960" indent="-343080" algn="r" rtl="1">
              <a:lnSpc>
                <a:spcPct val="100000"/>
              </a:lnSpc>
              <a:buClr>
                <a:srgbClr val="3891a7"/>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تشكيل السياسات الإدارية والتنظيمية بوحدة المراجعة الداخلية.</a:t>
            </a:r>
            <a:endParaRPr b="0" lang="en-US" sz="2000" spc="-1" strike="noStrike">
              <a:solidFill>
                <a:srgbClr val="000000"/>
              </a:solidFill>
              <a:latin typeface="Gill Sans MT"/>
            </a:endParaRPr>
          </a:p>
          <a:p>
            <a:pPr lvl="1" marL="615960" indent="-343080" algn="r" rtl="1">
              <a:lnSpc>
                <a:spcPct val="100000"/>
              </a:lnSpc>
              <a:buClr>
                <a:srgbClr val="3891a7"/>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التحديد الواضح للمسؤوليات والسلطات داخل وحدة المراجعة الداخلية.</a:t>
            </a:r>
            <a:endParaRPr b="0" lang="en-US" sz="2000" spc="-1" strike="noStrike">
              <a:solidFill>
                <a:srgbClr val="000000"/>
              </a:solidFill>
              <a:latin typeface="Gill Sans MT"/>
            </a:endParaRPr>
          </a:p>
          <a:p>
            <a:pPr lvl="1" marL="615960" indent="-343080" algn="r" rtl="1">
              <a:lnSpc>
                <a:spcPct val="100000"/>
              </a:lnSpc>
              <a:buClr>
                <a:srgbClr val="3891a7"/>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تحقيق التناسق بين أنشطة المراجعة الداخلية.</a:t>
            </a:r>
            <a:endParaRPr b="0" lang="en-US" sz="2000" spc="-1" strike="noStrike">
              <a:solidFill>
                <a:srgbClr val="000000"/>
              </a:solidFill>
              <a:latin typeface="Gill Sans MT"/>
            </a:endParaRPr>
          </a:p>
          <a:p>
            <a:pPr lvl="1" marL="615960" indent="-343080" algn="r" rtl="1">
              <a:lnSpc>
                <a:spcPct val="100000"/>
              </a:lnSpc>
              <a:buClr>
                <a:srgbClr val="3891a7"/>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تلخيص وتوحيد أساليب المراجعة الداخلية في الوحدة وتوفير التعليمات الخاصة بالمراجعة الداخلية.</a:t>
            </a:r>
            <a:endParaRPr b="0" lang="en-US" sz="2000" spc="-1" strike="noStrike">
              <a:solidFill>
                <a:srgbClr val="000000"/>
              </a:solidFill>
              <a:latin typeface="Gill Sans MT"/>
            </a:endParaRPr>
          </a:p>
          <a:p>
            <a:pPr lvl="1" marL="615960" indent="-343080" algn="r" rtl="1">
              <a:lnSpc>
                <a:spcPct val="100000"/>
              </a:lnSpc>
              <a:buClr>
                <a:srgbClr val="3891a7"/>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مساعدة فرق المراجعة في أداء مهامهم. </a:t>
            </a:r>
            <a:endParaRPr b="0" lang="en-US" sz="2000" spc="-1" strike="noStrike">
              <a:solidFill>
                <a:srgbClr val="000000"/>
              </a:solidFill>
              <a:latin typeface="Gill Sans MT"/>
            </a:endParaRPr>
          </a:p>
          <a:p>
            <a:pPr lvl="1" marL="615960" indent="-343080" algn="r" rtl="1">
              <a:lnSpc>
                <a:spcPct val="100000"/>
              </a:lnSpc>
              <a:buClr>
                <a:srgbClr val="3891a7"/>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تنظيم عملية التدريب داخل وحدة المراجعة.</a:t>
            </a:r>
            <a:endParaRPr b="0" lang="en-US" sz="2000" spc="-1" strike="noStrike">
              <a:solidFill>
                <a:srgbClr val="000000"/>
              </a:solidFill>
              <a:latin typeface="Gill Sans MT"/>
            </a:endParaRPr>
          </a:p>
          <a:p>
            <a:pPr lvl="1" marL="615960" indent="-343080" algn="r" rtl="1">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rabic Transparent"/>
              </a:rPr>
              <a:t> </a:t>
            </a:r>
            <a:endParaRPr b="0" lang="en-US" sz="2000" spc="-1" strike="noStrike">
              <a:solidFill>
                <a:srgbClr val="000000"/>
              </a:solidFill>
              <a:latin typeface="Gill Sans MT"/>
            </a:endParaRPr>
          </a:p>
          <a:p>
            <a:pPr marL="281160" indent="-281160" algn="r" rtl="1">
              <a:lnSpc>
                <a:spcPct val="100000"/>
              </a:lnSpc>
              <a:spcBef>
                <a:spcPts val="601"/>
              </a:spcBef>
              <a:buClr>
                <a:srgbClr val="3891a7"/>
              </a:buClr>
              <a:buSzPct val="80000"/>
              <a:buFont typeface="Wingdings 2"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11617"/>
                </a:solidFill>
                <a:latin typeface="Gill Sans MT"/>
                <a:cs typeface="Majalla UI"/>
              </a:rPr>
              <a:t>الهيكل العام لدليل المراجعة</a:t>
            </a:r>
            <a:endParaRPr b="0" lang="en-US" sz="4000" spc="-1" strike="noStrike">
              <a:solidFill>
                <a:srgbClr val="572314"/>
              </a:solidFill>
              <a:latin typeface="Gill Sans MT"/>
            </a:endParaRPr>
          </a:p>
        </p:txBody>
      </p:sp>
      <p:sp>
        <p:nvSpPr>
          <p:cNvPr id="341"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توزيع دليل المراجعة الداخلية</a:t>
            </a:r>
            <a:endParaRPr b="0" lang="en-US" sz="3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تم استخدامه فقط من قبل وحدة المراجعة الداخلية بالجه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لذا فإن إعطاء الدليل لأشخاص من خارج وحدة المراجعة الداخلية يعتبر عملاً ممنوعاً ما لم يتم إصدار موافقة خطية من قبل المسؤول الأول بالجهة.</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هيكل العام لدليل المراجعة</a:t>
            </a:r>
            <a:endParaRPr b="0" lang="en-US" sz="4300" spc="-1" strike="noStrike">
              <a:solidFill>
                <a:srgbClr val="572314"/>
              </a:solidFill>
              <a:latin typeface="Gill Sans MT"/>
            </a:endParaRPr>
          </a:p>
        </p:txBody>
      </p:sp>
      <p:sp>
        <p:nvSpPr>
          <p:cNvPr id="343"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إحداث تعديلات على دليل المراجعة الداخلية</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لضمان مواكبة وحدة المراجعة الداخلية في الجهة للتطورات التي قد تحدث في المستقبل فإنه من فترة لأخرى يجب إعادة النظر في الدليل وإدخال إي تعديلات عليه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جب أخذ موافقة المسؤول الأول بالجهة على هذه التعديلات أو الإضافات قبل إصدارها.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8T14:48:40Z</dcterms:created>
  <dc:creator>hana</dc:creator>
  <dc:description/>
  <dc:language>en-US</dc:language>
  <cp:lastModifiedBy>kayan albalawi</cp:lastModifiedBy>
  <dcterms:modified xsi:type="dcterms:W3CDTF">2014-04-27T16:14:20Z</dcterms:modified>
  <cp:revision>152</cp:revision>
  <dc:subject/>
  <dc:title>إجراءات إنشاء وتنظيم وحدات المراجعة الداخلية وإداراتها</dc:title>
</cp:coreProperties>
</file>