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05E-B42E-426D-A53A-D0FABE03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DC7-350D-4F1B-AFB2-D28F552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D59-37AF-446D-8FFA-FBE1D863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F6D-5A1B-45E0-9EA4-A3DE9AA1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F4B-C5CE-4A55-855B-3DFCDF91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EEA-1156-460E-BD9A-FB2B4E8F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A2E-1624-4E0E-83E3-36CA6BEA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32A-6050-4123-9796-74894B2F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988-10B2-4D0B-8BCB-397E1DB1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4ED-FBDC-499D-AF1C-F481C1B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72F-3442-4EF1-9B9E-191CE90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A70-1F92-4CE5-BEDD-28A04F15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AD9B-EE97-4B6A-BDF5-200343AB60D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00320" y="2071800"/>
            <a:ext cx="47718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أهم المشكلات الاجتماعية وسبل الوقاية منها</a:t>
            </a:r>
            <a:br>
              <a:rPr sz="3200"/>
            </a:br>
            <a:r>
              <a:rPr b="0" lang="ar-SA" sz="3200" spc="-1" strike="noStrike">
                <a:solidFill>
                  <a:srgbClr val="215968"/>
                </a:solidFill>
                <a:latin typeface="Calibri"/>
                <a:ea typeface="mohammad bold art 1"/>
              </a:rPr>
              <a:t>(</a:t>
            </a:r>
            <a:r>
              <a:rPr b="0" lang="ar-SA" sz="3200" spc="-1" strike="noStrike">
                <a:solidFill>
                  <a:srgbClr val="215968"/>
                </a:solidFill>
                <a:latin typeface="Calibri"/>
                <a:ea typeface="mohammad bold art 1"/>
              </a:rPr>
              <a:t>1</a:t>
            </a:r>
            <a:r>
              <a:rPr b="0" lang="ar-SA" sz="3200" spc="-1" strike="noStrike">
                <a:solidFill>
                  <a:srgbClr val="215968"/>
                </a:solidFill>
                <a:latin typeface="Calibri"/>
                <a:ea typeface="mohammad bold art 1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356760"/>
            <a:ext cx="2714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قرر س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سلام وبناء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عنوان فرعي 2"/>
          <p:cNvSpPr/>
          <p:nvPr/>
        </p:nvSpPr>
        <p:spPr>
          <a:xfrm>
            <a:off x="826920" y="5229360"/>
            <a:ext cx="2714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. وفاء بنت محمد العيس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سلوك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274680" y="963720"/>
            <a:ext cx="86248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حراف بعض الشبا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أسباب انحراف الشباب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1</a:t>
            </a: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\الفرا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2</a:t>
            </a: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\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جفاء والبعد بين الشباب وكبار السن من أهليهم ومن غي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\الاتصال بقوم منحرفين ومصاحبتهم وهذا يؤثر كثيراً على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شباب في عقله وتفكيره وسلوك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صورة 5" descr="ما العلاج copy.jpg"/>
          <p:cNvPicPr/>
          <p:nvPr/>
        </p:nvPicPr>
        <p:blipFill>
          <a:blip r:embed="rId1"/>
          <a:stretch/>
        </p:blipFill>
        <p:spPr>
          <a:xfrm>
            <a:off x="6286680" y="2025720"/>
            <a:ext cx="1508040" cy="974520"/>
          </a:xfrm>
          <a:prstGeom prst="rect">
            <a:avLst/>
          </a:prstGeom>
          <a:ln w="0">
            <a:noFill/>
          </a:ln>
        </p:spPr>
      </p:pic>
      <p:pic>
        <p:nvPicPr>
          <p:cNvPr id="73" name="صورة 6" descr="ما العلاج copy.jpg"/>
          <p:cNvPicPr/>
          <p:nvPr/>
        </p:nvPicPr>
        <p:blipFill>
          <a:blip r:embed="rId2"/>
          <a:stretch/>
        </p:blipFill>
        <p:spPr>
          <a:xfrm>
            <a:off x="2714760" y="3429000"/>
            <a:ext cx="1508040" cy="974880"/>
          </a:xfrm>
          <a:prstGeom prst="rect">
            <a:avLst/>
          </a:prstGeom>
          <a:ln w="0">
            <a:noFill/>
          </a:ln>
        </p:spPr>
      </p:pic>
      <p:pic>
        <p:nvPicPr>
          <p:cNvPr id="74" name="صورة 7" descr="ما العلاج copy.jpg"/>
          <p:cNvPicPr/>
          <p:nvPr/>
        </p:nvPicPr>
        <p:blipFill>
          <a:blip r:embed="rId3"/>
          <a:stretch/>
        </p:blipFill>
        <p:spPr>
          <a:xfrm>
            <a:off x="4714920" y="5143680"/>
            <a:ext cx="150804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حراف بعض الشبا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\ قراءة بعض الكتب الهدامة من رسائل وصحف ومجلات وغيرها مما يشكك المرء في دينه وعقيد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\ظن بعض الشباب أن الإسلام تقييد للحريات وكبت للطاقات فينفر من الإسلام ويعتقده ديناً رجعياً يأخذ بيد أهله إلى الوراء ويحول بينهم وبين التقدم والرق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صورة 3" descr="ما العلاج copy.jpg"/>
          <p:cNvPicPr/>
          <p:nvPr/>
        </p:nvPicPr>
        <p:blipFill>
          <a:blip r:embed="rId1"/>
          <a:stretch/>
        </p:blipFill>
        <p:spPr>
          <a:xfrm>
            <a:off x="357120" y="1857240"/>
            <a:ext cx="1508040" cy="974880"/>
          </a:xfrm>
          <a:prstGeom prst="rect">
            <a:avLst/>
          </a:prstGeom>
          <a:ln w="0">
            <a:noFill/>
          </a:ln>
        </p:spPr>
      </p:pic>
      <p:pic>
        <p:nvPicPr>
          <p:cNvPr id="78" name="صورة 4" descr="ما العلاج copy.jpg"/>
          <p:cNvPicPr/>
          <p:nvPr/>
        </p:nvPicPr>
        <p:blipFill>
          <a:blip r:embed="rId2"/>
          <a:stretch/>
        </p:blipFill>
        <p:spPr>
          <a:xfrm>
            <a:off x="4000680" y="4143240"/>
            <a:ext cx="15080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تشار وسائل الإعلام المضلل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علام بمفهومه الصحي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سائل الإعلام المعاص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مستطيل مستدير الزوايا 3"/>
          <p:cNvGrpSpPr/>
          <p:nvPr/>
        </p:nvGrpSpPr>
        <p:grpSpPr>
          <a:xfrm>
            <a:off x="5284800" y="1627200"/>
            <a:ext cx="3371760" cy="1049400"/>
            <a:chOff x="5284800" y="1627200"/>
            <a:chExt cx="3371760" cy="1049400"/>
          </a:xfrm>
        </p:grpSpPr>
        <p:pic>
          <p:nvPicPr>
            <p:cNvPr id="82" name="مستطيل مستدير الزوايا 3" descr=""/>
            <p:cNvPicPr/>
            <p:nvPr/>
          </p:nvPicPr>
          <p:blipFill>
            <a:blip r:embed="rId1"/>
            <a:stretch/>
          </p:blipFill>
          <p:spPr>
            <a:xfrm>
              <a:off x="5284800" y="1627200"/>
              <a:ext cx="33717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678640" y="1677960"/>
              <a:ext cx="2930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Calibri"/>
                  <a:cs typeface="Traditional Arabic"/>
                </a:rPr>
                <a:t>ما معنى الإعلام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صورة 8" descr="1263944151.jpg"/>
          <p:cNvPicPr/>
          <p:nvPr/>
        </p:nvPicPr>
        <p:blipFill>
          <a:blip r:embed="rId2"/>
          <a:stretch/>
        </p:blipFill>
        <p:spPr>
          <a:xfrm>
            <a:off x="3643200" y="3714840"/>
            <a:ext cx="3071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تشار وسائل الإعلام المضللة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خطورة وسائل الإعلام المضللة على المسل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دراسات حول وسائل الإع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مستطيل مستدير الزوايا 3"/>
          <p:cNvSpPr/>
          <p:nvPr/>
        </p:nvSpPr>
        <p:spPr>
          <a:xfrm>
            <a:off x="3214800" y="2857680"/>
            <a:ext cx="535788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آثار السلبية للتلفزيون على مجموعات من الشباب في ست جامعات مصر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مستطيل مستدير الزوايا 4"/>
          <p:cNvSpPr/>
          <p:nvPr/>
        </p:nvSpPr>
        <p:spPr>
          <a:xfrm>
            <a:off x="3214800" y="3857760"/>
            <a:ext cx="5357880" cy="8571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آثار السلبية للتلفزيون على مجموعات من الشباب اللبنان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المسلسلات التركية- العريفي.mp3" descr=""/>
          <p:cNvPicPr/>
          <p:nvPr/>
        </p:nvPicPr>
        <p:blipFill>
          <a:blip r:embed="rId1"/>
          <a:stretch/>
        </p:blipFill>
        <p:spPr>
          <a:xfrm>
            <a:off x="571680" y="4071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637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تشار وسائل الإعلام المضلل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a452a"/>
                </a:solidFill>
                <a:latin typeface="Calibri"/>
                <a:ea typeface="Traditional Arabic"/>
              </a:rPr>
              <a:t>                                        </a:t>
            </a:r>
            <a:r>
              <a:rPr b="0" lang="ar-SA" sz="2000" spc="-1" strike="noStrike">
                <a:solidFill>
                  <a:srgbClr val="4a452a"/>
                </a:solidFill>
                <a:latin typeface="Calibri"/>
                <a:cs typeface="mohammad bold art 1"/>
              </a:rPr>
              <a:t>دور المسلم أمام أخطار وسائل الإع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مستطيل مستدير الزوايا 5"/>
          <p:cNvSpPr/>
          <p:nvPr/>
        </p:nvSpPr>
        <p:spPr>
          <a:xfrm>
            <a:off x="5000760" y="2286000"/>
            <a:ext cx="30715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1</a:t>
            </a: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. مراقبة الله في السر والعل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مستطيل مستدير الزوايا 7"/>
          <p:cNvSpPr/>
          <p:nvPr/>
        </p:nvSpPr>
        <p:spPr>
          <a:xfrm>
            <a:off x="1643040" y="2286000"/>
            <a:ext cx="30718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2</a:t>
            </a: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. تنظيم الأوقات في مشاهدة وسائل الإعل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مستدير الزوايا 8"/>
          <p:cNvSpPr/>
          <p:nvPr/>
        </p:nvSpPr>
        <p:spPr>
          <a:xfrm>
            <a:off x="5000760" y="3357720"/>
            <a:ext cx="30715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3</a:t>
            </a: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. ملء أوقات الفراغ بالأعمال والهوايات المفي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مستدير الزوايا 9"/>
          <p:cNvSpPr/>
          <p:nvPr/>
        </p:nvSpPr>
        <p:spPr>
          <a:xfrm>
            <a:off x="1643040" y="3357720"/>
            <a:ext cx="30718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4</a:t>
            </a:r>
            <a:r>
              <a:rPr b="1" lang="ar-SA" sz="2000" spc="-1" strike="noStrike">
                <a:solidFill>
                  <a:srgbClr val="215968"/>
                </a:solidFill>
                <a:latin typeface="Calibri"/>
                <a:ea typeface="Traditional Arabic"/>
              </a:rPr>
              <a:t>. عدم السكوت على هذه المواقع والمشاهد والمواقف المنحرفة والمضل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ه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ف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كم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رق بين الرشوة واله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ضار الرشو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رشوة وأثرها في إفساد العلاقات الاجتماع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0253f"/>
                </a:solidFill>
                <a:latin typeface="Calibri"/>
                <a:cs typeface="mohammad bold art 1"/>
              </a:rPr>
              <a:t>تمه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قد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حراف بعض الش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تشار وسائل الإعلام المضل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ضعف صلة كثير من الشباب بعلماء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 </a:t>
            </a:r>
            <a:r>
              <a:rPr b="0" lang="ar-SA" sz="2000" spc="-1" strike="noStrike">
                <a:solidFill>
                  <a:srgbClr val="ff0000"/>
                </a:solidFill>
                <a:latin typeface="Calibri"/>
                <a:ea typeface="mohammad bold art 1"/>
              </a:rPr>
              <a:t>( ستكون في جزء ثاني للمشكلات الأخلاقي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خدرات، والمسكرات، والدخ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499"/>
              </a:spcBef>
              <a:buClr>
                <a:srgbClr val="2159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رشوة وأثرها في إفساد العلاقات الاجتماع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حياة المسلم المعاصرة لا تخلو من المشكل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حاجة للحديث حول هذه المشكل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سبل الوقاية والعلاج من هذه المشكل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نحراف بعض الشبا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رسم تخطيطي 3" descr=""/>
          <p:cNvPicPr/>
          <p:nvPr/>
        </p:nvPicPr>
        <p:blipFill>
          <a:blip r:embed="rId1"/>
          <a:stretch/>
        </p:blipFill>
        <p:spPr>
          <a:xfrm>
            <a:off x="1852560" y="1609560"/>
            <a:ext cx="6108840" cy="252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يعني ذلك اعتناق الشباب لأفكار غير سوية تعمل على هدم معالم الدين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ثل العَلمانية, واعتقاد عدم وجوب الحكم بما أنزل الل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ستطيل مستدير الزوايا 3"/>
          <p:cNvSpPr/>
          <p:nvPr/>
        </p:nvSpPr>
        <p:spPr>
          <a:xfrm>
            <a:off x="5214960" y="164304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ا مفهوم الانحراف الفكري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عنصر نائب للمحتوى 3" descr=""/>
          <p:cNvPicPr/>
          <p:nvPr/>
        </p:nvPicPr>
        <p:blipFill>
          <a:blip r:embed="rId1"/>
          <a:stretch/>
        </p:blipFill>
        <p:spPr>
          <a:xfrm>
            <a:off x="281160" y="853920"/>
            <a:ext cx="85579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ضعف التربية الصحيحة من خلال الأس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ضعف التربية من خلال المؤسسات التربية ( المدرسة – الجامعات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أثير قنوات الإعلام على مبادئ وقيم الإنسان العربي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قنية الحديثة وإدمان الانترنت ودخوله إلى العقول والوصول إليها بغ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غاية يؤدي إلى الانحراف الفكر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مستطيل مستدير الزوايا 3"/>
          <p:cNvSpPr/>
          <p:nvPr/>
        </p:nvSpPr>
        <p:spPr>
          <a:xfrm>
            <a:off x="5429160" y="1643040"/>
            <a:ext cx="3000600" cy="785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ن مظاهر الانحراف الفكر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إقصاء أبناء الأمة عن ثوابتها وقيمها المعتدلة والوسطية ونشر اليأس والانهزامية والكراهية بين صفوفه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حويل الولاء إلى المزاعم الضالة والأفكار الشري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عمل على تفكيك وحدة العرب والمسلمين في مبادئهم وقيمهم ووحدته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ض الأمن الفكري والمادي في هذه المجتمعات للخطر من خلال إيجاد عناص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ضالة تحسب على الإسلام والإسلام منهم برا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ستطيل مستدير الزوايا 3"/>
          <p:cNvSpPr/>
          <p:nvPr/>
        </p:nvSpPr>
        <p:spPr>
          <a:xfrm>
            <a:off x="5715000" y="157176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ا مدى خطورة الانحراف الفكري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مستدير الزوايا 5"/>
          <p:cNvSpPr/>
          <p:nvPr/>
        </p:nvSpPr>
        <p:spPr>
          <a:xfrm>
            <a:off x="5715000" y="2571840"/>
            <a:ext cx="271476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الأفكار والتيارات التي تستهدف الإنسان المس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انحراف الفك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ي قيام الشباب بممارسة سلوكيات تخالف النهج الإسلامي مثل السرقة, والتبرج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شبه بغير المسلم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عاملات الما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برج والاختلا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قاصر عن الأمر بالمعروف والنهي عن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ستطيل مستدير الزوايا 3"/>
          <p:cNvSpPr/>
          <p:nvPr/>
        </p:nvSpPr>
        <p:spPr>
          <a:xfrm>
            <a:off x="5143680" y="1714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ا مفهوم الانحراف السلوكي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ستطيل مستدير الزوايا 4"/>
          <p:cNvSpPr/>
          <p:nvPr/>
        </p:nvSpPr>
        <p:spPr>
          <a:xfrm>
            <a:off x="5143680" y="350028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mohammad bold art 1"/>
              </a:rPr>
              <a:t>من مظاهر الانحراف السلوك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1:34:19Z</dcterms:created>
  <dc:creator>04-02-11</dc:creator>
  <dc:description/>
  <dc:language>en-US</dc:language>
  <cp:lastModifiedBy>وفاء</cp:lastModifiedBy>
  <dcterms:modified xsi:type="dcterms:W3CDTF">2011-03-19T22:37:59Z</dcterms:modified>
  <cp:revision>92</cp:revision>
  <dc:subject/>
  <dc:title>الشريحة 1</dc:title>
</cp:coreProperties>
</file>