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80F3-A204-48F7-8B74-E8B6C6A13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9A36-4922-4F94-8BE2-37F2C2005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EE9B-46FE-4793-81B2-B9928C6E3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6C23-BDA8-43B3-B394-715A4368A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24E6-02F1-4277-BFDC-23F843804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4D53-5790-45BF-8FE4-B6619B3B5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E1DC-03F2-4FBE-96F4-1EBE6218C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1947-921E-419F-A4FF-2DF1B01CE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93B7-D674-4F96-BBA4-90CC771C2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F05B-67F2-4D48-B67D-E73A122C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913E-9F34-412D-A8BB-63562039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8567-6474-46EB-8743-13B78099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2B46A-A918-4696-B418-4C6DE246898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00320" y="2071800"/>
            <a:ext cx="477180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215968"/>
                </a:solidFill>
                <a:latin typeface="Calibri"/>
                <a:cs typeface="mohammad bold art 1"/>
              </a:rPr>
              <a:t>أهم المشكلات الاجتماعية وسبل الوقاية منها</a:t>
            </a:r>
            <a:br>
              <a:rPr sz="3200"/>
            </a:br>
            <a:r>
              <a:rPr b="0" lang="ar-SA" sz="3200" spc="-1" strike="noStrike">
                <a:solidFill>
                  <a:srgbClr val="215968"/>
                </a:solidFill>
                <a:latin typeface="Calibri"/>
                <a:ea typeface="mohammad bold art 1"/>
              </a:rPr>
              <a:t>(</a:t>
            </a:r>
            <a:r>
              <a:rPr b="0" lang="ar-SA" sz="3200" spc="-1" strike="noStrike">
                <a:solidFill>
                  <a:srgbClr val="215968"/>
                </a:solidFill>
                <a:latin typeface="Calibri"/>
                <a:ea typeface="mohammad bold art 1"/>
              </a:rPr>
              <a:t>1</a:t>
            </a:r>
            <a:r>
              <a:rPr b="0" lang="ar-SA" sz="3200" spc="-1" strike="noStrike">
                <a:solidFill>
                  <a:srgbClr val="215968"/>
                </a:solidFill>
                <a:latin typeface="Calibri"/>
                <a:ea typeface="mohammad bold art 1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643800" y="356760"/>
            <a:ext cx="27144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مقرر سلم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raditional Arabic"/>
              </a:rPr>
              <a:t>10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إسلام وبناء المجتم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عنوان فرعي 2"/>
          <p:cNvSpPr/>
          <p:nvPr/>
        </p:nvSpPr>
        <p:spPr>
          <a:xfrm>
            <a:off x="826920" y="5229360"/>
            <a:ext cx="27147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أ. وفاء بنت محمد العيس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03120"/>
            <a:ext cx="8229600" cy="111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15968"/>
                </a:solidFill>
                <a:latin typeface="Calibri"/>
                <a:cs typeface="mohammad bold art 1"/>
              </a:rPr>
              <a:t>الانحراف السلوك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عنصر نائب للمحتوى 3" descr=""/>
          <p:cNvPicPr/>
          <p:nvPr/>
        </p:nvPicPr>
        <p:blipFill>
          <a:blip r:embed="rId1"/>
          <a:stretch/>
        </p:blipFill>
        <p:spPr>
          <a:xfrm>
            <a:off x="274680" y="963720"/>
            <a:ext cx="862488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15968"/>
                </a:solidFill>
                <a:latin typeface="Calibri"/>
                <a:cs typeface="mohammad bold art 1"/>
              </a:rPr>
              <a:t>انحراف بعض الشبا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6c4c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6c4c12"/>
                </a:solidFill>
                <a:latin typeface="Calibri"/>
                <a:cs typeface="mohammad bold art 1"/>
              </a:rPr>
              <a:t>أسباب انحراف الشباب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4a452a"/>
                </a:solidFill>
                <a:latin typeface="Calibri"/>
                <a:ea typeface="Traditional Arabic"/>
              </a:rPr>
              <a:t>1</a:t>
            </a:r>
            <a:r>
              <a:rPr b="1" lang="ar-SA" sz="2000" spc="-1" strike="noStrike">
                <a:solidFill>
                  <a:srgbClr val="4a452a"/>
                </a:solidFill>
                <a:latin typeface="Calibri"/>
                <a:ea typeface="Traditional Arabic"/>
              </a:rPr>
              <a:t>\الفرا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4a452a"/>
                </a:solidFill>
                <a:latin typeface="Calibri"/>
                <a:ea typeface="Traditional Arabic"/>
              </a:rPr>
              <a:t>2</a:t>
            </a:r>
            <a:r>
              <a:rPr b="1" lang="ar-SA" sz="2000" spc="-1" strike="noStrike">
                <a:solidFill>
                  <a:srgbClr val="4a452a"/>
                </a:solidFill>
                <a:latin typeface="Calibri"/>
                <a:ea typeface="Traditional Arabic"/>
              </a:rPr>
              <a:t>\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جفاء والبعد بين الشباب وكبار السن من أهليهم ومن غير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raditional Arabic"/>
              </a:rPr>
              <a:t>3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raditional Arabic"/>
              </a:rPr>
              <a:t>\الاتصال بقوم منحرفين ومصاحبتهم وهذا يؤثر كثيراً على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شباب في عقله وتفكيره وسلوك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صورة 5" descr="ما العلاج copy.jpg"/>
          <p:cNvPicPr/>
          <p:nvPr/>
        </p:nvPicPr>
        <p:blipFill>
          <a:blip r:embed="rId1"/>
          <a:stretch/>
        </p:blipFill>
        <p:spPr>
          <a:xfrm>
            <a:off x="6286680" y="2025720"/>
            <a:ext cx="1508040" cy="974520"/>
          </a:xfrm>
          <a:prstGeom prst="rect">
            <a:avLst/>
          </a:prstGeom>
          <a:ln w="0">
            <a:noFill/>
          </a:ln>
        </p:spPr>
      </p:pic>
      <p:pic>
        <p:nvPicPr>
          <p:cNvPr id="73" name="صورة 6" descr="ما العلاج copy.jpg"/>
          <p:cNvPicPr/>
          <p:nvPr/>
        </p:nvPicPr>
        <p:blipFill>
          <a:blip r:embed="rId2"/>
          <a:stretch/>
        </p:blipFill>
        <p:spPr>
          <a:xfrm>
            <a:off x="2714760" y="3429000"/>
            <a:ext cx="1508040" cy="974880"/>
          </a:xfrm>
          <a:prstGeom prst="rect">
            <a:avLst/>
          </a:prstGeom>
          <a:ln w="0">
            <a:noFill/>
          </a:ln>
        </p:spPr>
      </p:pic>
      <p:pic>
        <p:nvPicPr>
          <p:cNvPr id="74" name="صورة 7" descr="ما العلاج copy.jpg"/>
          <p:cNvPicPr/>
          <p:nvPr/>
        </p:nvPicPr>
        <p:blipFill>
          <a:blip r:embed="rId3"/>
          <a:stretch/>
        </p:blipFill>
        <p:spPr>
          <a:xfrm>
            <a:off x="4714920" y="5143680"/>
            <a:ext cx="150804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15968"/>
                </a:solidFill>
                <a:latin typeface="Calibri"/>
                <a:cs typeface="mohammad bold art 1"/>
              </a:rPr>
              <a:t>انحراف بعض الشبا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raditional Arabic"/>
              </a:rPr>
              <a:t>4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raditional Arabic"/>
              </a:rPr>
              <a:t>\ قراءة بعض الكتب الهدامة من رسائل وصحف ومجلات وغيرها مما يشكك المرء في دينه وعقيد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raditional Arabic"/>
              </a:rPr>
              <a:t>5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raditional Arabic"/>
              </a:rPr>
              <a:t>\ظن بعض الشباب أن الإسلام تقييد للحريات وكبت للطاقات فينفر من الإسلام ويعتقده ديناً رجعياً يأخذ بيد أهله إلى الوراء ويحول بينهم وبين التقدم والرق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صورة 3" descr="ما العلاج copy.jpg"/>
          <p:cNvPicPr/>
          <p:nvPr/>
        </p:nvPicPr>
        <p:blipFill>
          <a:blip r:embed="rId1"/>
          <a:stretch/>
        </p:blipFill>
        <p:spPr>
          <a:xfrm>
            <a:off x="357120" y="1857240"/>
            <a:ext cx="1508040" cy="974880"/>
          </a:xfrm>
          <a:prstGeom prst="rect">
            <a:avLst/>
          </a:prstGeom>
          <a:ln w="0">
            <a:noFill/>
          </a:ln>
        </p:spPr>
      </p:pic>
      <p:pic>
        <p:nvPicPr>
          <p:cNvPr id="78" name="صورة 4" descr="ما العلاج copy.jpg"/>
          <p:cNvPicPr/>
          <p:nvPr/>
        </p:nvPicPr>
        <p:blipFill>
          <a:blip r:embed="rId2"/>
          <a:stretch/>
        </p:blipFill>
        <p:spPr>
          <a:xfrm>
            <a:off x="4000680" y="4143240"/>
            <a:ext cx="150804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15968"/>
                </a:solidFill>
                <a:latin typeface="Calibri"/>
                <a:cs typeface="mohammad bold art 1"/>
              </a:rPr>
              <a:t>انتشار وسائل الإعلام المضللة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إعلام بمفهومه الصحي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وسائل الإعلام المعاصر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مستطيل مستدير الزوايا 3"/>
          <p:cNvGrpSpPr/>
          <p:nvPr/>
        </p:nvGrpSpPr>
        <p:grpSpPr>
          <a:xfrm>
            <a:off x="5284800" y="1627200"/>
            <a:ext cx="3371760" cy="1049400"/>
            <a:chOff x="5284800" y="1627200"/>
            <a:chExt cx="3371760" cy="1049400"/>
          </a:xfrm>
        </p:grpSpPr>
        <p:pic>
          <p:nvPicPr>
            <p:cNvPr id="82" name="مستطيل مستدير الزوايا 3" descr=""/>
            <p:cNvPicPr/>
            <p:nvPr/>
          </p:nvPicPr>
          <p:blipFill>
            <a:blip r:embed="rId1"/>
            <a:stretch/>
          </p:blipFill>
          <p:spPr>
            <a:xfrm>
              <a:off x="5284800" y="1627200"/>
              <a:ext cx="337176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5678640" y="1677960"/>
              <a:ext cx="293040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Calibri"/>
                  <a:cs typeface="Traditional Arabic"/>
                </a:rPr>
                <a:t>ما معنى الإعلام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4" name="صورة 8" descr="1263944151.jpg"/>
          <p:cNvPicPr/>
          <p:nvPr/>
        </p:nvPicPr>
        <p:blipFill>
          <a:blip r:embed="rId2"/>
          <a:stretch/>
        </p:blipFill>
        <p:spPr>
          <a:xfrm>
            <a:off x="3643200" y="3714840"/>
            <a:ext cx="30718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15968"/>
                </a:solidFill>
                <a:latin typeface="Calibri"/>
                <a:cs typeface="mohammad bold art 1"/>
              </a:rPr>
              <a:t>انتشار وسائل الإعلام المضللة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خطورة وسائل الإعلام المضللة على المسل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دراسات حول وسائل الإعلا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مستطيل مستدير الزوايا 3"/>
          <p:cNvSpPr/>
          <p:nvPr/>
        </p:nvSpPr>
        <p:spPr>
          <a:xfrm>
            <a:off x="3214800" y="2857680"/>
            <a:ext cx="535788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c4c12"/>
                </a:solidFill>
                <a:latin typeface="Calibri"/>
                <a:cs typeface="mohammad bold art 1"/>
              </a:rPr>
              <a:t>الآثار السلبية للتلفزيون على مجموعات من الشباب في ست جامعات مصري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مستطيل مستدير الزوايا 4"/>
          <p:cNvSpPr/>
          <p:nvPr/>
        </p:nvSpPr>
        <p:spPr>
          <a:xfrm>
            <a:off x="3214800" y="3857760"/>
            <a:ext cx="535788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c4c12"/>
                </a:solidFill>
                <a:latin typeface="Calibri"/>
                <a:cs typeface="mohammad bold art 1"/>
              </a:rPr>
              <a:t>الآثار السلبية للتلفزيون على مجموعات من الشباب اللبنان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المسلسلات التركية- العريفي.mp3" descr=""/>
          <p:cNvPicPr/>
          <p:nvPr/>
        </p:nvPicPr>
        <p:blipFill>
          <a:blip r:embed="rId1"/>
          <a:stretch/>
        </p:blipFill>
        <p:spPr>
          <a:xfrm>
            <a:off x="571680" y="40719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46374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15968"/>
                </a:solidFill>
                <a:latin typeface="Calibri"/>
                <a:cs typeface="mohammad bold art 1"/>
              </a:rPr>
              <a:t>انتشار وسائل الإعلام المضللة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4a452a"/>
                </a:solidFill>
                <a:latin typeface="Calibri"/>
                <a:ea typeface="Traditional Arabic"/>
              </a:rPr>
              <a:t>                                        </a:t>
            </a:r>
            <a:r>
              <a:rPr b="0" lang="ar-SA" sz="2000" spc="-1" strike="noStrike">
                <a:solidFill>
                  <a:srgbClr val="4a452a"/>
                </a:solidFill>
                <a:latin typeface="Calibri"/>
                <a:cs typeface="mohammad bold art 1"/>
              </a:rPr>
              <a:t>دور المسلم أمام أخطار وسائل الإعلا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مستطيل مستدير الزوايا 5"/>
          <p:cNvSpPr/>
          <p:nvPr/>
        </p:nvSpPr>
        <p:spPr>
          <a:xfrm>
            <a:off x="5000760" y="2286000"/>
            <a:ext cx="307152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215968"/>
                </a:solidFill>
                <a:latin typeface="Calibri"/>
                <a:ea typeface="Traditional Arabic"/>
              </a:rPr>
              <a:t>1</a:t>
            </a:r>
            <a:r>
              <a:rPr b="1" lang="ar-SA" sz="2000" spc="-1" strike="noStrike">
                <a:solidFill>
                  <a:srgbClr val="215968"/>
                </a:solidFill>
                <a:latin typeface="Calibri"/>
                <a:ea typeface="Traditional Arabic"/>
              </a:rPr>
              <a:t>. مراقبة الله في السر والعل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مستطيل مستدير الزوايا 7"/>
          <p:cNvSpPr/>
          <p:nvPr/>
        </p:nvSpPr>
        <p:spPr>
          <a:xfrm>
            <a:off x="1643040" y="2286000"/>
            <a:ext cx="307188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215968"/>
                </a:solidFill>
                <a:latin typeface="Calibri"/>
                <a:ea typeface="Traditional Arabic"/>
              </a:rPr>
              <a:t>2</a:t>
            </a:r>
            <a:r>
              <a:rPr b="1" lang="ar-SA" sz="2000" spc="-1" strike="noStrike">
                <a:solidFill>
                  <a:srgbClr val="215968"/>
                </a:solidFill>
                <a:latin typeface="Calibri"/>
                <a:ea typeface="Traditional Arabic"/>
              </a:rPr>
              <a:t>. تنظيم الأوقات في مشاهدة وسائل الإعلا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مستطيل مستدير الزوايا 8"/>
          <p:cNvSpPr/>
          <p:nvPr/>
        </p:nvSpPr>
        <p:spPr>
          <a:xfrm>
            <a:off x="5000760" y="3357720"/>
            <a:ext cx="307152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215968"/>
                </a:solidFill>
                <a:latin typeface="Calibri"/>
                <a:ea typeface="Traditional Arabic"/>
              </a:rPr>
              <a:t>3</a:t>
            </a:r>
            <a:r>
              <a:rPr b="1" lang="ar-SA" sz="2000" spc="-1" strike="noStrike">
                <a:solidFill>
                  <a:srgbClr val="215968"/>
                </a:solidFill>
                <a:latin typeface="Calibri"/>
                <a:ea typeface="Traditional Arabic"/>
              </a:rPr>
              <a:t>. ملء أوقات الفراغ بالأعمال والهوايات المفيد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مستطيل مستدير الزوايا 9"/>
          <p:cNvSpPr/>
          <p:nvPr/>
        </p:nvSpPr>
        <p:spPr>
          <a:xfrm>
            <a:off x="1643040" y="3357720"/>
            <a:ext cx="307188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215968"/>
                </a:solidFill>
                <a:latin typeface="Calibri"/>
                <a:ea typeface="Traditional Arabic"/>
              </a:rPr>
              <a:t>4</a:t>
            </a:r>
            <a:r>
              <a:rPr b="1" lang="ar-SA" sz="2000" spc="-1" strike="noStrike">
                <a:solidFill>
                  <a:srgbClr val="215968"/>
                </a:solidFill>
                <a:latin typeface="Calibri"/>
                <a:ea typeface="Traditional Arabic"/>
              </a:rPr>
              <a:t>. عدم السكوت على هذه المواقع والمشاهد والمواقف المنحرفة والمضلل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6c4c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c4c12"/>
                </a:solidFill>
                <a:latin typeface="Calibri"/>
                <a:cs typeface="mohammad bold art 1"/>
              </a:rPr>
              <a:t>الهد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تعريفه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حكمه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فرق بين الرشوة والهد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مضار الرشو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15968"/>
                </a:solidFill>
                <a:latin typeface="Calibri"/>
                <a:cs typeface="mohammad bold art 1"/>
              </a:rPr>
              <a:t>الرشوة وأثرها في إفساد العلاقات الاجتماعية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10253f"/>
                </a:solidFill>
                <a:latin typeface="Calibri"/>
                <a:cs typeface="mohammad bold art 1"/>
              </a:rPr>
              <a:t>تمهي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571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spcBef>
                <a:spcPts val="499"/>
              </a:spcBef>
              <a:buClr>
                <a:srgbClr val="21596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15968"/>
                </a:solidFill>
                <a:latin typeface="Calibri"/>
                <a:cs typeface="mohammad bold art 1"/>
              </a:rPr>
              <a:t>المقدم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spcBef>
                <a:spcPts val="499"/>
              </a:spcBef>
              <a:buClr>
                <a:srgbClr val="21596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spcBef>
                <a:spcPts val="499"/>
              </a:spcBef>
              <a:buClr>
                <a:srgbClr val="21596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15968"/>
                </a:solidFill>
                <a:latin typeface="Calibri"/>
                <a:cs typeface="mohammad bold art 1"/>
              </a:rPr>
              <a:t>انحراف بعض الشبا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spcBef>
                <a:spcPts val="499"/>
              </a:spcBef>
              <a:buClr>
                <a:srgbClr val="21596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spcBef>
                <a:spcPts val="499"/>
              </a:spcBef>
              <a:buClr>
                <a:srgbClr val="21596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15968"/>
                </a:solidFill>
                <a:latin typeface="Calibri"/>
                <a:cs typeface="mohammad bold art 1"/>
              </a:rPr>
              <a:t>انتشار وسائل الإعلام المضلل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spcBef>
                <a:spcPts val="499"/>
              </a:spcBef>
              <a:buClr>
                <a:srgbClr val="21596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spcBef>
                <a:spcPts val="499"/>
              </a:spcBef>
              <a:buClr>
                <a:srgbClr val="21596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15968"/>
                </a:solidFill>
                <a:latin typeface="Calibri"/>
                <a:cs typeface="mohammad bold art 1"/>
              </a:rPr>
              <a:t>ضعف صلة كثير من الشباب بعلماء الإسلا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spcBef>
                <a:spcPts val="499"/>
              </a:spcBef>
              <a:buClr>
                <a:srgbClr val="21596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spcBef>
                <a:spcPts val="499"/>
              </a:spcBef>
              <a:buClr>
                <a:srgbClr val="21596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15968"/>
                </a:solidFill>
                <a:latin typeface="Calibri"/>
                <a:cs typeface="mohammad bold art 1"/>
              </a:rPr>
              <a:t>فشو الفواحش الأخلاقية </a:t>
            </a:r>
            <a:r>
              <a:rPr b="0" lang="ar-SA" sz="2000" spc="-1" strike="noStrike">
                <a:solidFill>
                  <a:srgbClr val="ff0000"/>
                </a:solidFill>
                <a:latin typeface="Calibri"/>
                <a:ea typeface="mohammad bold art 1"/>
              </a:rPr>
              <a:t>( ستكون في جزء ثاني للمشكلات الأخلاقية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spcBef>
                <a:spcPts val="499"/>
              </a:spcBef>
              <a:buClr>
                <a:srgbClr val="21596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spcBef>
                <a:spcPts val="499"/>
              </a:spcBef>
              <a:buClr>
                <a:srgbClr val="21596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15968"/>
                </a:solidFill>
                <a:latin typeface="Calibri"/>
                <a:cs typeface="mohammad bold art 1"/>
              </a:rPr>
              <a:t>المخدرات، والمسكرات، والدخا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spcBef>
                <a:spcPts val="499"/>
              </a:spcBef>
              <a:buClr>
                <a:srgbClr val="21596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15968"/>
                </a:solidFill>
                <a:latin typeface="Calibri"/>
                <a:cs typeface="mohammad bold art 1"/>
              </a:rPr>
              <a:t>الرشوة وأثرها في إفساد العلاقات الاجتماع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15968"/>
                </a:solidFill>
                <a:latin typeface="Calibri"/>
                <a:cs typeface="mohammad bold art 1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6c4c1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6c4c12"/>
                </a:solidFill>
                <a:latin typeface="Calibri"/>
                <a:cs typeface="mohammad bold art 1"/>
              </a:rPr>
              <a:t>حياة المسلم المعاصرة لا تخلو من المشكل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6c4c1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6c4c1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6c4c12"/>
                </a:solidFill>
                <a:latin typeface="Calibri"/>
                <a:cs typeface="mohammad bold art 1"/>
              </a:rPr>
              <a:t>الحاجة للحديث حول هذه المشكل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6c4c1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6c4c1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6c4c12"/>
                </a:solidFill>
                <a:latin typeface="Calibri"/>
                <a:cs typeface="mohammad bold art 1"/>
              </a:rPr>
              <a:t>سبل الوقاية والعلاج من هذه المشكل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15968"/>
                </a:solidFill>
                <a:latin typeface="Calibri"/>
                <a:cs typeface="mohammad bold art 1"/>
              </a:rPr>
              <a:t>انحراف بعض الشبا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رسم تخطيطي 3" descr=""/>
          <p:cNvPicPr/>
          <p:nvPr/>
        </p:nvPicPr>
        <p:blipFill>
          <a:blip r:embed="rId1"/>
          <a:stretch/>
        </p:blipFill>
        <p:spPr>
          <a:xfrm>
            <a:off x="1852560" y="1609560"/>
            <a:ext cx="6108840" cy="2524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15968"/>
                </a:solidFill>
                <a:latin typeface="Calibri"/>
                <a:cs typeface="mohammad bold art 1"/>
              </a:rPr>
              <a:t>الانحراف الفكر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ويعني ذلك اعتناق الشباب لأفكار غير سوية تعمل على هدم معالم الدين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مثل العَلمانية, واعتقاد عدم وجوب الحكم بما أنزل الله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مستطيل مستدير الزوايا 3"/>
          <p:cNvSpPr/>
          <p:nvPr/>
        </p:nvSpPr>
        <p:spPr>
          <a:xfrm>
            <a:off x="5214960" y="1643040"/>
            <a:ext cx="3286080" cy="5716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  <a:cs typeface="mohammad bold art 1"/>
              </a:rPr>
              <a:t>ما مفهوم الانحراف الفكري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15968"/>
                </a:solidFill>
                <a:latin typeface="Calibri"/>
                <a:cs typeface="mohammad bold art 1"/>
              </a:rPr>
              <a:t>الانحراف الفكر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عنصر نائب للمحتوى 3" descr=""/>
          <p:cNvPicPr/>
          <p:nvPr/>
        </p:nvPicPr>
        <p:blipFill>
          <a:blip r:embed="rId1"/>
          <a:stretch/>
        </p:blipFill>
        <p:spPr>
          <a:xfrm>
            <a:off x="281160" y="853920"/>
            <a:ext cx="8557920" cy="43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15968"/>
                </a:solidFill>
                <a:latin typeface="Calibri"/>
                <a:cs typeface="mohammad bold art 1"/>
              </a:rPr>
              <a:t>الانحراف الفكر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ضعف التربية الصحيحة من خلال الأسر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ضعف التربية من خلال المؤسسات التربية ( المدرسة – الجامعات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تأثير قنوات الإعلام على مبادئ وقيم الإنسان العربي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تقنية الحديثة وإدمان الانترنت ودخوله إلى العقول والوصول إليها بغي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غاية يؤدي إلى الانحراف الفكري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مستطيل مستدير الزوايا 3"/>
          <p:cNvSpPr/>
          <p:nvPr/>
        </p:nvSpPr>
        <p:spPr>
          <a:xfrm>
            <a:off x="5429160" y="1643040"/>
            <a:ext cx="3000600" cy="78588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Calibri"/>
                <a:cs typeface="mohammad bold art 1"/>
              </a:rPr>
              <a:t>من مظاهر الانحراف الفكري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15968"/>
                </a:solidFill>
                <a:latin typeface="Calibri"/>
                <a:cs typeface="mohammad bold art 1"/>
              </a:rPr>
              <a:t>الانحراف الفكر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 algn="r" rtl="1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إقصاء أبناء الأمة عن ثوابتها وقيمها المعتدلة والوسطية ونشر اليأس والانهزامية والكراهية بين صفوفها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 algn="r" rtl="1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تحويل الولاء إلى المزاعم الضالة والأفكار الشرير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 algn="r" rtl="1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عمل على تفكيك وحدة العرب والمسلمين في مبادئهم وقيمهم ووحدته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 algn="r" rtl="1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تعريض الأمن الفكري والمادي في هذه المجتمعات للخطر من خلال إيجاد عناص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ضالة تحسب على الإسلام والإسلام منهم براء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مستطيل مستدير الزوايا 3"/>
          <p:cNvSpPr/>
          <p:nvPr/>
        </p:nvSpPr>
        <p:spPr>
          <a:xfrm>
            <a:off x="5715000" y="1571760"/>
            <a:ext cx="271476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  <a:cs typeface="mohammad bold art 1"/>
              </a:rPr>
              <a:t>ما مدى خطورة الانحراف الفكري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مستطيل مستدير الزوايا 5"/>
          <p:cNvSpPr/>
          <p:nvPr/>
        </p:nvSpPr>
        <p:spPr>
          <a:xfrm>
            <a:off x="5715000" y="2571840"/>
            <a:ext cx="271476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  <a:cs typeface="mohammad bold art 1"/>
              </a:rPr>
              <a:t>الأفكار والتيارات التي تستهدف الإنسان المسل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15968"/>
                </a:solidFill>
                <a:latin typeface="Calibri"/>
                <a:cs typeface="mohammad bold art 1"/>
              </a:rPr>
              <a:t>الانحراف الفكر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أي قيام الشباب بممارسة سلوكيات تخالف النهج الإسلامي مثل السرقة, والتبرج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تشبه بغير المسلم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معاملات المال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تبرج والاختلا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تقاصر عن الأمر بالمعروف والنهي عن المنك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مستطيل مستدير الزوايا 3"/>
          <p:cNvSpPr/>
          <p:nvPr/>
        </p:nvSpPr>
        <p:spPr>
          <a:xfrm>
            <a:off x="5143680" y="1714680"/>
            <a:ext cx="3286080" cy="5713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  <a:cs typeface="mohammad bold art 1"/>
              </a:rPr>
              <a:t>ما مفهوم الانحراف السلوكي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مستطيل مستدير الزوايا 4"/>
          <p:cNvSpPr/>
          <p:nvPr/>
        </p:nvSpPr>
        <p:spPr>
          <a:xfrm>
            <a:off x="5143680" y="3500280"/>
            <a:ext cx="3286080" cy="5716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  <a:cs typeface="mohammad bold art 1"/>
              </a:rPr>
              <a:t>من مظاهر الانحراف السلوك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8T11:34:19Z</dcterms:created>
  <dc:creator>04-02-11</dc:creator>
  <dc:description/>
  <dc:language>en-US</dc:language>
  <cp:lastModifiedBy>وفاء</cp:lastModifiedBy>
  <dcterms:modified xsi:type="dcterms:W3CDTF">2011-03-19T22:37:59Z</dcterms:modified>
  <cp:revision>92</cp:revision>
  <dc:subject/>
  <dc:title>الشريحة 1</dc:title>
</cp:coreProperties>
</file>