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639-C714-47EC-A860-FADEF8D2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3A9-B705-41D4-9D2E-30614BFA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503-8C2D-4E93-BE95-F46A8529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053-2426-4C5F-B51C-E220957E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652-AE16-474A-BC8E-9EA57AB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C99-0F3B-4C8F-BF86-E367D33F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B16-2374-4BE0-8966-6453FC0F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D35-900E-4969-8775-865898FE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B4F-BC0D-46A0-A9B2-1C1D6BC9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752-011B-40E7-9561-9A2CFB82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205-19AE-4FD5-9A7D-D67F4DE8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A4C-41AC-4A54-AD88-BBDE9FC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AEC2-930B-4566-BCDB-3E325E82069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00320" y="2071800"/>
            <a:ext cx="47718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أهم المشكلات الاجتماعية وسبل الوقاية من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356760"/>
            <a:ext cx="2714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قرر س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سلام وبناء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عنوان فرعي 2"/>
          <p:cNvSpPr/>
          <p:nvPr/>
        </p:nvSpPr>
        <p:spPr>
          <a:xfrm>
            <a:off x="684360" y="5157720"/>
            <a:ext cx="2714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. وفاء بنت محمد العيس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رشوة وأثرها في إفساد العلاقات الاجتماع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ه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ف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كم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رق بين الرشوة واله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ضار الرشو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خطر الفواح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كيف تتلذذ بصلاة الحلقة3 الجزء2.wmv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57150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6789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كوارث قد تكون عقوبات وقد تكون إشارات كونية للتوب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Japan Tsunami Video زلزال تسونامي اليابان.wmv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1527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سبل الوقاية والعلاج من المشكلات الاجت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توثيق صلة شباب الأمة بعلماء النهج الرباني من قرآنٍ وس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تحصين الشباب بالثقافة الإسلام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ذكر قصص رجال ونساء كانوا في موضع القدوة الحس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حث الشباب والفتيات على الزواج المبك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منع الخلوة، والاختلاط, وعدم التهاون مع المتبرج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إنزال العقوبات الشرعية بالمفسدين والمجرمي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3300"/>
                </a:solidFill>
                <a:latin typeface="Calibri"/>
                <a:cs typeface="mohammad bold art 1"/>
              </a:rPr>
              <a:t>الــــــــــزنــــــــــــــــــــــ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سبب في غضب الله وعذاب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سبب في أمراض قاتلة كالإيد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فسد نظام البيت ويقطع العلاقة بين الزوجين ويعرض الأولاد للتشرد ويسبب ضياع النسب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ا يشبع الرغبات الروحية كحاجة الإنسان إلى الحب والتضحية بل يقتصر على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إشباع الرغبات الجنس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سبب في العزوف عن الزواج الشرعي, أو انصراف الرجل عن زوجت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مستطيل مستدير الزوايا 3"/>
          <p:cNvSpPr/>
          <p:nvPr/>
        </p:nvSpPr>
        <p:spPr>
          <a:xfrm>
            <a:off x="5715000" y="207180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ce6f2"/>
                </a:solidFill>
                <a:latin typeface="Calibri"/>
                <a:cs typeface="Traditional Arabic"/>
              </a:rPr>
              <a:t>حـــكـم الز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مستدير الزوايا 4"/>
          <p:cNvSpPr/>
          <p:nvPr/>
        </p:nvSpPr>
        <p:spPr>
          <a:xfrm>
            <a:off x="5715000" y="285768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ce6f2"/>
                </a:solidFill>
                <a:latin typeface="Calibri"/>
                <a:cs typeface="Traditional Arabic"/>
              </a:rPr>
              <a:t>أضراره والحكمة من تحريم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3300"/>
                </a:solidFill>
                <a:latin typeface="Calibri"/>
                <a:cs typeface="mohammad bold art 1"/>
              </a:rPr>
              <a:t>اللوا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قت الله سبحانه وتعالى ولعنت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سبب هذا الفعل انصراف الرجل عن المرأ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سبب لفاعله أمراضا فتاك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لواط لوثة أخلاقية، ومرض نفسي، وفساد للطبا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مستطيل مستدير الزوايا 3"/>
          <p:cNvSpPr/>
          <p:nvPr/>
        </p:nvSpPr>
        <p:spPr>
          <a:xfrm>
            <a:off x="5715000" y="207180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ce6f2"/>
                </a:solidFill>
                <a:latin typeface="Calibri"/>
                <a:cs typeface="Traditional Arabic"/>
              </a:rPr>
              <a:t>حـــكـم اللو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ستطيل مستدير الزوايا 4"/>
          <p:cNvSpPr/>
          <p:nvPr/>
        </p:nvSpPr>
        <p:spPr>
          <a:xfrm>
            <a:off x="5500800" y="307188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الأخطار والأضرار المترتبة على اللو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قذ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* حماية لأعراض الناس من التهم والطعو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* الحفاظ على سمعة الإنسان وكرامت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* منعا لإشاعة الفاحش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* المحافظة على مشاعر أفراد الأس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مستطيل مستدير الزوايا 3"/>
          <p:cNvSpPr/>
          <p:nvPr/>
        </p:nvSpPr>
        <p:spPr>
          <a:xfrm>
            <a:off x="6143760" y="207180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معنى القذ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مستدير الزوايا 4"/>
          <p:cNvSpPr/>
          <p:nvPr/>
        </p:nvSpPr>
        <p:spPr>
          <a:xfrm>
            <a:off x="3635280" y="292428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حكم القذ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مستدير الزوايا 5"/>
          <p:cNvSpPr/>
          <p:nvPr/>
        </p:nvSpPr>
        <p:spPr>
          <a:xfrm>
            <a:off x="6429240" y="3786120"/>
            <a:ext cx="2143440" cy="5716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ea typeface="Traditional Arabic"/>
              </a:rPr>
              <a:t>  حكمة تحريم القذ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اختلا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سد باب الفتنة، ومنع وقوع الفواح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فظ الأعراض، والبقاء على الحياء عند الرجال والنساء على حد سوا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حقيق الطمأنينة، والمحافظة على السلامة العقلية والنفسية والصح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افظة على تماسك الأس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خطار المترتبة على الاختلا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مستدير الزوايا 3"/>
          <p:cNvSpPr/>
          <p:nvPr/>
        </p:nvSpPr>
        <p:spPr>
          <a:xfrm>
            <a:off x="5572080" y="2000160"/>
            <a:ext cx="2143080" cy="5716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حكم الاختل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"/>
          <p:cNvSpPr/>
          <p:nvPr/>
        </p:nvSpPr>
        <p:spPr>
          <a:xfrm>
            <a:off x="6286680" y="285768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حكمة تحريم الاختل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اختلا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فساد الأخلاق، وإماتة الضمائر، وقتل الغيرة لدى النا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ظهور الفواحش، من تبرج وعري، وزن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دمير الأس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ستطيل مستدير الزوايا 4"/>
          <p:cNvSpPr/>
          <p:nvPr/>
        </p:nvSpPr>
        <p:spPr>
          <a:xfrm>
            <a:off x="5857920" y="2357280"/>
            <a:ext cx="2571840" cy="7146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الآثار المترتبة على الاختل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خدرات، والمسكرات، والدخ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مخدرا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عريف اللغوي والاصطلاح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مسك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ف المسك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نواع المسك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خدرات، والمسكرات، والدخ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كم المخدرات والمسك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كمة من تحريم المخدرات والمسك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ضرار المخدرات والمسك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215968"/>
                </a:solidFill>
                <a:latin typeface="Calibri"/>
                <a:cs typeface="Traditional Arabic"/>
              </a:rPr>
              <a:t>أضرار دين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215968"/>
                </a:solidFill>
                <a:latin typeface="Calibri"/>
                <a:cs typeface="Traditional Arabic"/>
              </a:rPr>
              <a:t>أضرار صح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215968"/>
                </a:solidFill>
                <a:latin typeface="Calibri"/>
                <a:cs typeface="Traditional Arabic"/>
              </a:rPr>
              <a:t>أضرار اقتصاد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خدرات، والمسكرات، والدخ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دخان أو التب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ف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دلة على تحريم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كمة تحريم الدخ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21:21Z</dcterms:created>
  <dc:creator>04-02-11</dc:creator>
  <dc:description/>
  <dc:language>en-US</dc:language>
  <cp:lastModifiedBy>وفاء</cp:lastModifiedBy>
  <dcterms:modified xsi:type="dcterms:W3CDTF">2011-03-19T22:13:23Z</dcterms:modified>
  <cp:revision>45</cp:revision>
  <dc:subject/>
  <dc:title>فشو الفواحش الأخلاقية </dc:title>
</cp:coreProperties>
</file>