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9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11.png" ContentType="image/png"/>
  <Override PartName="/ppt/media/image7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D5A-C488-4702-8C01-A93CC108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3BF-E076-4EBB-97A2-FB976797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699-46AE-47E6-91C8-CEB0A157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ED3-7A76-4640-8F97-C1ADDAF9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CCF2-3243-43CC-9C26-0AF65FED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AAEA-6077-4770-B26A-D7400505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563D-71BE-4E0B-9865-714A6BC8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51A1-79F5-4F8A-945A-DD4A52CE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CC2F-C24F-4BF4-B775-215BE73F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E5D1-7BA7-417B-B485-F24016B7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CCEA-EBE2-4217-AC74-A36FCBCC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70B-1798-4BD0-86BC-6E8D7F8C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735F-8C1C-4158-8CF1-5D20C17E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AD48-7726-4250-BF25-7B0596D8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684D-EDFC-455D-8BCE-5165FAB6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A6F6-6A0E-4C78-9DC0-AD41E3CE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3EF9-144E-473B-9259-D09AD037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9C7BD-4A7A-44D8-B459-1A24549A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A760-AE2D-4C47-9A2E-1482C532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54E9-CAA9-4AAC-87EE-F3E2495E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8A656-0CB9-4403-9D9D-9EBB76BC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431F2-1569-4B6B-9280-830BA19F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58F-2EA1-45B9-B4AF-660A3C7F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9FACA-1466-4F54-B037-9AEED450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09E5-FEDC-454E-AF56-7ED8DBEB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671D-9221-489C-A1C0-9B1BC92A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9E02A-3A0F-4CFA-A9FC-EF4BEEF4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B855-F351-4474-9DE0-9A07A88C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2BE35-E19C-486B-8E99-86A49CBC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D36CC-4BF8-4DE6-9B4C-7B6A83DB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C4B5B-D6E0-4269-81E3-175A99A9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6BBA-51FC-448A-AB88-34643467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E8F4F-3E65-4596-ADC7-27A87C57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ABA-FE6D-4A84-A4B8-7C7C8D33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CB7C-301D-4F65-8CAB-11D7C0B0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F8F19-C74F-4697-89CB-DFAC0E44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B8BC1-A641-42B5-A1AE-ADBDAE97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1A5A-5742-4437-A96A-BDEF37E6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12517-BF55-4085-A7DB-EF94904B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A326-9E6E-4F95-932B-C92C2E9C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A16D3-72B1-45F4-8AFF-884DE3AE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9FE20-F88B-422D-8445-A2D14CD0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0D709-2B1C-4E3D-B83F-FF9F44CE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152C6-5354-4C95-96C4-D8C78114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2C8-A0F0-479D-94E8-AD832F60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2BB92-526D-4458-A6AF-3DF9F700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6EB86-EBEB-4C54-8A99-BD1737CA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79DBE-A8F4-4616-A03F-995865FE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FE097-004C-4B1A-A77C-498DB75C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38B97-A64E-4CB6-99C6-297A4D2B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7FF5B-BC2B-4173-ACA6-E3411EEF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BC536-9425-4EC7-A63D-F0EEC718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B526-FFCF-4579-94C2-19A59DD2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745E5-E5D0-49DF-A339-C3F9F959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91188-D132-4743-A744-ED8FD45C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EB1-E796-4854-A52C-A60C5EEA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0EB30-FF05-4437-BACC-D9B3D659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16190-7219-40A2-BCF4-612E614A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496A0-00D7-4AA4-92EF-86D682B6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C49E4-51B9-4AA7-B10E-148D4842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C4510-F2FC-4142-96C6-B617CDAD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7C53D-65EB-467C-A814-8859B596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FDAD4-8595-444E-A1A2-50B7F012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45740-E2C3-4390-B990-4D9D569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64DA5-CBB6-4BC7-89D2-10534C0E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00382-1DDD-4F5F-BBEC-75452054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8CE-D1AA-4B75-9FF5-EEE63799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40D0C-2A05-4BFC-AA41-17FC057B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6768F-67A0-4A4D-8317-EEECD9D8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39171-9723-456A-A013-CDD67347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8E9E3-21C7-4B38-AFC7-A6E70B4B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0EA09-AC2F-4CBC-9B53-F72BB4AF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D295E-C220-4AE1-BF02-5C15580E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A5045-33FA-439A-894F-81AF52F0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77FBD-7892-4D7B-B38D-8B467C03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F9334-1463-498B-8264-A1CAFD83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6DFE7-704A-481A-8820-B0AEAD23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92A-091D-4147-BA4C-D1B75D9C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3356E-46E6-46AC-A5A8-F3889412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47BD5-2626-4DCB-849C-7701B693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93435-E271-48AC-9621-65EF084F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8D757-A144-4172-B74F-B2292D0F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A1142-C543-4FEC-8836-457F6712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7B370-CA0B-44DA-8E52-A7FE23B3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7DA08-25B7-4F50-A6B1-10C9775A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60816-1098-4E76-9C78-7CCF29AF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A6E4E-A814-4477-9477-7BCAA7B7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A6C5E-D2CC-414F-87E4-E972334D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9C5-67F9-44DE-A2B2-FEF847EB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61038-F55C-4E29-B83B-1ACBD4FE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58933-43FE-4ABF-8625-B2D6E2A3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B028A-4094-4721-84B7-078E1B15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C415F-4821-4088-B778-F158519A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CA72B-B19C-44AB-9DFA-1AA62A8E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C7637-285D-411F-868E-FEBA4274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51763-3069-4E06-930A-F2142A1B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4D2A-0D2F-4059-916B-E49619428F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7490-CEF4-41A0-907E-1E93D522CD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DB31-2920-43F6-81B5-44E468CF49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B3C7-5E79-497D-AF83-A3276BD3BA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1606-7EEA-4AB8-A724-488866E8D0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4DE2-10CD-4FAB-B467-41DF9354D6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8E4D-A2EC-4F73-85FD-4DF7F43A46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9A73-CCA2-4C58-AF71-96A819EA51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1066680" y="993600"/>
            <a:ext cx="7815240" cy="2468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hr.gif"/>
          <p:cNvPicPr/>
          <p:nvPr/>
        </p:nvPicPr>
        <p:blipFill>
          <a:blip r:embed="rId2"/>
          <a:stretch/>
        </p:blipFill>
        <p:spPr>
          <a:xfrm>
            <a:off x="0" y="152280"/>
            <a:ext cx="24382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خلال مقارنة الطلب بالعرض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نوعي والكمي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1292650059_140404567_1-Pictures-of--Sahara-HR-Consultants-Contact-us-for-all-kind-of-Jobs-in-Shimoga-404026.jpg"/>
          <p:cNvPicPr/>
          <p:nvPr/>
        </p:nvPicPr>
        <p:blipFill>
          <a:blip r:embed="rId2"/>
          <a:stretch/>
        </p:blipFill>
        <p:spPr>
          <a:xfrm>
            <a:off x="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فائض</a:t>
            </a: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ند ندرة سوق العمل (الحل هو اعادة التدريب والتأهيل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ما وفرة سوق العمل (فالحل هو تبني سياسة الاستغناء)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عج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1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عند ندرة سوق العمل مثل : تنشيط الاستقطاب ، التساهل في معايير الاختيار ،تكثيف التدريب رفع مستوى الأجور والمكافآت 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2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 اما عند وفرة سوق العمل: التعيين باعتبارات متشدد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هو الإلمام الشامل بتفاصيل كل وظيفة عن طريق الدراسة العلمية لكل منها على حدة ، وملاحظة وتسجيل الحقائق التي توضح واجباتها ومسؤولياتها والظروف المحيطة بها والشروط الواجب توافرها في من يشغلها ، على أن تفرغ هذه المعلومات في كشوف تحليل الوظيفة تمهيدا لتوصيف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00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25494.jpg"/>
          <p:cNvPicPr/>
          <p:nvPr/>
        </p:nvPicPr>
        <p:blipFill>
          <a:blip r:embed="rId2"/>
          <a:stretch/>
        </p:blipFill>
        <p:spPr>
          <a:xfrm>
            <a:off x="0" y="0"/>
            <a:ext cx="135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165160"/>
                </a:solidFill>
                <a:latin typeface="Lucida Sans Unicode"/>
                <a:cs typeface="Arial"/>
              </a:rPr>
              <a:t>يعني التسجيل المنظم لأبعاد الوظيفة ومكوناتها الأساسية والعوامل المحيطة بها في بطاقة أو كشف خاص لوصف الوظيفة كمستند لتعريف الوظيفة بحيث يعكس: عوامل التقييم الداخلة في تكوين الوظيفة ، ومهامها و واجباتها و مسؤولياتها والحد الأدنى من مطالب التأهيل اللازمة لشغلها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رقية والنق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46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people_puzzle_md_wm.jpg"/>
          <p:cNvPicPr/>
          <p:nvPr/>
        </p:nvPicPr>
        <p:blipFill>
          <a:blip r:embed="rId2"/>
          <a:stretch/>
        </p:blipFill>
        <p:spPr>
          <a:xfrm>
            <a:off x="-68400" y="3021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قصد بهم النشاط الإداري الذي يتعلق بالبحث عن المهارات المطلوبة للمنشأة ، وحث الأفراد الذين تتوافر لديهم الاشتراطات للتقدم للوظائف الشاغرة تمهيدا لاختيار أفضل المهارات للعمل بالمنشأة المعنية 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الترقية 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نتقال العامل من وظيفة إلى وظيفة أخرى ذات مسؤوليات ومهام أعلى وبالتالي ذات راتب أعلى حاليا أو مستقبل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أسس الترقي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اقدم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أقدم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عني تحرك العامل من وظيفة إلى وظيفة أخرى على المستوى الإداري نفسه وبأجر مشابه ، وبأدنى تغير في الواجبات والمسؤوليات ، مع اختلافات في ظروف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*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التنزيل الوظيفي: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النقل إلى وظيفة أقل مسؤولية وراتب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12120" cy="114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Job-Transfer.jpg"/>
          <p:cNvPicPr/>
          <p:nvPr/>
        </p:nvPicPr>
        <p:blipFill>
          <a:blip r:embed="rId2"/>
          <a:stretch/>
        </p:blipFill>
        <p:spPr>
          <a:xfrm>
            <a:off x="1752480" y="44956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برامج الرسمية التي تستخدمها المنشاة لأجل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ساعدة العاملين على كسب الفاعل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للقيام بأعماله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training.gif"/>
          <p:cNvPicPr/>
          <p:nvPr/>
        </p:nvPicPr>
        <p:blipFill>
          <a:blip r:embed="rId2"/>
          <a:stretch/>
        </p:blipFill>
        <p:spPr>
          <a:xfrm>
            <a:off x="0" y="19051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عبارة عن التقييم الدوري لأداء الفرد لوظيفته ومدى اتجاه قدراته وامكانياته نحو التقد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ويفيد تقييم الأداء في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كتشاف الحاجات التدريب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حكم على فعالية سياسة 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وفير معلومات عن العاملين تساعد في تخطيط القوى العام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ح العلاوات والترقية وتنمية الموظ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866529_feedback_form_excellent.jpg"/>
          <p:cNvPicPr/>
          <p:nvPr/>
        </p:nvPicPr>
        <p:blipFill>
          <a:blip r:embed="rId2"/>
          <a:stretch/>
        </p:blipFill>
        <p:spPr>
          <a:xfrm>
            <a:off x="0" y="2666880"/>
            <a:ext cx="144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فهوم وأهداف إدارة الأفراد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Arial"/>
              </a:rPr>
              <a:t>وظائف إدارة الأفراد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3352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وظيفة الأفرا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أنشطة المختلفة التي تمارسها الوحدة التنظيمية المسؤولة عن تدبير القوى العاملة اللازمة للمنظمة ، كما ونوعا وتوقيتا والمحافظة عليها وتعويضها وتنميتها وتحفيز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إدارة الأفراد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2b4a76"/>
                </a:solidFill>
                <a:latin typeface="Lucida Sans Unicode"/>
                <a:cs typeface="Arial"/>
              </a:rPr>
              <a:t>هي الكيفية التي يتعامل بها كل مدير مع مرؤوسيه ليصل بهم إلى تحقيق الأهداف المراد تحقيقها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5e2d37"/>
                </a:solidFill>
                <a:latin typeface="Lucida Sans Unicode"/>
                <a:ea typeface="Arial"/>
              </a:rPr>
              <a:t>*إذن ........ هي وظيفة كل مدير بينما ....... هي أحد وظائف المنظم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ea typeface="Arial"/>
              </a:rPr>
              <a:t>*أهداف إدارة الأفراد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خطيط الموارد البش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ليل وتصميم الوظائ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ستقطاب والاختيار والتعيي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دريب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ييم الأدا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عويضات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صحة والسلام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00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goals.jpg"/>
          <p:cNvPicPr/>
          <p:nvPr/>
        </p:nvPicPr>
        <p:blipFill>
          <a:blip r:embed="rId2"/>
          <a:stretch/>
        </p:blipFill>
        <p:spPr>
          <a:xfrm>
            <a:off x="0" y="1676520"/>
            <a:ext cx="4267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تخطيط الموارد البش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هي تقدير احتياجات المنشأة من الأفراد كما ونوعا خلال المدة القادمة مع تحديد الوظائف التي يشغلونها ، والمؤهلات المطلوب توافرها فيمن يشغل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00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untitledhrr.bmp"/>
          <p:cNvPicPr/>
          <p:nvPr/>
        </p:nvPicPr>
        <p:blipFill>
          <a:blip r:embed="rId2"/>
          <a:stretch/>
        </p:blipFill>
        <p:spPr>
          <a:xfrm>
            <a:off x="304920" y="4267080"/>
            <a:ext cx="6858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دراسة أهداف التنظي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دير الطلب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نبؤ العر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الفائض أو 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ستراتيجيات مواجهة الفائض و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536400" y="249120"/>
            <a:ext cx="8229600" cy="1201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child-development-baby-milk.jpg"/>
          <p:cNvPicPr/>
          <p:nvPr/>
        </p:nvPicPr>
        <p:blipFill>
          <a:blip r:embed="rId2"/>
          <a:stretch/>
        </p:blipFill>
        <p:spPr>
          <a:xfrm>
            <a:off x="152280" y="1371600"/>
            <a:ext cx="3353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ontent Placeholder 3" descr="HRJigsaw.gif"/>
          <p:cNvPicPr/>
          <p:nvPr/>
        </p:nvPicPr>
        <p:blipFill>
          <a:blip r:embed="rId1"/>
          <a:stretch/>
        </p:blipFill>
        <p:spPr>
          <a:xfrm>
            <a:off x="1542960" y="2104920"/>
            <a:ext cx="6058080" cy="3381480"/>
          </a:xfrm>
          <a:prstGeom prst="rect">
            <a:avLst/>
          </a:prstGeom>
          <a:ln w="0">
            <a:noFill/>
          </a:ln>
        </p:spPr>
      </p:pic>
      <p:pic>
        <p:nvPicPr>
          <p:cNvPr id="386" name="Titl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8520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نوعية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 عدد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أجل اختيار الفرد المناسب وتعيين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project_management3.jpg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بيئة الخارجية المؤثرة على العم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الح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في فئات العمر المختلف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سياسة الترقي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ظاهر الغياب ودوران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485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0:45:50Z</dcterms:created>
  <dc:creator>Dell</dc:creator>
  <dc:description/>
  <dc:language>en-US</dc:language>
  <cp:lastModifiedBy>General</cp:lastModifiedBy>
  <dcterms:modified xsi:type="dcterms:W3CDTF">2012-04-01T17:07:22Z</dcterms:modified>
  <cp:revision>68</cp:revision>
  <dc:subject/>
  <dc:title>الموارد البشرية</dc:title>
</cp:coreProperties>
</file>