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07C-7070-407E-A3B4-CDE60C8B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E96-8E3C-40AD-B3B1-6C656EDF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B0D-0C22-4A80-9F7E-1A1AD586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BC9-56B7-48E0-BACF-04BF1ECF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E0EF-F7D0-4807-AD4E-60D9A52B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E86-29B0-4628-BF87-5D7D896D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5C54-A2AC-4A83-8738-0673780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AD4E-9DFB-4930-8233-1565323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00D6-B537-453C-8B53-1DC928E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459-ACC4-40B4-BB1F-16C5C11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4C1-8933-480B-A60F-CFC57B2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404-A624-47E6-A596-2E4F02F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4F87-AAF3-4742-9454-67F11EB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6787-3F7B-476A-8921-F9B629F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3F0E-70D2-44C1-9F80-B1D74E1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011-8AD9-4C5F-8368-5DADE994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5A8B-CA36-46CA-8465-47529E61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9AE5-C069-4A2F-8145-19802E9D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9235-97D6-400F-BABB-714759E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70C4-E825-4674-91B4-4C5EBD39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5560-0F76-4AA5-89C2-C8C28E3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EC12-966E-4B29-858A-65ED9353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35F-FABA-49A3-B8B7-F8319A9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0CA0-504C-4515-B4E6-410D3440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1E2A-06B0-4BC4-8A07-3F9D24B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B147-A0CA-42CF-9F34-4DA85B3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0F84-DADA-4DEF-B37B-B68D0C44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1E61-9BCE-4916-8B9A-DF4612D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623F-3FF8-4C7B-A8A5-CED02A7F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6ECF-2662-4DAA-BD3A-EFE83AA0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176E-CCEF-4B50-9776-7DD06593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2250-3D3F-4965-91F9-5A14C2E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0BE8-380E-4922-8EE7-2B3DA3D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DCD-131E-4D12-BC09-7A8F918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4C1C-0189-475C-8F6F-3EA7905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ABBF-90A7-4761-87B5-C43CBA4D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495B-5DAF-4EFD-83AF-56BD857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2FF6-EE69-4CF1-B45D-ACEBD64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258C-8D9B-4236-90AD-93B3BBF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D004-01FE-47D8-95C8-34E74A24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2EAD-3537-4AFC-8AF1-3780448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9D61-0D91-441A-88C7-9E1DFCC0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255B-437D-4241-9C12-78A921DF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BC0A-4822-4B38-A5A9-6093C680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840-05B8-485F-8CD0-F150DEC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37489-5562-4B9C-A180-D5A543E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D900-67A4-40E9-80F8-B156301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B1D1-493B-4B44-B177-62C4072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81B3-0ABD-408F-87E1-A38A61C8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6DD4-3FE7-4D0A-A82A-C6DAFB6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7978-4E37-4E1D-9D21-68C6E72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16AE-FBFA-4511-879B-8F27BBF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54C9-412D-4F9F-BFB4-72E048C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0E39-791F-40B5-BD6F-ABBC2FE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7F254-3904-41FC-91FE-B7062E2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C1E-1B3D-4910-A7E4-88E071C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2836-C6B9-464E-BF60-4AC37BDC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23F34-4601-4971-9211-9547A2C3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2BE6-E376-440F-B5CC-02D9442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BBCC-87EF-4E95-9EAA-AED57973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1BF8-7A51-41AE-A84D-D028BA5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40BE-9C7B-4E6B-AFB5-4A4F0C2F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C493-74BE-4C2C-9DFA-D69CDE9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53B9-1240-4DFA-A86A-5C27127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405D6-F64C-4A78-B15D-A3D97CE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0BD2-2BB1-4FCA-AD6E-CFD9B2E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0C6-1683-493A-9431-C2BCC12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F48D-FDB6-4303-ABE9-54C55C8B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CB5E-966A-4492-8A44-FDB4F21C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699E-2C29-4DDD-AA56-2C5C6B3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3829-93AD-4041-9405-291634E9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CC85-86A1-4B49-8EF3-ACD2E2E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3F0A-20BE-4E09-A775-45DFA86F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5245-AA34-4A77-AC49-2AC59B1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567E-D789-4419-ACD6-6FD26AF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EBDD-53A8-4F9F-8B1A-25B22D1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45B0C-8864-4496-A2FB-26D7525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747-768F-41AA-A858-E2A24DD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7CE8-A899-4129-AFDE-3FE95EE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9E80-3359-43C9-B33B-338CE828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E8E2-57A4-4A89-B11C-C8BD5B92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4900A-9EF6-44EA-98C3-C9658713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58B2-1010-476B-ADBF-6AF61444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C43A-D3FA-42B3-AE8B-E518F7FD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551C-A970-4A9E-AB4C-D581368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036F-357A-4B3A-8436-54CBEF9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F68B-6C99-46C5-9191-0356722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A02B-C80A-4FA1-8B8E-FE4E8AD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1F3-4729-4243-8A4B-E7C7DC2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3B023-75AE-40AE-A932-8435C8C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38D0-2881-4833-8BD6-A642FE8E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0089-9E6B-4B4B-95A8-9BD9BF9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9139-B3B6-4250-8B7F-EF278F30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6090-8BD1-44A0-B61C-0056FF9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2874-5AE3-4831-81B9-1FDA28AD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36874-18AB-4EED-8233-1E10BFC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9E9-1904-4B83-AC75-262FAC7E1B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5B79-7647-4EDD-BDA6-3C9F14988B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96C-BA0E-482C-A13C-3571C6845F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0B9-BFD0-4E56-B80F-91773C6743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5421-273D-4126-A25C-9F67CB5E45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F390-0001-410C-9460-6206AC943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5CB-B0F8-4F92-A937-FA55AFB426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FEF8-E0FC-4A4C-9066-97F0E8D0D9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993600"/>
            <a:ext cx="7815240" cy="246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General</cp:lastModifiedBy>
  <dcterms:modified xsi:type="dcterms:W3CDTF">2012-04-01T17:07:22Z</dcterms:modified>
  <cp:revision>68</cp:revision>
  <dc:subject/>
  <dc:title>الموارد البشرية</dc:title>
</cp:coreProperties>
</file>