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CFD-CB8E-4B16-9E5C-EBC18893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E9E5-7DEC-47E3-B03A-F23C1087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7EF-3972-4C4B-8DC7-9A04B25B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0A1-86B1-4B09-88EF-22DA877C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2D9A-FC85-455B-AF2B-71AFDFF0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2E9F-99C5-4947-87F7-EC51BBC0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E79C-9F1E-4FAD-B71F-E18384FE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C8F6-FB33-4E87-8848-4FB80929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2554-4220-43F1-B0DC-EACA4DD2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DE3E-D0C4-48A4-94A0-3DE2DDBD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EEBC-2D46-475B-97D2-7D5C8DFA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39C-5750-440E-951E-6F668AD7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2784-E38C-4AF9-AA45-7B3BECA2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3D9B-8100-4377-8AD3-1A93C487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F212-40C3-4598-A0AD-DAD58880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A36A-6330-4E55-84CE-E2CB49D5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A7D0-626D-4624-A4B9-0CA2C921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A95-C81D-4A84-BA50-B54D1941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0FE3-F54B-4B28-92F0-74CF545E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8B81-46B8-4A5C-91F4-3D335B37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CA8F-CB10-4FDB-939C-6BCF678C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6105-FE72-4522-A8CA-32A8F1F8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B7D-1408-4D43-ABD0-08381E0D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CB5-C7B4-483D-87DA-69ED0483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2DB6-CC84-4490-86BB-BD46FC2B379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72FB-8855-4347-8C81-2638BAE368A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384280" y="206280"/>
            <a:ext cx="431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ff00"/>
                </a:solidFill>
                <a:uFillTx/>
                <a:latin typeface="Verdana"/>
              </a:rPr>
              <a:t>الانسجه النباتيه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45120" y="1352520"/>
            <a:ext cx="686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نسيج بسيط ( مجموعة خلايا متشابهه شكلا ووظيفة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نسيج معقد ( مجموعة خلايا مختلفه شكلا وتركيبا 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95720" y="2781360"/>
            <a:ext cx="42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Verdana"/>
              </a:rPr>
              <a:t>تنقسم الانسجه النباتيه الى :ـ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24000" y="3706920"/>
            <a:ext cx="86896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ff00"/>
                </a:solidFill>
                <a:uFillTx/>
                <a:latin typeface="Verdana"/>
              </a:rPr>
              <a:t>انسجه مرستيميه: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cc"/>
                </a:solidFill>
                <a:latin typeface="Verdana"/>
              </a:rPr>
              <a:t>المرستيم مجموعه من الخلايا القابله للانقسام ومشتقاتها البالغه تضاف الى الانسجه المستديمه المكونه لجسم النبات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cc"/>
                </a:solidFill>
                <a:latin typeface="Verdana"/>
              </a:rPr>
              <a:t>ويحتوي المرستيم على خلايا منشئه لا تغير موقعها ولا تتحول الى خلايا بالغه،بحيث تعطي في الانقسام الاول خلايا تضاف الى النسيج المرستيمي ( المشتقات ) ومن ثم الى النسيج المستديم وتبقى الخليه الاخرى مرستيميه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32000" y="7920"/>
            <a:ext cx="7508880" cy="75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Verdana"/>
              </a:rPr>
              <a:t>للخلايا المرستيميه صفات اهمها: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صغيره</a:t>
            </a:r>
            <a:r>
              <a:rPr b="1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متساوية الاقطارفي المرستيم القمي ومستطيله في الانسجه المرستيميه الجانبيه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نواتها كبيره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جدارها سليلوزي رقي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فجوات صغيره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قابله للانقسام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احدى مشتقات الخلايا المرستيميه تضاف للنسيج المستديم بعد تميزها بحيث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يتغير شكل الخلايا وحجمها 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تغير في تركيب الجدار 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ظهور الفجوات الكبيره 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قد يختفي البوتوبلازم في الخلايا الميته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تراكم المواد الغذائيه والنواتج الايضيه 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6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فقد القابليه للانقسام.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phot0028" descr=""/>
          <p:cNvPicPr/>
          <p:nvPr/>
        </p:nvPicPr>
        <p:blipFill>
          <a:blip r:embed="rId1"/>
          <a:stretch/>
        </p:blipFill>
        <p:spPr>
          <a:xfrm>
            <a:off x="0" y="907920"/>
            <a:ext cx="3600360" cy="2237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708360" y="1989000"/>
            <a:ext cx="3095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201600"/>
            <a:ext cx="80852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Verdana"/>
              </a:rPr>
              <a:t>انواع المرستيمات :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eaeaea"/>
                </a:solidFill>
                <a:uFillTx/>
                <a:latin typeface="Verdana"/>
              </a:rPr>
              <a:t>الرأي الاول: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r>
              <a:rPr b="1" lang="ar-SA" sz="2000" spc="-1" strike="noStrike" u="sng">
                <a:solidFill>
                  <a:srgbClr val="eaeaea"/>
                </a:solidFill>
                <a:uFillTx/>
                <a:latin typeface="Verdana"/>
              </a:rPr>
              <a:t>تنقسم المرستيمات حسب الموقع الى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 مرستيم طرفي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 مرستيم بيني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0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(قواعد السلاميات للنجيليات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، قواعد الاوراق 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 مرستيم جانبي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.( كامبيوم وعائي ، كامبيوم فليني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eaeaea"/>
                </a:solidFill>
                <a:uFillTx/>
                <a:latin typeface="Verdana"/>
              </a:rPr>
              <a:t>الرأي الثاني: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eaeaea"/>
                </a:solidFill>
                <a:uFillTx/>
                <a:latin typeface="Verdana"/>
              </a:rPr>
              <a:t>تنقسم المرستيمات حسب المنشأ الى :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1" lang="ar-SA" sz="1800" spc="-1" strike="noStrike">
                <a:solidFill>
                  <a:srgbClr val="ffff00"/>
                </a:solidFill>
                <a:latin typeface="Verdana"/>
              </a:rPr>
              <a:t>- مرستيم ابتدائي 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ar-SA" sz="1800" spc="-1" strike="noStrike">
                <a:solidFill>
                  <a:srgbClr val="ffff00"/>
                </a:solidFill>
                <a:latin typeface="Verdana"/>
              </a:rPr>
              <a:t>- مرستيم ثانوي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263760" cy="576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708360" y="2781360"/>
            <a:ext cx="1841400" cy="259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227640" y="2781360"/>
            <a:ext cx="20210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11280" y="220680"/>
            <a:ext cx="7724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00"/>
                </a:solidFill>
                <a:uFillTx/>
                <a:latin typeface="Verdana"/>
              </a:rPr>
              <a:t>قمة المجموع الخضري:ـ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نظرية الخليه القميه: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4356000" cy="4321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62280" y="551664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Verdana"/>
              </a:rPr>
              <a:t>طحلب الدكتيوتا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41403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057640" y="474840"/>
            <a:ext cx="40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نظرية المناطق الخلويه: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681440" cy="4248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26000" y="55897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جنس الجنكو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219640" y="2421000"/>
            <a:ext cx="37195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18320" y="272880"/>
            <a:ext cx="38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نظرية الغطاء والجسد: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8360" y="566100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eaeaea"/>
                </a:solidFill>
                <a:latin typeface="Verdana"/>
              </a:rPr>
              <a:t>في الفول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456000" cy="388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453528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3430440" cy="4105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24360" y="981000"/>
            <a:ext cx="5091120" cy="4549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85120" y="554976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eaeaea"/>
                </a:solidFill>
                <a:latin typeface="Verdana"/>
              </a:rPr>
              <a:t>زهرة الغمد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4:30:12Z</dcterms:created>
  <dc:creator>HELP</dc:creator>
  <dc:description/>
  <dc:language>en-US</dc:language>
  <cp:lastModifiedBy>HELP</cp:lastModifiedBy>
  <dcterms:modified xsi:type="dcterms:W3CDTF">2008-03-10T16:45:18Z</dcterms:modified>
  <cp:revision>28</cp:revision>
  <dc:subject/>
  <dc:title>الشريحة 1</dc:title>
</cp:coreProperties>
</file>