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D076-1888-4C2F-856C-AD58B311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FA65-F57E-4F3D-8B6C-63DD9E86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D6F4-FA54-4DD1-B545-2EF213DD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E01C-48BA-47D5-A53B-2DACC8C6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4627-6FC6-42AD-86AA-93EE7023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58AE-32FF-4FE5-B5C9-967A78E5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E346-AE4C-404E-B9E3-A8E9AE1F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E44B-3F53-42B5-97AD-955AFDD9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7764-51E4-407F-9D12-09858A2B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F39C-DD6C-4B6A-B991-EB0B4830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0B89-018C-4826-8502-4AA0D930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E349-7693-481D-B970-57A7B4D2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6F46-7DE8-4694-8743-A33CAF78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58B8-AAD1-4DFA-B264-B4DCAC67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F41A-4145-4B7A-8158-8F047560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9137-F3E9-4BA6-939E-A7FD8918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8F22-62BE-4566-940C-8B9C38AE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2351-C519-4EF5-A94B-CC3B57F6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8EAA-0083-4EE0-870F-F363723B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0DF3-8886-4191-BB48-0C5D2969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DCDD-2036-4E7D-930A-37BD7271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7EBF-36D4-4383-8F07-F52D4365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ED7B-316B-4EB4-82DD-3172D3E6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F918-0E2E-433A-B351-9A426140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8143-58A8-48CB-AC03-CBA17C115D1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0613-6611-4BED-BE24-4BC27033581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384280" y="206280"/>
            <a:ext cx="431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fff00"/>
                </a:solidFill>
                <a:uFillTx/>
                <a:latin typeface="Verdana"/>
              </a:rPr>
              <a:t>الانسجه النباتيه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45120" y="1352520"/>
            <a:ext cx="686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- نسيج بسيط ( مجموعة خلايا متشابهه شكلا ووظيفة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- نسيج معقد ( مجموعة خلايا مختلفه شكلا وتركيبا 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95720" y="2781360"/>
            <a:ext cx="42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Verdana"/>
              </a:rPr>
              <a:t>تنقسم الانسجه النباتيه الى :ـ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24000" y="3706920"/>
            <a:ext cx="86896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ff00"/>
                </a:solidFill>
                <a:uFillTx/>
                <a:latin typeface="Verdana"/>
              </a:rPr>
              <a:t>انسجه مرستيميه: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cc"/>
                </a:solidFill>
                <a:latin typeface="Verdana"/>
              </a:rPr>
              <a:t>المرستيم مجموعه من الخلايا القابله للانقسام ومشتقاتها البالغه تضاف الى الانسجه المستديمه المكونه لجسم النبات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cc"/>
                </a:solidFill>
                <a:latin typeface="Verdana"/>
              </a:rPr>
              <a:t>ويحتوي المرستيم على خلايا منشئه لا تغير موقعها ولا تتحول الى خلايا بالغه،بحيث تعطي في الانقسام الاول خلايا تضاف الى النسيج المرستيمي ( المشتقات ) ومن ثم الى النسيج المستديم وتبقى الخليه الاخرى مرستيميه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32000" y="7920"/>
            <a:ext cx="7508880" cy="75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Verdana"/>
              </a:rPr>
              <a:t>للخلايا المرستيميه صفات اهمها: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صغيره</a:t>
            </a:r>
            <a:r>
              <a:rPr b="1" lang="ar-SA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متساوية الاقطارفي المرستيم القمي ومستطيله في الانسجه المرستيميه الجانبيه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نواتها كبيره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جدارها سليلوزي رقيق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فجوات صغيره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5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قابله للانقسام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احدى مشتقات الخلايا المرستيميه تضاف للنسيج المستديم بعد تميزها بحيث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يتغير شكل الخلايا وحجمها 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تغير في تركيب الجدار 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ظهور الفجوات الكبيره 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قد يختفي البوتوبلازم في الخلايا الميته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5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تراكم المواد الغذائيه والنواتج الايضيه 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6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فقد القابليه للانقسام.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phot0028" descr=""/>
          <p:cNvPicPr/>
          <p:nvPr/>
        </p:nvPicPr>
        <p:blipFill>
          <a:blip r:embed="rId1"/>
          <a:stretch/>
        </p:blipFill>
        <p:spPr>
          <a:xfrm>
            <a:off x="0" y="907920"/>
            <a:ext cx="3600360" cy="2237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708360" y="1989000"/>
            <a:ext cx="3095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0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5280" y="201600"/>
            <a:ext cx="80852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Verdana"/>
              </a:rPr>
              <a:t>انواع المرستيمات :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eaeaea"/>
                </a:solidFill>
                <a:uFillTx/>
                <a:latin typeface="Verdana"/>
              </a:rPr>
              <a:t>الرأي الاول: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r>
              <a:rPr b="1" lang="ar-SA" sz="2000" spc="-1" strike="noStrike" u="sng">
                <a:solidFill>
                  <a:srgbClr val="eaeaea"/>
                </a:solidFill>
                <a:uFillTx/>
                <a:latin typeface="Verdana"/>
              </a:rPr>
              <a:t>تنقسم المرستيمات حسب الموقع الى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- مرستيم طرفي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- مرستيم بيني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0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 (قواعد السلاميات للنجيليات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، قواعد الاوراق 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3</a:t>
            </a: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- مرستيم جانبي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 .( كامبيوم وعائي ، كامبيوم فليني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eaeaea"/>
                </a:solidFill>
                <a:uFillTx/>
                <a:latin typeface="Verdana"/>
              </a:rPr>
              <a:t>الرأي الثاني: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eaeaea"/>
                </a:solidFill>
                <a:uFillTx/>
                <a:latin typeface="Verdana"/>
              </a:rPr>
              <a:t>تنقسم المرستيمات حسب المنشأ الى :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1" lang="ar-SA" sz="1800" spc="-1" strike="noStrike">
                <a:solidFill>
                  <a:srgbClr val="ffff00"/>
                </a:solidFill>
                <a:latin typeface="Verdana"/>
              </a:rPr>
              <a:t>- مرستيم ابتدائي 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ar-SA" sz="1800" spc="-1" strike="noStrike">
                <a:solidFill>
                  <a:srgbClr val="ffff00"/>
                </a:solidFill>
                <a:latin typeface="Verdana"/>
              </a:rPr>
              <a:t>- مرستيم ثانوي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263760" cy="5761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708360" y="2781360"/>
            <a:ext cx="1841400" cy="259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227640" y="2781360"/>
            <a:ext cx="20210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00" fill="hold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11280" y="220680"/>
            <a:ext cx="7724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ff00"/>
                </a:solidFill>
                <a:uFillTx/>
                <a:latin typeface="Verdana"/>
              </a:rPr>
              <a:t>قمة المجموع الخضري:ـ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 نظرية الخليه القميه: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4356000" cy="4321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62280" y="5516640"/>
            <a:ext cx="18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Verdana"/>
              </a:rPr>
              <a:t>طحلب الدكتيوتا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414036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057640" y="474840"/>
            <a:ext cx="40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نظرية المناطق الخلويه: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4681440" cy="4248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26000" y="55897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جنس الجنكو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219640" y="2421000"/>
            <a:ext cx="37195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18320" y="272880"/>
            <a:ext cx="38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 نظرية الغطاء والجسد: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88360" y="5661000"/>
            <a:ext cx="19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eaeaea"/>
                </a:solidFill>
                <a:latin typeface="Verdana"/>
              </a:rPr>
              <a:t>في الفول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64000" y="1341360"/>
            <a:ext cx="3456000" cy="388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453528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3430440" cy="4105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924360" y="981000"/>
            <a:ext cx="5091120" cy="4549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85120" y="554976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eaeaea"/>
                </a:solidFill>
                <a:latin typeface="Verdana"/>
              </a:rPr>
              <a:t>زهرة الغمد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77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770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7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4:30:12Z</dcterms:created>
  <dc:creator>HELP</dc:creator>
  <dc:description/>
  <dc:language>en-US</dc:language>
  <cp:lastModifiedBy>HELP</cp:lastModifiedBy>
  <dcterms:modified xsi:type="dcterms:W3CDTF">2008-03-10T16:45:18Z</dcterms:modified>
  <cp:revision>28</cp:revision>
  <dc:subject/>
  <dc:title>الشريحة 1</dc:title>
</cp:coreProperties>
</file>