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874B-9E8F-41FF-8058-3123BD323F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DAFB-A45B-4B20-8ABA-A96D3D932A40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347-C0D8-481C-BA4A-D32BC514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82A-C896-420E-B5DA-1D64F36D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6A6-9E3E-4A19-ADD1-9CFC8043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100-9FD5-4179-80E4-A153BE83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95C8-F509-4816-ACD2-F6D4912B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11CF-2AA9-45A2-A395-EC31CD72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04C2-4648-479B-B4D0-BF9A6027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4788-7A09-4770-8928-F35109B3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DD71-D9CD-4475-ADB9-9FA5CBC9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1A2E-7218-4EA8-89DF-20D8C068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43FD-A878-43A6-9863-C08787C2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822-7A55-47BC-80E6-C56C8947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A179-33E9-4B45-9CB1-E2C19E25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9848-1E26-4626-A5B3-BCEE2FA8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72CB-4FBB-4F4D-8CB2-6401AAB4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8847-E235-4BC0-BBB8-A2CDF316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CF64-96DD-421A-A139-F45FBCAC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8D63-FB31-47E9-AF18-87B0FF02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2C21-9B20-4BA3-BC06-6A3F2120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3921-531E-4562-9E44-345279FC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7F499-B6C6-4B7B-B7AC-076E5A3E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FFBA-092C-4E73-8763-9EEBD29A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D52-3C80-4004-990F-1C5C3AA7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8D0B-CC4B-434D-84DA-C71E6503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721E-030C-4F78-88B2-36823FD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9BB4-72CA-4BC5-BE29-DB02FC6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E961A-84D6-4A32-8CA2-973DBD14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EB78-6B5E-4C43-B580-49C18EDF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976C-CDA0-435C-AAE7-DC47CF4F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CDCFE-A00B-410C-BC21-CA7F75C1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F580-B28A-487D-BF1C-78DA1CC2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60E12-0B43-46B1-9005-525C1E1A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FA1C-FBC9-417D-A526-A5C0D5DC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41D-1221-45F1-A85F-8D160DAD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EED86-49C3-466C-A8E2-A65C8A8C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AE4E-4AFA-4BA4-B16B-9DCAEE7F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74E7-FB6B-4D14-88F7-9C07B298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0BA5-6551-4003-A184-060C6254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610AC-15BA-43D7-AD53-0F27BAF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5C93-CB3E-4E81-B069-78923981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E2C45-9698-4766-82D9-9C3D2D06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3C5D-56FD-46AB-9410-A2BB81C2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57B6-E224-4BBB-B8D9-25D1A6D7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A040B-0F95-4179-907C-92BA86E6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396-0DAF-4762-8C3F-1D433F54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1B848-283D-4307-BEB7-7D750151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17197-CC88-46A1-BC98-C04BD056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C6AA4-ADA4-4E93-BA9C-1C070244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1A62B-9958-4D9E-84FE-EE4061BF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4F7B-3071-40CE-9BF9-9097D991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BD992-6448-4091-89A1-4B73161F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F7435-74DC-42A9-9926-981B3DDE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7D326-D761-49C9-A889-E0D10579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6A8E-056D-4031-9D66-9FB93CCA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7EDC0-479C-4430-B675-F33B3F1D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7F1-F813-4A84-86C0-15432C6A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EE1D5-19B8-495A-8480-367237CE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57A-E194-4F86-B7D8-674E3948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E1C-3AA0-49F7-BF1A-B4D7C28E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C2D-8E20-43B0-BC1C-F13A60CE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FB82-484B-4080-87C0-80ACB576E34A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20B4-771B-4E10-804B-782E0DB4CB46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E2D5-EB5F-421B-BADB-E97F50E1D290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AA19-A914-42CE-A614-A808CEE044AE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B063-0D6C-4A8D-8259-8585AB6A0D01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:\Users\General\AppData\Local\Microsoft\Windows\Temporary Internet Files\Content.IE5\7JNVQ0DU\MP900438597[1].jpg"/>
          <p:cNvPicPr/>
          <p:nvPr/>
        </p:nvPicPr>
        <p:blipFill>
          <a:blip r:embed="rId1"/>
          <a:stretch/>
        </p:blipFill>
        <p:spPr>
          <a:xfrm>
            <a:off x="1368360" y="3789360"/>
            <a:ext cx="640728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ا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 rot="21100800">
            <a:off x="760320" y="1843200"/>
            <a:ext cx="24494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428760" y="428760"/>
            <a:ext cx="8215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لات والمعدا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3" descr="C:\Program Files\Microsoft Office\MEDIA\CAGCAT10\j0199549.wmf"/>
          <p:cNvPicPr/>
          <p:nvPr/>
        </p:nvPicPr>
        <p:blipFill>
          <a:blip r:embed="rId1"/>
          <a:stretch/>
        </p:blipFill>
        <p:spPr>
          <a:xfrm rot="21021600">
            <a:off x="475920" y="4582800"/>
            <a:ext cx="1895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3" descr="C:\Users\General\AppData\Local\Microsoft\Windows\Temporary Internet Files\Content.IE5\9KOXUAMG\MP900438675[1].jpg"/>
          <p:cNvPicPr/>
          <p:nvPr/>
        </p:nvPicPr>
        <p:blipFill>
          <a:blip r:embed="rId1"/>
          <a:stretch/>
        </p:blipFill>
        <p:spPr>
          <a:xfrm>
            <a:off x="-17640" y="4292640"/>
            <a:ext cx="3076920" cy="2468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Users\General\AppData\Local\Microsoft\Windows\Temporary Internet Files\Content.IE5\9KOXUAMG\MP900438695[1].jpg"/>
          <p:cNvPicPr/>
          <p:nvPr/>
        </p:nvPicPr>
        <p:blipFill>
          <a:blip r:embed="rId2"/>
          <a:stretch/>
        </p:blipFill>
        <p:spPr>
          <a:xfrm>
            <a:off x="7920" y="2060640"/>
            <a:ext cx="3051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136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1</a:t>
            </a: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. ما هي المشكلة الرئيسية التي تشملها الحالة؟ وما هي المشكلات الفرعية التي تسببت فيها ؟</a:t>
            </a:r>
            <a:br>
              <a:rPr sz="2500"/>
            </a:br>
            <a:br>
              <a:rPr sz="2500"/>
            </a:br>
            <a:r>
              <a:rPr b="0" lang="ar-SA" sz="2200" spc="-1" strike="noStrike">
                <a:solidFill>
                  <a:srgbClr val="0e2c3e"/>
                </a:solidFill>
                <a:latin typeface="Verdana"/>
              </a:rPr>
              <a:t>2</a:t>
            </a:r>
            <a:r>
              <a:rPr b="0" lang="ar-SA" sz="2200" spc="-1" strike="noStrike">
                <a:solidFill>
                  <a:srgbClr val="0e2c3e"/>
                </a:solidFill>
                <a:latin typeface="Verdana"/>
              </a:rPr>
              <a:t>. </a:t>
            </a: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بفرض أن المسئولية تؤول لقسم الإنتاج، فما هي الأسباب المباشرة المؤدية للإنتاج المعيب خاصة وأن الجهات العليا قد وفرت الآلات الأحدث في المواعيد المناسبة لخطة الإنتاج من عام </a:t>
            </a: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1424</a:t>
            </a: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 هـ ؟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0e2c3e"/>
                </a:solidFill>
                <a:latin typeface="Verdana"/>
              </a:rPr>
              <a:t>3</a:t>
            </a:r>
            <a:r>
              <a:rPr b="1" lang="ar-SA" sz="2500" spc="-1" strike="noStrike">
                <a:solidFill>
                  <a:srgbClr val="0e2c3e"/>
                </a:solidFill>
                <a:latin typeface="Verdana"/>
              </a:rPr>
              <a:t>. </a:t>
            </a: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ماذا تقترح من حلول لمعالجة المشكلة وضمان عدم تكرارها في المستقبل؟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30280"/>
            <a:ext cx="8183520" cy="45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35000"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حالة دراسي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مصنع السجا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General</cp:lastModifiedBy>
  <dcterms:modified xsi:type="dcterms:W3CDTF">2012-11-18T21:58:49Z</dcterms:modified>
  <cp:revision>33</cp:revision>
  <dc:subject/>
  <dc:title>التسويق..</dc:title>
</cp:coreProperties>
</file>