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82A-14BF-4805-B58D-1B435C3101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661-A435-4B78-BEF3-444650CDBBC9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476-6761-4EEC-9BCF-819EE202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A12-4D01-40C1-BC6A-5E0C4010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5B5-5863-4431-8E86-C20995C1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88A-72A7-4711-9BD4-3A431DDD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48D-FD2F-438A-AAD2-395A5023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67FA-37E8-47AD-B9D6-D4B685C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25E-3F81-428A-9CF7-EC56643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A96B-27EF-4324-8CE6-5E8C6AA2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4C5A-1C94-48F7-9B13-6D0D13D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B78-12DE-468D-B744-31AD5AE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C8BC-E207-46D2-8844-9CFAA7A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43A-AFA4-4C93-9885-B257F8CE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6A9-13AB-4232-A395-48E520E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98EE-5BA2-458A-AA96-83753AE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F687-764C-4C05-94CB-7F54C00E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EB95-8E8E-4748-BB46-CA0370C5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D643-B778-4FE0-A15F-210D58E3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1498-E5AE-4175-96E5-D346FF23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C395-EC1A-4E53-BA7C-ADA10BD5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580B-FADB-4B72-9610-C4E509CA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500A-EAFF-4F35-A191-49F9241A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EDBF-93C3-4BDC-9C76-741F3D2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947-037C-40E4-BB38-CA46A45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8E5F-CCD8-4AD3-BA45-34EE9557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2895-F19E-4251-80D8-A978C1F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7D7B-3308-46A6-B40D-C43F76D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152D-8739-4BDA-9F56-848E9EE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97D6-D0A0-47D4-9E1D-7973D25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331F-90A8-4273-8BA2-7F31270D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1B68-4715-4B5B-A338-DFC6D91E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F93C-7376-4074-B080-EF0DA068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53FA-C7FE-4811-95BC-FCF45E3B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2517-F023-48C1-8CEB-B7215D44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D3B-DD86-4978-82C2-93441A65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B21F1-A5E1-4A21-A53F-0B8B265B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7F041-5620-4E09-9D05-B2D23C9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9AFF-0EB9-4F2A-B5C3-A7971E7D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5F18-E2A4-4C20-AFB2-AD9A45D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AD18-C723-4570-A5FE-702B1CD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2923-D742-4A3B-A4FF-61BED42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06AA-A5E8-4815-A28B-949A659D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38C6-032F-42B6-A424-FF59DA8D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80A5-38B7-4BCD-B7DD-023E6E4C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F16FB-7E5A-4DB5-B116-FA0EB0DF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157-9F81-4707-90D2-4A4ECE7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10A8-8A26-4D33-BB36-C6C0B7EF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9DDB-44F1-418A-AD34-9212C0A3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0D86-6EF6-4B25-BB66-0A76075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A313-97F1-465A-9F04-CF57B42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71ED-0515-47BD-90AB-2999714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6C47-ABD3-4667-AF6C-7AC1121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5DC51-E9A9-46C8-86D1-0522C4D6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9A8E-A4E8-4A21-B653-AA49449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7E552-702F-49D7-B692-1AF05FAC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E8F8-A789-4B1B-A9E4-AC1C79A2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582-E559-485D-95F8-5546CE6C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B1B6-7F49-45CC-BE0A-007A7C8F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D2D-B009-4D83-A8ED-E39C5B1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7E6-3AC2-408B-AE19-48AE1303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8AC-4308-4179-A4F9-9E388343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C14F-A2A8-45A9-8506-3795FF18504B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E28E-095A-4DB6-AF3C-A3CC27DCFCE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C41-65D9-4DE3-AF09-3394503633A9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3A96-F232-47BA-B5C3-53FE8AD9EF0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D33-6AAC-4D14-8A5E-E9F66C7F45A6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1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. ما هي المشكلة الرئيسية التي تشملها الحالة؟ وما هي المشكلات الفرعية التي تسببت فيها ؟</a:t>
            </a:r>
            <a:br>
              <a:rPr sz="2500"/>
            </a:br>
            <a:br>
              <a:rPr sz="2500"/>
            </a:br>
            <a:r>
              <a:rPr b="0" lang="ar-SA" sz="2200" spc="-1" strike="noStrike">
                <a:solidFill>
                  <a:srgbClr val="0e2c3e"/>
                </a:solidFill>
                <a:latin typeface="Verdana"/>
              </a:rPr>
              <a:t>2</a:t>
            </a:r>
            <a:r>
              <a:rPr b="0" lang="ar-SA" sz="2200" spc="-1" strike="noStrike">
                <a:solidFill>
                  <a:srgbClr val="0e2c3e"/>
                </a:solidFill>
                <a:latin typeface="Verdana"/>
              </a:rPr>
              <a:t>. 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بفرض أن المسئولية تؤول لقسم الإنتاج، فما هي الأسباب المباشرة المؤدية للإنتاج المعيب خاصة وأن الجهات العليا قد وفرت الآلات الأحدث في المواعيد المناسبة لخطة الإنتاج من عام 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1424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 هـ ؟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0e2c3e"/>
                </a:solidFill>
                <a:latin typeface="Verdana"/>
              </a:rPr>
              <a:t>3</a:t>
            </a:r>
            <a:r>
              <a:rPr b="1" lang="ar-SA" sz="2500" spc="-1" strike="noStrike">
                <a:solidFill>
                  <a:srgbClr val="0e2c3e"/>
                </a:solidFill>
                <a:latin typeface="Verdana"/>
              </a:rPr>
              <a:t>. </a:t>
            </a:r>
            <a:r>
              <a:rPr b="0" lang="ar-SA" sz="2500" spc="-1" strike="noStrike">
                <a:solidFill>
                  <a:srgbClr val="0e2c3e"/>
                </a:solidFill>
                <a:latin typeface="Verdana"/>
              </a:rPr>
              <a:t>ماذا تقترح من حلول لمعالجة المشكلة وضمان عدم تكرارها في المستقبل؟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30280"/>
            <a:ext cx="8183520" cy="45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35000"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حالة درا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مصنع السجا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General</cp:lastModifiedBy>
  <dcterms:modified xsi:type="dcterms:W3CDTF">2012-11-18T21:58:49Z</dcterms:modified>
  <cp:revision>33</cp:revision>
  <dc:subject/>
  <dc:title>التسويق..</dc:title>
</cp:coreProperties>
</file>