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521-B669-4D7D-9A00-D5F50AA5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8C5-2D8C-409B-8AF2-6352DD69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AE3-E173-4A08-92B0-2073D655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BDE-2F36-460F-B3DF-01E31E57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B406-1632-422A-B37D-2398A28B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B9D3-FCD7-4CA6-AC05-0CC533F2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36F1-85DD-436A-9428-D1F6A670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C677-D3B3-4C95-AC57-1C922324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D198-BC6E-4CC4-9974-49973133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83F3-622C-4CF6-A613-7421E45D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5437-9A52-4DF0-98D1-8F90EA38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46C-D8FA-4D29-8FF5-50BDDDB5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44AF-04E1-4791-9A0C-5CFB9563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A0A8-8556-4EA3-A4CE-85049F1D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A497-094E-4A24-AA57-5D6164A8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C65C-A2A9-47C4-BDDA-5F208240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CC3C-E2AF-4DC8-87DE-32AB563F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564-E4A4-4DAD-B3C4-676263E5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F04-A19B-431B-9675-A054DBD4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425-57AE-4B72-AC20-8E27C5FA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1C0-B25C-45FA-8558-B1BA49FF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1DB-B767-48C9-92AE-EF5461CF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0F4-98C1-4B20-B778-7AED8CF9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884-CE69-416D-8ECB-E6225898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D025-1114-482E-9B16-BE30BF5C1EE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702A-DD40-4087-AF4F-B60A9E323A7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Pharmacodynamics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i="1" lang="en-US" sz="4000" spc="-1" strike="noStrike" u="sng">
                <a:solidFill>
                  <a:srgbClr val="dbbd71"/>
                </a:solidFill>
                <a:uFillTx/>
                <a:latin typeface="Arial"/>
              </a:rPr>
              <a:t>Pharmacological actions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ible block of conduction in nerv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 relaxation of smooth muscle &amp; inhibition  of neuro-muscular transmission in skeletal muscle producing vasodilat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ahoma"/>
              </a:rPr>
              <a:t>Intra-arterial procaine reverse arteriospasm during I.V. Sed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 I antidysrhythmic-like action on the he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mulation and/or depression of the C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Fate &amp; Metabolism: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abolism of Ester drug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tabolized in plasma by peudocholinesterase enzyme, and some in the liv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eople, who lack the enzyme, are at risk of an overdose by the ester type local anaesthe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ara-aminobenzoic acid (PABA) is the major metabolite of ester with no anaesthetic effec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ahoma"/>
              </a:rPr>
              <a:t>It is the agent responsible for ester allergi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ahoma"/>
              </a:rPr>
              <a:t>Rapid metabolism procaine half-life is 2 minut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mide-type drug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ignocaine (Lidocaine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thesized in 1943 and used in dentistry since 1948 and is also known as Xyloca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highly lipophilic (partition coefficient 3) , rapidly absorb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zed only in the liver and its metabolites are less toxic with no ac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half-life (</a:t>
            </a: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0.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of 90 minu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mide-type</a:t>
            </a:r>
            <a:r>
              <a:rPr b="0" i="1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drug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     </a:t>
            </a:r>
            <a:r>
              <a:rPr b="1" i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Lignocaine (cont)</a:t>
            </a:r>
            <a:r>
              <a:rPr b="1" i="1" lang="en-US" sz="4000" spc="-1" strike="noStrike" u="sng">
                <a:solidFill>
                  <a:srgbClr val="dbbd71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sag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4 mg/kg – 300 mg m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d as 2% plain or with 1:80 000 epineph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and 10% spray, 2% gel and 5% ointmen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nset &amp; duration of a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pid onset 2 – 3 minu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in- short duration (10 minut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th epinephrine- intermediate duration (45 – 60 minut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Amide-type drug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ilocai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very potent local anaesthetic and is less toxic than Lignoca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produces less vasodilatation than lignoca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e of clearance is higher than other amide-types, suggesting extra-hepatic metabolism with relatively low blood concent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’s metabolite o-toluidine lead to methaemo-globinaemia </a:t>
            </a:r>
            <a:r>
              <a:rPr b="0" i="1" lang="en-US" sz="2400" spc="-1" strike="noStrike">
                <a:solidFill>
                  <a:srgbClr val="00cc00"/>
                </a:solidFill>
                <a:latin typeface="Tahoma"/>
              </a:rPr>
              <a:t>(more than 600 mg in adult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mide-type drug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cc00"/>
                </a:solidFill>
                <a:latin typeface="Arial"/>
              </a:rPr>
              <a:t>Prilocaine: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either plain 4% or 3% combined with 0.03IU/mL of Felypressin as vasoconstric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set &amp; Dur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ower onset – 4 minu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’s duration of action is similar to Lignoca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sag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0 mg/kg – max. 400 m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ined with Lignocaine as a topical anaesthetic agent to be used prior to vene-section and during dental sedation in childr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Amide-type drug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epivacai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sess the least vasodilating eff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zed in the liver and h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.5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120 minu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’s main indication is when local anaesthetic without vasoconstrictor is needed. 3% plain is more effective than lignoca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set &amp; dur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pid onset but slightly shorter du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Amide-type drug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upivaca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ong-acting local anaesthetic agent, with a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ahoma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160 minutes due grater binding capacity to plasma protein and tissue prote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bolized in the liv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mainly in Oral surgical procedures for its long-lasting pain contro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er onset and longer duratio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Regional 6 – 8 ho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sag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3 mg/kg – Max 90 m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.25 – 0.75% with or without adrenaline 1:200 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Amide-type drug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tidoca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long-acting agent similar to Bupivacaine but with faster ons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zed in the liv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sag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 mg/kg – Max 400 m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5% with 1:200 000 epinephr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Tahoma"/>
              </a:rPr>
              <a:t>Lignocaine is the most common used agent both topically and by injection as 2% with or without adrenaline, with a maximum dose of 4.4 mg/k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Fate &amp; Metabolism: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mide Dru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tabolized in the liver, except Prilocaine which undergo some biotransformation in the kidney and lu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me of the metabolites possess local anaesthetic and sedative propert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ahoma"/>
              </a:rPr>
              <a:t>Normal local anaesthetic dose in patient with impaired liver function will result in relative overdosag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ahoma"/>
              </a:rPr>
              <a:t>Old age patient shows reduction in liver func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Reduce 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harmacodynamics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     </a:t>
            </a: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Mechanism of Action:</a:t>
            </a: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1" i="1" lang="en-GB" sz="2000" spc="-1" strike="noStrike">
                <a:solidFill>
                  <a:srgbClr val="00cc00"/>
                </a:solidFill>
                <a:latin typeface="Arial"/>
              </a:rPr>
              <a:t>(cont.)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te of action is the nerve cell membr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or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he membrane expansion the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he specific binding the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harmacodynamics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Mechanism of Action:</a:t>
            </a:r>
            <a:r>
              <a:rPr b="1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cc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embrane expansion theor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non-specific mechanism similar to the action of general anaesthetic ag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s upon the lipophilic moiety of local anaesthetic ag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lecules of the agent are incorporated into the lipid cell membra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The resultant swelling produces physical obstruction  of the sodium channels, preventing nerve depolariz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harmacodynamics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Mechanism of Action: </a:t>
            </a:r>
            <a:r>
              <a:rPr b="1" i="1" lang="en-GB" sz="2000" spc="-1" strike="noStrike">
                <a:solidFill>
                  <a:srgbClr val="00cc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pecific receptor theor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cal anaesthetic drug binds to specific receptor within the sodium channel producing physical obstruction to entry of sodium 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ct of binding produces a conformational changes within the chann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bind to a closed gate and maintain it in the closed posi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00"/>
                </a:solidFill>
                <a:latin typeface="Tahoma"/>
              </a:rPr>
              <a:t>It is, then, essential that the nerve fires, and the gate assumes the closed position. (Use-dependant phenomen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Fate &amp; Metabolism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bsorp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factors influence entry of local anaesthetic into the circul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sodilating ability of the dru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olume and concent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scularity of the tissu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route of administ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presence of vasoconstrict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Ester-type drug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caine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and most potent local anaesthetic agent, rarely used because of the problems of mis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unique in it is ability to produce intense vasoconstriction. Half life 30 minu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sag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as topical 4 – 10%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imum dose is 1.5 mg/kg – 100mg ma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intranasally during apical surger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Ester-type drug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cain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nly indication for its use in dentistry is in patients with proven allergy to the amide grou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intra-arterially, as part of the recognized regimen, to treat the arteriospasm which might occur during intravenous sed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has an excellent vasodilatory proper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Ester-type drug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1" i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Procaine (cont)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set &amp; duration of Ac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s a very shot duration (5 minutes) and a long onset time of 10 minu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sag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aximum dose is 6 mg/kg, 400 mg ma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d as 2% with 1:80 000 epinephrine to increase efficac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s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pidly by plasma estera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Ester-type drug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enzoca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mainly as topical, due to its poor water solubility, and because of its low toxicity, it is used in concentration up to 20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lyzed rapidly by plasma esterase to     p-aminobenzoic acid accounting for its low toxic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07:31:50Z</dcterms:created>
  <dc:creator>Dr H.El Abdin</dc:creator>
  <dc:description/>
  <dc:language>en-US</dc:language>
  <cp:lastModifiedBy>Abdin</cp:lastModifiedBy>
  <dcterms:modified xsi:type="dcterms:W3CDTF">2002-10-25T07:46:48Z</dcterms:modified>
  <cp:revision>61</cp:revision>
  <dc:subject/>
  <dc:title>Local Anaesthesia</dc:title>
</cp:coreProperties>
</file>