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046-4882-4A1C-A435-AC748B3C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268-F7ED-4CF9-82AB-E5BF7A3F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A81-DAA5-4DAB-ABB5-58FF6D75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45A-CC6D-4E5F-AEA7-86CC39D3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D8F2-046F-4529-98A4-012F81C9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B4E3-BEE6-4FD4-A673-9540E312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CA10-23DC-4C57-A02B-0A49E7E8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522F-5D1E-4F37-8E68-42F1B2F1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821A-D736-4F2F-9FAD-25A48963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C1C0-3D2A-424E-81A0-CD560E34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6ED1-635F-4747-875E-ADD81F5C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77A-1AFA-41B5-A20F-A363EBAF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5708-0A58-4A29-95CD-83EEFAB8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172A-47D4-4165-BC9F-23673D0D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7A8A-AFE8-4CC7-B828-B4EDCD97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FD29-CE40-40D1-9239-DA4625DE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5627-DD4E-4850-BF3D-A7C1AA9A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426-1A70-4DF7-AE49-8F3790CE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633-1E06-43BA-824C-C67A3EE0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BAE-2CCA-4BE7-B395-3B474B62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DCA-9C2A-4611-9829-826A276F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48B-823E-42BC-8332-751849EB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518-4A9C-41BA-9084-66937AC3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6E6-EC22-4CD7-BAF8-007EFB15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DCB5-F01D-4AA1-83BE-A7DA809B926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8DD4-93A5-4DBA-9F53-9DA441434D2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Pharmacodynamics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i="1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Pharmacological actions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ible block of conduction in nerv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 relaxation of smooth muscle &amp; inhibition  of neuro-muscular transmission in skeletal muscle producing vasodilat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Intra-arterial procaine reverse arteriospasm during I.V. Sed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 I antidysrhythmic-like action on the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ion and/or depression of the C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Fate &amp; Metabolism: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bolism of Ester drug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tabolized in plasma by peudocholinesterase enzyme, and some in the liv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ople, who lack the enzyme, are at risk of an overdose by the ester type local anaesthe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ra-aminobenzoic acid (PABA) is the major metabolite of ester with no anaesthetic effec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It is the agent responsible for ester allergi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Rapid metabolism procaine half-life is 2 minut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mide-type drug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ignocaine (Lidocaine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hesized in 1943 and used in dentistry since 1948 and is also known as Xyloca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highly lipophilic (partition coefficient 3) , rapidly absorb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zed only in the liver and its metabolites are less toxic with no a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half-life (</a:t>
            </a: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0.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of 90 minu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mide-type</a:t>
            </a:r>
            <a:r>
              <a:rPr b="0" i="1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rug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    </a:t>
            </a:r>
            <a:r>
              <a:rPr b="1" i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Lignocaine (cont)</a:t>
            </a:r>
            <a:r>
              <a:rPr b="1" i="1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s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4 mg/kg – 300 mg m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as 2% plain or with 1:80 000 epineph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and 10% spray, 2% gel and 5% ointme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nset &amp; duration of a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pid onset 2 – 3 minu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in- short duration (10 minut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th epinephrine- intermediate duration (45 – 60 minut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Amide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iloca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very potent local anaesthetic and is less toxic than Lignoca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produces less vasodilatation than lignoca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e of clearance is higher than other amide-types, suggesting extra-hepatic metabolism with relatively low blood concent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’s metabolite o-toluidine lead to methaemo-globinaemia </a:t>
            </a:r>
            <a:r>
              <a:rPr b="0" i="1" lang="en-US" sz="2400" spc="-1" strike="noStrike">
                <a:solidFill>
                  <a:srgbClr val="00cc00"/>
                </a:solidFill>
                <a:latin typeface="Tahoma"/>
              </a:rPr>
              <a:t>(more than 600 mg in adult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mide-type drug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Prilocaine: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either plain 4% or 3% combined with 0.03IU/mL of Felypressin as vasoconstric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set &amp; Dur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ower onset – 4 minu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’s duration of action is similar to Lignoca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sag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0 mg/kg – max. 400 m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ed with Lignocaine as a topical anaesthetic agent to be used prior to vene-section and during dental sedation in childr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Amide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pivaca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sess the least vasodilating eff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zed in the liver and h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.5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120 minu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’s main indication is when local anaesthetic without vasoconstrictor is needed. 3% plain is more effective than lignoca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set &amp; dur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pid onset but slightly shorter du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Amide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upivaca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ong-acting local anaesthetic agent, with a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ahoma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160 minutes due grater binding capacity to plasma protein and tissue prote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bolized in the liv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mainly in Oral surgical procedures for its long-lasting pain contr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er onset and longer durat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egional 6 – 8 ho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sag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3 mg/kg – Max 90 m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.25 – 0.75% with or without adrenaline 1:200 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Amide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tidoca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long-acting agent similar to Bupivacaine but with faster ons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zed in the liv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sa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 mg/kg – Max 400 m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5% with 1:200 000 epinephr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Lignocaine is the most common used agent both topically and by injection as 2% with or without adrenaline, with a maximum dose of 4.4 mg/k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Fate &amp; Metabolism: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mide Dru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tabolized in the liver, except Prilocaine which undergo some biotransformation in the kidney and lu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me of the metabolites possess local anaesthetic and sedative propert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Normal local anaesthetic dose in patient with impaired liver function will result in relative overdosag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Old age patient shows reduction in liver func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Reduce 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harmacodynamics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    </a:t>
            </a: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Mechanism of Action:</a:t>
            </a: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1" i="1" lang="en-GB" sz="2000" spc="-1" strike="noStrike">
                <a:solidFill>
                  <a:srgbClr val="00cc00"/>
                </a:solidFill>
                <a:latin typeface="Arial"/>
              </a:rPr>
              <a:t>(cont.)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te of action is the nerve cell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or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he membrane expansion the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he specific binding the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harmacodynamics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Mechanism of Action:</a:t>
            </a: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cc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mbrane expansion theo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non-specific mechanism similar to the action of general anaesthetic ag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s upon the lipophilic moiety of local anaesthetic ag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lecules of the agent are incorporated into the lipid cell membra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The resultant swelling produces physical obstruction  of the sodium channels, preventing nerve depolariz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harmacodynamics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Mechanism of Action: </a:t>
            </a:r>
            <a:r>
              <a:rPr b="1" i="1" lang="en-GB" sz="2000" spc="-1" strike="noStrike">
                <a:solidFill>
                  <a:srgbClr val="00cc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pecific receptor theor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cal anaesthetic drug binds to specific receptor within the sodium channel producing physical obstruction to entry of sodium 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ct of binding produces a conformational changes within the chann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bind to a closed gate and maintain it in the closed posi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It is, then, essential that the nerve fires, and the gate assumes the closed position. (Use-dependant phenomen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Fate &amp; Metabolism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bsorp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factors influence entry of local anaesthetic into the circul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sodilating ability of the dru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olume and concent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scularity of the tissu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route of administ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presence of vasoconstrict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Ester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caine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and most potent local anaesthetic agent, rarely used because of the problems of mis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unique in it is ability to produce intense vasoconstriction. Half life 30 minu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sa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as topical 4 – 10%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um dose is 1.5 mg/kg – 100mg ma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intranasally during apical surger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Ester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cai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nly indication for its use in dentistry is in patients with proven allergy to the amide grou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intra-arterially, as part of the recognized regimen, to treat the arteriospasm which might occur during intravenous sed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has an excellent vasodilatory proper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Ester-type drug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1" i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Procaine (cont)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set &amp; duration of Ac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s a very shot duration (5 minutes) and a long onset time of 10 minu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sag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ximum dose is 6 mg/kg, 400 mg ma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as 2% with 1:80 000 epinephrine to increase efficac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s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pidly by plasma estera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Ester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nzoca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mainly as topical, due to its poor water solubility, and because of its low toxicity, it is used in concentration up to 2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lyzed rapidly by plasma esterase to     p-aminobenzoic acid accounting for its low toxic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07:31:50Z</dcterms:created>
  <dc:creator>Dr H.El Abdin</dc:creator>
  <dc:description/>
  <dc:language>en-US</dc:language>
  <cp:lastModifiedBy>Abdin</cp:lastModifiedBy>
  <dcterms:modified xsi:type="dcterms:W3CDTF">2002-10-25T07:46:48Z</dcterms:modified>
  <cp:revision>61</cp:revision>
  <dc:subject/>
  <dc:title>Local Anaesthesia</dc:title>
</cp:coreProperties>
</file>