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502-8C4D-4A61-BDC4-907112FA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854-DC8D-40C4-8EB0-73BB8023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AE1-51B3-4A3E-AB10-1A7CA7E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FE2-53A5-4B0B-AD4F-15E5E77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45F-3E3A-4E8C-9315-CB04A921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9FD6-012F-4BCA-A3E4-92B4A0A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E28-A503-4E38-AC08-1037EC0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43D-B237-478E-A488-9E14B4BA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77CA-5929-4275-BB84-2754C2F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21F7-E766-4C26-8E88-286F7AF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EE0-D92E-4676-94E5-D78C751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41F-28BA-46B2-A282-DEF9837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F26-5B7D-44A0-94B6-80FC735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CAC-BA20-4D6E-ACD9-D73DBAF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646-43D8-4840-A9F6-21CD70EB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1606-5614-4941-A1F4-2C93FFF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E80-BF35-484A-A778-DECF98B1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9F6-E5E8-496E-85F7-941137E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E32-22C4-4853-859A-2BFB21D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0EE-8099-4B01-A2D1-2FF7D9C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112-0B89-4019-A363-774BDA3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AAA-7A72-400B-ABA6-8BD45F6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171-BB7E-41CB-A8EE-52EBCDD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0B5-05A8-4CAC-B105-B8BC000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EFCA-B74A-49B0-B194-836B6C64612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FDC-2D79-4962-81BB-E8B4879A54B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ly added to reduce systemic uptake in an attempt to limit tox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ng the du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profound anaesth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operative blee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athomimetic naturally occur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tic polypeptides, Felypress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nephr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(Adrenal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in dentist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anaesthetic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ngival retraction co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ER as life-saving drug in anaphyl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 with adrenergic receptors in th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 &amp;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ing vasoconstriction in skin &amp; 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imulation causing vasodilatation in skeletal musc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Metabolis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ppears very rapidly in the systemic circulation !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ogenously administered epinephrine is metabolized extraneuronal and 1% is excreted in the urine unchang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:80,000 is the commonest dose used,     12.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µg/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ystemic effe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eing a naturally occurring hormone, it exert a number of physiological responses on the different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hear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s direct and indirect 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rect action on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s increases the rate and force of contraction raising cardiac outp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direct action, increase pulse and cardiac output, lead to rise in systolic blood pressure, (not with dental dos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lood vesse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in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renoreceptors in the vessels of the skin, mucous membrane and skeletal mus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eceptors causes vasoconstriction since they are susceptible to endogenous nor-epinephrine and exogenous epinephrine. Reduce operative bl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ceptors are only susceptible to circulating epinephr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und in the skeletal muscles, and very uncommon in the skin and mucous membrane.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timulation result in vasodilatation, lowering peripheral resistance and a fall in the diastolic blood pressure. (with dental d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emostas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vasoconstricting effec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renaline promote platelets aggregation in the early stag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brinolytic activity compromise clot stabili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ung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imulation of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s  in the lung lead to bronchial muscle relaxation, life-saving in bronchial (spasm) constriction during anaphylactic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und heal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duced local tissue oxygen ten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pinephrine-induced fibrinolys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Felypress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an analogue of the naturally occurring Vasopress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nd to vasopressin V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 in the vascular smooth muscle producing vaso-constriction and reduce local blood f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ss potent than the catecholamines &amp;poorer control of bleeding during operative procedu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ts on the venous side rather than the arterial si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0.03 IU/ml (0.54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µg/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7:31:50Z</dcterms:created>
  <dc:creator>Dr H.El Abdin</dc:creator>
  <dc:description/>
  <dc:language>en-US</dc:language>
  <cp:lastModifiedBy>Abdin</cp:lastModifiedBy>
  <dcterms:modified xsi:type="dcterms:W3CDTF">2002-10-25T07:43:20Z</dcterms:modified>
  <cp:revision>63</cp:revision>
  <dc:subject/>
  <dc:title>Local Anaesthesia</dc:title>
</cp:coreProperties>
</file>