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EA0-F687-42DF-849E-D564152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EAE-C75B-45CE-A8E0-A2648997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AE0-637C-4876-B4A0-8D0ACD5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713-1969-482E-9A3F-2FB1E83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776-EB32-490E-806C-AAFEA7A0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D204-8691-473A-AF56-39DCFAE1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7EE-3063-4370-873F-37D8B70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E25-BB95-47E1-8828-124CCB7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DB7-16EA-42C2-9F4F-A7D5C99C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61D7-A7A0-4225-9A72-F513137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492C-75BC-46F2-BA1B-C829E70A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605-D858-480F-B940-24B154DC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B6C5-E1A9-4130-B764-E82AC8B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E0B6-7699-410C-97BA-472FBF87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10D-61EB-4F23-9034-C03ABC4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1E70-10AD-47E0-9609-743580F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2BD-145F-4940-84AC-4FD3BD42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399-4AFD-4CF3-BD21-927D9E8E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7E7-1818-40D1-986F-88D8267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60F-ADE2-422A-AB2F-A360984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C6E-8A0B-47C2-BE4B-4F30D7D5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F57-83B4-4013-9FB3-74C563E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5CA-CF9C-49B6-8AED-0736958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68F-E333-49B9-B4D8-5F2C2E7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89B-0987-4712-B0CB-103532A1EBE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22CF-423B-4148-A053-B8FE6BACD62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ly added to reduce systemic uptake in an attempt to limit tox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ng the du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profound anaesth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operative blee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athomimetic naturally occur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tic polypeptides, Felypress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nephr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(Adrenal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in dentist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anaesthetic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ngival retraction co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ER as life-saving drug in anaphyl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 with adrenergic receptors in th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 &amp;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ing vasoconstriction in skin &amp; 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imulation causing vasodilatation in skeletal musc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Metabolis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ppears very rapidly in the systemic circulation !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ogenously administered epinephrine is metabolized extraneuronal and 1% is excreted in the urine unchang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Dos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:80,000 is the commonest dose used,     12.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µg/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ystemic effe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eing a naturally occurring hormone, it exert a number of physiological responses on the different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hear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as direct and indirect 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irect action on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s increases the rate and force of contraction raising cardiac outp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direct action, increase pulse and cardiac output, lead to rise in systolic blood pressure, (not with dental dos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lood vesse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in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renoreceptors in the vessels of the skin, mucous membrane and skeletal mus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eceptors causes vasoconstriction since they are susceptible to endogenous nor-epinephrine and exogenous epinephrine. Reduce operative bl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ceptors are only susceptible to circulating epinephr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und in the skeletal muscles, and very uncommon in the skin and mucous membrane.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timulation result in vasodilatation, lowering peripheral resistance and a fall in the diastolic blood pressure. (with dental d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dbbd71"/>
                </a:solidFill>
                <a:uFillTx/>
                <a:latin typeface="Arial"/>
              </a:rPr>
              <a:t>Epinephrine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emostas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vasoconstricting effec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renaline promote platelets aggregation in the early stag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brinolytic activity compromise clot stabili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ung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imulation of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s  in the lung lead to bronchial muscle relaxation, life-saving in bronchial (spasm) constriction during anaphylactic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und heal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duced local tissue oxygen ten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pinephrine-induced fibrinolys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Vasoconstricto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ahoma"/>
              </a:rPr>
              <a:t>Felypress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is an analogue of the naturally occurring Vasopress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nd to vasopressin V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receptor in the vascular smooth muscle producing vaso-constriction and reduce local blood fl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ss potent than the catecholamines &amp;poorer control of bleeding during operative procedu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ts on the venous side rather than the arterial si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0.03 IU/ml (0.54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µg/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07:31:50Z</dcterms:created>
  <dc:creator>Dr H.El Abdin</dc:creator>
  <dc:description/>
  <dc:language>en-US</dc:language>
  <cp:lastModifiedBy>Abdin</cp:lastModifiedBy>
  <dcterms:modified xsi:type="dcterms:W3CDTF">2002-10-25T07:43:20Z</dcterms:modified>
  <cp:revision>63</cp:revision>
  <dc:subject/>
  <dc:title>Local Anaesthesia</dc:title>
</cp:coreProperties>
</file>