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1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7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1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5748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01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539280" cy="6173640"/>
            <a:chOff x="0" y="0"/>
            <a:chExt cx="953928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899400" cy="6173640"/>
            </a:xfrm>
            <a:custGeom>
              <a:avLst/>
              <a:gdLst/>
              <a:ahLst/>
              <a:rect l="l" t="t" r="r" b="b"/>
              <a:pathLst>
                <a:path w="4346" h="3889">
                  <a:moveTo>
                    <a:pt x="4345" y="3418"/>
                  </a:moveTo>
                  <a:lnTo>
                    <a:pt x="514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819" y="3888"/>
                  </a:lnTo>
                  <a:lnTo>
                    <a:pt x="4345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36840" y="0"/>
              <a:ext cx="6060960" cy="5116680"/>
            </a:xfrm>
            <a:custGeom>
              <a:avLst/>
              <a:gdLst/>
              <a:ahLst/>
              <a:rect l="l" t="t" r="r" b="b"/>
              <a:pathLst>
                <a:path w="3818" h="3223">
                  <a:moveTo>
                    <a:pt x="416" y="0"/>
                  </a:moveTo>
                  <a:lnTo>
                    <a:pt x="3817" y="3036"/>
                  </a:lnTo>
                  <a:lnTo>
                    <a:pt x="3609" y="3222"/>
                  </a:lnTo>
                  <a:lnTo>
                    <a:pt x="0" y="0"/>
                  </a:lnTo>
                  <a:lnTo>
                    <a:pt x="416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5280" y="0"/>
              <a:ext cx="5106960" cy="4057560"/>
            </a:xfrm>
            <a:custGeom>
              <a:avLst/>
              <a:gdLst/>
              <a:ahLst/>
              <a:rect l="l" t="t" r="r" b="b"/>
              <a:pathLst>
                <a:path w="3217" h="2556">
                  <a:moveTo>
                    <a:pt x="709" y="0"/>
                  </a:moveTo>
                  <a:lnTo>
                    <a:pt x="3216" y="2238"/>
                  </a:lnTo>
                  <a:lnTo>
                    <a:pt x="2861" y="2555"/>
                  </a:lnTo>
                  <a:lnTo>
                    <a:pt x="0" y="0"/>
                  </a:lnTo>
                  <a:lnTo>
                    <a:pt x="709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56160" y="0"/>
              <a:ext cx="4083120" cy="3367080"/>
            </a:xfrm>
            <a:custGeom>
              <a:avLst/>
              <a:gdLst/>
              <a:ahLst/>
              <a:rect l="l" t="t" r="r" b="b"/>
              <a:pathLst>
                <a:path w="2572" h="2121">
                  <a:moveTo>
                    <a:pt x="0" y="0"/>
                  </a:moveTo>
                  <a:lnTo>
                    <a:pt x="2375" y="2120"/>
                  </a:lnTo>
                  <a:lnTo>
                    <a:pt x="2571" y="1945"/>
                  </a:lnTo>
                  <a:lnTo>
                    <a:pt x="392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ocal Complications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esthesia Admin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50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in on Inj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eful 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p nee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al anesth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 inj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m temperature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urning on Inj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 of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med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sistent Anesthesia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r Par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uma to nerv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lytic agents (alcohol, phen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neural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at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sistent Anesthesia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r Par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eful injection 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voidable at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sistent Anesthesia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r Paresth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 counseling and reass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priate refer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ismu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otor disturbance of the trigeminal nerv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ipitating or resulting in spasm of the muscles of mast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ismu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uma to muscles or blood vess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minated anesthetic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anesthetic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ismu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p nee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care and handling of cartrid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ptic technique and clean injection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raumatic inse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injections and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rismu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ve ROM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ge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le relax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matom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ffusion of blood into extravascular 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ocal Compl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brea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 on injection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ing on injection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esthesia or paresthe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p che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matoma 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e with needle pla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inj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't probe with nee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y 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nee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etration dep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matom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AN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orbital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al Nerve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cal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A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89360" y="0"/>
            <a:ext cx="45068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922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 conta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per handling of armamenta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 at injection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per handling of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osable nee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care of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ptic 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 sign is trism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smus persists (1-3 day resolution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iotics, if suspic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dem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uma during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ritating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dem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ress 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 according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loughing of Tiss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al anesthe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nged isch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ocal Compl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sm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ato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ughing of t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loughing of Tissu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p Ch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ge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ne ri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p lubric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ial Nerve Par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esthesia of peripheral Facial nerve bran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o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ygo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dib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v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ial Nerve Par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e contact when injec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over pene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rbitrary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ial Nerve Par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sur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nea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deferring dental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st Anesthetic Intraoral Les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rrent apth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ocal Complic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ial nerve par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-anesthetic intraoral le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cal 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ten documentation is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low-up care should be arr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edle Breaka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ected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needle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t nee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ective nee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edle Breaka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arge nee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ong needles for deep injection,&gt;18m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ver insert to hu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irect only when adequately withdra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edle Breaka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ain ca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't expl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the patient keep opening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needle is out remove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 to an Oral Surge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9320"/>
            <a:ext cx="10287000" cy="675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in on Injec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7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eless 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ll nee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 deposit of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les with ba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0:11:23Z</dcterms:created>
  <dc:creator>Ben Connaughton</dc:creator>
  <dc:description/>
  <cp:keywords/>
  <dc:language>en-US</dc:language>
  <cp:lastModifiedBy>NARAYANAN</cp:lastModifiedBy>
  <cp:lastPrinted>2009-04-22T19:24:48Z</cp:lastPrinted>
  <dcterms:modified xsi:type="dcterms:W3CDTF">2005-06-21T13:45:02Z</dcterms:modified>
  <cp:revision>27</cp:revision>
  <dc:subject/>
  <dc:title>Local Complications in Anesthesia Administration</dc:title>
</cp:coreProperties>
</file>