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Specific Local Anesthetics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 Duration *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        without                    pulp - 20-4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2-3 hr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20,000                   pulp - 60-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vonordefrin          tissue - 3-5 hr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100,000 epi           pulp - 45-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:200,000 epi           tissue - 2-5 h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 weak vasodilator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1.5-2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1.9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alamed)          4.4 mg/kg (2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(manufac.)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6 mg/kg (3 mg/lb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3% w/o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5.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400 mg  or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2% with 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400 mg  or  11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 and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rthotoluidine pro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20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Duration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         without             pulp - 10 mins infil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 mins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1.5-4 hrs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        1:200,000 epi     pulp - 60-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3-8 hrs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2-4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1.6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orms           6 mg/kg (2.7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orms           400 mg  or  5.5 carpu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0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Vasoconstrictor     Duration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      1:200,000 epi        pulp - 90-18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4-9 h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12 hrs rep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6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2.7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1.3 mg/kg (0.6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90 mg  or  10 carpul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m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piva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l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iva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1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4-8X Procaine (2-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 Duration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5      1:200,000 epi          pulp - 90-18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4-9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   1.5-3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 2.6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8 mg/kg (3.6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400 mg  or  1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-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hydrolyzed in plasma by pseudocholinesterase to PA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 longer available in dental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6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0.1 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tion             pulp - 30-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with v/c)      tissue - 2-3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6.6 mg/kg (3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400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 vasodilation - very short duration of pulpal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allergic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 of choice for Tx of inadvertant intra-arterial injection (relieves pain and spa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for Amide allergic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Am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ica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supposedly greater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traindications include anemia, methemoglobinemia, sulfur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ot available in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buca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serum cholinesterase survey for atypical enzy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value 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bucaine numb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66 - 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values decreased as low as 2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z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ra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Vasoconstrictor        Duration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without                    pulp - 5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1-2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50,000 epi            pulp - 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3-5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100,000 epi          pulp - 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3-5 h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    2-3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  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alamed)               4.4 mg/kg (2 mg/lb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manufa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/o epi                  4.4 mg/kg (2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                 6.6 mg/kg (3 mg/lb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2% with 1:100,000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500 mg  or  13.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% or 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.5-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7T08:05:07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0T20:49:45Z</dcterms:modified>
  <cp:revision>27</cp:revision>
  <dc:subject/>
  <dc:title>Specific Local Anesthetics</dc:title>
</cp:coreProperties>
</file>