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7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STEMIC  COMPL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43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disposition - Overdo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tient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s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disposition - Overdo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tient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logical attit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disposition - Overdo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ug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disposition - Overdo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rug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 of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cularity of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constri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use of Overdose Leve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dose is too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rption is too rap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vascular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transformed too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ted too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iotransform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ers are hydrolyzed in the plasma and liver by pseudocholinesterase into PA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ides are  biotransformed by microsomal enzymes in l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limin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esters and amides are eliminated through kidney, some in unchanged form  eg.  (lidocaine - 1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locaine is eliminated by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cessive Do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ximum dose should be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apid Absorp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constrictors should be used unless specifically contraindic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ravascular Inj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ccurrence varies with type of inje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rve Bl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% positive aspi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. alveolar                         1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al/Incisive                     5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. sup. alv.                        3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. sup. alv./ Buccal           &lt;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rug 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 drugs produce multipl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ffects are categorized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s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des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ven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spirating syri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needle - 25 ga or lar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 in 2 pl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NICAL MANIFESTATION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VERDOSE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nimal to Modera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lkativeness              Appreh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urred speech             Exci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tter                          Eupho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sarthria                   Nystagm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ular twitching / trem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nimal to Modera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gns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vated BP                  Swe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vated heart rate        Nausea/vom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vated resp. rate        Disori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to follow commands / r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response to painful stimul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nimal to Modera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ympto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less                  Visual disturb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rvous                  Auditory disturb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ness               Metallic tas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nimal to Moderat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ymptoms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-headed and dizz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owsy and dis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ing conscious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sation of twitching (before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itching is observ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ate to High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tonic-clonic seizure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llowed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CNS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ressed BP, heart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ressed respiratory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thophysiolo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anesthetics cross blood-brain barrier, producing CNS depression as level r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.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D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ood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 Pro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.5 ug/ml             - no adverse CNS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5-4 ug/ml           - anticonvul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5-7.5 ug/ml         - agitation, irri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 7.5 ug/ml           - tonic-clonic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thophysiolo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anesthetics exert a lesser effect on the cardiovascu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LIDOCA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ood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 Pro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8-5 ug/ml          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VCs, tachycar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10 ug/ml            - cardiac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10 ug/ml             - severe depressio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dycardia, vasodilatation, ar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AGEMENT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VERDO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eneral Princip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rug exerts a single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rug is non-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 toxicity is user 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d Reaction -slow onse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sur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er O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tor vital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IV anticonvul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recovery or get medical help p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medical consultation, esp. if possibility of metabolic or renal dys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evere Reaction - rapid onse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all treat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patient in supine position, fe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airway, give O2 (B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onvulsions, protect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on emergency medical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anticonvulsant drugs, vasopress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evere Reaction - slow onse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all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airway, give O2 (B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er anticonvul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on emergency medical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vasopress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medical consultation, esp. if possibility of metabolic or renal dys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asoconstrictor  Overdo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linical manifest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,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less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asoconstrictor Overdo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linical manifestations (cont.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bbing headac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zz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iratory difficu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p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pinephrine Overdo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ply elevated BP (systol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heart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ac tachyarrhythm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agement - v/c overdo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dental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 patien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sure patient, administer O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tor BP and pulse until fully recov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lerg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e  Mechanism    Time   Clinical Exampl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  Antigen induc.   sec/min   Angioedem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  Cell mediated    48 hrs    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matit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lergens in Loc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s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usually to the Para-amino-benzoic-acid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a bisulfite or metabisulfi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found in anesthetics as perservative for vasoconstri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hylparab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no longer used as perservative in dental cartrid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agement of Allergy Pts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atient gives a history of allergy to local anesthetics 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sume that an allergy exis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lective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pone until work-up is 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erse Drug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rect extensions of usual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toxic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agement of Allergy Pts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mergency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col #1 - no invasive treatment ( I&amp;D, analgesics, antibiot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col #2 - use general an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col #3 - Histamine blocker (Benadry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col #4 - Others: electronic dental anesthesia, hypnosis, adjunctive N2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lergy - signs/symp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rmatologi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ticaria - wheals, pru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gio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lergy - signs/symp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pirat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ynge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nchospa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ess                 dysp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xiety                 cyanosis or flus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ezing              tachycar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phoresis           use of access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s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aphylax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al progress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n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oth muscle spasms (GI, GU, respirato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iratory di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collap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may occur rapidly, with considerable over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agement of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layed skin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adryl - 50 mg stat &amp; Q6H X 3-4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mmediate skin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nephrine 0.3 mg IM or 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adryl - 50 mg 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ation, medic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adryl - 50 mg Q6H X 3-4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agement of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ronchial con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i-erect position, O2 - 6 L/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aler or Epinephrine 0.3 mg IM or 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adryl - 50 mg 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ation, medic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adryl - 50 mg Q6H X 3-4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gement of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rynge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supine, O2 - 6 L/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nephrine 0.3 mg IM or 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ai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adryl - 50 mg IV or 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cortisone - 100 mg IV or 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form Cricothyro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agement of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supine, on flat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Cs of CPR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ll for medical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nephrine 0.3 mg IV or IM (Q 5 mi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2 - 6 L/min, monitor vital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clinical improvement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adryl and Hydrocortis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fferential Diagno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yschogenic reaction (Syncop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dose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ke (CV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adrenal insu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ac ar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VENTION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f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STEMIC COMPL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erse Drug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tered recip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eas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otional disturb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aber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iosync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or to Treat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review of medical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ncluding vital sig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xiety / Fear should be assessed and managed before administering anesth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ministration of Anestheti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pt. supine or semi-supine 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site, apply topical X 1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appropriate drug for treatment (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constrictor unless contraindica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ministration (cont.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est anesthetic in the minimum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ompatible with successful anesthe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 slowly (minimum of 60 sec / 1.8 m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ally observe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ver leave patient alone after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ministration (cont.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aspirating syri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 in two planes, before injec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harp, disposable needles of adequate diameter and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erse Drug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ergic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ediate - 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ayed - contact dermatit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verdo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e re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ic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of pharmalogic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ive CNS or CVS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lergic Reac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dose re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systemic or local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related to pharmacological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ggerated immune system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diosyncracy Rea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lained by any known mechanism of the drug’s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ther overdose nor allergic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predictable; treat symp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8:44:12Z</dcterms:created>
  <dc:creator>Ben Connaughton</dc:creator>
  <dc:description/>
  <dc:language>en-US</dc:language>
  <cp:lastModifiedBy>Microsoft Office User</cp:lastModifiedBy>
  <cp:lastPrinted>2009-04-22T19:24:48Z</cp:lastPrinted>
  <dcterms:modified xsi:type="dcterms:W3CDTF">1999-06-11T20:24:29Z</dcterms:modified>
  <cp:revision>78</cp:revision>
  <dc:subject/>
  <dc:title>SYSTEMIC  COMPLICATIONS</dc:title>
</cp:coreProperties>
</file>