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  <p:custShowLst>
    <p:custShow name="Custom Show 1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34BF-0161-46CE-B2F6-AB66EB6D056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8ED0-7C1B-4D2F-8A5A-028CA7070E8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B65-29C5-4263-B988-A566FD84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A01-829C-4A87-B9B5-1A349761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624-62C8-4A8A-9834-851A43A1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63D-8216-4496-AA16-90D095E6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7BD-872B-45CD-9036-A6D2326F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B52-79E7-4D0A-9392-933F3842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EBA-723F-45F1-8A2F-768DD92E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D2B-CCB8-4031-AEF5-6BEEA79C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E9C-53C1-4F27-A8A1-BC329A98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01D-BECD-4305-BDFD-4EE3E001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8900-E220-40BB-A634-6DAB691A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35F-0FB7-4901-B200-F39E1E8F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B45B-0976-4DDF-8F19-EDDAB7D2262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52B1-616B-4858-BE4C-9A0136E4EB1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6CC8-3AF6-41E8-8E8B-C16EE5713ED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7933-CCD8-4D87-B44B-FF70B4C939E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Let’s get started with...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ff"/>
                </a:solidFill>
                <a:latin typeface="Comic Sans MS"/>
              </a:rPr>
              <a:t>Logic</a:t>
            </a:r>
            <a:r>
              <a:rPr b="0" lang="en-US" sz="6600" spc="-1" strike="noStrike">
                <a:solidFill>
                  <a:srgbClr val="00ccff"/>
                </a:solidFill>
                <a:latin typeface="Comic Sans MS"/>
              </a:rPr>
              <a:t>!</a:t>
            </a:r>
            <a:endParaRPr b="0" lang="en-US" sz="6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BDD6-6ABB-48D0-AD22-A8052E92D0B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6A3F-7348-4B77-9A7F-A2252706A6E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bining Proposi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s we have seen in the previous examples, one or more propositions can be combined to form a single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ompound propositio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e formalize this by denoting propositions with letters such as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p, q, r, s,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and introducing several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logical operator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B300-1294-4670-AF8D-5A64BCAB1E1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F05A-2E48-4B96-9663-68D41791207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gical Operators (Connectives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will examine the following logical operator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egatio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NOT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junctio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AND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junctio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clusive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XO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mplication 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if – the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iconditional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if and only if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ruth tables can be used to show how these operators can combine propositions to compound proposit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7432-F490-4D49-8C5F-A48918149C5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F1F3-9D37-42AB-89FF-4F441BBF55C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Negation (NOT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05120" y="2666880"/>
          <a:ext cx="5333760" cy="274320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rue (T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alse (F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alse (F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rue (T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8D9D-F8AA-4662-A6B9-2218718182A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94A5-ECFA-4669-8BD8-B9FA9F52DEE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onjunction (AND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09680" y="2438280"/>
          <a:ext cx="5334120" cy="325764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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BD52-6953-40A8-881C-3334B11F72C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6ADE-9BAF-49E6-AAD1-A0DA5F9A5F3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isjunction (OR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09680" y="2457360"/>
          <a:ext cx="4724640" cy="325764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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DB64-2541-4581-91EA-BBAAE76A3BE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66A7-66EE-4F72-8D90-B7D08A94E6C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xclusive Or (XOR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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09680" y="2457360"/>
          <a:ext cx="4724640" cy="325764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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9EE8-8AE6-4941-A063-8BF497A4ED6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6A54-1CAB-41D5-87FC-C3B3240FB52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mplication (if - then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09680" y="2457360"/>
          <a:ext cx="4724640" cy="325764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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AB74-B504-4E5B-94DB-E3B04C68365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EB51-10B7-4013-AD23-F62F1FB9EC8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Biconditional (if and only if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09680" y="2457360"/>
          <a:ext cx="4724640" cy="325764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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1BEE-6AE5-4B8E-BFA5-01823EDF930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EC81-0677-44C9-8768-681921A9E19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tements and Operator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tatements and operators can be combined in any way to form new statements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43000" y="2438280"/>
          <a:ext cx="6715080" cy="325764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130400"/>
                <a:gridCol w="1130400"/>
                <a:gridCol w="219384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P)(Q)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4F26-85E1-4D8B-B258-0682DE487F1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E7E7-8B26-4D37-8545-AC50BD71DA4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tements and Operation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tatements and operators can be combined in any way to form new statements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14400" y="2438280"/>
          <a:ext cx="7291440" cy="325764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130400"/>
                <a:gridCol w="1706760"/>
                <a:gridCol w="219384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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 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PQ)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P)(Q)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807F-6BDA-4522-8854-9905905C5B8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4079-7869-45CD-8376-ED24335D451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Logi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rucial for mathematical reasoni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spcAft>
                <a:spcPts val="2801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sed for designing electronic circuitr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ogic is a system based on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oposition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proposition is a statement that is either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ru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fals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not both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spcAft>
                <a:spcPts val="2801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say that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ruth valu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proposition is either true (T) or false (F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rresponds to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digital circuit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9F89-D9F0-410D-A4D5-6B6DD773256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3EA5-D210-45E4-9A5B-31A46F0300B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quivalent Statement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371600"/>
          <a:ext cx="8207280" cy="325764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233720"/>
                <a:gridCol w="1673280"/>
                <a:gridCol w="303984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PQ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P)(Q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PQ)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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P)(Q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48765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statement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) and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) are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logically equivalen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 sinc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) is always tru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3CB9-E4FC-4266-9995-82207C8277D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8918-E6F7-4BE9-BEA1-B5AEC75DC02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autologies and Contradi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tautology is a statement that is alway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Q)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)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Q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S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 is a tautology, we write S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S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 is a tautology, we write S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68E6-1233-4D5E-9A43-8D5E060DE94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72F4-1A78-4FD4-9D32-B4FE37D1ACF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autologies and Contradi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contradiction is a statement that is alway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als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)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negation of any tautology is a contra-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ction, and the negation of any contradiction is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tautology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1995-B9C7-4884-B712-2392AAFC09F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38C5-C2FF-4BC2-AE7D-6A5E80E9A83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positional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opositional function (open sentence)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atement involving one or more variables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.g.: x-3 &gt; 5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call this propositional function P(x), where P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edicat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x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variabl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57200" y="42670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P(2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6324480" y="42670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5720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P(8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7200" y="54864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P(9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324480" y="4876920"/>
            <a:ext cx="121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6324480" y="548640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0E9E-EE4B-434E-9960-2FF8ACFA6E9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EED1-D8B5-4FAD-8E62-343B5DA61E1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positional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consider the propositional function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(x, y, z) defined as: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+ y = z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re, Q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edicat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x, y, and z are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variabl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457200" y="42670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Q(2, 3, 5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7543800" y="42670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Q(0, 1, 2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57200" y="5486400"/>
            <a:ext cx="701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Q(9, -9, 0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43800" y="4876920"/>
            <a:ext cx="121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7543800" y="548640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48B2-5F24-487D-922E-06FC01CA136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517A-0E52-403B-831F-AA82ED7E499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niversal 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P(x) be a propositional func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Universally quantified sent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all x in the universe of discourse P(x)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sing the universal quantifie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for all x P(x)” or “for every x P(x)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Note: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P(x) is either true or false, so it is a proposition, not a propositional function.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0852-2A94-4518-96DB-36A2ABE4507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3F93-6A06-433A-BFC7-FF709EE4EF3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niversal 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(x): x is a UMBC studen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G(x): x is a geniu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does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(S(x)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G(x)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ean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x is a UMBC student, then x is a geniu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 UMBC students are geniuse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85AF-6C55-430B-B6E7-3F77CAF7033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D892-3335-46CA-AF78-4E7CB95DF45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istential 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istentially quantified sent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exists an x in the universe of discourse for which P(x)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sing the existential quantifie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There is an x such that P(x)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      “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here is at least one x such that P(x)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Note: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P(x) is either true or false, so it is a proposition, but no propositional function.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3285-7A2D-441D-A1B6-C8A32A4FD62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A981-20D7-476E-B38A-4A9632E395E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istential 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(x): x is a UMBC profess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G(x): x is a geniu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does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(P(x)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G(x)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ean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an x such that x is a UMBC professor and x is a geniu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t least one UMBC professor is a geniu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0F36-C597-48F6-9560-DCA93CB82CA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9D7D-1BC9-427B-86FC-CA3FE9A8819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the universe of discourse be the real numbe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does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y (x + y = 320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ean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very x there exists a y so that x + y = 320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304920" y="43434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it tru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04920" y="510552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it true for the natural number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781680" y="434340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6781680" y="51055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B621-EC3A-43B4-91D7-D5CBB8F9905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CB67-E997-404A-A2D8-28B4B9112FA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Elephants are bigger than mice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57200" y="25146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5715000" y="25146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57200" y="34290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715000" y="34290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57200" y="44197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5715000" y="49528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891F-312D-466D-8FA8-5AE2F25F8F6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2E22-9DA8-4B52-8FE8-CE517413981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sproof by Counterexamp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counterexample to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 is an object c so that P(c) is false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atements such a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P(x)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(x)) can be disproved by simply providing a counterexamp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3520" y="4419720"/>
            <a:ext cx="76960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tatement: “All birds can fly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isproved by counterexample: Pengui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C890-D7B9-4DFE-8DD2-C364B5E8FC8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3E19-8900-473A-B49F-E8EFB1B6B48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g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) is logically equivalent to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x)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) is logically equivalent to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x)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ee Table 3 in Section 1.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I recommend exercises 5 and 9 in Section 1.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5E3E-6C27-4A40-9523-438916E2C59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DD94-6DB6-4CFE-B2FE-B40B3178572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gical Equivalen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dentity Laws: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and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omination Laws: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dempotent Laws: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and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Double Negation Law: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mmutative La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)  and 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sociative Laws: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and 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46BB-6528-4830-8803-12846F3A222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AE11-D92B-4C98-B25D-F21D936DE38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gical Equivalen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tributive Laws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DeMorgan’s La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Absorption Laws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Negation Laws: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A4CB-7113-48F1-B60F-1DDFED4874E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60A3-64E7-4808-AA35-4740152A5BD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nd the truth table of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q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)]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n important Theorem) Show tha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Show the Corollary: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Using the tables on page 24, verify the Absorption La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,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E22A-833B-4AFD-BA44-7672E71C386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605B-9B19-4429-B9BA-2DC8F66ADB9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egate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) For each integer, n, if 4 divides n, the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divides 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b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[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]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[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x + 1)]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5D92-62CB-4F4C-B80D-F2178B34F5D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D1CC-0A3D-4BD2-A5FA-E63FEC5A731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520 &lt; 111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57200" y="25146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715000" y="25146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57200" y="34290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5715000" y="34290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57200" y="44197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5715000" y="49528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93D5-F47B-42B7-84FD-C37D93ECFD7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8A3A-3BA5-494C-8B67-4134DA6BB61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y &gt; 5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57200" y="22096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715000" y="22096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57200" y="29718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715000" y="29718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57200" y="3809880"/>
            <a:ext cx="8381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ts truth value depends on the value of y, but this value is not specified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e call this type of statement a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propositional functio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open sentence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ACE7-D143-4146-A69C-550F600107C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0F6D-6523-4943-A1FA-E26CE1CB4D0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Today is January 1  and  99 &lt; 5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22096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5715000" y="22096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57200" y="327672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715000" y="327672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457200" y="44197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715000" y="49528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B25A-0113-4E30-BA53-C6EA663C430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A1AE-ED36-4754-85F8-8259D0A0009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Please do not fall asleep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22096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715000" y="22096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57200" y="40384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715000" y="40384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57200" y="487692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ly statements can be propositions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457200" y="297180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t’s a request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D01C-8CC7-46E3-BBF8-9E6DDB4D892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25E5-47FC-4A64-8568-04FAB873C60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If elephants were red,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they could hide in cherry trees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57200" y="27432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715000" y="27432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57200" y="35812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715000" y="35812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57200" y="457200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715000" y="510552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robably fal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DE71-4502-41B5-8B17-ECFB1789C8F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B893-6231-4757-A29A-0C95BD0D821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x &lt; y if and only if y &gt; x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57200" y="190512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715000" y="190512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57200" y="25146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715000" y="25146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57200" y="48769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5715000" y="54100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457200" y="3124080"/>
            <a:ext cx="5562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ecause its truth value  does not depend on specific values of x and y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2:49Z</dcterms:modified>
  <cp:revision>45</cp:revision>
  <dc:subject/>
  <dc:title>PowerPoint Presentation</dc:title>
</cp:coreProperties>
</file>