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605-F54F-4381-BC0F-FFB6B6BF8CD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F071-5AA5-4198-A292-951EFA911660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A4AA-D005-4A55-9071-E1A71FDD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7AB-F319-447E-8359-F89160F1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AAF-E81D-418F-9FCA-D7BD6879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72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A9D-252D-43C2-9830-C4881888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4BD-942C-4707-A82A-56BAB85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815-E0A6-4615-A19E-8535024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819-E480-4DBE-8FF2-D48721BD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186-477F-442D-800F-2A22E35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820-BD39-467A-B12E-96DC6002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779-D3FC-423F-AF0C-07227D64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72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B18-C8C1-485D-93FD-102581CF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72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1C3-79A8-4E46-91F4-2C5D7B20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c1c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1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2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3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4" marL="315360" indent="-315360">
              <a:spcBef>
                <a:spcPts val="901"/>
              </a:spcBef>
              <a:buClr>
                <a:srgbClr val="ffff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56B7-6321-48B7-8C8B-5E571D7BC6A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CMSC 203 - Discrete Structure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385-6C2C-4567-A250-E65B9014485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CB8B-6A60-447E-AB90-88BD58A2E8F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165-7040-484D-8EAC-A3C14037D9F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et’s get started with...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ccff"/>
                </a:solidFill>
                <a:latin typeface="Comic Sans MS"/>
              </a:rPr>
              <a:t>Logic</a:t>
            </a:r>
            <a:r>
              <a:rPr b="0" lang="en-US" sz="6600" spc="-1" strike="noStrike">
                <a:solidFill>
                  <a:srgbClr val="00ccff"/>
                </a:solidFill>
                <a:latin typeface="Comic Sans MS"/>
              </a:rPr>
              <a:t>!</a:t>
            </a: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466B-2262-470C-A217-3B33AA6322D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01DA-93A1-4930-83F7-91C07603710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bining Proposi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s we have seen in the previous examples, one or more propositions can be combined to form a single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compound proposi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formalize this by denoting propositions with letters such as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, q, r, s,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and introducing several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logical operator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A51-B1DC-42BA-A99C-66431922BC9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B639-9944-4FF2-964A-F8B1C862ABD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Operators (Connectives)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will examine the following logical operator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AND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junctio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clusive or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XO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plication     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– then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spcAft>
                <a:spcPts val="1400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Biconditiona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if and only if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ruth tables can be used to show how these operators can combine propositions to compound proposition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ED9A-45D0-48D9-B6B2-9E6829EE2AE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504-FC52-42EB-86C2-6FC054C3440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gation (NOT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905120" y="2666880"/>
          <a:ext cx="5333760" cy="2743200"/>
        </p:xfrm>
        <a:graphic>
          <a:graphicData uri="http://schemas.openxmlformats.org/drawingml/2006/table">
            <a:tbl>
              <a:tblPr/>
              <a:tblGrid>
                <a:gridCol w="2666880"/>
                <a:gridCol w="266688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alse (F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rue (T)</a:t>
                      </a:r>
                      <a:endParaRPr b="0" lang="en-US" sz="40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EFA2-F2A8-4678-9ED7-464AF1A8876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92B8-E161-4EA0-A2D7-697E5869ECD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onjunction (AND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2438280"/>
          <a:ext cx="5334120" cy="325764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ED0-E8C6-4CB0-8C0A-5046A67671C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2966-7889-4E0E-922C-B3AD54DC593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Disjunction (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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91F-E63D-4D0F-81E3-F19E0C6AE4F2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53B-6756-4D79-A4BA-7CEA29EC328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xclusive Or (XOR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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F7BB-E2CD-47E8-B24B-94D3A1CA51EE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3429-DFDE-4D21-A99E-FFFE46458DC8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Implication (if - then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290F-05D3-402B-B7DC-5FAD65C8FFB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7A03-F79B-4C13-92A8-BFBED742515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iconditional (if and only if)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inary Operator, Symbol:  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57360"/>
          <a:ext cx="4724640" cy="3257640"/>
        </p:xfrm>
        <a:graphic>
          <a:graphicData uri="http://schemas.openxmlformats.org/drawingml/2006/table">
            <a:tbl>
              <a:tblPr/>
              <a:tblGrid>
                <a:gridCol w="1575000"/>
                <a:gridCol w="1574640"/>
                <a:gridCol w="157500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AD1F-C65E-4C17-8110-ACE1C99C66C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E9AC-35AD-43D7-816C-C30E1EDF67A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or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43000" y="2438280"/>
          <a:ext cx="67150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13040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BA5-005B-4F68-8818-9A386248D18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CA48-BAD9-41C0-98E6-15BC3E51562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tements and Operation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atements and operators can be combined in any way to form new statements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14400" y="2438280"/>
          <a:ext cx="729144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130400"/>
                <a:gridCol w="1706760"/>
                <a:gridCol w="2193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Q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 </a:t>
                      </a: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2682-5479-4934-A62E-E95E71B74DA4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05A9-D232-40FA-8B3A-F418593311C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ogic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rucial for mathematical reasonin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ed for designing electronic circuitry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ogic is a system based on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oposition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proposition is a statement that is eithe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fals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not both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spcAft>
                <a:spcPts val="2801"/>
              </a:spcAft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e say that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uth valu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of a proposition is either true (T) or false (F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rresponds to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in digital circui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F057-3494-4E1F-A712-A7B91E575A4B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8AB-23F3-438B-A4B2-6B58B4EB7BA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quivalent Statements</a:t>
            </a:r>
            <a:endParaRPr b="0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8207280" cy="3257640"/>
        </p:xfrm>
        <a:graphic>
          <a:graphicData uri="http://schemas.openxmlformats.org/drawingml/2006/table">
            <a:tbl>
              <a:tblPr/>
              <a:tblGrid>
                <a:gridCol w="1130400"/>
                <a:gridCol w="1130040"/>
                <a:gridCol w="1233720"/>
                <a:gridCol w="1673280"/>
                <a:gridCol w="3039840"/>
              </a:tblGrid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Q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PQ)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</a:t>
                      </a: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Comic Sans MS"/>
                        </a:rPr>
                        <a:t>(P)(Q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3300"/>
                          </a:solidFill>
                          <a:latin typeface="Comic Sans MS"/>
                        </a:rPr>
                        <a:t>F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cc00"/>
                          </a:solidFill>
                          <a:latin typeface="Comic Sans MS"/>
                        </a:rPr>
                        <a:t>T</a:t>
                      </a:r>
                      <a:endParaRPr b="0" lang="en-US" sz="3200" spc="-1" strike="noStrike">
                        <a:solidFill>
                          <a:srgbClr val="ffff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ffff"/>
                      </a:solidFill>
                    </a:lnL>
                    <a:lnR w="18720">
                      <a:solidFill>
                        <a:srgbClr val="00ffff"/>
                      </a:solidFill>
                    </a:lnR>
                    <a:lnT w="18720">
                      <a:solidFill>
                        <a:srgbClr val="00ffff"/>
                      </a:solidFill>
                    </a:lnT>
                    <a:lnB w="18720">
                      <a:solidFill>
                        <a:srgbClr val="00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48765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statement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nd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are 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logically equivalen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 sinc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Q) is always tru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263-33AB-4D45-91A0-1F590052A2E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7C55-5061-4855-B379-BADED4BD509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 is a statement that is alway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Q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S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 is a tautology, we write S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15B5-E95A-4299-BB8F-C457799AADB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C0C6-EC7E-4618-9CF6-4D83C4D458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Tautologies and Contradi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ntradiction is a statement that is alway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als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)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 negation of any tautology is a contra-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ction, and the negation of any contradiction is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tautology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8C5-4DB9-4D9B-8BA5-A0ECD5A0B1B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909-37AE-4FF9-BBFF-D7857BC70AB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ropositional function (open sentence)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 involving one or more variables,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e.g.: x-3 &gt; 5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all this propositional function P(x), where P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426708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632448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8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7200" y="54864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P(9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632448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632448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D0A-BF60-4A87-A342-7FC39F5011E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6629-27F7-480C-86A2-1B7A072B1EA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ropositional Function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us consider the propositional function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(x, y, z) defined as: 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+ y = z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e, Q is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redicat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x, y, and z are the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variabl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457200" y="42670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2, 3, 5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43800" y="426708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0, 1, 2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457200" y="5486400"/>
            <a:ext cx="7010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s the truth value of Q(9, -9, 0)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43800" y="4876920"/>
            <a:ext cx="1219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7543800" y="5486400"/>
            <a:ext cx="1219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8D3F-9441-4FC4-990A-5A7AFC11D85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E2A-5785-4F63-83B0-A974F37C5FE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P(x) be a propositional functio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Univers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all x in the universe of discourse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univers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for all x P(x)” or “for every x P(x)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not a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576-C39F-4CA8-AB4C-6DECB7E4D46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D47-FF0F-441F-B3D7-7DFC659E01E5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Univers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(x): x is a UMBC student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S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f x is a UMBC student, then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ll UMBC students are geniuse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A5E-9DA2-47B3-9987-2A3C3D5AC95A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08DA-C81A-4D26-8E24-0DD1950A971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Existentially quantified sentence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exists an x in the universe of discourse for which P(x) is tru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sing the existential quantifie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  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There is an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      “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here is at least one x such that P(x)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(Note: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P(x) is either true or false, so it is a proposition, but no propositional function.)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DE8-EAC3-4C73-A9F4-94D043E1DC48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CB27-97F9-4C0F-A5BE-C8409CC4FA2C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istential 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ampl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P(x): x is a UMBC professor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G(x): x is a geniu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 G(x)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here is an x such that x is a UMBC professor and x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t least one UMBC professor is a genius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F02D-1C8E-439C-84F9-B6A6D3E3E930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FF5-67DB-454E-86C8-EF8FBA7E5EB0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Quantific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nother example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et the universe of discourse be the real numbers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does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y (x + y = 320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mean 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or every x there exists a y so that x + y = 320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304920" y="434340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304920" y="510552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s it true for the natural number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781680" y="434340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6781680" y="5105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0008-77A5-457A-BB3F-964D675911FC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DEE-7308-408C-A914-2BAC73B25263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Elephants are bigger than mice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672D-5921-49B4-88CF-7C4899D9527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7C74-AD74-4F68-B74F-A2E17A932E4B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isproof by Counterexampl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 counterexample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 is an object c so that P(c) is false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tatements such as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P(x)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(x)) can be disproved by simply providing a counterexamp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533520" y="4419720"/>
            <a:ext cx="7696080" cy="10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tatement: “All birds can fly.”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Disproved by counterexample: Pengui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4D28-A5D7-4D48-8AD4-51494413C84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505D-84F1-4747-9799-CF3ECB9B85C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Negation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P(x)) is logically equivalent to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(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(x)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See Table 3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I recommend exercises 5 and 9 in Section 1.3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6AB-9334-49F9-B797-04BDC0A83E6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F02-A6F1-46C5-A2E2-FC0C2F140067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ntity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omination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dempotent Laws: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and p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ouble Negation Law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mmutative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  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ssociative Laws: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nd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5BB4-6DA8-4DD2-8E7C-60EC15BC50E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C2E-7158-4766-8158-C4E76BC1A38F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ogical Equivalenc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ibutive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r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DeMorgan’s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Absorption Laws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Negation Laws: 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F104-5A00-4B15-B80A-4D074CF32155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07E8-EE96-4C64-9DE8-F5A392CB416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ind the truth table of 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q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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r)]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n important Theorem) Show that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Show the Corollary: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p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q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Using the tables on page 24, verify the Absorption Laws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, a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(p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q) </a:t>
            </a:r>
            <a:r>
              <a:rPr b="0" lang="en-CA" sz="2800" spc="-1" strike="noStrike">
                <a:solidFill>
                  <a:srgbClr val="ffff00"/>
                </a:solidFill>
                <a:latin typeface="Symbol"/>
                <a:ea typeface="Symbol"/>
              </a:rPr>
              <a:t></a:t>
            </a:r>
            <a:r>
              <a:rPr b="0" lang="en-CA" sz="2800" spc="-1" strike="noStrike">
                <a:solidFill>
                  <a:srgbClr val="ffff00"/>
                </a:solidFill>
                <a:latin typeface="Comic Sans MS"/>
              </a:rPr>
              <a:t> p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F0A-D37B-4850-A3D9-C9956BAF7A6F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A49C-6C82-4039-AD11-6DA11EC366C9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egate: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a) For each integer, n, if 4 divides n, the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2 divides n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b)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,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y]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[y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(x + 1)].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7EBC-7878-434E-AD82-63FF676876F3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9531-1B22-4A53-BB35-49D4B0E02AC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520 &lt; 111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34290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715000" y="34290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F027-46E0-4FD7-8387-48103DEC4B71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48D7-5159-44CF-8A97-33336EE6ECF4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y &gt; 5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7200" y="29718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715000" y="29718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57200" y="3809880"/>
            <a:ext cx="83818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s truth value depends on the value of y, but this value is not specified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e call this type of statement a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ropositional functio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or 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open sentence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1B3F-4517-46A9-8692-6CF38F9D5FF9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53F9-E944-4B83-8C88-7AE2BFB8E8BD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oday is January 1  and  99 &lt; 5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57200" y="32767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715000" y="32767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457200" y="44197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715000" y="49528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B415-63E1-4985-9415-3703044AEA3D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BBB7-EFC2-4990-A00A-DFF8DD0393F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Please do not fall asleep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22096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715000" y="22096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" y="40384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715000" y="40384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" y="487692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y statements can be proposition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457200" y="2971800"/>
            <a:ext cx="4191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t’s a request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6183-6157-4B94-B84E-21DA32F95186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66E-FF31-4958-BDA3-5E206B245A21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If elephants were red,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they could hide in cherry trees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57200" y="27432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5000" y="27432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57200" y="358128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715000" y="35812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57200" y="457200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715000" y="510552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robably fal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67E4-4A58-4683-A952-283633046B77}" type="datetime">
              <a:rPr b="0" lang="en-US" sz="1400" spc="-1" strike="noStrike">
                <a:solidFill>
                  <a:srgbClr val="00c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9ED-1E68-4F7B-B134-7EA81DCEBF9A}" type="slidenum">
              <a:rPr b="0" lang="en-CA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Statement/Proposition Game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x &lt; y if and only if y &gt; x.”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57200" y="19051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statement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715000" y="190512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57200" y="251460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s this a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715000" y="25146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y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457200" y="4876920"/>
            <a:ext cx="4800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What is the truth value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f the proposition?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715000" y="541008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457200" y="3124080"/>
            <a:ext cx="5562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ecause its truth value  does not depend on specific values of x and y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0:16:35Z</dcterms:created>
  <dc:creator>Marc Pomplun</dc:creator>
  <dc:description/>
  <dc:language>en-US</dc:language>
  <cp:lastModifiedBy>OUAHID</cp:lastModifiedBy>
  <dcterms:modified xsi:type="dcterms:W3CDTF">2013-06-22T09:22:49Z</dcterms:modified>
  <cp:revision>45</cp:revision>
  <dc:subject/>
  <dc:title>PowerPoint Presentation</dc:title>
</cp:coreProperties>
</file>