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BA28-09DD-4FF6-8FAA-89FDE57FF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E3D2-26DB-4D18-A6FE-711FEE4B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2434-B566-4CE4-A277-CE7778876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23AD-40B1-4D3D-8A3E-2FBB4ACCD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2B42-3E65-4257-8204-7B056122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153E-0ED4-4433-A03C-60AD538B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F36C-423C-479A-9060-D5683DE1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78BE-83F3-462C-800D-F5C2400D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AF40-900D-49EE-B3D8-4515BA31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0B70-D548-47FB-9E9B-84F38B1D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9E70-A970-4C2B-8E11-C297D0A8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656C-3522-4109-9431-4676C709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F3AE-9B32-481B-ABB8-8476A4D209E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94940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Calibri Light"/>
              </a:rPr>
              <a:t>علاقة الأستاذ الجامعي بطلابه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494200" y="1582560"/>
            <a:ext cx="217332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مقرر أشد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93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</a:rPr>
              <a:t>العلاقة بين الأستاذ الجامعي والطالب قائمة على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0" name="عنصر نائب للمحتوى 3" descr=""/>
          <p:cNvPicPr/>
          <p:nvPr/>
        </p:nvPicPr>
        <p:blipFill>
          <a:blip r:embed="rId1"/>
          <a:stretch/>
        </p:blipFill>
        <p:spPr>
          <a:xfrm>
            <a:off x="835200" y="1805040"/>
            <a:ext cx="105217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1096920" y="500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</a:rPr>
              <a:t>واجبات الأستاذ الجامعي تجاه طلابه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 algn="r" rtl="1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• الإخلاص في التعليم لخدمة الدين والوطن والأمة البشرية:</a:t>
            </a:r>
            <a:br>
              <a:rPr sz="3200"/>
            </a:br>
            <a:r>
              <a:rPr b="0" lang="ar-SA" sz="3600" spc="-1" strike="noStrike">
                <a:solidFill>
                  <a:srgbClr val="c55a11"/>
                </a:solidFill>
                <a:latin typeface="Calibri"/>
              </a:rPr>
              <a:t>إن من شأن هذا الخلق أن يدفع الأستاذ إلى تحمل كل معاناة الحياة في سبيل التعليم، وفي سبيل بناء الأجيال وتربيتهم بما يخدم الصالح العام.</a:t>
            </a:r>
            <a:br>
              <a:rPr sz="3600"/>
            </a:br>
            <a:r>
              <a:rPr b="0" lang="ar-SA" sz="3600" spc="-1" strike="noStrike">
                <a:solidFill>
                  <a:srgbClr val="c55a11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1096920" y="500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</a:rPr>
              <a:t>واجبات الأستاذ الجامعي تجاه طلابه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• الصدق والأمانة</a:t>
            </a:r>
            <a:br>
              <a:rPr sz="3200"/>
            </a:br>
            <a:r>
              <a:rPr b="0" lang="ar-SA" sz="3200" spc="-1" strike="noStrike">
                <a:solidFill>
                  <a:srgbClr val="c55a11"/>
                </a:solidFill>
                <a:latin typeface="Calibri"/>
              </a:rPr>
              <a:t>ويقتضي هذا الخلق اضطلاع الأستاذ بمهمته على أحسن وجه وأكمل صورة بعيدا عن كل إهمال في وظيفته العلمية. </a:t>
            </a:r>
            <a:br>
              <a:rPr sz="3200"/>
            </a:br>
            <a:r>
              <a:rPr b="0" lang="ar-SA" sz="3200" spc="-1" strike="noStrike">
                <a:solidFill>
                  <a:srgbClr val="c55a11"/>
                </a:solidFill>
                <a:latin typeface="Calibri"/>
              </a:rPr>
              <a:t>التزام خلق الحوار وتغليبه في مناقشة المتعلمين، والابتعاد عن كل أشكال التسلط والقه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1096920" y="500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</a:rPr>
              <a:t>واجبات الأستاذ الجامعي تجاه طلابه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• الصبر والحلم والتأني</a:t>
            </a:r>
            <a:br>
              <a:rPr sz="3200"/>
            </a:br>
            <a:r>
              <a:rPr b="0" lang="ar-SA" sz="3200" spc="-1" strike="noStrike">
                <a:solidFill>
                  <a:srgbClr val="c55a11"/>
                </a:solidFill>
                <a:latin typeface="Calibri"/>
              </a:rPr>
              <a:t>ويستوجب هذا: الصبر على المتعلمين على اختلاف مستوياتهم وفئاتهم الاجتماعي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1096920" y="500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</a:rPr>
              <a:t>واجبات الأستاذ الجامعي تجاه طلابه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- الاحترام والتواضع من غير مذلة ولا مهانة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- إتقان التعليم: </a:t>
            </a:r>
            <a:r>
              <a:rPr b="0" lang="ar-SA" sz="3200" spc="-1" strike="noStrike">
                <a:solidFill>
                  <a:srgbClr val="c55a11"/>
                </a:solidFill>
                <a:latin typeface="Calibri"/>
              </a:rPr>
              <a:t>ويقتضي هذا من الأستاذ بذل قصارى جهده من أجل تكوين نفسه وتجديد معارفه لإفادة متعلميه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1508040" y="801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 Light"/>
              </a:rPr>
              <a:t>واجبات الطالب الجامعي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-235080" y="2465280"/>
            <a:ext cx="10515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c55a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55a11"/>
                </a:solidFill>
                <a:latin typeface="Calibri"/>
              </a:rPr>
              <a:t>تزكية النفس وتطهيرها من جميع النيات السيئة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c55a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55a11"/>
                </a:solidFill>
                <a:latin typeface="Calibri"/>
              </a:rPr>
              <a:t>التأدب مع الأساتذة والإداريين واحترامهم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c55a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55a11"/>
                </a:solidFill>
                <a:latin typeface="Calibri"/>
              </a:rPr>
              <a:t> حسن معاملة الزملاء داخل القاعة وخارجها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c55a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55a11"/>
                </a:solidFill>
                <a:latin typeface="Calibri"/>
              </a:rPr>
              <a:t> التزام الصدق والأمانة والنظام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1508040" y="801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 Light"/>
              </a:rPr>
              <a:t>واجبات الطالب الجامعي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-235080" y="2465280"/>
            <a:ext cx="10515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c55a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55a11"/>
                </a:solidFill>
                <a:latin typeface="Calibri"/>
              </a:rPr>
              <a:t> الاجتهاد في المذاكرة والتعلم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c55a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55a11"/>
                </a:solidFill>
                <a:latin typeface="Calibri"/>
              </a:rPr>
              <a:t>التحلي بالصبر والهمة العالية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c55a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55a11"/>
                </a:solidFill>
                <a:latin typeface="Calibri"/>
              </a:rPr>
              <a:t> ترك الغش والخداع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c55a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55a11"/>
                </a:solidFill>
                <a:latin typeface="Calibri"/>
              </a:rPr>
              <a:t>احترام ممتلكات المؤسسة ومرافقها العامة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c55a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55a11"/>
                </a:solidFill>
                <a:latin typeface="Calibri"/>
              </a:rPr>
              <a:t> التشبع بروح الحوار والتسامح وقبول الاختلاف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c55a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55a11"/>
                </a:solidFill>
                <a:latin typeface="Calibri"/>
              </a:rPr>
              <a:t> استغلال الوقت وتنظيمه لمزيد من تحصيل العلم والمعرفة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عنصر نائب للمحتوى 5" descr=""/>
          <p:cNvPicPr/>
          <p:nvPr/>
        </p:nvPicPr>
        <p:blipFill>
          <a:blip r:embed="rId1"/>
          <a:stretch/>
        </p:blipFill>
        <p:spPr>
          <a:xfrm>
            <a:off x="-1274760" y="579600"/>
            <a:ext cx="12509640" cy="59544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6040" y="26049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 Light"/>
              </a:rPr>
              <a:t>من الذي يملك زمام المبادرة في تحديد العلاقة؟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6040" y="26049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 Light"/>
              </a:rPr>
              <a:t>من الذي يملك زمام المبادرة في تحديد العلاقة؟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سحابة 3"/>
          <p:cNvSpPr/>
          <p:nvPr/>
        </p:nvSpPr>
        <p:spPr>
          <a:xfrm>
            <a:off x="4691160" y="3898800"/>
            <a:ext cx="3313080" cy="237168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مربع نص 2"/>
          <p:cNvSpPr/>
          <p:nvPr/>
        </p:nvSpPr>
        <p:spPr>
          <a:xfrm>
            <a:off x="4200480" y="4530600"/>
            <a:ext cx="3154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Calibri"/>
              </a:rPr>
              <a:t>الطالب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0" name="عنصر نائب للمحتوى 3" descr=""/>
          <p:cNvPicPr/>
          <p:nvPr/>
        </p:nvPicPr>
        <p:blipFill>
          <a:blip r:embed="rId1"/>
          <a:stretch/>
        </p:blipFill>
        <p:spPr>
          <a:xfrm>
            <a:off x="841320" y="1749600"/>
            <a:ext cx="1051560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82" name="مجموعة 6"/>
          <p:cNvGrpSpPr/>
          <p:nvPr/>
        </p:nvGrpSpPr>
        <p:grpSpPr>
          <a:xfrm>
            <a:off x="3941640" y="1827360"/>
            <a:ext cx="4437360" cy="4348080"/>
            <a:chOff x="3941640" y="1827360"/>
            <a:chExt cx="4437360" cy="4348080"/>
          </a:xfrm>
        </p:grpSpPr>
        <p:sp>
          <p:nvSpPr>
            <p:cNvPr id="83" name="شكل حر: شكل 7"/>
            <p:cNvSpPr/>
            <p:nvPr/>
          </p:nvSpPr>
          <p:spPr>
            <a:xfrm>
              <a:off x="5363280" y="1827360"/>
              <a:ext cx="2886840" cy="1305720"/>
            </a:xfrm>
            <a:prstGeom prst="pie">
              <a:avLst/>
            </a:prstGeom>
            <a:solidFill>
              <a:srgbClr val="a5a5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102960" bIns="10296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176"/>
                </a:spcAft>
                <a:tabLst>
                  <a:tab algn="l" pos="0"/>
                  <a:tab algn="l" pos="1200240"/>
                  <a:tab algn="l" pos="2400480"/>
                  <a:tab algn="l" pos="3600360"/>
                  <a:tab algn="l" pos="4800600"/>
                  <a:tab algn="l" pos="6000840"/>
                  <a:tab algn="l" pos="7201080"/>
                  <a:tab algn="l" pos="8400960"/>
                  <a:tab algn="l" pos="9601200"/>
                  <a:tab algn="l" pos="10801440"/>
                </a:tabLst>
              </a:pPr>
              <a:r>
                <a:rPr b="0" lang="ar-SA" sz="2700" spc="-1" strike="noStrike">
                  <a:solidFill>
                    <a:srgbClr val="ffffff"/>
                  </a:solidFill>
                  <a:latin typeface="Calibri"/>
                </a:rPr>
                <a:t>لا تتطاول على أستاذك أو تقلل من احترامه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مستطيل 8"/>
            <p:cNvSpPr/>
            <p:nvPr/>
          </p:nvSpPr>
          <p:spPr>
            <a:xfrm>
              <a:off x="3941640" y="1827360"/>
              <a:ext cx="1292400" cy="1305720"/>
            </a:xfrm>
            <a:prstGeom prst="rect">
              <a:avLst/>
            </a:prstGeom>
            <a:solidFill>
              <a:srgbClr val="a5a5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مستطيل 10"/>
            <p:cNvSpPr/>
            <p:nvPr/>
          </p:nvSpPr>
          <p:spPr>
            <a:xfrm>
              <a:off x="7086600" y="3348360"/>
              <a:ext cx="1292400" cy="1305720"/>
            </a:xfrm>
            <a:prstGeom prst="rect">
              <a:avLst/>
            </a:prstGeom>
            <a:solidFill>
              <a:srgbClr val="ad6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مستطيل 12"/>
            <p:cNvSpPr/>
            <p:nvPr/>
          </p:nvSpPr>
          <p:spPr>
            <a:xfrm>
              <a:off x="3941640" y="4869720"/>
              <a:ext cx="1292400" cy="1305720"/>
            </a:xfrm>
            <a:prstGeom prst="rect">
              <a:avLst/>
            </a:prstGeom>
            <a:solidFill>
              <a:srgbClr val="b435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88" name="مجموعة 6"/>
          <p:cNvGrpSpPr/>
          <p:nvPr/>
        </p:nvGrpSpPr>
        <p:grpSpPr>
          <a:xfrm>
            <a:off x="3941640" y="1827360"/>
            <a:ext cx="4437360" cy="4348080"/>
            <a:chOff x="3941640" y="1827360"/>
            <a:chExt cx="4437360" cy="4348080"/>
          </a:xfrm>
        </p:grpSpPr>
        <p:sp>
          <p:nvSpPr>
            <p:cNvPr id="89" name="شكل حر: شكل 7"/>
            <p:cNvSpPr/>
            <p:nvPr/>
          </p:nvSpPr>
          <p:spPr>
            <a:xfrm>
              <a:off x="5363280" y="1827360"/>
              <a:ext cx="2886840" cy="1305720"/>
            </a:xfrm>
            <a:prstGeom prst="pie">
              <a:avLst/>
            </a:prstGeom>
            <a:solidFill>
              <a:srgbClr val="a5a5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102960" bIns="10296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176"/>
                </a:spcAft>
                <a:tabLst>
                  <a:tab algn="l" pos="0"/>
                  <a:tab algn="l" pos="1200240"/>
                  <a:tab algn="l" pos="2400480"/>
                  <a:tab algn="l" pos="3600360"/>
                  <a:tab algn="l" pos="4800600"/>
                  <a:tab algn="l" pos="6000840"/>
                  <a:tab algn="l" pos="7201080"/>
                  <a:tab algn="l" pos="8400960"/>
                  <a:tab algn="l" pos="9601200"/>
                  <a:tab algn="l" pos="10801440"/>
                </a:tabLst>
              </a:pPr>
              <a:r>
                <a:rPr b="0" lang="ar-SA" sz="2700" spc="-1" strike="noStrike">
                  <a:solidFill>
                    <a:srgbClr val="ffffff"/>
                  </a:solidFill>
                  <a:latin typeface="Calibri"/>
                </a:rPr>
                <a:t>لا تتطاول على أستاذك أو تقلل من احترامه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مستطيل 8"/>
            <p:cNvSpPr/>
            <p:nvPr/>
          </p:nvSpPr>
          <p:spPr>
            <a:xfrm>
              <a:off x="3941640" y="1827360"/>
              <a:ext cx="1292400" cy="1305720"/>
            </a:xfrm>
            <a:prstGeom prst="rect">
              <a:avLst/>
            </a:prstGeom>
            <a:solidFill>
              <a:srgbClr val="a5a5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مستطيل 10"/>
            <p:cNvSpPr/>
            <p:nvPr/>
          </p:nvSpPr>
          <p:spPr>
            <a:xfrm>
              <a:off x="7086600" y="3348360"/>
              <a:ext cx="1292400" cy="1305720"/>
            </a:xfrm>
            <a:prstGeom prst="rect">
              <a:avLst/>
            </a:prstGeom>
            <a:solidFill>
              <a:srgbClr val="ad6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مستطيل 12"/>
            <p:cNvSpPr/>
            <p:nvPr/>
          </p:nvSpPr>
          <p:spPr>
            <a:xfrm>
              <a:off x="3941640" y="4869720"/>
              <a:ext cx="1292400" cy="1305720"/>
            </a:xfrm>
            <a:prstGeom prst="rect">
              <a:avLst/>
            </a:prstGeom>
            <a:solidFill>
              <a:srgbClr val="b435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مربع نص 5"/>
          <p:cNvSpPr/>
          <p:nvPr/>
        </p:nvSpPr>
        <p:spPr>
          <a:xfrm>
            <a:off x="3882960" y="2173320"/>
            <a:ext cx="1231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</a:rPr>
              <a:t>لماذا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95" name="مجموعة 6"/>
          <p:cNvGrpSpPr/>
          <p:nvPr/>
        </p:nvGrpSpPr>
        <p:grpSpPr>
          <a:xfrm>
            <a:off x="3813120" y="1827360"/>
            <a:ext cx="4565880" cy="4348080"/>
            <a:chOff x="3813120" y="1827360"/>
            <a:chExt cx="4565880" cy="4348080"/>
          </a:xfrm>
        </p:grpSpPr>
        <p:sp>
          <p:nvSpPr>
            <p:cNvPr id="96" name="شكل حر: شكل 7"/>
            <p:cNvSpPr/>
            <p:nvPr/>
          </p:nvSpPr>
          <p:spPr>
            <a:xfrm>
              <a:off x="5363640" y="1827360"/>
              <a:ext cx="2886480" cy="1305720"/>
            </a:xfrm>
            <a:prstGeom prst="pie">
              <a:avLst/>
            </a:prstGeom>
            <a:solidFill>
              <a:srgbClr val="a5a5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102960" bIns="10296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176"/>
                </a:spcAft>
                <a:tabLst>
                  <a:tab algn="l" pos="0"/>
                  <a:tab algn="l" pos="1200240"/>
                  <a:tab algn="l" pos="2400480"/>
                  <a:tab algn="l" pos="3600360"/>
                  <a:tab algn="l" pos="4800600"/>
                  <a:tab algn="l" pos="6000840"/>
                  <a:tab algn="l" pos="7201080"/>
                  <a:tab algn="l" pos="8400960"/>
                  <a:tab algn="l" pos="9601200"/>
                  <a:tab algn="l" pos="10801440"/>
                </a:tabLst>
              </a:pPr>
              <a:r>
                <a:rPr b="0" lang="ar-SA" sz="2700" spc="-1" strike="noStrike">
                  <a:solidFill>
                    <a:srgbClr val="ffffff"/>
                  </a:solidFill>
                  <a:latin typeface="Calibri"/>
                </a:rPr>
                <a:t>لا تتطاول عليه أو تعامله بالمثل 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مستطيل 8"/>
            <p:cNvSpPr/>
            <p:nvPr/>
          </p:nvSpPr>
          <p:spPr>
            <a:xfrm>
              <a:off x="3942000" y="1827360"/>
              <a:ext cx="1292400" cy="1305720"/>
            </a:xfrm>
            <a:prstGeom prst="rect">
              <a:avLst/>
            </a:prstGeom>
            <a:solidFill>
              <a:srgbClr val="a5a5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شكل حر: شكل 9"/>
            <p:cNvSpPr/>
            <p:nvPr/>
          </p:nvSpPr>
          <p:spPr>
            <a:xfrm>
              <a:off x="3813120" y="3348360"/>
              <a:ext cx="3402360" cy="1305720"/>
            </a:xfrm>
            <a:prstGeom prst="pie">
              <a:avLst/>
            </a:prstGeom>
            <a:solidFill>
              <a:srgbClr val="ad6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102960" bIns="10296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176"/>
                </a:spcAft>
                <a:tabLst>
                  <a:tab algn="l" pos="0"/>
                  <a:tab algn="l" pos="1200240"/>
                  <a:tab algn="l" pos="2400480"/>
                  <a:tab algn="l" pos="3600360"/>
                  <a:tab algn="l" pos="4800600"/>
                  <a:tab algn="l" pos="6000840"/>
                  <a:tab algn="l" pos="7201080"/>
                  <a:tab algn="l" pos="8400960"/>
                  <a:tab algn="l" pos="9601200"/>
                  <a:tab algn="l" pos="10801440"/>
                </a:tabLst>
              </a:pPr>
              <a:r>
                <a:rPr b="0" lang="ar-SA" sz="2700" spc="-1" strike="noStrike">
                  <a:solidFill>
                    <a:srgbClr val="ffffff"/>
                  </a:solidFill>
                  <a:latin typeface="Calibri"/>
                </a:rPr>
                <a:t>لأنك لست له نِدًّا؛ لا في سنك، ولا في فكرك، ولا في مستواك العلمي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مستطيل 10"/>
            <p:cNvSpPr/>
            <p:nvPr/>
          </p:nvSpPr>
          <p:spPr>
            <a:xfrm>
              <a:off x="7086600" y="3348360"/>
              <a:ext cx="1292400" cy="1305720"/>
            </a:xfrm>
            <a:prstGeom prst="rect">
              <a:avLst/>
            </a:prstGeom>
            <a:solidFill>
              <a:srgbClr val="ad6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مستطيل 12"/>
            <p:cNvSpPr/>
            <p:nvPr/>
          </p:nvSpPr>
          <p:spPr>
            <a:xfrm>
              <a:off x="3942000" y="4869720"/>
              <a:ext cx="1292400" cy="1305720"/>
            </a:xfrm>
            <a:prstGeom prst="rect">
              <a:avLst/>
            </a:prstGeom>
            <a:solidFill>
              <a:srgbClr val="b435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" name="مربع نص 5"/>
          <p:cNvSpPr/>
          <p:nvPr/>
        </p:nvSpPr>
        <p:spPr>
          <a:xfrm>
            <a:off x="3882960" y="2173320"/>
            <a:ext cx="1231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</a:rPr>
              <a:t>لماذا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3" name="عنصر نائب للمحتوى 3" descr=""/>
          <p:cNvPicPr/>
          <p:nvPr/>
        </p:nvPicPr>
        <p:blipFill>
          <a:blip r:embed="rId1"/>
          <a:stretch/>
        </p:blipFill>
        <p:spPr>
          <a:xfrm>
            <a:off x="835200" y="1822320"/>
            <a:ext cx="1058220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5" name="عنصر نائب للمحتوى 3" descr=""/>
          <p:cNvPicPr/>
          <p:nvPr/>
        </p:nvPicPr>
        <p:blipFill>
          <a:blip r:embed="rId1"/>
          <a:stretch/>
        </p:blipFill>
        <p:spPr>
          <a:xfrm>
            <a:off x="822240" y="1822320"/>
            <a:ext cx="1056492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80880" y="500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</a:rPr>
              <a:t>عزيزتي الطالبة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7" name="عنصر نائب للمحتوى 3" descr=""/>
          <p:cNvPicPr/>
          <p:nvPr/>
        </p:nvPicPr>
        <p:blipFill>
          <a:blip r:embed="rId1"/>
          <a:stretch/>
        </p:blipFill>
        <p:spPr>
          <a:xfrm>
            <a:off x="841320" y="1627200"/>
            <a:ext cx="10515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11606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 Light"/>
              </a:rPr>
              <a:t>احرصي على بناء العلاقة الطيبة مع أستاذتك في الجامعة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06520" y="281916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11606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 Light"/>
              </a:rPr>
              <a:t>احرصي على بناء العلاقة الطيبة مع أستاذتك في الجامعة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06520" y="281916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Calibri"/>
              </a:rPr>
              <a:t>وانهلي من علمها وتجربتها قبل انقضاء سنوات دراست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11606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 Light"/>
              </a:rPr>
              <a:t>احرصي على بناء العلاقة الطيبة مع أستاذتك في الجامعة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06520" y="281916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Calibri"/>
              </a:rPr>
              <a:t>وانهلي من علمها وتجربتها قبل انقضاء سنوات دراست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61704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 Light"/>
              </a:rPr>
              <a:t>خصائص العلاقة بين الأستاذ الجامعي والطالب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71480" y="26874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- 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علاقة منفعية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،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بالدرجة الأولى، وكلاهما انخرطا في العملية التعليمية لبلوغ أهداف محددة مسبقا، ولا دخل لهما لا في العملية ولا في الأهداف المسطرة، لتبقى العلاقة  بين الطرفين محكومة بظروف خارج عن الجمي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239184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00000"/>
                </a:solidFill>
                <a:latin typeface="Calibri Light"/>
              </a:rPr>
              <a:t>وتذكري</a:t>
            </a:r>
            <a:r>
              <a:rPr b="0" lang="ar-SA" sz="4000" spc="-1" strike="noStrike">
                <a:solidFill>
                  <a:srgbClr val="000000"/>
                </a:solidFill>
                <a:latin typeface="Calibri Light"/>
              </a:rPr>
              <a:t>:</a:t>
            </a:r>
            <a:br>
              <a:rPr sz="4000"/>
            </a:br>
            <a:r>
              <a:rPr b="0" lang="ar-SA" sz="4000" spc="-1" strike="noStrike">
                <a:solidFill>
                  <a:srgbClr val="000000"/>
                </a:solidFill>
                <a:latin typeface="Calibri Light"/>
              </a:rPr>
              <a:t>أن العلماء هم ورثة الأنبياء ، وأن الله وملائكته يصلون على معلم الناس الخير.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Calibri"/>
              </a:rPr>
              <a:t>وإن الملائكة لتضع أجنحتها لطالب العلم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Calibri"/>
              </a:rPr>
              <a:t>فكوني طالبةَ علم في اجتهادك وخلقك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Calibri"/>
              </a:rPr>
              <a:t>رعاك الله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61704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 Light"/>
              </a:rPr>
              <a:t>خصائص العلاقة بين الأستاذ الجامعي والطالب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85880" y="250632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- علاقة قسرية،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فهي راجعة بالأساس، لكون الطرفين ليسا مخيرين في عقد هذه الصلة، إنهما – في نهاية المطاف- ملزمين بالتعايش معا: بضع ساعات خلال الأسبوع، وضمن عدد محدد من الأسابي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1704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 Light"/>
              </a:rPr>
              <a:t>خصائص العلاقة بين الأستاذ الجامعي والطالب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3960" y="316368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غير متوقعة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،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لأن الصدفة هي التي جمعت أستاذا ما يتعامل مع تلميذ ما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61704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 Light"/>
              </a:rPr>
              <a:t>خصائص العلاقة بين الأستاذ الجامعي والطالب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73120" y="250632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ظل 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عابرة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تدوم مدة قصيرة. ورغم ذلك فإنها قد تكون مهمة ومؤثرة في بعض الأفراد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ن منا لا يتذكر أستاذ كان له التأثير على الاختيارات في الحياة الدراسية والتوجه بشكل عام، حتى أصبح قدوة ومثالا في الحياة كلها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61704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 Light"/>
              </a:rPr>
              <a:t>خصائص العلاقة بين الأستاذ الجامعي والطالب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58880" y="250632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- غامضة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،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لأنه لا الأستاذ ولا التلاميذ لديهم خطوط واضحة حول حدود تطور العلاقة التي سيعيشونها معا. وجدير بالذكر أن هذه الحدود تختلف: حسب العصور، فارق السن بين الطرفين، المفاهيم والقيم السائدة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61704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 Light"/>
              </a:rPr>
              <a:t>خصائص العلاقة بين الأستاذ الجامعي والطالب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58880" y="308412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تواجد 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وسيطة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تماما، فهي منسوجة حول المادة الواجب تدريسها وتعلمها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93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</a:rPr>
              <a:t>العلاقة بين الأستاذ الجامعي والطالب قائمة على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" name="عنصر نائب للمحتوى 3" descr=""/>
          <p:cNvPicPr/>
          <p:nvPr/>
        </p:nvPicPr>
        <p:blipFill>
          <a:blip r:embed="rId1"/>
          <a:stretch/>
        </p:blipFill>
        <p:spPr>
          <a:xfrm>
            <a:off x="835200" y="1805040"/>
            <a:ext cx="105217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0T06:18:52Z</dcterms:created>
  <dc:creator>منال الفيصل</dc:creator>
  <dc:description/>
  <dc:language>en-US</dc:language>
  <cp:lastModifiedBy>منال الفيصل</cp:lastModifiedBy>
  <dcterms:modified xsi:type="dcterms:W3CDTF">2017-04-10T07:57:29Z</dcterms:modified>
  <cp:revision>9</cp:revision>
  <dc:subject/>
  <dc:title>علاقة الأستاذ الجامعي بطلابه</dc:title>
</cp:coreProperties>
</file>