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172-14FD-4B25-A61A-3D50B6C1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7CA-A741-466A-8096-A23EFEF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A5A-9473-4CD9-862F-DBB4C0B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DFB-5061-4E5D-A5DE-006FCE6C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A59-7C21-4C84-8983-C22E05E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C36-AE0F-43B7-B8D7-0AB14627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B4E-E64F-45F0-B775-C619DCD0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3A0-2E73-4CB2-B4B6-CAC95B9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DB7-767D-45DC-BEB7-5BE942D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85D-FE40-415D-A4BD-C329F24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E03-F086-41AD-A9C8-FE5175E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1B8-EA58-46EE-AEC8-C974787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1304-03EA-4BF3-8962-BBF038DBD2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9494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 Light"/>
              </a:rPr>
              <a:t>علاقة الأستاذ الجامعي بطلابه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94200" y="1582560"/>
            <a:ext cx="217332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قرر أشد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93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لعلاقة بين الأستاذ الجامعي والطالب قائمة على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05040"/>
            <a:ext cx="10521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إخلاص في التعليم لخدمة الدين والوطن والأمة البشرية:</a:t>
            </a:r>
            <a:br>
              <a:rPr sz="3200"/>
            </a:b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إن من شأن هذا الخلق أن يدفع الأستاذ إلى تحمل كل معاناة الحياة في سبيل التعليم، وفي سبيل بناء الأجيال وتربيتهم بما يخدم الصالح العام.</a:t>
            </a:r>
            <a:br>
              <a:rPr sz="3600"/>
            </a:b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صدق والأمانة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قتضي هذا الخلق اضطلاع الأستاذ بمهمته على أحسن وجه وأكمل صورة بعيدا عن كل إهمال في وظيفته العلمية. 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التزام خلق الحوار وتغليبه في مناقشة المتعلمين، والابتعاد عن كل أشكال التسلط والقه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• الصبر والحلم والتأني</a:t>
            </a:r>
            <a:br>
              <a:rPr sz="3200"/>
            </a:b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ستوجب هذا: الصبر على المتعلمين على اختلاف مستوياتهم وفئاتهم الاجتما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09692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واجبات الأستاذ الجامعي تجاه طلابه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احترام والتواضع من غير مذلة ولا مهان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إتقان التعليم: </a:t>
            </a:r>
            <a:r>
              <a:rPr b="0" lang="ar-SA" sz="3200" spc="-1" strike="noStrike">
                <a:solidFill>
                  <a:srgbClr val="c55a11"/>
                </a:solidFill>
                <a:latin typeface="Calibri"/>
              </a:rPr>
              <a:t>ويقتضي هذا من الأستاذ بذل قصارى جهده من أجل تكوين نفسه وتجديد معارفه لإفادة متعلمي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508040" y="801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واجبات الطالب الجامعي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235080" y="2465280"/>
            <a:ext cx="105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تزكية النفس وتطهيرها من جميع النيات السيئ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لتأدب مع الأساتذة والإداريين واحترامه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حسن معاملة الزملاء داخل القاعة وخارجها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تزام الصدق والأمانة والنظا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508040" y="801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واجبات الطالب الجامعي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235080" y="2465280"/>
            <a:ext cx="105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اجتهاد في المذاكرة والتعل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لتحلي بالصبر والهمة العالي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ترك الغش والخدا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احترام ممتلكات المؤسسة ومرافقها العام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لتشبع بروح الحوار والتسامح وقبول الاختلا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55a11"/>
                </a:solidFill>
                <a:latin typeface="Calibri"/>
              </a:rPr>
              <a:t> استغلال الوقت وتنظيمه لمزيد من تحصيل العلم والمعرفة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عنصر نائب للمحتوى 5" descr=""/>
          <p:cNvPicPr/>
          <p:nvPr/>
        </p:nvPicPr>
        <p:blipFill>
          <a:blip r:embed="rId1"/>
          <a:stretch/>
        </p:blipFill>
        <p:spPr>
          <a:xfrm>
            <a:off x="-1274760" y="579600"/>
            <a:ext cx="12509640" cy="5954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040" y="26049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من الذي يملك زمام المبادرة في تحديد العلاقة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040" y="26049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من الذي يملك زمام المبادرة في تحديد العلاقة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سحابة 3"/>
          <p:cNvSpPr/>
          <p:nvPr/>
        </p:nvSpPr>
        <p:spPr>
          <a:xfrm>
            <a:off x="4691160" y="3898800"/>
            <a:ext cx="3313080" cy="2371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2"/>
          <p:cNvSpPr/>
          <p:nvPr/>
        </p:nvSpPr>
        <p:spPr>
          <a:xfrm>
            <a:off x="4200480" y="4530600"/>
            <a:ext cx="315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Calibri"/>
              </a:rPr>
              <a:t>الطالب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41320" y="1749600"/>
            <a:ext cx="105156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2" name="مجموعة 6"/>
          <p:cNvGrpSpPr/>
          <p:nvPr/>
        </p:nvGrpSpPr>
        <p:grpSpPr>
          <a:xfrm>
            <a:off x="3941640" y="1827360"/>
            <a:ext cx="4437360" cy="4348080"/>
            <a:chOff x="3941640" y="1827360"/>
            <a:chExt cx="4437360" cy="4348080"/>
          </a:xfrm>
        </p:grpSpPr>
        <p:sp>
          <p:nvSpPr>
            <p:cNvPr id="83" name="شكل حر: شكل 7"/>
            <p:cNvSpPr/>
            <p:nvPr/>
          </p:nvSpPr>
          <p:spPr>
            <a:xfrm>
              <a:off x="5363280" y="1827360"/>
              <a:ext cx="288684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ى أستاذك أو تقلل من احترامه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مستطيل 8"/>
            <p:cNvSpPr/>
            <p:nvPr/>
          </p:nvSpPr>
          <p:spPr>
            <a:xfrm>
              <a:off x="394164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مستطيل 12"/>
            <p:cNvSpPr/>
            <p:nvPr/>
          </p:nvSpPr>
          <p:spPr>
            <a:xfrm>
              <a:off x="394164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8" name="مجموعة 6"/>
          <p:cNvGrpSpPr/>
          <p:nvPr/>
        </p:nvGrpSpPr>
        <p:grpSpPr>
          <a:xfrm>
            <a:off x="3941640" y="1827360"/>
            <a:ext cx="4437360" cy="4348080"/>
            <a:chOff x="3941640" y="1827360"/>
            <a:chExt cx="4437360" cy="4348080"/>
          </a:xfrm>
        </p:grpSpPr>
        <p:sp>
          <p:nvSpPr>
            <p:cNvPr id="89" name="شكل حر: شكل 7"/>
            <p:cNvSpPr/>
            <p:nvPr/>
          </p:nvSpPr>
          <p:spPr>
            <a:xfrm>
              <a:off x="5363280" y="1827360"/>
              <a:ext cx="288684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ى أستاذك أو تقلل من احترامه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مستطيل 8"/>
            <p:cNvSpPr/>
            <p:nvPr/>
          </p:nvSpPr>
          <p:spPr>
            <a:xfrm>
              <a:off x="394164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مستطيل 12"/>
            <p:cNvSpPr/>
            <p:nvPr/>
          </p:nvSpPr>
          <p:spPr>
            <a:xfrm>
              <a:off x="394164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مربع نص 5"/>
          <p:cNvSpPr/>
          <p:nvPr/>
        </p:nvSpPr>
        <p:spPr>
          <a:xfrm>
            <a:off x="3882960" y="2173320"/>
            <a:ext cx="123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لماذا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5" name="مجموعة 6"/>
          <p:cNvGrpSpPr/>
          <p:nvPr/>
        </p:nvGrpSpPr>
        <p:grpSpPr>
          <a:xfrm>
            <a:off x="3813120" y="1827360"/>
            <a:ext cx="4565880" cy="4348080"/>
            <a:chOff x="3813120" y="1827360"/>
            <a:chExt cx="4565880" cy="4348080"/>
          </a:xfrm>
        </p:grpSpPr>
        <p:sp>
          <p:nvSpPr>
            <p:cNvPr id="96" name="شكل حر: شكل 7"/>
            <p:cNvSpPr/>
            <p:nvPr/>
          </p:nvSpPr>
          <p:spPr>
            <a:xfrm>
              <a:off x="5363640" y="1827360"/>
              <a:ext cx="2886480" cy="130572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ا تتطاول عليه أو تعامله بالمثل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مستطيل 8"/>
            <p:cNvSpPr/>
            <p:nvPr/>
          </p:nvSpPr>
          <p:spPr>
            <a:xfrm>
              <a:off x="3942000" y="1827360"/>
              <a:ext cx="1292400" cy="1305720"/>
            </a:xfrm>
            <a:prstGeom prst="rect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شكل حر: شكل 9"/>
            <p:cNvSpPr/>
            <p:nvPr/>
          </p:nvSpPr>
          <p:spPr>
            <a:xfrm>
              <a:off x="3813120" y="3348360"/>
              <a:ext cx="3402360" cy="1305720"/>
            </a:xfrm>
            <a:prstGeom prst="pie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0" lang="ar-SA" sz="2700" spc="-1" strike="noStrike">
                  <a:solidFill>
                    <a:srgbClr val="ffffff"/>
                  </a:solidFill>
                  <a:latin typeface="Calibri"/>
                </a:rPr>
                <a:t>لأنك لست له نِدًّا؛ لا في سنك، ولا في فكرك، ولا في مستواك العلمي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مستطيل 10"/>
            <p:cNvSpPr/>
            <p:nvPr/>
          </p:nvSpPr>
          <p:spPr>
            <a:xfrm>
              <a:off x="7086600" y="3348360"/>
              <a:ext cx="1292400" cy="1305720"/>
            </a:xfrm>
            <a:prstGeom prst="rect">
              <a:avLst/>
            </a:prstGeom>
            <a:solidFill>
              <a:srgbClr val="ad6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مستطيل 12"/>
            <p:cNvSpPr/>
            <p:nvPr/>
          </p:nvSpPr>
          <p:spPr>
            <a:xfrm>
              <a:off x="3942000" y="4869720"/>
              <a:ext cx="1292400" cy="1305720"/>
            </a:xfrm>
            <a:prstGeom prst="rect">
              <a:avLst/>
            </a:prstGeom>
            <a:solidFill>
              <a:srgbClr val="b435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مربع نص 5"/>
          <p:cNvSpPr/>
          <p:nvPr/>
        </p:nvSpPr>
        <p:spPr>
          <a:xfrm>
            <a:off x="3882960" y="2173320"/>
            <a:ext cx="123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لماذا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22320"/>
            <a:ext cx="10582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22240" y="1822320"/>
            <a:ext cx="105649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808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عزيزتي الطالب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41320" y="1627200"/>
            <a:ext cx="1051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Calibri"/>
              </a:rPr>
              <a:t>وانهلي من علمها وتجربتها قبل انقضاء سنوات دراست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1606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احرصي على بناء العلاقة الطيبة مع أستاذتك في الجام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6520" y="2819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Calibri"/>
              </a:rPr>
              <a:t>وانهلي من علمها وتجربتها قبل انقضاء سنوات دراست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71480" y="2687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علاقة منفعي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لدرجة الأولى، وكلاهما انخرطا في العملية التعليمية لبلوغ أهداف محددة مسبقا، ولا دخل لهما لا في العملية ولا في الأهداف المسطرة، لتبقى العلاقة  بين الطرفين محكومة بظروف خارج عن الجمي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391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Calibri Light"/>
              </a:rPr>
              <a:t>وتذكري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</a:rPr>
              <a:t>: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 Light"/>
              </a:rPr>
              <a:t>أن العلماء هم ورثة الأنبياء ، وأن الله وملائكته يصلون على معلم الناس الخير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وإن الملائكة لتضع أجنحتها لطالب العل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فكوني طالبةَ علم في اجتهادك وخلق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رعاك الله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858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علاقة قسرية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هي راجعة بالأساس، لكون الطرفين ليسا مخيرين في عقد هذه الصلة، إنهما – في نهاية المطاف- ملزمين بالتعايش معا: بضع ساعات خلال الأسبوع، وضمن عدد محدد من الأسابي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3960" y="3163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غير متوقع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ن الصدفة هي التي جمعت أستاذا ما يتعامل مع تلميذ 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312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ظل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عابر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دوم مدة قصيرة. ورغم ذلك فإنها قد تكون مهمة ومؤثرة في بعض الأفرا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منا لا يتذكر أستاذ كان له التأثير على الاختيارات في الحياة الدراسية والتوجه بشكل عام، حتى أصبح قدوة ومثالا في الحياة كلها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88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غامض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نه لا الأستاذ ولا التلاميذ لديهم خطوط واضحة حول حدود تطور العلاقة التي سيعيشونها معا. وجدير بالذكر أن هذه الحدود تختلف: حسب العصور، فارق السن بين الطرفين، المفاهيم والقيم السائدة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 Light"/>
              </a:rPr>
              <a:t>خصائص العلاقة بين الأستاذ الجامعي والطالب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8880" y="3084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تواجد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سيط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ماما، فهي منسوجة حول المادة الواجب تدريسها وتعلم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93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لعلاقة بين الأستاذ الجامعي والطالب قائمة على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835200" y="1805040"/>
            <a:ext cx="10521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6:18:52Z</dcterms:created>
  <dc:creator>منال الفيصل</dc:creator>
  <dc:description/>
  <dc:language>en-US</dc:language>
  <cp:lastModifiedBy>منال الفيصل</cp:lastModifiedBy>
  <dcterms:modified xsi:type="dcterms:W3CDTF">2017-04-10T07:57:29Z</dcterms:modified>
  <cp:revision>9</cp:revision>
  <dc:subject/>
  <dc:title>علاقة الأستاذ الجامعي بطلابه</dc:title>
</cp:coreProperties>
</file>