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0835-DC84-486C-97B1-6B4DF32001A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83C7-E506-470A-82F1-44E5386A8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04B57-F6F9-48BF-B5DE-41E9A8F9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6757D-CD5D-40AF-A3C5-1CBA02EB4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B493E-84BE-413B-94A7-87EBFCAEB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F4F7-CA41-4F24-83A6-40AAE0398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4FFAD-91B1-40F3-9DCC-28088FB79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AAB21-765C-437D-97E5-64E43DF65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6DEB7-C102-4276-9DE9-38AD63673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66506-DF4A-42A8-8B8D-C54B4B065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D56E3-2DCC-4586-8272-0AE53CC34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711F-5D46-41D5-8727-6527FDFFC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1618-CC86-490A-98C3-83BA282BB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1906-FFA3-4B2C-820A-5ECE7B6A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3849D-9970-46DA-B8A3-C9B314DA4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DD343-D9F8-4598-91A7-CC3E8DD82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74CEC-FCD5-466C-89A6-D39828389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869D3-4838-4941-AB46-41709093B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39556-5693-4631-A9A1-578A81E1C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0E618A-2106-4F19-8FC6-4E8D480D7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B1498-F0E5-47EE-A46E-94C2C4CBE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74024-5E81-4C42-8E56-BE3EBD0CE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930FF-CF31-46C5-8414-0EBCA1A16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047A1-8BC2-4220-934B-3F1D2E68D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1101C-031A-4018-B8DE-4051533B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F3609-79B0-4AFA-9149-24F4FB053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3CA8A-DB56-457B-8E5D-CAD637EE5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D81F5-B687-4082-A2BF-6E024910E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A1EF4-1E82-4262-BDF3-F043DA747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BE1F8-FE08-4492-857B-83BE63760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6D840C-F15A-45B5-B301-C4204D94E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CDBC21-4CD3-404B-9C6C-1B461E681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A1BDC1-D229-48BA-AC4B-21A937BB94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F1584-3811-439D-B300-325FF61E9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FB030-5201-4B7B-9F35-8535E6660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E429-3903-48B5-B47F-AA10E7E3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4A05F-8A30-4AE3-9117-8D352E0C6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C9C34-FE0E-4E30-BB74-7452BFAA9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FD921-7937-45FD-AC4B-BB3109842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C4D17-8F7B-48F3-973D-86BB7DCF1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CC849-3554-49E0-B270-2D010441C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FC44F-324F-46FD-AF2E-FB9A07418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86541-D6A4-426A-9D2C-CB638C15C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A68F5-EF00-4825-AFE0-283C75624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32B0AE-F656-43F7-B380-D1F89F42C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C90E5-1AF2-483E-838C-30EB0E676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6B416-AFA1-4ED7-93E4-D7ABE48C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CE642-B7E0-4E36-838C-F923D476B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AE4AA-4A04-47BB-A920-9CE10F92A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64ABE-EA21-4808-9DD8-B350444DA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7C5B66-64BC-4619-804F-2F0443FCB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EC6E7-047C-4124-81E4-277C243BC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FB117-5EE4-4D7D-8CAA-F94C92ADE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50244-5523-40AC-A018-789448018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832F8-9E06-4C7A-8642-6CF8EC18B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A8979-F843-4E8F-8812-2325718A1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C973E-DB47-426B-BD80-11A9E9ADD8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0E6B-0E8A-4DB6-9508-61F4E2C3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C0043C-D2CE-4952-940F-CF7093FC17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6B028B-954B-40D2-857B-F08C295AE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A2FBD-306A-41D7-AFDB-2DDB66718B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7E68A1-49E0-4F3C-A071-B17A6EAC9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44F42F-3F28-457C-A64B-073CC09A3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61894-908F-4B42-84B4-E4861DA62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19FE7-5FA8-4E8B-9CB9-3D84F7664D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196D17-3463-4A7C-BCBD-6E4CA4357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9ECE3-FBAB-4424-B2A7-2E145891C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6FE03-8197-4F9D-9D6D-7F1953148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18DC-0163-4E74-AE77-31DD24D39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0EFD9-3D37-4299-8D63-04626FFCC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640725-F46E-4DC8-9288-7D4397664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6426D1-1D57-4BE1-8040-68AADEDB53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FA4037-1F60-45FE-8C9F-D4B47C8D6D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F91963-B874-4392-A832-FE13C6021F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AB9D4-A691-4517-A62A-CD6FC6BE6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48752C-521A-4E8E-A144-84B7D49D4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80929-EAE9-4DA2-A5A3-7D6DF1D9DA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031B4-23CE-4651-9590-59C69904F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F6946-0089-4BE1-B4F2-FB8D1D294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5099-299D-4B97-B66D-0FF1052A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79F1C-AE8F-4C90-8A91-906FC2A63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A89FC-1B02-4A08-8AB9-28E72818B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96AAC-0B35-4757-A508-CBE824E49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09084-386B-4E10-8C71-142EDDF697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2A0413-BE28-4109-A47E-4D15D7036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AB5DC-3D11-4478-9FB2-6F9F685F18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99E853-3BD7-4EB0-ADDC-A00040378B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BC5AA4-57DC-4393-9603-1E1CDB42B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FC9A8-5AC2-46E7-8FBB-15596225F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5DCE5E-D41E-4CB5-B2B9-8868A3173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62F2-5656-4182-99FF-B37255CF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A17ECD-FCDF-4FDD-8C2A-B59D87FAA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43E27-3AF2-4E83-8495-D17FC1942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E7CAD-1885-40FA-9ABA-858E06514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0810C-00F5-4FA2-8EDD-E5ADAC7EE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C0FAA-4B34-44A7-A853-46FA2A772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21C2F6-7F6D-4B44-BC0A-1C94333304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CB7A25-EEBE-4537-8D1B-D6FB6D8D02F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0408-3340-44E7-89D2-61B08DEEF7D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A40A-FEC7-4D36-BD1A-0E0281B2CDF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8997-30F0-4896-B9C9-4146DB80501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A684-B2B1-4EE6-BFAD-2E264D442F2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C53E-9198-41FC-BAEA-E71E1EADCC1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A8A5-2622-4C43-A58F-DF75E1AA3B9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D01F-6A7A-406D-AB26-F3BF74A5EAC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359E-43CC-4228-97AD-8660393C5F0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335240"/>
            <a:ext cx="8047080" cy="22618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700" spc="-1" strike="noStrike">
              <a:solidFill>
                <a:srgbClr val="464646"/>
              </a:solidFill>
              <a:latin typeface="Lucida Sans Unicode"/>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2" descr=""/>
          <p:cNvPicPr/>
          <p:nvPr/>
        </p:nvPicPr>
        <p:blipFill>
          <a:blip r:embed="rId1"/>
          <a:stretch/>
        </p:blipFill>
        <p:spPr>
          <a:xfrm>
            <a:off x="450720" y="115920"/>
            <a:ext cx="8242560" cy="1347840"/>
          </a:xfrm>
          <a:prstGeom prst="rect">
            <a:avLst/>
          </a:prstGeom>
          <a:ln w="0">
            <a:noFill/>
          </a:ln>
        </p:spPr>
      </p:pic>
      <p:sp>
        <p:nvSpPr>
          <p:cNvPr id="396"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Lucida Sans Unicode"/>
              <a:ea typeface="Arial"/>
            </a:endParaRPr>
          </a:p>
        </p:txBody>
      </p:sp>
      <p:sp>
        <p:nvSpPr>
          <p:cNvPr id="397"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Lucida Sans Unicode"/>
              <a:ea typeface="Arial"/>
            </a:endParaRPr>
          </a:p>
        </p:txBody>
      </p:sp>
      <p:sp>
        <p:nvSpPr>
          <p:cNvPr id="398" name=""/>
          <p:cNvSpPr txBox="1"/>
          <p:nvPr/>
        </p:nvSpPr>
        <p:spPr>
          <a:xfrm>
            <a:off x="456840" y="1444320"/>
            <a:ext cx="4040280" cy="39416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ركن التعبير اللغوي</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ea typeface="Arial"/>
              </a:rPr>
              <a:t> </a:t>
            </a:r>
            <a:r>
              <a:rPr b="1" lang="ar-SA" sz="2400" spc="-1" strike="noStrike">
                <a:solidFill>
                  <a:srgbClr val="000000"/>
                </a:solidFill>
                <a:latin typeface="Lucida Sans Unicode"/>
                <a:cs typeface="Arial"/>
              </a:rPr>
              <a:t>طاولة ليتمكن الاطفال من الكتابة عليها- ادوات الكتابة مثل الاقلام والاوراق – رف لحفظ الادوات</a:t>
            </a:r>
            <a:endParaRPr b="0" lang="en-US" sz="2400" spc="-1" strike="noStrike">
              <a:solidFill>
                <a:srgbClr val="000000"/>
              </a:solidFill>
              <a:latin typeface="Lucida Sans Unicode"/>
            </a:endParaRPr>
          </a:p>
        </p:txBody>
      </p:sp>
      <p:sp>
        <p:nvSpPr>
          <p:cNvPr id="399" name=""/>
          <p:cNvSpPr txBox="1"/>
          <p:nvPr/>
        </p:nvSpPr>
        <p:spPr>
          <a:xfrm>
            <a:off x="4644720" y="1444320"/>
            <a:ext cx="4041720" cy="3941640"/>
          </a:xfrm>
          <a:prstGeom prst="rect">
            <a:avLst/>
          </a:prstGeom>
          <a:noFill/>
          <a:ln w="0">
            <a:noFill/>
          </a:ln>
        </p:spPr>
        <p:txBody>
          <a:bodyPr anchor="t">
            <a:normAutofit fontScale="91000"/>
          </a:bodyPr>
          <a:p>
            <a:pPr marL="331920" indent="-2325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ركن المكتبة ينقسم الى</a:t>
            </a:r>
            <a:r>
              <a:rPr b="1" lang="ar-SA" sz="2800" spc="-1" strike="noStrike">
                <a:solidFill>
                  <a:srgbClr val="78310b"/>
                </a:solidFill>
                <a:latin typeface="Lucida Sans Unicode"/>
                <a:ea typeface="Arial"/>
              </a:rPr>
              <a:t> </a:t>
            </a:r>
            <a:endParaRPr b="0" lang="en-US" sz="2800" spc="-1" strike="noStrike">
              <a:solidFill>
                <a:srgbClr val="000000"/>
              </a:solidFill>
              <a:latin typeface="Lucida Sans Unicode"/>
            </a:endParaRPr>
          </a:p>
          <a:p>
            <a:pPr marL="331920" indent="-232560" algn="r" rtl="1">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منطقة الكتب</a:t>
            </a:r>
            <a:endParaRPr b="0" lang="en-US" sz="3200" spc="-1" strike="noStrike">
              <a:solidFill>
                <a:srgbClr val="000000"/>
              </a:solidFill>
              <a:latin typeface="Lucida Sans Unicode"/>
            </a:endParaRPr>
          </a:p>
          <a:p>
            <a:pPr marL="331920" indent="-232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Arial"/>
              </a:rPr>
              <a:t>تفرش بكراسي مريحة ومخدات-سجادة على الارض- بعض التفاصيل التي تجعل المنطقة حميمة- الاضاءة جيدة- الكتب معروضة بحيث تظهر اغلفتها وفي مستوى الاطفال</a:t>
            </a:r>
            <a:endParaRPr b="0" lang="en-US" sz="2200" spc="-1" strike="noStrike">
              <a:solidFill>
                <a:srgbClr val="000000"/>
              </a:solidFill>
              <a:latin typeface="Lucida Sans Unicode"/>
            </a:endParaRPr>
          </a:p>
          <a:p>
            <a:pPr marL="331920" indent="-232560" algn="r" rtl="1">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Arial"/>
              </a:rPr>
              <a:t>منطقة الاصغاء</a:t>
            </a:r>
            <a:endParaRPr b="0" lang="en-US" sz="2800" spc="-1" strike="noStrike">
              <a:solidFill>
                <a:srgbClr val="000000"/>
              </a:solidFill>
              <a:latin typeface="Lucida Sans Unicode"/>
            </a:endParaRPr>
          </a:p>
          <a:p>
            <a:pPr marL="331920" indent="-232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Arial"/>
              </a:rPr>
              <a:t>ترتب بطريقة مغرية للدخول- وجود اماكن مريحة للجلوس-  كراسي وطاولات- مكان على الرف لحفظ الاشرطة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طقة الكتب:</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ناك الكثير من الكتب التي تختار منها المعلمة ما يناسب اطفاله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وما يناسب مرحلتهم العمرية واهتماماتهم وتجاربهم.</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يضا تضاف الادوات التي تساعد الاطفال على اعادة سرد القصص مثل اللوحة الوبرية والدمى </a:t>
            </a:r>
            <a:endParaRPr b="0" lang="en-US" sz="2700" spc="-1" strike="noStrike">
              <a:solidFill>
                <a:srgbClr val="000000"/>
              </a:solidFill>
              <a:latin typeface="Lucida Sans Unicode"/>
            </a:endParaRPr>
          </a:p>
        </p:txBody>
      </p:sp>
      <p:pic>
        <p:nvPicPr>
          <p:cNvPr id="401" name="Title 6"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9000"/>
          </a:bodyPr>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تكون الاشرطة بمواصفات معينة:</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قصيرة لان مدى انتباه الاطفال محدود</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حيوية العرض لا تبعث على الملل</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جيدة الاخراج من الناحية الفنية- خالية من التشويش</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غير متحيزة لجنس او عرق في محتواها</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تحتوي على اصوات رجالية ونسائي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يمكن ان تكون الاشرطة مصحوبة بالكتب الموجودة في منطقة الكتب ويكون بها اشارة لتوقيت قلب الصفح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اشرطة الاناشيد ومن شروطها: ممتعة – تقدم مفاهيم – تثير المشاعر- متنوعة الايقاع</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تجدد المعلمة في ادوات المنطقتين وتضيف لها باستمرار</a:t>
            </a:r>
            <a:endParaRPr b="0" lang="en-US" sz="2800" spc="-1" strike="noStrike">
              <a:solidFill>
                <a:srgbClr val="000000"/>
              </a:solidFill>
              <a:latin typeface="Lucida Sans Unicode"/>
            </a:endParaRPr>
          </a:p>
        </p:txBody>
      </p:sp>
      <p:pic>
        <p:nvPicPr>
          <p:cNvPr id="4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fontScale="85000"/>
          </a:bodyPr>
          <a:p>
            <a:pPr marL="309960" indent="-217080" algn="r" rtl="1">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كتابة </a:t>
            </a:r>
            <a:r>
              <a:rPr b="0" lang="ar-SA" sz="3200" spc="-1" strike="noStrike">
                <a:solidFill>
                  <a:srgbClr val="000000"/>
                </a:solidFill>
                <a:latin typeface="Lucida Sans Unicode"/>
                <a:ea typeface="Arial"/>
              </a:rPr>
              <a:t>: </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اوراق باحجام مختلفة</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اقلام خشبية – شمعية- فلوماستر</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طباشير والواح</a:t>
            </a:r>
            <a:endParaRPr b="0" lang="en-US" sz="3200" spc="-1" strike="noStrike">
              <a:solidFill>
                <a:srgbClr val="000000"/>
              </a:solidFill>
              <a:latin typeface="Lucida Sans Unicode"/>
            </a:endParaRPr>
          </a:p>
          <a:p>
            <a:pPr marL="309960" indent="-217080" algn="r" rtl="1">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طباعة</a:t>
            </a:r>
            <a:r>
              <a:rPr b="0" lang="ar-SA" sz="3200" spc="-1" strike="noStrike">
                <a:solidFill>
                  <a:srgbClr val="000000"/>
                </a:solidFill>
                <a:latin typeface="Lucida Sans Unicode"/>
                <a:ea typeface="Arial"/>
              </a:rPr>
              <a:t>: طباعات حروف وارقام- نماذج مفرغة للحروف والارقام</a:t>
            </a:r>
            <a:endParaRPr b="0" lang="en-US" sz="3200" spc="-1" strike="noStrike">
              <a:solidFill>
                <a:srgbClr val="000000"/>
              </a:solidFill>
              <a:latin typeface="Lucida Sans Unicode"/>
            </a:endParaRPr>
          </a:p>
          <a:p>
            <a:pPr marL="309960" indent="-217080" algn="r" rtl="1">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rial"/>
              </a:rPr>
              <a:t> </a:t>
            </a:r>
            <a:r>
              <a:rPr b="0" lang="ar-SA" sz="3200" spc="-1" strike="noStrike">
                <a:solidFill>
                  <a:srgbClr val="78310b"/>
                </a:solidFill>
                <a:latin typeface="Lucida Sans Unicode"/>
                <a:cs typeface="Arial"/>
              </a:rPr>
              <a:t>اوراق متنوعة: </a:t>
            </a:r>
            <a:r>
              <a:rPr b="0" lang="ar-SA" sz="3200" spc="-1" strike="noStrike">
                <a:solidFill>
                  <a:srgbClr val="000000"/>
                </a:solidFill>
                <a:latin typeface="Lucida Sans Unicode"/>
                <a:cs typeface="Arial"/>
              </a:rPr>
              <a:t>مسطرة  وغير مسطرة- كروت – ظروف- كربون- </a:t>
            </a:r>
            <a:endParaRPr b="0" lang="en-US" sz="3200" spc="-1" strike="noStrike">
              <a:solidFill>
                <a:srgbClr val="000000"/>
              </a:solidFill>
              <a:latin typeface="Lucida Sans Unicode"/>
            </a:endParaRPr>
          </a:p>
          <a:p>
            <a:pPr marL="309960" indent="-217080" algn="r" rtl="1">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اخرى: </a:t>
            </a:r>
            <a:r>
              <a:rPr b="0" lang="ar-SA" sz="3200" spc="-1" strike="noStrike">
                <a:solidFill>
                  <a:srgbClr val="000000"/>
                </a:solidFill>
                <a:latin typeface="Lucida Sans Unicode"/>
                <a:cs typeface="Arial"/>
              </a:rPr>
              <a:t>دباسة – مقصات – مساكات ورق- برايات ومحايات</a:t>
            </a:r>
            <a:endParaRPr b="0" lang="en-US" sz="3200" spc="-1" strike="noStrike">
              <a:solidFill>
                <a:srgbClr val="000000"/>
              </a:solidFill>
              <a:latin typeface="Lucida Sans Unicode"/>
            </a:endParaRPr>
          </a:p>
        </p:txBody>
      </p:sp>
      <p:pic>
        <p:nvPicPr>
          <p:cNvPr id="405" name="Title 2" descr=""/>
          <p:cNvPicPr/>
          <p:nvPr/>
        </p:nvPicPr>
        <p:blipFill>
          <a:blip r:embed="rId5"/>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جب ان تكون الكتب معروضة بجاذبية وتظهر اغلفتها للاطفال.</a:t>
            </a: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بالنسبة للاشرطة وادوات الكتابة يراعى التنظيم وسهولة الحصول على الادوات ، التصنيف من خلال كتابة اسم الاداة ووضع صورتها</a:t>
            </a:r>
            <a:endParaRPr b="0" lang="en-US" sz="2700" spc="-1" strike="noStrike">
              <a:solidFill>
                <a:srgbClr val="000000"/>
              </a:solidFill>
              <a:latin typeface="Lucida Sans Unicode"/>
            </a:endParaRPr>
          </a:p>
          <a:p>
            <a:pPr marL="353880" indent="-24768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310b"/>
                </a:solidFill>
                <a:latin typeface="Lucida Sans Unicode"/>
                <a:cs typeface="Arial"/>
              </a:rPr>
              <a:t>العناية بالركنين</a:t>
            </a:r>
            <a:endParaRPr b="0" lang="en-US" sz="40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جب المحافظة على ادوات الركن في حالة سليمة ، لماذا؟</a:t>
            </a:r>
            <a:endParaRPr b="0" lang="en-US" sz="28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مكن ان تشرك المعلمة الاطفال في العناية بالاركان من خلال           ( صندوق الترميم)</a:t>
            </a:r>
            <a:endParaRPr b="0" lang="en-US" sz="28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fontScale="99000"/>
          </a:bodyPr>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a1f28"/>
                </a:solidFill>
                <a:latin typeface="Lucida Sans Unicode"/>
                <a:cs typeface="Arial"/>
              </a:rPr>
              <a:t>اولا: ملاحظة الاطفال</a:t>
            </a:r>
            <a:r>
              <a:rPr b="0" lang="ar-SA" sz="2500" spc="-1" strike="noStrike">
                <a:solidFill>
                  <a:srgbClr val="000000"/>
                </a:solidFill>
                <a:latin typeface="Lucida Sans Unicode"/>
                <a:ea typeface="Arial"/>
              </a:rPr>
              <a:t>:</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ناك طريقتين للملاحظة: </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ea typeface="Arial"/>
              </a:rPr>
              <a:t>1</a:t>
            </a:r>
            <a:r>
              <a:rPr b="0" lang="ar-SA" sz="2500" spc="-1" strike="noStrike">
                <a:solidFill>
                  <a:srgbClr val="000000"/>
                </a:solidFill>
                <a:latin typeface="Lucida Sans Unicode"/>
                <a:ea typeface="Arial"/>
              </a:rPr>
              <a:t>- ملاحظة طفل معين لفترة من الوقت وتسجيل ما يقول وما يفعل</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ea typeface="Arial"/>
              </a:rPr>
              <a:t>2</a:t>
            </a:r>
            <a:r>
              <a:rPr b="0" lang="ar-SA" sz="2500" spc="-1" strike="noStrike">
                <a:solidFill>
                  <a:srgbClr val="000000"/>
                </a:solidFill>
                <a:latin typeface="Lucida Sans Unicode"/>
                <a:ea typeface="Arial"/>
              </a:rPr>
              <a:t>- ملاحظة كل الاطفال في الركن لمدة </a:t>
            </a:r>
            <a:r>
              <a:rPr b="0" lang="ar-SA" sz="2500" spc="-1" strike="noStrike">
                <a:solidFill>
                  <a:srgbClr val="000000"/>
                </a:solidFill>
                <a:latin typeface="Lucida Sans Unicode"/>
                <a:ea typeface="Arial"/>
              </a:rPr>
              <a:t>10</a:t>
            </a:r>
            <a:r>
              <a:rPr b="0" lang="ar-SA" sz="2500" spc="-1" strike="noStrike">
                <a:solidFill>
                  <a:srgbClr val="000000"/>
                </a:solidFill>
                <a:latin typeface="Lucida Sans Unicode"/>
                <a:ea typeface="Arial"/>
              </a:rPr>
              <a:t>-</a:t>
            </a:r>
            <a:r>
              <a:rPr b="0" lang="ar-SA" sz="2500" spc="-1" strike="noStrike">
                <a:solidFill>
                  <a:srgbClr val="000000"/>
                </a:solidFill>
                <a:latin typeface="Lucida Sans Unicode"/>
                <a:ea typeface="Arial"/>
              </a:rPr>
              <a:t>15</a:t>
            </a:r>
            <a:r>
              <a:rPr b="0" lang="ar-SA" sz="2500" spc="-1" strike="noStrike">
                <a:solidFill>
                  <a:srgbClr val="000000"/>
                </a:solidFill>
                <a:latin typeface="Lucida Sans Unicode"/>
                <a:ea typeface="Arial"/>
              </a:rPr>
              <a:t> دقييقة لعدة ايام وتسجيل ما يقولون وما يفعلون</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a1f28"/>
                </a:solidFill>
                <a:latin typeface="Lucida Sans Unicode"/>
                <a:cs typeface="Arial"/>
              </a:rPr>
              <a:t>من الامور التي تلاحظها المعلم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كم مره يختار الطفل الركن اثناء فترة العمل الحر؟</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كيف يتعامل مع الكتب؟</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اي الكتب يختار؟</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تظاهر بالقراء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شير الى الكلمات المطبوع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ستعمل الدمى او اللوحة الوبرية؟</a:t>
            </a:r>
            <a:endParaRPr b="0" lang="en-US" sz="2500" spc="-1" strike="noStrike">
              <a:solidFill>
                <a:srgbClr val="000000"/>
              </a:solidFill>
              <a:latin typeface="Lucida Sans Unicode"/>
            </a:endParaRPr>
          </a:p>
        </p:txBody>
      </p:sp>
      <p:pic>
        <p:nvPicPr>
          <p:cNvPr id="40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عند ملاحظة منطقة الاصغاء، تلاحظ المعلمة</a:t>
            </a:r>
            <a:r>
              <a:rPr b="0" lang="ar-SA" sz="2700" spc="-1" strike="noStrike">
                <a:solidFill>
                  <a:srgbClr val="da1f28"/>
                </a:solidFill>
                <a:latin typeface="Lucida Sans Unicode"/>
                <a:ea typeface="Arial"/>
              </a:rPr>
              <a:t>:</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م مره يختار الطفل الركن؟</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م المدة الزمنية التي يقضيها في الاستماع؟</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ل يستطيع الطفل استخدام الادوات باستقلالي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عند ملاحظة ركن التعبير اللغوي، تلاحظ المعلمة</a:t>
            </a:r>
            <a:r>
              <a:rPr b="0" lang="ar-SA" sz="2700" spc="-1" strike="noStrike">
                <a:solidFill>
                  <a:srgbClr val="da1f28"/>
                </a:solidFill>
                <a:latin typeface="Lucida Sans Unicode"/>
                <a:ea typeface="Arial"/>
              </a:rPr>
              <a:t>:</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ل يظهر الطفل اهتمام ب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اهي المرحلة التي يمر بها الطفل في 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يف يحمل ويستخدم ادوات 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التفاعل مع الاطفال في الركن:</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دخول الركن يومي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حدث مع الاطفال عما يفعلون ( يدعم النمو اللغوي- يشجع الاطفال)</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في منطقة الكتب يمكن ان تعلق على تجاربهم، وتشجعها، مثل : تعجبني طريقة تقليبك للكتب</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مفتوحة مثل : لو كنت مكان الدب الصغير كيف سيكون شعورك، لماذا تعجبك هذه القصة بالذات، ماهي الامور التي يمكن ان تخيف الاطفال ايض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رأ لهم قصة، من خلال كتاب او من خلال الدمى والوسائل</a:t>
            </a: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في منطقة الاصغاء: </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شارك المعلمة الطفل الاستماع لشريط، او تساعدهم في تقليب الصفحات</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ركن التعبير اللغ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تدخل لشرح طريقة استخدام اداة مثل الخرام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عليق على عمل طفل </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طلب من الاطفال التحدث عن كتاباتهم</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تساعد على حل المشكلة مثل ( ماذا يمكن ان نفعل حتى يكتب القلم؟)</a:t>
            </a:r>
            <a:endParaRPr b="0" lang="en-US" sz="2700" spc="-1" strike="noStrike">
              <a:solidFill>
                <a:srgbClr val="000000"/>
              </a:solidFill>
              <a:latin typeface="Lucida Sans Unicode"/>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جب ان تدعم المعلمة التواصل الشفهي في غرفة الصف وفي هذا الركن خاصة.</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دعم المعلمة اللغة من خلال اللعب بالدمى مع الاطفال خصوصا الطفل الخجول.</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دم الاشارة لاخطاء الطفل اللغوية، فقط تعيد صياغة الجملة بشكل صحيح.</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ثري لغة الطفل باستخدام كلمات وتعابير متنوعة وجمل وصفية كاملة</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صوت المعلمة يكون هادئ.</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مفتوحة – مناقشة مفاهيم.</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شجيع الاطفال على تسجيل حديثهم ثم اعادة الاستماع اليه.</a:t>
            </a:r>
            <a:endParaRPr b="0" lang="en-US" sz="2700" spc="-1" strike="noStrike">
              <a:solidFill>
                <a:srgbClr val="000000"/>
              </a:solidFill>
              <a:latin typeface="Lucida Sans Unicode"/>
            </a:endParaRPr>
          </a:p>
        </p:txBody>
      </p:sp>
      <p:pic>
        <p:nvPicPr>
          <p:cNvPr id="41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1109520" y="828720"/>
            <a:ext cx="8083800" cy="1847880"/>
          </a:xfrm>
          <a:prstGeom prst="rect">
            <a:avLst/>
          </a:prstGeom>
          <a:ln w="0">
            <a:noFill/>
          </a:ln>
        </p:spPr>
      </p:pic>
      <p:sp>
        <p:nvSpPr>
          <p:cNvPr id="380" name="PlaceHolder 1"/>
          <p:cNvSpPr>
            <a:spLocks noGrp="1"/>
          </p:cNvSpPr>
          <p:nvPr>
            <p:ph type="subTitle"/>
          </p:nvPr>
        </p:nvSpPr>
        <p:spPr>
          <a:xfrm>
            <a:off x="1116000" y="2781000"/>
            <a:ext cx="7772400" cy="1741320"/>
          </a:xfrm>
          <a:prstGeom prst="rect">
            <a:avLst/>
          </a:prstGeom>
          <a:noFill/>
          <a:ln w="0">
            <a:noFill/>
          </a:ln>
        </p:spPr>
        <p:txBody>
          <a:bodyPr lIns="45720" rIns="45720" anchor="t">
            <a:noAutofit/>
          </a:bodyPr>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القراءة المستقلة</a:t>
            </a:r>
            <a:endParaRPr b="0" lang="en-US" sz="2400" spc="-1" strike="noStrike">
              <a:solidFill>
                <a:srgbClr val="000000"/>
              </a:solidFill>
              <a:latin typeface="Lucida Sans Unicode"/>
            </a:endParaRPr>
          </a:p>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دور المعلمة في تعزيز القراءة المستقلة</a:t>
            </a:r>
            <a:endParaRPr b="0" lang="en-US" sz="2400" spc="-1" strike="noStrike">
              <a:solidFill>
                <a:srgbClr val="000000"/>
              </a:solidFill>
              <a:latin typeface="Lucida Sans Unicode"/>
            </a:endParaRPr>
          </a:p>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ركن المكتبة والتعبير اللغوي</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fontScale="86000"/>
          </a:bodyPr>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مساك الطفل للكتاب ومحاولة القراءة بشكل مستقل</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قراءة التي يختار فيها الطفل الكتاب او مادة القراءة التي يرغب بقراءتها بشكل مستقل بعيدا عن المعلمة.</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3920" indent="-219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هميتها:</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ثبتت الدراسات بإن الاطفال الذين يتعرفون على الادب في سن مبكر </a:t>
            </a:r>
            <a:r>
              <a:rPr b="0" lang="ar-SA" sz="2700" spc="-1" strike="noStrike">
                <a:solidFill>
                  <a:srgbClr val="000000"/>
                </a:solidFill>
                <a:latin typeface="Lucida Sans Unicode"/>
                <a:cs typeface="Arial"/>
              </a:rPr>
              <a:t>يميلون الى تطوير بنى لغوية جيدة مما يرتبط بنجاحهم في تعلم القراءة.</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يزداد اهتمام الاطفال بالادب </a:t>
            </a:r>
            <a:r>
              <a:rPr b="0" lang="ar-SA" sz="2700" spc="-1" strike="noStrike">
                <a:solidFill>
                  <a:srgbClr val="000000"/>
                </a:solidFill>
                <a:latin typeface="Lucida Sans Unicode"/>
                <a:cs typeface="Arial"/>
              </a:rPr>
              <a:t>عندما يوفر المعلمون انشطة ادبية مسلية خلال فترات الجدول اليومي ويصممون زوايا مكتبية جذابة</a:t>
            </a: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fontScale="85000"/>
          </a:bodyPr>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صفح الكتاب</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وصف الصور الموجودة في القصص والكتب.</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تأليف قصة من الصور</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عادة قراءة القصة بعد ان سمعها من المعلمة بطريقته الخاصة.</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قراءة كلمات يعرفها</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فكار تحفيزية مثل ( الكتاب الخفي)، اقرأ لهم قصة دون النظر الى الكتاب ثم اسألهم عن الصور الذهنية التي كونوها مثلاً دجاجة ، حبة قمح ، قصر....، ثم اطلب منهم البحث عن الكتاب المغلف الموجود في المكتبة والذي يتوقعون ان يكون هو الكتاب الذي يحمل القصة.</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اختيار: </a:t>
            </a:r>
            <a:r>
              <a:rPr b="0" lang="ar-SA" sz="2700" spc="-1" strike="noStrike">
                <a:solidFill>
                  <a:srgbClr val="000000"/>
                </a:solidFill>
                <a:latin typeface="Lucida Sans Unicode"/>
                <a:cs typeface="Arial"/>
              </a:rPr>
              <a:t>منح الطفل خيارات متعددة للقراء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تحدي: </a:t>
            </a:r>
            <a:r>
              <a:rPr b="0" lang="ar-SA" sz="2700" spc="-1" strike="noStrike">
                <a:solidFill>
                  <a:srgbClr val="000000"/>
                </a:solidFill>
                <a:latin typeface="Lucida Sans Unicode"/>
                <a:cs typeface="Arial"/>
              </a:rPr>
              <a:t>يحب ان يشعر الاطفال ببعض التحدي في اي نشاط حتى يشعروا بالانجاز، وذلك يعني توفير مواد للقراءة متناسبة من حيث محتواها ومواصفاتها للمرحلة العمرية التي يمر بها الاطفال ومناسبة للتجارب التي مروا بها سابق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تعاون الاجتماعي: </a:t>
            </a:r>
            <a:r>
              <a:rPr b="0" lang="ar-SA" sz="2700" spc="-1" strike="noStrike">
                <a:solidFill>
                  <a:srgbClr val="000000"/>
                </a:solidFill>
                <a:latin typeface="Lucida Sans Unicode"/>
                <a:cs typeface="Arial"/>
              </a:rPr>
              <a:t>ان يكون هناك تفاعل اجتماعي ومشاركة مع الاطفال الاخر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نجاح: </a:t>
            </a:r>
            <a:r>
              <a:rPr b="0" lang="ar-SA" sz="2700" spc="-1" strike="noStrike">
                <a:solidFill>
                  <a:srgbClr val="000000"/>
                </a:solidFill>
                <a:latin typeface="Lucida Sans Unicode"/>
                <a:cs typeface="Arial"/>
              </a:rPr>
              <a:t>ان يشعر الطفل بالنجاح والانجاز، وهنا يكون دور المعلمة والام كبير في تشجيع الطفل.</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46160" y="115920"/>
            <a:ext cx="8712000" cy="13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ثرة وتنوع فرص القراءة المستقل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قراءة انواع مختلفة من الادب: قصائد- قصص- اشارات- ملصقات- رسائل...</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صغاء الى الكتب والقصص التي تقرأ لهم يوميا في الروضة ومناقشته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قراءة الكتب مع اهاليهم في المنزل</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378000" y="115920"/>
            <a:ext cx="8315280" cy="13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ثراء البيئة بمواد قراءة متنوعة ومختلف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زيز الممارسات الصحيحة للطفل عند القراءة مثل ( طريقة مسكة الكتاب وتصفحه - محافظته على الكتاب - محاولة تهجي بعض الكلم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زيز الطفل عند القراءة ( انت قاريء) ..حتى يرتبط عنده بانه لقب جميل.</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أهداف النمو الادراكي</a:t>
            </a:r>
            <a:r>
              <a:rPr b="0" lang="ar-SA" sz="2700" spc="-1" strike="noStrike">
                <a:solidFill>
                  <a:srgbClr val="ff0000"/>
                </a:solidFill>
                <a:latin typeface="Lucida Sans Unicode"/>
                <a:ea typeface="Arial"/>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حب الكتب</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الخيال والابداع</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مفردات ولغة الاطفال</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مهارات القراءة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هداف النمو العاطفي – الاجتماع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التعامل مع تجارب الحياة الصعب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مكن من المهارات الاجتماع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كتشاف الادوار الاجتماع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0720" y="115920"/>
            <a:ext cx="824256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اهداف النمو الجسدي:</a:t>
            </a:r>
            <a:endParaRPr b="0" lang="en-US" sz="32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العضلات الصغرى</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سين المتابعة النظر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شحذ التآزر البصري اليدو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شحذ مهارات الاصغاء</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الاتجاهات</a:t>
            </a:r>
            <a:endParaRPr b="0" lang="en-US" sz="2700" spc="-1" strike="noStrike">
              <a:solidFill>
                <a:srgbClr val="000000"/>
              </a:solidFill>
              <a:latin typeface="Lucida Sans Unicode"/>
            </a:endParaRPr>
          </a:p>
        </p:txBody>
      </p:sp>
      <p:pic>
        <p:nvPicPr>
          <p:cNvPr id="39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4:07:42Z</dcterms:created>
  <dc:creator>SNS</dc:creator>
  <dc:description/>
  <dc:language>en-US</dc:language>
  <cp:lastModifiedBy>H S</cp:lastModifiedBy>
  <dcterms:modified xsi:type="dcterms:W3CDTF">2014-04-08T16:18:05Z</dcterms:modified>
  <cp:revision>38</cp:revision>
  <dc:subject/>
  <dc:title>Slide 1</dc:title>
</cp:coreProperties>
</file>