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55E5-2A7E-4D47-BF03-CD46C6C8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1F9-6D65-44E5-A476-44BDC410A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DF3D-58B2-4360-8EFA-1F8CBCBB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2804-9488-4671-AA4A-75E74B8C2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5B6-42F1-44C1-A993-E80D4ACB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36A1-4DF6-4D36-88A2-5A2AF73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677C-E0B4-4EED-B73F-95BCD7B4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AECD-86D7-489B-9561-2AE11DE8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EAF1-6FE5-4721-BE99-BA45DA7A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0A8-CCA6-4C48-AE83-3DC41445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BEDE-7E90-4DD4-827B-076116C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E6D4-B273-43FF-BBF5-C1D830A6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E952-166E-433E-A0AA-FE0FE75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FCE7-36B0-4762-A183-390B0997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8575-40CF-454F-A0F6-5BEDF79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FBBD-0B38-4F0C-A299-1BEAE18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4BE-FF20-4DDA-8F18-CD9875CD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D51-9BFD-47BC-B615-F85521BD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A76-2293-42DA-805F-8B492568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C78-EC10-4F75-BB1C-19D604A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C0C5-2B92-4854-8B9B-67D84EC0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E66-7AD1-4C18-A159-FD57ECE7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C76-4FE8-45F5-81F0-E9B1B8A8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527-2292-4566-94EE-E0394116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AAF1-239E-4CB9-A9A2-B5F658B8EB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e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255F-7316-499E-906C-C321A02003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gs.najah.edu/ar/node/1994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47640" y="152280"/>
            <a:ext cx="8028000" cy="460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الاقتباس والتوثيق </a:t>
            </a:r>
            <a:br>
              <a:rPr sz="4800"/>
            </a:b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 طريقة جمعية علم النفس الأمريكية</a:t>
            </a:r>
            <a:r>
              <a:rPr b="0" lang="ar-EG" sz="4800" spc="-1" strike="noStrike">
                <a:solidFill>
                  <a:srgbClr val="000000"/>
                </a:solidFill>
                <a:latin typeface="Arial"/>
              </a:rPr>
              <a:t> مع اضافات لها وتعديلات 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merican Psychology Association (AP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280" y="188640"/>
            <a:ext cx="799308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76000" y="90792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توثيق بحث منشور في مجلة علمية محكمة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(يشار لرقم صفحات البحث كاملة)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مجلة العلمية المحكمة تصدر عن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جامعة أو معهد أكاديمي،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تخضع البحوث المنشورة فيها قبل قبولها للنشر إلى تحكيم من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أشخاص مختصين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في مجال الدراسة، وهم الذين يحددون صلاحيتها للنشر من عدمه، أو أنها بحاجة إلى تعديلات ، إذا ما إلتزم الباحث بتنفيذها يقبل بحثة للنشر، وبخلافة يرفض نشر البحث، وتعتمد هذة الأبحاث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لغايات ترقية أعضاء هيئة التدريس في الجامعات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إلى رتب علمية أعلى من رتبهم الحالية . وتوثق البحوث العلمية المحكمة ك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اسم الباحث، (سنة النشر)، " عنوان البحث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مجل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الجهة التي تصدرها، ودولتها، رقم المجلد- إن وجد- (رقم العدد): أرقام صفحات البحث كامل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6840" y="1015560"/>
            <a:ext cx="821844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774"/>
              </a:spcBef>
              <a:buClr>
                <a:srgbClr val="00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100" spc="-1" strike="noStrike">
                <a:solidFill>
                  <a:srgbClr val="006600"/>
                </a:solidFill>
                <a:latin typeface="Calibri"/>
                <a:cs typeface="Times New Roman"/>
              </a:rPr>
              <a:t>مثال</a:t>
            </a:r>
            <a:r>
              <a:rPr b="1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1</a:t>
            </a:r>
            <a:r>
              <a:rPr b="1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 :</a:t>
            </a:r>
            <a:r>
              <a:rPr b="0" lang="ar-JO" sz="3100" spc="-1" strike="noStrike">
                <a:solidFill>
                  <a:srgbClr val="006600"/>
                </a:solidFill>
                <a:latin typeface="Calibri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سن، ربحي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999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، " الاقتباس و التوثيق في البحوث العلمية 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دارة العام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معهد الإدارة العامة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الرياض-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ملكة العربية السعودي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cs typeface="Times New Roman"/>
              </a:rPr>
              <a:t>،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(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3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):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75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-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89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( الرقم الأول للمجلد والرقم بين القوسين للعدد والرقم الذي يليهما لصفحات البحث في المجل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 rtl="1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مش، مصطفى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، " الفروق في مركز التحكم وتقدير الذات بين ذوي صعوبات القراءة والعاديين من تلاميذ المرحلة الإبتدائية"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جلة إتحاد الجامعات العربية وعلم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نفس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الجمعية العلمية لكليات التربية ومعاهدها في الجامعات العربية، دمشق – سوريا ، كانون ثاني،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4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(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):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12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 - 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57</a:t>
            </a:r>
            <a:r>
              <a:rPr b="0" lang="ar-JO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7640" y="225360"/>
            <a:ext cx="7956720" cy="6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68000" y="1088640"/>
            <a:ext cx="8388360" cy="54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JO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JO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توثيق رسالة أو أطروحة جامع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أ- </a:t>
            </a:r>
            <a:r>
              <a:rPr b="1" lang="ar-JO" sz="3200" spc="-1" strike="noStrike">
                <a:solidFill>
                  <a:srgbClr val="800080"/>
                </a:solidFill>
                <a:latin typeface="Calibri"/>
              </a:rPr>
              <a:t>إذا كانت منشورة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: توثق كالآتي 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اسم الكاتب، (سنة النشر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عنوان الرسالة أو الأطروح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سالة ماجستير أو أطروحة دكتوراه منشورة مقدمة إلى : كلية (ونذكر اسم الكلية)، في جامعة ( ونذكر اسم الجامعة )، الـدولة، التـاريخ، الطـبعة -إن وجـدت- ( مكان النشر: النا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3200" spc="-1" strike="noStrike">
                <a:solidFill>
                  <a:srgbClr val="0066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كساسبة، محمد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عوامل المؤثرة في الثقة التنظيمية، دراسة ميدانية على أجهزة الخدمة المدنية الأردني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سالة ماجستير منشورة مقدمة إلى : كلية الدراسات العليا في الجامعة الأردنية،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اردن ,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ط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(عمان : الدار العالمية للنشر والتوزيع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8327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ب- </a:t>
            </a:r>
            <a:r>
              <a:rPr b="1" lang="ar-JO" sz="3200" spc="-1" strike="noStrike">
                <a:solidFill>
                  <a:srgbClr val="800080"/>
                </a:solidFill>
                <a:latin typeface="Arial"/>
              </a:rPr>
              <a:t>إذا كانت غير منشورة 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وثق كالآتي: اسم الك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، ( سنة المناقشة)،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عنوان الرسالة أ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أطروح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رسالة ماجستير أو أطروحة دكتوراه غير منشورة مقدمة إلى : كلية الدراسات العليا مثلاً، في جامعة عين شمس، والدولة (جمهورية مصر العرب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JO" sz="3200" spc="-1" strike="noStrike">
                <a:solidFill>
                  <a:srgbClr val="006600"/>
                </a:solidFill>
                <a:latin typeface="Arial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شناق، معن سرور، 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أنماط القيادية لمديري المدارس الثانوية المهن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حكومية في الأردن من وجهة نظر المعلمين وعلاقتها بالرضا الوظي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أطروحة دكتوراه غير منشورة مقدمة إلى : كلية التربية، بجامعة بغداد / العراق.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79930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000000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1160640"/>
            <a:ext cx="824400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قوانين والأ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ملكة الأردنية الهاشمية، قانون الشركات رقم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 لسنة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الكتاب السنوي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لمملكة الأردنية الهاشمية، جامعة البترا،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دليل الطالب، عمان: مطبعة الأوائ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280" y="225000"/>
            <a:ext cx="7885080" cy="75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قائمة المصادر – الكتب العرب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8101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سيكار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م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طرق البحث في الإدارة: مدخل بناء المهارات البحث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رجمـ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سماعيل علي بسيوني وعبدالله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 سليم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زاز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رياض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طابع جامعة الملك سعو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بد الستار، وقنديل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امر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مدخل إلى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المسي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788508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Arial"/>
              </a:rPr>
              <a:t>قائمة المصادر – الكتب العرب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68360" y="1160640"/>
            <a:ext cx="80280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لاق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شير،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طبيقات تكنولوجيا المعلومات في الأعمال: مدخل تسويق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مؤسسة الوراق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مي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حمود سلمان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سلوك التنظيمي في منظمات الأعما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وائ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لن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لوز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وسى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طويـر التنظيمي: أساسيات ومفاهيم حديث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: دار وائل 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ج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عبود نجم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إدارة المعرفة: المفاهيم والاستراتيجيات والعملي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 عمان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مؤسسة الوراق للنشر والتوز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6920" y="-360"/>
            <a:ext cx="8170920" cy="15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000000"/>
                </a:solidFill>
                <a:latin typeface="Arial"/>
              </a:rPr>
              <a:t>المرجع المستخدم للإضافات لهذا العرض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42920" y="1233360"/>
            <a:ext cx="846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كت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قحطاني ,جمعان بن سعيد ,الرفاعي,خالد بن عبدالله ,معمار,صلاح بن صالح ,(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م),مهارات التعلم والتفكير والبحث , ط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, (الرياض,جامعة الملك سعود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7640" y="189000"/>
            <a:ext cx="78120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</a:rPr>
              <a:t>التوثيق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34560" y="1449360"/>
            <a:ext cx="741708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توثيق الكتا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سم المؤلف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رقم الطبعة، (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سال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ؤيد سعيد، 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نظمات التعل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اهر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 المنظمة العربية للتنمية الإدار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225000"/>
            <a:ext cx="8280720" cy="574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11280" y="980640"/>
            <a:ext cx="802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توثيق الكتاب المترج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اسم المؤلف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اسم المترجم، رقم الطبعة، ( 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بيتل ؛ ليستر آر،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5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إدارة الوقت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ترجمة: محمد نجار، مراجعة هشام عبد الله، ط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، ( عمان : الأهلية للنشر والتوزي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259920"/>
            <a:ext cx="80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6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31640" y="944640"/>
            <a:ext cx="846144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ثيق كتاب سنوي 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ذكر الدولة تليها المؤسسة، (السنة)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م الكتا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 ( مكان النشر: دار النشر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مثال: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ملكة الأردنية الهاشمية / جامعة البلقاء التطبيقية 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006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 ،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دليل الطالب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  <a:cs typeface="Times New Roman"/>
              </a:rPr>
              <a:t>، ( السلط : جامعة البلقاء التطبيق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ff0000"/>
                </a:solidFill>
                <a:latin typeface="Calibri"/>
              </a:rPr>
              <a:t>توثيق عدة مؤلفات لكاتب واحد: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يتم ترتيبها في قائمة المراجع حسب الترتيب الهجائي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لعنوان الكتاب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إذا كان بعضها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مفردا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ً وبعضها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مشتركاً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مع آخرين تذكر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المفردة أولاً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وترتّب </a:t>
            </a:r>
            <a:r>
              <a:rPr b="1" lang="ar-JO" sz="3200" spc="-1" strike="noStrike">
                <a:solidFill>
                  <a:srgbClr val="0033cc"/>
                </a:solidFill>
                <a:latin typeface="Calibri"/>
              </a:rPr>
              <a:t>هجائياً حسب عنوان الكتاب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ثم المشتركة، وحسب الترتيب الهجائي لاسم المؤلف الثاني، ويترك خط في مكان اسم المؤلف في الكتاب الثاني وهكذا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280" y="189000"/>
            <a:ext cx="8101080" cy="790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58560" y="1125360"/>
            <a:ext cx="86058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مثا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القمش، مصطفى نوري،( 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إعاقة السمعية و اضطرابات النطق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واللغ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عمّان: دار الفكر للنشر و التوز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ـــــــــــــــــــــ،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سيكولوجية الأطفال ذوي الإحتياجات الخاص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   (مقدمة في التربي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خاصة)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(عمان: دار المسير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   للنشر والتوز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ــــــــــــــــــــــ، والبواليز، محمد عبد السلام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قياس والتقوي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    في التربية الخاص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عمان: دار الفكر للنش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   والتوزيع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ـــــــــــــــــ، والمعايطة ، خليل عبد الرحمن (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)، </a:t>
            </a: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الاضطرابات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Calibri"/>
              </a:rPr>
              <a:t>                السلوكية والإنفعالية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ط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، ( عمان: دار المسيرة للنشر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Calibri"/>
              </a:rPr>
              <a:t>                 والتوزيع والطباع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640" y="297000"/>
            <a:ext cx="8064720" cy="90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cc"/>
                </a:solidFill>
                <a:latin typeface="Arial"/>
              </a:rPr>
              <a:t>قائمة المصادر – الكتب العرب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58560" y="1557360"/>
            <a:ext cx="8461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جو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شوقي ناجي،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دارة الأعمال: منظور كل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 عمان: دار الحام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__________،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سياسات الإدار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، عمان: دار الحام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-216000" y="692280"/>
            <a:ext cx="9288720" cy="69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توثيق من الانترنت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اسم الاخير للمؤلف , الاسم الاول للمؤلف,عنوان المنشور,عنوان الموقع على الشب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في حال كون المؤلف جهة فيكون التوثيق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اسم الجهة,عنوان المنشور,عنوان الموقع على الشبك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ffffff"/>
                </a:solidFill>
                <a:latin typeface="Arial"/>
              </a:rPr>
              <a:t>كلية الدراسات العليا , طرق توثيق المصادر والمراجع 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gs.najah.edu/ar/node/199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83502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44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08000" y="101556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Arial"/>
              </a:rPr>
              <a:t>التوثيق لمقال او تقرير منشور في مجل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الاسم الاخير للمؤلف ,الاسم الاول للمؤلف,اسم الموضوع ,اسم المجلة ,الجزء,المجلد, مكان الاصدار,تاريخ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القحطاني ,جمعان بن سعيد ,الرفاعي,خالد بن عبدالله ,معمار,صلاح بن صالح ,(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م),مهارات التعلم والتفكير والبحث , ط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, (الرياض,جامعة الملك سعود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89000"/>
            <a:ext cx="8229600" cy="50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Times New Roman"/>
              </a:rPr>
              <a:t> </a:t>
            </a:r>
            <a:r>
              <a:rPr b="1" lang="ar-JO" sz="3200" spc="-1" strike="noStrike">
                <a:solidFill>
                  <a:srgbClr val="0033cc"/>
                </a:solidFill>
                <a:latin typeface="Arial"/>
                <a:cs typeface="Times New Roman"/>
              </a:rPr>
              <a:t>أمثلة على توثيق المراجع في قائمة المراج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توثيق دراسة من مجموعة دراسات منشورة في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 كتاب:هنا تذكر أرقام صفحات الدراسة كامل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ستراك ، رياض، والخرابشة، عمر،(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2004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)،"بناء برنامج تدريبي لتطوير عملية الإتصال للعاملين في الجامعات الأردنية الرسمية في ضوء كفاياتهم الإدارية" في :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دراسات في الإدار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Calibri"/>
              </a:rPr>
              <a:t>التربوية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، جمع وتحرير رياض ستراك، (عمان : دار وائل للنشر والتوزيع،)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83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ص-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147</a:t>
            </a:r>
            <a:r>
              <a:rPr b="0" lang="ar-JO" sz="3200" spc="-1" strike="noStrike">
                <a:solidFill>
                  <a:srgbClr val="000000"/>
                </a:solidFill>
                <a:latin typeface="Calibri"/>
              </a:rPr>
              <a:t> 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neem ali</dc:creator>
  <dc:description/>
  <dc:language>en-US</dc:language>
  <cp:lastModifiedBy>Windows User</cp:lastModifiedBy>
  <dcterms:modified xsi:type="dcterms:W3CDTF">2013-10-13T10:40:01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