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6F5-46B5-409A-8CF0-65F845C9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A09-773B-4ABF-B4CA-81A22034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C13-CF79-4A0F-980B-8B100FAD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F12-A2B8-43C9-B013-44FCB683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1439-5842-4D1F-BCB8-7D749AF1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FB17-4C95-451C-9428-B3112AFE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17EE-2DAB-4168-AEF2-64B64E5C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B575-6CF7-4E2C-A352-BC00B16A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AA20-3044-49B5-B729-FD8B6194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2A4E-080D-46FA-B9D4-894F8568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474E-AEA1-44EE-82EA-FCF7F0A0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5C3-B262-468B-8541-20317FAE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EDF9-C9C2-4DE6-B261-F89EB4D1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92C8-53DD-41BF-B3C1-58CCC776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F6A5-E67C-469F-961C-2C61F2B5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3662-B9C8-40BD-B88B-82C21647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A489-D7AE-4C01-9A67-F6B31A6C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5AC-0A50-44CB-AD82-C20C8550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908-4592-4542-97C5-23BC83A0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F51-95D0-4BDC-82C3-27C30FC6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8617-7C07-46B1-8D61-4A991A65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F85-FBF1-4B14-9F49-0DFE1220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E19-E81B-46CB-AB29-BAF43800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A00-0B7A-4285-936A-152D99D8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1186-D36B-49EB-A540-77845F5031A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D455-A93F-4809-8924-C573CCAA6EB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gs.najah.edu/ar/node/1994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7640" y="152280"/>
            <a:ext cx="8028000" cy="460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الاقتباس والتوثيق </a:t>
            </a:r>
            <a:br>
              <a:rPr sz="4800"/>
            </a:b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طريقة جمعية علم النفس الأمريكية</a:t>
            </a: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مع اضافات لها وتعديلات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merican Psychology Association (AP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7280" y="188640"/>
            <a:ext cx="799308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0033cc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76000" y="90792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JO" sz="3200" spc="-1" strike="noStrike">
                <a:solidFill>
                  <a:srgbClr val="006600"/>
                </a:solidFill>
                <a:latin typeface="Calibri"/>
              </a:rPr>
              <a:t>توثيق بحث منشور في مجلة علمية محكمة: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(يشار لرقم صفحات البحث كاملة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المجلة العلمية المحكمة تصدر عن </a:t>
            </a:r>
            <a:r>
              <a:rPr b="1" lang="ar-JO" sz="3200" spc="-1" strike="noStrike">
                <a:solidFill>
                  <a:srgbClr val="0033cc"/>
                </a:solidFill>
                <a:latin typeface="Calibri"/>
              </a:rPr>
              <a:t>جامعة أو معهد أكاديمي،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وتخضع البحوث المنشورة فيها قبل قبولها للنشر إلى تحكيم من </a:t>
            </a:r>
            <a:r>
              <a:rPr b="1" lang="ar-JO" sz="3200" spc="-1" strike="noStrike">
                <a:solidFill>
                  <a:srgbClr val="0033cc"/>
                </a:solidFill>
                <a:latin typeface="Calibri"/>
              </a:rPr>
              <a:t>أشخاص مختصين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في مجال الدراسة، وهم الذين يحددون صلاحيتها للنشر من عدمه، أو أنها بحاجة إلى تعديلات ، إذا ما إلتزم الباحث بتنفيذها يقبل بحثة للنشر، وبخلافة يرفض نشر البحث، وتعتمد هذة الأبحاث </a:t>
            </a:r>
            <a:r>
              <a:rPr b="1" lang="ar-JO" sz="3200" spc="-1" strike="noStrike">
                <a:solidFill>
                  <a:srgbClr val="0033cc"/>
                </a:solidFill>
                <a:latin typeface="Calibri"/>
              </a:rPr>
              <a:t>لغايات ترقية أعضاء هيئة التدريس في الجامعات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إلى رتب علمية أعلى من رتبهم الحالية . وتوثق البحوث العلمية المحكمة ك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 اسم الباحث، (سنة النشر)، " عنوان البحث"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اسم المجلة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، الجهة التي تصدرها، ودولتها، رقم المجلد- إن وجد- (رقم العدد): أرقام صفحات البحث كامل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6840" y="1015560"/>
            <a:ext cx="82184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774"/>
              </a:spcBef>
              <a:buClr>
                <a:srgbClr val="00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100" spc="-1" strike="noStrike">
                <a:solidFill>
                  <a:srgbClr val="006600"/>
                </a:solidFill>
                <a:latin typeface="Calibri"/>
                <a:cs typeface="Times New Roman"/>
              </a:rPr>
              <a:t>مثال</a:t>
            </a:r>
            <a:r>
              <a:rPr b="1" lang="ar-JO" sz="3100" spc="-1" strike="noStrike">
                <a:solidFill>
                  <a:srgbClr val="006600"/>
                </a:solidFill>
                <a:latin typeface="Calibri"/>
                <a:ea typeface="Times New Roman"/>
              </a:rPr>
              <a:t>1</a:t>
            </a:r>
            <a:r>
              <a:rPr b="1" lang="ar-JO" sz="3100" spc="-1" strike="noStrike">
                <a:solidFill>
                  <a:srgbClr val="006600"/>
                </a:solidFill>
                <a:latin typeface="Calibri"/>
                <a:ea typeface="Times New Roman"/>
              </a:rPr>
              <a:t> :</a:t>
            </a:r>
            <a:r>
              <a:rPr b="0" lang="ar-JO" sz="3100" spc="-1" strike="noStrike">
                <a:solidFill>
                  <a:srgbClr val="006600"/>
                </a:solidFill>
                <a:latin typeface="Calibri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سن، ربحي، (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999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، " الاقتباس و التوثيق في البحوث العلمية "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دارة العامة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، معهد الإدارة العامة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الرياض-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لمملكة العربية السعودية 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cs typeface="Times New Roman"/>
              </a:rPr>
              <a:t>، 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7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(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37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): 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75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-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89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( الرقم الأول للمجلد والرقم بين القوسين للعدد والرقم الذي يليهما لصفحات البحث في المجل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مش، مصطفى، (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006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، " الفروق في مركز التحكم وتقدير الذات بين ذوي صعوبات القراءة والعاديين من تلاميذ المرحلة الإبتدائية"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مجلة إتحاد الجامعات العربية وعلم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نفس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، الجمعية العلمية لكليات التربية ومعاهدها في الجامعات العربية، دمشق – سوريا ، كانون ثاني، 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4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(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1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): 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12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- 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57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7640" y="225360"/>
            <a:ext cx="7956720" cy="61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0033cc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68000" y="1088640"/>
            <a:ext cx="838836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JO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JO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JO" sz="3200" spc="-1" strike="noStrike">
                <a:solidFill>
                  <a:srgbClr val="006600"/>
                </a:solidFill>
                <a:latin typeface="Calibri"/>
              </a:rPr>
              <a:t>توثيق رسالة أو أطروحة جامع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 أ- </a:t>
            </a:r>
            <a:r>
              <a:rPr b="1" lang="ar-JO" sz="3200" spc="-1" strike="noStrike">
                <a:solidFill>
                  <a:srgbClr val="800080"/>
                </a:solidFill>
                <a:latin typeface="Calibri"/>
              </a:rPr>
              <a:t>إذا كانت منشورة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: توثق كالآتي :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اسم الكاتب، (سنة النشر)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عنوان الرسالة أو الأطروحة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، رسالة ماجستير أو أطروحة دكتوراه منشورة مقدمة إلى : كلية (ونذكر اسم الكلية)، في جامعة ( ونذكر اسم الجامعة )، الـدولة، التـاريخ، الطـبعة -إن وجـدت- ( مكان النشر: الناش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JO" sz="3200" spc="-1" strike="noStrike">
                <a:solidFill>
                  <a:srgbClr val="006600"/>
                </a:solidFill>
                <a:latin typeface="Calibri"/>
              </a:rPr>
              <a:t>مثال: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كساسبة، محمد، (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2006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)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العوامل المؤثرة في الثقة التنظيمية، دراسة ميدانية على أجهزة الخدمة المدنية الأردنية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، رسالة ماجستير منشورة مقدمة إلى : كلية الدراسات العليا في الجامعة الأردنية،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اردن ,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ط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، (عمان : الدار العالمية للنشر والتوزيع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327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ب- </a:t>
            </a:r>
            <a:r>
              <a:rPr b="1" lang="ar-JO" sz="3200" spc="-1" strike="noStrike">
                <a:solidFill>
                  <a:srgbClr val="800080"/>
                </a:solidFill>
                <a:latin typeface="Arial"/>
              </a:rPr>
              <a:t>إذا كانت غير منشورة :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وثق كالآتي: اسم الك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ات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، ( سنة المناقشة)،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عنوان الرسالة أ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أطروح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 رسالة ماجستير أو أطروحة دكتوراه غير منشورة مقدمة إلى : كلية الدراسات العليا مثلاً، في جامعة عين شمس، والدولة (جمهورية مصر العربية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JO" sz="3200" spc="-1" strike="noStrike">
                <a:solidFill>
                  <a:srgbClr val="006600"/>
                </a:solidFill>
                <a:latin typeface="Arial"/>
              </a:rPr>
              <a:t>مثال: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شناق، معن سرور، (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،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أنماط القيادية لمديري المدارس الثانوية المهني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حكومية في الأردن من وجهة نظر المعلمين وعلاقتها بالرضا الوظيف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 أطروحة دكتوراه غير منشورة مقدمة إلى : كلية التربية، بجامعة بغداد / العراق.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7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000000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68360" y="1160640"/>
            <a:ext cx="824400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القوانين والأ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ملكة الأردنية الهاشمية، قانون الشركات رقم (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) لسنة 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الكتاب السنوي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ملكة الأردنية الهاشمية، جامعة البترا، (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)، دليل الطالب، عمان: مطبعة الأوائ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7280" y="225000"/>
            <a:ext cx="7885080" cy="75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قائمة المصادر – الكتب العرب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39280" y="1341360"/>
            <a:ext cx="8101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يكاران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وما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طرق البحث في الإدارة: مدخل بناء المهارات البحثي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رجمـ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سماعيل علي بسيوني وعبدالله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ن سليما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زاز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رياض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مطابع جامعة الملك سع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ل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بد الستار، وقنديلج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امر،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،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مدخل إلى إدارة المعرف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عمان: دار المسي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7280" y="189000"/>
            <a:ext cx="788508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قائمة المصادر – الكتب العرب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68360" y="1160640"/>
            <a:ext cx="80280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لاق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شير،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،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طبيقات تكنولوجيا المعلومات في الأعمال: مدخل تسويق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عمان: مؤسسة الوراق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نشر والتوز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ميان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حمود سلمان،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،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سلوك التنظيمي في منظمات الأعم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ط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عمان: دار وائ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نش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لوز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وسى،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،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تطويـر التنظيمي: أساسيات ومفاهيم حديث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عمان: دار وائل للنشر والتوز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جم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بود نجم،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،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إدارة المعرفة: المفاهيم والاستراتيجيات والعملي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عمان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مؤسسة الوراق للنشر والتوز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6920" y="-360"/>
            <a:ext cx="8170920" cy="15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Arial"/>
              </a:rPr>
              <a:t>المرجع المستخدم للإضافات لهذا العرض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42920" y="1233360"/>
            <a:ext cx="8461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كت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القحطاني ,جمعان بن سعيد ,الرفاعي,خالد بن عبدالله ,معمار,صلاح بن صالح ,(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م),مهارات التعلم والتفكير والبحث , ط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, (الرياض,جامعة الملك سعود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7640" y="189000"/>
            <a:ext cx="78120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0033cc"/>
                </a:solidFill>
                <a:latin typeface="Arial"/>
              </a:rPr>
              <a:t>التوثيق في قائمة المراج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34560" y="1449360"/>
            <a:ext cx="7417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توثيق الكتا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سم المؤلف، (السنة)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اسم الكتاب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، رقم الطبعة، (مكان النشر: دار النش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مثال: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سالم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ؤيد سعيد،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،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نظمات التعل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ط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اهر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 المنظمة العربية للتنمية الإداري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1640" y="225000"/>
            <a:ext cx="8280720" cy="574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0033cc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11280" y="980640"/>
            <a:ext cx="802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توثيق الكتاب المترجم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سم المؤلف، (السنة)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اسم الكتاب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، اسم المترجم، رقم الطبعة، ( مكان النشر: دار النش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مثال: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بيتل ؛ ليستر آر،(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2005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)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إدارة الوقت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، ترجمة: محمد نجار، مراجعة هشام عبد الله، ط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، ( عمان : الأهلية للنشر والتوزي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80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0033cc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31640" y="944640"/>
            <a:ext cx="846144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ثيق كتاب سنوي :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ذكر الدولة تليها المؤسسة، (السنة)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م الكتاب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،  ( مكان النشر: دار النش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مثال: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ملكة الأردنية الهاشمية / جامعة البلقاء التطبيقية (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006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 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دليل الطالب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، ( السلط : جامعة البلقاء التطبيق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JO" sz="3200" spc="-1" strike="noStrike">
                <a:solidFill>
                  <a:srgbClr val="ff0000"/>
                </a:solidFill>
                <a:latin typeface="Calibri"/>
              </a:rPr>
              <a:t>توثيق عدة مؤلفات لكاتب واحد: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يتم ترتيبها في قائمة المراجع حسب الترتيب الهجائي </a:t>
            </a:r>
            <a:r>
              <a:rPr b="1" lang="ar-JO" sz="3200" spc="-1" strike="noStrike">
                <a:solidFill>
                  <a:srgbClr val="0033cc"/>
                </a:solidFill>
                <a:latin typeface="Calibri"/>
              </a:rPr>
              <a:t>لعنوان الكتاب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وإذا كان بعضها </a:t>
            </a:r>
            <a:r>
              <a:rPr b="1" lang="ar-JO" sz="3200" spc="-1" strike="noStrike">
                <a:solidFill>
                  <a:srgbClr val="0033cc"/>
                </a:solidFill>
                <a:latin typeface="Calibri"/>
              </a:rPr>
              <a:t>مفردا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ً وبعضها </a:t>
            </a:r>
            <a:r>
              <a:rPr b="1" lang="ar-JO" sz="3200" spc="-1" strike="noStrike">
                <a:solidFill>
                  <a:srgbClr val="0033cc"/>
                </a:solidFill>
                <a:latin typeface="Calibri"/>
              </a:rPr>
              <a:t>مشتركاً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مع آخرين تذكر </a:t>
            </a:r>
            <a:r>
              <a:rPr b="1" lang="ar-JO" sz="3200" spc="-1" strike="noStrike">
                <a:solidFill>
                  <a:srgbClr val="0033cc"/>
                </a:solidFill>
                <a:latin typeface="Calibri"/>
              </a:rPr>
              <a:t>المفردة أولاً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وترتّب </a:t>
            </a:r>
            <a:r>
              <a:rPr b="1" lang="ar-JO" sz="3200" spc="-1" strike="noStrike">
                <a:solidFill>
                  <a:srgbClr val="0033cc"/>
                </a:solidFill>
                <a:latin typeface="Calibri"/>
              </a:rPr>
              <a:t>هجائياً حسب عنوان الكتاب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ثم المشتركة، وحسب الترتيب الهجائي لاسم المؤلف الثاني، ويترك خط في مكان اسم المؤلف في الكتاب الثاني وهكذا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7280" y="189000"/>
            <a:ext cx="8101080" cy="790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0033cc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58560" y="1125360"/>
            <a:ext cx="86058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مثال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قمش، مصطفى نوري،( 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)، </a:t>
            </a: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الإعاقة السمعية و اضطرابات النطق </a:t>
            </a: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    واللغة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، ط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، (عمّان: دار الفكر للنشر و التوز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ـــــــــــــــــــــ، (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)، </a:t>
            </a: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سيكولوجية الأطفال ذوي الإحتياجات الخاص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                   (مقدمة في التربية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الخاصة)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، ط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 (عمان: دار المسير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                    للنشر والتوز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ــــــــــــــــــــــ، والبواليز، محمد عبد السلام (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)، </a:t>
            </a: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القياس والتقوي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                    في التربية الخاصة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،ط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، (عمان: دار الفكر للنش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                    والتوزيع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 ـــــــــــــــــ، والمعايطة ، خليل عبد الرحمن (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)، </a:t>
            </a: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الاضطرابات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                السلوكية والإنفعالية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، ط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، ( عمان: دار المسيرة للنشر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                 والتوزيع والطباع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640" y="297000"/>
            <a:ext cx="8064720" cy="9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Arial"/>
              </a:rPr>
              <a:t>قائمة المصادر – الكتب العرب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58560" y="1557360"/>
            <a:ext cx="84610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جواد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شوقي ناجي،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،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دارة الأعمال: منظور كل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، عمان: دار الحام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__________،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)،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ياسات الإداري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، عمان: دار الحام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-216000" y="692280"/>
            <a:ext cx="928872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ar-JO" sz="3200" spc="-1" strike="noStrike">
                <a:solidFill>
                  <a:srgbClr val="0033cc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توثيق من الانترنت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اسم الاخير للمؤلف , الاسم الاول للمؤلف,عنوان المنشور,عنوان الموقع على الشبك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في حال كون المؤلف جهة فيكون التوثيق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اسم الجهة,عنوان المنشور,عنوان الموقع على الشبك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كلية الدراسات العليا , طرق توثيق المصادر والمراجع 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gs.najah.edu/ar/node/19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835020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ar-JO" sz="4400" spc="-1" strike="noStrike">
                <a:solidFill>
                  <a:srgbClr val="0033cc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08000" y="101556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التوثيق لمقال او تقرير منشور في مجل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الاسم الاخير للمؤلف ,الاسم الاول للمؤلف,اسم الموضوع ,اسم المجلة ,الجزء,المجلد, مكان الاصدار,تاريخ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قحطاني ,جمعان بن سعيد ,الرفاعي,خالد بن عبدالله ,معمار,صلاح بن صالح ,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),مهارات التعلم والتفكير والبحث , ط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, (الرياض,جامعة الملك سعود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089000"/>
            <a:ext cx="8229600" cy="50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ar-JO" sz="3200" spc="-1" strike="noStrike">
                <a:solidFill>
                  <a:srgbClr val="0033cc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توثيق دراسة من مجموعة دراسات منشورة في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كتاب:هنا تذكر أرقام صفحات الدراسة كامل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ستراك ، رياض، والخرابشة، عمر،(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2004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)،"بناء برنامج تدريبي لتطوير عملية الإتصال للعاملين في الجامعات الأردنية الرسمية في ضوء كفاياتهم الإدارية" في :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دراسات في الإدارة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التربوية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، جمع وتحرير رياض ستراك، (عمان : دار وائل للنشر والتوزيع،) 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83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ص-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147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neem ali</dc:creator>
  <dc:description/>
  <dc:language>en-US</dc:language>
  <cp:lastModifiedBy>Windows User</cp:lastModifiedBy>
  <dcterms:modified xsi:type="dcterms:W3CDTF">2013-10-13T10:40:01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