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5.png" ContentType="image/png"/>
  <Override PartName="/ppt/media/image3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1.wmf" ContentType="image/x-wmf"/>
  <Override PartName="/ppt/media/image8.png" ContentType="image/png"/>
  <Override PartName="/ppt/media/image13.png" ContentType="image/png"/>
  <Override PartName="/ppt/media/image49.png" ContentType="image/png"/>
  <Override PartName="/ppt/media/image12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F23-E166-422F-8173-A4331E34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2D8-8808-4363-B8BD-09E5401C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2C6-D914-4AED-A05A-E6C15275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8D3-BE04-4327-BEA7-C6C3394B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5E6F-BCB4-437F-A2B4-7380CF81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9324-3BE3-4EB2-A2CE-DECAF90D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8F9F-FA99-4CEB-A3A9-7AF5BDC3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425B-EEB2-4C2B-AA88-CE12CD45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7692-5FAB-44D0-AB5A-D77F2465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4777-FD17-4D46-9BA0-DEAFF44F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228D-F659-4345-82E8-1537E928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3DA-6AA4-47FC-9939-5487AB0E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5CA1-D7C9-43C0-B60D-9E2822AB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FDC5-853D-4FDD-89E0-9EF27EF7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284B-593A-43C1-B414-4632834A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4142-B1DA-49EF-9A8E-A2535A50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9030-D6AB-4047-A582-02D961C0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88D71-DFD5-4104-A286-57A7F995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92641-61C2-4CF3-B10F-5BB55E55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54085-CA57-4B58-A621-038295A3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2AB4-8671-4EB1-91FA-6E4B76C1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C88A8-A546-413E-949B-33FAA3F2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173-5465-4FAC-BD4A-83EDDDCE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560F6-E2F1-4863-A3B5-A378E68E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48F41-A642-4589-BD77-6F8D8827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46C7-6F57-4769-B6F4-96A14D44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78CA5-A976-4353-8380-77CC6AC2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CE52E-DE0D-4226-811E-050A5509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6A8A-2A83-4208-8BD7-592AC74F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6EC08-C740-448B-B7D7-2A3415B2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36C89-BDEE-4B22-B3ED-0C0E8EDF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7570E-DF50-4D56-8215-C177A33F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D7D6-1739-4FDB-AD25-07576C0E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713-85C6-410E-B96A-4576F031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0A02-C3B8-4FCC-BE69-1FFB2AC2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3071D-DB4A-4FC3-9F6F-435AC4EE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1793D-C306-4DE2-B2F1-2F22A5C9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BDD21-3670-41BE-B9AF-ADAF515B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1FC43-59DD-4F04-8756-9CC25296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E8AB6-D0FB-4012-B26E-D99CAA4B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2FA93-E0DE-450E-B19E-79BACCF5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5DB04-BFBD-45DC-BDAB-224F181E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8E094-B1C1-4283-8178-57F76A78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4B2-B8CE-490D-B619-56AB17EF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645-B85C-45FF-8752-063F2EDF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D0F-3AC5-4D4E-BACA-16E08C4C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2BA-E964-483D-853C-20AF4257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7CB-07D6-4615-A116-CFA60975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25.xml"/><Relationship Id="rId30" Type="http://schemas.openxmlformats.org/officeDocument/2006/relationships/slideLayout" Target="../slideLayouts/slideLayout26.xml"/><Relationship Id="rId31" Type="http://schemas.openxmlformats.org/officeDocument/2006/relationships/slideLayout" Target="../slideLayouts/slideLayout27.xml"/><Relationship Id="rId32" Type="http://schemas.openxmlformats.org/officeDocument/2006/relationships/slideLayout" Target="../slideLayouts/slideLayout28.xml"/><Relationship Id="rId33" Type="http://schemas.openxmlformats.org/officeDocument/2006/relationships/slideLayout" Target="../slideLayouts/slideLayout29.xml"/><Relationship Id="rId34" Type="http://schemas.openxmlformats.org/officeDocument/2006/relationships/slideLayout" Target="../slideLayouts/slideLayout30.xml"/><Relationship Id="rId35" Type="http://schemas.openxmlformats.org/officeDocument/2006/relationships/slideLayout" Target="../slideLayouts/slideLayout31.xml"/><Relationship Id="rId36" Type="http://schemas.openxmlformats.org/officeDocument/2006/relationships/slideLayout" Target="../slideLayouts/slideLayout32.xml"/><Relationship Id="rId37" Type="http://schemas.openxmlformats.org/officeDocument/2006/relationships/slideLayout" Target="../slideLayouts/slideLayout33.xml"/><Relationship Id="rId38" Type="http://schemas.openxmlformats.org/officeDocument/2006/relationships/slideLayout" Target="../slideLayouts/slideLayout34.xml"/><Relationship Id="rId39" Type="http://schemas.openxmlformats.org/officeDocument/2006/relationships/slideLayout" Target="../slideLayouts/slideLayout35.xml"/><Relationship Id="rId4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2861-0D59-4933-9BF9-45B769BC88B5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212" name="Oval 31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215" name="Oval 32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218" name="Oval 28" descr=""/>
            <p:cNvPicPr/>
            <p:nvPr/>
          </p:nvPicPr>
          <p:blipFill>
            <a:blip r:embed="rId31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221" name="Oval 30" descr=""/>
            <p:cNvPicPr/>
            <p:nvPr/>
          </p:nvPicPr>
          <p:blipFill>
            <a:blip r:embed="rId32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224" name="Oval 27" descr=""/>
            <p:cNvPicPr/>
            <p:nvPr/>
          </p:nvPicPr>
          <p:blipFill>
            <a:blip r:embed="rId33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227" name="Oval 29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230" name="Oval 3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233" name="Oval 3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22EE-1568-49CB-9F55-C6AD001CC0C1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27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27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27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28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28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28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9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9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9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9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0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0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1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31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31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31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32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32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32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32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33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33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33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34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34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34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35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35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35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35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C51A-87B9-4C50-B909-FCC5C95B3171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9"/>
    <p:sldLayoutId id="2147483676" r:id="rId30"/>
    <p:sldLayoutId id="2147483677" r:id="rId31"/>
    <p:sldLayoutId id="2147483678" r:id="rId32"/>
    <p:sldLayoutId id="2147483679" r:id="rId33"/>
    <p:sldLayoutId id="2147483680" r:id="rId34"/>
    <p:sldLayoutId id="2147483681" r:id="rId35"/>
    <p:sldLayoutId id="2147483682" r:id="rId36"/>
    <p:sldLayoutId id="2147483683" r:id="rId37"/>
    <p:sldLayoutId id="2147483684" r:id="rId38"/>
    <p:sldLayoutId id="2147483685" r:id="rId39"/>
    <p:sldLayoutId id="2147483686" r:id="rId4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403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404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405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408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411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414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5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417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8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420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423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424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5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427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8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430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1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433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4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436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7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39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42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45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448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451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3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454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45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458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9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461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2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464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5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467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8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470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1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473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4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476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7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479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0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482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3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485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6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5EA7-A4C0-4EB7-9EC9-362B4FB343EF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القيادة الإداري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9" name="Picture 5" descr="leadership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1174570918"/>
          <p:cNvPicPr/>
          <p:nvPr/>
        </p:nvPicPr>
        <p:blipFill>
          <a:blip r:embed="rId1"/>
          <a:stretch/>
        </p:blipFill>
        <p:spPr>
          <a:xfrm>
            <a:off x="684360" y="1628640"/>
            <a:ext cx="7983360" cy="48960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125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مستطيل 1"/>
          <p:cNvSpPr/>
          <p:nvPr/>
        </p:nvSpPr>
        <p:spPr>
          <a:xfrm>
            <a:off x="1116000" y="2602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Times New Roman"/>
              </a:rPr>
              <a:t>ثالثاً: دراسات جامعة أوهايو</a:t>
            </a:r>
            <a:br>
              <a:rPr sz="3200"/>
            </a:br>
            <a:r>
              <a:rPr b="1" lang="ar-SA" sz="3200" spc="-1" strike="noStrike">
                <a:solidFill>
                  <a:srgbClr val="ffce2d"/>
                </a:solidFill>
                <a:latin typeface="Times New Roman"/>
              </a:rPr>
              <a:t>الشبكة الإدا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9000"/>
                </a:solidFill>
                <a:latin typeface="Verdana"/>
              </a:rPr>
              <a:t>معوقات القيادة الإدارية في الدول النامي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7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42880" y="1785960"/>
            <a:ext cx="7589880" cy="51688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826920" y="5611680"/>
            <a:ext cx="919440" cy="8859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3"/>
          <a:stretch/>
        </p:blipFill>
        <p:spPr>
          <a:xfrm>
            <a:off x="7812000" y="5510160"/>
            <a:ext cx="9208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المحتويات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تعريف القيا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قائد الاداري والرئي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صادر قوة القائ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نظريات الحديثة في القيا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عوقات القيادة الإدارية في الدول النام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A_leader"/>
          <p:cNvPicPr/>
          <p:nvPr/>
        </p:nvPicPr>
        <p:blipFill>
          <a:blip r:embed="rId1"/>
          <a:stretch/>
        </p:blipFill>
        <p:spPr>
          <a:xfrm>
            <a:off x="157320" y="189000"/>
            <a:ext cx="8964360" cy="6669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419280" y="676440"/>
            <a:ext cx="554508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تقوم القيادة بدور أساسي في توجيه العمل الإداري نحو تحقيق أهداف المنظم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76040" y="2204640"/>
            <a:ext cx="7124760" cy="39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339640" y="676440"/>
            <a:ext cx="57942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تعريف القياد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971280" y="1700280"/>
            <a:ext cx="712476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322200" indent="-32220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ctr" rtl="1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*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تعتمد على التأثير والقبو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7" name="Picture 4" descr="News_Paper_Employe"/>
          <p:cNvPicPr/>
          <p:nvPr/>
        </p:nvPicPr>
        <p:blipFill>
          <a:blip r:embed="rId1"/>
          <a:stretch/>
        </p:blipFill>
        <p:spPr>
          <a:xfrm>
            <a:off x="0" y="0"/>
            <a:ext cx="3203640" cy="2205000"/>
          </a:xfrm>
          <a:prstGeom prst="rect">
            <a:avLst/>
          </a:prstGeom>
          <a:ln w="0">
            <a:noFill/>
          </a:ln>
        </p:spPr>
      </p:pic>
      <p:sp>
        <p:nvSpPr>
          <p:cNvPr id="538" name="شكل بيضاوي 2"/>
          <p:cNvSpPr/>
          <p:nvPr/>
        </p:nvSpPr>
        <p:spPr>
          <a:xfrm>
            <a:off x="395280" y="2130480"/>
            <a:ext cx="7921800" cy="2738520"/>
          </a:xfrm>
          <a:prstGeom prst="ellipse">
            <a:avLst/>
          </a:prstGeom>
          <a:solidFill>
            <a:srgbClr val="ed46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هي القدرة على التوجيه من أجل تحقيق هدف معين عن طريق الآخرين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06320" y="2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ما لفرق بين القائد الإداري والرئيس الإداري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0" y="1628640"/>
          <a:ext cx="9144000" cy="5229360"/>
        </p:xfrm>
        <a:graphic>
          <a:graphicData uri="http://schemas.openxmlformats.org/drawingml/2006/table">
            <a:tbl>
              <a:tblPr/>
              <a:tblGrid>
                <a:gridCol w="3597120"/>
                <a:gridCol w="3408480"/>
                <a:gridCol w="213840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رئاس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قياد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وجه الاختلا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ظام الذي حدد سلطته الرسم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جماع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مصد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1012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ختار الرئيس الهد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شترك الجماعة مع قائدها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ختيار الهد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20257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قبلون سلطته ، خوفا من العقاب اذا امتنعوا أو قصروا في تنفيذ أوامر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كثر قبولاً، لأنها تعتمد على على الحوافز الإيجاب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قبو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pic>
        <p:nvPicPr>
          <p:cNvPr id="541" name="Picture 36" descr="people-talking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1628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7" descr=""/>
          <p:cNvPicPr/>
          <p:nvPr/>
        </p:nvPicPr>
        <p:blipFill>
          <a:blip r:embed="rId2"/>
          <a:stretch/>
        </p:blipFill>
        <p:spPr>
          <a:xfrm>
            <a:off x="-30240" y="0"/>
            <a:ext cx="1328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5564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مصادر قوة القائ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4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76040" y="798480"/>
            <a:ext cx="8643960" cy="60166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0" descr="C:\Program Files\Microsoft Office\MEDIA\CAGCAT10\j0298653.wmf"/>
          <p:cNvPicPr/>
          <p:nvPr/>
        </p:nvPicPr>
        <p:blipFill>
          <a:blip r:embed="rId2"/>
          <a:stretch/>
        </p:blipFill>
        <p:spPr>
          <a:xfrm>
            <a:off x="12600" y="5661000"/>
            <a:ext cx="1781280" cy="1197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2" descr=""/>
          <p:cNvPicPr/>
          <p:nvPr/>
        </p:nvPicPr>
        <p:blipFill>
          <a:blip r:embed="rId3"/>
          <a:stretch/>
        </p:blipFill>
        <p:spPr>
          <a:xfrm>
            <a:off x="7524720" y="5661000"/>
            <a:ext cx="1779480" cy="1195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"/>
          <p:cNvPicPr/>
          <p:nvPr/>
        </p:nvPicPr>
        <p:blipFill>
          <a:blip r:embed="rId4"/>
          <a:stretch/>
        </p:blipFill>
        <p:spPr>
          <a:xfrm>
            <a:off x="0" y="4680"/>
            <a:ext cx="1779480" cy="1195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4" descr=""/>
          <p:cNvPicPr/>
          <p:nvPr/>
        </p:nvPicPr>
        <p:blipFill>
          <a:blip r:embed="rId5"/>
          <a:stretch/>
        </p:blipFill>
        <p:spPr>
          <a:xfrm>
            <a:off x="7391520" y="4680"/>
            <a:ext cx="17794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leader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115920"/>
            <a:ext cx="8785440" cy="6640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55640" y="115920"/>
            <a:ext cx="557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النظريات الحديثة في القياد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187280" y="1484280"/>
            <a:ext cx="7415280" cy="33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lnSpc>
                <a:spcPct val="200000"/>
              </a:lnSpc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نظرية سلسلة السلو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200000"/>
              </a:lnSpc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نظرية القيادة الفعالة (الموقفية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200000"/>
              </a:lnSpc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دراسات جامعة أوهايو والشبكة الإدارية</a:t>
            </a:r>
            <a:r>
              <a:rPr b="0" lang="ar-S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33200" y="33300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ce2d"/>
                </a:solidFill>
                <a:latin typeface="Verdana"/>
              </a:rPr>
              <a:t>أولا : نظرية سلسلة السلوك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932040" y="2637000"/>
          <a:ext cx="7124400" cy="2592360"/>
        </p:xfrm>
        <a:graphic>
          <a:graphicData uri="http://schemas.openxmlformats.org/drawingml/2006/table">
            <a:tbl>
              <a:tblPr/>
              <a:tblGrid>
                <a:gridCol w="1017360"/>
                <a:gridCol w="1017720"/>
                <a:gridCol w="1017360"/>
                <a:gridCol w="1025640"/>
                <a:gridCol w="1011240"/>
                <a:gridCol w="1017720"/>
                <a:gridCol w="1017360"/>
              </a:tblGrid>
              <a:tr h="2592360"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sp>
        <p:nvSpPr>
          <p:cNvPr id="554" name="رابط مستقيم 6"/>
          <p:cNvSpPr/>
          <p:nvPr/>
        </p:nvSpPr>
        <p:spPr>
          <a:xfrm flipV="1">
            <a:off x="971640" y="2707920"/>
            <a:ext cx="7056360" cy="2521080"/>
          </a:xfrm>
          <a:prstGeom prst="line">
            <a:avLst/>
          </a:prstGeom>
          <a:ln w="9360">
            <a:solidFill>
              <a:srgbClr val="ed4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55" name="رابط كسهم مستقيم 8"/>
          <p:cNvCxnSpPr/>
          <p:nvPr/>
        </p:nvCxnSpPr>
        <p:spPr>
          <a:xfrm flipH="1">
            <a:off x="1475640" y="2179800"/>
            <a:ext cx="2880360" cy="8640"/>
          </a:xfrm>
          <a:prstGeom prst="straightConnector1">
            <a:avLst/>
          </a:prstGeom>
          <a:ln w="9360">
            <a:solidFill>
              <a:srgbClr val="ed4200"/>
            </a:solidFill>
            <a:miter/>
            <a:tailEnd len="med" type="arrow" w="med"/>
          </a:ln>
        </p:spPr>
      </p:cxnSp>
      <p:sp>
        <p:nvSpPr>
          <p:cNvPr id="556" name="مستطيل 12"/>
          <p:cNvSpPr/>
          <p:nvPr/>
        </p:nvSpPr>
        <p:spPr>
          <a:xfrm>
            <a:off x="4356000" y="1967040"/>
            <a:ext cx="33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قيادة المرتكزة على المدي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مستطيل 16"/>
          <p:cNvSpPr/>
          <p:nvPr/>
        </p:nvSpPr>
        <p:spPr>
          <a:xfrm>
            <a:off x="4013280" y="5373720"/>
            <a:ext cx="40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قيادة المرتكزة على المرؤوسي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050840" y="5445000"/>
            <a:ext cx="2962440" cy="165240"/>
          </a:xfrm>
          <a:prstGeom prst="rect">
            <a:avLst/>
          </a:prstGeom>
          <a:ln w="0">
            <a:noFill/>
          </a:ln>
        </p:spPr>
      </p:pic>
      <p:sp>
        <p:nvSpPr>
          <p:cNvPr id="559" name="مستطيل 17"/>
          <p:cNvSpPr/>
          <p:nvPr/>
        </p:nvSpPr>
        <p:spPr>
          <a:xfrm>
            <a:off x="1050840" y="3135240"/>
            <a:ext cx="33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درجة السلطة التي يستخدمها المدي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مستطيل 18"/>
          <p:cNvSpPr/>
          <p:nvPr/>
        </p:nvSpPr>
        <p:spPr>
          <a:xfrm>
            <a:off x="4716360" y="4365720"/>
            <a:ext cx="330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درجة الحرية المتاحة للمرؤوس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ثانياً: نظرية القيادة الفعالة (الموقفية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2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79600" y="1805040"/>
            <a:ext cx="81802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21:32:08Z</dcterms:created>
  <dc:creator/>
  <dc:description/>
  <dc:language>en-US</dc:language>
  <cp:lastModifiedBy/>
  <dcterms:modified xsi:type="dcterms:W3CDTF">2017-10-01T21:44:43Z</dcterms:modified>
  <cp:revision>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