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5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1.wmf" ContentType="image/x-wmf"/>
  <Override PartName="/ppt/media/image8.png" ContentType="image/png"/>
  <Override PartName="/ppt/media/image13.png" ContentType="image/png"/>
  <Override PartName="/ppt/media/image49.png" ContentType="image/png"/>
  <Override PartName="/ppt/media/image12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8BD-A300-486C-BF08-7E9EA96A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67C-387A-4707-95ED-65B1019A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27A-9A36-4D96-9823-CEDEBCCF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767-0AC5-4344-96C1-A4DD3CDC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BCD0-4DE9-48F7-B9D0-BC66CB1C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1BD5-42B0-478E-AA00-971DC895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8CE7-439D-4C6B-881C-4C5CC7A2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4BFF-CCFD-4A35-8386-B0B1FBD2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AD39-85A3-4490-B3F5-77BA79C5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1780-389B-4EA0-952E-08F5BADE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CBDC-A9FE-491E-8E0E-C4C1529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A1D-AEFA-4F87-8E3B-18C5E451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E391-9161-4F7B-B752-DD721789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BD96-6FC6-4C64-AFFD-EB326FF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D71B-39AA-48DD-A4B2-2113801C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7DA7-5271-4DDB-8E4C-2A5BD027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E528-5C7A-4D63-A89B-7B07803F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409B-8EAF-4562-AC4C-A498A792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E70C-9728-4397-B6AB-61A701E5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BB9A-EB83-4E04-9230-A62F4C72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F47A-724C-4D37-B1E7-0FCA0607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4199-6923-4B37-9DC7-F6116561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518-1446-476C-BC82-D1F6BE07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C3A2B-6B3F-46B8-BAEB-E8BB573E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7D61-4492-4875-B773-4FBFF6B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273B-B4BF-4C7E-8792-25A6E80C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C872-CE3E-4436-BDAA-2CF083AE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FDE3-C8F4-40E7-A1DE-2AC4115D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AA11-09B0-4878-A422-58A93E50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F5E0-E6E3-4474-B625-7BB274BF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C9EC-D2F8-4A8B-8196-85FFE7B9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7E3B-FC40-4EE4-B37C-97CD37C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C9789-A09E-498D-B924-BD35A8FB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2A7-BD9E-46A8-A92D-013D0FAD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7406-BDDC-4391-9FB2-4CB4E0BF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417C-8A02-404A-91F6-E514BE6E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DA3C-1635-4C7A-82AC-13D73379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CDB4-2544-4A68-AB84-0A7541A5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F601-2C0F-4EFD-8079-0F23320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870CE-86E7-428B-8048-501BE477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F81B-692B-43AF-8A5C-858E3344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A9CA-97F4-4945-9303-D161D8C4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B459-1452-42EB-93EC-8B955BD3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B19-A4E0-4D88-8FCE-A2F344DB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08E-8E5E-461A-B68C-6BF7172A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85C-A1C1-45E6-9592-03BD6C36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934-ACBD-4C68-8282-DB158194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D1D-7B9D-4F60-A3A5-2CEC0DD8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7A2E-BA73-42B9-A44C-A55116BA53B5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B141-C153-4F49-BDEE-B7DE6584AD31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27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27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27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28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28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28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9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9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9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9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0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0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1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31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31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31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32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32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32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32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33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33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33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34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34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34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35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35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35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35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EF1C-C48B-4DE6-AEC1-92ED7125F860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403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404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405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408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411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414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417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420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423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424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5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427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430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433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436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39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42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45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448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451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454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45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458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461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464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467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470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473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476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479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482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485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D346-F294-44E4-9AB5-22D40C6379AB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القيادة الإداري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Picture 5" descr="leadership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1174570918"/>
          <p:cNvPicPr/>
          <p:nvPr/>
        </p:nvPicPr>
        <p:blipFill>
          <a:blip r:embed="rId1"/>
          <a:stretch/>
        </p:blipFill>
        <p:spPr>
          <a:xfrm>
            <a:off x="684360" y="1628640"/>
            <a:ext cx="7983360" cy="4896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25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1116000" y="260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ثالثاً: دراسات جامعة أوهايو</a:t>
            </a:r>
            <a:br>
              <a:rPr sz="3200"/>
            </a:b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الشبكة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9000"/>
                </a:solidFill>
                <a:latin typeface="Verdana"/>
              </a:rPr>
              <a:t>معوقات القيادة الإدارية في الدول النام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785960"/>
            <a:ext cx="7589880" cy="5168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826920" y="561168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7812000" y="5510160"/>
            <a:ext cx="920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المحتويات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قائد الاداري والرئي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نظريات الحديثة في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عوقات القيادة الإدارية في الدول النام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A_leader"/>
          <p:cNvPicPr/>
          <p:nvPr/>
        </p:nvPicPr>
        <p:blipFill>
          <a:blip r:embed="rId1"/>
          <a:stretch/>
        </p:blipFill>
        <p:spPr>
          <a:xfrm>
            <a:off x="157320" y="189000"/>
            <a:ext cx="896436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19280" y="676440"/>
            <a:ext cx="554508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تقوم القيادة بدور أساسي في توجيه العمل الإداري نحو تحقيق أهداف المنظم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76040" y="2204640"/>
            <a:ext cx="712476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339640" y="676440"/>
            <a:ext cx="5794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971280" y="170028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ctr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تعتمد على التأثير والقبو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7" name="Picture 4" descr="News_Paper_Employe"/>
          <p:cNvPicPr/>
          <p:nvPr/>
        </p:nvPicPr>
        <p:blipFill>
          <a:blip r:embed="rId1"/>
          <a:stretch/>
        </p:blipFill>
        <p:spPr>
          <a:xfrm>
            <a:off x="0" y="0"/>
            <a:ext cx="3203640" cy="2205000"/>
          </a:xfrm>
          <a:prstGeom prst="rect">
            <a:avLst/>
          </a:prstGeom>
          <a:ln w="0">
            <a:noFill/>
          </a:ln>
        </p:spPr>
      </p:pic>
      <p:sp>
        <p:nvSpPr>
          <p:cNvPr id="538" name="شكل بيضاوي 2"/>
          <p:cNvSpPr/>
          <p:nvPr/>
        </p:nvSpPr>
        <p:spPr>
          <a:xfrm>
            <a:off x="395280" y="2130480"/>
            <a:ext cx="7921800" cy="2738520"/>
          </a:xfrm>
          <a:prstGeom prst="ellipse">
            <a:avLst/>
          </a:prstGeom>
          <a:solidFill>
            <a:srgbClr val="ed46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ي القدرة على التوجيه من أجل تحقيق هدف معين عن طريق الآخرين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0632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ا لفرق بين القائد الإداري والرئيس الإداري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drawingml/2006/table">
            <a:tbl>
              <a:tblPr/>
              <a:tblGrid>
                <a:gridCol w="3597120"/>
                <a:gridCol w="3408480"/>
                <a:gridCol w="213840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رئاس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وجه الاختلا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م الذي حدد سلطته الرسم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مصد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101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ختار الرئيس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شترك الجماعة مع قائد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ختيار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2025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قبلون سلطته ، خوفا من العقاب اذا امتنعوا أو قصروا في تنفيذ أوامر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كثر قبولاً، لأنها تعتمد على على الحوافز الإيجا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ب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36" descr="people-talking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"/>
          <p:cNvPicPr/>
          <p:nvPr/>
        </p:nvPicPr>
        <p:blipFill>
          <a:blip r:embed="rId2"/>
          <a:stretch/>
        </p:blipFill>
        <p:spPr>
          <a:xfrm>
            <a:off x="-30240" y="0"/>
            <a:ext cx="13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564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76040" y="798480"/>
            <a:ext cx="8643960" cy="6016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C:\Program Files\Microsoft Office\MEDIA\CAGCAT10\j0298653.wmf"/>
          <p:cNvPicPr/>
          <p:nvPr/>
        </p:nvPicPr>
        <p:blipFill>
          <a:blip r:embed="rId2"/>
          <a:stretch/>
        </p:blipFill>
        <p:spPr>
          <a:xfrm>
            <a:off x="12600" y="5661000"/>
            <a:ext cx="1781280" cy="1197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/>
          <p:cNvPicPr/>
          <p:nvPr/>
        </p:nvPicPr>
        <p:blipFill>
          <a:blip r:embed="rId3"/>
          <a:stretch/>
        </p:blipFill>
        <p:spPr>
          <a:xfrm>
            <a:off x="7524720" y="566100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"/>
          <p:cNvPicPr/>
          <p:nvPr/>
        </p:nvPicPr>
        <p:blipFill>
          <a:blip r:embed="rId4"/>
          <a:stretch/>
        </p:blipFill>
        <p:spPr>
          <a:xfrm>
            <a:off x="0" y="468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5"/>
          <a:stretch/>
        </p:blipFill>
        <p:spPr>
          <a:xfrm>
            <a:off x="7391520" y="4680"/>
            <a:ext cx="1779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leader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115920"/>
            <a:ext cx="8785440" cy="6640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5640" y="115920"/>
            <a:ext cx="557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187280" y="1484280"/>
            <a:ext cx="7415280" cy="33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نظرية سلسلة السلو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نظرية القيادة الفعالة (الموقفية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200000"/>
              </a:lnSpc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دراسات جامعة أوهايو والشبكة الإدارية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33200" y="333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ce2d"/>
                </a:solidFill>
                <a:latin typeface="Verdana"/>
              </a:rPr>
              <a:t>أولا : نظرية سلسلة السلوك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32040" y="2637000"/>
          <a:ext cx="7124400" cy="2592360"/>
        </p:xfrm>
        <a:graphic>
          <a:graphicData uri="http://schemas.openxmlformats.org/drawingml/2006/table">
            <a:tbl>
              <a:tblPr/>
              <a:tblGrid>
                <a:gridCol w="1017360"/>
                <a:gridCol w="1017720"/>
                <a:gridCol w="1017360"/>
                <a:gridCol w="1025640"/>
                <a:gridCol w="1011240"/>
                <a:gridCol w="1017720"/>
                <a:gridCol w="1017360"/>
              </a:tblGrid>
              <a:tr h="2592360"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54" name="رابط مستقيم 6"/>
          <p:cNvSpPr/>
          <p:nvPr/>
        </p:nvSpPr>
        <p:spPr>
          <a:xfrm flipV="1">
            <a:off x="971640" y="2707920"/>
            <a:ext cx="7056360" cy="2521080"/>
          </a:xfrm>
          <a:prstGeom prst="line">
            <a:avLst/>
          </a:prstGeom>
          <a:ln w="9360">
            <a:solidFill>
              <a:srgbClr val="ed4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5" name="رابط كسهم مستقيم 8"/>
          <p:cNvCxnSpPr/>
          <p:nvPr/>
        </p:nvCxnSpPr>
        <p:spPr>
          <a:xfrm flipH="1">
            <a:off x="1475640" y="2179800"/>
            <a:ext cx="2880360" cy="8640"/>
          </a:xfrm>
          <a:prstGeom prst="straightConnector1">
            <a:avLst/>
          </a:prstGeom>
          <a:ln w="9360">
            <a:solidFill>
              <a:srgbClr val="ed4200"/>
            </a:solidFill>
            <a:miter/>
            <a:tailEnd len="med" type="arrow" w="med"/>
          </a:ln>
        </p:spPr>
      </p:cxnSp>
      <p:sp>
        <p:nvSpPr>
          <p:cNvPr id="556" name="مستطيل 12"/>
          <p:cNvSpPr/>
          <p:nvPr/>
        </p:nvSpPr>
        <p:spPr>
          <a:xfrm>
            <a:off x="4356000" y="1967040"/>
            <a:ext cx="33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قيادة المرتكزة على المد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مستطيل 16"/>
          <p:cNvSpPr/>
          <p:nvPr/>
        </p:nvSpPr>
        <p:spPr>
          <a:xfrm>
            <a:off x="4013280" y="5373720"/>
            <a:ext cx="40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قيادة المرتكزة على المرؤوسي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050840" y="5445000"/>
            <a:ext cx="2962440" cy="165240"/>
          </a:xfrm>
          <a:prstGeom prst="rect">
            <a:avLst/>
          </a:prstGeom>
          <a:ln w="0">
            <a:noFill/>
          </a:ln>
        </p:spPr>
      </p:pic>
      <p:sp>
        <p:nvSpPr>
          <p:cNvPr id="559" name="مستطيل 17"/>
          <p:cNvSpPr/>
          <p:nvPr/>
        </p:nvSpPr>
        <p:spPr>
          <a:xfrm>
            <a:off x="1050840" y="3135240"/>
            <a:ext cx="33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سلطة التي يستخدمها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مستطيل 18"/>
          <p:cNvSpPr/>
          <p:nvPr/>
        </p:nvSpPr>
        <p:spPr>
          <a:xfrm>
            <a:off x="4716360" y="4365720"/>
            <a:ext cx="330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حرية المتاحة ل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ثانياً: نظرية القيادة الفعالة (الموقفية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79600" y="1805040"/>
            <a:ext cx="8180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32:08Z</dcterms:created>
  <dc:creator/>
  <dc:description/>
  <dc:language>en-US</dc:language>
  <cp:lastModifiedBy/>
  <dcterms:modified xsi:type="dcterms:W3CDTF">2017-10-01T21:44:43Z</dcterms:modified>
  <cp:revision>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