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53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56.png" ContentType="image/png"/>
  <Override PartName="/ppt/media/image8.png" ContentType="image/png"/>
  <Override PartName="/ppt/media/image41.wmf" ContentType="image/x-wmf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890-4769-450A-A89B-E3CE58A8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89A-512F-40E5-A97C-39458F66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46D-7A7A-4D47-8B7A-9E0E018C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9FE-2891-4647-A524-AE64721B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56DF-37FD-4BA5-91BA-65CCB1F7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571-F79B-400A-A14A-B647FD2A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D17F-345B-49D5-BC3D-ECAB2FBE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692F-7AFC-446F-868A-BC4F35F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ED4E-8965-444B-85D5-3834EE0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10F-D9DB-4CB7-A500-1DCA3618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EFC-F203-4084-91A6-FD806FC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512-40A1-41B7-A337-325351D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A7FC-4349-4D57-B391-FF8EECE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18FF-CFD9-40C7-9A59-A76AD38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95FE-1342-4B9C-8323-968817B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4D31-EA95-4680-927A-58223B63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CFE-B3CF-49D2-B8AB-3F84D3C2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EF51-8DA4-4751-AE32-0BE3A470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E5A4-21AE-4EDF-B99F-4747903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7DBB-CF78-47EE-9120-07E04DD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0DAB-E831-4613-9D21-F1FA980A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D7A2-661F-4264-987D-A71F808F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538-AEAC-4F94-AC39-27E3937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FB8A-DCCD-421C-BB5A-4F94B4D5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B81C-EFF0-4A90-935C-F53A206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F6B5-250B-44CD-B18B-753AAED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4390-BF87-4590-A147-8E7E06F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A326-CC97-4996-8D99-273AFD7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CB1F-4745-4A47-B0EF-C6D1B08B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D176-F456-465A-B304-CA694956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4ECF-49B0-418A-90DA-3F91E64B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1DD7-36B6-4335-8F7D-2C3A3711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15C13-FBD5-4AB1-80F1-3F8E585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3CB-BFD2-4B0C-B8F2-FDF794D2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AF4F-2289-4A45-9F47-F65C8FB0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377B-BECE-4927-940D-0548E255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13AE-8CCE-4A67-8A29-FE5A50C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8728B-28FA-44EF-984D-B9E6AD64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DC21-607F-4A97-8D51-B5805A0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22C7-24E6-4405-A066-663D465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33EE-F649-4B79-8AB2-4BB948C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5163-EC5D-498A-961C-91460C50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8F00-022E-472C-BE0F-C64F7CEB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094-48A3-430D-AAC5-C4D6F91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E2E-1E8E-4B75-8EE7-9813EE21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74C-ADAD-47A2-A6D8-B3EB7E17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583-C9DB-443F-A70A-FC59095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A59-5A0B-4B20-A999-0B47BF3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6AC5-9914-414A-A65B-7DC0D7CBA7D4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D69-6DFF-41B3-8AF8-A43F8D8B8AA1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F99-B960-4C2A-825D-16B49D8C9E3E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6A06-8D78-4A6C-AE65-CDA0165BB76F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رابعاً: نظرية دورة الحياة ل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255600" y="1981080"/>
            <a:ext cx="8869320" cy="3926160"/>
          </a:xfrm>
          <a:prstGeom prst="rect">
            <a:avLst/>
          </a:prstGeom>
          <a:ln w="0">
            <a:noFill/>
          </a:ln>
        </p:spPr>
      </p:pic>
      <p:sp>
        <p:nvSpPr>
          <p:cNvPr id="568" name="مستطيل 2"/>
          <p:cNvSpPr/>
          <p:nvPr/>
        </p:nvSpPr>
        <p:spPr>
          <a:xfrm>
            <a:off x="2484360" y="1557360"/>
            <a:ext cx="51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قترح النظرية أن سلوك القائد يتحرك كالتال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مستطيل 5"/>
          <p:cNvSpPr/>
          <p:nvPr/>
        </p:nvSpPr>
        <p:spPr>
          <a:xfrm>
            <a:off x="104292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مستطيل 6" descr=""/>
          <p:cNvPicPr/>
          <p:nvPr/>
        </p:nvPicPr>
        <p:blipFill>
          <a:blip r:embed="rId2"/>
          <a:stretch/>
        </p:blipFill>
        <p:spPr>
          <a:xfrm>
            <a:off x="920880" y="3067200"/>
            <a:ext cx="64584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مستطيل 7"/>
          <p:cNvSpPr/>
          <p:nvPr/>
        </p:nvSpPr>
        <p:spPr>
          <a:xfrm>
            <a:off x="835560" y="49417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خف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مستطيل 8"/>
          <p:cNvSpPr/>
          <p:nvPr/>
        </p:nvSpPr>
        <p:spPr>
          <a:xfrm>
            <a:off x="6227640" y="54450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مستطيل 9"/>
          <p:cNvSpPr/>
          <p:nvPr/>
        </p:nvSpPr>
        <p:spPr>
          <a:xfrm>
            <a:off x="3780000" y="5907240"/>
            <a:ext cx="10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مه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خامساً: نظرية الطريق إلى الهد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97080" y="1052280"/>
            <a:ext cx="84596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رسم تخطيطي 1" descr=""/>
          <p:cNvPicPr/>
          <p:nvPr/>
        </p:nvPicPr>
        <p:blipFill>
          <a:blip r:embed="rId1"/>
          <a:stretch/>
        </p:blipFill>
        <p:spPr>
          <a:xfrm>
            <a:off x="828720" y="1554120"/>
            <a:ext cx="7845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87640" y="3789360"/>
            <a:ext cx="3021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هارات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9" name="رسم تخطيطي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991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العادات السبع لأكثر الناس نجاحاً</a:t>
            </a:r>
            <a:br>
              <a:rPr sz="3200"/>
            </a:b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 لستيفن كوف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1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341360"/>
            <a:ext cx="8058240" cy="4821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General\AppData\Local\Microsoft\Windows\Temporary Internet Files\Content.IE5\GF2B0T6C\MP900402187[1].jpg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299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95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دورة الحياة للقائ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طريق إلى الهد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6-04-14T06:32:59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