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53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56.png" ContentType="image/png"/>
  <Override PartName="/ppt/media/image8.png" ContentType="image/png"/>
  <Override PartName="/ppt/media/image41.wmf" ContentType="image/x-wmf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403-B445-4E0A-B1EC-ADCF94F9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B20-BE2C-4164-8471-D4A79EB7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E41-3A37-4964-BA1E-01DB7DFD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8E0-10EF-4E15-90CF-AADCAD18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5F8-9840-457F-9BBB-CFA78C9A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3038-184F-45AC-A46A-83E1BFB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3E7-DFF3-4A0F-9542-06CFF9E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3435-27B1-48A6-A4DA-73629FC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DD9-635A-4AE4-9193-4473E89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04D6-551A-4E96-8C83-E0161C09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90A4-0B7E-4317-BD34-BF680F3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9EA-4267-4296-BE80-C89BB3E8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5B3F-A9DA-43DE-96B3-5848FF6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488D-F439-4730-8D58-42C8264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942-2BB7-4D1A-86BD-AC7914B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CBAA-58EA-4728-B81E-7FC71C57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4520-569E-469A-8554-A2F44C13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FAA7-B1BC-48D2-914D-8EB929C5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D64F-92C3-4820-AA14-35730C8C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7B46-1252-4BC3-B72F-C2F0BA8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C10D-1382-4344-9367-10F9DFE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3634-1D69-4D5D-96E1-A99BA6D4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7E5-07E6-4E82-8901-E96998D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350D-0181-4DE5-8C01-9669019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50E4-7283-48A4-B3E1-2219051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889F-438B-462B-958E-F6E5A33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22BE-31A5-435B-BFD3-9C1D38E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FE9A-D5F7-43AA-9DE6-EE9890DA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8C6A-2D58-4029-9B15-B43C3349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69B3-5A31-47BC-83A1-24E9BDB3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8E2D-5099-467D-8082-1BB19B8B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DADF-69C4-4DB9-BDC3-A5B3293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7A32-6AA5-45A0-AB44-E4E9EA99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487-9748-493F-B867-1EF9072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6467-CF19-4E5B-ACD7-540D7C3D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D8EB-E9F7-4D1C-A8AE-29BE76A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1806-9A52-4103-B9EA-6748388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4E9B-E33C-442A-BB16-51614D6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2674-BD36-4396-BB37-9488368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9CB7-3FF3-4271-95C1-8E1B7C1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9ADD-A80D-4967-8FC6-D6C7D676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99B8-614F-45C2-9475-52E90AED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3A41-3C90-44FA-A04F-67958105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5C4-D038-4642-B2D3-62A99BF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F14-C85E-4459-9977-3B925B17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183-50E1-4EB3-B29D-FB03791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1F4-B128-4554-AAC5-5555A3F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523-E74F-4369-A0B6-399F51D4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3A3E-EB3C-4675-8143-C4F6A2F969B3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336C-1995-4BA0-9239-C1DC94733768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B7A-56CB-4AE7-9D0F-9ABF4009B067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931-70C0-40A3-9C4B-C38B6DE67F7C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رابعاً: نظرية دورة الحياة ل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255600" y="1981080"/>
            <a:ext cx="8869320" cy="3926160"/>
          </a:xfrm>
          <a:prstGeom prst="rect">
            <a:avLst/>
          </a:prstGeom>
          <a:ln w="0">
            <a:noFill/>
          </a:ln>
        </p:spPr>
      </p:pic>
      <p:sp>
        <p:nvSpPr>
          <p:cNvPr id="568" name="مستطيل 2"/>
          <p:cNvSpPr/>
          <p:nvPr/>
        </p:nvSpPr>
        <p:spPr>
          <a:xfrm>
            <a:off x="2484360" y="1557360"/>
            <a:ext cx="51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قترح النظرية أن سلوك القائد يتحرك كالتال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مستطيل 5"/>
          <p:cNvSpPr/>
          <p:nvPr/>
        </p:nvSpPr>
        <p:spPr>
          <a:xfrm>
            <a:off x="104292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مستطيل 6" descr=""/>
          <p:cNvPicPr/>
          <p:nvPr/>
        </p:nvPicPr>
        <p:blipFill>
          <a:blip r:embed="rId2"/>
          <a:stretch/>
        </p:blipFill>
        <p:spPr>
          <a:xfrm>
            <a:off x="920880" y="3067200"/>
            <a:ext cx="645840" cy="1371600"/>
          </a:xfrm>
          <a:prstGeom prst="rect">
            <a:avLst/>
          </a:prstGeom>
          <a:ln w="0">
            <a:noFill/>
          </a:ln>
        </p:spPr>
      </p:pic>
      <p:sp>
        <p:nvSpPr>
          <p:cNvPr id="571" name="مستطيل 7"/>
          <p:cNvSpPr/>
          <p:nvPr/>
        </p:nvSpPr>
        <p:spPr>
          <a:xfrm>
            <a:off x="835560" y="49417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خف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مستطيل 8"/>
          <p:cNvSpPr/>
          <p:nvPr/>
        </p:nvSpPr>
        <p:spPr>
          <a:xfrm>
            <a:off x="6227640" y="54450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ع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مستطيل 9"/>
          <p:cNvSpPr/>
          <p:nvPr/>
        </p:nvSpPr>
        <p:spPr>
          <a:xfrm>
            <a:off x="3780000" y="5907240"/>
            <a:ext cx="10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مه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خامساً: نظرية الطريق إلى الهد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97080" y="1052280"/>
            <a:ext cx="84596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رسم تخطيطي 1" descr=""/>
          <p:cNvPicPr/>
          <p:nvPr/>
        </p:nvPicPr>
        <p:blipFill>
          <a:blip r:embed="rId1"/>
          <a:stretch/>
        </p:blipFill>
        <p:spPr>
          <a:xfrm>
            <a:off x="828720" y="1554120"/>
            <a:ext cx="78454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87640" y="3789360"/>
            <a:ext cx="3021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هارات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9" name="رسم تخطيطي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991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العادات السبع لأكثر الناس نجاحاً</a:t>
            </a:r>
            <a:br>
              <a:rPr sz="3200"/>
            </a:br>
            <a:r>
              <a:rPr b="1" lang="ar-SA" sz="3200" spc="-1" strike="noStrike">
                <a:solidFill>
                  <a:srgbClr val="ff9000"/>
                </a:solidFill>
                <a:latin typeface="Verdana"/>
              </a:rPr>
              <a:t> لستيفن كوف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1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341360"/>
            <a:ext cx="8058240" cy="4821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C:\Users\General\AppData\Local\Microsoft\Windows\Temporary Internet Files\Content.IE5\GF2B0T6C\MP900402187[1].jpg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299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195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دورة الحياة للقائ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نظرية الطريق إلى الهد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6-04-14T06:32:59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