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E2860-6D90-45F2-B5C1-F60A58501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4FB15-58E8-4BB1-AEFF-2C413FA72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CCACF-33C1-4079-B41B-E1BE51C82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BD9FF-48FA-4770-ABE2-5FB92D2F5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8D2B4-D1E6-4382-8F33-BD33E954F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BDFE6-0455-4E8E-925F-EC836915A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EDADF-FC9D-4B2A-9002-84F9E38EA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9A0F9-C060-475F-B232-64CB2C829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8CE6C-B0FD-48D8-BA6A-5DD7D17BE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1F5A9-F961-49E0-84E4-A768959D2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12F20-34C7-4914-B143-F5F83A357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3E5C4-F419-4472-835B-C59CDD3D4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10FCE-C2AF-4081-B09E-1E69515FC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B3722-929A-47F8-9B5C-1AAB4AFFE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BE2EB2-CB8A-4735-89D4-B9A70593D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05FA8-F74F-43AE-BBB6-CD37BA8CF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656C4A-4283-47A6-84CB-69D35DA27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183072-4247-4DE5-9215-EAABE6AFC3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C3E503-A706-483A-BA34-D839EB1670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43D3FC-5F6F-47A9-B319-C0179A52CB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F0CB70-3041-4C4A-85FF-EC11E55B5D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E5B52D-8781-40B3-A345-6CFCE2E057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49EC2-B92E-431B-9041-9A8DC47EF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E2E372-6F69-48C6-AC2C-8E08298758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70AB0E-3884-4E83-8A99-B59ADB1DA1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960A5E-924A-4896-9BCE-0ED5A895C8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5B9AA-FC96-40C4-9DB1-F995E0A8F7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196620-79F2-402F-BE50-D06CB9C3A1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43D759-41F4-434F-AD65-0175AA7081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636CC2-DFE1-4329-AA67-F47E15CCD3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41E47A-699E-4F5F-8AA1-B0163F19A8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C6B847-6E6C-48B3-B349-42BFE86DDD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344C39-6C14-4599-8F18-81CCEBC328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6E650-A428-4BAB-83BF-9BDC1A990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AFB4A3-8716-422D-B800-005F00AF28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3929FB-8F74-4E29-AFBA-26D35589EE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0CD540-8D66-4F44-B21C-0352CD0865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58BD2E-E8EA-48E0-8015-CD8F95450D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40C676-BB5D-4C29-857F-F67E269287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1B62F-DD67-414F-89E1-FF3E47858B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C456BF-B4E1-43ED-9492-3333CAA621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A35D04-A596-4216-8E42-DEBD6EE530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E34F8A-74BD-4169-9047-7B9B1A6EF9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BD639A-9C69-430F-BDF3-79E252BD74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6580B-1D55-4D9F-9312-49494E9B7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5D1846-4204-4BA2-97E9-8CCC0BF003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FD2682-A489-49BC-ACEA-CDAA9167B4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F37E3E-B1D7-4F08-9097-279B6213C5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78908E-62C1-4E5E-B281-DCED42F256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E30DDE-AECB-4917-93AA-BD91A09073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F4C8E-4796-4249-BB28-84B009EE72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A4CCFF-D470-4782-9AAC-6B13DDC13A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F0DC5D-EAA3-4F19-8C7C-23AC9A1E17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1240BA-0D70-42C6-8917-C9935820A3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8A31DC-1999-4FAC-A891-CEFEAAF650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9BEF2-9704-4FF0-A5DA-475628C2F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59A2BF-6BFA-4C9E-9BB6-038F4AE8E0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36910B-A6DD-482E-9E28-98681E3BF6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C509EF-5132-4F43-AB05-E051B472F6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55A96A-CA97-4A23-BBEE-152EB7974C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80F2A9-E692-4C54-89D6-58689CEEB9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EC25D5-01E8-4229-84D5-D12DE0272A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547F58-D736-4EFF-882B-EE7D56C32F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E3234-965A-46D4-892C-B35919903B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DD7F71-10A9-4736-A107-3F14E6F260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A6CFB3-4C79-4DD3-977B-9AF7D7DB3F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30F10-050A-478B-BAD4-DE66AA769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55F8FA-4D32-48D6-BD18-67A80EB2ED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709AE1-1ED6-4942-98D4-96C53359BC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CD8F5F-088D-4C12-A463-C582213920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D3B643-9451-4940-8EA4-37BBFB6324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47C961-CBC6-47DC-9135-1DAA1B7551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436F36-9E87-4CED-A07E-705182DADF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EC53E9-4F9F-449F-BB70-DC60689179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C308B7-1E8C-4836-880E-4184B257A4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2DBA9C-1CEB-4E64-88D0-E7551E2407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0AF151-3CF7-44F7-A362-91F80DD162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A24D9-9E40-4631-B99A-F03D077B4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13DCED-D883-42C5-8F26-271A162276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88F61B-F683-448A-8CC4-7310BFB030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C6BE49-54F5-45A4-B670-4DA3FEC753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FB4BD8-FA27-439C-8434-4ABC88BBF6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6563FA-CE27-470D-A8E2-F4AD8309EE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D1AF4-42B6-483E-B198-0F2F52626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30A2C0-399C-4CDA-BF71-233F5977EA1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0" y="6400800"/>
            <a:ext cx="1219212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9212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680EC-E224-41E9-8902-9C8AED59880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76620-7082-4A9A-9CBA-8102CEBE653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E338D-8918-4C3C-AA7F-8C7CF88C249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34406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5D6209-CB73-4460-B009-ED4BA984D1B7}" type="slidenum">
              <a:rPr b="0" lang="en-US"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8AD22-6B54-47AB-986C-CC2A953644A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76253-CD77-41F5-B867-20EA231D841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96920" y="758880"/>
            <a:ext cx="10058400" cy="3565440"/>
          </a:xfrm>
          <a:prstGeom prst="rect">
            <a:avLst/>
          </a:prstGeom>
          <a:noFill/>
          <a:ln w="0">
            <a:noFill/>
          </a:ln>
        </p:spPr>
        <p:txBody>
          <a:bodyPr anchor="b">
            <a:noAutofit/>
          </a:bodyPr>
          <a:p>
            <a:pPr indent="0" algn="r" rtl="1">
              <a:lnSpc>
                <a:spcPct val="85000"/>
              </a:lnSpc>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683c6"/>
                </a:solidFill>
                <a:latin typeface="Times New Roman"/>
                <a:cs typeface="Arabic Transparent"/>
              </a:rPr>
              <a:t>تابع دليل المراجعة الفقرة السادسة</a:t>
            </a:r>
            <a:br>
              <a:rPr sz="4400"/>
            </a:br>
            <a:r>
              <a:rPr b="1" lang="ar-SA" sz="4400" spc="-1" strike="noStrike">
                <a:solidFill>
                  <a:srgbClr val="000000"/>
                </a:solidFill>
                <a:latin typeface="Times New Roman"/>
                <a:cs typeface="Arabic Transparent"/>
              </a:rPr>
              <a:t>تنفيذ مهام المراجعة الداخلية</a:t>
            </a:r>
            <a:endParaRPr b="0" lang="en-US" sz="44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1" name=""/>
          <p:cNvGraphicFramePr/>
          <p:nvPr/>
        </p:nvGraphicFramePr>
        <p:xfrm>
          <a:off x="0" y="0"/>
          <a:ext cx="12192120" cy="6864480"/>
        </p:xfrm>
        <a:graphic>
          <a:graphicData uri="http://schemas.openxmlformats.org/drawingml/2006/table">
            <a:tbl>
              <a:tblPr/>
              <a:tblGrid>
                <a:gridCol w="5113440"/>
                <a:gridCol w="3425760"/>
                <a:gridCol w="3652920"/>
              </a:tblGrid>
              <a:tr h="48708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العمليات والمستندات الحكومية</a:t>
                      </a:r>
                      <a:endParaRPr b="0" lang="en-US" sz="1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ea typeface="Arial"/>
                        </a:rPr>
                        <a:t> </a:t>
                      </a:r>
                      <a:endParaRPr b="0" lang="en-US" sz="16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الأدلة أو القرائن المتحصل عليها</a:t>
                      </a:r>
                      <a:endParaRPr b="0" lang="en-US" sz="16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cs typeface="Arial"/>
                        </a:rPr>
                        <a:t>الإجراءات</a:t>
                      </a:r>
                      <a:endParaRPr b="0" lang="en-US" sz="16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109764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جرد المستودعا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جرد العهد النقدية والصناديق.</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عاينة الأصول والموجودا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وجود الفعلي</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ملاحظة</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عاينة والجرد</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r>
              <a:tr h="54900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صادقات الحسابات المدينة والدائنة</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ثل العهد والأمان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إقرارات من الغير</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طلب المصادق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109764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ستمارات اعتماد الصرف</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سيرا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أذون التسوية</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فواتير المشتري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مستندات</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راجعة المستندي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67104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صحة العمليات الحسابية للمسيرات</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صحة العمليات الحسابية على الفواتير</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دقة الحسابية</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راجعة الحسابي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54900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كشوف البنك</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كشوف حسابات الموردين والمقاولين</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دقة الحسابي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طابقات والتسوي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100476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قارنة الأرصدة للسنة الحالية مع أرصدة السنة الماضية</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مقارنة بنود الصرف الفعلية مع البنود المعتمد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مدى المعقولية</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مقارنات</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5760">
                      <a:solidFill>
                        <a:srgbClr val="ffffff"/>
                      </a:solidFill>
                    </a:lnB>
                    <a:solidFill>
                      <a:srgbClr val="1cade4"/>
                    </a:solidFill>
                  </a:tcPr>
                </a:tc>
              </a:tr>
              <a:tr h="83772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استفسارات من الموظفين.</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استفسار من المسئولين.</a:t>
                      </a:r>
                      <a:endParaRPr b="0" lang="en-US" sz="1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تقصى كفاءة الموظفين.</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الاستنتاجات من الاستفسارات والتقصي</a:t>
                      </a:r>
                      <a:endParaRPr b="0" lang="en-US" sz="1800" spc="-1" strike="noStrike">
                        <a:solidFill>
                          <a:srgbClr val="000000"/>
                        </a:solidFill>
                        <a:latin typeface="Calibri"/>
                      </a:endParaRPr>
                    </a:p>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 </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cce3f5"/>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بحث والتقصي</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549000">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العلاقة بين الأداء الفعلي والمتوقع</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30600" rIns="30600" tIns="0" bIns="0" anchor="ctr">
                      <a:noAutofit/>
                    </a:bodyPr>
                    <a:p>
                      <a:pPr marL="228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ea typeface="Arial"/>
                        </a:rPr>
                        <a:t>(قرينة) مدى المعقولية</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c>
                  <a:txBody>
                    <a:bodyPr lIns="30600" rIns="306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ial"/>
                        </a:rPr>
                        <a:t>دراسة العلاقة بين البيانات وبعضها</a:t>
                      </a:r>
                      <a:endParaRPr b="0" lang="en-US" sz="1800" spc="-1" strike="noStrike">
                        <a:solidFill>
                          <a:srgbClr val="000000"/>
                        </a:solidFill>
                        <a:latin typeface="Calibri"/>
                      </a:endParaRPr>
                    </a:p>
                  </a:txBody>
                  <a:tcPr anchor="ctr" marL="30600" marR="30600">
                    <a:lnL w="5760">
                      <a:solidFill>
                        <a:srgbClr val="ffffff"/>
                      </a:solidFill>
                    </a:lnL>
                    <a:lnR w="5760">
                      <a:solidFill>
                        <a:srgbClr val="ffffff"/>
                      </a:solidFill>
                    </a:lnR>
                    <a:lnT w="18720">
                      <a:solidFill>
                        <a:srgbClr val="ffffff"/>
                      </a:solidFill>
                    </a:lnT>
                    <a:lnB w="5760">
                      <a:solidFill>
                        <a:srgbClr val="ffffff"/>
                      </a:solidFill>
                    </a:lnB>
                    <a:solidFill>
                      <a:srgbClr val="1cade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86920"/>
            <a:ext cx="10058400" cy="17859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4- </a:t>
            </a:r>
            <a:r>
              <a:rPr b="0" lang="ar-SA" sz="4300" spc="-1" strike="noStrike">
                <a:solidFill>
                  <a:srgbClr val="2683c6"/>
                </a:solidFill>
                <a:latin typeface="Calibri Light"/>
                <a:cs typeface="Times New Roman"/>
              </a:rPr>
              <a:t>أدلة وقرائن الإثبات في المراجعة</a:t>
            </a:r>
            <a:br>
              <a:rPr sz="4300"/>
            </a:br>
            <a:endParaRPr b="0" lang="en-US" sz="4300" spc="-1" strike="noStrike">
              <a:solidFill>
                <a:srgbClr val="404040"/>
              </a:solidFill>
              <a:latin typeface="Calibri Light"/>
            </a:endParaRPr>
          </a:p>
        </p:txBody>
      </p:sp>
      <p:sp>
        <p:nvSpPr>
          <p:cNvPr id="323" name=""/>
          <p:cNvSpPr txBox="1"/>
          <p:nvPr/>
        </p:nvSpPr>
        <p:spPr>
          <a:xfrm>
            <a:off x="1096920" y="1762200"/>
            <a:ext cx="10058400" cy="41320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لخصائص التي يجب توافرها في الدليل</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أن يكون وثيق الصلة بالموضوع محل الفحص</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قوة الإقناعية للدليل</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الكفاي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25"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كيف سيتم تحديد حجم الدليل الذي يجب جمعه لتحقيق أهداف عملية المراجعة أو لتأييد النتائج؟</a:t>
            </a:r>
            <a:r>
              <a:rPr b="0" lang="ar-SA" sz="2800" spc="-1" strike="noStrike">
                <a:solidFill>
                  <a:srgbClr val="000000"/>
                </a:solidFill>
                <a:latin typeface="Calibri"/>
                <a:ea typeface="Arial"/>
              </a:rPr>
              <a:t>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بصفة عامة أصبح من المتعارف عليه مهنيا أن يعتمد المراجع الداخلي أو الخارجي على نظام العينة ، حيث يقوم بفحص عينة من المجتمع محل المراجعة للوصول إلى استنتاجات عن المجتمع ككل.</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27" name=""/>
          <p:cNvSpPr txBox="1"/>
          <p:nvPr/>
        </p:nvSpPr>
        <p:spPr>
          <a:xfrm>
            <a:off x="1096920" y="1846440"/>
            <a:ext cx="10058400" cy="4022640"/>
          </a:xfrm>
          <a:prstGeom prst="rect">
            <a:avLst/>
          </a:prstGeom>
          <a:noFill/>
          <a:ln w="0">
            <a:noFill/>
          </a:ln>
        </p:spPr>
        <p:txBody>
          <a:bodyPr lIns="0" rIns="0" anchor="t">
            <a:normAutofit fontScale="99000"/>
          </a:bodyPr>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تعريف العينات في المراجعة:</a:t>
            </a:r>
            <a:endParaRPr b="0" lang="en-US" sz="28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عملية اختيار وفحص جزء من مجموعة كاملة ومتصلة للحصول على معلومات أو دراسة بعض الصفات عن تلك المجموعة ومن ثم تعميمها على المجموعة التي اختيرت منها ككل.</a:t>
            </a:r>
            <a:endParaRPr b="0" lang="en-US" sz="28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a:t>
            </a:r>
            <a:r>
              <a:rPr b="0" lang="ar-SA" sz="2400" spc="-1" strike="noStrike">
                <a:solidFill>
                  <a:srgbClr val="000000"/>
                </a:solidFill>
                <a:latin typeface="Calibri"/>
                <a:cs typeface="Arial"/>
              </a:rPr>
              <a:t>إن مجموعة البيانات التي يتم من خلالها اختيار العينة تسمى المجتمع، </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العناصر المكونة للمجتمع والمتاحة للاختيار تسمى وحدات العينة.</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يمكن تطبيق هذه العملية إما استنادا إلى التقدير الشخصي للمراجع وتسمى في هذه الحالة (معاينة حكمية أو تقديرية) أو بإستخدام الأساليب الرياضية والإحصائية (معاينة إحصائية).</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29" name=""/>
          <p:cNvSpPr txBox="1"/>
          <p:nvPr/>
        </p:nvSpPr>
        <p:spPr>
          <a:xfrm>
            <a:off x="1096920" y="1846440"/>
            <a:ext cx="10058400" cy="4022640"/>
          </a:xfrm>
          <a:prstGeom prst="rect">
            <a:avLst/>
          </a:prstGeom>
          <a:noFill/>
          <a:ln w="0">
            <a:noFill/>
          </a:ln>
        </p:spPr>
        <p:txBody>
          <a:bodyPr lIns="0" rIns="0" anchor="t">
            <a:normAutofit fontScale="93000"/>
          </a:bodyPr>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منطق من استخدام أسلوب العينات إحصائية كانت أو التقديرية هو </a:t>
            </a:r>
            <a:r>
              <a:rPr b="0" lang="ar-SA" sz="2400" spc="-1" strike="noStrike">
                <a:solidFill>
                  <a:srgbClr val="000000"/>
                </a:solidFill>
                <a:latin typeface="Calibri"/>
                <a:cs typeface="Arial"/>
              </a:rPr>
              <a:t>عدم الحاجة لمزيد من الفحص في حالة التأكد من فعالية الأدلة المؤيدة للحكم. فآلية الفحص المستخدمة هنا هي الحكم وبالتالي فإن القرار يجب أن يصدر عن المراجعين ذوي الخبرة مثل قائد ومدير الفريق. هذا وكلما كانت النتائج أكثر حساسية، كلما تطلب جعل الفحص أكثر عمقا وبالتالي يكون حجم العينة أكبرً.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المنطق السابق يرتكز على تحقيق </a:t>
            </a:r>
            <a:r>
              <a:rPr b="1" lang="ar-SA" sz="2400" spc="-1" strike="noStrike">
                <a:solidFill>
                  <a:srgbClr val="000000"/>
                </a:solidFill>
                <a:latin typeface="Calibri"/>
                <a:cs typeface="Arial"/>
              </a:rPr>
              <a:t>مبدأ الكفاءة والفعالية</a:t>
            </a:r>
            <a:r>
              <a:rPr b="0" lang="ar-SA" sz="2400" spc="-1" strike="noStrike">
                <a:solidFill>
                  <a:srgbClr val="000000"/>
                </a:solidFill>
                <a:latin typeface="Calibri"/>
                <a:ea typeface="Arial"/>
              </a:rPr>
              <a:t> في عملية المراجعة ، حيث تعني الكفاءة تنفيذ عملية المراجعة بأقل تكلفة ممكنة بينما تعني الفعالية توفير أكبر قدر من الثقة في النتائج التي يتوصل إليها المراجع أي تحقيق هدف المراجعة ، بمعنى أخر تحقيق الهدف بأقل تكلفة ممكنة.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31" name=""/>
          <p:cNvSpPr txBox="1"/>
          <p:nvPr/>
        </p:nvSpPr>
        <p:spPr>
          <a:xfrm>
            <a:off x="1096920" y="1846440"/>
            <a:ext cx="10058400" cy="4489200"/>
          </a:xfrm>
          <a:prstGeom prst="rect">
            <a:avLst/>
          </a:prstGeom>
          <a:noFill/>
          <a:ln w="0">
            <a:noFill/>
          </a:ln>
        </p:spPr>
        <p:txBody>
          <a:bodyPr lIns="0" rIns="0" anchor="t">
            <a:normAutofit fontScale="93000"/>
          </a:bodyPr>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مكن تصنيف أساليب المعاينة بحسب الغرض من استخدامها إلى:</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1</a:t>
            </a:r>
            <a:r>
              <a:rPr b="1" lang="ar-SA" sz="2400" spc="-1" strike="noStrike">
                <a:solidFill>
                  <a:srgbClr val="000000"/>
                </a:solidFill>
                <a:latin typeface="Calibri"/>
                <a:ea typeface="Arial"/>
              </a:rPr>
              <a:t>) معاينة الصفات :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ي تستخدم لأغراض اختبارات الالتزام بتنفيذ السياسات والإجراءات الرقابية الموضوعة والتي يتضمنها هيكل الرقابة الداخلية لدى عميل المراجعة (أي اختبارات الرقابة).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2</a:t>
            </a:r>
            <a:r>
              <a:rPr b="1" lang="ar-SA" sz="2400" spc="-1" strike="noStrike">
                <a:solidFill>
                  <a:srgbClr val="000000"/>
                </a:solidFill>
                <a:latin typeface="Calibri"/>
                <a:ea typeface="Arial"/>
              </a:rPr>
              <a:t>) معاينة المتغيرات :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هي تستخدم لأغراض اختبارات التحقق التفصيلية من الأرصدة والعمليات. وفي هذا النوع من الاختبارات يهتم المراجع بالقيم النقدية التي تعرضها القوائم المالية.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3</a:t>
            </a:r>
            <a:r>
              <a:rPr b="1" lang="ar-SA" sz="2400" spc="-1" strike="noStrike">
                <a:solidFill>
                  <a:srgbClr val="000000"/>
                </a:solidFill>
                <a:latin typeface="Calibri"/>
                <a:ea typeface="Arial"/>
              </a:rPr>
              <a:t>) العينات ذات الغرض المزدوج:</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قد يقرر المراجع استخدام عينات ذات غرض مزدوج، وذلك بأن يقوم بتصميم عينة لأغراض تقدير المخاطر الرقابية، ولأغراض اختبارات التحقق التفصيلية معاً. </a:t>
            </a: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83880" indent="-838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33"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ند الحديث عن استخدام العينات لأغراض المراجعة يصنف الخطر الذي يتعرض له المراجع إلى نوعين هم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خطر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ويعني خطر المعاينة احتمال أن تكون النتائج التي يتوصل إليها المراجع من فحصه للعينة ليست هي نفس النتائج التي يمكن أن يتوصل إليها إذا قام بفحص شامل للمجتمع كله. ويرجع ذلك بصفة أساسية إلى احتمال أن تكون العينة غير ممثلة للمجتمع محل الفحص.</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ر غير المرتبط باستخدام العينات: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هي التي تتضمن جميع جوانب مخاطر المراجعة التي لا ترجع إلى استخدام أساليب المعاينة والتي تعرض لها المراجع حتى وأن قام بفحص المجتمع كله أو قام بفحص مفردة واحدة. هذه الأخطار مصدرها استخدام إجراءات مراجعة لا تتناسب مع الهدف محل الفحص أو استخدام أساليب مراجعة صحيحة ولكن يتم تطبيقها بطريقة خاطئة أو حتى استخدام أساليب مراجعة صحيحة وتطبيقها بطريقة لكن يتم تفسير النتائج بطريقة خاطئ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4- </a:t>
            </a:r>
            <a:r>
              <a:rPr b="0" lang="ar-SA" sz="4800" spc="-1" strike="noStrike">
                <a:solidFill>
                  <a:srgbClr val="2683c6"/>
                </a:solidFill>
                <a:latin typeface="Calibri Light"/>
                <a:cs typeface="Times New Roman"/>
              </a:rPr>
              <a:t>استخدام العينات لأغراض المراجعة الداخلية</a:t>
            </a:r>
            <a:endParaRPr b="0" lang="en-US" sz="4800" spc="-1" strike="noStrike">
              <a:solidFill>
                <a:srgbClr val="404040"/>
              </a:solidFill>
              <a:latin typeface="Calibri Light"/>
            </a:endParaRPr>
          </a:p>
        </p:txBody>
      </p:sp>
      <p:sp>
        <p:nvSpPr>
          <p:cNvPr id="335"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طرق اختيار 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1</a:t>
            </a:r>
            <a:r>
              <a:rPr b="1" lang="ar-SA" sz="2400" spc="-1" strike="noStrike">
                <a:solidFill>
                  <a:srgbClr val="000000"/>
                </a:solidFill>
                <a:latin typeface="Calibri"/>
                <a:ea typeface="Arial"/>
              </a:rPr>
              <a:t>- طرق الاختيار الحكم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2</a:t>
            </a:r>
            <a:r>
              <a:rPr b="1" lang="ar-SA" sz="2400" spc="-1" strike="noStrike">
                <a:solidFill>
                  <a:srgbClr val="000000"/>
                </a:solidFill>
                <a:latin typeface="Calibri"/>
                <a:ea typeface="Arial"/>
              </a:rPr>
              <a:t>- طرق الاختيار العشوائي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اختيار على أساس الأرقام العشوائي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اختيار المنتظم مع بداية عشوائية </a:t>
            </a:r>
            <a:endParaRPr b="0" lang="en-US" sz="24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المعاينة الطبقية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37"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سواء كان الأسلوب المستخدم هو المعاينة الحكمية أو الإحصائية فإن الخطوات التالية يجب القيام بها عند استخدام أساليب المعاينة لفحص نظام الرقابة الداخل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أولي:  تخطيط وتصميم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نية:  اختيار العينة وتنفيذ إجراءات ا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لثة: تقويم نتائج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رابعة: توثيق إجراءات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ea typeface="Times New Roman"/>
              </a:rPr>
              <a:t> </a:t>
            </a:r>
            <a:r>
              <a:rPr b="0" lang="ar-SA" sz="4800" spc="-1" strike="noStrike">
                <a:solidFill>
                  <a:srgbClr val="ff0000"/>
                </a:solidFill>
                <a:latin typeface="Calibri Light"/>
                <a:cs typeface="Times New Roman"/>
              </a:rPr>
              <a:t>قراءة</a:t>
            </a: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39" name=""/>
          <p:cNvSpPr txBox="1"/>
          <p:nvPr/>
        </p:nvSpPr>
        <p:spPr>
          <a:xfrm>
            <a:off x="1096920" y="1736640"/>
            <a:ext cx="10058400" cy="4657680"/>
          </a:xfrm>
          <a:prstGeom prst="rect">
            <a:avLst/>
          </a:prstGeom>
          <a:noFill/>
          <a:ln w="0">
            <a:noFill/>
          </a:ln>
        </p:spPr>
        <p:txBody>
          <a:bodyPr lIns="0" rIns="0" anchor="t">
            <a:normAutofit fontScale="96000"/>
          </a:bodyPr>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04040"/>
                </a:solidFill>
                <a:latin typeface="Calibri"/>
                <a:ea typeface="Arial"/>
              </a:rPr>
              <a:t> </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أولي:  تخطيط وتصميم العينة.</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تضمن هذه الخطوة قيام المراجع بالإجراءات التالية:</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1</a:t>
            </a:r>
            <a:r>
              <a:rPr b="0" lang="ar-SA" sz="2400" spc="-1" strike="noStrike">
                <a:solidFill>
                  <a:srgbClr val="000000"/>
                </a:solidFill>
                <a:latin typeface="Calibri"/>
                <a:ea typeface="Arial"/>
              </a:rPr>
              <a:t>- تحديد الهدف من الفحص                                 </a:t>
            </a:r>
            <a:r>
              <a:rPr b="0" lang="ar-SA" sz="2400" spc="-1" strike="noStrike">
                <a:solidFill>
                  <a:srgbClr val="000000"/>
                </a:solidFill>
                <a:latin typeface="Calibri"/>
                <a:ea typeface="Arial"/>
              </a:rPr>
              <a:t>2</a:t>
            </a:r>
            <a:r>
              <a:rPr b="0" lang="ar-SA" sz="2400" spc="-1" strike="noStrike">
                <a:solidFill>
                  <a:srgbClr val="000000"/>
                </a:solidFill>
                <a:latin typeface="Calibri"/>
                <a:ea typeface="Arial"/>
              </a:rPr>
              <a:t>- تعريف المجتمع ووحدة المعاينة</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3</a:t>
            </a:r>
            <a:r>
              <a:rPr b="0" lang="ar-SA" sz="2400" spc="-1" strike="noStrike">
                <a:solidFill>
                  <a:srgbClr val="000000"/>
                </a:solidFill>
                <a:latin typeface="Calibri"/>
                <a:ea typeface="Arial"/>
              </a:rPr>
              <a:t>- تعريف الخطأ والانحراف عن نظام الرقابة             </a:t>
            </a:r>
            <a:r>
              <a:rPr b="0" lang="ar-SA" sz="2400" spc="-1" strike="noStrike">
                <a:solidFill>
                  <a:srgbClr val="000000"/>
                </a:solidFill>
                <a:latin typeface="Calibri"/>
                <a:ea typeface="Arial"/>
              </a:rPr>
              <a:t>4</a:t>
            </a:r>
            <a:r>
              <a:rPr b="0" lang="ar-SA" sz="2400" spc="-1" strike="noStrike">
                <a:solidFill>
                  <a:srgbClr val="000000"/>
                </a:solidFill>
                <a:latin typeface="Calibri"/>
                <a:ea typeface="Arial"/>
              </a:rPr>
              <a:t>- تحديد معدل الانحراف المسموح به </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5</a:t>
            </a:r>
            <a:r>
              <a:rPr b="0" lang="ar-SA" sz="2400" spc="-1" strike="noStrike">
                <a:solidFill>
                  <a:srgbClr val="000000"/>
                </a:solidFill>
                <a:latin typeface="Calibri"/>
                <a:ea typeface="Arial"/>
              </a:rPr>
              <a:t>- تحديد مستوى الثقة المرغوب فيه                        </a:t>
            </a:r>
            <a:r>
              <a:rPr b="0" lang="ar-SA" sz="2400" spc="-1" strike="noStrike">
                <a:solidFill>
                  <a:srgbClr val="000000"/>
                </a:solidFill>
                <a:latin typeface="Calibri"/>
                <a:ea typeface="Arial"/>
              </a:rPr>
              <a:t>6</a:t>
            </a:r>
            <a:r>
              <a:rPr b="0" lang="ar-SA" sz="2400" spc="-1" strike="noStrike">
                <a:solidFill>
                  <a:srgbClr val="000000"/>
                </a:solidFill>
                <a:latin typeface="Calibri"/>
                <a:ea typeface="Arial"/>
              </a:rPr>
              <a:t>- تحديد معدل الانحراف المتوقع في المجتمع </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000000"/>
                </a:solidFill>
                <a:latin typeface="Calibri"/>
                <a:ea typeface="Arial"/>
              </a:rPr>
              <a:t>7</a:t>
            </a:r>
            <a:r>
              <a:rPr b="0" lang="ar-SA" sz="2400" spc="-1" strike="noStrike">
                <a:solidFill>
                  <a:srgbClr val="000000"/>
                </a:solidFill>
                <a:latin typeface="Calibri"/>
                <a:ea typeface="Arial"/>
              </a:rPr>
              <a:t>- تحديد حجم العينة (حكمي او احصائي)</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نية:  اختيار مفردات العينة وتنفيذ إجراءات المراجعة</a:t>
            </a:r>
            <a:endParaRPr b="0" lang="en-US" sz="2400" spc="-1" strike="noStrike">
              <a:solidFill>
                <a:srgbClr val="404040"/>
              </a:solidFill>
              <a:latin typeface="Calibri"/>
            </a:endParaRPr>
          </a:p>
          <a:p>
            <a:pPr marL="86400" indent="-864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لاهداف</a:t>
            </a:r>
            <a:endParaRPr b="0" lang="en-US" sz="4800" spc="-1" strike="noStrike">
              <a:solidFill>
                <a:srgbClr val="404040"/>
              </a:solidFill>
              <a:latin typeface="Calibri Light"/>
            </a:endParaRPr>
          </a:p>
        </p:txBody>
      </p:sp>
      <p:sp>
        <p:nvSpPr>
          <p:cNvPr id="306"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جب أن يتضمن دليل المراجعة توضيح لبعض النقاط الهامة الخاصة بتنفيذ عملية المراجعة أهمها ما يل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خطاب الإعلان عن مهمة المراجع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يفية الرقابة على تنفيذ مهام ا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جراءات المراجعة التي يمكن استخدامه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دلة وقرائن المراجعة التي يمكن الاعتماد عليه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كيفية استخدام أساليب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41"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لثة: تقويم نتائج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ولا:</a:t>
            </a: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لتقويم الحكمي لنتائج فحص العينة</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المقياس الوحيد الذي يمكن حسابه كميا هو معدل الأخطاء أو الانحرافات بالعينة ويحسب كما يل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معدل الانحرافات بالعينة = عدد الانحرافات / حجم الع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cs typeface="Arial"/>
              </a:rPr>
              <a:t>لا يمكن القول هنا أن هذا المعدل يعتبر تقدير لمعدل الانحرافات بالمجتمع نظرا لأن اختيار مفردات العينة لم يتم بشكل إحصائي. لذلك يعتمد المراجع على بعض المعايير الحكمية التي يضعها بنفسه للتواصل إلى قرار بشأن ما إذا كانت مخاطر الرقابة عند مستوى منخفض بشكل كاف لتقليل اختبارات تفاصيل العمليات والأرصد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ثانيا:</a:t>
            </a: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لتقويم الإحصائي لنتائج فحص 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cs typeface="Times New Roman"/>
              </a:rPr>
              <a:t>استخدام عينات المراجعة لأغراض اختبارات الرقابة</a:t>
            </a:r>
            <a:br>
              <a:rPr sz="4800"/>
            </a:br>
            <a:r>
              <a:rPr b="0" lang="ar-SA" sz="4800" spc="-1" strike="noStrike">
                <a:solidFill>
                  <a:srgbClr val="2683c6"/>
                </a:solidFill>
                <a:latin typeface="Calibri Light"/>
                <a:cs typeface="Times New Roman"/>
              </a:rPr>
              <a:t>معاينة الصفات</a:t>
            </a:r>
            <a:endParaRPr b="0" lang="en-US" sz="4800" spc="-1" strike="noStrike">
              <a:solidFill>
                <a:srgbClr val="404040"/>
              </a:solidFill>
              <a:latin typeface="Calibri Light"/>
            </a:endParaRPr>
          </a:p>
        </p:txBody>
      </p:sp>
      <p:sp>
        <p:nvSpPr>
          <p:cNvPr id="343"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رابعة: توثيق إجراءات المعا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ea typeface="Arial"/>
              </a:rPr>
              <a:t> </a:t>
            </a:r>
            <a:r>
              <a:rPr b="0" lang="ar-SA" sz="2400" spc="-1" strike="noStrike">
                <a:solidFill>
                  <a:srgbClr val="000000"/>
                </a:solidFill>
                <a:latin typeface="Calibri"/>
                <a:ea typeface="Arial"/>
              </a:rPr>
              <a:t>•</a:t>
            </a:r>
            <a:r>
              <a:rPr b="0" lang="ar-SA" sz="2000" spc="-1" strike="noStrike">
                <a:solidFill>
                  <a:srgbClr val="000000"/>
                </a:solidFill>
                <a:latin typeface="Calibri"/>
                <a:cs typeface="Arial"/>
              </a:rPr>
              <a:t>وصف للإجراء الرقابي الذي تم اختباره ،والهدف من الاختبار، بما في ذلك علاقته باختبارات التحقق التفصيلية المخطط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تحديد للمجتمع ووحدة المعاينة، تحديد للظروف التي تعبر عن وجود انحراف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الأساس الذي استند إليه المراجع في تحديد مستوى الثقة، ومعدل الانحراف المسموح به، والمعدل المتوقع للانحراف في المجتمع.</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الطريقة المستخدمة في تحديد حجم العينة، والطريقة المستخدمة في اختيار مفردات العين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وصف لإجراءات المعاينة التي تم اتباعها، وقائمة بالانحرافات التي تم اكتشافها في العينة.</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تقويم العينة وملخص بالاستنتاجات العامة التي توصل إليها المراجع.</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45" name=""/>
          <p:cNvSpPr txBox="1"/>
          <p:nvPr/>
        </p:nvSpPr>
        <p:spPr>
          <a:xfrm>
            <a:off x="1096920" y="18464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هتم المراجع عند استخدام عينات المراجعة لأغراض التحقق من صحة الأرصدة بما إذا كانت القيم النقدية لأرصدة الحسابات أو النوع من العمليات تشتمل على خطأ جوهري. ويمكن للمراجع استخدام أي من أساليب المعاينة الإحصائية أو المعاينة غير الإحصائ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يتطلب تطبيق معاينة المتغيرات ضرورة  قيام المراجع بخطوات محددة مثل تلك التي يقوم بها عند استخدام عينات المراجعة لأغراض اختبارات الرقابة. وتبدأ هذه الخطوات بتخطيط العينة وتنتهي بتوثيق الإجراءات مروراً باختيار مفردات العينة وتنفيذ إجراءات المراجعة عليها وتقويم نتائج العينة. وتختلف إجراءات المعاينة المتبعة في كل خطوة بحسب ما إذا كان المراجع ينوي استخدام أحد أساليب المعاينة الإحصائية التقليدية أو استخدام المعاينة غير الإحصائية</a:t>
            </a:r>
            <a:r>
              <a:rPr b="0" lang="ar-SA" sz="2400" spc="-1" strike="noStrike">
                <a:solidFill>
                  <a:srgbClr val="404040"/>
                </a:solidFill>
                <a:latin typeface="Calibri"/>
                <a:ea typeface="Arial"/>
              </a:rPr>
              <a:t>.</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47" name=""/>
          <p:cNvSpPr txBox="1"/>
          <p:nvPr/>
        </p:nvSpPr>
        <p:spPr>
          <a:xfrm>
            <a:off x="1096920" y="1846440"/>
            <a:ext cx="10058400" cy="4022640"/>
          </a:xfrm>
          <a:prstGeom prst="rect">
            <a:avLst/>
          </a:prstGeom>
          <a:noFill/>
          <a:ln w="0">
            <a:noFill/>
          </a:ln>
        </p:spPr>
        <p:txBody>
          <a:bodyPr lIns="0" rIns="0" anchor="t">
            <a:normAutofit/>
          </a:bodyPr>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اولا:استخدام أساليب المعاينة الإحصائية التقليدية</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ثانيا:استخدام المعاينة الحكمية في التحقق من صحة الأرصدة</a:t>
            </a:r>
            <a:endParaRPr b="0" lang="en-US" sz="2800" spc="-1" strike="noStrike">
              <a:solidFill>
                <a:srgbClr val="404040"/>
              </a:solidFill>
              <a:latin typeface="Calibri"/>
            </a:endParaRPr>
          </a:p>
          <a:p>
            <a:pPr marL="90360" indent="-90360" algn="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49" name=""/>
          <p:cNvSpPr txBox="1"/>
          <p:nvPr/>
        </p:nvSpPr>
        <p:spPr>
          <a:xfrm>
            <a:off x="990720" y="1722600"/>
            <a:ext cx="10166400" cy="4657680"/>
          </a:xfrm>
          <a:prstGeom prst="rect">
            <a:avLst/>
          </a:prstGeom>
          <a:noFill/>
          <a:ln w="0">
            <a:noFill/>
          </a:ln>
        </p:spPr>
        <p:txBody>
          <a:bodyPr lIns="0" rIns="0" anchor="t">
            <a:normAutofit fontScale="97000"/>
          </a:bodyPr>
          <a:p>
            <a:pPr marL="87480" indent="-87480" algn="ct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ولا:استخدام أساليب المعاينة الإحصائية التقليدية</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مكن للمراجع  استخدام أحد أساليب المعاينة الإحصائية التقليدية : </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1</a:t>
            </a:r>
            <a:r>
              <a:rPr b="0" lang="ar-SA" sz="2400" spc="-1" strike="noStrike">
                <a:solidFill>
                  <a:srgbClr val="000000"/>
                </a:solidFill>
                <a:latin typeface="Calibri"/>
                <a:ea typeface="Arial"/>
              </a:rPr>
              <a:t>.طريقة المتوسط،               </a:t>
            </a:r>
            <a:r>
              <a:rPr b="0" lang="ar-SA" sz="2400" spc="-1" strike="noStrike">
                <a:solidFill>
                  <a:srgbClr val="000000"/>
                </a:solidFill>
                <a:latin typeface="Calibri"/>
                <a:ea typeface="Arial"/>
              </a:rPr>
              <a:t>2</a:t>
            </a:r>
            <a:r>
              <a:rPr b="0" lang="ar-SA" sz="2400" spc="-1" strike="noStrike">
                <a:solidFill>
                  <a:srgbClr val="000000"/>
                </a:solidFill>
                <a:latin typeface="Calibri"/>
                <a:ea typeface="Arial"/>
              </a:rPr>
              <a:t>. طريقة الفروق،                     </a:t>
            </a:r>
            <a:r>
              <a:rPr b="0" lang="ar-SA" sz="2400" spc="-1" strike="noStrike">
                <a:solidFill>
                  <a:srgbClr val="000000"/>
                </a:solidFill>
                <a:latin typeface="Calibri"/>
                <a:ea typeface="Arial"/>
              </a:rPr>
              <a:t>3</a:t>
            </a:r>
            <a:r>
              <a:rPr b="0" lang="ar-SA" sz="2400" spc="-1" strike="noStrike">
                <a:solidFill>
                  <a:srgbClr val="000000"/>
                </a:solidFill>
                <a:latin typeface="Calibri"/>
                <a:ea typeface="Arial"/>
              </a:rPr>
              <a:t>. طريقة النسب،</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وذلك لأغراض اختبارات التحقق من الأرصدة والعمليات. ولا تختلف الإجراءات المتبعة في أي من هذه الطرق عن غيرها إلا في الطريقة التي يتم بها تقدير قيمة المجتمع.</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أولى: تخطيط العينة</a:t>
            </a:r>
            <a:r>
              <a:rPr b="1" lang="ar-SA" sz="2400" spc="-1" strike="noStrike">
                <a:solidFill>
                  <a:srgbClr val="ff0000"/>
                </a:solidFill>
                <a:latin typeface="Calibri"/>
                <a:ea typeface="Arial"/>
              </a:rPr>
              <a:t> </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ial"/>
              </a:rPr>
              <a:t>قراءة</a:t>
            </a:r>
            <a:endParaRPr b="0" lang="en-US" sz="24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1</a:t>
            </a:r>
            <a:r>
              <a:rPr b="0" lang="ar-SA" sz="1800" spc="-1" strike="noStrike">
                <a:solidFill>
                  <a:srgbClr val="000000"/>
                </a:solidFill>
                <a:latin typeface="Calibri"/>
                <a:ea typeface="Arial"/>
              </a:rPr>
              <a:t>. تحديد الهدف من الاختبار                                                         </a:t>
            </a:r>
            <a:r>
              <a:rPr b="0" lang="ar-SA" sz="1800" spc="-1" strike="noStrike">
                <a:solidFill>
                  <a:srgbClr val="000000"/>
                </a:solidFill>
                <a:latin typeface="Calibri"/>
                <a:ea typeface="Arial"/>
              </a:rPr>
              <a:t>2</a:t>
            </a:r>
            <a:r>
              <a:rPr b="0" lang="ar-SA" sz="1800" spc="-1" strike="noStrike">
                <a:solidFill>
                  <a:srgbClr val="000000"/>
                </a:solidFill>
                <a:latin typeface="Calibri"/>
                <a:ea typeface="Arial"/>
              </a:rPr>
              <a:t>. تحديد المجتمع ووحدة المعاينة </a:t>
            </a:r>
            <a:endParaRPr b="0" lang="en-US" sz="18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3</a:t>
            </a:r>
            <a:r>
              <a:rPr b="0" lang="ar-SA" sz="1800" spc="-1" strike="noStrike">
                <a:solidFill>
                  <a:srgbClr val="000000"/>
                </a:solidFill>
                <a:latin typeface="Calibri"/>
                <a:ea typeface="Arial"/>
              </a:rPr>
              <a:t>. تحديد مستوى الثقة                                                                 </a:t>
            </a:r>
            <a:r>
              <a:rPr b="0" lang="ar-SA" sz="1800" spc="-1" strike="noStrike">
                <a:solidFill>
                  <a:srgbClr val="000000"/>
                </a:solidFill>
                <a:latin typeface="Calibri"/>
                <a:ea typeface="Arial"/>
              </a:rPr>
              <a:t>4</a:t>
            </a:r>
            <a:r>
              <a:rPr b="0" lang="ar-SA" sz="1800" spc="-1" strike="noStrike">
                <a:solidFill>
                  <a:srgbClr val="000000"/>
                </a:solidFill>
                <a:latin typeface="Calibri"/>
                <a:ea typeface="Arial"/>
              </a:rPr>
              <a:t>. تحديد الانحراف المعياري المتوقع للمجتمع </a:t>
            </a:r>
            <a:endParaRPr b="0" lang="en-US" sz="18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ea typeface="Arial"/>
              </a:rPr>
              <a:t>5</a:t>
            </a:r>
            <a:r>
              <a:rPr b="0" lang="ar-SA" sz="1800" spc="-1" strike="noStrike">
                <a:solidFill>
                  <a:srgbClr val="000000"/>
                </a:solidFill>
                <a:latin typeface="Calibri"/>
                <a:ea typeface="Arial"/>
              </a:rPr>
              <a:t>. تحديد الخطأ المسموح به                                                          </a:t>
            </a:r>
            <a:r>
              <a:rPr b="0" lang="ar-SA" sz="1800" spc="-1" strike="noStrike">
                <a:solidFill>
                  <a:srgbClr val="000000"/>
                </a:solidFill>
                <a:latin typeface="Calibri"/>
                <a:ea typeface="Arial"/>
              </a:rPr>
              <a:t>6</a:t>
            </a:r>
            <a:r>
              <a:rPr b="0" lang="ar-SA" sz="1800" spc="-1" strike="noStrike">
                <a:solidFill>
                  <a:srgbClr val="000000"/>
                </a:solidFill>
                <a:latin typeface="Calibri"/>
                <a:ea typeface="Arial"/>
              </a:rPr>
              <a:t>. تحديد حجم العينة </a:t>
            </a:r>
            <a:endParaRPr b="0" lang="en-US" sz="1800" spc="-1" strike="noStrike">
              <a:solidFill>
                <a:srgbClr val="404040"/>
              </a:solidFill>
              <a:latin typeface="Calibri"/>
            </a:endParaRPr>
          </a:p>
          <a:p>
            <a:pPr marL="87480" indent="-874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1" name=""/>
          <p:cNvSpPr txBox="1"/>
          <p:nvPr/>
        </p:nvSpPr>
        <p:spPr>
          <a:xfrm>
            <a:off x="1096920" y="17366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نية: اختيار مفردات العينة وتنفيذ إجراءات المراجع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a:t>
            </a:r>
            <a:r>
              <a:rPr b="0" lang="ar-SA" sz="2400" spc="-1" strike="noStrike">
                <a:solidFill>
                  <a:srgbClr val="000000"/>
                </a:solidFill>
                <a:latin typeface="Calibri"/>
                <a:ea typeface="Arial"/>
              </a:rPr>
              <a:t> يجب على المراجع استخدام طريقة اختيار العينة التي يترتب عليها اختيار عينة ممثلة للمجتمع. ويفضل في اختبارات التحقق التفصيلية استخدام إحدى طرق الاختيار العشوائي التي سبق الإشارة إليها.</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يجب تنفيذ إجراءات المراجعة على جميع مفردات العينة ، وتنفيذ إجراءات المراجعة أمر لا علاقة له بعملية المعاينة وإذا لم يتمكن المراجع من تنفيذ إجراءات المراجعة المخططة على بعض مفردات العينة فإن معالجة هذه المفردات تتوقف على أثرها في تقويمه لنتائج العينة. فإذا وجد المراجع أن تقويمه لنتائج العينة سوف يختلف إذا اعتبر هذه المفردات تحتوي على خطأ، فإنه يجب عليه استخدام إجراءات بديلة يمكن أن توفر دليلاً كافياً يمكنه من الوصول إلى استنتاج مناسب. أما إذا كان اعتبار تلك المفردات التي لم يمكن فحصها تحتوي على خطأ لا يغير في تقويم المراجع لنتائج العينة، فلن تكون هناك ضرورة لفحص هذه المفردات.</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3" name=""/>
          <p:cNvSpPr txBox="1"/>
          <p:nvPr/>
        </p:nvSpPr>
        <p:spPr>
          <a:xfrm>
            <a:off x="1096920" y="17366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خطوة الثالثة: تقويم نتائج 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يجب على المراجع تقدير القيمة النقدية للخطأ في المجتمع في ضوء نتائج العينة ويجب أن يأخذ في الاعتبار أثر هذا الخطأ المقدر على الهدف المحدد للاختبار وعلى المجالات الأخرى للمراجعة. ويقوم المراجع بمقارنة الخطأ الإجمالي المقدر في المجتمع مع القيمة النقدية للخطأ المسموح به.</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r>
              <a:rPr b="1" lang="ar-SA" sz="2400" spc="-1" strike="noStrike">
                <a:solidFill>
                  <a:srgbClr val="000000"/>
                </a:solidFill>
                <a:latin typeface="Calibri"/>
                <a:cs typeface="Arial"/>
              </a:rPr>
              <a:t>الخطوة الرابعة: توثيق إجراءات المعا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alibri"/>
                <a:cs typeface="Arial"/>
              </a:rPr>
              <a:t>قراءة </a:t>
            </a:r>
            <a:r>
              <a:rPr b="0" lang="ar-SA" sz="2400" spc="-1" strike="noStrike">
                <a:solidFill>
                  <a:srgbClr val="000000"/>
                </a:solidFill>
                <a:latin typeface="Calibri"/>
                <a:cs typeface="Arial"/>
              </a:rPr>
              <a:t>يجب على المراجع توثيق جميع الإجراءات التي قام بها عند استخدام عينات المراجعة لأغراض اختبارات التحقق التفصيلية للأرصدة والعمليات.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5" name=""/>
          <p:cNvSpPr txBox="1"/>
          <p:nvPr/>
        </p:nvSpPr>
        <p:spPr>
          <a:xfrm>
            <a:off x="1096920" y="1736640"/>
            <a:ext cx="10058400" cy="4657680"/>
          </a:xfrm>
          <a:prstGeom prst="rect">
            <a:avLst/>
          </a:prstGeom>
          <a:noFill/>
          <a:ln w="0">
            <a:noFill/>
          </a:ln>
        </p:spPr>
        <p:txBody>
          <a:bodyPr lIns="0" rIns="0" anchor="t">
            <a:normAutofit/>
          </a:bodyPr>
          <a:p>
            <a:pPr marL="90360" indent="-90360" algn="ctr"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ثانيا:استخدام المعاينة الحكمية في التحقق من صحة الأرصد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أهم ما يميز المعاينة الحكمية هو أن تحديد حجم العينة وإختيار مفرداتها وكذلك تقويم نتائج المعاينة يتم وفقا للتقدير الشخصي للمراجع. ويتطلب تطبيق أسلوب المعاينة الحكمية لفحص العمليات والأرصدة اتباع نفس الخطوات الخاصة بتطبيق المعاينة الإحصائية مع الأخذ في الاعتبار بعض الاختلافات التي نوضحها فيما يل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ختلاف في تحديد حجم العينة: </a:t>
            </a:r>
            <a:r>
              <a:rPr b="0" lang="ar-SA" sz="2400" spc="-1" strike="noStrike">
                <a:solidFill>
                  <a:srgbClr val="000000"/>
                </a:solidFill>
                <a:latin typeface="Calibri"/>
                <a:cs typeface="Arial"/>
              </a:rPr>
              <a:t>يتحدد حجم العينة حكميا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اختلاف في اختيار مفردات العينة</a:t>
            </a:r>
            <a:r>
              <a:rPr b="0" lang="ar-SA" sz="2400" spc="-1" strike="noStrike">
                <a:solidFill>
                  <a:srgbClr val="000000"/>
                </a:solidFill>
                <a:latin typeface="Calibri"/>
                <a:ea typeface="Arial"/>
              </a:rPr>
              <a:t>: ليس هناك ما يمنع من إختيار مفردات العينة بطريقة عشوائية عند استخدام المعاينة الحكمية ، ولكن عادة يختار المراجع مفردات العينة حكميا بحيث تكون ممثلة للمجتمع المحاسبي الذي سحبت منه.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ar-SA" sz="4300" spc="-1" strike="noStrike">
                <a:solidFill>
                  <a:srgbClr val="2683c6"/>
                </a:solidFill>
                <a:latin typeface="Calibri Light"/>
                <a:cs typeface="Times New Roman"/>
              </a:rPr>
              <a:t>استخدام عينات المراجعة في التحقق من صحة الأرصدة</a:t>
            </a:r>
            <a:br>
              <a:rPr sz="4300"/>
            </a:br>
            <a:r>
              <a:rPr b="0" lang="ar-SA" sz="4300" spc="-1" strike="noStrike">
                <a:solidFill>
                  <a:srgbClr val="2683c6"/>
                </a:solidFill>
                <a:latin typeface="Calibri Light"/>
                <a:cs typeface="Times New Roman"/>
              </a:rPr>
              <a:t>معاينة المتغيرات</a:t>
            </a:r>
            <a:endParaRPr b="0" lang="en-US" sz="4300" spc="-1" strike="noStrike">
              <a:solidFill>
                <a:srgbClr val="404040"/>
              </a:solidFill>
              <a:latin typeface="Calibri Light"/>
            </a:endParaRPr>
          </a:p>
        </p:txBody>
      </p:sp>
      <p:sp>
        <p:nvSpPr>
          <p:cNvPr id="357" name=""/>
          <p:cNvSpPr txBox="1"/>
          <p:nvPr/>
        </p:nvSpPr>
        <p:spPr>
          <a:xfrm>
            <a:off x="1096920" y="1736640"/>
            <a:ext cx="10058400" cy="465768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ختلاف في تقويم نتائج المعاين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تطلب تقويم نتائج المعاينة حكميا القيام بالخطوات التالي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1</a:t>
            </a:r>
            <a:r>
              <a:rPr b="0" lang="ar-SA" sz="2400" spc="-1" strike="noStrike">
                <a:solidFill>
                  <a:srgbClr val="000000"/>
                </a:solidFill>
                <a:latin typeface="Calibri"/>
                <a:ea typeface="Arial"/>
              </a:rPr>
              <a:t>. حصر الأخطاء بالعينة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2</a:t>
            </a:r>
            <a:r>
              <a:rPr b="0" lang="ar-SA" sz="2400" spc="-1" strike="noStrike">
                <a:solidFill>
                  <a:srgbClr val="000000"/>
                </a:solidFill>
                <a:latin typeface="Calibri"/>
                <a:ea typeface="Arial"/>
              </a:rPr>
              <a:t>. تقدير الأخطاء المحتمل أن يتضمنها المجتمع المحاسبي </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3</a:t>
            </a:r>
            <a:r>
              <a:rPr b="0" lang="ar-SA" sz="2400" spc="-1" strike="noStrike">
                <a:solidFill>
                  <a:srgbClr val="000000"/>
                </a:solidFill>
                <a:latin typeface="Calibri"/>
                <a:ea typeface="Arial"/>
              </a:rPr>
              <a:t>. المقارنة مع مبلغ الخطأ المسموح به</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4</a:t>
            </a:r>
            <a:r>
              <a:rPr b="0" lang="ar-SA" sz="2400" spc="-1" strike="noStrike">
                <a:solidFill>
                  <a:srgbClr val="000000"/>
                </a:solidFill>
                <a:latin typeface="Calibri"/>
                <a:ea typeface="Arial"/>
              </a:rPr>
              <a:t>. دراسة وتحليل الأخطاء</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5</a:t>
            </a:r>
            <a:r>
              <a:rPr b="0" lang="ar-SA" sz="2400" spc="-1" strike="noStrike">
                <a:solidFill>
                  <a:srgbClr val="000000"/>
                </a:solidFill>
                <a:latin typeface="Calibri"/>
                <a:ea typeface="Arial"/>
              </a:rPr>
              <a:t>. اتخاذ القرار النهائي</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2683c6"/>
                </a:solidFill>
                <a:latin typeface="Calibri Light"/>
                <a:ea typeface="Times New Roman"/>
              </a:rPr>
              <a:t>1- </a:t>
            </a:r>
            <a:r>
              <a:rPr b="0" lang="ar-SA" sz="4800" spc="-1" strike="noStrike">
                <a:solidFill>
                  <a:srgbClr val="2683c6"/>
                </a:solidFill>
                <a:latin typeface="Calibri Light"/>
                <a:cs typeface="Times New Roman"/>
              </a:rPr>
              <a:t>خطاب الإعلان عن مهمة المراجعة</a:t>
            </a:r>
            <a:endParaRPr b="0" lang="en-US" sz="4800" spc="-1" strike="noStrike">
              <a:solidFill>
                <a:srgbClr val="404040"/>
              </a:solidFill>
              <a:latin typeface="Calibri Light"/>
            </a:endParaRPr>
          </a:p>
        </p:txBody>
      </p:sp>
      <p:sp>
        <p:nvSpPr>
          <p:cNvPr id="308" name=""/>
          <p:cNvSpPr txBox="1"/>
          <p:nvPr/>
        </p:nvSpPr>
        <p:spPr>
          <a:xfrm>
            <a:off x="1096920" y="1846440"/>
            <a:ext cx="10058400" cy="40226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تبدأ مرحلة تنفيذ مهام المراجعة الداخلية بإعلام الجهة المراد المراجعة عليها بمهمة المراجعة. ويتم إعلام الجهة المراد مراجعتها عن الرغبة في البدء بمهمة المراجعة عن طريق خطاب الإعلان الصادر عن المسئول الأول بالجهة، ويجب أن يكون هذا الخطاب قبل فترة معقولة من تاريخ بدأ المهمة (الفترة المعقولة قد تكون من أسبوع إلى ثلاثة أسابيع من تاريخ البدء في المهمة). تتضمن محتويات هذا الخطاب أهداف ونطاق المراجعة، أسماء المراجعين المسئولين عن تنفيذ المهمة، والمعلومات الأخرى ذات العلاقة</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96920" y="476280"/>
            <a:ext cx="10058400" cy="1674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2- </a:t>
            </a:r>
            <a:r>
              <a:rPr b="0" lang="ar-SA" sz="4800" spc="-1" strike="noStrike">
                <a:solidFill>
                  <a:srgbClr val="2683c6"/>
                </a:solidFill>
                <a:latin typeface="Calibri Light"/>
                <a:cs typeface="Times New Roman"/>
              </a:rPr>
              <a:t>الرقابة على تنفيذ مهام المراجعة</a:t>
            </a:r>
            <a:br>
              <a:rPr sz="4300"/>
            </a:br>
            <a:endParaRPr b="0" lang="en-US" sz="4800" spc="-1" strike="noStrike">
              <a:solidFill>
                <a:srgbClr val="404040"/>
              </a:solidFill>
              <a:latin typeface="Calibri Light"/>
            </a:endParaRPr>
          </a:p>
        </p:txBody>
      </p:sp>
      <p:sp>
        <p:nvSpPr>
          <p:cNvPr id="310" name=""/>
          <p:cNvSpPr txBox="1"/>
          <p:nvPr/>
        </p:nvSpPr>
        <p:spPr>
          <a:xfrm>
            <a:off x="1096920" y="1846440"/>
            <a:ext cx="10058400" cy="4022640"/>
          </a:xfrm>
          <a:prstGeom prst="rect">
            <a:avLst/>
          </a:prstGeom>
          <a:noFill/>
          <a:ln w="0">
            <a:noFill/>
          </a:ln>
        </p:spPr>
        <p:txBody>
          <a:bodyPr lIns="0" rIns="0" anchor="t">
            <a:normAutofit fontScale="98000"/>
          </a:bodyPr>
          <a:p>
            <a:pPr marL="88200" indent="-882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8200" indent="-8820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أهداف الرقابة على تنفيذ مهام المراجعة:</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متابعة والإشراف الدقيق على سير عمل فريق المراجعة في تنفيذ مهمة المراجعة عاملان أساسيان لضمان تحقيق أهداف مهمة المراجعة. </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مراقبة الوقت الفعلي المستهلك في تنفيذ المهمة لضمان فعالية فريق العمل والالتزام بالخطط والجداول الزمنية للمهمة</a:t>
            </a:r>
            <a:endParaRPr b="0" lang="en-US" sz="2800" spc="-1" strike="noStrike">
              <a:solidFill>
                <a:srgbClr val="404040"/>
              </a:solidFill>
              <a:latin typeface="Calibri"/>
            </a:endParaRPr>
          </a:p>
          <a:p>
            <a:pPr marL="88200" indent="-8820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التمكن من اكتشاف أية تجاوزات في تنفيذ مهمة المراجعة والتعامل معها أولاً بأول.</a:t>
            </a:r>
            <a:endParaRPr b="0" lang="en-US" sz="2800" spc="-1" strike="noStrike">
              <a:solidFill>
                <a:srgbClr val="404040"/>
              </a:solidFill>
              <a:latin typeface="Calibri"/>
            </a:endParaRPr>
          </a:p>
          <a:p>
            <a:pPr marL="88200" indent="-882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96920" y="669960"/>
            <a:ext cx="10058400" cy="151920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2- </a:t>
            </a:r>
            <a:r>
              <a:rPr b="0" lang="ar-SA" sz="4300" spc="-1" strike="noStrike">
                <a:solidFill>
                  <a:srgbClr val="2683c6"/>
                </a:solidFill>
                <a:latin typeface="Calibri Light"/>
                <a:cs typeface="Times New Roman"/>
              </a:rPr>
              <a:t>الرقابة على تنفيذ مهام المراجعة</a:t>
            </a:r>
            <a:br>
              <a:rPr sz="4300"/>
            </a:br>
            <a:endParaRPr b="0" lang="en-US" sz="4300" spc="-1" strike="noStrike">
              <a:solidFill>
                <a:srgbClr val="404040"/>
              </a:solidFill>
              <a:latin typeface="Calibri Light"/>
            </a:endParaRPr>
          </a:p>
        </p:txBody>
      </p:sp>
      <p:sp>
        <p:nvSpPr>
          <p:cNvPr id="312"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ial"/>
              </a:rPr>
              <a:t>آليات الرقابة على تنفيذ مهام المراجعة</a:t>
            </a:r>
            <a:r>
              <a:rPr b="0" lang="ar-SA" sz="2800" spc="-1" strike="noStrike">
                <a:solidFill>
                  <a:srgbClr val="000000"/>
                </a:solidFill>
                <a:latin typeface="Calibri"/>
                <a:ea typeface="Arial"/>
              </a:rPr>
              <a:t>:</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جدول ضبط الوقت لكل مراجع. </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ملخص زمني للمهمة.</a:t>
            </a:r>
            <a:endParaRPr b="0" lang="en-US" sz="28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ea typeface="Arial"/>
              </a:rPr>
              <a:t> تقارير درجة التقدم في العمل.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6920" y="287280"/>
            <a:ext cx="10058400" cy="18115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3- </a:t>
            </a:r>
            <a:r>
              <a:rPr b="0" lang="ar-SA" sz="4300" spc="-1" strike="noStrike">
                <a:solidFill>
                  <a:srgbClr val="2683c6"/>
                </a:solidFill>
                <a:latin typeface="Calibri Light"/>
                <a:cs typeface="Times New Roman"/>
              </a:rPr>
              <a:t>إجراءات المراجعة الداخلية</a:t>
            </a:r>
            <a:br>
              <a:rPr sz="4300"/>
            </a:br>
            <a:endParaRPr b="0" lang="en-US" sz="4300" spc="-1" strike="noStrike">
              <a:solidFill>
                <a:srgbClr val="404040"/>
              </a:solidFill>
              <a:latin typeface="Calibri Light"/>
            </a:endParaRPr>
          </a:p>
        </p:txBody>
      </p:sp>
      <p:sp>
        <p:nvSpPr>
          <p:cNvPr id="314" name=""/>
          <p:cNvSpPr txBox="1"/>
          <p:nvPr/>
        </p:nvSpPr>
        <p:spPr>
          <a:xfrm>
            <a:off x="1096920" y="1846440"/>
            <a:ext cx="10058400" cy="4022640"/>
          </a:xfrm>
          <a:prstGeom prst="rect">
            <a:avLst/>
          </a:prstGeom>
          <a:noFill/>
          <a:ln w="0">
            <a:noFill/>
          </a:ln>
        </p:spPr>
        <p:txBody>
          <a:bodyPr lIns="0" rIns="0" anchor="t">
            <a:normAutofit fontScale="91000"/>
          </a:bodyPr>
          <a:p>
            <a:pPr marL="82080" indent="-820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يقصد بإجراء المراجعة الأسلوب أو الوسيلة التي يستخدمها المراجع للحصول على دليل أو قرينة بغرض تحقيق هدف المراجعة. وفيما يلي عرض لأهم إجراءات المراجعة المتعارف عليها والأكثر استخداما:</a:t>
            </a:r>
            <a:endParaRPr b="0" lang="en-US" sz="24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ea typeface="Arial"/>
              </a:rPr>
              <a:t> - </a:t>
            </a:r>
            <a:r>
              <a:rPr b="1" lang="ar-SA" sz="2000" spc="-1" strike="noStrike">
                <a:solidFill>
                  <a:srgbClr val="000000"/>
                </a:solidFill>
                <a:latin typeface="Calibri"/>
                <a:cs typeface="Arial"/>
              </a:rPr>
              <a:t>إجراء المقابلات الشخصية                                                                         - التقصي والاستفسارات</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لملاحظة                                                                                             - المعاينة والجرد</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لمقارانات                                                                                            - المطابقات والتسويات</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طلب المصادقات والشهادات والإقرارات من الغير</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لمراجعة التحليلية والحسابية والمستندية والانتقادية</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96920" y="286920"/>
            <a:ext cx="10058400" cy="17607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4- </a:t>
            </a:r>
            <a:r>
              <a:rPr b="0" lang="ar-SA" sz="4300" spc="-1" strike="noStrike">
                <a:solidFill>
                  <a:srgbClr val="2683c6"/>
                </a:solidFill>
                <a:latin typeface="Calibri Light"/>
                <a:cs typeface="Times New Roman"/>
              </a:rPr>
              <a:t>أدلة وقرائن الإثبات في المراجعة</a:t>
            </a:r>
            <a:br>
              <a:rPr sz="4300"/>
            </a:br>
            <a:endParaRPr b="0" lang="en-US" sz="4300" spc="-1" strike="noStrike">
              <a:solidFill>
                <a:srgbClr val="404040"/>
              </a:solidFill>
              <a:latin typeface="Calibri Light"/>
            </a:endParaRPr>
          </a:p>
        </p:txBody>
      </p:sp>
      <p:sp>
        <p:nvSpPr>
          <p:cNvPr id="316" name=""/>
          <p:cNvSpPr txBox="1"/>
          <p:nvPr/>
        </p:nvSpPr>
        <p:spPr>
          <a:xfrm>
            <a:off x="1096920" y="1846440"/>
            <a:ext cx="10058400" cy="4022640"/>
          </a:xfrm>
          <a:prstGeom prst="rect">
            <a:avLst/>
          </a:prstGeom>
          <a:noFill/>
          <a:ln w="0">
            <a:noFill/>
          </a:ln>
        </p:spPr>
        <p:txBody>
          <a:bodyPr lIns="0" rIns="0" anchor="t">
            <a:normAutofit fontScale="99000"/>
          </a:bodyPr>
          <a:p>
            <a:pPr marL="89280" indent="-892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مفهوم الإثبات</a:t>
            </a:r>
            <a:r>
              <a:rPr b="0" lang="ar-SA" sz="2400" spc="-1" strike="noStrike">
                <a:solidFill>
                  <a:srgbClr val="000000"/>
                </a:solidFill>
                <a:latin typeface="Calibri"/>
                <a:ea typeface="Arial"/>
              </a:rPr>
              <a:t>:</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إثبات في المراجعة هو الحصول على القناعة بصحة أو عدم صحة قضية أو أمر معين ، وهذا المفهوم للإثبات لا يقصره على الأدلة المادية الملموسة بل أن نقاش معين بين المراجع وأي مسئول في الوحدة الحكومية قد تنتهي بالحصول على القناعة المطلوبة (غير قطعية). </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الأدلة والقرائن:</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أدلة مباشرة على القضية وتتصل بإثباتها مباشرة والدليل يحوز قوة إقناعية لإثبات الحقيقة. أما القرينة فإنها ترتبط بقضية معينة وتثبت قضية أخرى بصورة غير مباشرة أي أنها تتضمن إستنتاج إحتمالي بشئ معين.</a:t>
            </a:r>
            <a:endParaRPr b="0" lang="en-US" sz="2400" spc="-1" strike="noStrike">
              <a:solidFill>
                <a:srgbClr val="404040"/>
              </a:solidFill>
              <a:latin typeface="Calibri"/>
            </a:endParaRPr>
          </a:p>
          <a:p>
            <a:pPr marL="89280" indent="-892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4- </a:t>
            </a:r>
            <a:r>
              <a:rPr b="0" lang="ar-SA" sz="4300" spc="-1" strike="noStrike">
                <a:solidFill>
                  <a:srgbClr val="2683c6"/>
                </a:solidFill>
                <a:latin typeface="Calibri Light"/>
                <a:cs typeface="Times New Roman"/>
              </a:rPr>
              <a:t>أدلة وقرائن الإثبات في المراجعة</a:t>
            </a:r>
            <a:endParaRPr b="0" lang="en-US" sz="4300" spc="-1" strike="noStrike">
              <a:solidFill>
                <a:srgbClr val="404040"/>
              </a:solidFill>
              <a:latin typeface="Calibri Light"/>
            </a:endParaRPr>
          </a:p>
        </p:txBody>
      </p:sp>
      <p:sp>
        <p:nvSpPr>
          <p:cNvPr id="318" name=""/>
          <p:cNvSpPr txBox="1"/>
          <p:nvPr/>
        </p:nvSpPr>
        <p:spPr>
          <a:xfrm>
            <a:off x="1096920" y="1846440"/>
            <a:ext cx="10058400" cy="4022640"/>
          </a:xfrm>
          <a:prstGeom prst="rect">
            <a:avLst/>
          </a:prstGeom>
          <a:noFill/>
          <a:ln w="0">
            <a:noFill/>
          </a:ln>
        </p:spPr>
        <p:txBody>
          <a:bodyPr lIns="0" rIns="0" anchor="t">
            <a:normAutofit fontScale="91000"/>
          </a:bodyPr>
          <a:p>
            <a:pPr marL="82080" indent="-820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04040"/>
                </a:solidFill>
                <a:latin typeface="Calibri"/>
                <a:ea typeface="Arial"/>
              </a:rPr>
              <a:t>	</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أنواع الأدلة والقرائن:</a:t>
            </a:r>
            <a:endParaRPr b="0" lang="en-US" sz="24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المراجع الداخلي في الوحدات </a:t>
            </a:r>
            <a:r>
              <a:rPr b="1" lang="ar-SA" sz="2000" spc="-1" strike="noStrike">
                <a:solidFill>
                  <a:srgbClr val="000000"/>
                </a:solidFill>
                <a:latin typeface="Calibri"/>
                <a:cs typeface="Arial"/>
              </a:rPr>
              <a:t>التجارية</a:t>
            </a:r>
            <a:r>
              <a:rPr b="0" lang="ar-SA" sz="2000" spc="-1" strike="noStrike">
                <a:solidFill>
                  <a:srgbClr val="000000"/>
                </a:solidFill>
                <a:latin typeface="Calibri"/>
                <a:ea typeface="Arial"/>
              </a:rPr>
              <a:t> يركز كثيرا على العمليات التجارية وما يرتبط بها من حسابات كالمخزون والمدينين والدائنين ، أما التركيز في العمليات </a:t>
            </a:r>
            <a:r>
              <a:rPr b="1" lang="ar-SA" sz="2000" spc="-1" strike="noStrike">
                <a:solidFill>
                  <a:srgbClr val="000000"/>
                </a:solidFill>
                <a:latin typeface="Calibri"/>
                <a:cs typeface="Arial"/>
              </a:rPr>
              <a:t>الحكومية</a:t>
            </a:r>
            <a:r>
              <a:rPr b="0" lang="ar-SA" sz="2000" spc="-1" strike="noStrike">
                <a:solidFill>
                  <a:srgbClr val="000000"/>
                </a:solidFill>
                <a:latin typeface="Calibri"/>
                <a:ea typeface="Arial"/>
              </a:rPr>
              <a:t> فينصب على المصروفات وتحقيق أهداف الوحدة والمخاطر المرتبطة بها.</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ial"/>
              </a:rPr>
              <a:t> ادلة وقرائن المراجعة لا حصر لها حيث يحق للمراجع إثبات الحقيقة بكل الوسائل الممكنة ، ومنها:   </a:t>
            </a:r>
            <a:endParaRPr b="0" lang="en-US" sz="2000" spc="-1" strike="noStrike">
              <a:solidFill>
                <a:srgbClr val="404040"/>
              </a:solidFill>
              <a:latin typeface="Calibri"/>
            </a:endParaRPr>
          </a:p>
          <a:p>
            <a:pPr marL="82080" indent="-8208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 الوجود الفعلي.                                                                           - إقرارات من الغير.</a:t>
            </a:r>
            <a:endParaRPr b="0" lang="en-US" sz="2000" spc="-1" strike="noStrike">
              <a:solidFill>
                <a:srgbClr val="404040"/>
              </a:solidFill>
              <a:latin typeface="Calibri"/>
            </a:endParaRPr>
          </a:p>
          <a:p>
            <a:pPr marL="82080" indent="-8208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 المستندات الداخلية والخارجية.                                                         - الدقة الحسابية.</a:t>
            </a:r>
            <a:endParaRPr b="0" lang="en-US" sz="2000" spc="-1" strike="noStrike">
              <a:solidFill>
                <a:srgbClr val="404040"/>
              </a:solidFill>
              <a:latin typeface="Calibri"/>
            </a:endParaRPr>
          </a:p>
          <a:p>
            <a:pPr marL="82080" indent="-82080" algn="just" rtl="1">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 التأكيدات الشفهية.                                                                        - العلاقة بين البيانات وبعضها.</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ea typeface="Arial"/>
              </a:rPr>
              <a:t>- لاستنتاجات (من الملاحظة والمقابلات والاستفسارات والتقصي).</a:t>
            </a:r>
            <a:endParaRPr b="0" lang="en-US" sz="2000" spc="-1" strike="noStrike">
              <a:solidFill>
                <a:srgbClr val="404040"/>
              </a:solidFill>
              <a:latin typeface="Calibri"/>
            </a:endParaRPr>
          </a:p>
          <a:p>
            <a:pPr marL="82080" indent="-8208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96920" y="287280"/>
            <a:ext cx="10058400" cy="18892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1cade4"/>
                </a:solidFill>
                <a:latin typeface="Calibri Light"/>
                <a:ea typeface="Times New Roman"/>
              </a:rPr>
              <a:t> </a:t>
            </a:r>
            <a:br>
              <a:rPr sz="4300"/>
            </a:br>
            <a:br>
              <a:rPr sz="4300"/>
            </a:br>
            <a:r>
              <a:rPr b="0" lang="ar-SA" sz="4300" spc="-1" strike="noStrike">
                <a:solidFill>
                  <a:srgbClr val="2683c6"/>
                </a:solidFill>
                <a:latin typeface="Calibri Light"/>
                <a:ea typeface="Times New Roman"/>
              </a:rPr>
              <a:t>4- </a:t>
            </a:r>
            <a:r>
              <a:rPr b="0" lang="ar-SA" sz="4300" spc="-1" strike="noStrike">
                <a:solidFill>
                  <a:srgbClr val="2683c6"/>
                </a:solidFill>
                <a:latin typeface="Calibri Light"/>
                <a:cs typeface="Times New Roman"/>
              </a:rPr>
              <a:t>أدلة وقرائن الإثبات في المراجعة</a:t>
            </a:r>
            <a:br>
              <a:rPr sz="4300"/>
            </a:br>
            <a:endParaRPr b="0" lang="en-US" sz="4300" spc="-1" strike="noStrike">
              <a:solidFill>
                <a:srgbClr val="404040"/>
              </a:solidFill>
              <a:latin typeface="Calibri Light"/>
            </a:endParaRPr>
          </a:p>
        </p:txBody>
      </p:sp>
      <p:sp>
        <p:nvSpPr>
          <p:cNvPr id="320" name=""/>
          <p:cNvSpPr txBox="1"/>
          <p:nvPr/>
        </p:nvSpPr>
        <p:spPr>
          <a:xfrm>
            <a:off x="1096920" y="1736280"/>
            <a:ext cx="10058400" cy="4132440"/>
          </a:xfrm>
          <a:prstGeom prst="rect">
            <a:avLst/>
          </a:prstGeom>
          <a:noFill/>
          <a:ln w="0">
            <a:noFill/>
          </a:ln>
        </p:spPr>
        <p:txBody>
          <a:bodyPr lIns="0" rIns="0" anchor="t">
            <a:normAutofit/>
          </a:bodyPr>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ial"/>
              </a:rPr>
              <a:t>علاقة أدلة الإثبات بالأساليب الفنية للمراجعة في الوحدات الحكومية:</a:t>
            </a:r>
            <a:endParaRPr b="0" lang="en-US" sz="2400" spc="-1" strike="noStrike">
              <a:solidFill>
                <a:srgbClr val="404040"/>
              </a:solidFill>
              <a:latin typeface="Calibri"/>
            </a:endParaRPr>
          </a:p>
          <a:p>
            <a:pPr marL="90360" indent="-90360" algn="just" rtl="1">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جدول التالي يوضح العلاقة بين أدلة وقرائن المراجعة والإجراءات التي يطبقها المراجع. </a:t>
            </a:r>
            <a:endParaRPr b="0" lang="en-US" sz="2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2T10:02:21Z</dcterms:created>
  <dc:creator>hana</dc:creator>
  <dc:description/>
  <dc:language>en-US</dc:language>
  <cp:lastModifiedBy>Hana Ageel Alageel</cp:lastModifiedBy>
  <dcterms:modified xsi:type="dcterms:W3CDTF">2016-11-30T07:13:03Z</dcterms:modified>
  <cp:revision>37</cp:revision>
  <dc:subject/>
  <dc:title>PowerPoint Presentation</dc:title>
</cp:coreProperties>
</file>