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7B39E-FB20-4E7D-B933-6C016F824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EEC1C-8F49-4E1E-A62E-CCC6329C5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7E943-86AB-450F-B622-1AB130814B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8F59D-C21F-430E-A699-67D8D55E73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05B837-D460-4A0D-8360-D0538F1835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B9716-5963-404E-B5DD-7EA5823EC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7E37C-D6D1-460F-90D0-E56C4FCB94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C3B481-84B2-45CA-821B-E9C5232B30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6ABBED-8FB0-438A-A50D-A8FF093FDB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F11836-E6AA-4AA5-93DF-598D63A907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E64A09-9D7F-4B09-B87F-6B63692A3F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D7C45B-65E1-4B91-9D07-6C9B15BB432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00E5D-EC3E-4386-AFDB-135204585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B8791A-8338-4934-9C9F-5E2F3326E0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A0F98E-CC8D-4FF7-8C77-0F4845C2D6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54ECC9-FA7B-4D00-9E9B-1DF3D9273D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FF048B-F8C9-4CA5-BC9A-409D438079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582BC6-C0DF-452D-ACD8-977CC9E405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C3CC8A-7AE3-44A2-A727-B32A56BB92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1FBC28-2B5A-4A6A-A73E-9C4A93D790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5779B3-D96E-4BAE-AE6C-29428048E5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7D4A31-1903-4DD2-808C-EAADF1F659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B9F219-5D7D-41EB-9AE4-3DEAA1306A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271E1-AD4C-4B66-AA0C-F9D6A93D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B16D7E-A084-48CA-9041-91DB2C858C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13C4B-B116-43F3-920B-1A2A17AB5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988C-2872-4C00-A7F4-0D93EBEDE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53451-3109-4D2A-B095-39B660AE9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190E4-FD3E-490B-8CE4-13A1C1881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F182E-1776-41A4-85F9-8F70D1DF3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14D2E-2981-483E-A569-6DCF0034E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D3222-D43E-4C71-A66F-F345680FB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6D79E-D0C0-4E8E-AB1B-DE6042708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8A340-8DD5-4DB9-B3AF-87FBD4AF4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7597A-A195-4F3B-A109-8024F2E36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7D023-51BD-432F-BB36-A036A8E75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070BC-DB42-46DB-97FD-3C4B963688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9D754-110F-4F64-BFC7-2B63C1EAD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FABD00-135D-4C8D-80DB-9BD216018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30B5D-5032-4FA0-9BD5-63FD7262B1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4CDCF-C695-430F-BBF5-DD9A2B325C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506735-1EA2-4718-91C8-51F35502B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EF514-DBB2-4C3E-A9B9-5365273323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79D3D-588D-484D-9A70-F6EEDC113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9DA71-0AB9-4858-B28E-2CAFD539F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FA3251-F3C5-4772-B92A-C31774936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4FF92-97C7-4ED0-AB3D-266A85FA40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3411F-CC9B-440D-B639-EDFF83709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52915-E7AE-442B-AB0E-18EF32F5A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898A1E-5C15-4D77-8A77-07B420B5A4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B65133-A853-40D2-9469-468E013EA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DB7247-078A-426D-96C0-E9ADE1112A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8CAF6-414C-42A4-AA2B-F6D20AAFA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F155C0-C598-4E4E-ACED-0ABBD59A4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C69D4-55EC-449B-8D36-A473CA76D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1E88CC-C0C6-47A2-B943-4E23108579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5DAFA-BC1F-4627-B48E-350DAB7EA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45619-3BCA-43E4-83F0-DD4F0BFF6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CC297-E6F1-4F59-BAFF-A3C88F4E1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03F03A-D391-44FC-BE38-8A2390B1D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677ED-E67F-45D0-A7A9-F571AAB28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63359-27BB-4863-97E1-9C715831D6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0C7715-91E8-429C-9C0A-839EED5A4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9B2755-FB66-496E-8518-F53F27FBAD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4D8434-1CF6-48CF-94BF-BA1A4220C9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6EFB8-2CAB-4C10-9BB6-489A29AE2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2B4AD7-1BCE-417B-8A94-23D6F26943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0545AD-5CCF-4A40-80AB-CA7380F37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41AF9F-C3CB-4F92-B425-82D78B03B5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32FA22-824C-4006-8317-2831FE453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C1DB4A-0949-4E23-BAB6-A5D80FA5A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C0860E-5902-47E5-94F7-D68180FCB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6CB94-3FD5-4204-9500-6D9D9F74A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D41E5-0EA7-4065-98A9-15454BDDB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BDB4F-2A2A-4BB6-B29E-DE14B7806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9FB8D1-9DD8-4242-A623-DEFE41B34C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DDBE4-295A-4080-A587-61C923C5E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938A1D-7825-4A73-AF27-ECAF325511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46F5BC-A8D4-4863-BF9B-A85F971930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F97D5D-67D4-46BE-AF92-9D17966135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BA0F2-B88D-4F2C-A99A-14172617A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08B7C8-4AEA-4605-BFCD-A0C5F37680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611E8E-91EC-45B3-8C2D-54822F5B8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F8056D-BC50-4B79-AAC7-BC957C0EF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8527A-46B2-460D-A049-B7086C3730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E1CACE-328C-47B1-8D02-CE00DA0B5E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A9641E-8053-4920-9169-8240520FD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440B-33B3-434A-A6C6-4CADF783F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52612F-7F4E-428D-9CE7-F28E7D5BA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DB9FDC-8071-4C72-9297-9C8C376EE9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112613-B7B5-4178-A34C-929CF8A4D0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6A1233-49C0-47DF-A35D-FF5087FB380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9A3C6-67AD-485D-98DD-11874960D9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4AA77-61A7-400A-8485-8504ED01FC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45C3F-EBBC-4B33-80B1-DA8B112F3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F461A-515B-4C3A-A656-9A347A260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67FDDD-0473-4FED-BA6F-1CC4024D2A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783957-7235-4DE5-A8AF-932400512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C0195-9363-4BB6-AFF0-8AED740B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12AA1B-83CC-4545-B57E-90581A58F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DCBF71-2E39-46DF-A23B-7796203AC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CFA555-F4D8-4EB0-87E6-AB0CCDF215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76EA79-F361-42E2-9964-FDAF47BED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36CAC0-C0F3-467B-8F89-E59F6A2B8A0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934C70-FBDA-4715-AEB5-2C4E7CC169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868488-E5C3-4D32-9F4D-B5B1A1FF4B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E37418-020B-4B94-A442-C3A8297A7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E84C7F-BFEC-456A-A2C2-02160CC6CD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DDE432-A365-4814-ABCE-E7789F9E01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4D753-8795-4678-B79D-E922723C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556A9-9D1F-41E4-968F-882A7911C0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69963-7ED7-459A-A634-008AF6243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8EF87A-A42C-4DD8-96EF-7E58F651BA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7710E-222E-4069-9BC1-0892A7B92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3B1CF7-1A1A-4320-8CDE-96A3937ABA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1E59A4-FA3D-4B6B-8F6E-7492236B05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C87302-E9D8-48D3-BA34-D5FC0BFA93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1429F2-FDF7-42F6-8BDD-45806AFEA1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0E4CC7-E2CD-4F68-8A80-7A732A57AC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9D1FAC-BA17-4FD9-88A1-40D5958B08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94C52-7619-4056-8325-4E3690EEEDED}"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11"/>
          <p:cNvSpPr/>
          <p:nvPr/>
        </p:nvSpPr>
        <p:spPr>
          <a:xfrm>
            <a:off x="8839080" y="600120"/>
            <a:ext cx="2907000" cy="58165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352DD-3510-46CB-ACF8-31D5D9ACB6BA}"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11"/>
          <p:cNvSpPr/>
          <p:nvPr/>
        </p:nvSpPr>
        <p:spPr>
          <a:xfrm>
            <a:off x="446040" y="3086280"/>
            <a:ext cx="11263320" cy="33051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AD0B6-1E3B-4056-B10A-BEA98C31B5F2}"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AC74C-CE9B-49DC-85F0-EC3B99AE5153}"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11"/>
          <p:cNvSpPr/>
          <p:nvPr/>
        </p:nvSpPr>
        <p:spPr>
          <a:xfrm>
            <a:off x="447840" y="5141880"/>
            <a:ext cx="11289960" cy="12589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045EAA-77CD-4E1F-97D0-6B2DA16D973E}"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54878-5A1C-4EAE-A5E7-6D8EC617DFDC}"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11"/>
          <p:cNvSpPr/>
          <p:nvPr/>
        </p:nvSpPr>
        <p:spPr>
          <a:xfrm>
            <a:off x="446040" y="606600"/>
            <a:ext cx="1130004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19901D-371F-4688-B16A-EE6D06018B16}"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11"/>
          <p:cNvSpPr/>
          <p:nvPr/>
        </p:nvSpPr>
        <p:spPr>
          <a:xfrm>
            <a:off x="441360" y="606600"/>
            <a:ext cx="11299680" cy="12585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F9363-1FE1-4526-AE43-397BF4C385D7}"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11"/>
          <p:cNvSpPr/>
          <p:nvPr/>
        </p:nvSpPr>
        <p:spPr>
          <a:xfrm>
            <a:off x="447840" y="5141880"/>
            <a:ext cx="11298240" cy="127476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6d818a"/>
                </a:solidFill>
                <a:latin typeface="Times New Roman"/>
              </a:rPr>
              <a:t>&lt;date/time&gt;</a:t>
            </a:r>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6d818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6C756-A096-4CC5-9858-04C4FA6614A9}" type="slidenum">
              <a:rPr b="0" lang="en-US" sz="900" spc="-1" strike="noStrike">
                <a:solidFill>
                  <a:srgbClr val="6d818a"/>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ed842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11"/>
          <p:cNvSpPr/>
          <p:nvPr/>
        </p:nvSpPr>
        <p:spPr>
          <a:xfrm>
            <a:off x="439560" y="614520"/>
            <a:ext cx="11309400" cy="1188720"/>
          </a:xfrm>
          <a:prstGeom prst="rect">
            <a:avLst/>
          </a:prstGeom>
          <a:solidFill>
            <a:srgbClr val="4653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fontScale="76000"/>
          </a:bodyPr>
          <a:p>
            <a:pPr marL="231480" indent="-23148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Click to edit the outline text format</a:t>
            </a:r>
            <a:endParaRPr b="0" lang="en-US" sz="3200" spc="-1" strike="noStrike">
              <a:solidFill>
                <a:srgbClr val="3d3d3d"/>
              </a:solidFill>
              <a:latin typeface="Gill Sans MT"/>
            </a:endParaRPr>
          </a:p>
          <a:p>
            <a:pPr lvl="1" marL="477360" indent="-231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cond Outline Level</a:t>
            </a:r>
            <a:endParaRPr b="0" lang="en-US" sz="3200" spc="-1" strike="noStrike">
              <a:solidFill>
                <a:srgbClr val="3d3d3d"/>
              </a:solidFill>
              <a:latin typeface="Gill Sans MT"/>
            </a:endParaRPr>
          </a:p>
          <a:p>
            <a:pPr lvl="2" marL="682560" indent="-20520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Third Outline Level</a:t>
            </a:r>
            <a:endParaRPr b="0" lang="en-US" sz="3200" spc="-1" strike="noStrike">
              <a:solidFill>
                <a:srgbClr val="3d3d3d"/>
              </a:solidFill>
              <a:latin typeface="Gill Sans MT"/>
            </a:endParaRPr>
          </a:p>
          <a:p>
            <a:pPr lvl="3" marL="94320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ourth Outline Level</a:t>
            </a:r>
            <a:endParaRPr b="0" lang="en-US" sz="3200" spc="-1" strike="noStrike">
              <a:solidFill>
                <a:srgbClr val="3d3d3d"/>
              </a:solidFill>
              <a:latin typeface="Gill Sans MT"/>
            </a:endParaRPr>
          </a:p>
          <a:p>
            <a:pPr lvl="4" marL="1217160" indent="-177120">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Fifth Outline Level</a:t>
            </a:r>
            <a:endParaRPr b="0" lang="en-US" sz="3200" spc="-1" strike="noStrike">
              <a:solidFill>
                <a:srgbClr val="3d3d3d"/>
              </a:solidFill>
              <a:latin typeface="Gill Sans MT"/>
            </a:endParaRPr>
          </a:p>
          <a:p>
            <a:pPr lvl="5"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ixth Outline Level</a:t>
            </a:r>
            <a:endParaRPr b="0" lang="en-US" sz="3200" spc="-1" strike="noStrike">
              <a:solidFill>
                <a:srgbClr val="3d3d3d"/>
              </a:solidFill>
              <a:latin typeface="Gill Sans MT"/>
            </a:endParaRPr>
          </a:p>
          <a:p>
            <a:pPr lvl="6" marL="1217160" indent="-177120">
              <a:spcBef>
                <a:spcPts val="799"/>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3d3d3d"/>
                </a:solidFill>
                <a:latin typeface="Gill Sans MT"/>
              </a:rPr>
              <a:t>Seventh Outline Level</a:t>
            </a:r>
            <a:endParaRPr b="0" lang="en-US" sz="3200" spc="-1" strike="noStrike">
              <a:solidFill>
                <a:srgbClr val="3d3d3d"/>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d8428"/>
                </a:solidFill>
                <a:latin typeface="Times New Roman"/>
              </a:rPr>
              <a:t>&lt;date/time&gt;</a:t>
            </a:r>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d842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E9302F-4D35-4180-ADD1-452065047D9D}" type="slidenum">
              <a:rPr b="0" lang="en-US" sz="900" spc="-1" strike="noStrike">
                <a:solidFill>
                  <a:srgbClr val="ed842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580680" y="1020240"/>
            <a:ext cx="10993320" cy="1474920"/>
          </a:xfrm>
          <a:prstGeom prst="rect">
            <a:avLst/>
          </a:prstGeom>
          <a:noFill/>
          <a:ln w="0">
            <a:noFill/>
          </a:ln>
        </p:spPr>
        <p:txBody>
          <a:bodyPr anchor="b">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800" spc="-1" strike="noStrike">
                <a:solidFill>
                  <a:srgbClr val="465359"/>
                </a:solidFill>
                <a:latin typeface="Gill Sans MT"/>
                <a:cs typeface="Majalla UI"/>
              </a:rPr>
              <a:t>إعداد ورفع تقارير المراجعة الداخلية</a:t>
            </a:r>
            <a:br>
              <a:rPr sz="4800"/>
            </a:br>
            <a:endParaRPr b="0" lang="en-US" sz="4800" spc="-1" strike="noStrike">
              <a:solidFill>
                <a:srgbClr val="ffffff"/>
              </a:solidFill>
              <a:latin typeface="Gill Sans MT"/>
            </a:endParaRPr>
          </a:p>
        </p:txBody>
      </p:sp>
      <p:sp>
        <p:nvSpPr>
          <p:cNvPr id="450" name="PlaceHolder 2"/>
          <p:cNvSpPr>
            <a:spLocks noGrp="1"/>
          </p:cNvSpPr>
          <p:nvPr>
            <p:ph type="subTitle"/>
          </p:nvPr>
        </p:nvSpPr>
        <p:spPr>
          <a:xfrm>
            <a:off x="580680" y="2495160"/>
            <a:ext cx="10993320" cy="590760"/>
          </a:xfrm>
          <a:prstGeom prst="rect">
            <a:avLst/>
          </a:prstGeom>
          <a:noFill/>
          <a:ln w="0">
            <a:noFill/>
          </a:ln>
        </p:spPr>
        <p:txBody>
          <a:bodyPr anchor="t">
            <a:noAutofit/>
          </a:bodyPr>
          <a:p>
            <a:pPr indent="0" algn="r" rtl="1">
              <a:spcBef>
                <a:spcPts val="6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ed8428"/>
                </a:solidFill>
                <a:latin typeface="Gill Sans MT"/>
                <a:cs typeface="Majalla UI"/>
              </a:rPr>
              <a:t>الفقرة السابعة من فقرات الدليل</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8" name=""/>
          <p:cNvSpPr txBox="1"/>
          <p:nvPr/>
        </p:nvSpPr>
        <p:spPr>
          <a:xfrm>
            <a:off x="580680" y="2180880"/>
            <a:ext cx="11030040" cy="4360680"/>
          </a:xfrm>
          <a:prstGeom prst="rect">
            <a:avLst/>
          </a:prstGeom>
          <a:noFill/>
          <a:ln w="0">
            <a:noFill/>
          </a:ln>
        </p:spPr>
        <p:txBody>
          <a:bodyPr anchor="ctr">
            <a:normAutofit fontScale="98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سبب: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معرفة لماذا وكيف حصلت الحالة عند إعداد التوصيات من أن فريق المراجعة يحتاج إلى فهم واضح للسبب عند محاولته إعداد التوصيات التي ستصحح المشكلة بعد قبولها من جانب الجهة المراجع عليها. قد يكون لكل حالة أكثر من سبب، لكن السبب الأساسي عادة سيكون القرارات الإدارية التي اتخذتها إدارة الجهة المراجع عليها. ولذلك فإن السبب الأساسي للحالة يجب أن يكون موجها نحو السياسات والإجراءات والممارسات التي تبنتها إدارة الجهة المراجع عليها. كما يجب أن يتم توضيح السبب إلى الدرجة التي يصبح فيها من الواضح أن تصحيح الحالة سيعالج أو سيمنع إعادة تكرار حدوث مثل هذه الحالة مستقبل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درك المراجع الداخلي أن الفهم الواضح لأسباب الحالة يحدد أسلوب واتجاه التوصيات بحيث تكون فعال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ffffff"/>
                </a:solidFill>
                <a:latin typeface="Gill Sans MT"/>
                <a:cs typeface="Majalla UI"/>
              </a:rPr>
              <a:t>تقارير مهام المراجعة (صياغة ملاحظات المراجعة)</a:t>
            </a:r>
            <a:endParaRPr b="0" lang="en-US" sz="3600" spc="-1" strike="noStrike">
              <a:solidFill>
                <a:srgbClr val="ffffff"/>
              </a:solidFill>
              <a:latin typeface="Gill Sans MT"/>
            </a:endParaRPr>
          </a:p>
        </p:txBody>
      </p:sp>
      <p:sp>
        <p:nvSpPr>
          <p:cNvPr id="470" name=""/>
          <p:cNvSpPr txBox="1"/>
          <p:nvPr/>
        </p:nvSpPr>
        <p:spPr>
          <a:xfrm>
            <a:off x="580680" y="2180880"/>
            <a:ext cx="11030040" cy="3678120"/>
          </a:xfrm>
          <a:prstGeom prst="rect">
            <a:avLst/>
          </a:prstGeom>
          <a:noFill/>
          <a:ln w="0">
            <a:noFill/>
          </a:ln>
        </p:spPr>
        <p:txBody>
          <a:bodyPr anchor="ctr">
            <a:normAutofit fontScale="87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a:t>
            </a:r>
            <a:r>
              <a:rPr b="1" lang="ar-SA" sz="2400" spc="-1" strike="noStrike">
                <a:solidFill>
                  <a:srgbClr val="3d3d3d"/>
                </a:solidFill>
                <a:latin typeface="Gill Sans MT"/>
                <a:cs typeface="Majalla UI"/>
              </a:rPr>
              <a:t>لأثــ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بعد تحديد الفرق بين ما هو الوضع الحالي (الحالة) وما الذي يجب أن يكون عليه (المعايير)، يجب على فريق المراجعة تحديد التأثير الذي نجم أو سينجم عن هذا الاختلاف على الجهة الحكومية ككل أو على الإدارة التي يتم المراجعة عليها أو على النشاط أو الوظيفة محل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أهمية الحالة عادة ما يتم الحكم عليها من خلال التأثير الذي تحدثه والذي قد يتمثل في قياس كمي لتأثير الحالة على الفعالية الاقتصادية والكفاءة معبرا عنه بمصطلحات كمية مثل الريالات السعودية، الوقت، وحدات الإنتاج، عدد الإجراءات والعمليات، أو التعامل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أثر هو العنصر الأساسي لإقناع إدارة الجهة المراجع عليها والإدارة العليا بأن الحالة القائمة غير مرغوب بها، وإذا استمرت فإنها ستتسبب بأذى وقد تكون تكلفة أضرارها أكثر من تكلفة إجراءات معالجتها.</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2" name=""/>
          <p:cNvSpPr txBox="1"/>
          <p:nvPr/>
        </p:nvSpPr>
        <p:spPr>
          <a:xfrm>
            <a:off x="580680" y="2219040"/>
            <a:ext cx="11030040" cy="3678120"/>
          </a:xfrm>
          <a:prstGeom prst="rect">
            <a:avLst/>
          </a:prstGeom>
          <a:noFill/>
          <a:ln w="0">
            <a:noFill/>
          </a:ln>
        </p:spPr>
        <p:txBody>
          <a:bodyPr anchor="ctr">
            <a:normAutofit/>
          </a:bodyPr>
          <a:p>
            <a:pPr marL="304920" indent="-304920" algn="r"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ات:</a:t>
            </a:r>
            <a:endParaRPr b="0" lang="en-US" sz="2400" spc="-1" strike="noStrike">
              <a:solidFill>
                <a:srgbClr val="3d3d3d"/>
              </a:solidFill>
              <a:latin typeface="Gill Sans MT"/>
            </a:endParaRPr>
          </a:p>
          <a:p>
            <a:pPr marL="304920" indent="-304920" algn="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إعداد فقرة مستقلة للتوصيات التى تقدمها المراجعة الداخلية بناءً على نتائج الفحص والملاحظات التي تم استنتاجها ، كما يجب أن تقترح أساليب التصحيح اللازمة بما يساعد علي تحقيق النتائج المرغوبة. ويجب أن يتم فصل التوصيات بوضوح عن الملاحظات كما يجب أن لا تحتوي على معلومات جديدة. ويجب أن تكون التوصيات على علاقة مباشرة ومحددة بسبب الملاحظة</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4"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صنيف ملاحظات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نخفض</a:t>
            </a:r>
            <a:r>
              <a:rPr b="0" lang="ar-SA" sz="2400" spc="-1" strike="noStrike">
                <a:solidFill>
                  <a:srgbClr val="3d3d3d"/>
                </a:solidFill>
                <a:latin typeface="Gill Sans MT"/>
                <a:ea typeface="Majalla UI"/>
              </a:rPr>
              <a:t> إن الملاحظة لا تشكل خطراً يذكر على نشاط الجهة الحكومية  أو المراجع عليها وعلى الإدارة فقط تصحيح الحالة المذكور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وسط </a:t>
            </a:r>
            <a:r>
              <a:rPr b="0" lang="ar-SA" sz="2400" spc="-1" strike="noStrike">
                <a:solidFill>
                  <a:srgbClr val="3d3d3d"/>
                </a:solidFill>
                <a:latin typeface="Gill Sans MT"/>
                <a:cs typeface="Majalla UI"/>
              </a:rPr>
              <a:t>إن الملاحظة الموضحة ليس لها تأثيراً كبيراً على سير عمل أو إنتاجية الجهة الحكومية أو الجهة المراجع عليها ولكن إن تم تجاهل تصحيح الخطأ فإن تأثير الخطر سيتضاعف ويكون أكبر على المدى الطوي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الي </a:t>
            </a:r>
            <a:r>
              <a:rPr b="0" lang="ar-SA" sz="2400" spc="-1" strike="noStrike">
                <a:solidFill>
                  <a:srgbClr val="3d3d3d"/>
                </a:solidFill>
                <a:latin typeface="Gill Sans MT"/>
                <a:cs typeface="Majalla UI"/>
              </a:rPr>
              <a:t>هذه الملاحظات تتضمن الكثير من نقاط الضعف في جهاز الرقابة اي ان مستوى المخاطر غير مقبول- الأساليب الرقابية داخل الجهة التشغيلية غير فعالة والمخاطر يجب أن يعاد تقديرها ويتم العمل على تخفيضها بأسرع وقت ممكن.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6"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لمسؤولية تجاه 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إن المسؤولية النهائية على صحة المذكرات الميدانية تعود إلى مدير المراجعة الداخلية، حيث أن كل المذكرات الميدانية تحتاج لموافقته قبل أن ترسل إلى إدارة الوحدة المراجع عليها. أما مسؤولية التأكد من أن كل المذكرات الميدانية قد تم توثيقها بطريقة ملائمة ومكتملة للمساعدة في تحقيق الأهداف المشروحة أعلاه فتقع على المراجع المسؤول (رئيس فريق المراجعة) ضمن فريق المراجع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78" name=""/>
          <p:cNvSpPr txBox="1"/>
          <p:nvPr/>
        </p:nvSpPr>
        <p:spPr>
          <a:xfrm>
            <a:off x="580680" y="2180880"/>
            <a:ext cx="11030040" cy="367812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راجعة وتنقيح الملاحظات:</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إدارة المراجعة الداخلية مراجعة وتنقيح الملاحظات قبل إرسالها إلى الجهة المراجع عليها </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إحداث تغييرات على الملاحظات الميدان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عين مراجعة ومناقشة الملاحظات على مستوى فريق المراجعة ووحدة المراجعة الداخلية قبل إرسالها إلى الجهة المعنية. فإذا أسفرت عمليات المراجعة والمناقشة عن استبعاد لبعض هذه الملاحظات فإنه يجب توثيق ذلك بعناية فائقة لما لذلك من مسئولية على إدارة المراجعة الداخلية. كما يجب أن يوافق مدير المراجعة الداخلية على استبعاد أى من الملاحظات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80" name=""/>
          <p:cNvSpPr txBox="1"/>
          <p:nvPr/>
        </p:nvSpPr>
        <p:spPr>
          <a:xfrm>
            <a:off x="580680" y="2180880"/>
            <a:ext cx="11030040" cy="3678120"/>
          </a:xfrm>
          <a:prstGeom prst="rect">
            <a:avLst/>
          </a:prstGeom>
          <a:noFill/>
          <a:ln w="0">
            <a:noFill/>
          </a:ln>
        </p:spPr>
        <p:txBody>
          <a:bodyPr anchor="ctr">
            <a:normAutofit fontScale="90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لاحظات المكرر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توثيق ملاحظات المراجعة يجب بيان حالة الملاحظات فيما إذا كانت جديدة أو متكررة الحدوث. فعند وجود ملاحظات متكررة لم يتم حلها بعد أو تتخذ الإجراءات التصحيحية حيالها، يجب على فريق المراجعة أن يوثق عدم موافقة الإدارة المسئولة على تنفيذ التوصية وأنها توافق على تحمل المخاطر المترتبة على استمرار الملاحظة أو أن الإدارة غير مدركة لحقيقة عدم التزامها بالمعايير والأنظمة التي تحكم الوحدة الحكوم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إذا لم يتم اتخاذ إجراء بعد تقرير المتابعة الثالث وتم كتابة التقرير للمرة الرابعة أو أكثر، </a:t>
            </a:r>
            <a:r>
              <a:rPr b="1" lang="ar-SA" sz="2400" spc="-1" strike="noStrike">
                <a:solidFill>
                  <a:srgbClr val="3d3d3d"/>
                </a:solidFill>
                <a:latin typeface="Gill Sans MT"/>
                <a:cs typeface="Majalla UI"/>
              </a:rPr>
              <a:t>فإنه يفترض أن تكون التوصيات لم تطبق نتيجة لموافقة الإدارة على تقبل المخاطر</a:t>
            </a:r>
            <a:r>
              <a:rPr b="0" lang="ar-SA" sz="2400" spc="-1" strike="noStrike">
                <a:solidFill>
                  <a:srgbClr val="3d3d3d"/>
                </a:solidFill>
                <a:latin typeface="Gill Sans MT"/>
                <a:ea typeface="Majalla UI"/>
              </a:rPr>
              <a:t> التي تم ذكرها داخل الملاحظة. علاوة على ذلك، فإنه ليس من مسؤولية وحدة المراجعة الداخلية متابعة القضية بعد ذلك.</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2"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1" lang="ar-SA" sz="2400" spc="-1" strike="noStrike">
                <a:solidFill>
                  <a:srgbClr val="3d3d3d"/>
                </a:solidFill>
                <a:latin typeface="Gill Sans MT"/>
                <a:cs typeface="Majalla UI"/>
              </a:rPr>
              <a:t>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اجتماع الختامي الفرصة الأخيرة لفريق المرجعة لتعريف الجهة المراجع عليها بطبيعة مهنتهم داخل الوحدة الحكومية وبقواعد وحدة المراجعة الداخلية والمهنة بشكل عام، وأيضا يتيح الفرصة لبناء العلاقات الإيجابية مع إدارة الجهة المراجع عليها. كما ينصح عادة بأن لا يتخلل الاجتماع أية مفاجآت وبأن يتم حل كل القضايا قبل ذلك. فيجب أن يكون الاجتماع مختصراً على عرض ومناقشة عملية ونتائج المراجعة، أكثر من كونه اجتماع عمل، كما يجب الأخذ في الاعتبار أن الاجتماع الختامي قد يعقد بحضور أعضاء من الإدارة العليا والذين لم يشاركوا مباشرة في عملية المراجع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الاجتماع الختامي)</a:t>
            </a:r>
            <a:endParaRPr b="0" lang="en-US" sz="4000" spc="-1" strike="noStrike">
              <a:solidFill>
                <a:srgbClr val="ffffff"/>
              </a:solidFill>
              <a:latin typeface="Gill Sans MT"/>
            </a:endParaRPr>
          </a:p>
        </p:txBody>
      </p:sp>
      <p:sp>
        <p:nvSpPr>
          <p:cNvPr id="484" name=""/>
          <p:cNvSpPr txBox="1"/>
          <p:nvPr/>
        </p:nvSpPr>
        <p:spPr>
          <a:xfrm>
            <a:off x="580680" y="2181240"/>
            <a:ext cx="11030040" cy="4425840"/>
          </a:xfrm>
          <a:prstGeom prst="rect">
            <a:avLst/>
          </a:prstGeom>
          <a:noFill/>
          <a:ln w="0">
            <a:noFill/>
          </a:ln>
        </p:spPr>
        <p:txBody>
          <a:bodyPr anchor="ctr">
            <a:normAutofit fontScale="91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يضع فريق المراجعة نصب عينيه ما يلي  خلال الاجتماع الختام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ازن في كتابة التقارير</a:t>
            </a:r>
            <a:r>
              <a:rPr b="0" lang="ar-SA" sz="2400" spc="-1" strike="noStrike">
                <a:solidFill>
                  <a:srgbClr val="3d3d3d"/>
                </a:solidFill>
                <a:latin typeface="Gill Sans MT"/>
                <a:ea typeface="Majalla UI"/>
              </a:rPr>
              <a:t>: يجب أن لا يركز فريق المراجعة فقط على النتائج السلبية في المهمة بل يجب موازنة تقاريرهم عن طريق ذكر النتائج الإيجاب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ضرون </a:t>
            </a:r>
            <a:r>
              <a:rPr b="0" lang="ar-SA" sz="2400" spc="-1" strike="noStrike">
                <a:solidFill>
                  <a:srgbClr val="3d3d3d"/>
                </a:solidFill>
                <a:latin typeface="Gill Sans MT"/>
                <a:ea typeface="Majalla UI"/>
              </a:rPr>
              <a:t>:يجب أن يشمل الحاضرين على مدير المراجعة رئيس فريق المراجعة، بالإضافة إلى مدير الإدارة ذات العلاقة أو مدير قسم الجهة التي تمت مراجعتها. كما يمكن لإدارة هذه الجهة دعوة أي شخص سيكون مسئولا عن تنفيذ الإجراءات التصحيحية المقترحة، أو أنه سيكون متأثراً ب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جنب عملية المواجهة </a:t>
            </a:r>
            <a:r>
              <a:rPr b="0" lang="ar-SA" sz="2400" spc="-1" strike="noStrike">
                <a:solidFill>
                  <a:srgbClr val="3d3d3d"/>
                </a:solidFill>
                <a:latin typeface="Gill Sans MT"/>
                <a:ea typeface="Majalla UI"/>
              </a:rPr>
              <a:t>: يجب أن يتجنب ممثلي وحدة المرجعة الداخلية عملية المواجهة أثناء الاجتماع الختامي ، ولتحقيق ذلك يجب عليهم استخدام العادات الحميدة للحوار مع الأطراف الأخرى وتجنب استخدام العبارات الشخصية ،كما يجب أن يسعى منسوبي وحدة المراجعة الداخلية إلى الحصول على وجهة نظر مشتركة مع المراجع عليهم لتأييد ملاحظاتهم وتوصياتهم.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86" name=""/>
          <p:cNvSpPr txBox="1"/>
          <p:nvPr/>
        </p:nvSpPr>
        <p:spPr>
          <a:xfrm>
            <a:off x="580680" y="1999800"/>
            <a:ext cx="11030040" cy="4529160"/>
          </a:xfrm>
          <a:prstGeom prst="rect">
            <a:avLst/>
          </a:prstGeom>
          <a:noFill/>
          <a:ln w="0">
            <a:noFill/>
          </a:ln>
        </p:spPr>
        <p:txBody>
          <a:bodyPr anchor="ctr">
            <a:normAutofit fontScale="90000"/>
          </a:bodyPr>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أنواع التقارير</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برز أهمية تقرير المراجعة الداخلية من أنه يعتبر بمثابة النتيجة النهائية لعمل وحدة المرجعة الداخلية في أي مهمة . لذلك يجب الانتباه عند إعداد تقرير المراجعة الداخلية ويجب التشديد على أهمية شكل ومحتوى وطريقة عرض التقرير. فيجب أن تكون محتويات التقرير موثقة وكافية لتكون قادرة على التعجيل بتفعيل الإجراءت التي يتضمنها من قبل إدارة الجهة المراجع عليها. كما أن التقرير المعروض بطريقة جيدة سيترك انطباعاً جيدا لدى إدارة الجهة المراجع عليها عن عمل المراجعين الداخليين. خلاصة القول إن تقرير المراجعة الداخلية هو الوسيلة الرئيسة في إبلاغ الملاحظات والتوصيات إلى الإدارة العليا حيث أنهم في موقع يؤهلهم للتصرف حيال تلك الملاحظات والتوصيات. </a:t>
            </a:r>
            <a:endParaRPr b="0" lang="en-US" sz="2400" spc="-1" strike="noStrike">
              <a:solidFill>
                <a:srgbClr val="3d3d3d"/>
              </a:solidFill>
              <a:latin typeface="Gill Sans MT"/>
            </a:endParaRPr>
          </a:p>
          <a:p>
            <a:pPr algn="just" rtl="1">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ويتم إعداد تقارير المراجعة الداخلية على مرحلتين (في بعض الجهات يتم إعتبارهما </a:t>
            </a:r>
            <a:r>
              <a:rPr b="1" lang="ar-SA" sz="2400" spc="-1" strike="noStrike">
                <a:solidFill>
                  <a:srgbClr val="3d3d3d"/>
                </a:solidFill>
                <a:latin typeface="Gill Sans MT"/>
                <a:cs typeface="Majalla UI"/>
              </a:rPr>
              <a:t>نوعين للتقارير</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endParaRPr b="0" lang="en-US" sz="2400" spc="-1" strike="noStrike">
              <a:solidFill>
                <a:srgbClr val="3d3d3d"/>
              </a:solidFill>
              <a:latin typeface="Gill Sans MT"/>
            </a:endParaRPr>
          </a:p>
          <a:p>
            <a:pPr algn="just" rtl="1">
              <a:lnSpc>
                <a:spcPct val="90000"/>
              </a:lnSpc>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إعداد ورفع تقارير المراجعة الداخلية</a:t>
            </a:r>
            <a:endParaRPr b="0" lang="en-US" sz="4000" spc="-1" strike="noStrike">
              <a:solidFill>
                <a:srgbClr val="ffffff"/>
              </a:solidFill>
              <a:latin typeface="Gill Sans MT"/>
            </a:endParaRPr>
          </a:p>
        </p:txBody>
      </p:sp>
      <p:sp>
        <p:nvSpPr>
          <p:cNvPr id="452"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على وحدة المراجعة الداخلية تقديم تقرير عقب الانتهاء من كل مهمة مراجعة ، وتقرير ربع سنوي عن ما تم تنفيذه خلال الربع المنقضي ، وتقرير سنوي يعكس نتائج نشاط المراجعة خلال السنة المنتهية، بالإضافة إلى تقديم تقرير متى دعت الحاجة إلى ذلك.  وجميع هذه التقارير تعتمد بالدرجة الأولى على النتائج التي يتم التوصل إليها من تنفيذ مهام المراجعة. بمعنى أخر فإن تقرير مهمة المراجعة هو الأساس في إعداد باقي التقارير لذلك سوف نتعرض هنا بالتفصيل لإعداد تقرير مهمة المراجع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88"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سودة التقر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الانتهاء من العمل الميداني وحصر الملاحظات والحصول على ردود من الجهة المراجع عليها حول الأمور التي لا يوجد اتفاق عليها ، يقوم فريق المهمة بإعداد مسودة تقرير يلخص فيها كل الملاحظات والنتائج والتوصيات الخاصة بعملية المراجعة. وقد تؤدي المناقشات داخل وحدة المراجعة أو مع إدارة الجهة المراجع عليها إلى تغيير في مسودة التقرير. كما أن الاقتراحات لتعديل التقرير في هذه المرحلة يجب أن تكون مقبولة وتطرح للنقاش وتؤخذ بصدر رحب.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0" name=""/>
          <p:cNvSpPr txBox="1"/>
          <p:nvPr/>
        </p:nvSpPr>
        <p:spPr>
          <a:xfrm>
            <a:off x="580680" y="2000160"/>
            <a:ext cx="11030040" cy="367848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نقيح مسودة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كون فريق المهمة على استعداد لقبول التغييرات في صياغة التقرير وأي اقتراحات أخرى قد تكون مناسبة ما دامت لا تؤثر على: (</a:t>
            </a:r>
            <a:r>
              <a:rPr b="0" lang="ar-SA" sz="2400" spc="-1" strike="noStrike">
                <a:solidFill>
                  <a:srgbClr val="3d3d3d"/>
                </a:solidFill>
                <a:latin typeface="Gill Sans MT"/>
                <a:ea typeface="Majalla UI"/>
              </a:rPr>
              <a:t>1</a:t>
            </a:r>
            <a:r>
              <a:rPr b="0" lang="ar-SA" sz="2400" spc="-1" strike="noStrike">
                <a:solidFill>
                  <a:srgbClr val="3d3d3d"/>
                </a:solidFill>
                <a:latin typeface="Gill Sans MT"/>
                <a:ea typeface="Majalla UI"/>
              </a:rPr>
              <a:t>) الأفكار الرئيسة، (</a:t>
            </a:r>
            <a:r>
              <a:rPr b="0" lang="ar-SA" sz="2400" spc="-1" strike="noStrike">
                <a:solidFill>
                  <a:srgbClr val="3d3d3d"/>
                </a:solidFill>
                <a:latin typeface="Gill Sans MT"/>
                <a:ea typeface="Majalla UI"/>
              </a:rPr>
              <a:t>2</a:t>
            </a:r>
            <a:r>
              <a:rPr b="0" lang="ar-SA" sz="2400" spc="-1" strike="noStrike">
                <a:solidFill>
                  <a:srgbClr val="3d3d3d"/>
                </a:solidFill>
                <a:latin typeface="Gill Sans MT"/>
                <a:ea typeface="Majalla UI"/>
              </a:rPr>
              <a:t>) اهتمامات وحدة المراجعة الداخلية، و(</a:t>
            </a:r>
            <a:r>
              <a:rPr b="0" lang="ar-SA" sz="2400" spc="-1" strike="noStrike">
                <a:solidFill>
                  <a:srgbClr val="3d3d3d"/>
                </a:solidFill>
                <a:latin typeface="Gill Sans MT"/>
                <a:ea typeface="Majalla UI"/>
              </a:rPr>
              <a:t>3</a:t>
            </a:r>
            <a:r>
              <a:rPr b="0" lang="ar-SA" sz="2400" spc="-1" strike="noStrike">
                <a:solidFill>
                  <a:srgbClr val="3d3d3d"/>
                </a:solidFill>
                <a:latin typeface="Gill Sans MT"/>
                <a:ea typeface="Majalla UI"/>
              </a:rPr>
              <a:t>) الإجراءات التصحيح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عند وجود حالة من عدم الاتفاق أو التناقض في تفسير الحقائق، فإن فريق المهمة يجب أن يشير في مسودة التقرير إلى وجهة نظر فريق المراجعة ويتم إرفاق وجهة نظر ورد الجهة المراجع عليها.</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جب أن يراجع ويوافق مدير وحدة المراجعة على مسودة التقرير، وذلك قبل إرسالها إلى مدير إدارة الجهة المراجع عليها الذي سيقوم بإضافة ردود على هذه المسود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400" spc="-1" strike="noStrike">
                <a:solidFill>
                  <a:srgbClr val="ffffff"/>
                </a:solidFill>
                <a:latin typeface="Gill Sans MT"/>
                <a:cs typeface="Majalla UI"/>
              </a:rPr>
              <a:t>تقارير مهام المراجعة (رفع التقارير)</a:t>
            </a:r>
            <a:endParaRPr b="0" lang="en-US" sz="4400" spc="-1" strike="noStrike">
              <a:solidFill>
                <a:srgbClr val="ffffff"/>
              </a:solidFill>
              <a:latin typeface="Gill Sans MT"/>
            </a:endParaRPr>
          </a:p>
        </p:txBody>
      </p:sp>
      <p:sp>
        <p:nvSpPr>
          <p:cNvPr id="492" name=""/>
          <p:cNvSpPr txBox="1"/>
          <p:nvPr/>
        </p:nvSpPr>
        <p:spPr>
          <a:xfrm>
            <a:off x="580680" y="2180880"/>
            <a:ext cx="11030040" cy="3678120"/>
          </a:xfrm>
          <a:prstGeom prst="rect">
            <a:avLst/>
          </a:prstGeom>
          <a:noFill/>
          <a:ln w="0">
            <a:noFill/>
          </a:ln>
        </p:spPr>
        <p:txBody>
          <a:bodyPr anchor="ctr">
            <a:normAutofit fontScale="88000"/>
          </a:bodyPr>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3d3d3d"/>
                </a:solidFill>
                <a:latin typeface="Gill Sans MT"/>
                <a:cs typeface="Majalla UI"/>
              </a:rPr>
              <a:t>ردود الإدارة</a:t>
            </a:r>
            <a:r>
              <a:rPr b="0" lang="ar-SA" sz="3200" spc="-1" strike="noStrike">
                <a:solidFill>
                  <a:srgbClr val="3d3d3d"/>
                </a:solidFill>
                <a:latin typeface="Gill Sans MT"/>
                <a:ea typeface="Majalla UI"/>
              </a:rPr>
              <a:t>:</a:t>
            </a:r>
            <a:endParaRPr b="0" lang="en-US" sz="3200" spc="-1" strike="noStrike">
              <a:solidFill>
                <a:srgbClr val="3d3d3d"/>
              </a:solidFill>
              <a:latin typeface="Gill Sans MT"/>
            </a:endParaRPr>
          </a:p>
          <a:p>
            <a:pPr marL="268200" indent="-268200" algn="just" rtl="1">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3d3d3d"/>
                </a:solidFill>
                <a:latin typeface="Gill Sans MT"/>
                <a:ea typeface="Majalla UI"/>
              </a:rPr>
              <a:t>	</a:t>
            </a:r>
            <a:r>
              <a:rPr b="0" lang="ar-SA" sz="3200" spc="-1" strike="noStrike">
                <a:solidFill>
                  <a:srgbClr val="3d3d3d"/>
                </a:solidFill>
                <a:latin typeface="Gill Sans MT"/>
                <a:cs typeface="Majalla UI"/>
              </a:rPr>
              <a:t>خلال الاجتماع الختامي يتم مناقشة جميع الملاحظات مع إدارة الجهة المرجع عليها وبناءاً عليه قد يتم أخذ بعض الردود خلال الاجتماع. على مدير المراجعة التأكد من أن جميع الردود قد تم توثيقها وبناءاً عليه يمكن إرسال مسودة التقرير إلى إدارة الجهة المراجع عليها متضمناً الردود التي حصل عليها فريق المراجعة خلال الاجتماع الختامي أو يرسل التقرير بلا أي رد لتقوم الإدارة في الجهة المراجع عليها بالرد بعد الدراسة. </a:t>
            </a:r>
            <a:endParaRPr b="0" lang="en-US" sz="3200" spc="-1" strike="noStrike">
              <a:solidFill>
                <a:srgbClr val="3d3d3d"/>
              </a:solidFill>
              <a:latin typeface="Gill Sans MT"/>
            </a:endParaRPr>
          </a:p>
          <a:p>
            <a:pPr marL="268200" indent="-268200" algn="r">
              <a:spcBef>
                <a:spcPts val="799"/>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4"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قرير النهائي</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مثل التقرير النهائي المنتج الأساسي لعملية المراجعة ويجب أن يحفظ في ملف أوراق العمل.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ان كل مهمة يقوم بتنفيذها المراجع الداخلي قد يكون لها هدف مختلف عن المهام الأخرى ولذلك لم تحدد المعايير المهنية شكل محدد لتقرير المراجع الداخلي.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6" name=""/>
          <p:cNvSpPr txBox="1"/>
          <p:nvPr/>
        </p:nvSpPr>
        <p:spPr>
          <a:xfrm>
            <a:off x="580680" y="2000160"/>
            <a:ext cx="11030040" cy="3678480"/>
          </a:xfrm>
          <a:prstGeom prst="rect">
            <a:avLst/>
          </a:prstGeom>
          <a:noFill/>
          <a:ln w="0">
            <a:noFill/>
          </a:ln>
        </p:spPr>
        <p:txBody>
          <a:bodyPr anchor="ctr">
            <a:normAutofit fontScale="97000"/>
          </a:bodyPr>
          <a:p>
            <a:pPr algn="just" rtl="1">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يتبع.....</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بالإضافة إلى صفحة غلاف التقرير النهائي  والتي تعتبر جزء من التقرير النهائي الذي يتم إرساله إلى الجهة التي تمت مراجعتها، تعتبر الهيكلة التالية لتقرير المراجعة الداخلية النهائي هي الأكثر شيوعا:</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عنوان التقرير والجهة المقدم إليها التقرير </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قدم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خص التنفيذي</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خلفية عن مهمة المراجع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هدف والنطاق</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cs typeface="Majalla UI"/>
              </a:rPr>
              <a:t>الملاحظات والتوصيات وردود الادارة</a:t>
            </a: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a:p>
            <a:pPr algn="just" rtl="1">
              <a:lnSpc>
                <a:spcPct val="80000"/>
              </a:lnSpc>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498"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غيرات التي تطرأ على التق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قرير المراجعة النهائي هو من مسؤولية مدير وحدة المراجعة الداخلية ، ولذلك فإنه لا يجب إجراء أي تغيير على التقرير إلا في ظروف استثنائية وبعد الحصول على موافقة خطية مسبقة من مدير وحدة المراجعة. ويجب توثيق الموافقة الخطية وحفظها في ملف أوراق عمل المه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0"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سليم التقارير:</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تم إرسال نسخة من تقرير المراجعة النهائي إلى الجهة المراجع عليها لتبليغها بالنتائج والتوصيات. ويطلب منها الرد خلال مدة معقولة من تاريخ التسليم (حددتها اللائحة بثلاثين يوما) وإن كنا نرى أن هذه الفترة طويلة نسبيا ويمكن للوحدة الحكومية تحديد فترة أقل من ذلك.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2"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تابعة التقرير:</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متد عمل وحدة المراجعة الداخلية إلى أبعد من إصدار التقرير النهائي ومن أجل ضمان إضافة قيمة للجهة المراجع عليها فإنه لا بد من عملية المتابعة التي تحدد ما إذا كان قد تم تفعيل الإجراءات التصحيحية المناسبة بحسب ما ورد في تقرير ملاحظات المراجعة. وتتم عملية المتابعة من خلال التأكد من استلام الرد على تقرير المراجعة خلال المدة المحددة ، وإذا لم يتم استلام الرد خلال المدة المحددة يتم رفع الأمر إلى المستوى الإداري الأعلى من الجهة المراجع عليها فإن تأخر الرد مرة أخرى عن ثلاثين يوما أو اعترض المستوى الإداري الأعلى فيجب رفع الأمر إلى المسئول الأول بالجهة الحكومية.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رفع التقارير)</a:t>
            </a:r>
            <a:endParaRPr b="0" lang="en-US" sz="4000" spc="-1" strike="noStrike">
              <a:solidFill>
                <a:srgbClr val="ffffff"/>
              </a:solidFill>
              <a:latin typeface="Gill Sans MT"/>
            </a:endParaRPr>
          </a:p>
        </p:txBody>
      </p:sp>
      <p:sp>
        <p:nvSpPr>
          <p:cNvPr id="504" name=""/>
          <p:cNvSpPr txBox="1"/>
          <p:nvPr/>
        </p:nvSpPr>
        <p:spPr>
          <a:xfrm>
            <a:off x="580680" y="2000160"/>
            <a:ext cx="11030040" cy="367848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معايير اكتمال تقارير المراجعة الداخلي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وضوعية                                                       - الدقة</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وضوح                                                          - الايجاز</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بناء                                                                - الاكتما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صيغة المناسبة للفعل</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توقيت المناسب</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506" name=""/>
          <p:cNvSpPr txBox="1"/>
          <p:nvPr/>
        </p:nvSpPr>
        <p:spPr>
          <a:xfrm>
            <a:off x="580680" y="1999800"/>
            <a:ext cx="11030040" cy="4465800"/>
          </a:xfrm>
          <a:prstGeom prst="rect">
            <a:avLst/>
          </a:prstGeom>
          <a:noFill/>
          <a:ln w="0">
            <a:noFill/>
          </a:ln>
        </p:spPr>
        <p:txBody>
          <a:bodyPr anchor="ctr">
            <a:normAutofit fontScale="95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قارير المراجعة الداخلية لأطراف خارجية</a:t>
            </a:r>
            <a:r>
              <a:rPr b="0" lang="ar-SA" sz="2400" spc="-1" strike="noStrike">
                <a:solidFill>
                  <a:srgbClr val="3d3d3d"/>
                </a:solidFill>
                <a:latin typeface="Gill Sans MT"/>
                <a:ea typeface="Majalla UI"/>
              </a:rPr>
              <a:t>:</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لم تحدد لائحة المراجعة الداخلية تقارير معينة للاستخدام الخارجى ، غير أن اللائحة ألزمت وحدة المراجعة الداخلية بالتعاون التام مع بعض الجهات الرقابية والإشرافية وذلك بوضع كافة البيانات والإيضاحات والنتائج التى توصل المراجعون الداخلون إليها وذلك للمساعدة فى أداء مهمة الإشراف والرقابة التى تقوم بها تلك الجه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والجهات المعنية بالإشراف والرقابة على الجهة الحكومية تتمثل فى الآتى:</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المراقبين الماليين التابعين لوزارة المال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التابعين لديوان المراقبة العام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مراقبي الحسابات من المراجعين الخارجيين.</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المراقبين والمسئولين التابعين لهيئة الرقابة والتحقيق.</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4" name=""/>
          <p:cNvSpPr txBox="1"/>
          <p:nvPr/>
        </p:nvSpPr>
        <p:spPr>
          <a:xfrm>
            <a:off x="580680" y="2180880"/>
            <a:ext cx="11030040" cy="367812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بعد الإنتهاء من تنفيذ عملية المراجعة وتنفيذ جميع الإجراءات المخططة وتجميع القدر الكافي من الأدلة تبدأ مرحلة أخرى هي مرحلة إعداد تقرير المراجعة. ولإعداد تقرير المراجعة بشكل جيد يتطلب الأمر تجهيز قوائم الملاحظات والمذكرات الميدانية التي توثق ملاحظات المراجعة.</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6" name=""/>
          <p:cNvSpPr txBox="1"/>
          <p:nvPr/>
        </p:nvSpPr>
        <p:spPr>
          <a:xfrm>
            <a:off x="580680" y="2180880"/>
            <a:ext cx="11030040" cy="3678120"/>
          </a:xfrm>
          <a:prstGeom prst="rect">
            <a:avLst/>
          </a:prstGeom>
          <a:noFill/>
          <a:ln w="0">
            <a:noFill/>
          </a:ln>
        </p:spPr>
        <p:txBody>
          <a:bodyPr anchor="ctr">
            <a:normAutofit fontScale="99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قوائم الملاحظات</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يتم إعداد قائمة الملاحظات قبل إصدار مسودة التقرير، وذلك لتقدم وصفاً مختصراً بكل ملاحظات المراجعة. إضافة إلى أوراق العمل التي تفصل إجراءات الفحص التي تم تنفيذها لكل خطوة في برنامج المراجعة، ويجب أن تتضمن قائمة الملاحظات مرجعاً لأوراق العمل، بالإضافة إلى مرجع لخطوات برنامج المراجعة ذات العلاق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قائمة الملاحظات لتلخيص كل الملاحظات التي تم ملاحظتها من قبل كل عضو في فريق المراجعة قبل الانتهاء من عمل المذكرات الميدانية. وتستخدم قائمة الملاحظات كوسيلة للرقابة تضمن أن كل المذكرات الميدانية والملاحظات الأساسية قد تم الحصول عليها والإبلاغ عن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endParaRPr b="0" lang="en-US" sz="4000" spc="-1" strike="noStrike">
              <a:solidFill>
                <a:srgbClr val="ffffff"/>
              </a:solidFill>
              <a:latin typeface="Gill Sans MT"/>
            </a:endParaRPr>
          </a:p>
        </p:txBody>
      </p:sp>
      <p:sp>
        <p:nvSpPr>
          <p:cNvPr id="458"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ذكرات الميدانية: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تستخدم المذكرات الميدانية لتوثيق الملاحظات التي تم اكتشافها خلال فترة تنفيذ مهمة المراجعة. بينما تقوم أوراق العمل بتوثيق العمل الذي تم انجازه وتقدم الأدلة التي تدعم الملاحظات.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a:t>
            </a:r>
            <a:r>
              <a:rPr b="0" lang="ar-SA" sz="3600" spc="-1" strike="noStrike">
                <a:solidFill>
                  <a:srgbClr val="ffffff"/>
                </a:solidFill>
                <a:latin typeface="Gill Sans MT"/>
                <a:cs typeface="Majalla UI"/>
              </a:rPr>
              <a:t>صياغة ملاحظات المراجعة</a:t>
            </a:r>
            <a:r>
              <a:rPr b="0" lang="ar-SA" sz="4000" spc="-1" strike="noStrike">
                <a:solidFill>
                  <a:srgbClr val="ffffff"/>
                </a:solidFill>
                <a:latin typeface="Gill Sans MT"/>
                <a:ea typeface="Majalla UI"/>
              </a:rPr>
              <a:t>)</a:t>
            </a:r>
            <a:endParaRPr b="0" lang="en-US" sz="4000" spc="-1" strike="noStrike">
              <a:solidFill>
                <a:srgbClr val="ffffff"/>
              </a:solidFill>
              <a:latin typeface="Gill Sans MT"/>
            </a:endParaRPr>
          </a:p>
        </p:txBody>
      </p:sp>
      <p:sp>
        <p:nvSpPr>
          <p:cNvPr id="460" name=""/>
          <p:cNvSpPr txBox="1"/>
          <p:nvPr/>
        </p:nvSpPr>
        <p:spPr>
          <a:xfrm>
            <a:off x="580680" y="2445840"/>
            <a:ext cx="11030040" cy="3992760"/>
          </a:xfrm>
          <a:prstGeom prst="rect">
            <a:avLst/>
          </a:prstGeom>
          <a:noFill/>
          <a:ln w="0">
            <a:noFill/>
          </a:ln>
        </p:spPr>
        <p:txBody>
          <a:bodyPr anchor="ctr">
            <a:normAutofit fontScale="96000"/>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تعريف الملاحظات:</a:t>
            </a:r>
            <a:endParaRPr b="0" lang="en-US" sz="2400" spc="-1" strike="noStrike">
              <a:solidFill>
                <a:srgbClr val="3d3d3d"/>
              </a:solidFill>
              <a:latin typeface="Gill Sans MT"/>
            </a:endParaRPr>
          </a:p>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ملاحظات المراجعة هي وصف للظروف أو الأفعال التي وجدت على غير الطريقة التي يجب أن تكون عليها ويمكن </a:t>
            </a:r>
            <a:r>
              <a:rPr b="1" lang="ar-SA" sz="2400" spc="-1" strike="noStrike">
                <a:solidFill>
                  <a:srgbClr val="3d3d3d"/>
                </a:solidFill>
                <a:latin typeface="Gill Sans MT"/>
                <a:cs typeface="Majalla UI"/>
              </a:rPr>
              <a:t>تصنيف</a:t>
            </a:r>
            <a:r>
              <a:rPr b="0" lang="ar-SA" sz="2400" spc="-1" strike="noStrike">
                <a:solidFill>
                  <a:srgbClr val="3d3d3d"/>
                </a:solidFill>
                <a:latin typeface="Gill Sans MT"/>
                <a:ea typeface="Majalla UI"/>
              </a:rPr>
              <a:t> ثلاثة أنواع من الملاحظات هي:</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تم انجازها ولم يكن من المطلوب القيام بها (الأعمال الوهمية)</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كان من الواجب تنفيذها ولكن لم يتم تنفيذها (الإغفال والإسقاط والسهو)</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ملاحظات تتعلق بأفعال وتصرفات تم انجازها بصورة لا تتفق مع مقتضيات العمل (الانحرافات والتجاوزات والأخطاء)</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2" name=""/>
          <p:cNvSpPr txBox="1"/>
          <p:nvPr/>
        </p:nvSpPr>
        <p:spPr>
          <a:xfrm>
            <a:off x="580680" y="2180880"/>
            <a:ext cx="11030040" cy="4181400"/>
          </a:xfrm>
          <a:prstGeom prst="rect">
            <a:avLst/>
          </a:prstGeom>
          <a:noFill/>
          <a:ln w="0">
            <a:noFill/>
          </a:ln>
        </p:spPr>
        <p:txBody>
          <a:bodyPr anchor="ctr">
            <a:normAutofit/>
          </a:bodyPr>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عناصر ملاحظات المراجعة</a:t>
            </a:r>
            <a:r>
              <a:rPr b="0" lang="ar-SA" sz="2400" spc="-1" strike="noStrike">
                <a:solidFill>
                  <a:srgbClr val="3d3d3d"/>
                </a:solidFill>
                <a:latin typeface="Gill Sans MT"/>
                <a:ea typeface="Majalla UI"/>
              </a:rPr>
              <a:t>: </a:t>
            </a:r>
            <a:endParaRPr b="0" lang="en-US" sz="2400" spc="-1" strike="noStrike">
              <a:solidFill>
                <a:srgbClr val="3d3d3d"/>
              </a:solidFill>
              <a:latin typeface="Gill Sans MT"/>
            </a:endParaRPr>
          </a:p>
          <a:p>
            <a:pPr marL="304920" indent="-304920"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cs typeface="Majalla UI"/>
              </a:rPr>
              <a:t>يجب أن تحتوي ملاحظات المراجعة الجيدة على العناصر الأساسية التالية والتي يتم توثيقها في المذكرات الميدانية: </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ير</a:t>
            </a:r>
            <a:r>
              <a:rPr b="0" lang="ar-SA" sz="2400" spc="-1" strike="noStrike">
                <a:solidFill>
                  <a:srgbClr val="3d3d3d"/>
                </a:solidFill>
                <a:latin typeface="Gill Sans MT"/>
                <a:ea typeface="Majalla UI"/>
              </a:rPr>
              <a:t>: 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حالات</a:t>
            </a:r>
            <a:r>
              <a:rPr b="0" lang="ar-SA" sz="2400" spc="-1" strike="noStrike">
                <a:solidFill>
                  <a:srgbClr val="3d3d3d"/>
                </a:solidFill>
                <a:latin typeface="Gill Sans MT"/>
                <a:ea typeface="Majalla UI"/>
              </a:rPr>
              <a:t>: ما الموجود فعلاً</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أسباب</a:t>
            </a:r>
            <a:r>
              <a:rPr b="0" lang="ar-SA" sz="2400" spc="-1" strike="noStrike">
                <a:solidFill>
                  <a:srgbClr val="3d3d3d"/>
                </a:solidFill>
                <a:latin typeface="Gill Sans MT"/>
                <a:ea typeface="Majalla UI"/>
              </a:rPr>
              <a:t>:  لماذا حصلت مثل تلك الحالة</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أثير</a:t>
            </a:r>
            <a:r>
              <a:rPr b="0" lang="ar-SA" sz="2400" spc="-1" strike="noStrike">
                <a:solidFill>
                  <a:srgbClr val="3d3d3d"/>
                </a:solidFill>
                <a:latin typeface="Gill Sans MT"/>
                <a:ea typeface="Majalla UI"/>
              </a:rPr>
              <a:t>:  الفرق والأهمية بين ما الموجود فعلاً وما الذي يجب أن يكون</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توصية</a:t>
            </a:r>
            <a:r>
              <a:rPr b="0" lang="ar-SA" sz="2400" spc="-1" strike="noStrike">
                <a:solidFill>
                  <a:srgbClr val="3d3d3d"/>
                </a:solidFill>
                <a:latin typeface="Gill Sans MT"/>
                <a:ea typeface="Majalla UI"/>
              </a:rPr>
              <a:t>:  ما هو الإجراء الذي يجب اتخاذه</a:t>
            </a:r>
            <a:endParaRPr b="0" lang="en-US" sz="2400" spc="-1" strike="noStrike">
              <a:solidFill>
                <a:srgbClr val="3d3d3d"/>
              </a:solidFill>
              <a:latin typeface="Gill Sans MT"/>
            </a:endParaRPr>
          </a:p>
          <a:p>
            <a:pPr marL="304920" indent="-304920"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4" name=""/>
          <p:cNvSpPr txBox="1"/>
          <p:nvPr/>
        </p:nvSpPr>
        <p:spPr>
          <a:xfrm>
            <a:off x="580680" y="2180880"/>
            <a:ext cx="11030040" cy="3678120"/>
          </a:xfrm>
          <a:prstGeom prst="rect">
            <a:avLst/>
          </a:prstGeom>
          <a:noFill/>
          <a:ln w="0">
            <a:noFill/>
          </a:ln>
        </p:spPr>
        <p:txBody>
          <a:bodyPr anchor="ctr">
            <a:normAutofit/>
          </a:bodyPr>
          <a:p>
            <a:pPr algn="just" rtl="1">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3d3d3d"/>
                </a:solidFill>
                <a:latin typeface="Gill Sans MT"/>
                <a:cs typeface="Majalla UI"/>
              </a:rPr>
              <a:t>المعايـير: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هي مجموعة القواعد والأنظمة التي على أساسها يقوم فريق المراجعة الداخلية بتقييم أداء الجهة المراجع عليها. </a:t>
            </a:r>
            <a:endParaRPr b="0" lang="en-US" sz="2400" spc="-1" strike="noStrike">
              <a:solidFill>
                <a:srgbClr val="3d3d3d"/>
              </a:solidFill>
              <a:latin typeface="Gill Sans MT"/>
            </a:endParaRPr>
          </a:p>
          <a:p>
            <a:pPr algn="just" rtl="1">
              <a:spcBef>
                <a:spcPts val="601"/>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3d3d3d"/>
                </a:solidFill>
                <a:latin typeface="Gill Sans MT"/>
                <a:ea typeface="Majalla UI"/>
              </a:rPr>
              <a:t>	</a:t>
            </a:r>
            <a:r>
              <a:rPr b="0" lang="ar-SA" sz="2400" spc="-1" strike="noStrike">
                <a:solidFill>
                  <a:srgbClr val="3d3d3d"/>
                </a:solidFill>
                <a:latin typeface="Gill Sans MT"/>
                <a:cs typeface="Majalla UI"/>
              </a:rPr>
              <a:t>وتلعب المعرفة والخبرات الشخصية للمراجع الداخلي أيضا دوراً هاماً في معرفة ماذا يجب أن يكون عليه الوضع "الوضع النموذجي". فعلى المراجع الداخلي أن يكون على علم بالمعايير اللازمة لعملية التقييم، ليستطيع الحكم على أداء الجهة المراجع عليها في ضوء هذه المعايير.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4000" spc="-1" strike="noStrike">
                <a:solidFill>
                  <a:srgbClr val="ffffff"/>
                </a:solidFill>
                <a:latin typeface="Gill Sans MT"/>
                <a:cs typeface="Majalla UI"/>
              </a:rPr>
              <a:t>تقارير مهام المراجعة (صياغة ملاحظات المراجعة)</a:t>
            </a:r>
            <a:endParaRPr b="0" lang="en-US" sz="4000" spc="-1" strike="noStrike">
              <a:solidFill>
                <a:srgbClr val="ffffff"/>
              </a:solidFill>
              <a:latin typeface="Gill Sans MT"/>
            </a:endParaRPr>
          </a:p>
        </p:txBody>
      </p:sp>
      <p:sp>
        <p:nvSpPr>
          <p:cNvPr id="466" name=""/>
          <p:cNvSpPr txBox="1"/>
          <p:nvPr/>
        </p:nvSpPr>
        <p:spPr>
          <a:xfrm>
            <a:off x="580680" y="2180880"/>
            <a:ext cx="11030040" cy="3678120"/>
          </a:xfrm>
          <a:prstGeom prst="rect">
            <a:avLst/>
          </a:prstGeom>
          <a:noFill/>
          <a:ln w="0">
            <a:noFill/>
          </a:ln>
        </p:spPr>
        <p:txBody>
          <a:bodyPr anchor="ctr">
            <a:normAutofit fontScale="90000"/>
          </a:bodyPr>
          <a:p>
            <a:pPr algn="just" rtl="1">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3d3d3d"/>
                </a:solidFill>
                <a:latin typeface="Gill Sans MT"/>
                <a:cs typeface="Majalla UI"/>
              </a:rPr>
              <a:t>الحالـة: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الحالة عبارة عن بيان حقيقي يصف نتائج الفحص والمراجعة، وهي تصف ما تم اكتشافه خلال المهمة. كما أنها تصف ما الذي يقوم بفعله المراجع عليه أو ما الذي يفعله بالمقارنة مع القواعد والأنظمة التي تم إعتبارها بمثابة المعايير.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3d3d3d"/>
                </a:solidFill>
                <a:latin typeface="Gill Sans MT"/>
                <a:ea typeface="Majalla UI"/>
              </a:rPr>
              <a:t>	</a:t>
            </a:r>
            <a:r>
              <a:rPr b="0" lang="ar-SA" sz="2200" spc="-1" strike="noStrike">
                <a:solidFill>
                  <a:srgbClr val="3d3d3d"/>
                </a:solidFill>
                <a:latin typeface="Gill Sans MT"/>
                <a:cs typeface="Majalla UI"/>
              </a:rPr>
              <a:t>يجب أن توافق إدارة الجهة التي تم مراجعتها على حقيقة الوضع الذي توصل إليه فريق المراجعة. كما أن لها الحق في الموافقة أو الاعتراض على نتائج المراجعة أو التوصيات المقترحة. وتعتبر الملاحظة معدة بطريقة غير ملائمة إذا استطاع المراجع عليه الجزم بأن فريق المراجعة لم يحصل على الحقائق بطريقة صحيحة وبالتالي يمكن اعتبار الملاحظة عديمة الصلة بالموضوع. لذا يجب دائما تقدير الحالة بطريقة ملائمة ومناقشتها مبكراً مع الأشخاص الذين يخولهم موقعهم الوظيفي من معرفة ماهية حقائق هذه الحالة. وفي حال وجود أي اختلافات حول هذه الحقائق فإنه يجب العمل على حلها قبل رفع تقرير الملاحظات. </a:t>
            </a:r>
            <a:endParaRPr b="0" lang="en-US" sz="2200" spc="-1" strike="noStrike">
              <a:solidFill>
                <a:srgbClr val="3d3d3d"/>
              </a:solidFill>
              <a:latin typeface="Gill Sans MT"/>
            </a:endParaRPr>
          </a:p>
          <a:p>
            <a:pPr algn="just" rtl="1">
              <a:spcBef>
                <a:spcPts val="550"/>
              </a:spcBef>
              <a:spcAft>
                <a:spcPts val="601"/>
              </a:spcAft>
              <a:buClr>
                <a:srgbClr val="ed842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1T11:17:14Z</dcterms:created>
  <dc:creator>hana</dc:creator>
  <dc:description/>
  <dc:language>en-US</dc:language>
  <cp:lastModifiedBy>Hana Ageel Alageel</cp:lastModifiedBy>
  <dcterms:modified xsi:type="dcterms:W3CDTF">2016-11-30T07:06:38Z</dcterms:modified>
  <cp:revision>22</cp:revision>
  <dc:subject/>
  <dc:title>إعداد ورفع تقارير المراجعة الداخلية</dc:title>
</cp:coreProperties>
</file>