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F8E01-15B5-4E0F-9FBB-87A825CEC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E6DC7-134D-4371-90D4-8F0FC769A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A5210-3AA0-46F1-8CE2-54BD987EA4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DE205-3995-435D-97FE-E1FF2486A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59293-F8B7-41A1-BFA8-03131E7CB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335FF-87A7-4E63-A5F1-9A756CF0E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2B5C0-01F8-44B4-AABE-BF15D14A2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92376-033E-4ADB-8822-40E3BF6BD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DB2CA-63C3-4B10-9496-9F263B695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08F9B-0C90-4D3A-BB1A-F1C68F3B2F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98EE9-EB92-4C45-B3D2-CBAEE0575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D2BF1-C3BE-4509-A2FA-D0E89A762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333CB-FB1B-479E-BDFA-377F92672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B4576-76D7-435D-AE4C-2D28BC428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7F7FC-9C1C-40BE-809B-EFCDF8052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E6A14-80A2-473E-8B5D-1ECA282CB3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202244-97D2-427B-8EFD-4505DB6A6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E37167-3CA5-45B1-A64E-495042464A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DA5270-8DDE-482C-9800-047EEB0113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B0B01D-243E-4C0A-B174-6CD4546A5F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49435B-3AE7-4FA9-8DCC-C7A255D4C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DFA0D0-2BD2-49BB-965E-EFF8E45357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89FEE-5103-4DC5-B33C-C9CD84152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076409-8886-4D7B-8C29-F163D01427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E234A4-623E-4EA7-92B5-0CDEF11D6F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2E2C9-70D1-47FE-9651-D826BE8C4C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5562B-C0E0-465F-AB8C-5CF9D9CACA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ECA8B6-3752-4A10-893F-C94E2828AF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F005D9-227B-4598-896F-4CD0CD2717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F332F0-1F43-4947-8025-B1326E7C4A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19D255-4131-4F7A-9211-7EAD2FC71B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15030D-B902-461A-9E98-03D4F94C52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FBC11F-A448-4744-91A1-6589F4FBA3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69A9B-45B0-4EBD-B0B8-93736006C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230700-FE27-410D-932F-2904F9FE7B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7FADF9-29D7-481D-B2A8-96ADD11C67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BB9AFB-09C1-4C16-B7FD-A92EE660C7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D9FEAB-EF9B-4FE3-8E5D-0AB25709C7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4350DF-9736-4458-B842-9A40529865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F20FC2-E896-4ED0-A4A7-696FF55B1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E76113-979D-409B-B96D-B8E35D2CB7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49AF2F-13BA-4697-8750-A10BFC539F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1B92D3-110E-4268-8335-8F26FCC791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7D61BE-15F3-47A9-8CD8-0D444C8122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E344F-6900-42F2-B5F7-C1C4C322B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FADF12-153F-4F41-ADFB-1394B9CB8F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8BE1DA-96F6-4A95-8FE2-858DAA9C24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B28741-42D0-4D87-838D-82F844C359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9AE465-A694-441F-9359-403AB12BB8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1749BC-7DCB-47E3-AEAD-C98793FA05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10B2C7-4F8A-4DAA-8138-1FCD2D382C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F64696-6E93-4150-8B28-3CC208A3B6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88010C-3B63-457F-8B33-8D4CB40E12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35D7E9-58BF-42B4-AE61-93BD0A3A21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8CFCA5-1FFE-425D-865D-087313B750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6B170-7AB4-4346-ADD0-2D9BDDC72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3834A7-8C96-4793-A4C7-850175E87D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EB8505-45F0-4484-B897-612AC40B4E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F9E82E-6512-4391-81D9-B832754C31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4B29DA-0672-48A4-88BE-F3B08D22CF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EDFF55-C817-44D3-AC20-2AC4AB243B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AAC0A1-88F5-4422-8CA3-8267109B37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07586E-745B-4F65-B730-15E135B84B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93BB14-D0F9-4BB3-AF13-BE755F7850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B31EB-913E-4743-AA8D-C74054C1EF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315EB5-57A7-451A-BE74-576249BB14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48F93-16AE-43C3-AC52-07FDECC7A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C4A173-E4DD-4BEF-A161-640206A806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A2CB66-901E-4601-A1E8-ABD75B39B7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08DBDB-5CD0-41BA-ACA1-F44C3347B7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29175A-2208-4D4C-9D38-632E1A993D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8821F0-B005-46D2-B63E-1728C5D5AB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8792B1-8D65-476D-8BEF-B7758141E7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FEBFD0-5ECF-4754-91F8-DE4C0CCD74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2C96D8-6AC0-481E-8B64-BEC26F15D4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BE0E50-D905-4816-B6E1-274BB8D188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4F31A7-DEE7-47BA-80D1-53BD11C7FC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FC62D-E15D-4479-8C63-8A9E5F656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D563C5-2D20-4185-B553-C411490285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D86F7-046B-4576-B16D-3B32F2ADA4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CAF4D0-3CDF-4E37-B578-36571F0FD0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4952EE-5DF1-40FE-B6CA-0A8EA554C6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213C7A-1EB8-4C0E-946B-6C201D23B5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54A41-FB5B-471D-9F75-52E328193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82371-D889-475B-9C55-82B16B14E40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CA7D56-C99B-4EF6-8F66-72784A3B621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47471-D928-4D56-91EF-BD5605F6CA2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3870E-7202-40A0-8FCA-C480BAC4979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5f51"/>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455f5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52341A-8DA5-4631-99BA-2934407E6D1B}" type="slidenum">
              <a:rPr b="0" lang="en-US"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E9B187-14CF-4317-B1DE-4A5EEBD1FBA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F9D32-DDAE-455F-9BCD-D29E124562D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96920" y="758880"/>
            <a:ext cx="10058400" cy="3565440"/>
          </a:xfrm>
          <a:prstGeom prst="rect">
            <a:avLst/>
          </a:prstGeom>
          <a:no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262626"/>
                </a:solidFill>
                <a:latin typeface="Calibri Light"/>
                <a:cs typeface="Times New Roman"/>
              </a:rPr>
              <a:t>مراجعة النظم</a:t>
            </a:r>
            <a:br>
              <a:rPr sz="8000"/>
            </a:br>
            <a:endParaRPr b="0" lang="en-US" sz="8000" spc="-1" strike="noStrike">
              <a:solidFill>
                <a:srgbClr val="404040"/>
              </a:solidFill>
              <a:latin typeface="Calibri Light"/>
            </a:endParaRPr>
          </a:p>
        </p:txBody>
      </p:sp>
      <p:sp>
        <p:nvSpPr>
          <p:cNvPr id="305" name="PlaceHolder 2"/>
          <p:cNvSpPr>
            <a:spLocks noGrp="1"/>
          </p:cNvSpPr>
          <p:nvPr>
            <p:ph type="subTitle"/>
          </p:nvPr>
        </p:nvSpPr>
        <p:spPr>
          <a:xfrm>
            <a:off x="1100160" y="4455720"/>
            <a:ext cx="10058400" cy="1143000"/>
          </a:xfrm>
          <a:prstGeom prst="rect">
            <a:avLst/>
          </a:prstGeom>
          <a:noFill/>
          <a:ln w="0">
            <a:noFill/>
          </a:ln>
        </p:spPr>
        <p:txBody>
          <a:bodyPr lIns="0" rIns="0" tIns="0" bIns="0"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55f51"/>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3"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مفهوم </a:t>
            </a:r>
            <a:r>
              <a:rPr b="1" lang="ar-SA" sz="2400" spc="-1" strike="noStrike">
                <a:solidFill>
                  <a:srgbClr val="404040"/>
                </a:solidFill>
                <a:latin typeface="Calibri"/>
                <a:ea typeface="Arial"/>
              </a:rPr>
              <a:t>(تأكيدا معقولا) </a:t>
            </a:r>
            <a:r>
              <a:rPr b="0" lang="ar-SA" sz="2400" spc="-1" strike="noStrike">
                <a:solidFill>
                  <a:srgbClr val="404040"/>
                </a:solidFill>
                <a:latin typeface="Calibri"/>
                <a:cs typeface="Arial"/>
              </a:rPr>
              <a:t>هنا يأخذ في الاعتبار عدم زيادة تكاليف نظام الرقابة الداخلية عن المنافع المتوقعة منه. وعليه فان التعريف يأخذ في الاعتبار حقيقة أن وجود نظام للرقابة الداخلية لا يوفر  ضمان أو تأكيد مطلق على تحقيق الأهداف التى وضع من اجلها ذلك النظام.</a:t>
            </a:r>
            <a:endParaRPr b="0" lang="en-US" sz="24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تعريف اخر لأنظمة الرقاب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هي مجموعة الوسائل والإجراءات والأساليب التي تستخدم بقصد حماية النقدية وغيرها من الأصول وضمان الدقة المحاسبية وتنمية الكفاية الإنتاجية وتشجيع الالتزام بالسياسات الإدارية المرسوم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5"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2</a:t>
            </a:r>
            <a:r>
              <a:rPr b="1" lang="ar-SA" sz="2400" spc="-1" strike="noStrike">
                <a:solidFill>
                  <a:srgbClr val="404040"/>
                </a:solidFill>
                <a:latin typeface="Calibri"/>
                <a:ea typeface="Arial"/>
              </a:rPr>
              <a:t>- مكونات نظم الرقابة الداخل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بيئة الرقاب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تقدير المخاطر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معلومات والاتصال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أنشطة الرقا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مراقبة الأنشطة الرقاب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7" name=""/>
          <p:cNvSpPr txBox="1"/>
          <p:nvPr/>
        </p:nvSpPr>
        <p:spPr>
          <a:xfrm>
            <a:off x="1096920" y="1846440"/>
            <a:ext cx="10058400" cy="4579920"/>
          </a:xfrm>
          <a:prstGeom prst="rect">
            <a:avLst/>
          </a:prstGeom>
          <a:noFill/>
          <a:ln w="0">
            <a:noFill/>
          </a:ln>
        </p:spPr>
        <p:txBody>
          <a:bodyPr lIns="0" rIns="0" anchor="t">
            <a:normAutofit fontScale="89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بيئة الرقابية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حدد البيئة الرقابية اتجاهات المنشأة ، وتؤثر على مدى وعي الأفراد الذين ينتمون إليها بالأنشطة الرقابية. وهي الأساس لجميع مكونات الرقابة الداخلية الأخرى.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من أهم العوامل البيئية الرقابية ما يلي: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طرق الرقابة المتعلقة بالإشراف والمتابعة                                        - الهيكل التنظيمي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الأسلوب الفلسفي والعملي المتبع بواسطة الادارة                                 - لجنة المراجعة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السياسات والإجراءات المتعلقة بالأفراد (العاملين)                               - المؤثرات الخارج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الأمانة والقيم الأخلاقية التي يتصف بها الأفراد والعاملون في الجهة           - طرق الاتصال</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9" name=""/>
          <p:cNvSpPr txBox="1"/>
          <p:nvPr/>
        </p:nvSpPr>
        <p:spPr>
          <a:xfrm>
            <a:off x="1096920" y="1846440"/>
            <a:ext cx="10058400" cy="4579920"/>
          </a:xfrm>
          <a:prstGeom prst="rect">
            <a:avLst/>
          </a:prstGeom>
          <a:noFill/>
          <a:ln w="0">
            <a:noFill/>
          </a:ln>
        </p:spPr>
        <p:txBody>
          <a:bodyPr lIns="0" rIns="0" anchor="t">
            <a:normAutofit/>
          </a:bodyPr>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تقديـر المخاطـر : </a:t>
            </a:r>
            <a:endParaRPr b="0" lang="en-US" sz="2400" spc="-1" strike="noStrike">
              <a:solidFill>
                <a:srgbClr val="404040"/>
              </a:solidFill>
              <a:latin typeface="Calibri"/>
            </a:endParaRPr>
          </a:p>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قصد بتقدير المخاطر تقدير احتمال حدوث غش أو أخطاء أثناء تنفيذ العمليات المالية أو غير المالية.</a:t>
            </a:r>
            <a:endParaRPr b="0" lang="en-US" sz="2400" spc="-1" strike="noStrike">
              <a:solidFill>
                <a:srgbClr val="404040"/>
              </a:solidFill>
              <a:latin typeface="Calibri"/>
            </a:endParaRPr>
          </a:p>
          <a:p>
            <a:pPr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دارة المخاطر</a:t>
            </a:r>
            <a:endParaRPr b="0" lang="en-US" sz="2400" spc="-1" strike="noStrike">
              <a:solidFill>
                <a:srgbClr val="404040"/>
              </a:solidFill>
              <a:latin typeface="Calibri"/>
            </a:endParaRPr>
          </a:p>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ضع الإجراءات التي تؤدي إلى تقليل إحتمال حدوث هذه الأخطار.</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31" name=""/>
          <p:cNvSpPr txBox="1"/>
          <p:nvPr/>
        </p:nvSpPr>
        <p:spPr>
          <a:xfrm>
            <a:off x="1096920" y="1846440"/>
            <a:ext cx="10058400" cy="457992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أنشطـة الرقابيـ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أنشطة الرقابية هي السياسات والإجراءات التي تساعد في التأكد من أن تعليمات الجهات العليا يتم تنفيذها.</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أنشطة الرقابية لها أهداف عديدة ويتم تطبيقها عند مستويات تنظيمية ووظيفية متعدد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جب على المراجع الداخلي أن يكون على دراية تامة بالانشطة الرقابية المطبقة بالجهة التابع لها.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33" name=""/>
          <p:cNvSpPr txBox="1"/>
          <p:nvPr/>
        </p:nvSpPr>
        <p:spPr>
          <a:xfrm>
            <a:off x="1096920" y="1846440"/>
            <a:ext cx="10058400" cy="457992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علومات والاتصال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تختلف احتياجات المعلومات من نشاط لآخر ومن وحدة لأخرى ، كما تختلف وسائل الاتصال والتقرير تبعا لاختلاف المعلومات ودورية الحاجة إليها.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أن الرقابة الداخلية الحكومية ، فيما يتعلق بالمعلومات والاتصال ، تركز اهتمامها الأساسي على الاستخدامات الداخلية لتمكين الإدارة من فرض الرقابة على العمليات والأنشطة والموارد.</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35" name=""/>
          <p:cNvSpPr txBox="1"/>
          <p:nvPr/>
        </p:nvSpPr>
        <p:spPr>
          <a:xfrm>
            <a:off x="1096920" y="1846440"/>
            <a:ext cx="10058400" cy="457992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مراقبة الانشطة الرقاب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قبة الأنشطة الرقابية هي عملية تقويم جودة أداء الرقابة الداخلية بصفة مستمرة للتحقق من أن الأنشطة الرقابية تعمل وفق ما هو مخطط لها أن تعمل ، وأنها تتعامل بفاعلية مع المخاطر التي تنشأ عن الأحداث والظروف الطارئة ، وتوصي باتخاذ أي إجراءات تصحيحية في حالة وجود أي قصور في هذه الأنشطة. كما تقرر مدي ملائمة الأنشطة الرقابية الحالية وهل مازلت فاعلة في تخفيض المخاطر ، وهل هناك مخاطر جديدة لم تكن متوقعة عند تخطيط الأنشطة الرقابية الحالية ، وما هي الأنشطة الرقابية الإضافية التي يجب تصميمها للتعامل مع الأنواع الجديدة من المخاطر. ويتم تحقيق مراقبة الأنشطة الرقابية عن طريق أنشطة مستمرة ، أو إجراء تقويمات مستقلة أو عن طريق الجمع بين الأسلوبين.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37" name=""/>
          <p:cNvSpPr txBox="1"/>
          <p:nvPr/>
        </p:nvSpPr>
        <p:spPr>
          <a:xfrm>
            <a:off x="1096920" y="1846440"/>
            <a:ext cx="10058400" cy="4579920"/>
          </a:xfrm>
          <a:prstGeom prst="rect">
            <a:avLst/>
          </a:prstGeom>
          <a:noFill/>
          <a:ln w="0">
            <a:noFill/>
          </a:ln>
        </p:spPr>
        <p:txBody>
          <a:bodyPr lIns="0" rIns="0" anchor="t">
            <a:normAutofit/>
          </a:bodyPr>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Calibri"/>
                <a:ea typeface="Arial"/>
              </a:rPr>
              <a:t>3</a:t>
            </a:r>
            <a:r>
              <a:rPr b="1" lang="ar-SA" sz="2200" spc="-1" strike="noStrike">
                <a:solidFill>
                  <a:srgbClr val="404040"/>
                </a:solidFill>
                <a:latin typeface="Calibri"/>
                <a:ea typeface="Arial"/>
              </a:rPr>
              <a:t>- حدود الرقابة الداخلية</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04040"/>
                </a:solidFill>
                <a:latin typeface="Calibri"/>
                <a:ea typeface="Arial"/>
              </a:rPr>
              <a:t> </a:t>
            </a:r>
            <a:r>
              <a:rPr b="0" lang="ar-SA" sz="2200" spc="-1" strike="noStrike">
                <a:solidFill>
                  <a:srgbClr val="404040"/>
                </a:solidFill>
                <a:latin typeface="Calibri"/>
                <a:cs typeface="Arial"/>
              </a:rPr>
              <a:t>إن نظام الرقابة الداخلية الجيد يقدم تأكيدا معقولا على ضمان تحقيق الأهداف من وراء تطبيقه ، ولكنه لا يقدم ضمانا مطلقا على تحقيق تلك الأهداف نتيجة لوجود معوقات تحد من فعالية أي نظام رقابة داخلية.  هذه المعوقات تشمل :</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1</a:t>
            </a:r>
            <a:r>
              <a:rPr b="0" lang="ar-SA" sz="2200" spc="-1" strike="noStrike">
                <a:solidFill>
                  <a:srgbClr val="404040"/>
                </a:solidFill>
                <a:latin typeface="Calibri"/>
                <a:ea typeface="Arial"/>
              </a:rPr>
              <a:t>-  إساءة فهم التعليمات. </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2</a:t>
            </a:r>
            <a:r>
              <a:rPr b="0" lang="ar-SA" sz="2200" spc="-1" strike="noStrike">
                <a:solidFill>
                  <a:srgbClr val="404040"/>
                </a:solidFill>
                <a:latin typeface="Calibri"/>
                <a:ea typeface="Arial"/>
              </a:rPr>
              <a:t>-  الخطأ في التقديـر.</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3</a:t>
            </a:r>
            <a:r>
              <a:rPr b="0" lang="ar-SA" sz="2200" spc="-1" strike="noStrike">
                <a:solidFill>
                  <a:srgbClr val="404040"/>
                </a:solidFill>
                <a:latin typeface="Calibri"/>
                <a:ea typeface="Arial"/>
              </a:rPr>
              <a:t>-  اللامبــــالاة.</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4</a:t>
            </a:r>
            <a:r>
              <a:rPr b="0" lang="ar-SA" sz="2200" spc="-1" strike="noStrike">
                <a:solidFill>
                  <a:srgbClr val="404040"/>
                </a:solidFill>
                <a:latin typeface="Calibri"/>
                <a:ea typeface="Arial"/>
              </a:rPr>
              <a:t>-  عدم التركيـــز.</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5</a:t>
            </a:r>
            <a:r>
              <a:rPr b="0" lang="ar-SA" sz="2200" spc="-1" strike="noStrike">
                <a:solidFill>
                  <a:srgbClr val="404040"/>
                </a:solidFill>
                <a:latin typeface="Calibri"/>
                <a:ea typeface="Arial"/>
              </a:rPr>
              <a:t>-  التعــــــب. </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6</a:t>
            </a:r>
            <a:r>
              <a:rPr b="0" lang="ar-SA" sz="2200" spc="-1" strike="noStrike">
                <a:solidFill>
                  <a:srgbClr val="404040"/>
                </a:solidFill>
                <a:latin typeface="Calibri"/>
                <a:ea typeface="Arial"/>
              </a:rPr>
              <a:t>-  التواطـــــؤ.</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7</a:t>
            </a:r>
            <a:r>
              <a:rPr b="0" lang="ar-SA" sz="2200" spc="-1" strike="noStrike">
                <a:solidFill>
                  <a:srgbClr val="404040"/>
                </a:solidFill>
                <a:latin typeface="Calibri"/>
                <a:ea typeface="Arial"/>
              </a:rPr>
              <a:t>-  تجاوزات الادارة </a:t>
            </a:r>
            <a:endParaRPr b="0" lang="en-US" sz="2200" spc="-1" strike="noStrike">
              <a:solidFill>
                <a:srgbClr val="404040"/>
              </a:solidFill>
              <a:latin typeface="Calibri"/>
            </a:endParaRPr>
          </a:p>
          <a:p>
            <a:pPr algn="just" rtl="1">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0000"/>
                </a:solidFill>
                <a:uFillTx/>
                <a:latin typeface="Calibri Light"/>
                <a:cs typeface="Times New Roman"/>
              </a:rPr>
              <a:t>تقويم</a:t>
            </a:r>
            <a:r>
              <a:rPr b="0" lang="ar-SA" sz="4800" spc="-1" strike="noStrike">
                <a:solidFill>
                  <a:srgbClr val="404040"/>
                </a:solidFill>
                <a:latin typeface="Calibri Light"/>
                <a:ea typeface="Times New Roman"/>
              </a:rPr>
              <a:t> الرقابة الداخلية</a:t>
            </a:r>
            <a:br>
              <a:rPr sz="4800"/>
            </a:br>
            <a:r>
              <a:rPr b="0" lang="ar-SA" sz="4800" spc="-1" strike="noStrike">
                <a:solidFill>
                  <a:srgbClr val="404040"/>
                </a:solidFill>
                <a:latin typeface="Calibri Light"/>
                <a:ea typeface="Times New Roman"/>
              </a:rPr>
              <a:t> في ظل التشغيل اليدوي للبيانات المحاسبية</a:t>
            </a:r>
            <a:endParaRPr b="0" lang="en-US" sz="4800" spc="-1" strike="noStrike">
              <a:solidFill>
                <a:srgbClr val="404040"/>
              </a:solidFill>
              <a:latin typeface="Calibri Light"/>
            </a:endParaRPr>
          </a:p>
        </p:txBody>
      </p:sp>
      <p:sp>
        <p:nvSpPr>
          <p:cNvPr id="339" name=""/>
          <p:cNvSpPr txBox="1"/>
          <p:nvPr/>
        </p:nvSpPr>
        <p:spPr>
          <a:xfrm>
            <a:off x="1096920" y="1846440"/>
            <a:ext cx="10058400" cy="4022640"/>
          </a:xfrm>
          <a:prstGeom prst="rect">
            <a:avLst/>
          </a:prstGeom>
          <a:noFill/>
          <a:ln w="0">
            <a:noFill/>
          </a:ln>
        </p:spPr>
        <p:txBody>
          <a:bodyPr lIns="0" rIns="0" anchor="t">
            <a:normAutofit/>
          </a:bodyPr>
          <a:p>
            <a:pPr marL="90360" indent="-90360" algn="ct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90360" indent="-90360" algn="ct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Times New Roman"/>
                <a:cs typeface="Arabic Transparent"/>
              </a:rPr>
              <a:t>الهدف الأساسي من وراء دراسة وتقويم نظام الرقابة الداخلية هو تقدير المخاطر الرقابية التي تعني احتمال فشل نظام الرقابة الداخلية في منع حدوث الأخطاء أو الفشل في اكتشافها حال حدوثها. ومن ثم أقتراح التوصيات اللازمة لتقليل مخاطر الرقابة</a:t>
            </a:r>
            <a:r>
              <a:rPr b="0" lang="ar-SA" sz="3200" spc="-1" strike="noStrike">
                <a:solidFill>
                  <a:srgbClr val="404040"/>
                </a:solidFill>
                <a:latin typeface="Times New Roman"/>
                <a:ea typeface="Arabic Transparent"/>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0000"/>
                </a:solidFill>
                <a:uFillTx/>
                <a:latin typeface="Calibri Light"/>
                <a:cs typeface="Times New Roman"/>
              </a:rPr>
              <a:t>تقويم</a:t>
            </a:r>
            <a:r>
              <a:rPr b="0" lang="ar-SA" sz="4800" spc="-1" strike="noStrike">
                <a:solidFill>
                  <a:srgbClr val="404040"/>
                </a:solidFill>
                <a:latin typeface="Calibri Light"/>
                <a:ea typeface="Times New Roman"/>
              </a:rPr>
              <a:t> الرقابة الداخلية</a:t>
            </a:r>
            <a:br>
              <a:rPr sz="4800"/>
            </a:br>
            <a:r>
              <a:rPr b="0" lang="ar-SA" sz="4800" spc="-1" strike="noStrike">
                <a:solidFill>
                  <a:srgbClr val="404040"/>
                </a:solidFill>
                <a:latin typeface="Calibri Light"/>
                <a:ea typeface="Times New Roman"/>
              </a:rPr>
              <a:t> في ظل التشغيل اليدوي للبيانات المحاسبية</a:t>
            </a:r>
            <a:endParaRPr b="0" lang="en-US" sz="4800" spc="-1" strike="noStrike">
              <a:solidFill>
                <a:srgbClr val="404040"/>
              </a:solidFill>
              <a:latin typeface="Calibri Light"/>
            </a:endParaRPr>
          </a:p>
        </p:txBody>
      </p:sp>
      <p:sp>
        <p:nvSpPr>
          <p:cNvPr id="341" name=""/>
          <p:cNvSpPr txBox="1"/>
          <p:nvPr/>
        </p:nvSpPr>
        <p:spPr>
          <a:xfrm>
            <a:off x="1273320" y="2255760"/>
            <a:ext cx="10058400" cy="4022640"/>
          </a:xfrm>
          <a:prstGeom prst="rect">
            <a:avLst/>
          </a:prstGeom>
          <a:noFill/>
          <a:ln w="0">
            <a:noFill/>
          </a:ln>
        </p:spPr>
        <p:txBody>
          <a:bodyPr lIns="0" rIns="0" anchor="t">
            <a:normAutofit/>
          </a:bodyPr>
          <a:p>
            <a:pPr marL="538200" algn="r" rtl="1">
              <a:lnSpc>
                <a:spcPts val="20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Times New Roman"/>
                <a:cs typeface="Arabic Transparent"/>
              </a:rPr>
              <a:t>يمكن دراسة وتقويم نظام الرقابة الداخلية باتباع الخطوات التالية:</a:t>
            </a:r>
            <a:endParaRPr b="0" lang="en-US" sz="3600" spc="-1" strike="noStrike">
              <a:solidFill>
                <a:srgbClr val="404040"/>
              </a:solidFill>
              <a:latin typeface="Calibri"/>
            </a:endParaRPr>
          </a:p>
          <a:p>
            <a:pPr marL="538200" algn="r" rtl="1">
              <a:lnSpc>
                <a:spcPts val="20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Times New Roman"/>
                <a:cs typeface="Arial"/>
              </a:rPr>
              <a:t>يحصل المراجع على فهم كاف لنظام الرقابة الداخلية المطبق وتوثيق ذلك الفهم</a:t>
            </a: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Times New Roman"/>
                <a:cs typeface="Arial"/>
              </a:rPr>
              <a:t>تقييم مخاطر الرقابة مبدئيا </a:t>
            </a: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Times New Roman"/>
                <a:cs typeface="Arial"/>
              </a:rPr>
              <a:t>اختبارات الرقابة</a:t>
            </a: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Times New Roman"/>
                <a:cs typeface="Arial"/>
              </a:rPr>
              <a:t>إعادة تقييم مخاطر الرقابة الداخلية </a:t>
            </a: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1287360" indent="-457200" algn="r" rtl="1">
              <a:lnSpc>
                <a:spcPts val="2098"/>
              </a:lnSpc>
              <a:spcAft>
                <a:spcPts val="601"/>
              </a:spcAft>
              <a:buClr>
                <a:srgbClr val="99cb3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538200" algn="ctr">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مهام الاساسية لوحدة المراجعة الداخلية </a:t>
            </a:r>
            <a:endParaRPr b="0" lang="en-US" sz="4400" spc="-1" strike="noStrike">
              <a:solidFill>
                <a:srgbClr val="404040"/>
              </a:solidFill>
              <a:latin typeface="Calibri Light"/>
            </a:endParaRPr>
          </a:p>
        </p:txBody>
      </p:sp>
      <p:sp>
        <p:nvSpPr>
          <p:cNvPr id="307"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سبق أن ذكرنا أن مهام وحدة المراجعة الداخلية (مجالات عمل المراجع الداخلي) تشمل على الأقل المهام التال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جعة النظم (عرض اليوم بأذن الله)</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مراجعة التشغيل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جعة الإلتزام</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مراجعة المال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جعة السلوك</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قديم المشورة والدعم للإدار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96920" y="286920"/>
            <a:ext cx="10058400" cy="2430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الرقابة الداخلية</a:t>
            </a:r>
            <a:br>
              <a:rPr sz="4300"/>
            </a:br>
            <a:r>
              <a:rPr b="0" lang="ar-SA" sz="4300" spc="-1" strike="noStrike">
                <a:solidFill>
                  <a:srgbClr val="404040"/>
                </a:solidFill>
                <a:latin typeface="Calibri Light"/>
                <a:ea typeface="Times New Roman"/>
              </a:rPr>
              <a:t> في ظل التشغيل اليدوي للبيانات المحاسبية</a:t>
            </a:r>
            <a:br>
              <a:rPr sz="4300"/>
            </a:br>
            <a:br>
              <a:rPr sz="4300"/>
            </a:br>
            <a:endParaRPr b="0" lang="en-US" sz="4300" spc="-1" strike="noStrike">
              <a:solidFill>
                <a:srgbClr val="404040"/>
              </a:solidFill>
              <a:latin typeface="Calibri Light"/>
            </a:endParaRPr>
          </a:p>
        </p:txBody>
      </p:sp>
      <p:sp>
        <p:nvSpPr>
          <p:cNvPr id="343"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أ- يحصل المراجع على فهم كاف لنظام الرقابة الداخلية المطبق </a:t>
            </a:r>
            <a:r>
              <a:rPr b="1" lang="ar-SA" sz="2000" spc="-1" strike="noStrike" u="sng">
                <a:solidFill>
                  <a:srgbClr val="404040"/>
                </a:solidFill>
                <a:uFillTx/>
                <a:latin typeface="Calibri"/>
                <a:cs typeface="Arial"/>
              </a:rPr>
              <a:t>وتوثيق ذلك الفهم</a:t>
            </a:r>
            <a:r>
              <a:rPr b="1" lang="ar-SA" sz="2000" spc="-1" strike="noStrike">
                <a:solidFill>
                  <a:srgbClr val="404040"/>
                </a:solidFill>
                <a:latin typeface="Calibri"/>
                <a:ea typeface="Arial"/>
              </a:rPr>
              <a:t>:</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لكي يستطيع المراجع تقييم مخاطر الرقابة مبدئيا يجب عليه القيام بدراسة وفهم المكونات الخمس لنظام الرقابة الداخلية. (البيئة الرقابية وتقدير المخاطر والأنشطة الرقابية والمعلومات والاتصال ومراقبة الأنشطة الرقابي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و يستخدم المراجع لفهم نظام الرقابة الداخلية عدة طرق (التجربة والخبرة السابقة ،الاستفسارات، الفحص ،الملاحظة، اعادة تطبيق اجراءات معين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404040"/>
                </a:solidFill>
                <a:uFillTx/>
                <a:latin typeface="Calibri"/>
                <a:cs typeface="Arial"/>
              </a:rPr>
              <a:t>توثيق عملية فهم نظام الرقابة الداخلية</a:t>
            </a:r>
            <a:r>
              <a:rPr b="1" lang="ar-SA" sz="2000" spc="-1" strike="noStrike">
                <a:solidFill>
                  <a:srgbClr val="404040"/>
                </a:solidFill>
                <a:latin typeface="Calibri"/>
                <a:ea typeface="Arial"/>
              </a:rPr>
              <a:t>  </a:t>
            </a:r>
            <a:r>
              <a:rPr b="0" lang="ar-SA" sz="2000" spc="-1" strike="noStrike">
                <a:solidFill>
                  <a:srgbClr val="404040"/>
                </a:solidFill>
                <a:latin typeface="Calibri"/>
                <a:cs typeface="Arial"/>
              </a:rPr>
              <a:t>باستخدام مذكرة للتوثيق ، خرائط التدفق ،  قوائم الاستقصاء (الاستبيان) جداول القرارات ، خرائط التدفق...  الخ. </a:t>
            </a: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اتخاذ قرار فيما يختص بإجراء او عدم إجراء اختبارات رقابة في مرحلة الفهم</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96920" y="286920"/>
            <a:ext cx="10058400" cy="2430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الرقابة الداخلية</a:t>
            </a:r>
            <a:br>
              <a:rPr sz="4300"/>
            </a:br>
            <a:r>
              <a:rPr b="0" lang="ar-SA" sz="4300" spc="-1" strike="noStrike">
                <a:solidFill>
                  <a:srgbClr val="404040"/>
                </a:solidFill>
                <a:latin typeface="Calibri Light"/>
                <a:ea typeface="Times New Roman"/>
              </a:rPr>
              <a:t> في ظل التشغيل اليدوي للبيانات المحاسبية</a:t>
            </a:r>
            <a:br>
              <a:rPr sz="4300"/>
            </a:br>
            <a:br>
              <a:rPr sz="4300"/>
            </a:br>
            <a:endParaRPr b="0" lang="en-US" sz="4300" spc="-1" strike="noStrike">
              <a:solidFill>
                <a:srgbClr val="404040"/>
              </a:solidFill>
              <a:latin typeface="Calibri Light"/>
            </a:endParaRPr>
          </a:p>
        </p:txBody>
      </p:sp>
      <p:sp>
        <p:nvSpPr>
          <p:cNvPr id="345" name=""/>
          <p:cNvSpPr txBox="1"/>
          <p:nvPr/>
        </p:nvSpPr>
        <p:spPr>
          <a:xfrm>
            <a:off x="1096920" y="1846440"/>
            <a:ext cx="10058400" cy="4022640"/>
          </a:xfrm>
          <a:prstGeom prst="rect">
            <a:avLst/>
          </a:prstGeom>
          <a:noFill/>
          <a:ln w="0">
            <a:noFill/>
          </a:ln>
        </p:spPr>
        <p:txBody>
          <a:bodyPr lIns="0" rIns="0" anchor="t">
            <a:normAutofit fontScale="93000"/>
          </a:bodyPr>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ب- </a:t>
            </a:r>
            <a:r>
              <a:rPr b="1" lang="ar-SA" sz="2000" spc="-1" strike="noStrike" u="sng">
                <a:solidFill>
                  <a:srgbClr val="ff0000"/>
                </a:solidFill>
                <a:uFillTx/>
                <a:latin typeface="Calibri"/>
                <a:cs typeface="Arial"/>
              </a:rPr>
              <a:t>التقييم</a:t>
            </a:r>
            <a:r>
              <a:rPr b="1" lang="ar-SA" sz="2000" spc="-1" strike="noStrike">
                <a:solidFill>
                  <a:srgbClr val="404040"/>
                </a:solidFill>
                <a:latin typeface="Calibri"/>
                <a:ea typeface="Arial"/>
              </a:rPr>
              <a:t> المبدئي لمخاطر الرقابة</a:t>
            </a:r>
            <a:r>
              <a:rPr b="0" lang="ar-SA" sz="2000" spc="-1" strike="noStrike">
                <a:solidFill>
                  <a:srgbClr val="404040"/>
                </a:solidFill>
                <a:latin typeface="Calibri"/>
                <a:ea typeface="Arial"/>
              </a:rPr>
              <a:t>:</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تقييم مخاطر الرقابة الداخلية يعني </a:t>
            </a:r>
            <a:r>
              <a:rPr b="0" lang="ar-SA" sz="2000" spc="-1" strike="noStrike">
                <a:solidFill>
                  <a:srgbClr val="404040"/>
                </a:solidFill>
                <a:latin typeface="Calibri"/>
                <a:cs typeface="Arial"/>
              </a:rPr>
              <a:t>تقييم فعالية نظام الرقابة الداخلية في منع او اكتشاف الأخطاء الجوهرية والغش والتحريف وسوء العرض للمعلومات المالية خلال فترة معقولة من تاريخ وقوعها. </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عندما تكون الأساليب الرقابية (السياسات والإجراءات) غير كافية وغير فعالة. وفي هذه الحالة لا جدوى من إجراء  اختبارات الرقابة وعليه فان المراجع يحدد مخاطر الرقابة الداخلية عند الحد الأقصى.</a:t>
            </a:r>
            <a:r>
              <a:rPr b="1" lang="ar-SA" sz="2000" spc="-1" strike="noStrike">
                <a:solidFill>
                  <a:srgbClr val="404040"/>
                </a:solidFill>
                <a:latin typeface="Calibri"/>
                <a:cs typeface="Arial"/>
              </a:rPr>
              <a:t>و يكون قرار المراجع </a:t>
            </a:r>
            <a:r>
              <a:rPr b="0" lang="ar-SA" sz="2000" spc="-1" strike="noStrike">
                <a:solidFill>
                  <a:srgbClr val="404040"/>
                </a:solidFill>
                <a:latin typeface="Calibri"/>
                <a:cs typeface="Arial"/>
              </a:rPr>
              <a:t>في هذه الحالة أن نظام الرقابة غير فعال ويعد تقرير بذلك ويقترح وسائل التصحيح. </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أما في حالة السياسات والإجراءات الرقابية التي يبدو أنها فعالة </a:t>
            </a:r>
            <a:r>
              <a:rPr b="1" lang="ar-SA" sz="2000" spc="-1" strike="noStrike">
                <a:solidFill>
                  <a:srgbClr val="404040"/>
                </a:solidFill>
                <a:latin typeface="Calibri"/>
                <a:cs typeface="Arial"/>
              </a:rPr>
              <a:t>فان قرار المراجع </a:t>
            </a:r>
            <a:r>
              <a:rPr b="0" lang="ar-SA" sz="2000" spc="-1" strike="noStrike">
                <a:solidFill>
                  <a:srgbClr val="404040"/>
                </a:solidFill>
                <a:latin typeface="Calibri"/>
                <a:cs typeface="Arial"/>
              </a:rPr>
              <a:t>في هذه الحالة يكون أن نظام الرقابة الداخلية فعال ويعد تقرير بذلك ويقترح وسائل تحسين إذا رأى ذلك.</a:t>
            </a:r>
            <a:endParaRPr b="0" lang="en-US" sz="20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لكن في كثير من الحالات تكون اختبارات الرقابة التي يقوم بها المراجع في خلال مرحلة التقييم المبدئي محدودة ولا ترقى للمستوى المخطط لمخاطر الرقابة الداخلية بالتالي يكون إجراء اختبارات رقابة إضافية يصبح مطلوبا</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96920" y="286920"/>
            <a:ext cx="10058400" cy="2430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r>
              <a:rPr b="1" lang="ar-SA" sz="4300" spc="-1" strike="noStrike" u="sng">
                <a:solidFill>
                  <a:srgbClr val="ff0000"/>
                </a:solidFill>
                <a:uFillTx/>
                <a:latin typeface="Calibri Light"/>
                <a:cs typeface="Times New Roman"/>
              </a:rPr>
              <a:t>تقويم</a:t>
            </a:r>
            <a:r>
              <a:rPr b="0" lang="ar-SA" sz="4300" spc="-1" strike="noStrike">
                <a:solidFill>
                  <a:srgbClr val="404040"/>
                </a:solidFill>
                <a:latin typeface="Calibri Light"/>
                <a:ea typeface="Times New Roman"/>
              </a:rPr>
              <a:t> الرقابة الداخلية</a:t>
            </a:r>
            <a:br>
              <a:rPr sz="4300"/>
            </a:br>
            <a:r>
              <a:rPr b="0" lang="ar-SA" sz="4300" spc="-1" strike="noStrike">
                <a:solidFill>
                  <a:srgbClr val="404040"/>
                </a:solidFill>
                <a:latin typeface="Calibri Light"/>
                <a:ea typeface="Times New Roman"/>
              </a:rPr>
              <a:t> في ظل التشغيل اليدوي للبيانات المحاسبية</a:t>
            </a:r>
            <a:br>
              <a:rPr sz="4300"/>
            </a:br>
            <a:br>
              <a:rPr sz="4300"/>
            </a:br>
            <a:endParaRPr b="0" lang="en-US" sz="4300" spc="-1" strike="noStrike">
              <a:solidFill>
                <a:srgbClr val="404040"/>
              </a:solidFill>
              <a:latin typeface="Calibri Light"/>
            </a:endParaRPr>
          </a:p>
        </p:txBody>
      </p:sp>
      <p:sp>
        <p:nvSpPr>
          <p:cNvPr id="347"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ج- اختبارات الرقاب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إذا كان التقييم المبدئي يشير إلى ان المخاطر الرقابية عند مستوى منخفض فيجب القيام بإجراء إختبارات الرقابة للتأكد ما اذا كانت الأساليب الرقابية (السياسات والإجراءات) تعمل بكفاءة وللتأكد من مدى إلتزام العاملين بتطبيق النظام (تسمي أيضا إختبارات الإلتزام)</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وتتم باستخدام الاستفسارات ، فحص المستندات ، ملاحظة الموظفين خلال تأدية أعمالهم، وإعادة تنفيذ الأساليب الرقابي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توثق نتائج اختبارات الرقابة حسب  نوع العملية وحسب تأكيدات القوائم المالي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96920" y="286920"/>
            <a:ext cx="10058400" cy="2430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r>
              <a:rPr b="1" lang="ar-SA" sz="4300" spc="-1" strike="noStrike" u="sng">
                <a:solidFill>
                  <a:srgbClr val="ff0000"/>
                </a:solidFill>
                <a:uFillTx/>
                <a:latin typeface="Calibri Light"/>
                <a:cs typeface="Times New Roman"/>
              </a:rPr>
              <a:t>تقويم</a:t>
            </a:r>
            <a:r>
              <a:rPr b="0" lang="ar-SA" sz="4300" spc="-1" strike="noStrike">
                <a:solidFill>
                  <a:srgbClr val="404040"/>
                </a:solidFill>
                <a:latin typeface="Calibri Light"/>
                <a:ea typeface="Times New Roman"/>
              </a:rPr>
              <a:t> الرقابة الداخلية</a:t>
            </a:r>
            <a:br>
              <a:rPr sz="4300"/>
            </a:br>
            <a:r>
              <a:rPr b="0" lang="ar-SA" sz="4300" spc="-1" strike="noStrike">
                <a:solidFill>
                  <a:srgbClr val="404040"/>
                </a:solidFill>
                <a:latin typeface="Calibri Light"/>
                <a:ea typeface="Times New Roman"/>
              </a:rPr>
              <a:t> في ظل التشغيل اليدوي للبيانات المحاسبية</a:t>
            </a:r>
            <a:br>
              <a:rPr sz="4300"/>
            </a:br>
            <a:br>
              <a:rPr sz="4300"/>
            </a:br>
            <a:endParaRPr b="0" lang="en-US" sz="4300" spc="-1" strike="noStrike">
              <a:solidFill>
                <a:srgbClr val="404040"/>
              </a:solidFill>
              <a:latin typeface="Calibri Light"/>
            </a:endParaRPr>
          </a:p>
        </p:txBody>
      </p:sp>
      <p:sp>
        <p:nvSpPr>
          <p:cNvPr id="34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د -  إعادة تقييم مخاطر الرقابة الداخلية :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يقوم المراجع بإعادة تقييم مخاطر الرقابة في ضوء نتائج اختبارات الرقابة التي يقوم بها وفي حالة التأكد من الالتزام بالإجراءات الرقابية يكون قرار المراجع أن نظام الرقابة الداخلية فعال ويكتب تقريره متضمنا ذلك. أما إذا تأكد المراجع من عدم الإلتزام بالإجراءات الرقابية الموضوعة فإن عليه كتابة تقرير يتضمن أن نظام الرقابة الداخلية غير فعال ويقدم توصياته بالإجراءات اللازمة لتفعيل النظام.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96920" y="287280"/>
            <a:ext cx="10058400" cy="3408480"/>
          </a:xfrm>
          <a:prstGeom prst="rect">
            <a:avLst/>
          </a:prstGeom>
          <a:noFill/>
          <a:ln w="0">
            <a:noFill/>
          </a:ln>
        </p:spPr>
        <p:txBody>
          <a:bodyPr tIns="91440" bIns="0"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br>
              <a:rPr sz="4300"/>
            </a:br>
            <a:br>
              <a:rPr sz="4300"/>
            </a:br>
            <a:br>
              <a:rPr sz="4300"/>
            </a:br>
            <a:br>
              <a:rPr sz="4300"/>
            </a:br>
            <a:br>
              <a:rPr sz="4300"/>
            </a:br>
            <a:r>
              <a:rPr b="0" lang="ar-SA" sz="3600" spc="-1" strike="noStrike">
                <a:solidFill>
                  <a:srgbClr val="404040"/>
                </a:solidFill>
                <a:latin typeface="Calibri Light"/>
                <a:cs typeface="Times New Roman"/>
              </a:rPr>
              <a:t>خريطة تدفق توضح كيفية دراسة وتقييم  نظام</a:t>
            </a:r>
            <a:br>
              <a:rPr sz="3600"/>
            </a:br>
            <a:r>
              <a:rPr b="0" lang="ar-SA" sz="3600" spc="-1" strike="noStrike">
                <a:solidFill>
                  <a:srgbClr val="404040"/>
                </a:solidFill>
                <a:latin typeface="Calibri Light"/>
                <a:cs typeface="Times New Roman"/>
              </a:rPr>
              <a:t>الرقابة الداخلية بواسطة المراجع الداخلي في الوحدات الحكومية</a:t>
            </a:r>
            <a:br>
              <a:rPr sz="3600"/>
            </a:br>
            <a:br>
              <a:rPr sz="4300"/>
            </a:br>
            <a:br>
              <a:rPr sz="4300"/>
            </a:br>
            <a:br>
              <a:rPr sz="4300"/>
            </a:br>
            <a:endParaRPr b="0" lang="en-US" sz="36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5"/>
          <p:cNvSpPr/>
          <p:nvPr/>
        </p:nvSpPr>
        <p:spPr>
          <a:xfrm>
            <a:off x="896760" y="74520"/>
            <a:ext cx="5042160" cy="549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قد تتضمن هذة الخطوة اختبارات رقابة في بعض الاحيان</a:t>
            </a:r>
            <a:endParaRPr b="0" lang="en-US" sz="1600" spc="-1" strike="noStrike">
              <a:solidFill>
                <a:srgbClr val="000000"/>
              </a:solidFill>
              <a:latin typeface="Calibri"/>
            </a:endParaRPr>
          </a:p>
        </p:txBody>
      </p:sp>
      <p:sp>
        <p:nvSpPr>
          <p:cNvPr id="352" name="Rectangle 24"/>
          <p:cNvSpPr/>
          <p:nvPr/>
        </p:nvSpPr>
        <p:spPr>
          <a:xfrm>
            <a:off x="896760" y="882720"/>
            <a:ext cx="5042160" cy="549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ما لم تتم اختبارات رقابة فإن مخاطر الرقابة تحدد عند الحد الأقصى (المستوى الأعلى)</a:t>
            </a:r>
            <a:endParaRPr b="0" lang="en-US" sz="1600" spc="-1" strike="noStrike">
              <a:solidFill>
                <a:srgbClr val="000000"/>
              </a:solidFill>
              <a:latin typeface="Calibri"/>
            </a:endParaRPr>
          </a:p>
        </p:txBody>
      </p:sp>
      <p:sp>
        <p:nvSpPr>
          <p:cNvPr id="353" name="Line 23"/>
          <p:cNvSpPr/>
          <p:nvPr/>
        </p:nvSpPr>
        <p:spPr>
          <a:xfrm flipH="1">
            <a:off x="5971680" y="349200"/>
            <a:ext cx="8226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4" name="Rectangle 22"/>
          <p:cNvSpPr/>
          <p:nvPr/>
        </p:nvSpPr>
        <p:spPr>
          <a:xfrm>
            <a:off x="6753240" y="74520"/>
            <a:ext cx="4964040" cy="549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أحصل على فهم كاف لنظام الرقابة الداخلية ووثقه لغرض تقويمه</a:t>
            </a:r>
            <a:endParaRPr b="0" lang="en-US" sz="1600" spc="-1" strike="noStrike">
              <a:solidFill>
                <a:srgbClr val="000000"/>
              </a:solidFill>
              <a:latin typeface="Calibri"/>
            </a:endParaRPr>
          </a:p>
        </p:txBody>
      </p:sp>
      <p:sp>
        <p:nvSpPr>
          <p:cNvPr id="355" name="Rectangle 21"/>
          <p:cNvSpPr/>
          <p:nvPr/>
        </p:nvSpPr>
        <p:spPr>
          <a:xfrm>
            <a:off x="6718320" y="879480"/>
            <a:ext cx="4962600" cy="549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قم بتقييم مخاطر الرقابة وحــدد مستــوى المخاطـر</a:t>
            </a:r>
            <a:endParaRPr b="0" lang="en-US" sz="1600" spc="-1" strike="noStrike">
              <a:solidFill>
                <a:srgbClr val="000000"/>
              </a:solidFill>
              <a:latin typeface="Calibri"/>
            </a:endParaRPr>
          </a:p>
        </p:txBody>
      </p:sp>
      <p:sp>
        <p:nvSpPr>
          <p:cNvPr id="356" name="AutoShape 20"/>
          <p:cNvSpPr/>
          <p:nvPr/>
        </p:nvSpPr>
        <p:spPr>
          <a:xfrm>
            <a:off x="8067600" y="1650960"/>
            <a:ext cx="2362320" cy="15080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هـل مخاطر الرقابة أقل من الحد الأقصى ؟</a:t>
            </a:r>
            <a:endParaRPr b="0" lang="en-US" sz="1600" spc="-1" strike="noStrike">
              <a:solidFill>
                <a:srgbClr val="000000"/>
              </a:solidFill>
              <a:latin typeface="Calibri"/>
            </a:endParaRPr>
          </a:p>
        </p:txBody>
      </p:sp>
      <p:sp>
        <p:nvSpPr>
          <p:cNvPr id="357" name="Rectangle 19"/>
          <p:cNvSpPr/>
          <p:nvPr/>
        </p:nvSpPr>
        <p:spPr>
          <a:xfrm>
            <a:off x="880920" y="2030400"/>
            <a:ext cx="5031000" cy="5698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Arial"/>
              </a:rPr>
              <a:t>المخاطر الرقابية عند مستوى مرتفع ويجب اقتراح وسائل التصحيح</a:t>
            </a:r>
            <a:endParaRPr b="0" lang="en-US" sz="1600" spc="-1" strike="noStrike">
              <a:solidFill>
                <a:srgbClr val="000000"/>
              </a:solidFill>
              <a:latin typeface="Calibri"/>
            </a:endParaRPr>
          </a:p>
        </p:txBody>
      </p:sp>
      <p:sp>
        <p:nvSpPr>
          <p:cNvPr id="358" name="Rectangle 18"/>
          <p:cNvSpPr/>
          <p:nvPr/>
        </p:nvSpPr>
        <p:spPr>
          <a:xfrm>
            <a:off x="6948360" y="5450040"/>
            <a:ext cx="4724640" cy="550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Arial"/>
              </a:rPr>
              <a:t>قدم تقريرك بأن نظام الرقابة الداخلية فعال وإن كان لك ملاحظات لتحسينه أذكرها</a:t>
            </a:r>
            <a:endParaRPr b="0" lang="en-US" sz="1600" spc="-1" strike="noStrike">
              <a:solidFill>
                <a:srgbClr val="000000"/>
              </a:solidFill>
              <a:latin typeface="Calibri"/>
            </a:endParaRPr>
          </a:p>
        </p:txBody>
      </p:sp>
      <p:sp>
        <p:nvSpPr>
          <p:cNvPr id="359" name="Rectangle 17"/>
          <p:cNvSpPr/>
          <p:nvPr/>
        </p:nvSpPr>
        <p:spPr>
          <a:xfrm>
            <a:off x="6953400" y="4357800"/>
            <a:ext cx="4724280" cy="436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هل هناك التزام بالإجراءات الرقابية</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60" name="Rectangle 16"/>
          <p:cNvSpPr/>
          <p:nvPr/>
        </p:nvSpPr>
        <p:spPr>
          <a:xfrm>
            <a:off x="880920" y="2857680"/>
            <a:ext cx="5031000" cy="504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Arial"/>
              </a:rPr>
              <a:t>قم بعمل الملاحظات اللازمة ووثقها واقترح وسائل التصحيح وقدم تقريرك إلى الجهة المناسبة</a:t>
            </a:r>
            <a:endParaRPr b="0" lang="en-US" sz="1600" spc="-1" strike="noStrike">
              <a:solidFill>
                <a:srgbClr val="000000"/>
              </a:solidFill>
              <a:latin typeface="Calibri"/>
            </a:endParaRPr>
          </a:p>
        </p:txBody>
      </p:sp>
      <p:sp>
        <p:nvSpPr>
          <p:cNvPr id="361" name="Line 15"/>
          <p:cNvSpPr/>
          <p:nvPr/>
        </p:nvSpPr>
        <p:spPr>
          <a:xfrm flipH="1">
            <a:off x="9248760" y="3174840"/>
            <a:ext cx="14400" cy="358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2" name="Line 14"/>
          <p:cNvSpPr/>
          <p:nvPr/>
        </p:nvSpPr>
        <p:spPr>
          <a:xfrm>
            <a:off x="9236160" y="4002120"/>
            <a:ext cx="12600" cy="320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3" name="Line 13"/>
          <p:cNvSpPr/>
          <p:nvPr/>
        </p:nvSpPr>
        <p:spPr>
          <a:xfrm flipH="1">
            <a:off x="9248760" y="4865760"/>
            <a:ext cx="6480" cy="525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4" name="Rectangle 12"/>
          <p:cNvSpPr/>
          <p:nvPr/>
        </p:nvSpPr>
        <p:spPr>
          <a:xfrm>
            <a:off x="6954840" y="3556080"/>
            <a:ext cx="472428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abic Transparent"/>
                <a:cs typeface="Arial"/>
              </a:rPr>
              <a:t>قم بإجراء اختبارات الرقابة</a:t>
            </a:r>
            <a:endParaRPr b="0" lang="en-US" sz="1600" spc="-1" strike="noStrike">
              <a:solidFill>
                <a:srgbClr val="000000"/>
              </a:solidFill>
              <a:latin typeface="Calibri"/>
            </a:endParaRPr>
          </a:p>
        </p:txBody>
      </p:sp>
      <p:sp>
        <p:nvSpPr>
          <p:cNvPr id="365" name="Line 11"/>
          <p:cNvSpPr/>
          <p:nvPr/>
        </p:nvSpPr>
        <p:spPr>
          <a:xfrm flipH="1">
            <a:off x="3381120" y="2597040"/>
            <a:ext cx="19080" cy="263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6" name="Line 10"/>
          <p:cNvSpPr/>
          <p:nvPr/>
        </p:nvSpPr>
        <p:spPr>
          <a:xfrm>
            <a:off x="9236160" y="1428840"/>
            <a:ext cx="1260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Line 9"/>
          <p:cNvSpPr/>
          <p:nvPr/>
        </p:nvSpPr>
        <p:spPr>
          <a:xfrm flipH="1" flipV="1">
            <a:off x="5929200" y="2388960"/>
            <a:ext cx="2138400" cy="6120"/>
          </a:xfrm>
          <a:prstGeom prst="line">
            <a:avLst/>
          </a:prstGeom>
          <a:ln w="1908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368" name="Line 8"/>
          <p:cNvSpPr/>
          <p:nvPr/>
        </p:nvSpPr>
        <p:spPr>
          <a:xfrm flipH="1">
            <a:off x="6000480" y="1171440"/>
            <a:ext cx="711000" cy="11160"/>
          </a:xfrm>
          <a:prstGeom prst="line">
            <a:avLst/>
          </a:prstGeom>
          <a:ln w="1908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Calibri"/>
            </a:endParaRPr>
          </a:p>
        </p:txBody>
      </p:sp>
      <p:sp>
        <p:nvSpPr>
          <p:cNvPr id="369" name="Rectangle 7"/>
          <p:cNvSpPr/>
          <p:nvPr/>
        </p:nvSpPr>
        <p:spPr>
          <a:xfrm>
            <a:off x="7896240" y="2046240"/>
            <a:ext cx="27468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Calibri"/>
                <a:cs typeface="PT Bold Heading"/>
              </a:rPr>
              <a:t>لا</a:t>
            </a:r>
            <a:endParaRPr b="0" lang="en-US" sz="1200" spc="-1" strike="noStrike">
              <a:solidFill>
                <a:srgbClr val="000000"/>
              </a:solidFill>
              <a:latin typeface="Calibri"/>
            </a:endParaRPr>
          </a:p>
        </p:txBody>
      </p:sp>
      <p:sp>
        <p:nvSpPr>
          <p:cNvPr id="370" name="Rectangle 6"/>
          <p:cNvSpPr/>
          <p:nvPr/>
        </p:nvSpPr>
        <p:spPr>
          <a:xfrm>
            <a:off x="8834400" y="3119400"/>
            <a:ext cx="42876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نعم</a:t>
            </a:r>
            <a:endParaRPr b="0" lang="en-US" sz="1200" spc="-1" strike="noStrike">
              <a:solidFill>
                <a:srgbClr val="000000"/>
              </a:solidFill>
              <a:latin typeface="Calibri"/>
            </a:endParaRPr>
          </a:p>
        </p:txBody>
      </p:sp>
      <p:sp>
        <p:nvSpPr>
          <p:cNvPr id="371" name="Text Box 5"/>
          <p:cNvSpPr/>
          <p:nvPr/>
        </p:nvSpPr>
        <p:spPr>
          <a:xfrm>
            <a:off x="8237520" y="4943520"/>
            <a:ext cx="57168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نعم</a:t>
            </a:r>
            <a:endParaRPr b="0" lang="en-US" sz="1200" spc="-1" strike="noStrike">
              <a:solidFill>
                <a:srgbClr val="000000"/>
              </a:solidFill>
              <a:latin typeface="Calibri"/>
            </a:endParaRPr>
          </a:p>
        </p:txBody>
      </p:sp>
      <p:sp>
        <p:nvSpPr>
          <p:cNvPr id="372" name="Line 4"/>
          <p:cNvSpPr/>
          <p:nvPr/>
        </p:nvSpPr>
        <p:spPr>
          <a:xfrm flipH="1" flipV="1">
            <a:off x="5928840" y="4597560"/>
            <a:ext cx="1019160" cy="252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373" name="Text Box 3"/>
          <p:cNvSpPr/>
          <p:nvPr/>
        </p:nvSpPr>
        <p:spPr>
          <a:xfrm>
            <a:off x="880920" y="4289400"/>
            <a:ext cx="503100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Arabic Transparent"/>
                <a:cs typeface="Arial"/>
              </a:rPr>
              <a:t>قم بعمل الملاحظات اللازمة ووثقها واقترح وسائل التصحيح وقدم تقريرك إلى الجهة المناسبة</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74" name="Text Box 2"/>
          <p:cNvSpPr/>
          <p:nvPr/>
        </p:nvSpPr>
        <p:spPr>
          <a:xfrm>
            <a:off x="6261120" y="4091040"/>
            <a:ext cx="342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PT Bold Heading"/>
              </a:rPr>
              <a:t>لا</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Line 1"/>
          <p:cNvSpPr/>
          <p:nvPr/>
        </p:nvSpPr>
        <p:spPr>
          <a:xfrm>
            <a:off x="9248760" y="650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6" name="Rectangle 26"/>
          <p:cNvSpPr/>
          <p:nvPr/>
        </p:nvSpPr>
        <p:spPr>
          <a:xfrm>
            <a:off x="774720" y="231840"/>
            <a:ext cx="9671040" cy="20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7" name="Rectangle 42"/>
          <p:cNvSpPr/>
          <p:nvPr/>
        </p:nvSpPr>
        <p:spPr>
          <a:xfrm>
            <a:off x="7615080" y="343800"/>
            <a:ext cx="1807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ff0000"/>
                </a:solidFill>
                <a:latin typeface="Calibri Light"/>
                <a:cs typeface="Times New Roman"/>
              </a:rPr>
              <a:t>الرقابة الداخلية </a:t>
            </a:r>
            <a:br>
              <a:rPr sz="4300"/>
            </a:br>
            <a:r>
              <a:rPr b="0" lang="ar-SA" sz="4300" spc="-1" strike="noStrike">
                <a:solidFill>
                  <a:srgbClr val="ff000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79" name=""/>
          <p:cNvSpPr txBox="1"/>
          <p:nvPr/>
        </p:nvSpPr>
        <p:spPr>
          <a:xfrm>
            <a:off x="1096920" y="1846440"/>
            <a:ext cx="10058400" cy="4022640"/>
          </a:xfrm>
          <a:prstGeom prst="rect">
            <a:avLst/>
          </a:prstGeom>
          <a:noFill/>
          <a:ln w="0">
            <a:noFill/>
          </a:ln>
        </p:spPr>
        <p:txBody>
          <a:bodyPr lIns="0" rIns="0" anchor="t">
            <a:normAutofit fontScale="99000"/>
          </a:bodyPr>
          <a:p>
            <a:pPr marL="89280" indent="-89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لقد أصبح الأن استخدام الحاسبات الآلية فى الوحدات الحكومية فى المملكة حقيقة ملموسة، وهذا الاستخدام آخذ فى الازدياد والتطور والتوسع. وقد أثر استخدام الحاسبات الآلية في معالجة البيانات المحاسبية في عمل المراجع من ناحيتين: </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الناحية الأولى: تطوير أساليب الرقابة الداخلية </a:t>
            </a:r>
            <a:r>
              <a:rPr b="0" lang="ar-SA" sz="2400" spc="-1" strike="noStrike">
                <a:solidFill>
                  <a:srgbClr val="404040"/>
                </a:solidFill>
                <a:latin typeface="Calibri"/>
                <a:cs typeface="Arial"/>
              </a:rPr>
              <a:t>، فقد ترتب على استخدام الحاسبات الآلية في معالجة البيانات المحاسبية ضرورة تطوير أساليب الرقابة الداخلية التي كانت قائمة في ظل نظام التشغيل اليدوي للبيانات </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الناحية الثانية: أساليب المراجعة التي يعتمد عليها المراجع </a:t>
            </a:r>
            <a:r>
              <a:rPr b="0" lang="ar-SA" sz="2400" spc="-1" strike="noStrike">
                <a:solidFill>
                  <a:srgbClr val="404040"/>
                </a:solidFill>
                <a:latin typeface="Calibri"/>
                <a:cs typeface="Arial"/>
              </a:rPr>
              <a:t>، الأساليب الفنية وإجراءات المراجعة التي كان يعتمد عليها المراجع لتجميع الأدلة والقرائن في ظل النظم التقليدية لتشغيل البيانات أصبحت غير مناسبة في ظل استخدام الحاسب الآلي في تشغيل البيانات المحاسب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1"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سوف نركز في هذا الجزء على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شاكل المرتبطة بنظم معالجة البيانات المحاسبية آلي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إجراءات الرقابة الداخلية في ظل التشغيل الآلي للبيانات المحاسب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ساليب المراجعة في ظل نظام التشغيل الالكتروني للبيانات المحاسب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3" name=""/>
          <p:cNvSpPr txBox="1"/>
          <p:nvPr/>
        </p:nvSpPr>
        <p:spPr>
          <a:xfrm>
            <a:off x="1096920" y="1846440"/>
            <a:ext cx="10058400" cy="4022640"/>
          </a:xfrm>
          <a:prstGeom prst="rect">
            <a:avLst/>
          </a:prstGeom>
          <a:noFill/>
          <a:ln w="0">
            <a:noFill/>
          </a:ln>
        </p:spPr>
        <p:txBody>
          <a:bodyPr lIns="0" rIns="0" anchor="t">
            <a:normAutofit fontScale="85000"/>
          </a:bodyPr>
          <a:p>
            <a:pPr marL="76680" indent="-76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ولا : المشاكل التي اثرت على عمل المراجع المرتبطة بنظم معالجة البيانات المحاسبية أليا :</a:t>
            </a:r>
            <a:endParaRPr b="0" lang="en-US" sz="2400" spc="-1" strike="noStrike">
              <a:solidFill>
                <a:srgbClr val="404040"/>
              </a:solidFill>
              <a:latin typeface="Calibri"/>
            </a:endParaRPr>
          </a:p>
          <a:p>
            <a:pPr marL="76680" indent="-76680" algn="r" rtl="1">
              <a:lnSpc>
                <a:spcPts val="1998"/>
              </a:lnSpc>
              <a:spcAft>
                <a:spcPts val="6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Times New Roman"/>
                <a:cs typeface="Arabic Transparent"/>
              </a:rPr>
              <a:t>أدى استخدام الحاسب الألي في تشغيل نظم المعلومات المحاسبية إلى ظهور العديد من المشاكل </a:t>
            </a:r>
            <a:endParaRPr b="0" lang="en-US" sz="2400" spc="-1" strike="noStrike">
              <a:solidFill>
                <a:srgbClr val="404040"/>
              </a:solidFill>
              <a:latin typeface="Calibri"/>
            </a:endParaRPr>
          </a:p>
          <a:p>
            <a:pPr marL="76680" indent="-76680" algn="r" rtl="1">
              <a:lnSpc>
                <a:spcPts val="1998"/>
              </a:lnSpc>
              <a:spcAft>
                <a:spcPts val="6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Times New Roman"/>
                <a:cs typeface="Arabic Transparent"/>
              </a:rPr>
              <a:t>التي اثرت على عمل المراجعين لم تكن موجودة في ظل النظام اليدوي التقليدي، منها: </a:t>
            </a:r>
            <a:endParaRPr b="0" lang="en-US" sz="2400" spc="-1" strike="noStrike">
              <a:solidFill>
                <a:srgbClr val="404040"/>
              </a:solidFill>
              <a:latin typeface="Calibri"/>
            </a:endParaRPr>
          </a:p>
          <a:p>
            <a:pPr marL="76680" indent="-766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توسع فى استخدام الحاسب الآلي فى تطبيقات محاسبية </a:t>
            </a:r>
            <a:endParaRPr b="0" lang="en-US" sz="2400" spc="-1" strike="noStrike">
              <a:solidFill>
                <a:srgbClr val="404040"/>
              </a:solidFill>
              <a:latin typeface="Calibri"/>
            </a:endParaRPr>
          </a:p>
          <a:p>
            <a:pPr marL="76680" indent="-766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عدم وجود مستندات للمدخلات</a:t>
            </a:r>
            <a:endParaRPr b="0" lang="en-US" sz="2400" spc="-1" strike="noStrike">
              <a:solidFill>
                <a:srgbClr val="404040"/>
              </a:solidFill>
              <a:latin typeface="Calibri"/>
            </a:endParaRPr>
          </a:p>
          <a:p>
            <a:pPr marL="76680" indent="-766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عدم وجود مسار مستندي للمراجعة</a:t>
            </a:r>
            <a:endParaRPr b="0" lang="en-US" sz="2400" spc="-1" strike="noStrike">
              <a:solidFill>
                <a:srgbClr val="404040"/>
              </a:solidFill>
              <a:latin typeface="Calibri"/>
            </a:endParaRPr>
          </a:p>
          <a:p>
            <a:pPr marL="76680" indent="-766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عدم وجود مخرجات مرئية </a:t>
            </a:r>
            <a:endParaRPr b="0" lang="en-US" sz="2400" spc="-1" strike="noStrike">
              <a:solidFill>
                <a:srgbClr val="404040"/>
              </a:solidFill>
              <a:latin typeface="Calibri"/>
            </a:endParaRPr>
          </a:p>
          <a:p>
            <a:pPr marL="76680" indent="-766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ضعف الحماية حول البيانات وبرامج الحاسب الآلى </a:t>
            </a:r>
            <a:endParaRPr b="0" lang="en-US" sz="2400" spc="-1" strike="noStrike">
              <a:solidFill>
                <a:srgbClr val="404040"/>
              </a:solidFill>
              <a:latin typeface="Calibri"/>
            </a:endParaRPr>
          </a:p>
          <a:p>
            <a:pPr marL="76680" indent="-7668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فيروسات الحاسب</a:t>
            </a:r>
            <a:endParaRPr b="0" lang="en-US" sz="2400" spc="-1" strike="noStrike">
              <a:solidFill>
                <a:srgbClr val="404040"/>
              </a:solidFill>
              <a:latin typeface="Calibri"/>
            </a:endParaRPr>
          </a:p>
          <a:p>
            <a:pPr marL="76680" indent="-76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نيا:  إجراءات الرقابة الداخلية في ظل نظم التشغيل الالكتروني للبيانات المحاسب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نقسم إجراءات الرقابة الداخلية فى بيئة الحاسب الآلي إلى ثلاث مجموعات رئيس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جموعة الاولى:الإجراءات الرقابية العا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المجموعة الثانية:الإجراءات الرقابية على التطبيق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جموعة الثالثة:الإجراءات الرقابية على نظم قاعدة البيان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مهام وحدة المراجعة الداخلية </a:t>
            </a:r>
            <a:endParaRPr b="0" lang="en-US" sz="4400" spc="-1" strike="noStrike">
              <a:solidFill>
                <a:srgbClr val="404040"/>
              </a:solidFill>
              <a:latin typeface="Calibri Light"/>
            </a:endParaRPr>
          </a:p>
        </p:txBody>
      </p:sp>
      <p:sp>
        <p:nvSpPr>
          <p:cNvPr id="30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بداية يجب أن نشير إلى أن المراجع الداخلي عند تنفيذ مهام المراجعة المذكورة يمكنه استخدام نوعين من أنواع المراجعة هم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a:t>
            </a:r>
            <a:r>
              <a:rPr b="0" lang="ar-SA" sz="2400" spc="-1" strike="noStrike">
                <a:solidFill>
                  <a:srgbClr val="404040"/>
                </a:solidFill>
                <a:latin typeface="Calibri"/>
                <a:ea typeface="Arial"/>
              </a:rPr>
              <a:t>1</a:t>
            </a:r>
            <a:r>
              <a:rPr b="0" lang="ar-SA" sz="2400" spc="-1" strike="noStrike">
                <a:solidFill>
                  <a:srgbClr val="404040"/>
                </a:solidFill>
                <a:latin typeface="Calibri"/>
                <a:ea typeface="Arial"/>
              </a:rPr>
              <a:t>) المراجعة المستمر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t>
            </a:r>
            <a:r>
              <a:rPr b="0" lang="en-US" sz="2400" spc="-1" strike="noStrike">
                <a:solidFill>
                  <a:srgbClr val="404040"/>
                </a:solidFill>
                <a:latin typeface="Calibri"/>
              </a:rPr>
              <a:t>2</a:t>
            </a:r>
            <a:r>
              <a:rPr b="0" lang="en-US" sz="2400" spc="-1" strike="noStrike">
                <a:solidFill>
                  <a:srgbClr val="404040"/>
                </a:solidFill>
                <a:latin typeface="Calibri"/>
              </a:rPr>
              <a:t>) </a:t>
            </a:r>
            <a:r>
              <a:rPr b="0" lang="ar-SA" sz="2400" spc="-1" strike="noStrike">
                <a:solidFill>
                  <a:srgbClr val="404040"/>
                </a:solidFill>
                <a:latin typeface="Calibri"/>
                <a:cs typeface="Arial"/>
              </a:rPr>
              <a:t>المراجعة الدور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كما أن المراجعة المستمرة يمكن تصنيفها إلى: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أ) المراجعة السابق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ب) المراجعة اللاحق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7" name=""/>
          <p:cNvSpPr txBox="1"/>
          <p:nvPr/>
        </p:nvSpPr>
        <p:spPr>
          <a:xfrm>
            <a:off x="1096920" y="1846440"/>
            <a:ext cx="10058400" cy="4022640"/>
          </a:xfrm>
          <a:prstGeom prst="rect">
            <a:avLst/>
          </a:prstGeom>
          <a:noFill/>
          <a:ln w="0">
            <a:noFill/>
          </a:ln>
        </p:spPr>
        <p:txBody>
          <a:bodyPr lIns="0" rIns="0" anchor="t">
            <a:normAutofit fontScale="96000"/>
          </a:bodyPr>
          <a:p>
            <a:pPr marL="86400" indent="-864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لمجموعة الاولى:الإجراءات الرقابية العامة </a:t>
            </a:r>
            <a:endParaRPr b="0" lang="en-US" sz="2000" spc="-1" strike="noStrike">
              <a:solidFill>
                <a:srgbClr val="404040"/>
              </a:solidFill>
              <a:latin typeface="Calibri"/>
            </a:endParaRPr>
          </a:p>
          <a:p>
            <a:pPr marL="86400" indent="-864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الإجراءات الرقابية العامة هي الإجراءات التي تتصل بجميع (أو معظم) التطبيقات المحاسبية التي تتم بواسطة الحاسب الآلي.  وتتعلق تلك الإجراءات بالرقابة على :</a:t>
            </a:r>
            <a:endParaRPr b="0" lang="en-US" sz="2000" spc="-1" strike="noStrike">
              <a:solidFill>
                <a:srgbClr val="404040"/>
              </a:solidFill>
              <a:latin typeface="Calibri"/>
            </a:endParaRPr>
          </a:p>
          <a:p>
            <a:pPr marL="86400" indent="-864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1</a:t>
            </a:r>
            <a:r>
              <a:rPr b="1" lang="ar-SA" sz="2000" spc="-1" strike="noStrike">
                <a:solidFill>
                  <a:srgbClr val="404040"/>
                </a:solidFill>
                <a:latin typeface="Calibri"/>
                <a:ea typeface="Arial"/>
              </a:rPr>
              <a:t>-  فصل الوظائف.</a:t>
            </a:r>
            <a:endParaRPr b="0" lang="en-US" sz="2000" spc="-1" strike="noStrike">
              <a:solidFill>
                <a:srgbClr val="404040"/>
              </a:solidFill>
              <a:latin typeface="Calibri"/>
            </a:endParaRPr>
          </a:p>
          <a:p>
            <a:pPr marL="86400" indent="-864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2</a:t>
            </a:r>
            <a:r>
              <a:rPr b="1" lang="ar-SA" sz="2000" spc="-1" strike="noStrike">
                <a:solidFill>
                  <a:srgbClr val="404040"/>
                </a:solidFill>
                <a:latin typeface="Calibri"/>
                <a:ea typeface="Arial"/>
              </a:rPr>
              <a:t>-  صلاحيات تفويض واختبار وتصديق عمليات تطوير , شراء , وتغيير البرامج قبل استخدامها فى معالجة البيانات.</a:t>
            </a:r>
            <a:endParaRPr b="0" lang="en-US" sz="2000" spc="-1" strike="noStrike">
              <a:solidFill>
                <a:srgbClr val="404040"/>
              </a:solidFill>
              <a:latin typeface="Calibri"/>
            </a:endParaRPr>
          </a:p>
          <a:p>
            <a:pPr marL="86400" indent="-864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000" spc="-1" strike="noStrike">
                <a:solidFill>
                  <a:srgbClr val="404040"/>
                </a:solidFill>
                <a:latin typeface="Calibri"/>
                <a:ea typeface="Arial"/>
              </a:rPr>
              <a:t>3</a:t>
            </a:r>
            <a:r>
              <a:rPr b="1" lang="ar-SA" sz="2000" spc="-1" strike="noStrike">
                <a:solidFill>
                  <a:srgbClr val="404040"/>
                </a:solidFill>
                <a:latin typeface="Calibri"/>
                <a:ea typeface="Arial"/>
              </a:rPr>
              <a:t>-  الوصول الى البرامج  وملفات البيانات والاجهزة.</a:t>
            </a:r>
            <a:endParaRPr b="0" lang="en-US" sz="2000" spc="-1" strike="noStrike">
              <a:solidFill>
                <a:srgbClr val="404040"/>
              </a:solidFill>
              <a:latin typeface="Calibri"/>
            </a:endParaRPr>
          </a:p>
          <a:p>
            <a:pPr marL="86400" indent="-864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000" spc="-1" strike="noStrike">
                <a:solidFill>
                  <a:srgbClr val="404040"/>
                </a:solidFill>
                <a:latin typeface="Calibri"/>
                <a:ea typeface="Arial"/>
              </a:rPr>
              <a:t>4</a:t>
            </a:r>
            <a:r>
              <a:rPr b="1" lang="ar-SA" sz="2000" spc="-1" strike="noStrike">
                <a:solidFill>
                  <a:srgbClr val="404040"/>
                </a:solidFill>
                <a:latin typeface="Calibri"/>
                <a:ea typeface="Arial"/>
              </a:rPr>
              <a:t>-  الإجراءات الرقابية العامة المبنية فى النظام نفسه.</a:t>
            </a:r>
            <a:endParaRPr b="0" lang="en-US" sz="2000" spc="-1" strike="noStrike">
              <a:solidFill>
                <a:srgbClr val="404040"/>
              </a:solidFill>
              <a:latin typeface="Calibri"/>
            </a:endParaRPr>
          </a:p>
          <a:p>
            <a:pPr marL="86400" indent="-864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000" spc="-1" strike="noStrike">
                <a:solidFill>
                  <a:srgbClr val="404040"/>
                </a:solidFill>
                <a:latin typeface="Calibri"/>
                <a:ea typeface="Arial"/>
              </a:rPr>
              <a:t>5</a:t>
            </a:r>
            <a:r>
              <a:rPr b="1" lang="ar-SA" sz="2000" spc="-1" strike="noStrike">
                <a:solidFill>
                  <a:srgbClr val="404040"/>
                </a:solidFill>
                <a:latin typeface="Calibri"/>
                <a:ea typeface="Arial"/>
              </a:rPr>
              <a:t>-  إجراءات رقابية عامة أخرى مثل استخدام نظام الاحتفاظ بملفات احتياطية لاسترجاع البيانات عند التلف ، وإجراءات المعالجة فى الحالات الطارئة ، وبطاقات التمييز </a:t>
            </a:r>
            <a:endParaRPr b="0" lang="en-US" sz="2000" spc="-1" strike="noStrike">
              <a:solidFill>
                <a:srgbClr val="404040"/>
              </a:solidFill>
              <a:latin typeface="Calibri"/>
            </a:endParaRPr>
          </a:p>
          <a:p>
            <a:pPr marL="86400" indent="-864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8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جموعة الثانية:الإجراءات الرقابية على التطبيق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تعلق هذا النوع من الإجراءات الرقابية باستخدام الحاسب الآلي للقيام بتطبيقات محاسبية محددة. ويمكن ان تكون هذه الإجراءات إجراءات يدوية أو إجراءات  الكترونية. وتقسم هذه الإجراءات إلى ثلاثة أنواع ه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1</a:t>
            </a:r>
            <a:r>
              <a:rPr b="1" lang="ar-SA" sz="2400" spc="-1" strike="noStrike">
                <a:solidFill>
                  <a:srgbClr val="404040"/>
                </a:solidFill>
                <a:latin typeface="Calibri"/>
                <a:ea typeface="Arial"/>
              </a:rPr>
              <a:t>- الإجراءات الرقابية على المدخل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2</a:t>
            </a:r>
            <a:r>
              <a:rPr b="1" lang="ar-SA" sz="2400" spc="-1" strike="noStrike">
                <a:solidFill>
                  <a:srgbClr val="404040"/>
                </a:solidFill>
                <a:latin typeface="Calibri"/>
                <a:ea typeface="Arial"/>
              </a:rPr>
              <a:t>- الإجراءات الرقابية على التشغيل (المعالجة الالكترون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3</a:t>
            </a:r>
            <a:r>
              <a:rPr b="1" lang="ar-SA" sz="2400" spc="-1" strike="noStrike">
                <a:solidFill>
                  <a:srgbClr val="404040"/>
                </a:solidFill>
                <a:latin typeface="Calibri"/>
                <a:ea typeface="Arial"/>
              </a:rPr>
              <a:t>- الإجراءات الرقابية على المخرج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1" name=""/>
          <p:cNvSpPr txBox="1"/>
          <p:nvPr/>
        </p:nvSpPr>
        <p:spPr>
          <a:xfrm>
            <a:off x="1096920" y="1846440"/>
            <a:ext cx="10058400" cy="4022640"/>
          </a:xfrm>
          <a:prstGeom prst="rect">
            <a:avLst/>
          </a:prstGeom>
          <a:noFill/>
          <a:ln w="0">
            <a:noFill/>
          </a:ln>
        </p:spPr>
        <p:txBody>
          <a:bodyPr lIns="0" rIns="0" anchor="t">
            <a:normAutofit fontScale="94000"/>
          </a:bodyPr>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لمجموعة الثالثة:الإجراءات الرقابية على نظم قاعدة البيانات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لا تختلف الأهداف الأساسية للاجراءات الرقابية فى نظام قاعدة المعلومات عنها فى النظم التى لا تستخدم قاعدة المعلومات. ولكن نظرا لأن البيانات فى نظام قاعدة المعلومات تكون مركزية ويتم اشتراك عدد كبير ومتنوع من المستخدمين فى هذه البيانات ; فان هناك بعض الاجراءات الرقابية الخاصة بنظم قاعدة البيانات. من تلك الاجراءات الرقابية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وجود اجراءات رقابية تحدد حرية الوصول الى قاعدة البيانات فقط عن طريق الاشخاص المصرح لهم.</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تنسيق أنشطة مستخدمى قاعدة البيانات والتحكم فيها بحيث تكون الرقابة على البيانات متناسبة مع أهمية تلك البيانات.</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يقتضي اشتراك عدد كبير من المستخدمين فى نفس ملفات البيانات ان تكون هناك رقابة محكمة على تلك الملفات لمنع التغيير أو الضياع.</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4</a:t>
            </a:r>
            <a:r>
              <a:rPr b="0" lang="ar-SA" sz="2000" spc="-1" strike="noStrike">
                <a:solidFill>
                  <a:srgbClr val="404040"/>
                </a:solidFill>
                <a:latin typeface="Calibri"/>
                <a:ea typeface="Arial"/>
              </a:rPr>
              <a:t>- اتخاذ الإجراءات الاحتياطية اللازمة للمحافظة على استمرار النظام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3"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هدف الأساسي الذي يسعى المراجع إلى تحقيقه من دراسة وتقويم نظام الرقابة الداخلية هو تحديد مدى الثقة في أن نظام الرقابة الداخلية المطبق يستطيع أن يمنع حدوث الاخطاء والغش أو يستطيع اكتشافهما عند حدوثهما وإجراء التصحيح اللازم.</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وعند تقويم نظام الرقابة الداخلية في المنشآت التي تستخدم نظم معالجة البيانات إلكترونياً يقوم المراجع بتطبيق الخطوات التا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أولاً: الدراسة المبدئية للنظام</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نيا: تقدير نتائج الدراسة المبدئ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لثا: إجراء اختبارات مدى تنفيذ النظام والالتزام به</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5" name=""/>
          <p:cNvSpPr txBox="1"/>
          <p:nvPr/>
        </p:nvSpPr>
        <p:spPr>
          <a:xfrm>
            <a:off x="1096920" y="1846440"/>
            <a:ext cx="10058400" cy="4022640"/>
          </a:xfrm>
          <a:prstGeom prst="rect">
            <a:avLst/>
          </a:prstGeom>
          <a:noFill/>
          <a:ln w="0">
            <a:noFill/>
          </a:ln>
        </p:spPr>
        <p:txBody>
          <a:bodyPr lIns="0" rIns="0" anchor="t">
            <a:normAutofit fontScale="94000"/>
          </a:bodyPr>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أولاً: الدراسة المبدئية للنظام</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قوم المراجع بدراسة مبدئية للنظام بهدف تفهمه وتحديد معالمه الرقابية. ويجب أن تشمل دراسة المراجع المبدئية لنظام الرقابة الداخلية جميع النشاطات اليدوية ، والمالية ، والإلكترونية الهامة والعلاقات المترابطة بين إدارة معالجة البيانات إلكترونياً والإدارات المستخدمة أو المستفيدة لمعرفة كيفية تدفق العمليات خلال النظام ، ومدى استخدام النظام الإلكتروني في كل تطبيق من التطبيقات المحاسبية الهامة ، والهيكل الأساسي للرقابة المحاسبية . وتشمل الدراسة المبدئية التي يقوم بها المراجع عادة الإجراءات الرقابية التي سبق الإشارة إليها . ويقوم المراجع بتجميع المعلومات الخاصة بدراسة النظام من خلال الاستفسارات من الموظفين ، وملاحظة توزيع الأعمال وإجراءات التشغيل ، والرجوع إلى الوثائق المكتوبة كما في حالة النظام اليدوي. ودراسة النظام تتم عادة باستخدام قائمة استقصاء خاصة عن نظام الرقابة الداخلية مصممة لأغراض الأنظمة الإلكترون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7"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ثانيا: تقدير نتائج الدراسة المبدئية </a:t>
            </a: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يستطيع المراجع أن يقرر من خلال تقييمه للمعلومات التي حصل عليها من الدراسة المبدئية ما إذا كان سيستمر في دراسته لنظام الرقابة الداخلية أو يتوقف عن ذلك.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إذا أشارت نتائج الدراسة المبدئية للنظام إلى أن هناك </a:t>
            </a:r>
            <a:r>
              <a:rPr b="1" lang="ar-SA" sz="2000" spc="-1" strike="noStrike">
                <a:solidFill>
                  <a:srgbClr val="404040"/>
                </a:solidFill>
                <a:latin typeface="Calibri"/>
                <a:cs typeface="Arial"/>
              </a:rPr>
              <a:t>ضعفاً</a:t>
            </a:r>
            <a:r>
              <a:rPr b="0" lang="ar-SA" sz="2000" spc="-1" strike="noStrike">
                <a:solidFill>
                  <a:srgbClr val="404040"/>
                </a:solidFill>
                <a:latin typeface="Calibri"/>
                <a:ea typeface="Arial"/>
              </a:rPr>
              <a:t> في إجراءات الرقابة المتعلقة بنظام معالجة البيانات إلكترونيا في هذه الحالة لا يجب الاستمرار في دراسة نظام الرقابة الداخلية ويجب على المراجع أن يعد تقريره بأن النظام الرقابي المصمم غير جيد ويجب تضمين تقريره توصيات ومقترحات لتحسينه.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أما إذا أشارت نتائج الدراسة المبدئية للنظام إلى أن النظام الرقابي مصمم بشكل</a:t>
            </a:r>
            <a:r>
              <a:rPr b="1" lang="ar-SA" sz="2000" spc="-1" strike="noStrike">
                <a:solidFill>
                  <a:srgbClr val="404040"/>
                </a:solidFill>
                <a:latin typeface="Calibri"/>
                <a:ea typeface="Arial"/>
              </a:rPr>
              <a:t> جيد </a:t>
            </a:r>
            <a:r>
              <a:rPr b="0" lang="ar-SA" sz="2000" spc="-1" strike="noStrike">
                <a:solidFill>
                  <a:srgbClr val="404040"/>
                </a:solidFill>
                <a:latin typeface="Calibri"/>
                <a:cs typeface="Arial"/>
              </a:rPr>
              <a:t>فيجب على المراجع الإنتقال إلى مرحلة التأكد من مدى الالتزام به عن طريق إجراء اختبارات مدى تنفيذ النظام والالتزام به.</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39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ثالثا: إجراء اختبارات مدى تنفيذ النظام والالتزام به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إذا قرر المراجع الاستمرار في دراسة النظام بناء على تقييمه لنتائج الدراسة المبدئية فإنه يقوم بإجراء اختبارات مدى تنفيذ النظام والالتزام به ليتأكد من أن الإجراءات الرقابية المصممة يتم تطبيقها فعلا وأنها تؤدي وظيفتها بطريقة مرض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شمل هذه المرحل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إختبار تنفيذ الإجراءات الرقابية العا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اختبارتنفيذ الإجراءات الرقابية على قاعدة البيان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إختبارتنفيذ إجراءات الرقابة التطبيق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1"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ختبارات تنفيذ الإجراءات الرقابية :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0" lang="ar-SA" sz="2000" spc="-1" strike="noStrike">
                <a:solidFill>
                  <a:srgbClr val="404040"/>
                </a:solidFill>
                <a:latin typeface="Calibri"/>
                <a:cs typeface="Arial"/>
              </a:rPr>
              <a:t>الغرض من اختبارات تنفيذ أنظمة الرقابة الداخلية هو إعطاء تأكيد معقول بأن الإجراءات الرقابية يتم تنفيذها كما هي موضوعة. وتتعلق اختبارات تنفيذ أنظمة الرقابة الداخلية أساساً بالأسئلة الآتي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أ - هل تم تنفيذ الإجراءات الرقابية الضروري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ب- كيف تم تنفيذها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جـ- من الذي قام بالتنفيذ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3" name=""/>
          <p:cNvSpPr txBox="1"/>
          <p:nvPr/>
        </p:nvSpPr>
        <p:spPr>
          <a:xfrm>
            <a:off x="873000" y="17366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لإجراءات الرقابية </a:t>
            </a:r>
            <a:r>
              <a:rPr b="1" lang="ar-SA" sz="2000" spc="-1" strike="noStrike" u="sng">
                <a:solidFill>
                  <a:srgbClr val="404040"/>
                </a:solidFill>
                <a:uFillTx/>
                <a:latin typeface="Calibri"/>
                <a:cs typeface="Arial"/>
              </a:rPr>
              <a:t>العامة</a:t>
            </a:r>
            <a:r>
              <a:rPr b="1" lang="ar-SA" sz="2000" spc="-1" strike="noStrike">
                <a:solidFill>
                  <a:srgbClr val="404040"/>
                </a:solidFill>
                <a:latin typeface="Calibri"/>
                <a:ea typeface="Arial"/>
              </a:rPr>
              <a:t> والإجراءات الرقابية على </a:t>
            </a:r>
            <a:r>
              <a:rPr b="1" lang="ar-SA" sz="2000" spc="-1" strike="noStrike" u="sng">
                <a:solidFill>
                  <a:srgbClr val="404040"/>
                </a:solidFill>
                <a:uFillTx/>
                <a:latin typeface="Calibri"/>
                <a:cs typeface="Arial"/>
              </a:rPr>
              <a:t>قاعدة البيانات </a:t>
            </a:r>
            <a:r>
              <a:rPr b="1" lang="ar-SA" sz="2000" spc="-1" strike="noStrike">
                <a:solidFill>
                  <a:srgbClr val="404040"/>
                </a:solidFill>
                <a:latin typeface="Calibri"/>
                <a:ea typeface="Arial"/>
              </a:rPr>
              <a:t>:</a:t>
            </a:r>
            <a:endParaRPr b="0" lang="en-US" sz="20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إن اختبارات المراجع لها تتم أساسا عن طريق الاستفسار والملاحظة وفحص الوثائق المختلفة</a:t>
            </a:r>
            <a:r>
              <a:rPr b="1" lang="ar-SA"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إجراءات الرقابة</a:t>
            </a:r>
            <a:r>
              <a:rPr b="1" lang="ar-SA" sz="2000" spc="-1" strike="noStrike" u="sng">
                <a:solidFill>
                  <a:srgbClr val="404040"/>
                </a:solidFill>
                <a:uFillTx/>
                <a:latin typeface="Calibri"/>
                <a:ea typeface="Arial"/>
              </a:rPr>
              <a:t> التطبيقية </a:t>
            </a:r>
            <a:r>
              <a:rPr b="1" lang="ar-SA" sz="2000" spc="-1" strike="noStrike">
                <a:solidFill>
                  <a:srgbClr val="404040"/>
                </a:solidFill>
                <a:latin typeface="Calibri"/>
                <a:ea typeface="Arial"/>
              </a:rPr>
              <a:t>:</a:t>
            </a:r>
            <a:endParaRPr b="0" lang="en-US" sz="2000" spc="-1" strike="noStrike">
              <a:solidFill>
                <a:srgbClr val="404040"/>
              </a:solidFill>
              <a:latin typeface="Calibri"/>
            </a:endParaRPr>
          </a:p>
          <a:p>
            <a:pPr marL="90360" indent="-9036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تركز على إختبار تنفيذ برامج الحاسب الآلي المستخدمة ، ذلك لأنها تشمل إجراءات الرقابة على مراحل البرنامج الثلاثة (المدخلات ، عمليات التشغيل ، المخرجات).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5"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ختبار تنفيذ إجراءات الرقابة التطبيقية (مراجعة برامج الحاسب الآلي):</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Times New Roman"/>
                <a:cs typeface="Arabic Transparent"/>
              </a:rPr>
              <a:t>تركز على التحقق من تنفيذ برنامج الحاسب الآلي الذي سبق اعتماده دون إجراء أي تعديلات غير مصرح بها عليه ، ولذلك يطلق عليها أحيانا مراجعة برامج الحاسب الآلي</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أ) مراجعة برامج الحاسب بدون الحاسب</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ب) مراجعة برامج الحاسب بالحاسب</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مهام وحدة المراجعة الداخلية </a:t>
            </a:r>
            <a:endParaRPr b="0" lang="en-US" sz="4400" spc="-1" strike="noStrike">
              <a:solidFill>
                <a:srgbClr val="404040"/>
              </a:solidFill>
              <a:latin typeface="Calibri Light"/>
            </a:endParaRPr>
          </a:p>
        </p:txBody>
      </p:sp>
      <p:sp>
        <p:nvSpPr>
          <p:cNvPr id="311"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المراجعة المستمرة السابقة </a:t>
            </a:r>
            <a:r>
              <a:rPr b="0" lang="ar-SA" sz="2400" spc="-1" strike="noStrike">
                <a:solidFill>
                  <a:srgbClr val="404040"/>
                </a:solidFill>
                <a:latin typeface="Calibri"/>
                <a:cs typeface="Arial"/>
              </a:rPr>
              <a:t>تستخدم</a:t>
            </a:r>
            <a:r>
              <a:rPr b="1" lang="ar-SA" sz="2400" spc="-1" strike="noStrike">
                <a:solidFill>
                  <a:srgbClr val="404040"/>
                </a:solidFill>
                <a:latin typeface="Calibri"/>
                <a:ea typeface="Arial"/>
              </a:rPr>
              <a:t> </a:t>
            </a:r>
            <a:r>
              <a:rPr b="0" lang="ar-SA" sz="2400" spc="-1" strike="noStrike">
                <a:solidFill>
                  <a:srgbClr val="404040"/>
                </a:solidFill>
                <a:latin typeface="Calibri"/>
                <a:cs typeface="Arial"/>
              </a:rPr>
              <a:t>عند الرغبة في التحقق من جميع العمليات بشكل مستقل قبل الانتهاء منها. ويتم القيام بهذا الشكل من المراجعة عند تنفيذ المراجعة الداخلية على مستوى إدارة أو قسم معين.</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المراجعة المستمرة اللاحقة </a:t>
            </a:r>
            <a:r>
              <a:rPr b="0" lang="ar-SA" sz="2400" spc="-1" strike="noStrike">
                <a:solidFill>
                  <a:srgbClr val="404040"/>
                </a:solidFill>
                <a:latin typeface="Calibri"/>
                <a:cs typeface="Arial"/>
              </a:rPr>
              <a:t>تختلف عن سابقتها من حيث توقيت القيام بها فقط إذ يقوم بها المراجع بعد الانتهاء من العملية المراد فحصه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مراجعة الدورية </a:t>
            </a:r>
            <a:r>
              <a:rPr b="0" lang="ar-SA" sz="2400" spc="-1" strike="noStrike">
                <a:solidFill>
                  <a:srgbClr val="404040"/>
                </a:solidFill>
                <a:latin typeface="Calibri"/>
                <a:cs typeface="Arial"/>
              </a:rPr>
              <a:t>يقوم بها المراجع الداخلي بشكل دوري لتحقيق الفحص الدوري للعمليات او أرصدة الحساب الختامي للوحد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7" name=""/>
          <p:cNvSpPr txBox="1"/>
          <p:nvPr/>
        </p:nvSpPr>
        <p:spPr>
          <a:xfrm>
            <a:off x="1096920" y="1846440"/>
            <a:ext cx="10058400" cy="4022640"/>
          </a:xfrm>
          <a:prstGeom prst="rect">
            <a:avLst/>
          </a:prstGeom>
          <a:noFill/>
          <a:ln w="0">
            <a:noFill/>
          </a:ln>
        </p:spPr>
        <p:txBody>
          <a:bodyPr lIns="0" rIns="0" anchor="t">
            <a:normAutofit fontScale="99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أ). </a:t>
            </a:r>
            <a:r>
              <a:rPr b="1" lang="ar-SA" sz="2400" spc="-1" strike="noStrike">
                <a:solidFill>
                  <a:srgbClr val="404040"/>
                </a:solidFill>
                <a:latin typeface="Calibri"/>
                <a:cs typeface="Arial"/>
              </a:rPr>
              <a:t>اختبار تنفيذ إجراءات الرقابة التطبيقية (مراجعة برامج الحاسب) بدون الحاسب</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في بعض نظم معالجة المعلومات إذا كان هناك مسار مستندي يمكن الاعتماد عليه في شكل مستند ونتائج مطبوعة بحيث يمكن متابعة العمليات من مصادرها الأصلية إلى نهايتها فيستطيع المراجع في هذه الحالة اختبار وجود وفعالية إجراءات الرقابة التطبيقية يدويا بدون استخدام الحاسب.</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تم ذلك بالحصول على المستندات الأصلية وتشغيلها يدويا ثم يقوم المراجع بمقارنة النتائج التي توصل إليها بمخرجات الحاسب المطبوعة ، ويطلق على هذا النوع من المراجعة في بعض الأحيان "</a:t>
            </a:r>
            <a:r>
              <a:rPr b="1" lang="ar-SA" sz="2400" spc="-1" strike="noStrike">
                <a:solidFill>
                  <a:srgbClr val="404040"/>
                </a:solidFill>
                <a:latin typeface="Calibri"/>
                <a:cs typeface="Arial"/>
              </a:rPr>
              <a:t>المراجعة حول الحاسب"</a:t>
            </a:r>
            <a:r>
              <a:rPr b="0" lang="ar-SA" sz="2400" spc="-1" strike="noStrike">
                <a:solidFill>
                  <a:srgbClr val="404040"/>
                </a:solidFill>
                <a:latin typeface="Calibri"/>
                <a:ea typeface="Arial"/>
              </a:rPr>
              <a:t> ولا تختلف أساليب المراجع في هذه الحالة عن الأساليب المتبعة في مراجعة الأنظمة المحاسبية اليدو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300" spc="-1" strike="noStrike" u="sng">
                <a:solidFill>
                  <a:srgbClr val="ff0000"/>
                </a:solidFill>
                <a:uFillTx/>
                <a:latin typeface="Calibri Light"/>
                <a:cs typeface="Times New Roman"/>
              </a:rPr>
              <a:t>تقويم</a:t>
            </a:r>
            <a:r>
              <a:rPr b="0" lang="ar-SA" sz="4300" spc="-1" strike="noStrike">
                <a:solidFill>
                  <a:srgbClr val="ff0000"/>
                </a:solidFill>
                <a:latin typeface="Calibri Light"/>
                <a:ea typeface="Times New Roman"/>
              </a:rPr>
              <a:t> </a:t>
            </a:r>
            <a:r>
              <a:rPr b="0" lang="ar-SA" sz="4300" spc="-1" strike="noStrike">
                <a:solidFill>
                  <a:srgbClr val="404040"/>
                </a:solidFill>
                <a:latin typeface="Calibri Light"/>
                <a:cs typeface="Times New Roman"/>
              </a:rPr>
              <a:t>نظم 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09" name=""/>
          <p:cNvSpPr txBox="1"/>
          <p:nvPr/>
        </p:nvSpPr>
        <p:spPr>
          <a:xfrm>
            <a:off x="1096920" y="1846440"/>
            <a:ext cx="10058400" cy="4022640"/>
          </a:xfrm>
          <a:prstGeom prst="rect">
            <a:avLst/>
          </a:prstGeom>
          <a:noFill/>
          <a:ln w="0">
            <a:noFill/>
          </a:ln>
        </p:spPr>
        <p:txBody>
          <a:bodyPr lIns="0" rIns="0" anchor="t">
            <a:normAutofit fontScale="86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ب). اختبار إجراءات الرقابة التطبيقية (مراجعة برامج الحاسب) بالحاسب</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في حالة نظم معالجة البيانات إلكترونياً التي لا يصاحبها وجود مستندات، او إذا كان حجم العمليات المراد اختبارها ضخما ، فأننا نستخدم المراجعة بالحاسب.</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ساليب المراجعة التي يمكن للمراجع استخدامها عند استخدام الحاسب في اختبار إجراءات الرقابة التطبيقية :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1</a:t>
            </a:r>
            <a:r>
              <a:rPr b="1" lang="ar-SA" sz="2400" spc="-1" strike="noStrike">
                <a:solidFill>
                  <a:srgbClr val="404040"/>
                </a:solidFill>
                <a:latin typeface="Calibri"/>
                <a:ea typeface="Arial"/>
              </a:rPr>
              <a:t>.اسلوب البيانات الاختبارية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2</a:t>
            </a:r>
            <a:r>
              <a:rPr b="1" lang="ar-SA" sz="2400" spc="-1" strike="noStrike">
                <a:solidFill>
                  <a:srgbClr val="404040"/>
                </a:solidFill>
                <a:latin typeface="Calibri"/>
                <a:ea typeface="Arial"/>
              </a:rPr>
              <a:t>.البرامج الخاضعة لرقابة المراجع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3</a:t>
            </a:r>
            <a:r>
              <a:rPr b="1" lang="ar-SA" sz="2400" spc="-1" strike="noStrike">
                <a:solidFill>
                  <a:srgbClr val="404040"/>
                </a:solidFill>
                <a:latin typeface="Calibri"/>
                <a:ea typeface="Arial"/>
              </a:rPr>
              <a:t>.اسلوب المحاكاة المتوازية كأحد تطبيقات برامج المراجعة العام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4</a:t>
            </a:r>
            <a:r>
              <a:rPr b="1" lang="ar-SA" sz="2400" spc="-1" strike="noStrike">
                <a:solidFill>
                  <a:srgbClr val="404040"/>
                </a:solidFill>
                <a:latin typeface="Calibri"/>
                <a:ea typeface="Arial"/>
              </a:rPr>
              <a:t>.أسلوب فحص تعليمات البرامج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5</a:t>
            </a:r>
            <a:r>
              <a:rPr b="1" lang="ar-SA" sz="2400" spc="-1" strike="noStrike">
                <a:solidFill>
                  <a:srgbClr val="404040"/>
                </a:solidFill>
                <a:latin typeface="Calibri"/>
                <a:ea typeface="Arial"/>
              </a:rPr>
              <a:t>.أسلوب تحقيق خريطة التدفق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11"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سلوب البيانات الاختبارية : </a:t>
            </a:r>
            <a:r>
              <a:rPr b="0" lang="ar-SA" sz="2400" spc="-1" strike="noStrike">
                <a:solidFill>
                  <a:srgbClr val="404040"/>
                </a:solidFill>
                <a:latin typeface="Calibri"/>
                <a:cs typeface="Arial"/>
              </a:rPr>
              <a:t>عند استخدام هذا الأسلوب يقوم المراجع بتحضير عمليات وهمية (مشابهة للعمليات التي تقوم الأقسام الأخرى بتشغيلها عادة) ثم يتم تشغيل هذه العمليات تحت رقابة المراجع بواسطة البرنامج الذي تطبقه الأقسام الأخرى ، وبعد الحصول على نتائج العمليات التي تم تشغيلها تقارن هذه النتائج بالنتائج التي تم تحديدها مقدما لمعرفة ما إذا كانت البيانات الاختبارية قد تم تشغيلها بطريقة صحيح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يعيب</a:t>
            </a:r>
            <a:r>
              <a:rPr b="0" lang="ar-SA" sz="2400" spc="-1" strike="noStrike">
                <a:solidFill>
                  <a:srgbClr val="404040"/>
                </a:solidFill>
                <a:latin typeface="Calibri"/>
                <a:ea typeface="Arial"/>
              </a:rPr>
              <a:t> اسلوب البيانات الاختبارية انه يختبر البرنامج المطبق في نقطة معينة من الزمن وليس خلال مدة المراجعة بأكملها ، كما أن هذا الاسلوب لا يعطي المراجع أي معلومات عن العمليات التي يتم تشغيلها فعلا فهو مجرد اختبار لوجود وتنفيذ الإجراءات الرقابية التي يتضمنها البرنامج محل الاختبار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13" name=""/>
          <p:cNvSpPr txBox="1"/>
          <p:nvPr/>
        </p:nvSpPr>
        <p:spPr>
          <a:xfrm>
            <a:off x="1096920" y="1736640"/>
            <a:ext cx="10058400" cy="4022640"/>
          </a:xfrm>
          <a:prstGeom prst="rect">
            <a:avLst/>
          </a:prstGeom>
          <a:noFill/>
          <a:ln w="0">
            <a:noFill/>
          </a:ln>
        </p:spPr>
        <p:txBody>
          <a:bodyPr lIns="0" rIns="0" anchor="t">
            <a:normAutofit fontScale="93000"/>
          </a:bodyPr>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a:t>
            </a:r>
            <a:r>
              <a:rPr b="1" lang="ar-SA" sz="2400" spc="-1" strike="noStrike">
                <a:solidFill>
                  <a:srgbClr val="404040"/>
                </a:solidFill>
                <a:latin typeface="Calibri"/>
                <a:cs typeface="Arial"/>
              </a:rPr>
              <a:t>البرامج الخاضعة لرقابة المراجع</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a:t>
            </a:r>
            <a:r>
              <a:rPr b="0" lang="ar-SA" sz="2400" spc="-1" strike="noStrike">
                <a:solidFill>
                  <a:srgbClr val="404040"/>
                </a:solidFill>
                <a:latin typeface="Calibri"/>
                <a:cs typeface="Arial"/>
              </a:rPr>
              <a:t>تستخدم هذه الطريقة كبديل أو كمكمل لمدخل البيانات الاختبارية ، وفي هذه الطريقة يقوم المراجع تحت ظروف خاضعة لرقابته بإعادة تشغيل عينات من البيانات الفعلية الخاصة بالفترة محل الفحص. ولكي يقوم المراجع بعملية إعادة تشغيل البيانات فإما أن يستخدم أحد البرامج المطبقة التي سبق اختبارها أو يستخدم نسخة من برنامج يكون خاضعا لرقابته. وبعد إكمال عملية إعادة التشغيل تتم مقارنة نتائج العينة مع البيانات الأصلية المقيدة في سجلات العميل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هذه الطريقة </a:t>
            </a:r>
            <a:r>
              <a:rPr b="1" lang="ar-SA" sz="2400" spc="-1" strike="noStrike">
                <a:solidFill>
                  <a:srgbClr val="404040"/>
                </a:solidFill>
                <a:latin typeface="Calibri"/>
                <a:cs typeface="Arial"/>
              </a:rPr>
              <a:t>تتميز</a:t>
            </a:r>
            <a:r>
              <a:rPr b="0" lang="ar-SA" sz="2400" spc="-1" strike="noStrike">
                <a:solidFill>
                  <a:srgbClr val="404040"/>
                </a:solidFill>
                <a:latin typeface="Calibri"/>
                <a:ea typeface="Arial"/>
              </a:rPr>
              <a:t> عن اسلوب البيانات الاختبارية في أنها لا تمكن المراجع من الحكم على برنامج العميل فقط وإنما تمكنه أيضا من الحكم على صحة بعض العمليات محل المراجعة ، ومن مزايا هذه الطريقة أيضا أنه يمكن استخدامها على كمبيوتر خارجي دون استخدام الكمبيوتر الخاص بالأقسام التي تتم المراجعة عليها أو الاستعانة بموظفيها.</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1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ea typeface="Arial"/>
              </a:rPr>
              <a:t> أسلوب المحاكاة المتوازية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200" spc="-1" strike="noStrike">
                <a:solidFill>
                  <a:srgbClr val="404040"/>
                </a:solidFill>
                <a:latin typeface="Calibri"/>
                <a:cs typeface="Arial"/>
              </a:rPr>
              <a:t>المحاكاة المتوازية" هو أن البرنامج مصمم لإعادة إنتاج (أو محاكاة) البيانات الحقيقية للأقسام الأخرى التي تم تشغيلها.</a:t>
            </a:r>
            <a:endParaRPr b="0" lang="en-US" sz="22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 ويمكن إجراء المحاكاة المتوازية في أوقات مختلفة خلال السنة المالية محل المراجعة ويمكن أيضا استخدامها في إعادة تشغيل بيانات تاريخية . وهذا المدخل لا يؤدي إلى تلوث ملفات العميل ويمكن إجراؤه في مركز كمبيوتر خارجي مستقل</a:t>
            </a:r>
            <a:endParaRPr b="0" lang="en-US" sz="22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17"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أسلوب فحص تعليمات البرامج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فقاً لهذا الأسلوب يتم فحص وتعديل التعليمات التي يتضمنها البرنامج الخاص بمعالجة عملية معينة للتحقق من أن هذه التعليمات تؤدي إلى المعالجة المطلوبة. ومع إجراء عملية الفحص بشكل مفاجئ وبصفة متكررة وإجراء المقارنات – في حالة وجود تعديلات – بين البرنامج قبل وبعد التعديل يمكن التعرف على أي تعديلات تكون قد تمت على البرنامج  وإذا كانت هذه التعديلات مصرح بها أم لا. ولا شك أن هذا الأسلوب يتطلب توافر درجة كافية من الخبرة لدى المراجع  بكيفية إعداد البرامج وكيفية صياغتها , كما أنه يستغرق وقت أطول من أي أسلوب آخر سبق عرضه ولاسيما في ظل النظم المعقدة لمعالجة البيانات حيث يكون من الصعب فحص كل سطر في مختلف البرامج المكتوب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096920" y="287280"/>
            <a:ext cx="10058400" cy="1449360"/>
          </a:xfrm>
          <a:prstGeom prst="rect">
            <a:avLst/>
          </a:prstGeom>
          <a:noFill/>
          <a:ln w="0">
            <a:noFill/>
          </a:ln>
        </p:spPr>
        <p:txBody>
          <a:bodyPr anchor="t">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cs typeface="Times New Roman"/>
              </a:rPr>
              <a:t>الرقابة الداخلية </a:t>
            </a:r>
            <a:br>
              <a:rPr sz="4300"/>
            </a:br>
            <a:r>
              <a:rPr b="0" lang="ar-SA" sz="4300" spc="-1" strike="noStrike">
                <a:solidFill>
                  <a:srgbClr val="404040"/>
                </a:solidFill>
                <a:latin typeface="Calibri Light"/>
                <a:cs typeface="Times New Roman"/>
              </a:rPr>
              <a:t>في ظل التشغيل الآلي للبيانات المحاسبية</a:t>
            </a:r>
            <a:br>
              <a:rPr sz="4300"/>
            </a:br>
            <a:endParaRPr b="0" lang="en-US" sz="4300" spc="-1" strike="noStrike">
              <a:solidFill>
                <a:srgbClr val="404040"/>
              </a:solidFill>
              <a:latin typeface="Calibri Light"/>
            </a:endParaRPr>
          </a:p>
        </p:txBody>
      </p:sp>
      <p:sp>
        <p:nvSpPr>
          <p:cNvPr id="41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 أسلوب تحقيق خريطة التدفق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بعاً لهذا الأسلوب يتم فحص خريطة التدفق والتي تعكس منطق المعالجة الخاصة بتطبيق معين بدلاً من فحص كل سطر من سطور البرنامج المكتوب , ومن ثم فإن هذا الأسلوب يعتبر تطويراً لأسلوب فحص تعليمات البرنامج. ويتم إعداد خرائط التدفق إما يدوياً وهذا هو الأسلوب الأكثر انتشاراً أو  باستخدام الحاسب في إعداد خرائط تدفق آلية مقابلة للبرنامج الموضوع.</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ويمكن للمراجع أن يعد يدوياً خريطة تدفق تحتوي على التفاصيل اللازمة إلى المدى الذي يمكنه من متابعة كل سطر في البرنامج الذي يؤدي في النهاية إلى أسلوب فحص تعليمات البرنامج. ويتطلب ذلك معرفة من المراجع في إعداد البرامج وخرائط التدفق.</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مهام وحدة المراجعة الداخلية </a:t>
            </a:r>
            <a:endParaRPr b="0" lang="en-US" sz="4400" spc="-1" strike="noStrike">
              <a:solidFill>
                <a:srgbClr val="404040"/>
              </a:solidFill>
              <a:latin typeface="Calibri Light"/>
            </a:endParaRPr>
          </a:p>
        </p:txBody>
      </p:sp>
      <p:sp>
        <p:nvSpPr>
          <p:cNvPr id="313"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ستخدام نوع معين من أنواع المراجعة يعتمد على الوضع التنظيمي للمراجعة الداخلية والأهداف المنوطة به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فالمراجعة الداخلية لا تعمل في شكل "قوالب جاهزة" بل ينبغي أن تكون من نوع "التفصيل بحسب الحاجة" لكل عملية حتى تكون فعالة وقادرة على خدمة أهداف الإدار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96920" y="244440"/>
            <a:ext cx="10058400" cy="20606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04040"/>
                </a:solidFill>
                <a:latin typeface="Calibri Light"/>
                <a:cs typeface="Times New Roman"/>
              </a:rPr>
              <a:t>أولا: مراجعة النظم</a:t>
            </a:r>
            <a:br>
              <a:rPr sz="4000"/>
            </a:br>
            <a:r>
              <a:rPr b="0" lang="ar-SA" sz="3600" spc="-1" strike="noStrike">
                <a:solidFill>
                  <a:srgbClr val="404040"/>
                </a:solidFill>
                <a:latin typeface="Calibri Light"/>
                <a:ea typeface="Times New Roman"/>
              </a:rPr>
              <a:t> نظم الرقابة الداخلية</a:t>
            </a:r>
            <a:br>
              <a:rPr sz="3600"/>
            </a:br>
            <a:r>
              <a:rPr b="0" lang="ar-SA" sz="3600" spc="-1" strike="noStrike">
                <a:solidFill>
                  <a:srgbClr val="404040"/>
                </a:solidFill>
                <a:latin typeface="Calibri Light"/>
                <a:cs typeface="Times New Roman"/>
              </a:rPr>
              <a:t>دراسة وتقويم نظام الرقابة الداخلية</a:t>
            </a:r>
            <a:br>
              <a:rPr sz="4000"/>
            </a:br>
            <a:endParaRPr b="0" lang="en-US" sz="3600" spc="-1" strike="noStrike">
              <a:solidFill>
                <a:srgbClr val="404040"/>
              </a:solidFill>
              <a:latin typeface="Calibri Light"/>
            </a:endParaRPr>
          </a:p>
        </p:txBody>
      </p:sp>
      <p:sp>
        <p:nvSpPr>
          <p:cNvPr id="315"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مراجعة نظم  </a:t>
            </a:r>
            <a:r>
              <a:rPr b="0" lang="en-US" sz="2400" spc="-1" strike="noStrike">
                <a:solidFill>
                  <a:srgbClr val="404040"/>
                </a:solidFill>
                <a:latin typeface="Calibri"/>
              </a:rPr>
              <a:t>Systems Audit</a:t>
            </a:r>
            <a:r>
              <a:rPr b="0" lang="en-US" sz="2400" spc="-1" strike="noStrike">
                <a:solidFill>
                  <a:srgbClr val="404040"/>
                </a:solidFill>
                <a:latin typeface="Calibri"/>
              </a:rPr>
              <a:t>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مهمة الأولى لنشاط المراجعة الداخلية هي تقويم النظم وعلى رأسها نظام الرقابة الداخل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هو نشاط يقوم به المراجع الداخلي حتى يتأكد من كفاية وفعالية النظم المتبناه بغرضتوفير الحماية الكافية للاصول والسجلات،والعمل على اكتشاف ومنع الاخطاء والخالفات وضمان دقة ا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لكي يستطيع المراجع تقويم نظم الرقابة الداخلية يجب أن يكون لديه إلمام كافي بالمتطلبات المهنية التي يجب توافرها في نظم الرقابة الداخلية لكي تكون فعال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96920" y="244440"/>
            <a:ext cx="10058400" cy="20606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أولا: مراجعة النظم</a:t>
            </a:r>
            <a:br>
              <a:rPr sz="4400"/>
            </a:br>
            <a:endParaRPr b="0" lang="en-US" sz="4400" spc="-1" strike="noStrike">
              <a:solidFill>
                <a:srgbClr val="404040"/>
              </a:solidFill>
              <a:latin typeface="Calibri Light"/>
            </a:endParaRPr>
          </a:p>
        </p:txBody>
      </p:sp>
      <p:sp>
        <p:nvSpPr>
          <p:cNvPr id="317"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في هذا الجزء سنعرض نظم الرقابة الداخلية كما حددتهاالمعايير المهنية ،والاجراءات التي يمكن للمراجع الداخلي تنفيذها حتى يستطيع ابداء رأيه المهني عن مدى فعالية النظام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م تقسيم هذا الجزء إلى أربعة أقسام رئيسية على النحو التالي:</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1</a:t>
            </a:r>
            <a:r>
              <a:rPr b="0" lang="ar-SA" sz="2400" spc="-1" strike="noStrike">
                <a:solidFill>
                  <a:srgbClr val="ff0000"/>
                </a:solidFill>
                <a:latin typeface="Calibri"/>
                <a:ea typeface="Arial"/>
              </a:rPr>
              <a:t>. الرقابة الداخلية في ظل التشغيل اليدوي ل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2</a:t>
            </a:r>
            <a:r>
              <a:rPr b="0" lang="ar-SA" sz="2400" spc="-1" strike="noStrike">
                <a:solidFill>
                  <a:srgbClr val="ff0000"/>
                </a:solidFill>
                <a:latin typeface="Calibri"/>
                <a:ea typeface="Arial"/>
              </a:rPr>
              <a:t>. </a:t>
            </a:r>
            <a:r>
              <a:rPr b="1" lang="ar-SA" sz="2400" spc="-1" strike="noStrike" u="sng">
                <a:solidFill>
                  <a:srgbClr val="ff0000"/>
                </a:solidFill>
                <a:uFillTx/>
                <a:latin typeface="Calibri"/>
                <a:cs typeface="Arial"/>
              </a:rPr>
              <a:t>تقويم</a:t>
            </a:r>
            <a:r>
              <a:rPr b="0" lang="ar-SA" sz="2400" spc="-1" strike="noStrike">
                <a:solidFill>
                  <a:srgbClr val="ff0000"/>
                </a:solidFill>
                <a:latin typeface="Calibri"/>
                <a:ea typeface="Arial"/>
              </a:rPr>
              <a:t> الرقابة الداخلية في ظل التشغيل اليدوي ل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3</a:t>
            </a:r>
            <a:r>
              <a:rPr b="0" lang="ar-SA" sz="2400" spc="-1" strike="noStrike">
                <a:solidFill>
                  <a:srgbClr val="ff0000"/>
                </a:solidFill>
                <a:latin typeface="Calibri"/>
                <a:ea typeface="Arial"/>
              </a:rPr>
              <a:t>. الرقابة الداخلية في ظل التشغيل الآلي ل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4</a:t>
            </a:r>
            <a:r>
              <a:rPr b="0" lang="ar-SA" sz="2400" spc="-1" strike="noStrike">
                <a:solidFill>
                  <a:srgbClr val="ff0000"/>
                </a:solidFill>
                <a:latin typeface="Calibri"/>
                <a:ea typeface="Arial"/>
              </a:rPr>
              <a:t>. </a:t>
            </a:r>
            <a:r>
              <a:rPr b="1" lang="ar-SA" sz="2400" spc="-1" strike="noStrike" u="sng">
                <a:solidFill>
                  <a:srgbClr val="ff0000"/>
                </a:solidFill>
                <a:uFillTx/>
                <a:latin typeface="Calibri"/>
                <a:cs typeface="Arial"/>
              </a:rPr>
              <a:t>تقويم</a:t>
            </a:r>
            <a:r>
              <a:rPr b="0" lang="ar-SA" sz="2400" spc="-1" strike="noStrike">
                <a:solidFill>
                  <a:srgbClr val="ff0000"/>
                </a:solidFill>
                <a:latin typeface="Calibri"/>
                <a:ea typeface="Arial"/>
              </a:rPr>
              <a:t> الرقابة الداخلية في ظل التشغيل الآلي للبيانات المحاسب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19"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حتى يمكن تكوين فكرة كاملة عن نظم الرقابة الداخلية سوف نعرض النقاط التالية: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1</a:t>
            </a:r>
            <a:r>
              <a:rPr b="1" lang="ar-SA" sz="2400" spc="-1" strike="noStrike">
                <a:solidFill>
                  <a:srgbClr val="404040"/>
                </a:solidFill>
                <a:latin typeface="Calibri"/>
                <a:ea typeface="Arial"/>
              </a:rPr>
              <a:t>. مفهوم الرقابة الداخلية وأهدافها.</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2</a:t>
            </a:r>
            <a:r>
              <a:rPr b="1" lang="ar-SA" sz="2400" spc="-1" strike="noStrike">
                <a:solidFill>
                  <a:srgbClr val="404040"/>
                </a:solidFill>
                <a:latin typeface="Calibri"/>
                <a:ea typeface="Arial"/>
              </a:rPr>
              <a:t>. مكونات نظام الرقابة الداخل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3</a:t>
            </a:r>
            <a:r>
              <a:rPr b="1" lang="ar-SA" sz="2400" spc="-1" strike="noStrike">
                <a:solidFill>
                  <a:srgbClr val="404040"/>
                </a:solidFill>
                <a:latin typeface="Calibri"/>
                <a:ea typeface="Arial"/>
              </a:rPr>
              <a:t>. حدود نظام الرقابة الداخلية. </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96920" y="244080"/>
            <a:ext cx="10058400" cy="14432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04040"/>
                </a:solidFill>
                <a:latin typeface="Calibri Light"/>
                <a:cs typeface="Times New Roman"/>
              </a:rPr>
              <a:t>الرقابة الداخلية في ظل التشغيل اليدوي للبيانات المحاسبية</a:t>
            </a:r>
            <a:endParaRPr b="0" lang="en-US" sz="4400" spc="-1" strike="noStrike">
              <a:solidFill>
                <a:srgbClr val="404040"/>
              </a:solidFill>
              <a:latin typeface="Calibri Light"/>
            </a:endParaRPr>
          </a:p>
        </p:txBody>
      </p:sp>
      <p:sp>
        <p:nvSpPr>
          <p:cNvPr id="321" name=""/>
          <p:cNvSpPr txBox="1"/>
          <p:nvPr/>
        </p:nvSpPr>
        <p:spPr>
          <a:xfrm>
            <a:off x="1096920" y="1846440"/>
            <a:ext cx="10058400" cy="4022640"/>
          </a:xfrm>
          <a:prstGeom prst="rect">
            <a:avLst/>
          </a:prstGeom>
          <a:noFill/>
          <a:ln w="0">
            <a:noFill/>
          </a:ln>
        </p:spPr>
        <p:txBody>
          <a:bodyPr lIns="0" rIns="0" anchor="t">
            <a:normAutofit/>
          </a:bodyPr>
          <a:p>
            <a:pPr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ea typeface="Arial"/>
              </a:rPr>
              <a:t>1</a:t>
            </a:r>
            <a:r>
              <a:rPr b="1" lang="ar-SA" sz="2400" spc="-1" strike="noStrike">
                <a:solidFill>
                  <a:srgbClr val="404040"/>
                </a:solidFill>
                <a:latin typeface="Calibri"/>
                <a:ea typeface="Arial"/>
              </a:rPr>
              <a:t>. مفهوم الرقابة الداخلية وأهدافها:</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هي الطرق أو الأساليب التي تتبناها إدارة المنشأة بما في ذلك مجلس إدارتها ومديروها وموظفوها لتوفر تأكيدا معقولا بتحقيق أهداف المنشأة التال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حماية أصول المنشأة ، والحد من وقوع الغش والأخطاء واكتشافها فور وقوعها ودقة السجلات المحاسبية واكتمالها.</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فاعلية وكفاءة الأحداث والعمليات أو الظروف التي تتأثر بها المنشأة بما في ذلك استخدام الموارد بكفاءة وبشكل ملائم وزيادة الإنتاجي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لتقيد بالأنظمة والتعليمات والسياسات التي تتبناها الإدارة لتحقيق أهداف المنشأة بكفاءة وبطريقة منتظمة.</a:t>
            </a:r>
            <a:endParaRPr b="0" lang="en-US" sz="24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3:57:18Z</dcterms:created>
  <dc:creator>hana</dc:creator>
  <dc:description/>
  <dc:language>en-US</dc:language>
  <cp:lastModifiedBy>Hana Ageel Alageel</cp:lastModifiedBy>
  <dcterms:modified xsi:type="dcterms:W3CDTF">2016-12-07T05:30:31Z</dcterms:modified>
  <cp:revision>67</cp:revision>
  <dc:subject/>
  <dc:title>تنفيذ مهام المراجعة الداخلية</dc:title>
</cp:coreProperties>
</file>