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6415A-B202-458F-B55F-EA6E53D6A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5515-1EF6-44B8-982B-E9562392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C144C-7E1B-4BFA-8411-3B59E265D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787B2-3A1B-49D0-99B7-20846C399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7EC2C-D2AE-489C-B480-B9360F21F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6ED9B-94EC-43BA-BDC6-D4683A825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FFA55-11E3-41A7-A8A4-8C018C107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1938B-44B6-4C74-90DA-943DF3871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F6DFA-F414-4909-8C4A-469C067D6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42AD9-1948-4806-B70A-1533A48FB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2CCFC-3A53-43C3-90A4-FA23946F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C46B7-15EB-4CF4-B149-4B23F83F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B9EE-32F7-425D-AA1E-3400E7772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4CF7-8D7C-4AA6-8B05-D6D4B360E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28A70-D112-4DB4-A124-B8D254145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011D3-DC09-477F-894D-6E4A67063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B7666-556A-40A5-895A-4B444B27A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86FCF5-78ED-45CA-BF23-9023E2BAA7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9B066-2CDB-444A-BE22-DD02317EC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FCF54-401A-4D92-A8B3-7616D2045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867DA-FA3E-44E1-BB62-AEDFD42BA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B09CC-214B-44BD-B4DE-36CBB5F41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0EAE-C899-4AC7-BE67-028A73D55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B6684-6068-48E0-966B-81956A0B4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2420B-D733-43D1-B81E-5D8FC8855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04F28-2D24-4227-A5C0-0D0053F94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1193A-07E3-4230-A22A-CCD0DD29A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3D861-6534-47D1-83B9-4A2C2E173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A162F-52E2-4EC7-9A07-CD63432204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699AB-C695-4E61-93BE-B59B491CC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FC765-A9CD-4A05-93A1-83B296324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7CF98-998B-4415-883D-B6F9D5471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9130A-569F-4660-A326-1EA369BA2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3200-43A6-48CB-ACBC-DFB474FF7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CECF4-C074-412B-B502-0BB23FC5D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3C46B-E4C9-44F3-9DD4-6D908D61E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05369-3923-46C2-ABA4-5AB5A32396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B6312-EE3E-437B-8EE6-3FA79150A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01849-2C14-4457-9528-DB59B3A34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9BE51-2ACC-4778-9BC3-216206E6BC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D0AB2-9D0C-4943-A20E-F3516A7E3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EEACD-E1D3-419E-9E69-54E0FF09F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D04040-07B3-4F83-91AE-D7E814AB8F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DF0B-C79D-4737-9AEE-061E9D67C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9FA3-7E70-4C42-BF5A-80F77723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846F1-0EFF-4DF9-AE49-6D782592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703B-0815-4211-981C-ECD197C99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AD80-162B-4E36-8F4F-B20972E1B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9003E-CCFB-4605-995B-5F7ED0F800CB}"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Freeform 28"/>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3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3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449A9-ACF0-4F5D-B7D7-7C55F4A5152D}"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52D5E-259E-45DF-9B18-51946EB62FAA}"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D4B51-0814-4841-9781-96F3D8B22813}"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marL="685800" indent="-685800" algn="r" rtl="1">
              <a:buClr>
                <a:srgbClr val="5fcbef"/>
              </a:buClr>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5400"/>
            </a:br>
            <a:br>
              <a:rPr sz="5400"/>
            </a:br>
            <a:br>
              <a:rPr sz="5400"/>
            </a:br>
            <a:r>
              <a:rPr b="0" lang="ar-SA" sz="4000" spc="-1" strike="noStrike">
                <a:solidFill>
                  <a:srgbClr val="5fcbef"/>
                </a:solidFill>
                <a:latin typeface="Trebuchet MS"/>
                <a:cs typeface="Tahoma"/>
              </a:rPr>
              <a:t>المراجعة التشغيلية وتقويم الأداء </a:t>
            </a:r>
            <a:br>
              <a:rPr sz="4000"/>
            </a:br>
            <a:r>
              <a:rPr b="0" lang="ar-SA" sz="4000" spc="-1" strike="noStrike">
                <a:solidFill>
                  <a:srgbClr val="5fcbef"/>
                </a:solidFill>
                <a:latin typeface="Trebuchet MS"/>
                <a:cs typeface="Tahoma"/>
              </a:rPr>
              <a:t>مراجعة الالتزام  </a:t>
            </a:r>
            <a:br>
              <a:rPr sz="4000"/>
            </a:br>
            <a:r>
              <a:rPr b="0" lang="ar-SA" sz="4000" spc="-1" strike="noStrike">
                <a:solidFill>
                  <a:srgbClr val="5fcbef"/>
                </a:solidFill>
                <a:latin typeface="Trebuchet MS"/>
                <a:cs typeface="Tahoma"/>
              </a:rPr>
              <a:t>مراجعة السلوك     </a:t>
            </a:r>
            <a:br>
              <a:rPr sz="4000"/>
            </a:br>
            <a:r>
              <a:rPr b="0" lang="ar-SA" sz="4000" spc="-1" strike="noStrike">
                <a:solidFill>
                  <a:srgbClr val="5fcbef"/>
                </a:solidFill>
                <a:latin typeface="Trebuchet MS"/>
                <a:cs typeface="Tahoma"/>
              </a:rPr>
              <a:t>تقديم المشورة والدعم للإدارة </a:t>
            </a:r>
            <a:endParaRPr b="0" lang="en-US" sz="40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ضح مما سبق أن المراجعة التشغيلية وتقويم الأداء المالي والتشغيلي يكون التركيز فيها على الكفاءة والفاعلية في الأداء.</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المقصود بالكفاءة هو الحصول علي نفس القدر من المخرجات باستخدام أقل قدر ممكن من المدخلات او الحصول علي أقصى قدر ممكن من المخرجات من نفس القدر من المدخلات.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ما الفاعلية فهي علاقة الأهداف المحققة بالأهداف المستهدف تحقيقها أو هي مدي تحقيق الأهداف المخطط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هم العوامل اللازمة لعملية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أهداف محددة للوحد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مكانية قياس الأداء باستخدام مؤشرات أو مقاييس مقبول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مجموعة من المؤشرات والمعايير تساعد فى المقارن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كم على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كمن </a:t>
            </a:r>
            <a:r>
              <a:rPr b="1" lang="ar-SA" sz="2400" spc="-1" strike="noStrike">
                <a:solidFill>
                  <a:srgbClr val="000000"/>
                </a:solidFill>
                <a:latin typeface="Trebuchet MS"/>
                <a:cs typeface="Tahoma"/>
              </a:rPr>
              <a:t>مشكلة</a:t>
            </a:r>
            <a:r>
              <a:rPr b="0" lang="ar-SA" sz="2400" spc="-1" strike="noStrike">
                <a:solidFill>
                  <a:srgbClr val="000000"/>
                </a:solidFill>
                <a:latin typeface="Trebuchet MS"/>
                <a:ea typeface="Tahoma"/>
              </a:rPr>
              <a:t> تقويم الأداء في الوحدات الحكومية في أن مخرجات أو أهداف لكثير من هذه الوحدات لا يمكن قياسها بالمقاييس المالية أو الكمية اي لا يمكن ترجمة مخرجاتها إلى مقاييس محددة.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لكي يمكن للمراجع الداخلي أن ينفذ المراجعة التشغيلية وتقويم الأداء يجب</a:t>
            </a:r>
            <a:r>
              <a:rPr b="0" lang="ar-SA" sz="2400" spc="-1" strike="noStrike">
                <a:solidFill>
                  <a:srgbClr val="000000"/>
                </a:solidFill>
                <a:latin typeface="Trebuchet MS"/>
                <a:ea typeface="Tahoma"/>
              </a:rPr>
              <a:t> </a:t>
            </a:r>
            <a:r>
              <a:rPr b="1" lang="ar-SA" sz="2400" spc="-1" strike="noStrike">
                <a:solidFill>
                  <a:srgbClr val="000000"/>
                </a:solidFill>
                <a:latin typeface="Trebuchet MS"/>
                <a:cs typeface="Tahoma"/>
              </a:rPr>
              <a:t>أن</a:t>
            </a:r>
            <a:r>
              <a:rPr b="0" lang="ar-SA" sz="2400" spc="-1" strike="noStrike">
                <a:solidFill>
                  <a:srgbClr val="000000"/>
                </a:solidFill>
                <a:latin typeface="Trebuchet MS"/>
                <a:ea typeface="Tahoma"/>
              </a:rPr>
              <a:t> يكون على علم تام بطرق قياس الأداء التي تتناسب مع طبيعة الوحدات الحكومية ثم يختار منها ما يتناسب وطبيعة نشاط الوحدة الحكومية التي يعمل بها. لذلك نعرض فيما يلي </a:t>
            </a:r>
            <a:r>
              <a:rPr b="1" lang="ar-SA" sz="2400" spc="-1" strike="noStrike">
                <a:solidFill>
                  <a:srgbClr val="000000"/>
                </a:solidFill>
                <a:latin typeface="Trebuchet MS"/>
                <a:cs typeface="Tahoma"/>
              </a:rPr>
              <a:t>طرق قياس الأداء في الوحدات الحكومية </a:t>
            </a:r>
            <a:r>
              <a:rPr b="0" lang="ar-SA" sz="2400" spc="-1" strike="noStrike">
                <a:solidFill>
                  <a:srgbClr val="000000"/>
                </a:solidFill>
                <a:latin typeface="Trebuchet MS"/>
                <a:cs typeface="Tahoma"/>
              </a:rPr>
              <a:t>، ثم نتعرض بعد ذلك </a:t>
            </a:r>
            <a:r>
              <a:rPr b="1" lang="ar-SA" sz="2400" spc="-1" strike="noStrike">
                <a:solidFill>
                  <a:srgbClr val="000000"/>
                </a:solidFill>
                <a:latin typeface="Trebuchet MS"/>
                <a:cs typeface="Tahoma"/>
              </a:rPr>
              <a:t>لأنواع الأنشطة الحكومية ومقاييس الأداء </a:t>
            </a:r>
            <a:r>
              <a:rPr b="0" lang="ar-SA" sz="2400" spc="-1" strike="noStrike">
                <a:solidFill>
                  <a:srgbClr val="000000"/>
                </a:solidFill>
                <a:latin typeface="Trebuchet MS"/>
                <a:cs typeface="Tahoma"/>
              </a:rPr>
              <a:t>التي تتناسب معه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طرق قياس الأداء في الوحدات الحكوم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استخدام عدد المخرجات كمقياس</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ياس الاداء في الوحدات الاقتصادية يركز عل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0" name=""/>
          <p:cNvSpPr txBox="1"/>
          <p:nvPr/>
        </p:nvSpPr>
        <p:spPr>
          <a:xfrm>
            <a:off x="0" y="2160360"/>
            <a:ext cx="110966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ستخدام عدد المخرجات كمقياس</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عاب على هذه الطريقة بأن عدد الوحدات غير متجانسة</a:t>
            </a:r>
            <a:endParaRPr b="0" lang="en-US" sz="2400" spc="-1" strike="noStrike">
              <a:solidFill>
                <a:srgbClr val="404040"/>
              </a:solidFill>
              <a:latin typeface="Trebuchet MS"/>
            </a:endParaRPr>
          </a:p>
        </p:txBody>
      </p:sp>
      <p:sp>
        <p:nvSpPr>
          <p:cNvPr id="241" name="Rounded Rectangle 1"/>
          <p:cNvSpPr/>
          <p:nvPr/>
        </p:nvSpPr>
        <p:spPr>
          <a:xfrm>
            <a:off x="7850160" y="2809800"/>
            <a:ext cx="2847960" cy="126360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مدخلات (موارد مستخدم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عتمادات الموازنة</a:t>
            </a:r>
            <a:endParaRPr b="0" lang="en-US" sz="1800" spc="-1" strike="noStrike">
              <a:solidFill>
                <a:srgbClr val="000000"/>
              </a:solidFill>
              <a:latin typeface="Trebuchet MS"/>
            </a:endParaRPr>
          </a:p>
        </p:txBody>
      </p:sp>
      <p:sp>
        <p:nvSpPr>
          <p:cNvPr id="242" name="Rounded Rectangle 4"/>
          <p:cNvSpPr/>
          <p:nvPr/>
        </p:nvSpPr>
        <p:spPr>
          <a:xfrm>
            <a:off x="4081320" y="2816280"/>
            <a:ext cx="2808360" cy="126504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ية الانتاجية او الخدم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على حل القضايا والمنازعات</a:t>
            </a:r>
            <a:endParaRPr b="0" lang="en-US" sz="1800" spc="-1" strike="noStrike">
              <a:solidFill>
                <a:srgbClr val="000000"/>
              </a:solidFill>
              <a:latin typeface="Trebuchet MS"/>
            </a:endParaRPr>
          </a:p>
        </p:txBody>
      </p:sp>
      <p:sp>
        <p:nvSpPr>
          <p:cNvPr id="243" name="Rounded Rectangle 5"/>
          <p:cNvSpPr/>
          <p:nvPr/>
        </p:nvSpPr>
        <p:spPr>
          <a:xfrm>
            <a:off x="184320" y="2816280"/>
            <a:ext cx="3089160" cy="128412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مخرجلات(خدمات مؤدا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عدد القضايا والمنازعات التي تم الفصل فيها</a:t>
            </a:r>
            <a:endParaRPr b="0" lang="en-US" sz="1800" spc="-1" strike="noStrike">
              <a:solidFill>
                <a:srgbClr val="000000"/>
              </a:solidFill>
              <a:latin typeface="Trebuchet MS"/>
            </a:endParaRPr>
          </a:p>
        </p:txBody>
      </p:sp>
      <p:cxnSp>
        <p:nvCxnSpPr>
          <p:cNvPr id="244" name="Straight Arrow Connector 7"/>
          <p:cNvCxnSpPr/>
          <p:nvPr/>
        </p:nvCxnSpPr>
        <p:spPr>
          <a:xfrm flipH="1">
            <a:off x="6889320" y="3441600"/>
            <a:ext cx="961200" cy="7200"/>
          </a:xfrm>
          <a:prstGeom prst="straightConnector1">
            <a:avLst/>
          </a:prstGeom>
          <a:ln cap="rnd" w="12600">
            <a:solidFill>
              <a:srgbClr val="5fcbef"/>
            </a:solidFill>
            <a:miter/>
            <a:tailEnd len="med" type="triangle" w="med"/>
          </a:ln>
        </p:spPr>
      </p:cxnSp>
      <p:cxnSp>
        <p:nvCxnSpPr>
          <p:cNvPr id="245" name="Straight Arrow Connector 9"/>
          <p:cNvCxnSpPr>
            <a:stCxn id="242" idx="1"/>
          </p:cNvCxnSpPr>
          <p:nvPr/>
        </p:nvCxnSpPr>
        <p:spPr>
          <a:xfrm flipH="1">
            <a:off x="3273120" y="3447720"/>
            <a:ext cx="808560" cy="11880"/>
          </a:xfrm>
          <a:prstGeom prst="straightConnector1">
            <a:avLst/>
          </a:prstGeom>
          <a:ln cap="rnd" w="12600">
            <a:solidFill>
              <a:srgbClr val="5fcbef"/>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7"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عني العام للإنتاجية هو العلاقة بين المخرجات والمدخلات.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خرجات ÷ المدخلات</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بالرغم من صعوبة الربط بين المدخلات والمخرجات في الوحدات الحكومية التي تقدم أنشطة لا يمكن قياس مخرجاتها نقديا أو كميا إلا أنه يمكن استخدام مقياس الإنتاجية في بعض الوحدات الحكومية فمثلا يمكن الربط بين عدد الأساتذة بكل قسم وعدد الطلاب المتخرجين سنويا</a:t>
            </a:r>
            <a:r>
              <a:rPr b="1" lang="ar-SA" sz="2400" spc="-1" strike="noStrike">
                <a:solidFill>
                  <a:srgbClr val="000000"/>
                </a:solidFill>
                <a:latin typeface="Trebuchet MS"/>
                <a:ea typeface="Tahoma"/>
              </a:rPr>
              <a:t>.</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9"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يقصد بالمؤشرات الاجتماعية مدي قدرة أنشطة الوحدة الحكومية علي تحقيق الرفاهية الاجتماعية في مجال معين.مثل مدى رضاء المجتمع عن خدمات المياه الصالحة للشرب.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نحصر التدفقات النقدية الداخلة بالنسبة للوحدات غير الإيرادية مثل المستشفيات والمدارس الحكومية في الاعتمادات المالية الواردة في موازنة الوحدة أما التدفقات النقدية الخارجة فتمثل عملية الإنفاق الفعلي .</a:t>
            </a:r>
            <a:endParaRPr b="0" lang="en-US" sz="20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أما في الوحدات التي تحقق إيرادات مثل هيئة تحلية المياه فالتدفقات النقدية الداخلة تتمثل فيما تحققه الوحدة من إيرادات بالإضافة إلى الاعتمادات المالية الواردة في موازنة الوحدة. ودراسة العلاقة بين هذين النوعين من التدفقات يعتبر أحد الوسائل التي توضح مدي التزام الوحدة الحكومية بالإنفاق في الحدود المقررة من السلطة التنفيذية والمعتمدة من السلطة التشريعية. كما يعبر عن نجاح الوحدة في تحقيق تمويل ذاتي.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3"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طبيعة الأنشطة الحكومية ومقاييس الأداء </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مكن التمييز بين ثلاثة أنواع من الأنشطة الحكومية ، من حيث إمكانية قياس المخرجات هي:</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1</a:t>
            </a:r>
            <a:r>
              <a:rPr b="0" lang="ar-SA" sz="2200" spc="-1" strike="noStrike">
                <a:solidFill>
                  <a:srgbClr val="000000"/>
                </a:solidFill>
                <a:latin typeface="Trebuchet MS"/>
                <a:ea typeface="Tahoma"/>
              </a:rPr>
              <a:t>-</a:t>
            </a:r>
            <a:r>
              <a:rPr b="0" lang="ar-SA" sz="2200" spc="-1" strike="noStrike">
                <a:solidFill>
                  <a:srgbClr val="000000"/>
                </a:solidFill>
                <a:latin typeface="Trebuchet MS"/>
                <a:ea typeface="Tahoma"/>
              </a:rPr>
              <a:t>	</a:t>
            </a:r>
            <a:r>
              <a:rPr b="0" lang="ar-SA" sz="2200" spc="-1" strike="noStrike">
                <a:solidFill>
                  <a:srgbClr val="000000"/>
                </a:solidFill>
                <a:latin typeface="Trebuchet MS"/>
                <a:cs typeface="Tahoma"/>
              </a:rPr>
              <a:t>الأنشطة التي يمكن قياس مخرجاتها </a:t>
            </a:r>
            <a:r>
              <a:rPr b="1" lang="ar-SA" sz="2200" spc="-1" strike="noStrike">
                <a:solidFill>
                  <a:srgbClr val="000000"/>
                </a:solidFill>
                <a:latin typeface="Trebuchet MS"/>
                <a:cs typeface="Tahoma"/>
              </a:rPr>
              <a:t>نقدا</a:t>
            </a:r>
            <a:r>
              <a:rPr b="0" lang="ar-SA" sz="2200" spc="-1" strike="noStrike">
                <a:solidFill>
                  <a:srgbClr val="000000"/>
                </a:solidFill>
                <a:latin typeface="Trebuchet MS"/>
                <a:ea typeface="Tahoma"/>
              </a:rPr>
              <a:t> وهي التي تقدم خدماتها للمواطنين بمقابل نقدي مثل الخدمات التي تقدمها هيئات حكومية مثل هيئة السكك الحديدية، وفي هذا النوع يفضل تسعير الخدمة المقدمة في ضوء اعتبارات التكلفة حيث سيترتب على ذلك إمكانية تقييم كل من فعالية وكفاءة الأنشطة.</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وهذه الأنشطة لا تسبب مشكلة فى تقويم الأداء حيث تقاس المخرجات فى صورة نقدية وهى نفس الصورة التى تقاس بها المدخلات.</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ابع تنفيذ مهام المراجعة الداخلية</a:t>
            </a:r>
            <a:endParaRPr b="0" lang="en-US" sz="4000" spc="-1" strike="noStrike">
              <a:solidFill>
                <a:srgbClr val="5fcbef"/>
              </a:solidFill>
              <a:latin typeface="Trebuchet MS"/>
            </a:endParaRPr>
          </a:p>
        </p:txBody>
      </p:sp>
      <p:sp>
        <p:nvSpPr>
          <p:cNvPr id="21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ناقشنا سابقا كيفية تنفيذ مهمة المراجعة الخاصة بفحص وتقويم نظام الرقابة الداخلية. ونستكمل اليوم عرض لكيفية تنفيذ بعض من مهام المراجعة الداخلية والتي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راجعة التشغيلية وتقويم الأداء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راجعة الالتزام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راجعة السلوك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قديم المشورة والدعم ل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تبع............</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2</a:t>
            </a:r>
            <a:r>
              <a:rPr b="0" lang="ar-SA" sz="2200" spc="-1" strike="noStrike">
                <a:solidFill>
                  <a:srgbClr val="000000"/>
                </a:solidFill>
                <a:latin typeface="Trebuchet MS"/>
                <a:ea typeface="Tahoma"/>
              </a:rPr>
              <a:t>- الأنشطة الحكومية التي يمكن قياس مخرجاتها في شكل </a:t>
            </a:r>
            <a:r>
              <a:rPr b="1" lang="ar-SA" sz="2200" spc="-1" strike="noStrike">
                <a:solidFill>
                  <a:srgbClr val="000000"/>
                </a:solidFill>
                <a:latin typeface="Trebuchet MS"/>
                <a:cs typeface="Tahoma"/>
              </a:rPr>
              <a:t>كمي فقط </a:t>
            </a:r>
            <a:r>
              <a:rPr b="0" lang="ar-SA" sz="2200" spc="-1" strike="noStrike">
                <a:solidFill>
                  <a:srgbClr val="000000"/>
                </a:solidFill>
                <a:latin typeface="Trebuchet MS"/>
                <a:cs typeface="Tahoma"/>
              </a:rPr>
              <a:t>مثل أنشطة الخدمات التعليمية أو الخدمات الصحية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3</a:t>
            </a:r>
            <a:r>
              <a:rPr b="0" lang="ar-SA" sz="2200" spc="-1" strike="noStrike">
                <a:solidFill>
                  <a:srgbClr val="000000"/>
                </a:solidFill>
                <a:latin typeface="Trebuchet MS"/>
                <a:ea typeface="Tahoma"/>
              </a:rPr>
              <a:t>-الأنشطة التى </a:t>
            </a:r>
            <a:r>
              <a:rPr b="1" lang="ar-SA" sz="2200" spc="-1" strike="noStrike">
                <a:solidFill>
                  <a:srgbClr val="000000"/>
                </a:solidFill>
                <a:latin typeface="Trebuchet MS"/>
                <a:cs typeface="Tahoma"/>
              </a:rPr>
              <a:t>لا يمكن قياس مخرجاتها نقديا أو كميا </a:t>
            </a:r>
            <a:r>
              <a:rPr b="0" lang="ar-SA" sz="2200" spc="-1" strike="noStrike">
                <a:solidFill>
                  <a:srgbClr val="000000"/>
                </a:solidFill>
                <a:latin typeface="Trebuchet MS"/>
                <a:cs typeface="Tahoma"/>
              </a:rPr>
              <a:t>مثل خدمات الأمن العام والدفاع.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هذه الأنشطة التى تقاس مخرجاتها فى شكل كمى فإن وحدة القياس للمخرجات سوف تختلف عن وحدة قياس المدخلات. اما التي لا يمكن قياسها نقديا أو كميا سوف تمثل صعوبة بالغة فى تقييم كفاءة وفاعلية تلك الأنشطة. وسوف نعرض فيما يلى أساليب قياس مخرجات النوعين الثانى والثالث من الأنشطة الحكومية.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طرق قياس الأنشطة التي يمكن قياس مخرجاتها في شكل كمي:</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 مقياس النتائ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هو قياس للمخرجات معبراً عنها في شكل عناصر مرتبطة بأهداف المشروع. فمثلاً من أهداف التعليم الأساسي استيعاب كل الأطفال في سن معينة وبذلك يمكن قياس حجم مخرجات هذا القطاع بعدد التلاميذ الذين أمكن استيعابهم.</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ب- مقياس الوسائل:</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ما ان الهدف نفسه لا يمكن التعبير عنه فى شكل كمي فلابد من استخدام مقياس بديل للهدف ، ويرتبط هذا المقياس بالنشاط المنفذ بواسطة الوحدة ومن أمثلة ذلك عدد المستفيدين من أماكن الترفية يوميا.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ج </a:t>
            </a:r>
            <a:r>
              <a:rPr b="0" lang="ar-SA" sz="2000" spc="-1" strike="noStrike">
                <a:solidFill>
                  <a:srgbClr val="000000"/>
                </a:solidFill>
                <a:latin typeface="Trebuchet MS"/>
                <a:cs typeface="Tahoma"/>
              </a:rPr>
              <a:t>ـ </a:t>
            </a:r>
            <a:r>
              <a:rPr b="1" lang="ar-SA" sz="2000" spc="-1" strike="noStrike">
                <a:solidFill>
                  <a:srgbClr val="000000"/>
                </a:solidFill>
                <a:latin typeface="Trebuchet MS"/>
                <a:cs typeface="Tahoma"/>
              </a:rPr>
              <a:t>المدخلات كمقياس للمخرجات: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cs typeface="Tahoma"/>
              </a:rPr>
              <a:t>طرق قياس الأنشطة التي يصعب قياس مخرجاتها في شكل نقدي أو كمي</a:t>
            </a:r>
            <a:r>
              <a:rPr b="0" lang="ar-SA" sz="1900" spc="-1" strike="noStrike">
                <a:solidFill>
                  <a:srgbClr val="000000"/>
                </a:solidFill>
                <a:latin typeface="Trebuchet MS"/>
                <a:ea typeface="Tahoma"/>
              </a:rPr>
              <a:t>:</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1</a:t>
            </a:r>
            <a:r>
              <a:rPr b="1" lang="ar-SA" sz="1900" spc="-1" strike="noStrike">
                <a:solidFill>
                  <a:srgbClr val="000000"/>
                </a:solidFill>
                <a:latin typeface="Trebuchet MS"/>
                <a:ea typeface="Tahoma"/>
              </a:rPr>
              <a:t>)نموذج المقارنة السابقة واللاحقة:</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الأوضاع والظروف السائدة قبل وبعد إدخال البرنامج ،و التغير الذي سيحدث على الظروف أو الأوضاع بعد إدخال البرنامج يعتبر أثر البرنامج وهو اكثرها استخداما لبساطته وقلة تكالي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2</a:t>
            </a:r>
            <a:r>
              <a:rPr b="1" lang="ar-SA" sz="1900" spc="-1" strike="noStrike">
                <a:solidFill>
                  <a:srgbClr val="000000"/>
                </a:solidFill>
                <a:latin typeface="Trebuchet MS"/>
                <a:ea typeface="Tahoma"/>
              </a:rPr>
              <a:t>)نموذج المقارنة بالسلاسل الزمني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المقارنة على أساس السلاسل الزمنية لفترة زمنية معينة قبل وبعد إدخال البرنامج لتحديد أثر البرنامج في تحقيق أهدا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3</a:t>
            </a:r>
            <a:r>
              <a:rPr b="1" lang="ar-SA" sz="1900" spc="-1" strike="noStrike">
                <a:solidFill>
                  <a:srgbClr val="000000"/>
                </a:solidFill>
                <a:latin typeface="Trebuchet MS"/>
                <a:ea typeface="Tahoma"/>
              </a:rPr>
              <a:t>)نموذج المقارنة بين المجموعات المتشابه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بين مجموعتين أو أكثر متشابهتين ، إلا انه تكون أحداهما طبقت برنامجاً معيناً ـ يراد تقييمه ـ في حين أن المجموعة الأخرى لم تقم بتطبيقه ـ فعن طريق المقارنة بينهما يمكن تقييم هذا البرنامج.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1"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 و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3"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تنقسم مؤشرات تقييم الأداء للحكم على كفاءة وفعالية الأنشطة الحكومية إلى نوعين رئيسيين هما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ؤشرات تقييم </a:t>
            </a:r>
            <a:r>
              <a:rPr b="1" lang="ar-SA" sz="2400" spc="-1" strike="noStrike">
                <a:solidFill>
                  <a:srgbClr val="000000"/>
                </a:solidFill>
                <a:latin typeface="Trebuchet MS"/>
                <a:cs typeface="Tahoma"/>
              </a:rPr>
              <a:t>كفاءة</a:t>
            </a:r>
            <a:r>
              <a:rPr b="0" lang="ar-SA" sz="2400" spc="-1" strike="noStrike">
                <a:solidFill>
                  <a:srgbClr val="000000"/>
                </a:solidFill>
                <a:latin typeface="Trebuchet MS"/>
                <a:ea typeface="Tahoma"/>
              </a:rPr>
              <a:t> الأنشطة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ؤشرات تقييم </a:t>
            </a:r>
            <a:r>
              <a:rPr b="1" lang="ar-SA" sz="2400" spc="-1" strike="noStrike">
                <a:solidFill>
                  <a:srgbClr val="000000"/>
                </a:solidFill>
                <a:latin typeface="Trebuchet MS"/>
                <a:cs typeface="Tahoma"/>
              </a:rPr>
              <a:t>فعالية</a:t>
            </a:r>
            <a:r>
              <a:rPr b="0" lang="ar-SA" sz="2400" spc="-1" strike="noStrike">
                <a:solidFill>
                  <a:srgbClr val="000000"/>
                </a:solidFill>
                <a:latin typeface="Trebuchet MS"/>
                <a:ea typeface="Tahoma"/>
              </a:rPr>
              <a:t> الأ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5"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ييم كفاء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ختص هذه المؤشرات بالحكم على كفاءة استخدام الموارد الاقتصادية المستخدمة فى تنفيذ الأنشطة الحكومية ، وذلك 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7"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فعالية الأنشط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هدف مؤشرات الفعالية إلى التحقق من أن الأنشطة قد نجحت في تحقيق الأهداف المرسومة لها ، لذلك يجب أن تكون تلك المؤشرات متعلقة بهذه الأهداف. لذلك يمكن القول أن مؤشرات الفعالية هي مقاييس إجمالية أو نهائية توجه إلى التعرف على مدى تحقيق الأنشطة للأهداف المحددة سلف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حددت جمعية المحاسبة الامريكية ارع مجالات لتحليل فعالية الا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عمل المؤدى ،المنتجات التامة، المنافع المحققة،الاثر المحقق</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9"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تضح من العرض السابق لمؤشرات تقييم الأداء </a:t>
            </a:r>
            <a:r>
              <a:rPr b="0" lang="ar-SA" sz="2400" spc="-1" strike="noStrike">
                <a:solidFill>
                  <a:srgbClr val="000000"/>
                </a:solidFill>
                <a:latin typeface="Trebuchet MS"/>
                <a:cs typeface="Tahoma"/>
              </a:rPr>
              <a:t>سواء</a:t>
            </a:r>
            <a:r>
              <a:rPr b="1"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كانت تتعلق بالكفاءة أو الفعالية أنها تعتمد اعتماداً كبيرا على مخرجات الأنشطة المختلفة المعدة لإنجاز وظائف الدولة المختلفة، لهذا فإن هذه المؤشرات سوف تختلف من خدمة لأخرى ومن نشاط لآخر بالرغم من أن الإطار العام لأغراض هذه المؤشرات واحداً في جميع الحال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71" name=""/>
          <p:cNvSpPr txBox="1"/>
          <p:nvPr/>
        </p:nvSpPr>
        <p:spPr>
          <a:xfrm>
            <a:off x="0" y="1442880"/>
            <a:ext cx="10299600" cy="54151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نفيذ المراجعة التشغيلية وتقويم الأداء:</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نفيذ المراجعة التشغيلية وتقويم الأداء يتطلب من المراجع تنفيذ الإجراءات التا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النشاط محل الفحص وفقا لأولويات معينة مثل تلك التي تم عرضها عن تحديد أولويات مهام المراجعة(في العروض السابق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2</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الأهداف المرغوب تحقيقها من هذا النشاط.</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3</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معايير لقياس تحقيق الأهداف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قياس مستوى تنفيذ الأهداف على المعايير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5</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أوجه القصور أو أوجه التميز في الإجراءات التنفيذية لتحقيق الأهداف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6</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كتابة التقرير عن مدى تحقيق الأهداف والمعوقات والجوانب الإيجابية في مجال التنفيذ ورفعة للمستوى المختص.</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73"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نشاط الذي يقوم به المراجع الداخلي لمراجعة الالتزام بالمتطلبات النظامية والقانونية، وضمان الالتزام بالسياسات والإجراءات التي ترسمها الإدارة ومجلس المديرين.</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نشآت تعمل في إطار نظامي خارجي و إطار تنظيمي داخلي. وتعتبر مراجعة مدى التزام الإدارة وكل فرد في المنشأة بالأطر الداخلية والخارجية أحد الأدوار الأساسية للمراجع الداخلي.</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رقابة التشغيلية وتقويم الأداء هي فحص هادف ومنتظم بغرض تقديم تقويم مستقل لجهة معينة أو برنامج أو نشاط لكي يمكن توفير معلومات تؤدي إلى تحسين المسائلة وتسهيل إتخاذ القرار.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تضمن المراجعة التشغيلية وتقويم الأداء المالي والتشغيلي التأكد من الالتزام بالقوانين والأوامر والأنظمة ، ويمكن اعتبارها تقويما مستقلا لعمليات الجهة الحكومية بهدف جعلها تعمل بشكل أفضل وأسرع وبتكلفة أقل.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75"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تحقق من التزام العاملين بالأطر الداخلية والخارجية يتم لمصلحة الإدارة ويتم التقرير عنه للمستوي الإداري المناسب ، وهذا المجال يمارس فيه المراجع الداخلي دورا إيجابيا ملموسا يضيف إلى قيمة المنشأ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ثانية: أن مراجعة التزام الإدارة بالأطر هو أمر مشكوك فيه من الناحية العملية والنظرية. فالمراجعة الداخلية أساسا هي وظيفة معاونة للإدارة ، لكن مع آليات الحوكمة التي بدأت كثيرا من التشريعات تتبناها حاولت دعم هذه الجانب من عمل المراجعين الداخليين بتشكيل لجنة مستقلة يتم التقرير إليها عن مثل هذه التجاوزات هي لجنة المراجع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سلوك </a:t>
            </a:r>
            <a:endParaRPr b="0" lang="en-US" sz="4000" spc="-1" strike="noStrike">
              <a:solidFill>
                <a:srgbClr val="5fcbef"/>
              </a:solidFill>
              <a:latin typeface="Trebuchet MS"/>
            </a:endParaRPr>
          </a:p>
        </p:txBody>
      </p:sp>
      <p:sp>
        <p:nvSpPr>
          <p:cNvPr id="277"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قصد بمراجعة السلوك التأكد من إلتزام العاملين بالوحدة بالقواعد السلوكية التي تتبناها الوحدة مثل عدم التدخين في المكاتب ، الالتزام بزي معين ، عدم التحرش ، منع العنصرية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79" name=""/>
          <p:cNvSpPr txBox="1"/>
          <p:nvPr/>
        </p:nvSpPr>
        <p:spPr>
          <a:xfrm>
            <a:off x="248760" y="1487520"/>
            <a:ext cx="10744200" cy="487368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معايير المهنية قد أجازت للمراجع الداخلي تقديم الخدمات الإدارية التي تحتاج إليها المنشأ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ثل عمليات تقديم المشورة وإعداد الدراسات الاستشارية والدعم للإدارة ولا يجب أن يتحمل فيها المراجع الداخلي مسئولية الإدارة.حيث ان  هذه الخدمات لا تخرج عن كونها استشا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وامل ساهمت على تنامي الطلب على الخدمات الاستشارية نذكر من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عقد وتطور العمليات التشغيلية والبيئة المالية و البيئة القانون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2</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زيادة حدة المنافسة بين الشركات وتضخم احجام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3</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زايد الأعباء الإدار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لتطور الهائل في أساليب التحليل الكمي.</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81" name=""/>
          <p:cNvSpPr txBox="1"/>
          <p:nvPr/>
        </p:nvSpPr>
        <p:spPr>
          <a:xfrm>
            <a:off x="-360" y="1825200"/>
            <a:ext cx="9839160" cy="48927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صادر تقديم هذه الخدمات قد يكون داخليا(عن طريق اسهام الكراجعة الداخلية  لديها)،أو خارجيا (عن طريق المكاتب الاستشارية المتخصص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لكن تفضل الإدارة عادة الحصول على الخدمة داخليا بدلا من الخارجية لسببين </a:t>
            </a:r>
            <a:r>
              <a:rPr b="0" lang="ar-SA" sz="2400" spc="-1" strike="noStrike">
                <a:solidFill>
                  <a:srgbClr val="000000"/>
                </a:solidFill>
                <a:latin typeface="Trebuchet MS"/>
                <a:ea typeface="Tahoma"/>
              </a:rPr>
              <a:t>:</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خدمة تتعلق بأمور تشغيلية أو إستراتيجية داخلية لا تحتاج إلى خبرات ومعارف ومهارات غير عادي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عتبارات التكلفة مقارنة بالعائد المنتظر منها تحول دون طلب الخدمة من المكاتب الخارجي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 تقديم هذه الخدمة يتطلب درجة عالية من الاستقلال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المراجعة التشغيلية وتقويم الاداء تعتبر من اهم مجالات وظيفة المراجعة الداخلية, فهذا المجال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تتناول المراجعة التشغيلية وتقويم الأداء مدي القيام بالمهام الأساسية للعمليات التشغيلية المالية والإدارية ، والنتائج المترتبة علي هذه العمليات ، ثم ربط النتائج بأهداف الوحدة للتحقق من كفاءة وفاعلية العملي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ن هذه المراجعة من الوقوف على أوجه القصور في الإجراءات العملية والتقرير عنها لاتخاذ القرار المناسب بصورة فو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لاحظات التي قد يبديها المراجع الداخلي سوف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الخطط والسياسات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دم مناسبة السياسات والخطط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طرق تنفيذ السياسات والخطط التي تبنتها الإدار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حرافات سالبة في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1" lang="ar-SA" sz="2400" spc="-1" strike="noStrike">
                <a:solidFill>
                  <a:srgbClr val="000000"/>
                </a:solidFill>
                <a:latin typeface="Trebuchet MS"/>
                <a:cs typeface="Tahoma"/>
              </a:rPr>
              <a:t>اما توصيات المراجع الداخلي في هذا المجال فقد تشمل واحدا مما يلي:</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تخاذ إجراءات تصحيحية فورية لتعديل مسار التشغيل حتى لا ينحرف عن الأهداف المرسوم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دخال تعديلات على الخطط والأهداف حتى تكون أكثر واقعية بصورة تتفق مع الموارد المالية والبشرية والمادية المتاح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جراءات تنفيذية أكثر فعال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a:t>
            </a:r>
            <a:r>
              <a:rPr b="1" lang="ar-SA" sz="2200" spc="-1" strike="noStrike">
                <a:solidFill>
                  <a:srgbClr val="000000"/>
                </a:solidFill>
                <a:latin typeface="Trebuchet MS"/>
                <a:cs typeface="Tahoma"/>
              </a:rPr>
              <a:t>هناك عدة جوانب تركز المراجعة التشغيلية وتقويم الأداء على فحصها هي:</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1</a:t>
            </a:r>
            <a:r>
              <a:rPr b="1" lang="ar-SA" sz="2200" spc="-1" strike="noStrike">
                <a:solidFill>
                  <a:srgbClr val="000000"/>
                </a:solidFill>
                <a:latin typeface="Trebuchet MS"/>
                <a:ea typeface="Tahoma"/>
              </a:rPr>
              <a:t> - الإقتصاد: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2</a:t>
            </a:r>
            <a:r>
              <a:rPr b="1" lang="ar-SA" sz="2200" spc="-1" strike="noStrike">
                <a:solidFill>
                  <a:srgbClr val="000000"/>
                </a:solidFill>
                <a:latin typeface="Trebuchet MS"/>
                <a:ea typeface="Tahoma"/>
              </a:rPr>
              <a:t> - الكفاءة: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تعنى القيام بالفحص للتأكد من تحقيق الاستفادة القصوى من الموارد المتاحة للجهة الحكومية والحصول على أكبر منفعة ممكنة منها.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8"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3</a:t>
            </a:r>
            <a:r>
              <a:rPr b="1" lang="ar-SA" sz="2200" spc="-1" strike="noStrike">
                <a:solidFill>
                  <a:srgbClr val="000000"/>
                </a:solidFill>
                <a:latin typeface="Trebuchet MS"/>
                <a:ea typeface="Tahoma"/>
              </a:rPr>
              <a:t> -  الفعالية: </a:t>
            </a:r>
            <a:endParaRPr b="0" lang="en-US" sz="22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نى الفعالية مدى تحقيق الجهة الحكومية للأهداف المحددة لها ويركز الفحص بهدف التحقق من الفعالية على فحص أثر السياسات والإجراءات المطبقة بالجهة على تحقيق أهدافها. وذلك بفرض وجود أهداف محددة ومعروفة تتخذ كمعيار للقياس عليها.</a:t>
            </a:r>
            <a:endParaRPr b="0" lang="en-US" sz="22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4</a:t>
            </a:r>
            <a:r>
              <a:rPr b="1" lang="ar-SA" sz="2200" spc="-1" strike="noStrike">
                <a:solidFill>
                  <a:srgbClr val="000000"/>
                </a:solidFill>
                <a:latin typeface="Trebuchet MS"/>
                <a:ea typeface="Tahoma"/>
              </a:rPr>
              <a:t> - المحافظة على البيئة وتنميتها: </a:t>
            </a:r>
            <a:endParaRPr b="0" lang="en-US" sz="22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ند تطبيق معايير الكفاءة والفعالية والإقتصاد لا يجب اهمال عنصر هام جدا وهو مدى تأثير النشاط محل الفحص على البيئة والمجتمع نظرا لما لتنمية البيئة والمحافظة عليها من تأثير هام لا يجب إغفاله. و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3:18:34Z</dcterms:created>
  <dc:creator>hana</dc:creator>
  <dc:description/>
  <dc:language>en-US</dc:language>
  <cp:lastModifiedBy>Hana Ageel Alageel</cp:lastModifiedBy>
  <dcterms:modified xsi:type="dcterms:W3CDTF">2016-10-18T09:54:45Z</dcterms:modified>
  <cp:revision>52</cp:revision>
  <dc:subject/>
  <dc:title>تابع تنفيذ مهام المراجعة الداخلية</dc:title>
</cp:coreProperties>
</file>