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BD135-FB0F-4B67-9230-6F247AA3C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685800" y="1143000"/>
            <a:ext cx="5486400" cy="3086280"/>
          </a:xfrm>
          <a:prstGeom prst="rect">
            <a:avLst/>
          </a:prstGeom>
          <a:ln w="0">
            <a:noFill/>
          </a:ln>
        </p:spPr>
      </p:sp>
      <p:sp>
        <p:nvSpPr>
          <p:cNvPr id="3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9AB87-F1FA-46B7-BD3A-06C018F907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9370D-BF6A-4D44-8C4E-81A421445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EE25-1CA4-4133-899D-DC026FAA0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64947-AA10-4E98-9EAE-4B35F5FA6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51EBF-00A1-400D-BD9C-B717A82DA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FAD11-94D4-4932-90DA-6B70997A7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4E8D9-F6C3-4DAC-90C0-257C367F9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8EBEA-F03A-4447-92A2-9EAE296E4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52BB8-7216-4D0D-B3B3-78529BEAC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3FE21-D798-43B8-871D-C6A7436E5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16E61-177F-410B-8D04-8F68C8247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F11CE-4925-4E7F-BD48-D92CCF153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DE783-FA22-4493-A985-9BDFCD3D8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B3C25-C013-49FE-A1B5-71AA248CB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DBE74-BAB2-4690-A51A-00F51DD8B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3B6B6-D92C-4DA2-86E9-D836AFC73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DE78D-6FB9-4F35-B3EA-69B6B17F7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CC5E4-BA80-430B-8A6F-6DCD3F89F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F2F285-2B53-4CA2-8C18-E67219AD0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1F08D-6A9A-41C9-8DF3-175C864FA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BCDA7-0A34-4152-8668-7520CC760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B7E3B-4DE4-4C8C-BE3A-B553FD32B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8A5BF-B133-427B-B8A0-9579BA435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AC3E-21EC-4B6A-8685-F065FA3D1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5461F-42CD-4759-9335-BB8A7ABD2D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73D9A-9027-4047-9241-2A515E688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1EBE0-0DFD-46C5-9AB6-C29EC7B36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D06AC-9BF6-41CC-9912-2F54A7267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93740-71FB-4416-81FD-DF246BEA4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D87710-CD89-4EE7-9FC8-1C2AE3618D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860E42-8AF8-4829-8008-EFB0267F90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0C57FD-C662-4895-8662-3E6643DC40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A8341-89B6-4663-9E39-DCBD4747C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609DB-A7C3-4FE7-B077-5ACD529A8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7D7CF-ED22-4496-BE1A-13EAAA5CE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C0DDA-D2E2-41C7-9A61-ADA7DD386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B6764-E3BF-442A-858C-1DBF1FC32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0F8EB-0361-45A7-BBE6-6B27F6D2A7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45DD8-619B-4173-A502-201A22119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21E66-7B84-48B7-A824-53AC2E356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54AA0-38B6-4602-B368-27786B577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F747F-9F43-45D2-870E-7834751D63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E70438-FE39-4B98-A96A-145DBD7B0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2E73A6-7BF2-4FCE-9D15-48CE23461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55220E-928B-43DB-92AA-7028892CBB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AC7EF-A9D5-4061-97EF-6EA862849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E7459-E978-43B3-A055-B6734FFA1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E80A1-2D19-4236-8FCE-AE9DFCC2BA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6D331-04CE-4458-9AB6-6ECF21419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72BD6-71E1-4BAA-9E6F-74F46E081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56312-2F48-4C55-A806-E4D8A75D7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A30F6-E8A9-4998-87EC-F5E18AE85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C73DA-1F5A-44DC-9C8D-6B493F1B9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4F9C0-15A7-4750-B537-59BC5A7E5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05325-D66D-4E09-BAD6-62DDA7AF8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B435B-6B86-494E-85E5-E551CFE17B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1A1DD-2934-4683-98A1-CE29253F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C167E3-6645-4D7F-928F-DEF522B475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9CA1DE-8FF7-4F71-BBB5-B2EAC1CEA5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2B0DA-C98D-474F-873C-01447470C6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D10AA-57C9-479C-8625-332E75692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BE4000-2823-4411-965B-531F9E80E6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FC830-5674-4FA0-AE3C-65705FD731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C286C-44A2-44CA-B1E7-4DEE8D2AE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9FFF1-8449-4D5D-BCF4-6BD7001BB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9B591-6370-44BC-8E23-BCB40F995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F7B6D-1DA9-4047-AC2E-532F214781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33AC-C0F8-4B35-8960-99E6353C2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E3133F-D94B-4C69-ADAB-F1743932F9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4C80B2-FA8E-4FD0-8F16-A3AA77878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8D9B5B-C637-4552-BD20-4ED11679F6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FE30C7-228E-4014-A7EA-12037B1CC5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B5FA2-CE09-4F7D-82E8-CA9AD84B22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25111D-189E-47CD-8378-D3EA08FCB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C9C1AE-2EFB-4289-90F8-1873506E3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F6720-6D65-493D-8364-8E3CA8C2C9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F9A42F-6840-485D-95DB-737EC3B0D5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DFA51-2979-42EE-837F-1761BF7EE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E29A-DB95-4B5C-8CF9-C896DE0B4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48CB5B-90F7-44BD-AF04-08426C7427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9B889-66D8-40B6-A19E-EC95BA253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0FE107-61BA-4AD2-9591-334E576A8D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546742-7D3F-430C-87F0-EB713DABAE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0F302A-A915-4E4F-8ADF-055582EFD0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F1B8-DACB-45B8-B6AB-7FD3ACEBC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F0847-D20F-4558-9423-A2EC0F30B6D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B6182-EC3E-4544-BFC7-D12B49CC4B2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B2858-D085-45F3-BD3E-A6591243435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4E6CC-AFE9-497C-8F2D-A77E0AD8A68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E3E1D-5561-43C6-9080-B849F9AECDCD}"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58485-34D6-4F8A-BF4C-98C926B337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A01C8-86D3-4860-8C3D-3C9A0EB3AFB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262626"/>
                </a:solidFill>
                <a:latin typeface="Times New Roman"/>
                <a:cs typeface="Arabic Transparent"/>
              </a:rPr>
              <a:t>إجراءات إنشاء وتنظيم وحدات المراجعة الداخلية وإداراتها</a:t>
            </a:r>
            <a:endParaRPr b="0" lang="en-US" sz="5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الفقرة الأولى: توزيع دليل المراجعة الداخلية</a:t>
            </a:r>
            <a:endParaRPr b="0" lang="en-US" sz="40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م تطوير وإصدار الدليل ليتم استخدامه فقط من قبل وحدة المراجعة الداخلية بالجهة. كما يتم توزيع الدليل على موظفي المراجعة الداخلية للاستخدام الداخلي فقط. لذا فإن إعطاء الدليل لأشخاص من خارج وحدة المراجعة الداخلية يعتبر عملاً ممنوعاً ما لم يتم إصدار موافقة خطية من قبل المسؤول الأول بالجه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إحداث تعديلات على دليل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لضمان مواكبة وحدة المراجعة الداخلية في الجهة للتطورات التي قد تحدث في المستقبل نتيجة معايير جديدة أو تعليمات جديدة تصدر عن معهد المراجعين الداخليين أو الهيئة السعودية للمحاسبين القانونيين، فإنه من فترة لأخرى يجب إعادة النظر في الدليل وإدخال إي تعديلات عليه من فترة لأخرى بحيث تضمن فعالية وكفاءة أعمال المراجعة الداخلية. من الممكن أن تأخذ هذه التعديلات شكل تغييرات في فقرات الدليل أو إضافة فقرات أو تعليقات أو اقتراحات جديدة من قبل فرق ومدراء المراجعة الداخلية أو المسئول الأول بالحهة نفسه. علماً بأنه يجب أخذ موافقة المسؤول الأول بالجهة على هذه التعديلات أو الإضافات قبل إصدارها. بالإضافة إلى ما تقدم، فإنه يجب إجراء مراجعة شاملة لمحتويات الدليل كل فترة لضمان حداثة المعلومات داخل الدلي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نية: الجهة الحكومية التي تعمل بها وحدة المراجعة</a:t>
            </a:r>
            <a:endParaRPr b="0" lang="en-US" sz="4800" spc="-1" strike="noStrike">
              <a:solidFill>
                <a:srgbClr val="404040"/>
              </a:solidFill>
              <a:latin typeface="Calibri Light"/>
            </a:endParaRPr>
          </a:p>
        </p:txBody>
      </p:sp>
      <p:sp>
        <p:nvSpPr>
          <p:cNvPr id="33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قد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ها معلومات عن الجهة التي تعمل بها وحدة المراجعة من حيث تاريخ إنشائها والتطورات التي حدثت ف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داف ورسالة الجه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 هذا الجزء أهداف ورسالة الجهة الحكومية التي تنتمي إليها وحدة المراجع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لثة: معلومات عن وحدة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فهوم المراجعة الداخل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وضع التنظيمي لوحدة المراجعة الداخل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رؤيا (الرسالة)الخاصة بوحدة المراجعة الداخل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صياغة رسالة (رؤيا) واضحة لوحدة المراجعة الداخلية يكون جميع العاملين بالوحدة على علم تام بها</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ما يجب صياغة هدف عام للوحدة يكون جميع العاملين بالوحدة على علم تام وقناعة تامة به</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ر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فقرة مستقلة عن الإجراءات التي يجب اتباعها لإدارة وحدة المراجعة الداخلية بشكل يضمن الحفاظ على مستوى جودة مقبول ويضمن الإلتزام بباقي فقرات الدليل. ونعرض فيما يلي لأهم ما يجب أن يتضمنه دليل المراجعة في هذا الخصوص وهو: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ويم أداء العاملين ب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رقابة الجود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حقق من رضاء العمي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ثيق حفظ السجلات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a:t>
            </a:r>
            <a:r>
              <a:rPr b="0" lang="ar-SA" sz="4800" spc="-1" strike="noStrike">
                <a:solidFill>
                  <a:srgbClr val="2683c6"/>
                </a:solidFill>
                <a:latin typeface="Times New Roman"/>
                <a:cs typeface="Arabic Transparent"/>
              </a:rPr>
              <a:t>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على رأس العم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عني التدريب على رأس العمل الإستفادة من الخبرات التي يكتسبها المراجع الداخلي بنفسه أثناء تنفيذ عمل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دريب المخطط</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الجهة ووحدة المراجعة الداخلية بها أن يلتزمان بتقديم دورات تدريب منتظمة للعاملين بوحدة المراجعة الداخل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عليم المستمر والشهادات المهنية: </a:t>
            </a:r>
            <a:endParaRPr b="0" lang="en-US" sz="2400" spc="-1" strike="noStrike">
              <a:solidFill>
                <a:srgbClr val="404040"/>
              </a:solidFill>
              <a:latin typeface="Calibri"/>
            </a:endParaRPr>
          </a:p>
        </p:txBody>
      </p:sp>
      <p:graphicFrame>
        <p:nvGraphicFramePr>
          <p:cNvPr id="342" name=""/>
          <p:cNvGraphicFramePr/>
          <p:nvPr/>
        </p:nvGraphicFramePr>
        <p:xfrm>
          <a:off x="1096920" y="2224080"/>
          <a:ext cx="10058400" cy="4108320"/>
        </p:xfrm>
        <a:graphic>
          <a:graphicData uri="http://schemas.openxmlformats.org/drawingml/2006/table">
            <a:tbl>
              <a:tblPr/>
              <a:tblGrid>
                <a:gridCol w="5783400"/>
                <a:gridCol w="4275000"/>
              </a:tblGrid>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tern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داخ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raud Examin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اختلاس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Manag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دير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7700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formation System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أنظمة المعلومات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Public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قانون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76968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Management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إداري مرخص .</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4"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بنى وحدة المراجعة الداخلية نظام جيد لتقويم أداء العاملين بها وبصفة خاصة المراجعين الداخليين.ويستخدم تقويم أداء المراجعين الداخليين كأداة لتعزيز عمليات الإشراف ومراقبة تطور الأداء. بالإضافة إلى ذلك، فإن تقويم الأداء يستخدم لمساعدة المراجعين في تحديد نقاط ضعفهم والعمل على تحسينها قبل موعد عمليات التقويم اللاحقة. ويجب الاحتفاظ بنماذج تقويم المراجعين الداخليين داخل ملفاتهم الشخصية وليس في ملف مراجعة المه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بصفة عامة يمكن استخدام نوعين مختلفين لعمليات تقويم أداء المراجعين الداخليين ، و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6" name=""/>
          <p:cNvSpPr txBox="1"/>
          <p:nvPr/>
        </p:nvSpPr>
        <p:spPr>
          <a:xfrm>
            <a:off x="1096920" y="1860120"/>
            <a:ext cx="10058400" cy="438948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هذا النوع من التقويم يتم تقويم أداء المراجعين في نهاية كل مهمة يتم تنفيذها ، ويقوم مدير وحدة المراجعة بإعداد هذا التقويم لكل أعضاء فرق مهمة المراجعة الداخلي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الملاحظات بغرض تقويم أداء المراجعين الى:</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استيفائية: </a:t>
            </a:r>
            <a:r>
              <a:rPr b="0" lang="ar-SA" sz="2400" spc="-1" strike="noStrike">
                <a:solidFill>
                  <a:srgbClr val="000000"/>
                </a:solidFill>
                <a:latin typeface="Calibri"/>
                <a:cs typeface="Arial"/>
              </a:rPr>
              <a:t>وهي الملاحظات التي تتضمن طلب استيفاء مستندات صرف مبلغ معين أو الاستفسار عن مبررات صرف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ة النظامية: </a:t>
            </a:r>
            <a:r>
              <a:rPr b="0" lang="ar-SA" sz="2400" spc="-1" strike="noStrike">
                <a:solidFill>
                  <a:srgbClr val="000000"/>
                </a:solidFill>
                <a:latin typeface="Calibri"/>
                <a:cs typeface="Arial"/>
              </a:rPr>
              <a:t>وهي الملاحظات التي تتضمن عدم الالتزام بالأنظمة أو القرارات والتعاميم المعمول بها في الجهة ولا يترتب عليها ضياع مبالغ نقدية على الجه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مالية: </a:t>
            </a:r>
            <a:r>
              <a:rPr b="0" lang="ar-SA" sz="2400" spc="-1" strike="noStrike">
                <a:solidFill>
                  <a:srgbClr val="000000"/>
                </a:solidFill>
                <a:latin typeface="Calibri"/>
                <a:cs typeface="Arial"/>
              </a:rPr>
              <a:t>وهي الملاحظات التي تتضمن تحصيل مبلغ معين أو توفير مبلغ معين أو حمايته من الضياع.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8"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فر التقويم السنوي النتيجة النهائية لعملية تقويم المراجعين الداخليين والتي تستخدم كأساس في أخذ القرارات الإدارية مثل الترقية، تقييم الراتب، والتوصيات بالتدريب، أو الإجراءات التصحيحية. ويجب أن يرتكز التقويم السنوي كذلك على تجميع نماذج التقويم الخاصة بالمهام والتي تم إعدادها طوال العام في نهاية كل مهمة. ويجب أن يكون هناك نموذج للتقويم السنوي تتبناه وحدة المراجعة الداخل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cs typeface="Times New Roman"/>
              </a:rPr>
              <a:t>الاهداف</a:t>
            </a:r>
            <a:endParaRPr b="0" lang="en-US" sz="48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طبيقا لأحكام اللائحة الموحدة لوحدات المراجعة الداخلية بالوحدات الحكومية والمؤسسات العامة تلتزم كل جهة أو مؤسسة عامة بإنشاء وحدة للمراجعة الداخلية. وتقع مسئولية إنشاء وحدة المراجعة الداخلية على عاتق المسئول الأول بالجهة. وسوف </a:t>
            </a:r>
            <a:r>
              <a:rPr b="0" lang="ar-EG" sz="3600" spc="-1" strike="noStrike">
                <a:solidFill>
                  <a:srgbClr val="000000"/>
                </a:solidFill>
                <a:latin typeface="Calibri"/>
                <a:cs typeface="Arial"/>
              </a:rPr>
              <a:t>نتناول في هذا اليوم عرض للإجراءات التنفيذية لإنشاء وحدات المراجعة الداخلية وتنظيمها وإداراتها وإعداد دليل المراجعة. </a:t>
            </a:r>
            <a:endParaRPr b="0" lang="en-US" sz="3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مدير وحدة المراجعة على ضمان الالتزام بمعايير المراجعة الداخلية والسياسات المرسومة لوحدة المراجعة الداخلية وكذلك برامج المراجعة. ولتحقيق ذلك يجب أن يكون هناك  عمليات تقويم  مستمرة لعمل الوحدة وسياساتها وبرامجها. ويمكن أن يقوم بدور رقابة الجودة قسم مستقل داخل وحدة المراجعة الداخلية تكون مهمته إدارة وضبط الجودة  عن طريق إنشاء ومتابعة برنامج ضبط الجودة وذلك لتقويم أداء المراجعة الداخلية في مختلف الأنشطة. ويمكن أن تتم عملية رقابة الجودة عن طريق ما يل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حيث يقوم القسم الخاص بضبط الجودة باختيار عينة من مهام المراجعة التي تم تنفيذها خلال العام  لمطابقتها على المعايير والإجراءات المعتمدة للتأكد من جودة عمل المراجعة ومستوى الإلتزام  بالسياسات المعتمدة لتقييم المخاطر والمراجع الداخلية ودليل المراجعة الداخلية ورفع تقرير للمسئول الأو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عمل التقويم الداخلي من خلا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ات الدور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4" name=""/>
          <p:cNvSpPr txBox="1"/>
          <p:nvPr/>
        </p:nvSpPr>
        <p:spPr>
          <a:xfrm>
            <a:off x="1096920" y="1996560"/>
            <a:ext cx="10058400" cy="40230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بها مدير المراجعة الداخلية من خلال الإشراف المباشر على المهام للتأكيد على أن موظفي المراجعة الداخلية يقومون بالأعمال الواجب عملها خلال تنفيذ المها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هذا التأكيد يجب أن يتضمن </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ن المراجعين الداخليين يعملون وفق منهجية وحدة المراجعة الداخلية والدليل المعتمد.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ن نوعية العمل المنفذ يتفق مع معايير ممارسة مهنة المراجعة الداخل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ات الدور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ؤدى المراجعة الدورية من قبل إدارة القسم الخاص بضبط الجود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وتقويم لمدى التزام المراجعين والمراجعة الداخلية بالدليل الذي أعدته وحدة المراجعة الداخلية ومعايير ممارسة المه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قدم هذا النوع من التقويم تأكيداً ع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جودة كل من إدارة وحدة المراجعة الداخلية وتدريب العامل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8" name=""/>
          <p:cNvSpPr txBox="1"/>
          <p:nvPr/>
        </p:nvSpPr>
        <p:spPr>
          <a:xfrm>
            <a:off x="1096920" y="1846440"/>
            <a:ext cx="10058400" cy="4022640"/>
          </a:xfrm>
          <a:prstGeom prst="rect">
            <a:avLst/>
          </a:prstGeom>
          <a:noFill/>
          <a:ln w="0">
            <a:noFill/>
          </a:ln>
        </p:spPr>
        <p:txBody>
          <a:bodyPr lIns="0" rIns="0" anchor="t">
            <a:normAutofit fontScale="94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تم عمل تقويم لوحدة المراجعة الداخلية من جانب جهة خارجية على فترات متباعدة مثلا كل ثلاث سنوات. وفي هذا النوع من التقويم يدعو المسئول الأول بالجهة جهة مهنية مستقلة لعمل تقويم خارجي مستقل وإبداء الرأي عن مدى فعالية وكفاءة وحدة المراجعة الداخلية. كما يجب أن يشمل نطاق المراجعة </a:t>
            </a:r>
            <a:r>
              <a:rPr b="1" lang="ar-SA" sz="2400" spc="-1" strike="noStrike">
                <a:solidFill>
                  <a:srgbClr val="000000"/>
                </a:solidFill>
                <a:latin typeface="Calibri"/>
                <a:cs typeface="Arial"/>
              </a:rPr>
              <a:t>تقويماً لـلأمور التالية</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طاق خطة المراجعة الداخلية.                                   مراجعة المهام التي تم إنجازها.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ياسات والإجراءات.                                           جودة ملفات المراجعة وأوراق العمل.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ات الاتصال ورفع التقارير.                                 إدارة الموارد البشر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دريب العاملين.</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حقق من رضاء العميل</a:t>
            </a:r>
            <a:endParaRPr b="0" lang="en-US" sz="4800" spc="-1" strike="noStrike">
              <a:solidFill>
                <a:srgbClr val="404040"/>
              </a:solidFill>
              <a:latin typeface="Calibri Light"/>
            </a:endParaRPr>
          </a:p>
        </p:txBody>
      </p:sp>
      <p:sp>
        <p:nvSpPr>
          <p:cNvPr id="360"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جزء من التزامها بعمل التحسينات المستمرة لأداء المراجعة الداخلية ومراقبة جودتها، يمكن أن تقوم وحدة المراجعة الداخلية بتبني استبيان رضاء العميل  وذلك ليتم تعبئته من قبل الإدارات التي يتم مراجعتها على أن تتم إعادته مباشرة إلى مدير وحدة المراجعة. ويجب تسجيل وتلخيص وحفظ الرد على الاستبانات في ملف أوراق عمل ال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قائمة تقويم الأد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واء كان تقويم الأداء يتم ذاتيا ، أي تقويم وحدة المراجعة الداخلية لنفسها ، أو كان من جانب طرف خارجي يمكن الاسترشاد بقائمة تقويم الأداء التالية. وهذه القائمة مقتبسة بتصرف من دليل تقويم الأداء بديوان المراقب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2" name=""/>
          <p:cNvSpPr txBox="1"/>
          <p:nvPr/>
        </p:nvSpPr>
        <p:spPr>
          <a:xfrm>
            <a:off x="1096920" y="1846440"/>
            <a:ext cx="10058400" cy="4417920"/>
          </a:xfrm>
          <a:prstGeom prst="rect">
            <a:avLst/>
          </a:prstGeom>
          <a:noFill/>
          <a:ln w="0">
            <a:noFill/>
          </a:ln>
        </p:spPr>
        <p:txBody>
          <a:bodyPr lIns="0" rIns="0" anchor="t">
            <a:normAutofit fontScale="88000"/>
          </a:bodyPr>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حرص مدير وحدة المراجعة على ضرورة التوثيق الكافي لكل إجراءات المراجعة بما يحقق وجود مستند يؤيد كل إجراء تم تنفيذه. وتحتاج عملية التوثيق إلى الإحتفاظ بأوراق العمل (أوراق المراجعة) وتنظيمها.</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تطلب التوثيق الجيد ما يلي: </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ساطة والوضوح                                           تغطية كافة أنشطة المراجعة</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عد في شكل نماذج كلما أمكن ذلك                      أن تكون وثيقة الصلة بموضوع المراجع</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تصف بالدقة                                             أن ترقم وترتبط ببعضها.</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وضع خطة تنظيمية لتصميم وتداول وحفظ أوراق العمل بالإدارة.</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أن يتم التوقيع على أوراق العمل بما يساعد في تحديد المسئولية عن الأعمال التي تمت.</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4" name=""/>
          <p:cNvSpPr txBox="1"/>
          <p:nvPr/>
        </p:nvSpPr>
        <p:spPr>
          <a:xfrm>
            <a:off x="1096920" y="1846080"/>
            <a:ext cx="10058400" cy="443196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مية التوثيق:</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دليل على التزام الإدارة بالمعايير وإجراءات العمل المعتمد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عملية التوثيق مدير المراجعة في متابعة تقدم سير العمل وتحديد ما يجب عمله.</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في تحديد مدى العمل الذي تم في كل مهمة ، وما هو مطلوب لإنجاز المهم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المصدر الأساسي لاستخلاص النتائج وكتابة التقارير ومتابعة تنفيذ التوصيات والمقترحات.</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مرجعا للتحقق من جودة عمل المراجع الداخلي والرقابة على الجودة بواسطة المعنيين بذلك.</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كأدلة على العمل الذي تم عند تقويم أداء الإدار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مدير المراجعة في تخطيط عملية المراجعة للسنة التالي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ط الإرشادية لعملية حفظ السجل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الخاص بالمراجعة الداخلية توضيحا أو إرشادات لضوابط حفظ السجلات من قبل وحدة المراجعة الداخلية. فمثلا يمكن أن يتضمن الدليل أن برنامج المراجعة يحتفظ ب:</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نسخة الأخيرة فقط وأوراق عمل المراجعة لمدة ثلاث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ملفات المراجعة الدائمة خمس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قارير المراجعة الداخلية مدة غير محد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وسائل لحفظ الأوراق المرتبطة بعملية المراجعة، هدفها توثيق العمل وتتبع تطوره في الاجل القصير والطويل، وتساعد هذه الملفات في حفظ الأوراق والمستندات بطريقة تسهل الرجوع إليها. كما أنها تفتح لكل مهمة أو عملية 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ملفات المراجع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لدى وحدة المراجعة الداخلية نوعين من الملفات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ملف الدائ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ملف الجار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ناقشنا سابقا </a:t>
            </a:r>
            <a:r>
              <a:rPr b="0" lang="ar-SA" sz="4000" spc="-1" strike="noStrike">
                <a:solidFill>
                  <a:srgbClr val="000000"/>
                </a:solidFill>
                <a:latin typeface="Calibri Light"/>
                <a:ea typeface="Times New Roman"/>
              </a:rPr>
              <a:t>1</a:t>
            </a:r>
            <a:r>
              <a:rPr b="0" lang="ar-SA" sz="4000" spc="-1" strike="noStrike">
                <a:solidFill>
                  <a:srgbClr val="000000"/>
                </a:solidFill>
                <a:latin typeface="Calibri Light"/>
                <a:ea typeface="Times New Roman"/>
              </a:rPr>
              <a:t>-القواعد المنظمة لإنشاء وتنظيم وحدات المراجعة الداخلية وإداراتها</a:t>
            </a:r>
            <a:r>
              <a:rPr b="0" lang="ar-SA" sz="4000" spc="-1" strike="noStrike">
                <a:solidFill>
                  <a:srgbClr val="2683c6"/>
                </a:solidFill>
                <a:latin typeface="Calibri Light"/>
                <a:cs typeface="Times New Roman"/>
              </a:rPr>
              <a:t>،سوف نناقش اليوم</a:t>
            </a:r>
            <a:r>
              <a:rPr b="0" lang="ar-SA" sz="4000" spc="-1" strike="noStrike">
                <a:solidFill>
                  <a:srgbClr val="2683c6"/>
                </a:solidFill>
                <a:latin typeface="Calibri Light"/>
                <a:ea typeface="Times New Roman"/>
              </a:rPr>
              <a:t>:</a:t>
            </a:r>
            <a:endParaRPr b="0" lang="en-US" sz="40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جراءات انشاء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3</a:t>
            </a:r>
            <a:r>
              <a:rPr b="1" lang="ar-SA" sz="2400" spc="-1" strike="noStrike">
                <a:solidFill>
                  <a:srgbClr val="000000"/>
                </a:solidFill>
                <a:latin typeface="Calibri"/>
                <a:ea typeface="Arial"/>
              </a:rPr>
              <a:t>- تنظيم العمل بوحدات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ريف المراجعين الداخلين بمهام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رتب الوظيفية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أقسام أو الإدارات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عداد وإصدار دليل المراجعة الداخلية(تتضمن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فقرات سوف نناقش اليوم الاربع فقرات الاولى فقط ونناقش الفقرات المتبقية للمحاضرات القادمة بأذن الله)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0" name=""/>
          <p:cNvSpPr txBox="1"/>
          <p:nvPr/>
        </p:nvSpPr>
        <p:spPr>
          <a:xfrm>
            <a:off x="1096920" y="1846440"/>
            <a:ext cx="10058400" cy="447192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ف الدائم:</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حتوي على البيانات الهامة التي يحتاج لها المراجع الداخلي بشكل مستمر ، مثل الأوراق والمستندات التي يحتاجها عادة المراجع في كل مهمة مراجعة ولا يحدث عليها تغيرات مستمرة أو لا يقوم المراجع بتأسيسها مع كل مهمة مراجعة. مع هذا فمثل هذه البيانات تحتاج إلى تغيير على فترات بعيدة نسبيا كلما حدث عليها تحديث أو إضاف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تشمل بيانات ملف المراجعة الدائم ما يلي:</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يكل التنظيمي للوحدة.                                    نظام الترخيص بالأعمال.</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لوائح والتعميمات.                                        الوصف الوظيفي.</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خرائط وصف نظام الرقابة الداخلية.                     دليل السياسات والإجراءات.</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دليل المراجعة.                                            ملخص نتائج المراجعة للمهام السابق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2" name=""/>
          <p:cNvSpPr txBox="1"/>
          <p:nvPr/>
        </p:nvSpPr>
        <p:spPr>
          <a:xfrm>
            <a:off x="1096920" y="1846080"/>
            <a:ext cx="10058400" cy="444492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 المراجعة الجاري (ملف المهم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ضمن توثيق تطبيق إجراءات المراجعة ، ونتائج تطبيق الإجراءات والاستفسارات والردود عليه وغيرها من الأوراق والمستندات والملخصات التي تعكس عمل المراجع على المهمة المحدد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حتوي ملف مراجعة المهمة عادة على ما يلي</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برنامج العمل المكت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 أوراق الع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راق العمل التي تصف الجهة التي تمت مراجعتها وإجراءات المراجعة التي تم تأديتها.</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لاحظات، النتائج، والتوصيات.</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ارير المراجعة الرسمية الخاصة بالجه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74"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ن اكتشاف عمليات الغش والاحتيال والتلاعبات الأخرى لا يعتبر من مسؤوليات وحدة المرجعة الداخلية. فهو هدف ثانوي يمكن الوصول إليه أثناء تنفيذ إجراءات المراجعة العادية ولكنه هام ، لذلك يجب على موظفي المراجعة الداخلية ممارسة العناية المهنية تحت ظروف المراجعة العادية وأن يكونوا مدركين لاحتمال وجود مثل هذه العمليات. ففي كل الظروف تتمثل مسئولية المراجع الداخلي الالتزام بتطبيق العناية المهنية الواجبة والتي تتطلب منه  تطبيق الإجراءات المناسبة واستخدام الحكم المهني بدون تقصير للدرجة التي يطمئن بها إلى أنه لو كان هناك حالات غش أو إحتيال أو تلاعبات أخرى سوف يتم اكتشاف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76"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طلب العناية المهنية من المراجع الداخلي الالتزام بتطبيق إجراءات المراجعة اللازمة وتأكيد صحة المعطيات بدرجة معقولة وهو لا يطالب، في ظل الظروف العادية، بعمل مرجعة مفصلة لكل التعاملات التي تجريها الوحدة. وبالتالي غير مسئول عن اكتشاف الغش والاحتيال والتلاعبات الأخرى ، لكن عند الشك في ارتكاب عمليات غش أو احتيال أو تلاعبات أخرى، يجب على المراجع  أن يخبر قائد الفريق ومدير وحدة المراجعة والذي يجب عليه أن يرفع الأمر إلى المسئول الأول بالجهة. حيث سيقوم الأخير بمراجعة الأمر وتحديد مجريات الأحداث الملائمة. التي قد تشمل توسيع نطاق المراجعة لتحديد درجة وطبيعة هذه العمليات، وتحديد المستويات الإدارية أو الرقابية التي يجب إبلاغها بالأمر.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الوحدات قد يتضمن تنظيم وحدة المراجعة الداخلية قسم خاص بمراجعة الحالات الخاصة التي تنطوى على عمليات غش أو احتيال أو تلاعبات أخرى.</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endParaRPr b="0" lang="en-US" sz="4800" spc="-1" strike="noStrike">
              <a:solidFill>
                <a:srgbClr val="404040"/>
              </a:solidFill>
              <a:latin typeface="Calibri Light"/>
            </a:endParaRPr>
          </a:p>
        </p:txBody>
      </p:sp>
      <p:sp>
        <p:nvSpPr>
          <p:cNvPr id="378" name=""/>
          <p:cNvSpPr txBox="1"/>
          <p:nvPr/>
        </p:nvSpPr>
        <p:spPr>
          <a:xfrm>
            <a:off x="1096920" y="1846440"/>
            <a:ext cx="10058400" cy="44719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اصل مع المستويات الإدارية العل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المسئول الأول بالجهة على ترتيب لقاءات دورية مع مدير وحدة المراجعة الداخلية ،هذا وتمثل القائمة التالية المواضيع التي تطرح على المسئول الأول بالجهة أو (المستويات الإدارية العليا الأخرى) بشكل دور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رض لخطة  وحدة المراجعة الداخلية (الاستراتيج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تقدير المخاطر السنو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أعمال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قارير السنوية لإنجازات وأداء 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زاعات القائمة مع الإدارة الع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87280"/>
            <a:ext cx="10058400" cy="1798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ea typeface="Times New Roman"/>
              </a:rPr>
              <a:t>1-</a:t>
            </a:r>
            <a:r>
              <a:rPr b="0" lang="ar-SA" sz="4800" spc="-1" strike="noStrike">
                <a:solidFill>
                  <a:srgbClr val="0070c0"/>
                </a:solidFill>
                <a:latin typeface="Calibri Light"/>
                <a:cs typeface="Times New Roman"/>
              </a:rPr>
              <a:t>لإنشاء وحدة مراجعة داخلية تتخذ الإجراءات التالية</a:t>
            </a:r>
            <a:br>
              <a:rPr sz="4800"/>
            </a:br>
            <a:endParaRPr b="0" lang="en-US" sz="4800" spc="-1" strike="noStrike">
              <a:solidFill>
                <a:srgbClr val="404040"/>
              </a:solidFill>
              <a:latin typeface="Calibri Light"/>
            </a:endParaRPr>
          </a:p>
        </p:txBody>
      </p:sp>
      <p:sp>
        <p:nvSpPr>
          <p:cNvPr id="317" name=""/>
          <p:cNvSpPr txBox="1"/>
          <p:nvPr/>
        </p:nvSpPr>
        <p:spPr>
          <a:xfrm>
            <a:off x="1211400" y="1906200"/>
            <a:ext cx="9943920" cy="39625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 إختيار مدير 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2</a:t>
            </a:r>
            <a:r>
              <a:rPr b="0" lang="ar-SA" sz="2800" spc="-1" strike="noStrike">
                <a:solidFill>
                  <a:srgbClr val="000000"/>
                </a:solidFill>
                <a:latin typeface="Calibri"/>
                <a:ea typeface="Arial"/>
              </a:rPr>
              <a:t>- تحديد الموقع التنظيمي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3</a:t>
            </a:r>
            <a:r>
              <a:rPr b="0" lang="ar-SA" sz="2800" spc="-1" strike="noStrike">
                <a:solidFill>
                  <a:srgbClr val="000000"/>
                </a:solidFill>
                <a:latin typeface="Calibri"/>
                <a:ea typeface="Arial"/>
              </a:rPr>
              <a:t>- تخصيص مكان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4</a:t>
            </a:r>
            <a:r>
              <a:rPr b="0" lang="ar-SA" sz="2800" spc="-1" strike="noStrike">
                <a:solidFill>
                  <a:srgbClr val="000000"/>
                </a:solidFill>
                <a:latin typeface="Calibri"/>
                <a:ea typeface="Arial"/>
              </a:rPr>
              <a:t>- إختيار الأفراد المؤهلين للعمل بوحدة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حيث المؤه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ar-SA" sz="2400" spc="-1" strike="noStrike">
                <a:solidFill>
                  <a:srgbClr val="000000"/>
                </a:solidFill>
                <a:latin typeface="Calibri"/>
                <a:cs typeface="Arial"/>
              </a:rPr>
              <a:t>من حيث الخبرة العم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من حيث الصفات الشخص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2</a:t>
            </a:r>
            <a:r>
              <a:rPr b="0" lang="ar-SA" sz="4800" spc="-1" strike="noStrike">
                <a:solidFill>
                  <a:srgbClr val="2683c6"/>
                </a:solidFill>
                <a:latin typeface="Calibri Light"/>
                <a:ea typeface="Times New Roman"/>
              </a:rPr>
              <a:t>- تنظيم العمل بوحدات المراجعة الداخلية</a:t>
            </a:r>
            <a:endParaRPr b="0" lang="en-US" sz="48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نظيم العمل بوحدات المراجعة الداخلية يعتبر من المسئوليات الأساسية لمدير الوحدة ويشمل تنظيم العمل بوحدات المراجعة الداخلية ما يل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عريف المراجعين الداخلين بمهام وحدة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رتب الوظيفية داخل وحدة المراجع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أقسام أو الإدارات داخل وحدة المراجع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المراجعة</a:t>
            </a:r>
            <a:r>
              <a:rPr b="0" lang="ar-SA" sz="2400" spc="-1" strike="noStrike">
                <a:solidFill>
                  <a:srgbClr val="000000"/>
                </a:solidFill>
                <a:latin typeface="Calibri"/>
                <a:ea typeface="Arial"/>
              </a:rPr>
              <a:t>: وتختص بأعمال المراجعة والفحص.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إستشارات</a:t>
            </a:r>
            <a:r>
              <a:rPr b="0" lang="ar-SA" sz="2400" spc="-1" strike="noStrike">
                <a:solidFill>
                  <a:srgbClr val="000000"/>
                </a:solidFill>
                <a:latin typeface="Calibri"/>
                <a:ea typeface="Arial"/>
              </a:rPr>
              <a:t>: وتختص بتقديم الإستشارات للإدارات الأخرى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تنظيم العمل بوحدات المراجعة الداخلية</a:t>
            </a:r>
            <a:endParaRPr b="0" lang="en-US" sz="48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مراقبة الجودة</a:t>
            </a:r>
            <a:r>
              <a:rPr b="0" lang="ar-SA" sz="2400" spc="-1" strike="noStrike">
                <a:solidFill>
                  <a:srgbClr val="000000"/>
                </a:solidFill>
                <a:latin typeface="Calibri"/>
                <a:ea typeface="Arial"/>
              </a:rPr>
              <a:t>: وتختص بمراقبة وتقويم جودة الأداء بوحدة المراجعة الداخلي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أعمال المساندة والإتصالات</a:t>
            </a:r>
            <a:r>
              <a:rPr b="0" lang="ar-SA" sz="2400" spc="-1" strike="noStrike">
                <a:solidFill>
                  <a:srgbClr val="000000"/>
                </a:solidFill>
                <a:latin typeface="Calibri"/>
                <a:ea typeface="Arial"/>
              </a:rPr>
              <a:t>: وتختص بالأعمال المساندة كالنسخ والحفظ والإتصال بالإدارات الأخرى داخل الجه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عمليات الخاصة</a:t>
            </a:r>
            <a:r>
              <a:rPr b="0" lang="ar-SA" sz="2400" spc="-1" strike="noStrike">
                <a:solidFill>
                  <a:srgbClr val="000000"/>
                </a:solidFill>
                <a:latin typeface="Calibri"/>
                <a:ea typeface="Arial"/>
              </a:rPr>
              <a:t>: يمكن أن يكون هناك إدارة خاصة تتولى أعمال الفحص والمراجعة ذات الطبيعة الخاصة مثل التي تتضمن فحص عمليات غش أو إختلاسات.</a:t>
            </a:r>
            <a:endParaRPr b="0" lang="en-US" sz="2400" spc="-1" strike="noStrike">
              <a:solidFill>
                <a:srgbClr val="404040"/>
              </a:solidFill>
              <a:latin typeface="Calibri"/>
            </a:endParaRPr>
          </a:p>
          <a:p>
            <a:pPr marL="84600" indent="-8460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cade4"/>
                </a:solidFill>
                <a:latin typeface="Calibri"/>
                <a:ea typeface="Arial"/>
              </a:rPr>
              <a:t>4</a:t>
            </a:r>
            <a:r>
              <a:rPr b="0" lang="ar-SA" sz="2800" spc="-1" strike="noStrike">
                <a:solidFill>
                  <a:srgbClr val="1cade4"/>
                </a:solidFill>
                <a:latin typeface="Calibri"/>
                <a:ea typeface="Arial"/>
              </a:rPr>
              <a:t>) </a:t>
            </a:r>
            <a:r>
              <a:rPr b="1" lang="ar-SA" sz="2800" spc="-1" strike="noStrike">
                <a:solidFill>
                  <a:srgbClr val="000000"/>
                </a:solidFill>
                <a:latin typeface="Calibri"/>
                <a:cs typeface="Arial"/>
              </a:rPr>
              <a:t>إعداد وإصدار دليل المراجعة الداخلية</a:t>
            </a: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أهم مسئوليات مدير وحدة المراجعة الداخلية بالتنسيق مع المسئول الأول بالجهة إعداد دليل للمراجعة الداخلية. وقد يلجا مدير الوحدة إلى جهة خارجية تتولى إعداد هذا الدليل. والذي يجب أن يبين الإجراءات والسياسات الواجب أتباعها أثناء ممارسة وحدة المراجعة الداخلية لأعمالها.(الشرائح التالية تشرح هذه الفقرة  بالاضافة للعرض </a:t>
            </a:r>
            <a:r>
              <a:rPr b="0" lang="ar-SA" sz="2400" spc="-1" strike="noStrike">
                <a:solidFill>
                  <a:srgbClr val="000000"/>
                </a:solidFill>
                <a:latin typeface="Calibri"/>
                <a:ea typeface="Arial"/>
              </a:rPr>
              <a:t>3</a:t>
            </a:r>
            <a:r>
              <a:rPr b="0" lang="ar-SA" sz="2400" spc="-1" strike="noStrike">
                <a:solidFill>
                  <a:srgbClr val="000000"/>
                </a:solidFill>
                <a:latin typeface="Calibri"/>
                <a:cs typeface="Arial"/>
              </a:rPr>
              <a:t>و</a:t>
            </a:r>
            <a:r>
              <a:rPr b="0" lang="ar-SA" sz="2400" spc="-1" strike="noStrike">
                <a:solidFill>
                  <a:srgbClr val="000000"/>
                </a:solidFill>
                <a:latin typeface="Calibri"/>
                <a:ea typeface="Arial"/>
              </a:rPr>
              <a:t>4</a:t>
            </a:r>
            <a:r>
              <a:rPr b="0" lang="ar-SA" sz="2400" spc="-1" strike="noStrike">
                <a:solidFill>
                  <a:srgbClr val="000000"/>
                </a:solidFill>
                <a:latin typeface="Calibri"/>
                <a:cs typeface="Arial"/>
              </a:rPr>
              <a:t>و</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4600" indent="-8460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4600" indent="-846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هيكل العام لدليل المراجعة</a:t>
            </a:r>
            <a:endParaRPr b="0" lang="en-US" sz="4800" spc="-1" strike="noStrike">
              <a:solidFill>
                <a:srgbClr val="404040"/>
              </a:solidFill>
              <a:latin typeface="Calibri Light"/>
            </a:endParaRPr>
          </a:p>
        </p:txBody>
      </p:sp>
      <p:sp>
        <p:nvSpPr>
          <p:cNvPr id="323" name=""/>
          <p:cNvSpPr txBox="1"/>
          <p:nvPr/>
        </p:nvSpPr>
        <p:spPr>
          <a:xfrm>
            <a:off x="1096920" y="186048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تمل الدليل على الفقرات التالية (على الأق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أولى: معلومات عـ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فقرة الثانية: معلومات عن الوحدة الحكوم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ثالثة: معلومات عن 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رابعة: إدارة وحد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خامسة: تخطيط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دسة: تنفيذ مشاريع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بعة: إعداد ورفع التقارير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 معلومات عام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بارة عن مقدمة موجزة تصف دليل المراجعة الداخلية وعلاقته مع المستندات الأخرى التي تقدم المعلومات الإضافية أو ذات العلاقة، كما تتضمن هذه الفقرة الهدف والغاية من صياغة الدليل بالإضافة إلى أي معلومات يرغب رئيس وحدة المراجعة والمسئول الأول وضعها مثل إجراءات تداول الدليل وإشارة إلى ملكيته لوحدة المراجعة.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 :أهداف دليل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6000"/>
          </a:bodyPr>
          <a:p>
            <a:pPr marL="85320" indent="-85320" algn="r"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ea typeface="Arabic Transparent"/>
              </a:rPr>
              <a:t> </a:t>
            </a:r>
            <a:endParaRPr b="0" lang="en-US" sz="20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سعودية إن وجدت. </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شكيل السياسات الإدارية والتنظيمية بوحدة 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حديد الواضح للمسؤوليات والسلطات داخل وحدة 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حقيق التناسق بين أنشطة 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لخيص وتوحيد أساليب المراجعة الداخلية في الوحدة وتوفير التعليمات الخاصة ب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مساعدة فرق المراجعة في أداء مهامهم. </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ظيم عملية التدريب داخل وحدة المراجعة.</a:t>
            </a:r>
            <a:endParaRPr b="0" lang="en-US" sz="2400" spc="-1" strike="noStrike">
              <a:solidFill>
                <a:srgbClr val="404040"/>
              </a:solidFill>
              <a:latin typeface="Calibri"/>
            </a:endParaRPr>
          </a:p>
          <a:p>
            <a:pPr marL="85320" indent="-85320" algn="just"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ea typeface="Arabic Transparent"/>
              </a:rPr>
              <a:t> </a:t>
            </a:r>
            <a:endParaRPr b="0" lang="en-US" sz="2400" spc="-1" strike="noStrike">
              <a:solidFill>
                <a:srgbClr val="404040"/>
              </a:solidFill>
              <a:latin typeface="Calibri"/>
            </a:endParaRPr>
          </a:p>
          <a:p>
            <a:pPr marL="85320" indent="-85320">
              <a:lnSpc>
                <a:spcPct val="90000"/>
              </a:lnSpc>
              <a:spcBef>
                <a:spcPts val="1199"/>
              </a:spcBef>
              <a:spcAft>
                <a:spcPts val="201"/>
              </a:spcAft>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Hana Ageel Alageel</cp:lastModifiedBy>
  <dcterms:modified xsi:type="dcterms:W3CDTF">2016-10-18T08:22:57Z</dcterms:modified>
  <cp:revision>35</cp:revision>
  <dc:subject/>
  <dc:title>إجراءات إنشاء وتنظيم وحدات المراجعة الداخلية وإداراتها</dc:title>
</cp:coreProperties>
</file>