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CB4034-9117-4BB2-893C-9B2C9F004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685800" y="1143000"/>
            <a:ext cx="5486400" cy="3086280"/>
          </a:xfrm>
          <a:prstGeom prst="rect">
            <a:avLst/>
          </a:prstGeom>
          <a:ln w="0">
            <a:noFill/>
          </a:ln>
        </p:spPr>
      </p:sp>
      <p:sp>
        <p:nvSpPr>
          <p:cNvPr id="3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FE373-64C6-4D30-B672-F98F271C9F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7C7D4-4891-4313-889E-8292CAAE6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D1323-6AE0-4CBD-BB68-18C3D4F3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1E541-6603-4611-8B12-C4A669383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49651-DC26-428F-9E14-AD7EA74AC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935D29-3851-4147-BD7B-D5A48D4AE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F5C6E-2B82-4409-9647-FFBA6391D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8117-3428-48DA-8230-7A6F82A74D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7F601-E01C-41A0-AB48-7302A633F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5B11A-90A3-4231-A19D-93A8F6091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F9B9D-8A38-4B1D-B61E-7289CC052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D016A-3C93-43ED-9AD9-7C6BA452D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7EF33-6115-4716-B0E0-4050818ED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9D98D-8CFB-443A-B2D8-1C74676C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3BFD7-AEA1-4765-9D5A-58DF91F9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8BFAA-E021-45A1-8CFD-390689AB9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CA567-F8E0-4048-B5B9-9494A054B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D1300-9213-409E-B06E-10614EE871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8A552E-2F2B-4151-8126-EED190E74F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58F8EF-B837-41D2-BBC1-2D4E0C5AC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BBEA69-D077-4869-9FCB-0C05FFC4B0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DB928-E521-45C9-BAC4-EFA1EF2B36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40733D-F61A-4D71-806E-0EB3DF76C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CBC21-6FEE-41A2-A57A-A0605F828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75373-4FC6-4851-878B-17115C185B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8DF02-5C9E-4076-8564-BC9EAFF5A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203BC-0EC6-4412-BCEB-63DDD70EC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990D1-DB6A-446D-A8E7-5A5C10C0A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86FBB-8180-4C54-9339-86D31695F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0D6030-B8C3-4987-9576-0DDE2C6379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0DA8CE-B3B5-4B7A-87A5-298247C7CE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1996D5-098F-4481-A501-45756808B9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A2CBD-482B-4D3A-B965-1C29EB1EA6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34EE6-FFDC-4CA2-A4B2-A3937D05E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BA258-8E1F-4D5D-A408-B4FC42087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4D4B0-C3A1-41EB-8774-2C8BFA30BA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2736A-A433-4E61-B5E2-BA33A99D1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9ABBD-1476-4B04-8013-88D43EC8E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841358-DAB4-430E-8B06-99AA19C76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E5625-65DB-490B-B0BD-FEF409654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259F4-4689-42A9-BDF2-C0E0FC869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82646-1346-4CA5-92C5-33B666AF55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CEC28-0612-4DD2-BA96-720A9EB57F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CDEC18-ECDA-4C4F-A7D5-ABEF958EAF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684DB9-5148-4817-B934-4AD584E3F6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03FCA-7576-4ABC-99B7-F4050B29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6CC5C-F816-4A80-827E-4D1746AB25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C5303-E3FC-4BE1-9075-490650052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3CD977-E0D7-4300-8DD3-FCD65D52DD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74C353-CCD3-4778-8297-D2002C7E33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40AB53-CD89-4139-BA99-1D6AEF1DC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9E9FF-A5D5-481C-AA22-15DB7F9C7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0509D-E644-40C7-A660-EC42C2FED6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CB7269-59E6-4B44-8EAA-BE96C57B6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B13AD2-67FB-4F9F-BC78-0207074B0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0F08ED-8B8E-4528-9A08-1ADC984CA9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6082C-E61A-4806-95CA-CBC5E6FE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E2CAF3-9810-42AC-8CF0-CB8C6005F5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53EBE7-0CB3-4BAC-A710-90EDFE29F9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6B4B25-B0DE-485E-8E6F-62CB73E2A6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169BBA-5401-4390-A929-991D736600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827E6-8233-466F-B50F-43275379B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43E41-AAE1-4102-92F8-44B674176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5AAA6-1F88-4B37-94E3-FCB10F3BEE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D7EFEA-4000-4EE0-B54E-D1042A0D1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1E872-9168-4DD5-A3B1-A61381217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FD5DA-99FD-4A42-B7ED-88ACFC004B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DEFD-D8A6-4155-A284-B9CE4A70E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F42A4-9A59-4C2B-99BE-1C369BB1AC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576FE4-19BB-451C-B39C-931F4BE051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4E0F56-4483-459C-AB71-AA4AE3BA8C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9A2518-D115-44C1-8EC4-ABAB55E9FC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94FA28-9BBE-4D61-8C2C-D6237E0F9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94D25-4389-4D92-AF04-62E75B4DA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0CB2F5-0AAE-4363-83B4-D4B864034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84F941-8DD3-4576-A325-C14EDE2478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C2F449-DD61-4FA4-A2C1-7009F1686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BCDDC-BA2F-4125-A67E-ED5E5EBFA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27CA-68AC-44F3-90F8-6EBA6805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8D9A0-B772-4BB0-B8B1-9C3E46543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F357C-BE50-4451-A3BD-6B410C908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93478D-CA75-4AB1-8883-036C84C659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A8E29F-21B8-4AB1-ABA9-44779D78FD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82A1BC-45FC-417B-A661-74B8516810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AE9B4-D4EC-4F2E-B0AE-F1C5EF2A0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9F4E3-80B9-4131-9511-3E03E1A08F8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684E39-1C54-4728-8053-431670098A4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0A5A2-DED6-4FDD-8E73-05071D1F9D3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976D7-640C-484F-BE67-C058F9696CB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57C80-0FEB-4CB3-89F1-DB21021D678F}"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880C3-9C6B-4121-A7DC-B11599B609A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2C4BEC-E694-4412-9024-492A57E8891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262626"/>
                </a:solidFill>
                <a:latin typeface="Times New Roman"/>
                <a:cs typeface="Arabic Transparent"/>
              </a:rPr>
              <a:t>إجراءات إنشاء وتنظيم وحدات المراجعة الداخلية وإداراتها</a:t>
            </a:r>
            <a:endParaRPr b="0" lang="en-US" sz="5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الفقرة الأولى: توزيع دليل المراجعة الداخلية</a:t>
            </a:r>
            <a:endParaRPr b="0" lang="en-US" sz="40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تم تطوير وإصدار الدليل ليتم استخدامه فقط من قبل وحدة المراجعة الداخلية بالجهة. كما يتم توزيع الدليل على موظفي المراجعة الداخلية للاستخدام الداخلي فقط. لذا فإن إعطاء الدليل لأشخاص من خارج وحدة المراجعة الداخلية يعتبر عملاً ممنوعاً ما لم يتم إصدار موافقة خطية من قبل المسؤول الأول بالجه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إحداث تعديلات على دليل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022640"/>
          </a:xfrm>
          <a:prstGeom prst="rect">
            <a:avLst/>
          </a:prstGeom>
          <a:noFill/>
          <a:ln w="0">
            <a:noFill/>
          </a:ln>
        </p:spPr>
        <p:txBody>
          <a:bodyPr lIns="0" rIns="0" anchor="t">
            <a:normAutofit fontScale="92000"/>
          </a:bodyPr>
          <a:p>
            <a:pPr marL="82800" indent="-828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لضمان مواكبة وحدة المراجعة الداخلية في الجهة للتطورات التي قد تحدث في المستقبل نتيجة معايير جديدة أو تعليمات جديدة تصدر عن معهد المراجعين الداخليين أو الهيئة السعودية للمحاسبين القانونيين، فإنه من فترة لأخرى يجب إعادة النظر في الدليل وإدخال إي تعديلات عليه من فترة لأخرى بحيث تضمن فعالية وكفاءة أعمال المراجعة الداخلية. من الممكن أن تأخذ هذه التعديلات شكل تغييرات في فقرات الدليل أو إضافة فقرات أو تعليقات أو اقتراحات جديدة من قبل فرق ومدراء المراجعة الداخلية أو المسئول الأول بالحهة نفسه. علماً بأنه يجب أخذ موافقة المسؤول الأول بالجهة على هذه التعديلات أو الإضافات قبل إصدارها. بالإضافة إلى ما تقدم، فإنه يجب إجراء مراجعة شاملة لمحتويات الدليل كل فترة لضمان حداثة المعلومات داخل الدلي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نية: الجهة الحكومية التي تعمل بها وحدة المراجعة</a:t>
            </a:r>
            <a:endParaRPr b="0" lang="en-US" sz="4800" spc="-1" strike="noStrike">
              <a:solidFill>
                <a:srgbClr val="404040"/>
              </a:solidFill>
              <a:latin typeface="Calibri Light"/>
            </a:endParaRPr>
          </a:p>
        </p:txBody>
      </p:sp>
      <p:sp>
        <p:nvSpPr>
          <p:cNvPr id="333"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قد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ها معلومات عن الجهة التي تعمل بها وحدة المراجعة من حيث تاريخ إنشائها والتطورات التي حدثت ف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داف ورسالة الجه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ض في هذا الجزء أهداف ورسالة الجهة الحكومية التي تنتمي إليها وحدة المراجع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ثالثة: معلومات عن وحدة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فهوم المراجعة الداخل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وضع التنظيمي لوحدة المراجعة الداخل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رؤيا (الرسالة)الخاصة بوحدة المراجعة الداخل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صياغة رسالة (رؤيا) واضحة لوحدة المراجعة الداخلية يكون جميع العاملين بالوحدة على علم تام بها</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ما يجب صياغة هدف عام للوحدة يكون جميع العاملين بالوحدة على علم تام وقناعة تامة به</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ري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a:t>
            </a:r>
            <a:endParaRPr b="0" lang="en-US" sz="4800" spc="-1" strike="noStrike">
              <a:solidFill>
                <a:srgbClr val="404040"/>
              </a:solidFill>
              <a:latin typeface="Calibri Light"/>
            </a:endParaRPr>
          </a:p>
        </p:txBody>
      </p:sp>
      <p:sp>
        <p:nvSpPr>
          <p:cNvPr id="337"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فقرة مستقلة عن الإجراءات التي يجب اتباعها لإدارة وحدة المراجعة الداخلية بشكل يضمن الحفاظ على مستوى جودة مقبول ويضمن الإلتزام بباقي فقرات الدليل. ونعرض فيما يلي لأهم ما يجب أن يتضمنه دليل المراجعة في هذا الخصوص وهو: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تقويم أداء العاملين ب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رقابة الجود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حقق من رضاء العميل</a:t>
            </a:r>
            <a:r>
              <a:rPr b="1" lang="ar-SA" sz="2400" spc="-1" strike="noStrike">
                <a:solidFill>
                  <a:srgbClr val="000000"/>
                </a:solidFill>
                <a:latin typeface="Calibri"/>
                <a:ea typeface="Arial"/>
              </a:rPr>
              <a:t>	</a:t>
            </a:r>
            <a:r>
              <a:rPr b="1"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ثيق حفظ السجلات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a:t>
            </a:r>
            <a:r>
              <a:rPr b="0" lang="ar-SA" sz="4800" spc="-1" strike="noStrike">
                <a:solidFill>
                  <a:srgbClr val="2683c6"/>
                </a:solidFill>
                <a:latin typeface="Times New Roman"/>
                <a:cs typeface="Arabic Transparent"/>
              </a:rPr>
              <a:t>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3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دريب على رأس العم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عني التدريب على رأس العمل الإستفادة من الخبرات التي يكتسبها المراجع الداخلي بنفسه أثناء تنفيذ عمل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دريب المخطط</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على الجهة ووحدة المراجعة الداخلية بها أن يلتزمان بتقديم دورات تدريب منتظمة للعاملين بوحدة المراجعة الداخل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 إدارة وحدة المراجعة الداخلية </a:t>
            </a:r>
            <a:br>
              <a:rPr sz="4800"/>
            </a:br>
            <a:r>
              <a:rPr b="0" lang="ar-SA" sz="4800" spc="-1" strike="noStrike">
                <a:solidFill>
                  <a:srgbClr val="2683c6"/>
                </a:solidFill>
                <a:latin typeface="Calibri Light"/>
                <a:cs typeface="Times New Roman"/>
              </a:rPr>
              <a:t>التدريب</a:t>
            </a:r>
            <a:endParaRPr b="0" lang="en-US" sz="4800" spc="-1" strike="noStrike">
              <a:solidFill>
                <a:srgbClr val="404040"/>
              </a:solidFill>
              <a:latin typeface="Calibri Light"/>
            </a:endParaRPr>
          </a:p>
        </p:txBody>
      </p:sp>
      <p:sp>
        <p:nvSpPr>
          <p:cNvPr id="341"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عليم المستمر والشهادات المهنية: </a:t>
            </a:r>
            <a:endParaRPr b="0" lang="en-US" sz="2400" spc="-1" strike="noStrike">
              <a:solidFill>
                <a:srgbClr val="404040"/>
              </a:solidFill>
              <a:latin typeface="Calibri"/>
            </a:endParaRPr>
          </a:p>
        </p:txBody>
      </p:sp>
      <p:graphicFrame>
        <p:nvGraphicFramePr>
          <p:cNvPr id="342" name=""/>
          <p:cNvGraphicFramePr/>
          <p:nvPr/>
        </p:nvGraphicFramePr>
        <p:xfrm>
          <a:off x="1096920" y="2224080"/>
          <a:ext cx="10058400" cy="4108320"/>
        </p:xfrm>
        <a:graphic>
          <a:graphicData uri="http://schemas.openxmlformats.org/drawingml/2006/table">
            <a:tbl>
              <a:tblPr/>
              <a:tblGrid>
                <a:gridCol w="5783400"/>
                <a:gridCol w="4275000"/>
              </a:tblGrid>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tern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داخ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raud Examin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اختلاس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26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Financial Manage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دير مال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7700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Information System Auditor</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راجع أنظمة المعلومات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1444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Public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قانوني مرخص.</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769680">
                <a:tc>
                  <a:txBody>
                    <a:bodyPr lIns="47160" rIns="47160" tIns="0" bIns="0" anchor="t">
                      <a:noAutofit/>
                    </a:bodyPr>
                    <a:p>
                      <a:pPr algn="r">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Certified Management Accountant</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47160" rIns="47160" tIns="0" bIns="0" anchor="t">
                      <a:noAutofit/>
                    </a:bodyPr>
                    <a:p>
                      <a:pPr algn="r" rtl="1">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شهادة محاسب إداري مرخص .</a:t>
                      </a:r>
                      <a:endParaRPr b="0" lang="en-US" sz="1600" spc="-1" strike="noStrike">
                        <a:solidFill>
                          <a:srgbClr val="000000"/>
                        </a:solidFill>
                        <a:latin typeface="Calibri"/>
                      </a:endParaRPr>
                    </a:p>
                  </a:txBody>
                  <a:tcPr anchor="t" marL="47160" marR="4716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4"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تتبنى وحدة المراجعة الداخلية نظام جيد لتقويم أداء العاملين بها وبصفة خاصة المراجعين الداخليين.ويستخدم تقويم أداء المراجعين الداخليين كأداة لتعزيز عمليات الإشراف ومراقبة تطور الأداء. بالإضافة إلى ذلك، فإن تقويم الأداء يستخدم لمساعدة المراجعين في تحديد نقاط ضعفهم والعمل على تحسينها قبل موعد عمليات التقويم اللاحقة. ويجب الاحتفاظ بنماذج تقويم المراجعين الداخليين داخل ملفاتهم الشخصية وليس في ملف مراجعة المهم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بصفة عامة يمكن استخدام نوعين مختلفين لعمليات تقويم أداء المراجعين الداخليين ، و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6" name=""/>
          <p:cNvSpPr txBox="1"/>
          <p:nvPr/>
        </p:nvSpPr>
        <p:spPr>
          <a:xfrm>
            <a:off x="1096920" y="1860120"/>
            <a:ext cx="10058400" cy="438948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خاص بكل مهم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هذا النوع من التقويم يتم تقويم أداء المراجعين في نهاية كل مهمة يتم تنفيذها ، ويقوم مدير وحدة المراجعة بإعداد هذا التقويم لكل أعضاء فرق مهمة المراجعة الداخلي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الملاحظات بغرض تقويم أداء المراجعين الى:</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استيفائية: </a:t>
            </a:r>
            <a:r>
              <a:rPr b="0" lang="ar-SA" sz="2400" spc="-1" strike="noStrike">
                <a:solidFill>
                  <a:srgbClr val="000000"/>
                </a:solidFill>
                <a:latin typeface="Calibri"/>
                <a:cs typeface="Arial"/>
              </a:rPr>
              <a:t>وهي الملاحظات التي تتضمن طلب استيفاء مستندات صرف مبلغ معين أو الاستفسار عن مبررات صرف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ة النظامية: </a:t>
            </a:r>
            <a:r>
              <a:rPr b="0" lang="ar-SA" sz="2400" spc="-1" strike="noStrike">
                <a:solidFill>
                  <a:srgbClr val="000000"/>
                </a:solidFill>
                <a:latin typeface="Calibri"/>
                <a:cs typeface="Arial"/>
              </a:rPr>
              <a:t>وهي الملاحظات التي تتضمن عدم الالتزام بالأنظمة أو القرارات والتعاميم المعمول بها في الجهة ولا يترتب عليها ضياع مبالغ نقدية على الجه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احظات المالية: </a:t>
            </a:r>
            <a:r>
              <a:rPr b="0" lang="ar-SA" sz="2400" spc="-1" strike="noStrike">
                <a:solidFill>
                  <a:srgbClr val="000000"/>
                </a:solidFill>
                <a:latin typeface="Calibri"/>
                <a:cs typeface="Arial"/>
              </a:rPr>
              <a:t>وهي الملاحظات التي تتضمن تحصيل مبلغ معين أو توفير مبلغ معين أو حمايته من الضياع.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 </a:t>
            </a:r>
            <a:br>
              <a:rPr sz="4800"/>
            </a:br>
            <a:r>
              <a:rPr b="0" lang="ar-SA" sz="4800" spc="-1" strike="noStrike">
                <a:solidFill>
                  <a:srgbClr val="2683c6"/>
                </a:solidFill>
                <a:latin typeface="Calibri Light"/>
                <a:cs typeface="Times New Roman"/>
              </a:rPr>
              <a:t>تقويم أداء العاملين بوحدة المراجعة الداخلية</a:t>
            </a:r>
            <a:endParaRPr b="0" lang="en-US" sz="4800" spc="-1" strike="noStrike">
              <a:solidFill>
                <a:srgbClr val="404040"/>
              </a:solidFill>
              <a:latin typeface="Calibri Light"/>
            </a:endParaRPr>
          </a:p>
        </p:txBody>
      </p:sp>
      <p:sp>
        <p:nvSpPr>
          <p:cNvPr id="348"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 السنو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فر التقويم السنوي النتيجة النهائية لعملية تقويم المراجعين الداخليين والتي تستخدم كأساس في أخذ القرارات الإدارية مثل الترقية، تقييم الراتب، والتوصيات بالتدريب، أو الإجراءات التصحيحية. ويجب أن يرتكز التقويم السنوي كذلك على تجميع نماذج التقويم الخاصة بالمهام والتي تم إعدادها طوال العام في نهاية كل مهمة. ويجب أن يكون هناك نموذج للتقويم السنوي تتبناه وحدة المراجعة الداخلية.</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cs typeface="Times New Roman"/>
              </a:rPr>
              <a:t>الاهداف</a:t>
            </a:r>
            <a:endParaRPr b="0" lang="en-US" sz="4800" spc="-1" strike="noStrike">
              <a:solidFill>
                <a:srgbClr val="404040"/>
              </a:solidFill>
              <a:latin typeface="Calibri Light"/>
            </a:endParaRPr>
          </a:p>
        </p:txBody>
      </p:sp>
      <p:sp>
        <p:nvSpPr>
          <p:cNvPr id="313"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cs typeface="Arial"/>
              </a:rPr>
              <a:t>تطبيقا لأحكام اللائحة الموحدة لوحدات المراجعة الداخلية بالوحدات الحكومية والمؤسسات العامة تلتزم كل جهة أو مؤسسة عامة بإنشاء وحدة للمراجعة الداخلية. وتقع مسئولية إنشاء وحدة المراجعة الداخلية على عاتق المسئول الأول بالجهة. وسوف </a:t>
            </a:r>
            <a:r>
              <a:rPr b="0" lang="ar-EG" sz="3600" spc="-1" strike="noStrike">
                <a:solidFill>
                  <a:srgbClr val="000000"/>
                </a:solidFill>
                <a:latin typeface="Calibri"/>
                <a:cs typeface="Arial"/>
              </a:rPr>
              <a:t>نتناول في هذا اليوم عرض للإجراءات التنفيذية لإنشاء وحدات المراجعة الداخلية وتنظيمها وإداراتها وإعداد دليل المراجعة. </a:t>
            </a:r>
            <a:endParaRPr b="0" lang="en-US" sz="3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0"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مدير وحدة المراجعة على ضمان الالتزام بمعايير المراجعة الداخلية والسياسات المرسومة لوحدة المراجعة الداخلية وكذلك برامج المراجعة. ولتحقيق ذلك يجب أن يكون هناك  عمليات تقويم  مستمرة لعمل الوحدة وسياساتها وبرامجها. ويمكن أن يقوم بدور رقابة الجودة قسم مستقل داخل وحدة المراجعة الداخلية تكون مهمته إدارة وضبط الجودة  عن طريق إنشاء ومتابعة برنامج ضبط الجودة وذلك لتقويم أداء المراجعة الداخلية في مختلف الأنشطة. ويمكن أن تتم عملية رقابة الجودة عن طريق ما يل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2"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 التقويم الداخلي ل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حيث يقوم القسم الخاص بضبط الجودة باختيار عينة من مهام المراجعة التي تم تنفيذها خلال العام  لمطابقتها على المعايير والإجراءات المعتمدة للتأكد من جودة عمل المراجعة ومستوى الإلتزام  بالسياسات المعتمدة لتقييم المخاطر والمراجع الداخلية ودليل المراجعة الداخلية ورفع تقرير للمسئول الأو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عمل التقويم الداخلي من خلال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قويمات الدور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4" name=""/>
          <p:cNvSpPr txBox="1"/>
          <p:nvPr/>
        </p:nvSpPr>
        <p:spPr>
          <a:xfrm>
            <a:off x="1096920" y="1996560"/>
            <a:ext cx="10058400" cy="402300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ة المستمر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قوم بها مدير المراجعة الداخلية من خلال الإشراف المباشر على المهام للتأكيد على أن موظفي المراجعة الداخلية يقومون بالأعمال الواجب عملها خلال تنفيذ المها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هذا التأكيد يجب أن يتضمن </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ن المراجعين الداخليين يعملون وفق منهجية وحدة المراجعة الداخلية والدليل المعتمد.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ن نوعية العمل المنفذ يتفق مع معايير ممارسة مهنة المراجعة الداخل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راجعات الدور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ؤدى المراجعة الدورية من قبل إدارة القسم الخاص بضبط الجود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وتقويم لمدى التزام المراجعين والمراجعة الداخلية بالدليل الذي أعدته وحدة المراجعة الداخلية ومعايير ممارسة المه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قدم هذا النوع من التقويم تأكيداً على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جودة كل من إدارة وحدة المراجعة الداخلية وتدريب العاملين.</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ea typeface="Times New Roman"/>
              </a:rPr>
              <a:t> رقابة الجودة</a:t>
            </a:r>
            <a:endParaRPr b="0" lang="en-US" sz="4800" spc="-1" strike="noStrike">
              <a:solidFill>
                <a:srgbClr val="404040"/>
              </a:solidFill>
              <a:latin typeface="Calibri Light"/>
            </a:endParaRPr>
          </a:p>
        </p:txBody>
      </p:sp>
      <p:sp>
        <p:nvSpPr>
          <p:cNvPr id="358" name=""/>
          <p:cNvSpPr txBox="1"/>
          <p:nvPr/>
        </p:nvSpPr>
        <p:spPr>
          <a:xfrm>
            <a:off x="1096920" y="1846440"/>
            <a:ext cx="10058400" cy="4022640"/>
          </a:xfrm>
          <a:prstGeom prst="rect">
            <a:avLst/>
          </a:prstGeom>
          <a:noFill/>
          <a:ln w="0">
            <a:noFill/>
          </a:ln>
        </p:spPr>
        <p:txBody>
          <a:bodyPr lIns="0" rIns="0" anchor="t">
            <a:normAutofit fontScale="94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 التقويم الخارجي ل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أن يتم عمل تقويم لوحدة المراجعة الداخلية من جانب جهة خارجية على فترات متباعدة مثلا كل ثلاث سنوات. وفي هذا النوع من التقويم يدعو المسئول الأول بالجهة جهة مهنية مستقلة لعمل تقويم خارجي مستقل وإبداء الرأي عن مدى فعالية وكفاءة وحدة المراجعة الداخلية. كما يجب أن يشمل نطاق المراجعة </a:t>
            </a:r>
            <a:r>
              <a:rPr b="1" lang="ar-SA" sz="2400" spc="-1" strike="noStrike">
                <a:solidFill>
                  <a:srgbClr val="000000"/>
                </a:solidFill>
                <a:latin typeface="Calibri"/>
                <a:cs typeface="Arial"/>
              </a:rPr>
              <a:t>تقويماً لـلأمور التالية</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نطاق خطة المراجعة الداخلية.                                   مراجعة المهام التي تم إنجازها.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سياسات والإجراءات.                                           جودة ملفات المراجعة وأوراق العمل.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مليات الاتصال ورفع التقارير.                                 إدارة الموارد البشر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دريب العاملين.</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حقق من رضاء العميل</a:t>
            </a:r>
            <a:endParaRPr b="0" lang="en-US" sz="4800" spc="-1" strike="noStrike">
              <a:solidFill>
                <a:srgbClr val="404040"/>
              </a:solidFill>
              <a:latin typeface="Calibri Light"/>
            </a:endParaRPr>
          </a:p>
        </p:txBody>
      </p:sp>
      <p:sp>
        <p:nvSpPr>
          <p:cNvPr id="360"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جزء من التزامها بعمل التحسينات المستمرة لأداء المراجعة الداخلية ومراقبة جودتها، يمكن أن تقوم وحدة المراجعة الداخلية بتبني استبيان رضاء العميل  وذلك ليتم تعبئته من قبل الإدارات التي يتم مراجعتها على أن تتم إعادته مباشرة إلى مدير وحدة المراجعة. ويجب تسجيل وتلخيص وحفظ الرد على الاستبانات في ملف أوراق عمل الم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قائمة تقويم الأد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واء كان تقويم الأداء يتم ذاتيا ، أي تقويم وحدة المراجعة الداخلية لنفسها ، أو كان من جانب طرف خارجي يمكن الاسترشاد بقائمة تقويم الأداء التالية. وهذه القائمة مقتبسة بتصرف من دليل تقويم الأداء بديوان المراقبة الع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2" name=""/>
          <p:cNvSpPr txBox="1"/>
          <p:nvPr/>
        </p:nvSpPr>
        <p:spPr>
          <a:xfrm>
            <a:off x="1096920" y="1846440"/>
            <a:ext cx="10058400" cy="4417920"/>
          </a:xfrm>
          <a:prstGeom prst="rect">
            <a:avLst/>
          </a:prstGeom>
          <a:noFill/>
          <a:ln w="0">
            <a:noFill/>
          </a:ln>
        </p:spPr>
        <p:txBody>
          <a:bodyPr lIns="0" rIns="0" anchor="t">
            <a:normAutofit fontScale="88000"/>
          </a:bodyPr>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حرص مدير وحدة المراجعة على ضرورة التوثيق الكافي لكل إجراءات المراجعة بما يحقق وجود مستند يؤيد كل إجراء تم تنفيذه. وتحتاج عملية التوثيق إلى الإحتفاظ بأوراق العمل (أوراق المراجعة) وتنظيمها.</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يتطلب التوثيق الجيد ما يلي: </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بساطة والوضوح                                           تغطية كافة أنشطة المراجعة</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عد في شكل نماذج كلما أمكن ذلك                      أن تكون وثيقة الصلة بموضوع المراجع</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ن تتصف بالدقة                                             أن ترقم وترتبط ببعضها.</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وضع خطة تنظيمية لتصميم وتداول وحفظ أوراق العمل بالإدارة.</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ضرورة أن يتم التوقيع على أوراق العمل بما يساعد في تحديد المسئولية عن الأعمال التي تمت.</a:t>
            </a:r>
            <a:endParaRPr b="0" lang="en-US" sz="2400" spc="-1" strike="noStrike">
              <a:solidFill>
                <a:srgbClr val="404040"/>
              </a:solidFill>
              <a:latin typeface="Calibri"/>
            </a:endParaRPr>
          </a:p>
          <a:p>
            <a:pPr marL="79200" indent="-79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79200" indent="-792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4" name=""/>
          <p:cNvSpPr txBox="1"/>
          <p:nvPr/>
        </p:nvSpPr>
        <p:spPr>
          <a:xfrm>
            <a:off x="1096920" y="1846080"/>
            <a:ext cx="10058400" cy="443196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همية التوثيق:</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دليل على التزام الإدارة بالمعايير وإجراءات العمل المعتمد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عملية التوثيق مدير المراجعة في متابعة تقدم سير العمل وتحديد ما يجب عمله.</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في تحديد مدى العمل الذي تم في كل مهمة ، وما هو مطلوب لإنجاز المهم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أوراق العمل المصدر الأساسي لاستخلاص النتائج وكتابة التقارير ومتابعة تنفيذ التوصيات والمقترحات.</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تبر مرجعا للتحقق من جودة عمل المراجع الداخلي والرقابة على الجودة بواسطة المعنيين بذلك.</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تخدم كأدلة على العمل الذي تم عند تقويم أداء الإدار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ساعد مدير المراجعة في تخطيط عملية المراجعة للسنة التالية.</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ط الإرشادية لعملية حفظ السجل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الدليل الخاص بالمراجعة الداخلية توضيحا أو إرشادات لضوابط حفظ السجلات من قبل وحدة المراجعة الداخلية. فمثلا يمكن أن يتضمن الدليل أن برنامج المراجعة يحتفظ ب:</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نسخة الأخيرة فقط وأوراق عمل المراجعة لمدة ثلاث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ملفات المراجعة الدائمة خمس سنو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تقارير المراجعة الداخلية مدة غير محد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6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هي وسائل لحفظ الأوراق المرتبطة بعملية المراجعة، هدفها توثيق العمل وتتبع تطوره في الاجل القصير والطويل، وتساعد هذه الملفات في حفظ الأوراق والمستندات بطريقة تسهل الرجوع إليها. كما أنها تفتح لكل مهمة أو عملية 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ملفات المراجع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كون لدى وحدة المراجعة الداخلية نوعين من الملفات هم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ملف الدائ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ملف الجار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2683c6"/>
                </a:solidFill>
                <a:latin typeface="Calibri Light"/>
                <a:cs typeface="Times New Roman"/>
              </a:rPr>
              <a:t>ناقشنا سابقا </a:t>
            </a:r>
            <a:r>
              <a:rPr b="0" lang="ar-SA" sz="4000" spc="-1" strike="noStrike">
                <a:solidFill>
                  <a:srgbClr val="000000"/>
                </a:solidFill>
                <a:latin typeface="Calibri Light"/>
                <a:ea typeface="Times New Roman"/>
              </a:rPr>
              <a:t>1</a:t>
            </a:r>
            <a:r>
              <a:rPr b="0" lang="ar-SA" sz="4000" spc="-1" strike="noStrike">
                <a:solidFill>
                  <a:srgbClr val="000000"/>
                </a:solidFill>
                <a:latin typeface="Calibri Light"/>
                <a:ea typeface="Times New Roman"/>
              </a:rPr>
              <a:t>-القواعد المنظمة لإنشاء وتنظيم وحدات المراجعة الداخلية وإداراتها</a:t>
            </a:r>
            <a:r>
              <a:rPr b="0" lang="ar-SA" sz="4000" spc="-1" strike="noStrike">
                <a:solidFill>
                  <a:srgbClr val="2683c6"/>
                </a:solidFill>
                <a:latin typeface="Calibri Light"/>
                <a:cs typeface="Times New Roman"/>
              </a:rPr>
              <a:t>،سوف نناقش اليوم</a:t>
            </a:r>
            <a:r>
              <a:rPr b="0" lang="ar-SA" sz="4000" spc="-1" strike="noStrike">
                <a:solidFill>
                  <a:srgbClr val="2683c6"/>
                </a:solidFill>
                <a:latin typeface="Calibri Light"/>
                <a:ea typeface="Times New Roman"/>
              </a:rPr>
              <a:t>:</a:t>
            </a:r>
            <a:endParaRPr b="0" lang="en-US" sz="4000" spc="-1" strike="noStrike">
              <a:solidFill>
                <a:srgbClr val="404040"/>
              </a:solidFill>
              <a:latin typeface="Calibri Light"/>
            </a:endParaRPr>
          </a:p>
        </p:txBody>
      </p:sp>
      <p:sp>
        <p:nvSpPr>
          <p:cNvPr id="315" name=""/>
          <p:cNvSpPr txBox="1"/>
          <p:nvPr/>
        </p:nvSpPr>
        <p:spPr>
          <a:xfrm>
            <a:off x="1096920" y="1846440"/>
            <a:ext cx="10058400" cy="4022640"/>
          </a:xfrm>
          <a:prstGeom prst="rect">
            <a:avLst/>
          </a:prstGeom>
          <a:noFill/>
          <a:ln w="0">
            <a:noFill/>
          </a:ln>
        </p:spPr>
        <p:txBody>
          <a:bodyPr lIns="0" rIns="0" anchor="t">
            <a:normAutofit/>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جراءات انشاء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3</a:t>
            </a:r>
            <a:r>
              <a:rPr b="1" lang="ar-SA" sz="2400" spc="-1" strike="noStrike">
                <a:solidFill>
                  <a:srgbClr val="000000"/>
                </a:solidFill>
                <a:latin typeface="Calibri"/>
                <a:ea typeface="Arial"/>
              </a:rPr>
              <a:t>- تنظيم العمل بوحدات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عريف المراجعين الداخلين بمهام وحدة المراجعة الداخلي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رتب الوظيفية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حديد الأقسام أو الإدارات داخل وحدة المراجعة</a:t>
            </a:r>
            <a:endParaRPr b="0" lang="en-US" sz="2400" spc="-1" strike="noStrike">
              <a:solidFill>
                <a:srgbClr val="404040"/>
              </a:solidFill>
              <a:latin typeface="Calibri"/>
            </a:endParaRPr>
          </a:p>
          <a:p>
            <a:pPr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عداد وإصدار دليل المراجعة الداخلية(تتضمن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فقرات سوف نناقش اليوم الاربع فقرات الاولى فقط ونناقش الفقرات المتبقية للمحاضرات القادمة بأذن الله)  </a:t>
            </a: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0" name=""/>
          <p:cNvSpPr txBox="1"/>
          <p:nvPr/>
        </p:nvSpPr>
        <p:spPr>
          <a:xfrm>
            <a:off x="1096920" y="1846440"/>
            <a:ext cx="10058400" cy="447192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لف الدائم:</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حتوي على البيانات الهامة التي يحتاج لها المراجع الداخلي بشكل مستمر ، مثل الأوراق والمستندات التي يحتاجها عادة المراجع في كل مهمة مراجعة ولا يحدث عليها تغيرات مستمرة أو لا يقوم المراجع بتأسيسها مع كل مهمة مراجعة. مع هذا فمثل هذه البيانات تحتاج إلى تغيير على فترات بعيدة نسبيا كلما حدث عليها تحديث أو إضاف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وتشمل بيانات ملف المراجعة الدائم ما يلي:</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هيكل التنظيمي للوحدة.                                    نظام الترخيص بالأعمال.</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لوائح والتعميمات.                                        الوصف الوظيفي.</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خرائط وصف نظام الرقابة الداخلية.                     دليل السياسات والإجراءات.</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دليل المراجعة.                                            ملخص نتائج المراجعة للمهام السابق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r>
              <a:rPr b="0" lang="ar-SA" sz="4800" spc="-1" strike="noStrike">
                <a:solidFill>
                  <a:srgbClr val="2683c6"/>
                </a:solidFill>
                <a:latin typeface="Calibri Light"/>
                <a:cs typeface="Times New Roman"/>
              </a:rPr>
              <a:t>التوثيق وحفظ السجلات</a:t>
            </a:r>
            <a:endParaRPr b="0" lang="en-US" sz="4800" spc="-1" strike="noStrike">
              <a:solidFill>
                <a:srgbClr val="404040"/>
              </a:solidFill>
              <a:latin typeface="Calibri Light"/>
            </a:endParaRPr>
          </a:p>
        </p:txBody>
      </p:sp>
      <p:sp>
        <p:nvSpPr>
          <p:cNvPr id="372" name=""/>
          <p:cNvSpPr txBox="1"/>
          <p:nvPr/>
        </p:nvSpPr>
        <p:spPr>
          <a:xfrm>
            <a:off x="1096920" y="1846080"/>
            <a:ext cx="10058400" cy="444492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لف المراجعة الجاري (ملف المهمة):</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ضمن توثيق تطبيق إجراءات المراجعة ، ونتائج تطبيق الإجراءات والاستفسارات والردود عليه وغيرها من الأوراق والمستندات والملخصات التي تعكس عمل المراجع على المهمة المحدد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حتوي ملف مراجعة المهمة عادة على ما يلي</a:t>
            </a:r>
            <a:r>
              <a:rPr b="0" lang="ar-SA" sz="2400" spc="-1" strike="noStrike">
                <a:solidFill>
                  <a:srgbClr val="000000"/>
                </a:solidFill>
                <a:latin typeface="Calibri"/>
                <a:ea typeface="Arial"/>
              </a:rPr>
              <a:t>: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لاحظات برنامج العمل المكت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راجع أوراق العمل.</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وراق العمل التي تصف الجهة التي تمت مراجعتها وإجراءات المراجعة التي تم تأديتها.</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لاحظات، النتائج، والتوصيات.</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قارير المراجعة الرسمية الخاصة بالجهة. </a:t>
            </a: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5680" indent="-856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74"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ن اكتشاف عمليات الغش والاحتيال والتلاعبات الأخرى لا يعتبر من مسؤوليات وحدة المرجعة الداخلية. فهو هدف ثانوي يمكن الوصول إليه أثناء تنفيذ إجراءات المراجعة العادية ولكنه هام ، لذلك يجب على موظفي المراجعة الداخلية ممارسة العناية المهنية تحت ظروف المراجعة العادية وأن يكونوا مدركين لاحتمال وجود مثل هذه العمليات. ففي كل الظروف تتمثل مسئولية المراجع الداخلي الالتزام بتطبيق العناية المهنية الواجبة والتي تتطلب منه  تطبيق الإجراءات المناسبة واستخدام الحكم المهني بدون تقصير للدرجة التي يطمئن بها إلى أنه لو كان هناك حالات غش أو إحتيال أو تلاعبات أخرى سوف يتم اكتشافه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br>
              <a:rPr sz="4800"/>
            </a:br>
            <a:endParaRPr b="0" lang="en-US" sz="4800" spc="-1" strike="noStrike">
              <a:solidFill>
                <a:srgbClr val="404040"/>
              </a:solidFill>
              <a:latin typeface="Calibri Light"/>
            </a:endParaRPr>
          </a:p>
        </p:txBody>
      </p:sp>
      <p:sp>
        <p:nvSpPr>
          <p:cNvPr id="376"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سؤولية عن اكتشاف عمليات الغش والاحتيال:</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طلب العناية المهنية من المراجع الداخلي الالتزام بتطبيق إجراءات المراجعة اللازمة وتأكيد صحة المعطيات بدرجة معقولة وهو لا يطالب، في ظل الظروف العادية، بعمل مرجعة مفصلة لكل التعاملات التي تجريها الوحدة. وبالتالي غير مسئول عن اكتشاف الغش والاحتيال والتلاعبات الأخرى ، لكن عند الشك في ارتكاب عمليات غش أو احتيال أو تلاعبات أخرى، يجب على المراجع  أن يخبر قائد الفريق ومدير وحدة المراجعة والذي يجب عليه أن يرفع الأمر إلى المسئول الأول بالجهة. حيث سيقوم الأخير بمراجعة الأمر وتحديد مجريات الأحداث الملائمة. التي قد تشمل توسيع نطاق المراجعة لتحديد درجة وطبيعة هذه العمليات، وتحديد المستويات الإدارية أو الرقابية التي يجب إبلاغها بالأمر.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ي بعض الوحدات قد يتضمن تنظيم وحدة المراجعة الداخلية قسم خاص بمراجعة الحالات الخاصة التي تنطوى على عمليات غش أو احتيال أو تلاعبات أخرى.</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رابعة:إدارة وحدة المراجعة الداخلية</a:t>
            </a:r>
            <a:endParaRPr b="0" lang="en-US" sz="4800" spc="-1" strike="noStrike">
              <a:solidFill>
                <a:srgbClr val="404040"/>
              </a:solidFill>
              <a:latin typeface="Calibri Light"/>
            </a:endParaRPr>
          </a:p>
        </p:txBody>
      </p:sp>
      <p:sp>
        <p:nvSpPr>
          <p:cNvPr id="378" name=""/>
          <p:cNvSpPr txBox="1"/>
          <p:nvPr/>
        </p:nvSpPr>
        <p:spPr>
          <a:xfrm>
            <a:off x="1096920" y="1846440"/>
            <a:ext cx="10058400" cy="44719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تواصل مع المستويات الإدارية العل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عمل المسئول الأول بالجهة على ترتيب لقاءات دورية مع مدير وحدة المراجعة الداخلية ،هذا وتمثل القائمة التالية المواضيع التي تطرح على المسئول الأول بالجهة أو (المستويات الإدارية العليا الأخرى) بشكل دور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رض لخطة  وحدة المراجعة الداخلية (الاستراتيج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تقدير المخاطر السنو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لاصة نتائج أعمال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تقارير السنوية لإنجازات وأداء وحدة المراجع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نزاعات القائمة مع الإدارة العلي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96920" y="287280"/>
            <a:ext cx="10058400" cy="1798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70c0"/>
                </a:solidFill>
                <a:latin typeface="Calibri Light"/>
                <a:ea typeface="Times New Roman"/>
              </a:rPr>
              <a:t>1-</a:t>
            </a:r>
            <a:r>
              <a:rPr b="0" lang="ar-SA" sz="4800" spc="-1" strike="noStrike">
                <a:solidFill>
                  <a:srgbClr val="0070c0"/>
                </a:solidFill>
                <a:latin typeface="Calibri Light"/>
                <a:cs typeface="Times New Roman"/>
              </a:rPr>
              <a:t>لإنشاء وحدة مراجعة داخلية تتخذ الإجراءات التالية</a:t>
            </a:r>
            <a:br>
              <a:rPr sz="4800"/>
            </a:br>
            <a:endParaRPr b="0" lang="en-US" sz="4800" spc="-1" strike="noStrike">
              <a:solidFill>
                <a:srgbClr val="404040"/>
              </a:solidFill>
              <a:latin typeface="Calibri Light"/>
            </a:endParaRPr>
          </a:p>
        </p:txBody>
      </p:sp>
      <p:sp>
        <p:nvSpPr>
          <p:cNvPr id="317" name=""/>
          <p:cNvSpPr txBox="1"/>
          <p:nvPr/>
        </p:nvSpPr>
        <p:spPr>
          <a:xfrm>
            <a:off x="1211400" y="1906200"/>
            <a:ext cx="9943920" cy="396252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1</a:t>
            </a:r>
            <a:r>
              <a:rPr b="0" lang="ar-SA" sz="2800" spc="-1" strike="noStrike">
                <a:solidFill>
                  <a:srgbClr val="000000"/>
                </a:solidFill>
                <a:latin typeface="Calibri"/>
                <a:ea typeface="Arial"/>
              </a:rPr>
              <a:t>- إختيار مدير 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2</a:t>
            </a:r>
            <a:r>
              <a:rPr b="0" lang="ar-SA" sz="2800" spc="-1" strike="noStrike">
                <a:solidFill>
                  <a:srgbClr val="000000"/>
                </a:solidFill>
                <a:latin typeface="Calibri"/>
                <a:ea typeface="Arial"/>
              </a:rPr>
              <a:t>- تحديد الموقع التنظيمي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3</a:t>
            </a:r>
            <a:r>
              <a:rPr b="0" lang="ar-SA" sz="2800" spc="-1" strike="noStrike">
                <a:solidFill>
                  <a:srgbClr val="000000"/>
                </a:solidFill>
                <a:latin typeface="Calibri"/>
                <a:ea typeface="Arial"/>
              </a:rPr>
              <a:t>- تخصيص مكان لوحدة ا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4</a:t>
            </a:r>
            <a:r>
              <a:rPr b="0" lang="ar-SA" sz="2800" spc="-1" strike="noStrike">
                <a:solidFill>
                  <a:srgbClr val="000000"/>
                </a:solidFill>
                <a:latin typeface="Calibri"/>
                <a:ea typeface="Arial"/>
              </a:rPr>
              <a:t>- إختيار الأفراد المؤهلين للعمل بوحدة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حيث المؤهل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ar-SA" sz="2400" spc="-1" strike="noStrike">
                <a:solidFill>
                  <a:srgbClr val="000000"/>
                </a:solidFill>
                <a:latin typeface="Calibri"/>
                <a:cs typeface="Arial"/>
              </a:rPr>
              <a:t>من حيث الخبرة العم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من حيث الصفات الشخص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2</a:t>
            </a:r>
            <a:r>
              <a:rPr b="0" lang="ar-SA" sz="4800" spc="-1" strike="noStrike">
                <a:solidFill>
                  <a:srgbClr val="2683c6"/>
                </a:solidFill>
                <a:latin typeface="Calibri Light"/>
                <a:ea typeface="Times New Roman"/>
              </a:rPr>
              <a:t>- تنظيم العمل بوحدات المراجعة الداخلية</a:t>
            </a:r>
            <a:endParaRPr b="0" lang="en-US" sz="4800" spc="-1" strike="noStrike">
              <a:solidFill>
                <a:srgbClr val="404040"/>
              </a:solidFill>
              <a:latin typeface="Calibri Light"/>
            </a:endParaRPr>
          </a:p>
        </p:txBody>
      </p:sp>
      <p:sp>
        <p:nvSpPr>
          <p:cNvPr id="319"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نظيم العمل بوحدات المراجعة الداخلية يعتبر من المسئوليات الأساسية لمدير الوحدة ويشمل تنظيم العمل بوحدات المراجعة الداخلية ما يل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عريف المراجعين الداخلين بمهام وحدة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رتب الوظيفية داخل وحدة المراجع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حديد الأقسام أو الإدارات داخل وحدة المراجع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المراجعة</a:t>
            </a:r>
            <a:r>
              <a:rPr b="0" lang="ar-SA" sz="2400" spc="-1" strike="noStrike">
                <a:solidFill>
                  <a:srgbClr val="000000"/>
                </a:solidFill>
                <a:latin typeface="Calibri"/>
                <a:ea typeface="Arial"/>
              </a:rPr>
              <a:t>: وتختص بأعمال المراجعة والفحص.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إستشارات</a:t>
            </a:r>
            <a:r>
              <a:rPr b="0" lang="ar-SA" sz="2400" spc="-1" strike="noStrike">
                <a:solidFill>
                  <a:srgbClr val="000000"/>
                </a:solidFill>
                <a:latin typeface="Calibri"/>
                <a:ea typeface="Arial"/>
              </a:rPr>
              <a:t>: وتختص بتقديم الإستشارات للإدارات الأخرى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تنظيم العمل بوحدات المراجعة الداخلية</a:t>
            </a:r>
            <a:endParaRPr b="0" lang="en-US" sz="4800" spc="-1" strike="noStrike">
              <a:solidFill>
                <a:srgbClr val="404040"/>
              </a:solidFill>
              <a:latin typeface="Calibri Light"/>
            </a:endParaRPr>
          </a:p>
        </p:txBody>
      </p:sp>
      <p:sp>
        <p:nvSpPr>
          <p:cNvPr id="321" name=""/>
          <p:cNvSpPr txBox="1"/>
          <p:nvPr/>
        </p:nvSpPr>
        <p:spPr>
          <a:xfrm>
            <a:off x="1096920" y="1846440"/>
            <a:ext cx="10058400" cy="402264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1" lang="ar-SA" sz="2400" spc="-1" strike="noStrike">
                <a:solidFill>
                  <a:srgbClr val="000000"/>
                </a:solidFill>
                <a:latin typeface="Calibri"/>
                <a:cs typeface="Arial"/>
              </a:rPr>
              <a:t>إدارة مراقبة الجودة</a:t>
            </a:r>
            <a:r>
              <a:rPr b="0" lang="ar-SA" sz="2400" spc="-1" strike="noStrike">
                <a:solidFill>
                  <a:srgbClr val="000000"/>
                </a:solidFill>
                <a:latin typeface="Calibri"/>
                <a:ea typeface="Arial"/>
              </a:rPr>
              <a:t>: وتختص بمراقبة وتقويم جودة الأداء بوحدة المراجعة الداخلي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أعمال المساندة والإتصالات</a:t>
            </a:r>
            <a:r>
              <a:rPr b="0" lang="ar-SA" sz="2400" spc="-1" strike="noStrike">
                <a:solidFill>
                  <a:srgbClr val="000000"/>
                </a:solidFill>
                <a:latin typeface="Calibri"/>
                <a:ea typeface="Arial"/>
              </a:rPr>
              <a:t>: وتختص بالأعمال المساندة كالنسخ والحفظ والإتصال بالإدارات الأخرى داخل الجهة. </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إدارة العمليات الخاصة</a:t>
            </a:r>
            <a:r>
              <a:rPr b="0" lang="ar-SA" sz="2400" spc="-1" strike="noStrike">
                <a:solidFill>
                  <a:srgbClr val="000000"/>
                </a:solidFill>
                <a:latin typeface="Calibri"/>
                <a:ea typeface="Arial"/>
              </a:rPr>
              <a:t>: يمكن أن يكون هناك إدارة خاصة تتولى أعمال الفحص والمراجعة ذات الطبيعة الخاصة مثل التي تتضمن فحص عمليات غش أو إختلاسات.</a:t>
            </a:r>
            <a:endParaRPr b="0" lang="en-US" sz="2400" spc="-1" strike="noStrike">
              <a:solidFill>
                <a:srgbClr val="404040"/>
              </a:solidFill>
              <a:latin typeface="Calibri"/>
            </a:endParaRPr>
          </a:p>
          <a:p>
            <a:pPr marL="84600" indent="-8460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1cade4"/>
                </a:solidFill>
                <a:latin typeface="Calibri"/>
                <a:ea typeface="Arial"/>
              </a:rPr>
              <a:t>4</a:t>
            </a:r>
            <a:r>
              <a:rPr b="0" lang="ar-SA" sz="2800" spc="-1" strike="noStrike">
                <a:solidFill>
                  <a:srgbClr val="1cade4"/>
                </a:solidFill>
                <a:latin typeface="Calibri"/>
                <a:ea typeface="Arial"/>
              </a:rPr>
              <a:t>) </a:t>
            </a:r>
            <a:r>
              <a:rPr b="1" lang="ar-SA" sz="2800" spc="-1" strike="noStrike">
                <a:solidFill>
                  <a:srgbClr val="000000"/>
                </a:solidFill>
                <a:latin typeface="Calibri"/>
                <a:cs typeface="Arial"/>
              </a:rPr>
              <a:t>إعداد وإصدار دليل المراجعة الداخلية</a:t>
            </a: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من أهم مسئوليات مدير وحدة المراجعة الداخلية بالتنسيق مع المسئول الأول بالجهة إعداد دليل للمراجعة الداخلية. وقد يلجا مدير الوحدة إلى جهة خارجية تتولى إعداد هذا الدليل. والذي يجب أن يبين الإجراءات والسياسات الواجب أتباعها أثناء ممارسة وحدة المراجعة الداخلية لأعمالها.(الشرائح التالية تشرح هذه الفقرة  بالاضافة للعرض </a:t>
            </a:r>
            <a:r>
              <a:rPr b="0" lang="ar-SA" sz="2400" spc="-1" strike="noStrike">
                <a:solidFill>
                  <a:srgbClr val="000000"/>
                </a:solidFill>
                <a:latin typeface="Calibri"/>
                <a:ea typeface="Arial"/>
              </a:rPr>
              <a:t>3</a:t>
            </a:r>
            <a:r>
              <a:rPr b="0" lang="ar-SA" sz="2400" spc="-1" strike="noStrike">
                <a:solidFill>
                  <a:srgbClr val="000000"/>
                </a:solidFill>
                <a:latin typeface="Calibri"/>
                <a:cs typeface="Arial"/>
              </a:rPr>
              <a:t>و</a:t>
            </a:r>
            <a:r>
              <a:rPr b="0" lang="ar-SA" sz="2400" spc="-1" strike="noStrike">
                <a:solidFill>
                  <a:srgbClr val="000000"/>
                </a:solidFill>
                <a:latin typeface="Calibri"/>
                <a:ea typeface="Arial"/>
              </a:rPr>
              <a:t>4</a:t>
            </a:r>
            <a:r>
              <a:rPr b="0" lang="ar-SA" sz="2400" spc="-1" strike="noStrike">
                <a:solidFill>
                  <a:srgbClr val="000000"/>
                </a:solidFill>
                <a:latin typeface="Calibri"/>
                <a:cs typeface="Arial"/>
              </a:rPr>
              <a:t>و</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4600" indent="-8460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84600" indent="-84600" algn="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هيكل العام لدليل المراجعة</a:t>
            </a:r>
            <a:endParaRPr b="0" lang="en-US" sz="4800" spc="-1" strike="noStrike">
              <a:solidFill>
                <a:srgbClr val="404040"/>
              </a:solidFill>
              <a:latin typeface="Calibri Light"/>
            </a:endParaRPr>
          </a:p>
        </p:txBody>
      </p:sp>
      <p:sp>
        <p:nvSpPr>
          <p:cNvPr id="323" name=""/>
          <p:cNvSpPr txBox="1"/>
          <p:nvPr/>
        </p:nvSpPr>
        <p:spPr>
          <a:xfrm>
            <a:off x="1096920" y="186048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شتمل الدليل على الفقرات التالية (على الأقل):</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أولى: معلومات عـا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لفقرة الثانية: معلومات عن الوحدة الحكوم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ثالثة: معلومات عن وحدة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رابعة: إدارة وحد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خامسة: تخطيط المراجعة الداخ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دسة: تنفيذ مشاريع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فقرة السابعة: إعداد ورفع التقارير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 معلومات عام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بارة عن مقدمة موجزة تصف دليل المراجعة الداخلية وعلاقته مع المستندات الأخرى التي تقدم المعلومات الإضافية أو ذات العلاقة، كما تتضمن هذه الفقرة الهدف والغاية من صياغة الدليل بالإضافة إلى أي معلومات يرغب رئيس وحدة المراجعة والمسئول الأول وضعها مثل إجراءات تداول الدليل وإشارة إلى ملكيته لوحدة المراجعة.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فقرة الأولى :أهداف دليل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6000"/>
          </a:bodyPr>
          <a:p>
            <a:pPr marL="85320" indent="-85320" algn="r"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Times New Roman"/>
                <a:ea typeface="Arabic Transparent"/>
              </a:rPr>
              <a:t> </a:t>
            </a:r>
            <a:endParaRPr b="0" lang="en-US" sz="20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سياسات ومعايير لتخطيط عمليات المراجعة وتنفيذها وكتابة التقارير ، بحيث تتفق مع المعايير العالمية لمعهد المراجعين الداخليين والمعايير السعودية إن وجدت. </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وضع إجراءات محددة تضمن التزام المراجعين الداخليين بالمعايير المهنية. </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شكيل السياسات الإدارية والتنظيمية بوحدة 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التحديد الواضح للمسؤوليات والسلطات داخل وحدة 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حقيق التناسق بين أنشطة 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لخيص وتوحيد أساليب المراجعة الداخلية في الوحدة وتوفير التعليمات الخاصة بالمراجعة الداخلية.</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مساعدة فرق المراجعة في أداء مهامهم. </a:t>
            </a:r>
            <a:endParaRPr b="0" lang="en-US" sz="2400" spc="-1" strike="noStrike">
              <a:solidFill>
                <a:srgbClr val="404040"/>
              </a:solidFill>
              <a:latin typeface="Calibri"/>
            </a:endParaRPr>
          </a:p>
          <a:p>
            <a:pPr marL="85320" indent="-85320" algn="just" rtl="1">
              <a:lnSpc>
                <a:spcPct val="90000"/>
              </a:lnSpc>
              <a:buClr>
                <a:srgbClr val="1cade4"/>
              </a:buClr>
              <a:buFont typeface="Symbol" charset="2"/>
              <a:buChar char=""/>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Arabic Transparent"/>
              </a:rPr>
              <a:t>تنظيم عملية التدريب داخل وحدة المراجعة.</a:t>
            </a:r>
            <a:endParaRPr b="0" lang="en-US" sz="2400" spc="-1" strike="noStrike">
              <a:solidFill>
                <a:srgbClr val="404040"/>
              </a:solidFill>
              <a:latin typeface="Calibri"/>
            </a:endParaRPr>
          </a:p>
          <a:p>
            <a:pPr marL="85320" indent="-85320" algn="just" rtl="1">
              <a:lnSpc>
                <a:spcPct val="90000"/>
              </a:lnSpc>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Times New Roman"/>
                <a:ea typeface="Arabic Transparent"/>
              </a:rPr>
              <a:t> </a:t>
            </a:r>
            <a:endParaRPr b="0" lang="en-US" sz="2400" spc="-1" strike="noStrike">
              <a:solidFill>
                <a:srgbClr val="404040"/>
              </a:solidFill>
              <a:latin typeface="Calibri"/>
            </a:endParaRPr>
          </a:p>
          <a:p>
            <a:pPr marL="85320" indent="-85320">
              <a:lnSpc>
                <a:spcPct val="90000"/>
              </a:lnSpc>
              <a:spcBef>
                <a:spcPts val="1199"/>
              </a:spcBef>
              <a:spcAft>
                <a:spcPts val="201"/>
              </a:spcAft>
              <a:buClr>
                <a:srgbClr val="1cade4"/>
              </a:buClr>
              <a:buFont typeface="Calibri"/>
              <a:buChar char=" "/>
              <a:tabLst>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8T14:48:40Z</dcterms:created>
  <dc:creator>hana</dc:creator>
  <dc:description/>
  <dc:language>en-US</dc:language>
  <cp:lastModifiedBy>Hana Ageel Alageel</cp:lastModifiedBy>
  <dcterms:modified xsi:type="dcterms:W3CDTF">2016-10-18T08:22:57Z</dcterms:modified>
  <cp:revision>35</cp:revision>
  <dc:subject/>
  <dc:title>إجراءات إنشاء وتنظيم وحدات المراجعة الداخلية وإداراتها</dc:title>
</cp:coreProperties>
</file>