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5E883-3061-40B1-B3BC-56DD3BF0A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D402-0410-42FB-8E84-D31374D6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4D588-AD72-4F7C-B363-711168E4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29A29-5A37-448C-A5EB-C6AB50247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F48B6-D042-43D5-A573-ECE51ED37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A7ECD-66E2-4550-A600-C0003DFFC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6DCF7-32C1-4675-A1F0-8D17E404B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7CD1F-4B57-4883-B770-46B0C4FC5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5226A-E910-46A1-87BA-D0C28330C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4DFB4-3181-4324-9ED0-9EBB656EE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F23B-11EE-4411-AEB6-B43028911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29A70-7A3D-45B1-8FF4-ED6875665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19926-79F3-4CB2-AB0F-2CA885173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73CBC-E138-4740-8DB3-29730023C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323CF-E9C9-4F1C-91A2-DCC3662E4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6B8E39-A7C0-465D-BA02-69CB04C78D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803E5-F3CF-4151-B1C5-B84FD2E40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007E32-AD18-45AD-AFF3-4335ABB68B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16147-6893-487B-B147-96376288C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745588-5AA6-43D7-8807-AB955F78A4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E8377B-C241-4D57-B4D1-7A1453E91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6367F-6A4C-4B07-B9B3-59BA71CC7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8AFBF-135C-44FE-812F-41E19E44D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53D1B-CF85-492F-9C85-C643CC542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042F64-0BEA-44B1-A1FD-838A14421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48CBC-6BCA-4B3F-ABB0-92CF8605B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0AEA6-9698-4941-AD55-01AA2AE0B1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EF35E-6373-4F84-9EAC-A03AC9095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6A8C4C-CD25-439D-995E-F1CB011048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19C65-C383-4D03-BF54-B43EE61724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B4BAAC-208C-4A07-AB89-0C10850571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64AB99-F608-42CC-8544-5B95C36A4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56D5B-C20F-49B2-9415-C547762123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DF6DF-73BC-4115-B7DD-A124288A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CF1326-54F2-49F8-A405-28B8CA629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56AEE-F177-46B5-971D-9A5480E568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284630-B75A-4096-8171-92AD20EE3D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77B4FF-4EB1-4F2C-B212-60543DBC1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26B1C-86BD-4207-B802-0014813CBE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2514F-46EA-4DB6-8C39-733F6126F6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0B61A-C556-4C84-8E0A-C9F6953FDF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700276-457A-4B38-AD26-4DFA45EB0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44303-3901-4631-9618-268AAF8790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4189B-A013-4C9C-B00C-92B6BBD0E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9A33E-2B07-4D31-AD8E-4CD2350BE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DA66-CC86-449F-899E-9D6A04098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5FDB-1A1F-43D3-BD99-5E0B8CE77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9739-99C5-417B-9197-9C562AD81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21B460-6C74-4B3E-9C52-931EAB2681EC}"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51709-1DFB-43C6-A10F-1358065D4625}"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485F5-508E-411E-AC43-36EE3905675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90c22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EB0A29-5AB9-4B5F-9A2C-ADD38BCC6E0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1596600"/>
            <a:ext cx="7767720" cy="356724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br>
              <a:rPr sz="4800"/>
            </a:br>
            <a:br>
              <a:rPr sz="4800"/>
            </a:br>
            <a:r>
              <a:rPr b="0" lang="ar-SA" sz="3600" spc="-1" strike="noStrike">
                <a:solidFill>
                  <a:srgbClr val="90c226"/>
                </a:solidFill>
                <a:latin typeface="Trebuchet MS"/>
                <a:cs typeface="Tahoma"/>
              </a:rPr>
              <a:t>دليل المراجعة</a:t>
            </a:r>
            <a:br>
              <a:rPr sz="3600"/>
            </a:br>
            <a:r>
              <a:rPr b="0" lang="ar-SA" sz="3600" spc="-1" strike="noStrike">
                <a:solidFill>
                  <a:srgbClr val="90c226"/>
                </a:solidFill>
                <a:latin typeface="Trebuchet MS"/>
                <a:cs typeface="Tahoma"/>
              </a:rPr>
              <a:t>الفقرة الخامسة</a:t>
            </a:r>
            <a:br>
              <a:rPr sz="4800"/>
            </a:br>
            <a:r>
              <a:rPr b="0" lang="ar-SA" sz="4800" spc="-1" strike="noStrike">
                <a:solidFill>
                  <a:srgbClr val="90c226"/>
                </a:solidFill>
                <a:latin typeface="Trebuchet MS"/>
                <a:cs typeface="Tahoma"/>
              </a:rPr>
              <a:t>تخطيط المراجعة الداخلية</a:t>
            </a:r>
            <a:br>
              <a:rPr sz="5400"/>
            </a:b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غيير</a:t>
            </a:r>
            <a:r>
              <a:rPr b="0" lang="ar-SA" sz="2000" spc="-1" strike="noStrike">
                <a:solidFill>
                  <a:srgbClr val="000000"/>
                </a:solidFill>
                <a:latin typeface="Trebuchet MS"/>
                <a:ea typeface="Tahoma"/>
              </a:rPr>
              <a:t>: الأنشطة التي تكون عرضة للتغير يجب أن يكون لها أولوية عند تحديد المهام أكثر من تلك التي لا تكون معرضة للتغي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الإضافة إلى ما سبق يجب على القائم بتحديد المهام التي ستخضع للمراجعة مراعاة</a:t>
            </a:r>
            <a:r>
              <a:rPr b="1" lang="ar-SA" sz="2000" spc="-1" strike="noStrike">
                <a:solidFill>
                  <a:srgbClr val="000000"/>
                </a:solidFill>
                <a:latin typeface="Trebuchet MS"/>
                <a:ea typeface="Tahoma"/>
              </a:rPr>
              <a:t> ما يلي</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كفاية المراجعين الداخليين بوحدة المراجعة الداخلية.</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وقت اللازم لإنجاز المهام.</a:t>
            </a:r>
            <a:endParaRPr b="0" lang="en-US" sz="2000" spc="-1" strike="noStrike">
              <a:solidFill>
                <a:srgbClr val="404040"/>
              </a:solidFill>
              <a:latin typeface="Trebuchet MS"/>
            </a:endParaRPr>
          </a:p>
          <a:p>
            <a:pPr algn="just" rtl="1">
              <a:spcBef>
                <a:spcPts val="1001"/>
              </a:spcBef>
              <a:buClr>
                <a:srgbClr val="90c22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دى توفر الموارد الأخرى اللازمة لإنجاز أعمال الفحص.</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عداد الميزانية التقديرية للوقت المطلوب للمهمة الواحد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م تجهيز الميزانية التقديرية لكل مهمة أثناء تحضير خطة المراجعة الداخلية حتى يمكن تحقيق التناسق بين احتياجات كل مهمة وخطة المراجعة الداخلية ككل. وعند إعداد ميزانية الوقت التقديرية للمهمة  يجب أخذ </a:t>
            </a:r>
            <a:r>
              <a:rPr b="1" lang="ar-SA" sz="2000" spc="-1" strike="noStrike">
                <a:solidFill>
                  <a:srgbClr val="000000"/>
                </a:solidFill>
                <a:latin typeface="Trebuchet MS"/>
                <a:cs typeface="Tahoma"/>
              </a:rPr>
              <a:t>العوامل التالية في الاعتبار</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طاق المهمة وأهداف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التدريب والإشراف اللازمة لتنفيذ المهمة في ضوء الخبرات المتوفرة لدى الفريق المعين لأداء مهم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درجة تعقد مهمة المراجعة ومدى تناسبها مع خبرات الفريق المكلف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ذي استغرقته نفس المهمة في مراجعات سابق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34" name=""/>
          <p:cNvSpPr txBox="1"/>
          <p:nvPr/>
        </p:nvSpPr>
        <p:spPr>
          <a:xfrm>
            <a:off x="677520" y="2160360"/>
            <a:ext cx="859644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صدار خطة المراجعة الداخلية:</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تجهيز خطة المراجعة الداخلية يتم عرضها على المسئول الأول  بالجهة لاعتمادها وقد يتم إجراء تعديلات عليها قبل الموافقة النهائية عليها. </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200" spc="-1" strike="noStrike">
                <a:solidFill>
                  <a:srgbClr val="90c226"/>
                </a:solidFill>
                <a:latin typeface="Trebuchet MS"/>
                <a:cs typeface="Tahoma"/>
              </a:rPr>
              <a:t>خطة المراجعة الداخلية (استراتيجية المراجعة)</a:t>
            </a:r>
            <a:br>
              <a:rPr sz="3200"/>
            </a:br>
            <a:endParaRPr b="0" lang="en-US" sz="3200" spc="-1" strike="noStrike">
              <a:solidFill>
                <a:srgbClr val="90c226"/>
              </a:solidFill>
              <a:latin typeface="Trebuchet MS"/>
            </a:endParaRPr>
          </a:p>
        </p:txBody>
      </p:sp>
      <p:sp>
        <p:nvSpPr>
          <p:cNvPr id="236" name=""/>
          <p:cNvSpPr txBox="1"/>
          <p:nvPr/>
        </p:nvSpPr>
        <p:spPr>
          <a:xfrm>
            <a:off x="677520" y="2147760"/>
            <a:ext cx="859644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إحداث التعديلات على خطة المراجعة الداخلية:</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إذا حدث تعديلات على خطة المراجعة التي سبق الموافقة عليها يجب أن تراجع التعديلات ويوافق عليها من قبل المسئول الأول بالجهة.</a:t>
            </a:r>
            <a:endParaRPr b="0" lang="en-US" sz="24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خطيط مهمة المراجعة</a:t>
            </a:r>
            <a:endParaRPr b="0" lang="en-US" sz="3600" spc="-1" strike="noStrike">
              <a:solidFill>
                <a:srgbClr val="90c226"/>
              </a:solidFill>
              <a:latin typeface="Trebuchet MS"/>
            </a:endParaRPr>
          </a:p>
        </p:txBody>
      </p:sp>
      <p:sp>
        <p:nvSpPr>
          <p:cNvPr id="238" name=""/>
          <p:cNvSpPr txBox="1"/>
          <p:nvPr/>
        </p:nvSpPr>
        <p:spPr>
          <a:xfrm>
            <a:off x="677520" y="2160360"/>
            <a:ext cx="8596440" cy="3881160"/>
          </a:xfrm>
          <a:prstGeom prst="rect">
            <a:avLst/>
          </a:prstGeom>
          <a:noFill/>
          <a:ln w="0">
            <a:noFill/>
          </a:ln>
        </p:spPr>
        <p:txBody>
          <a:bodyPr anchor="t">
            <a:normAutofit fontScale="97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عد خطة مراجعة خاصة بكل مهمة من قبل المراجع المسؤول عن تنفيذ المهمة ويقوم باعتمادها من مدير المراجعة الداخلية ويجب أن يتم </a:t>
            </a:r>
            <a:r>
              <a:rPr b="1" lang="ar-SA" sz="2200" spc="-1" strike="noStrike">
                <a:solidFill>
                  <a:srgbClr val="000000"/>
                </a:solidFill>
                <a:latin typeface="Trebuchet MS"/>
                <a:cs typeface="Tahoma"/>
              </a:rPr>
              <a:t>توثيقها</a:t>
            </a:r>
            <a:r>
              <a:rPr b="0" lang="ar-SA" sz="2200" spc="-1" strike="noStrike">
                <a:solidFill>
                  <a:srgbClr val="000000"/>
                </a:solidFill>
                <a:latin typeface="Trebuchet MS"/>
                <a:ea typeface="Tahoma"/>
              </a:rPr>
              <a:t>.</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وعند تخطيط مهمة المراجعة يجب على القائم بالتخطيط أن يبني خطته استنادا إلى </a:t>
            </a:r>
            <a:r>
              <a:rPr b="1" lang="ar-SA" sz="2200" spc="-1" strike="noStrike">
                <a:solidFill>
                  <a:srgbClr val="000000"/>
                </a:solidFill>
                <a:latin typeface="Trebuchet MS"/>
                <a:cs typeface="Tahoma"/>
              </a:rPr>
              <a:t>الأمور التالية:  </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أهداف المطلوب تحقيقها من تنفيذ المهمة والتي يجب أن تكون متسقة مع  أهداف خطة وحدة المراجعة ككل.</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حصول على معلومات كافية عن الأنشطة التي سيتم مراجعتها.</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تحديد الموارد اللازمة لإنجاز مهم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إبلاغ الأطراف المعنية ببدء عملية المراجع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مهمة المراجعة</a:t>
            </a:r>
            <a:endParaRPr b="0" lang="en-US" sz="3600" spc="-1" strike="noStrike">
              <a:solidFill>
                <a:srgbClr val="90c226"/>
              </a:solidFill>
              <a:latin typeface="Trebuchet MS"/>
            </a:endParaRPr>
          </a:p>
        </p:txBody>
      </p:sp>
      <p:sp>
        <p:nvSpPr>
          <p:cNvPr id="240" name=""/>
          <p:cNvSpPr txBox="1"/>
          <p:nvPr/>
        </p:nvSpPr>
        <p:spPr>
          <a:xfrm>
            <a:off x="677520" y="2160360"/>
            <a:ext cx="8596440" cy="3881160"/>
          </a:xfrm>
          <a:prstGeom prst="rect">
            <a:avLst/>
          </a:prstGeom>
          <a:noFill/>
          <a:ln w="0">
            <a:noFill/>
          </a:ln>
        </p:spPr>
        <p:txBody>
          <a:bodyPr anchor="t">
            <a:normAutofit fontScale="96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بع...</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مل دراسة حول الأنشطة والمخاطر ذات الصلة بالمهمة ووسائل الرقابة المستخدمة للحد منها.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راجعة دليل المراجعة لتحديد الإجراءات التي يتعين القيام بها في نطاق العمل.</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كيف ومتى ولمن سيتم الإبلاغ بنتائج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لحصول على موافقة مدير المراجعة الداخلية باعتماد خطة المراجع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ثيق خطة مراجعة المهمة في مذكرة تخطيط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2" name=""/>
          <p:cNvSpPr txBox="1"/>
          <p:nvPr/>
        </p:nvSpPr>
        <p:spPr>
          <a:xfrm>
            <a:off x="677520" y="1929960"/>
            <a:ext cx="8596440" cy="4251240"/>
          </a:xfrm>
          <a:prstGeom prst="rect">
            <a:avLst/>
          </a:prstGeom>
          <a:noFill/>
          <a:ln w="0">
            <a:noFill/>
          </a:ln>
        </p:spPr>
        <p:txBody>
          <a:bodyPr anchor="t">
            <a:normAutofit fontScale="99000"/>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أهمية تحديد أهداف ونطا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ركيز الموارد المتاحة للمهمة على الجوانب الضرورية لتحقيق أهداف مهمة المراجعة أو التي تحتوي على نسبة تعرض للمخاطر عالي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جنب ضياع الوقت في مراجعة العمليات غير الضرورية لتحقيق أهداف المراجعة أو التي تحتوي على نسبة تعرض للمخاطر قليلة أو غير هام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سين عمليات الاتصال مع الإدارة المراد مراجعتها على جميع المستويات.</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ضمان تغطية كل عمليات المراجعة.</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4"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لتحديد أهداف مهمة المراجعة يمكن إتباع الخطوات الآت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طلاع على خطة المراجعة الشاملة للإدارة ودور المهمة في تحقيق أهداف الخط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عمل مناقشة للأهداف العريضة للمهمة بين فريق العمل ومدير إدارة المراجعة الداخل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قيام ببعض الإجراءات التمهيدية لتقدير المخاطر.</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مناقشة فريق عمل المهمة في المخاطر المحيطة بها وتحديد الأهداف على ضوء المراجعة التمهيدية.</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الاتفاق على الأهداف المحددة للمهمة سواء كانت مرتبطة بالفحص أو التحقق أو التقويم أو مراجعة الالتزام.</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حديد نطاق وأهداف مهمة المراجعة</a:t>
            </a:r>
            <a:endParaRPr b="0" lang="en-US" sz="3600" spc="-1" strike="noStrike">
              <a:solidFill>
                <a:srgbClr val="90c226"/>
              </a:solidFill>
              <a:latin typeface="Trebuchet MS"/>
            </a:endParaRPr>
          </a:p>
        </p:txBody>
      </p:sp>
      <p:sp>
        <p:nvSpPr>
          <p:cNvPr id="246" name=""/>
          <p:cNvSpPr txBox="1"/>
          <p:nvPr/>
        </p:nvSpPr>
        <p:spPr>
          <a:xfrm>
            <a:off x="677520" y="1816200"/>
            <a:ext cx="8596440" cy="43653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200" spc="-1" strike="noStrike">
                <a:solidFill>
                  <a:srgbClr val="000000"/>
                </a:solidFill>
                <a:latin typeface="Trebuchet MS"/>
                <a:cs typeface="Tahoma"/>
              </a:rPr>
              <a:t>التوثيق:</a:t>
            </a:r>
            <a:endParaRPr b="0" lang="en-US" sz="22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200" spc="-1" strike="noStrike">
                <a:solidFill>
                  <a:srgbClr val="000000"/>
                </a:solidFill>
                <a:latin typeface="Trebuchet MS"/>
                <a:cs typeface="Tahoma"/>
              </a:rPr>
              <a:t>يجب توثيق أهداف التخطيط ونطاق العمل عن طريق إدراجها في مذكرة تخطيط المراجعة. وإذا حدث تعديلات على أهداف ونطاق عمل المراجعة التي تم الموافقة عليها وتم توثيقها ، يجب مناقشة هذه التعديلات مع مدير المراجعة الداخلية والحصول على موافقة المسئول الأول بالجهة قبل البدء في تنفيذ هذه التعديلات.</a:t>
            </a:r>
            <a:endParaRPr b="0" lang="en-US" sz="22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4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شمل مراجعة الهياكل التنظيمية، السياسات، الإجراءات، تفعيل تقنية المعلومات، وأي نوع آخر من المعلومات التي ستساعد فريق مهمة المراجعة الداخلية على الفهم الجيد للمناطق المراد مراجعتها.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عتمد الوقت المستنفذ في عمل المراجعة التمهيدية على مدى تعقد الأعمال المراد مراجعتها وعلى الوقت الذي استغرقته آخر عملية مراجعة لهذه الأعمال.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حديد عمق وطول المراجعة التمهيدية يأتي من ضمن مسؤوليات مدير المراجعة الداخلية. </a:t>
            </a:r>
            <a:endParaRPr b="0" lang="en-US" sz="18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عمل المراجعة التمهيدية على تزويد فريق المهمة بصورة واضحة عن العمليات وعن الرقابة الداخلية المعتمدة داخل الإدارة المراد مراجعتها.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موضوع اليوم سيشتمل بأذن الله على التالي:</a:t>
            </a:r>
            <a:endParaRPr b="0" lang="en-US" sz="3600" spc="-1" strike="noStrike">
              <a:solidFill>
                <a:srgbClr val="90c226"/>
              </a:solidFill>
              <a:latin typeface="Trebuchet MS"/>
            </a:endParaRPr>
          </a:p>
        </p:txBody>
      </p:sp>
      <p:sp>
        <p:nvSpPr>
          <p:cNvPr id="214" name=""/>
          <p:cNvSpPr txBox="1"/>
          <p:nvPr/>
        </p:nvSpPr>
        <p:spPr>
          <a:xfrm>
            <a:off x="677520" y="1929960"/>
            <a:ext cx="8596440" cy="4108680"/>
          </a:xfrm>
          <a:prstGeom prst="rect">
            <a:avLst/>
          </a:prstGeom>
          <a:noFill/>
          <a:ln w="0">
            <a:noFill/>
          </a:ln>
        </p:spPr>
        <p:txBody>
          <a:bodyPr anchor="t">
            <a:normAutofit fontScale="91000"/>
          </a:bodyPr>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قدير المخاطر وترجمتها الى خطة مراجعة داخلية</a:t>
            </a:r>
            <a:endParaRPr b="0" lang="en-US" sz="2000" spc="-1" strike="noStrike">
              <a:solidFill>
                <a:srgbClr val="404040"/>
              </a:solidFill>
              <a:latin typeface="Trebuchet MS"/>
            </a:endParaRPr>
          </a:p>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خطة المراجعة الداخلية (الخطة الاستراتيجية)</a:t>
            </a:r>
            <a:endParaRPr b="0" lang="en-US" sz="20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ختيار مهام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عداد الميزانية التقديرية للوقت المطلوب للمهمة الواحد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إصدار خطة المراجعة الداخلية إحداث التعديلات عليها </a:t>
            </a:r>
            <a:endParaRPr b="0" lang="en-US" sz="1800" spc="-1" strike="noStrike">
              <a:solidFill>
                <a:srgbClr val="404040"/>
              </a:solidFill>
              <a:latin typeface="Trebuchet MS"/>
            </a:endParaRPr>
          </a:p>
          <a:p>
            <a:pPr marL="312120" indent="-31212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404040"/>
                </a:solidFill>
                <a:latin typeface="Trebuchet MS"/>
                <a:cs typeface="Tahoma"/>
              </a:rPr>
              <a:t>تخطيط مهمة المراجعة</a:t>
            </a:r>
            <a:endParaRPr b="0" lang="en-US" sz="20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تحديد نطاق واهداف مهمة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مراجعات التمهيدي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لاجتماع الافتتاحي</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برامج المراجعة</a:t>
            </a:r>
            <a:endParaRPr b="0" lang="en-US" sz="1800" spc="-1" strike="noStrike">
              <a:solidFill>
                <a:srgbClr val="404040"/>
              </a:solidFill>
              <a:latin typeface="Trebuchet MS"/>
            </a:endParaRPr>
          </a:p>
          <a:p>
            <a:pPr marL="312120" indent="-31212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404040"/>
                </a:solidFill>
                <a:latin typeface="Trebuchet MS"/>
                <a:cs typeface="Tahoma"/>
              </a:rPr>
              <a:t>اوراق العمل</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التوثيق:</a:t>
            </a:r>
            <a:r>
              <a:rPr b="0" lang="ar-SA" sz="2400" spc="-1" strike="noStrike">
                <a:solidFill>
                  <a:srgbClr val="000000"/>
                </a:solidFill>
                <a:latin typeface="Trebuchet MS"/>
                <a:ea typeface="Tahoma"/>
              </a:rPr>
              <a:t>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ea typeface="Tahoma"/>
              </a:rPr>
              <a:t> توثيق نتائج المراجعة التمهيدية، تحتاج وحدة المراجعة الداخلية إلى استخدام النماذج التالية لتعبئتها من قبل أعضاء </a:t>
            </a:r>
            <a:r>
              <a:rPr b="1" lang="ar-SA" sz="2400" spc="-1" strike="noStrike">
                <a:solidFill>
                  <a:srgbClr val="000000"/>
                </a:solidFill>
                <a:latin typeface="Trebuchet MS"/>
                <a:cs typeface="Tahoma"/>
              </a:rPr>
              <a:t>فريق المهمة: </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قائمة أعمال المراجعة الواجب تنفيذها.</a:t>
            </a: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مذكرة تخطيط المراجعة. </a:t>
            </a: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ea typeface="Tahoma"/>
              </a:rPr>
              <a:t> </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قائمة أعمال المراجعة الواجب تنفيذه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بعض ما تتضمنه قائمة أعمال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إدارات التي يجب زيارتها والأشخاص اللذين يجب مناقشت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توثيق المطلوب للعمل الذي ت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تقرير نتائج 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وقت اللازم للانتهاء من المهمة وشكل التقرير النهائي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راجعون المكلفون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خاطر المرتبطة بكل مرحل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نتائج المتوقع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ذكرة 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مثلة</a:t>
            </a:r>
            <a:r>
              <a:rPr b="0" lang="ar-SA" sz="2000" spc="-1" strike="noStrike">
                <a:solidFill>
                  <a:srgbClr val="000000"/>
                </a:solidFill>
                <a:latin typeface="Trebuchet MS"/>
                <a:ea typeface="Tahoma"/>
              </a:rPr>
              <a:t> على مايجب أن تتضمنه مذكرة تخطيط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علومات عن الإدارات أو الأقسام التي سيتم مراجعة أعمالها وطبيعة تلك الأعمال والمخاطر المرتبطة بكل من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فراد والمسئولين عن الإدارات أو الأقسام التي سيتم مراجعة أعمالها والمهام المنوطة بكل من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يان واضح بنطاق مهمة المراجعة وحدود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قيت القيام بالمراحل الأساسية للمهم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تبع..</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ريق العمل المكلف بالمهمة ودور كل منهم ومتى يعود إلى رئيس فريق عمل المهم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نشطة التي سيتم القيام ب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شكل التقرير وتوقيت تقديمه لإدارة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مراجعة وتوثيق الظروف والأوضاع التي قد تؤثر على المهمة أو على أداء فريق العمل في مذكرة تخطيط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سئولية إعداد قائمة أعمال مراجعة المهمة ومذكرة التخطيط تقع على عاتق رئيس فريق المراجعة ويتعين عليه اعتمادها من مدير إدارة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مراجعات التمهيدية</a:t>
            </a:r>
            <a:endParaRPr b="0" lang="en-US" sz="3600" spc="-1" strike="noStrike">
              <a:solidFill>
                <a:srgbClr val="90c226"/>
              </a:solidFill>
              <a:latin typeface="Trebuchet MS"/>
            </a:endParaRPr>
          </a:p>
        </p:txBody>
      </p:sp>
      <p:sp>
        <p:nvSpPr>
          <p:cNvPr id="25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بالإضافة</a:t>
            </a:r>
            <a:r>
              <a:rPr b="0" lang="ar-SA" sz="2000" spc="-1" strike="noStrike">
                <a:solidFill>
                  <a:srgbClr val="000000"/>
                </a:solidFill>
                <a:latin typeface="Trebuchet MS"/>
                <a:ea typeface="Tahoma"/>
              </a:rPr>
              <a:t> إلى كل ما ذكر فإن مذكرة تخطيط المراجعة يجب أن تلخص تفاصيل </a:t>
            </a:r>
            <a:r>
              <a:rPr b="1" lang="ar-SA" sz="2000" spc="-1" strike="noStrike">
                <a:solidFill>
                  <a:srgbClr val="54a021"/>
                </a:solidFill>
                <a:latin typeface="Trebuchet MS"/>
                <a:cs typeface="Tahoma"/>
              </a:rPr>
              <a:t>الاجتماع الافتتاحي </a:t>
            </a:r>
            <a:r>
              <a:rPr b="0" lang="ar-SA" sz="2000" spc="-1" strike="noStrike">
                <a:solidFill>
                  <a:srgbClr val="000000"/>
                </a:solidFill>
                <a:latin typeface="Trebuchet MS"/>
                <a:cs typeface="Tahoma"/>
              </a:rPr>
              <a:t>المنعقد. </a:t>
            </a:r>
            <a:r>
              <a:rPr b="1" lang="ar-SA" sz="2000" spc="-1" strike="noStrike">
                <a:solidFill>
                  <a:srgbClr val="000000"/>
                </a:solidFill>
                <a:latin typeface="Trebuchet MS"/>
                <a:cs typeface="Tahoma"/>
              </a:rPr>
              <a:t>من هذه التفاصي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وقت ومكان الاجتماع، (</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حضور، (</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وضوعات التي تم مناقشتها، (</a:t>
            </a:r>
            <a:r>
              <a:rPr b="0" lang="ar-SA" sz="2000" spc="-1" strike="noStrike">
                <a:solidFill>
                  <a:srgbClr val="000000"/>
                </a:solidFill>
                <a:latin typeface="Trebuchet MS"/>
                <a:ea typeface="Tahoma"/>
              </a:rPr>
              <a:t>4</a:t>
            </a:r>
            <a:r>
              <a:rPr b="0" lang="ar-SA" sz="2000" spc="-1" strike="noStrike">
                <a:solidFill>
                  <a:srgbClr val="000000"/>
                </a:solidFill>
                <a:latin typeface="Trebuchet MS"/>
                <a:ea typeface="Tahoma"/>
              </a:rPr>
              <a:t>) الاستنتاجات التي تم التوصل إليها، (</a:t>
            </a:r>
            <a:r>
              <a:rPr b="0" lang="ar-SA" sz="2000" spc="-1" strike="noStrike">
                <a:solidFill>
                  <a:srgbClr val="000000"/>
                </a:solidFill>
                <a:latin typeface="Trebuchet MS"/>
                <a:ea typeface="Tahoma"/>
              </a:rPr>
              <a:t>5</a:t>
            </a:r>
            <a:r>
              <a:rPr b="0" lang="ar-SA" sz="2000" spc="-1" strike="noStrike">
                <a:solidFill>
                  <a:srgbClr val="000000"/>
                </a:solidFill>
                <a:latin typeface="Trebuchet MS"/>
                <a:ea typeface="Tahoma"/>
              </a:rPr>
              <a:t>) التوقيتات المتوقعة للمراحل الأساسية للمراجعة، (</a:t>
            </a:r>
            <a:r>
              <a:rPr b="0" lang="ar-SA" sz="2000" spc="-1" strike="noStrike">
                <a:solidFill>
                  <a:srgbClr val="000000"/>
                </a:solidFill>
                <a:latin typeface="Trebuchet MS"/>
                <a:ea typeface="Tahoma"/>
              </a:rPr>
              <a:t>6</a:t>
            </a:r>
            <a:r>
              <a:rPr b="0" lang="ar-SA" sz="2000" spc="-1" strike="noStrike">
                <a:solidFill>
                  <a:srgbClr val="000000"/>
                </a:solidFill>
                <a:latin typeface="Trebuchet MS"/>
                <a:ea typeface="Tahoma"/>
              </a:rPr>
              <a:t>) تسجيل المواعيد المناسبة لبداية ونهاية </a:t>
            </a:r>
            <a:r>
              <a:rPr b="1" lang="ar-SA" sz="2000" spc="-1" strike="noStrike">
                <a:solidFill>
                  <a:srgbClr val="000000"/>
                </a:solidFill>
                <a:latin typeface="Trebuchet MS"/>
                <a:cs typeface="Tahoma"/>
              </a:rPr>
              <a:t>الأمور التالية الخاصة بالمه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خطيط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العمل الميداني.</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مسودة التقرير.</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اريخ إصدار التقرير النهائي المؤقت.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0"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حضور الاجتماع من قبل أعضاء الإدارة المهتمين بعملية المراجعة والذين يستطيعون تسهيل عمل المراجعة على الجهة المراد مراجعتها.</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على مدير المراجعة الداخلية أن يرأس فريق المراجعة في الاجتماع الافتتاحي.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تبرز أهمية الإجتماع الافتتاحي من أنه </a:t>
            </a:r>
            <a:r>
              <a:rPr b="1" lang="ar-SA" sz="2000" spc="-1" strike="noStrike">
                <a:solidFill>
                  <a:srgbClr val="000000"/>
                </a:solidFill>
                <a:latin typeface="Trebuchet MS"/>
                <a:cs typeface="Tahoma"/>
              </a:rPr>
              <a:t>يعتبر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بمثابة الفرصة الأولى للقاء موظفي الإدارة المراد مراجعتها بشكل رسمي،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كما أنه يرسم الاتجاهات العامة لباقي مراحل مهمة المراجعة. </a:t>
            </a:r>
            <a:endParaRPr b="0" lang="en-US" sz="20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الاجتماع الافتتاحي مع الجهة المراجع عليها</a:t>
            </a:r>
            <a:endParaRPr b="0" lang="en-US" sz="3600" spc="-1" strike="noStrike">
              <a:solidFill>
                <a:srgbClr val="90c226"/>
              </a:solidFill>
              <a:latin typeface="Trebuchet MS"/>
            </a:endParaRPr>
          </a:p>
        </p:txBody>
      </p:sp>
      <p:sp>
        <p:nvSpPr>
          <p:cNvPr id="26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والأمور التي يتم مناقشتها في الاجتماع الافتتاحي عادة ه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هدف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ريف المصطلح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تطلبات الجهة المراجع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رفع التقارير</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عاليات الاختتا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4" name=""/>
          <p:cNvSpPr txBox="1"/>
          <p:nvPr/>
        </p:nvSpPr>
        <p:spPr>
          <a:xfrm>
            <a:off x="677520" y="2160360"/>
            <a:ext cx="8596440" cy="3881160"/>
          </a:xfrm>
          <a:prstGeom prst="rect">
            <a:avLst/>
          </a:prstGeom>
          <a:noFill/>
          <a:ln w="0">
            <a:noFill/>
          </a:ln>
        </p:spPr>
        <p:txBody>
          <a:bodyPr anchor="t">
            <a:norm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من ضمن تخطيط المهمة اعداد برنامج المراجعة اللازم لتنفيذ المهمة والذي يوضح اجراءات المراجعة والفحص الواجب تنفيذه لكل مرحلةمن مراحل المهمة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اي ان البرنامج يقسم المهمة الى مراحل بحيث يعد البرنامج حسب طبيعة المهمة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رنامج المراجعة يهدف الى تسيهل عملية الاشراف والرقابة وللتأكد من شمولية التوثيق </a:t>
            </a:r>
            <a:endParaRPr b="0" lang="en-US" sz="2400" spc="-1" strike="noStrike">
              <a:solidFill>
                <a:srgbClr val="404040"/>
              </a:solidFill>
              <a:latin typeface="Trebuchet MS"/>
            </a:endParaRPr>
          </a:p>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أسس ثابتة لعملية توزيع العمل على فريق المراجعة الداخل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وسائل للسيطرة على الميزانيات الوقتية لمهمة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عمل كأداة تدريب للمراجعين الداخليين حديثي الخبر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ديم سجل تلخيصي بالعمل الذي تم إنجازه.</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مساعدة في جعل المهمة مألوفة لدى المراجع الداخ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خفيض الوقت المطلوب للإشراف المباشر على فريق المراجعة الداخلية.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نتهاء خطوات المراجعة، يجب أن يعلن المراجع عن انتهاء الواجبات المحددة في البرنامج وأن يحتفظ بأوراق العمل التي توثيق نتائج المراجعة.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6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شكل ومضمون برنامج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تجزئة البرنامج إلى مجموعة مقاطع تقوم كل منها بخدمة هدف أو أكثر من أهداف مهمة المراجعة ومن ثم تبدأ عملية تنفيذ الإجراءات اللازمة بتحقيق هذا الهدف.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في بعض الحالات الخاصة قد يكون مفيداً استشارة اختصاصيين متمرسين للمساعدة في تحديد وتسلسل الإجراءات التي يجب تنفيذ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يشمل برنامج المراجعة كل التفاصيل الضرورية لتنفيذ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يجب أن توقع وتؤرخ كل الإجراءات داخل برنامج العمل من قبل المعد مع ضرورة عمل مرجعية لها في أوراق العمل.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كما يجب عمل حيز خاص للتوقيع وكتابة مرجعية أوراق العمل داخل البرنامج.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الإضافة إلى كل ما ذكر فإنه يجب أن تصف أوراق العمل الفحص الذي تم إنجازه ونتائج هذا الفحص.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بعدها تعبأ هذه النتائج في برنامج المراجعة وملف أوراق العمل الحالي.</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خطيط المراجعة الداخلية</a:t>
            </a:r>
            <a:endParaRPr b="0" lang="en-US" sz="3600" spc="-1" strike="noStrike">
              <a:solidFill>
                <a:srgbClr val="90c226"/>
              </a:solidFill>
              <a:latin typeface="Trebuchet MS"/>
            </a:endParaRPr>
          </a:p>
        </p:txBody>
      </p:sp>
      <p:sp>
        <p:nvSpPr>
          <p:cNvPr id="21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ألزم المعيار الأول من معايير المراجعة الداخلية مدير المراجعة بوضع خطة لعملية المراجعة بناء على تقدير المخاطر بهدف تحديد المهام التي يجب على المراجعة الداخلية تنفيذها مع مراعاة أن تكون الخطة متسقة مع أهداف الوحد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تكون أولوية اختيار مهام المراجعة الداخلية بناء على قوة تأثيرها في تحسين عملية إدارة المخاطر بالوحد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0"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مسؤولية تحضير برنامج المراجعة</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2000" spc="-1" strike="noStrike">
                <a:solidFill>
                  <a:srgbClr val="000000"/>
                </a:solidFill>
                <a:latin typeface="Trebuchet MS"/>
                <a:cs typeface="Tahoma"/>
              </a:rPr>
              <a:t>يعتبر تحضير برنامج المراجعة من مسؤولية رئيس فريق مهمة المراجعة أو المرجع المسؤول بالاعتماد على:</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1</a:t>
            </a:r>
            <a:r>
              <a:rPr b="0" lang="ar-SA" sz="2000" spc="-1" strike="noStrike">
                <a:solidFill>
                  <a:srgbClr val="000000"/>
                </a:solidFill>
                <a:latin typeface="Trebuchet MS"/>
                <a:ea typeface="Tahoma"/>
              </a:rPr>
              <a:t>) فهم طبيعة العمل بالجهة المراجع عليها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2</a:t>
            </a:r>
            <a:r>
              <a:rPr b="0" lang="ar-SA" sz="2000" spc="-1" strike="noStrike">
                <a:solidFill>
                  <a:srgbClr val="000000"/>
                </a:solidFill>
                <a:latin typeface="Trebuchet MS"/>
                <a:ea typeface="Tahoma"/>
              </a:rPr>
              <a:t>) المخاطر التي تم تحديدها خلال مرحلة تقويم المخاطر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a:t>
            </a:r>
            <a:r>
              <a:rPr b="0" lang="ar-SA" sz="2000" spc="-1" strike="noStrike">
                <a:solidFill>
                  <a:srgbClr val="000000"/>
                </a:solidFill>
                <a:latin typeface="Trebuchet MS"/>
                <a:ea typeface="Tahoma"/>
              </a:rPr>
              <a:t>3</a:t>
            </a:r>
            <a:r>
              <a:rPr b="0" lang="ar-SA" sz="2000" spc="-1" strike="noStrike">
                <a:solidFill>
                  <a:srgbClr val="000000"/>
                </a:solidFill>
                <a:latin typeface="Trebuchet MS"/>
                <a:ea typeface="Tahoma"/>
              </a:rPr>
              <a:t>) المخاطر التي تم الإبلاغ عنها عن طريق موظفي الجهة المراجع علي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مع العلم بأن برنامج المراجعة يجب أن يراجع ويعتمد من قبل رئيس المهمة قبل البدء بالعمل الميداني. كما يجب أن يقوم مدير المراجعة بالمراجعة والموافقة على كل المستندات وذلك لضمان أن إدراك فريق المراجعة كافٍ لإعداد وتنفيذ برنامج المراجعة الذي سيستخدم في تحقيق أهداف وغايات مهمة المراجع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2"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فهم طبيعة العمل بالجهة المراجع عليها</a:t>
            </a:r>
            <a:r>
              <a:rPr b="0" lang="ar-SA" sz="1800" spc="-1" strike="noStrike">
                <a:solidFill>
                  <a:srgbClr val="000000"/>
                </a:solidFill>
                <a:latin typeface="Trebuchet MS"/>
                <a:ea typeface="Tahoma"/>
              </a:rPr>
              <a:t>:</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أن الفهم المناسب لطبيعة العمل بالجهة المراجع عليها يمكن فريق المراجعة من تحديد أساليب الرقابة المستخدمة والمخاطر المصاحبة لها قبل وضع برنامج مراجعة. لذلك فإن عملية فهم طبيعة العمل بالجهة المراجع عليها تعتبر الأساس في:</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ييم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عداد برنامج مراجعة جيد. </a:t>
            </a:r>
            <a:endParaRPr b="0" lang="en-US" sz="18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ويوجد طريقتين يمكن استخدامهما لتوثيق فهم طبيعة العمل وبيئة الرقابة بالجهة المراجع عليها هما: </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الوصف النثري للإجراءات</a:t>
            </a:r>
            <a:endParaRPr b="0" lang="en-US" sz="18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ea typeface="Tahoma"/>
              </a:rPr>
              <a:t>	</a:t>
            </a:r>
            <a:r>
              <a:rPr b="0" lang="ar-SA" sz="1800" spc="-1" strike="noStrike">
                <a:solidFill>
                  <a:srgbClr val="000000"/>
                </a:solidFill>
                <a:latin typeface="Trebuchet MS"/>
                <a:cs typeface="Tahoma"/>
              </a:rPr>
              <a:t>خرائط التدفق البيان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4"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وصف النثري للإجراءات</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وم هذه الطريقة على وصف إجراءات العمل بطريقة نثرية منفصلة، وعلى توثيق الأنظمة والإجراءات عند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كون عملية تغييرات جذرية في النظام متوقعة الحدو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لا تتوافر إجراءات واضحة ومتبعة للرقابة الداخ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كون النظام غير معقد، وبالتالي يمكن توثيقه بسهولة على نماذج وصف الإجراءات كتابياً.</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6"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خرائط التدفق البيانية</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صور خرائط التدفق باستخدام الرسوم البيانية تدفق الإجراءات وأنظمة الرقابة على هيئة نماذج مرسومة لتسهيل عملية فهم طبيعة العمل وبيئة الرقابة بالجهة المراجع عليها. </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وفي بعض الأوقات قد يكون من الأكثر فعالية توثيق بعض أنواع الرقابة بطريقة وصف الإجراءات كتابياً ملحقة ومكملة بخرائط التدفق البيا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برامج المراجعة</a:t>
            </a:r>
            <a:endParaRPr b="0" lang="en-US" sz="3600" spc="-1" strike="noStrike">
              <a:solidFill>
                <a:srgbClr val="90c226"/>
              </a:solidFill>
              <a:latin typeface="Trebuchet MS"/>
            </a:endParaRPr>
          </a:p>
        </p:txBody>
      </p:sp>
      <p:sp>
        <p:nvSpPr>
          <p:cNvPr id="278" name=""/>
          <p:cNvSpPr txBox="1"/>
          <p:nvPr/>
        </p:nvSpPr>
        <p:spPr>
          <a:xfrm>
            <a:off x="677520" y="1929960"/>
            <a:ext cx="8596440" cy="453564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طوير البرنامج</a:t>
            </a: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بعد الانتهاء من مهمة المراجعة، يقوم فريق المراجعة الداخلية بتدوين –داخل أوراق العمل- اقتراحاتهم بتغيير وتعديل برنامج المراجعة، والذي سيتم تطبيقه قبل البدء بمهمة المرجعة اللاحق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إحداث التعديلات في برامج المراجعة:</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ي بعض الحالات، قد يكون من الضروري أن يقوم رئيس الفريق بتطوير أو تعديل فقرات من برنامج المراجعة أثناء العمل الميداني. مما يوجب إبلاغ مدير المراجعة بكل هذه التعديلات، قبل البدء بعملها، وذلك لضمان أن مثل هذه التغيرات لن تؤثر على نطاق وأهداف مهمة المراجعة العام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تستخدم أوراق العمل كوسيلة لـ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ثيق العمل الذي قامت وحدة المراجعة الداخلية بإنجازه خلال مراحل المهمة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دوين المعلومات والبيانات والأدلة التي تم تجميعها و</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وثيق الاختبارات والتحاليل التي تم تنفيذها على عينات المراجعة.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تحفظ أوراق المراجعة كما سبق أن ذكرنا في ملفين هم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المراجعة الدائ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لف مراجعة المهمة (الملف الجار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يبدأ استخدام أوراق العمل منذ بداية التخطيط للمهمة وحتى الإنتهاء من تنفيذ المهمة وإصدار التقرير. أي أن </a:t>
            </a:r>
            <a:r>
              <a:rPr b="1" lang="ar-SA" sz="1800" spc="-1" strike="noStrike">
                <a:solidFill>
                  <a:srgbClr val="000000"/>
                </a:solidFill>
                <a:latin typeface="Trebuchet MS"/>
                <a:cs typeface="Tahoma"/>
              </a:rPr>
              <a:t>أوراق العمل تستخدم في توثيق الخطوات التا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خطط المراجعة، بما في ذلك برنامج المراجع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فحص وتقييم كفاءة وفعالية أنظمة الرقابة الداخلي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إجراءات المراجعة المستخدمة، المعلومات التي تم الحصول عليها، والنتائج التي تم التوصل إليها.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إشراف.</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راجعة.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1800" spc="-1" strike="noStrike">
                <a:solidFill>
                  <a:srgbClr val="000000"/>
                </a:solidFill>
                <a:latin typeface="Trebuchet MS"/>
                <a:cs typeface="Tahoma"/>
              </a:rPr>
              <a:t>تقارير المتابعة الخاصة بتطبيق الإجراءات التصحيحية.</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فهرس الموحد لأوراق العمل:</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يجب أن يصمم مدير المراجعة نظام فهرسة لأوراق العمل بالإتفاق مع العاملين بالوحدة لتوحيد هيكل ومحتوى ملفات المراجعة و لضمان التماثل في جميع ملفات المراجعة لكي يسهل التعامل مع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6"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1800" spc="-1" strike="noStrike">
                <a:solidFill>
                  <a:srgbClr val="000000"/>
                </a:solidFill>
                <a:latin typeface="Trebuchet MS"/>
                <a:cs typeface="Tahoma"/>
              </a:rPr>
              <a:t>أهداف أوراق العمل: </a:t>
            </a:r>
            <a:r>
              <a:rPr b="0" lang="ar-SA" sz="1800" spc="-1" strike="noStrike">
                <a:solidFill>
                  <a:srgbClr val="000000"/>
                </a:solidFill>
                <a:latin typeface="Trebuchet MS"/>
                <a:ea typeface="Tahoma"/>
              </a:rPr>
              <a:t>	</a:t>
            </a:r>
            <a:endParaRPr b="0" lang="en-US" sz="18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تنفيذ وإدارة مهمة المراجعة بكفاءة وفعال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قديم الدعم والتأييد ل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هيل مراجعة الأطراف الخارجية الأخرى.</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ساهم أوراق العمل في تنفيذ </a:t>
            </a:r>
            <a:r>
              <a:rPr b="1" lang="ar-SA" sz="2000" spc="-1" strike="noStrike">
                <a:solidFill>
                  <a:srgbClr val="54a021"/>
                </a:solidFill>
                <a:latin typeface="Trebuchet MS"/>
                <a:cs typeface="Tahoma"/>
              </a:rPr>
              <a:t>الواجبات الإدارية </a:t>
            </a:r>
            <a:r>
              <a:rPr b="0" lang="ar-SA" sz="2000" spc="-1" strike="noStrike">
                <a:solidFill>
                  <a:srgbClr val="000000"/>
                </a:solidFill>
                <a:latin typeface="Trebuchet MS"/>
                <a:cs typeface="Tahoma"/>
              </a:rPr>
              <a:t>المختلفة لوحدة المراجعة الداخلية بكفاءة وفعال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88"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والمقصود بالواجبات الإدارية في الهدف الأخير ما يل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عملية تخطيط مهمة المراجعة بكفاءة (بما في ذلك تحديد الموارد الأساس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حقيق رقابة فعالة على العمل الميدان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تنقيح وكتابة تقارير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قديم الدعم لتقرير المراجع الداخلي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cs typeface="Tahoma"/>
              </a:rPr>
              <a:t>تيسير مراجعة الطرف الثالث</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0" lang="ar-SA" sz="2000" spc="-1" strike="noStrike">
                <a:solidFill>
                  <a:srgbClr val="000000"/>
                </a:solidFill>
                <a:latin typeface="Trebuchet MS"/>
                <a:ea typeface="Tahoma"/>
              </a:rPr>
              <a:t> المساعدة في التطور المهني</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يسير مدخل منظم لعمليات المراجع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تقدير المخاطر</a:t>
            </a:r>
            <a:br>
              <a:rPr sz="3600"/>
            </a:br>
            <a:endParaRPr b="0" lang="en-US" sz="3600" spc="-1" strike="noStrike">
              <a:solidFill>
                <a:srgbClr val="90c226"/>
              </a:solidFill>
              <a:latin typeface="Trebuchet MS"/>
            </a:endParaRPr>
          </a:p>
        </p:txBody>
      </p:sp>
      <p:sp>
        <p:nvSpPr>
          <p:cNvPr id="218"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404040"/>
                </a:solidFill>
                <a:latin typeface="Trebuchet MS"/>
                <a:ea typeface="Tahoma"/>
              </a:rPr>
              <a:t>	</a:t>
            </a:r>
            <a:r>
              <a:rPr b="0" lang="ar-SA" sz="2400" spc="-1" strike="noStrike">
                <a:solidFill>
                  <a:srgbClr val="000000"/>
                </a:solidFill>
                <a:latin typeface="Trebuchet MS"/>
                <a:cs typeface="Tahoma"/>
              </a:rPr>
              <a:t>يجب أن يعد مدير وحدة المراجعة نموذج إرشادي لتقدير المخاطر يستخدمه المراجعين الداخليين.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تقدير المخاطر يعني تقدير احتمالات حدوث أخطاء أو عمليات غش ولا تستطيع الإجراءات الرقابية الموضوعة إكتشافها أو منع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عتمد عملية تقدير المخاطر بصفة عامة على تحقيق المعرفة الكاملة بعمليات الوحدة الحكومية وربط هذه المعرفة بالإجراءات الرقابية الموضوعة لمعرفة ما إذا كانت هذه الإجراءات يمكنها منع حدوث أخطاء أو عمليات غش أو اكتشافها حال حدوثها.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معايير المتعلقة ب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وضوح وسهولة الف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كون وثيقة الصلة بالموضوع.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سم بالدق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اكتمال والثقة فيها وإمكانية الاعتماد عليها.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أن تتسم بالبساط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موضوعي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2"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يجب أن تتضمن كل ورقة عمل على نص واضح يبين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أهداف.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حجم وأساليب اختيار العينة (النطاق)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صادر المعلومات.</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فاصيل الفحص الذي تم إنجازه.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نتائج الفحص (الاستنتاجات) . </a:t>
            </a:r>
            <a:endParaRPr b="0" lang="en-US" sz="2000" spc="-1" strike="noStrike">
              <a:solidFill>
                <a:srgbClr val="404040"/>
              </a:solidFill>
              <a:latin typeface="Trebuchet MS"/>
            </a:endParaRPr>
          </a:p>
          <a:p>
            <a:pPr algn="just" rtl="1">
              <a:spcBef>
                <a:spcPts val="1001"/>
              </a:spcBef>
              <a:buClr>
                <a:srgbClr val="90c226"/>
              </a:buClr>
              <a:buSzPct val="80000"/>
              <a:buFont typeface="Trebuchet M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مرجعية برنامج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4"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ستخدام الرموز والإشارات في أوراق الع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قد يتم استخدام علامات أو رموز في أوراق العمل لترمز إلى خطوات عمل معين أو ترمز إلي إجراء معين أو تحمل معنى معين يعلمه المراجع. في هذه الحالة يجب عمل قائمة تفسيرية لشرح رموز الإشارات التي تستخدمها وحدة المراجعة.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رقيم أوراق العمل وربطها ببعضها بطريقة ملائمة يعتبر من متطلبات ملف أوراق العمل.</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6"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حفظ أوراق العمل: </a:t>
            </a:r>
            <a:endParaRPr b="0" lang="en-US" sz="20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تعتبر أوراق العمل وملفات المراجعة من ملكية وحدة المراجعة الداخلية، ولا يسمح بالاحتفاظ بها أو الإطلاع على محتواها إلا من المراجعين الداخليين المعنيين أو من يصرح لهم المسئول الأول بالجهة ، وبهذا يجب حفظ أوراق العمل وملفات المراجعة بمكان آمن في الشركة بما يحفظها من التلف، والعبث، أو الاستخدام غير المسموح به. </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أوراق العمل</a:t>
            </a:r>
            <a:endParaRPr b="0" lang="en-US" sz="3600" spc="-1" strike="noStrike">
              <a:solidFill>
                <a:srgbClr val="90c226"/>
              </a:solidFill>
              <a:latin typeface="Trebuchet MS"/>
            </a:endParaRPr>
          </a:p>
        </p:txBody>
      </p:sp>
      <p:sp>
        <p:nvSpPr>
          <p:cNvPr id="298" name=""/>
          <p:cNvSpPr txBox="1"/>
          <p:nvPr/>
        </p:nvSpPr>
        <p:spPr>
          <a:xfrm>
            <a:off x="909720" y="2031840"/>
            <a:ext cx="8596080" cy="388152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أوراق العمل الإلكترونية</a:t>
            </a:r>
            <a:r>
              <a:rPr b="0" lang="ar-SA" sz="2000" spc="-1" strike="noStrike">
                <a:solidFill>
                  <a:srgbClr val="000000"/>
                </a:solidFill>
                <a:latin typeface="Trebuchet MS"/>
                <a:ea typeface="Tahoma"/>
              </a:rPr>
              <a:t>:</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أن تكون كل الملفات الالكترونية مراقبة ومحفوظة جيدا لتجنب المخاطر المصاحبة لاستخدامها. والتي قد تشمل: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لدخول غير المصرح به وإحداث تغيير غير ملائم على البيان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تلاف أو فقدان البيانات.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endParaRPr b="0" lang="en-US" sz="2000" spc="-1" strike="noStrike">
              <a:solidFill>
                <a:srgbClr val="404040"/>
              </a:solidFill>
              <a:latin typeface="Trebuchet MS"/>
            </a:endParaRPr>
          </a:p>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يجب استخدام أساليب رقابة محددة عند استخدام أوراق العمل الإلكترونية وذلك للمحافظة على سلامة الملفات ومن أهم الأساليب الرقابية في هذا المجال الرقابة على الدخول والنسخ الاحتياطية</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قدير المخاطر</a:t>
            </a:r>
            <a:endParaRPr b="0" lang="en-US" sz="3600" spc="-1" strike="noStrike">
              <a:solidFill>
                <a:srgbClr val="90c226"/>
              </a:solidFill>
              <a:latin typeface="Trebuchet MS"/>
            </a:endParaRPr>
          </a:p>
        </p:txBody>
      </p:sp>
      <p:sp>
        <p:nvSpPr>
          <p:cNvPr id="220" name=""/>
          <p:cNvSpPr txBox="1"/>
          <p:nvPr/>
        </p:nvSpPr>
        <p:spPr>
          <a:xfrm>
            <a:off x="677520" y="2160360"/>
            <a:ext cx="8596440" cy="3881160"/>
          </a:xfrm>
          <a:prstGeom prst="rect">
            <a:avLst/>
          </a:prstGeom>
          <a:noFill/>
          <a:ln w="0">
            <a:noFill/>
          </a:ln>
        </p:spPr>
        <p:txBody>
          <a:bodyPr anchor="t">
            <a:normAutofit/>
          </a:bodyPr>
          <a:p>
            <a:pPr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مثلة لبعض الطرق التي من الممكن ان يطبقها المراجع الداخلي للحصول على المعلومات تساعده في تقدير الخطر : </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فحص  نظام العمل بالوحدة والوحدات الفرعية التابعة لها.</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إجراء المقابلات مع المسئولين والاستفسار منهم عن طبيعة العمل وكيفية أداء ذلك العمل ، والاحتياجات المحتملة للتقرير بالنسبة لهم.</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وظفين ودراسة طبيعة عملهم والتعرف على مؤهلاتهم وخبراتهم الوظيفية.</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cs typeface="Tahoma"/>
              </a:rPr>
              <a:t>استقصاء المستفيدين من الخدمة التي تقدمها الوحدة عن طبيعة احتياجاتهم ومدى الوفاء بهذه الاحتياجات.</a:t>
            </a:r>
            <a:endParaRPr b="0" lang="en-US" sz="20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ترجمة نتائج تقدير المخاطر إلى خطة مراجعة داخلية</a:t>
            </a:r>
            <a:endParaRPr b="0" lang="en-US" sz="3600" spc="-1" strike="noStrike">
              <a:solidFill>
                <a:srgbClr val="90c226"/>
              </a:solidFill>
              <a:latin typeface="Trebuchet MS"/>
            </a:endParaRPr>
          </a:p>
        </p:txBody>
      </p:sp>
      <p:sp>
        <p:nvSpPr>
          <p:cNvPr id="222"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جب أن يقوم مدير المراجعة الداخلية بالتنسيق مع المسؤول الأول بالعمل على ترجمة نتائج تقدير المخاطر إلى خطة مراجعة داخلية.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كما يجب توزيع جهود وحدة المراجعة الداخلية للحصول على أفضل تغطية للمخاطر المحددة مع الأخذ بعين الاعتبار الأهداف العامة للجهة وإعطاء الأولوية للمهام التي تتضمن خطر مرتفع.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ea typeface="Tahoma"/>
              </a:rPr>
              <a:t>	</a:t>
            </a:r>
            <a:r>
              <a:rPr b="0" lang="ar-SA" sz="2400" spc="-1" strike="noStrike">
                <a:solidFill>
                  <a:srgbClr val="000000"/>
                </a:solidFill>
                <a:latin typeface="Trebuchet MS"/>
                <a:cs typeface="Tahoma"/>
              </a:rPr>
              <a:t>يجب أن يراعي عند صياغة خطة المراجعة الداخلية أن تكون مرنة وان تستجيب للظروف المتغير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600" spc="-1" strike="noStrike" u="sng">
                <a:solidFill>
                  <a:srgbClr val="90c226"/>
                </a:solidFill>
                <a:uFillTx/>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4" name=""/>
          <p:cNvSpPr txBox="1"/>
          <p:nvPr/>
        </p:nvSpPr>
        <p:spPr>
          <a:xfrm>
            <a:off x="677520" y="2160360"/>
            <a:ext cx="8596440" cy="3881160"/>
          </a:xfrm>
          <a:prstGeom prst="rect">
            <a:avLst/>
          </a:prstGeom>
          <a:noFill/>
          <a:ln w="0">
            <a:noFill/>
          </a:ln>
        </p:spPr>
        <p:txBody>
          <a:bodyPr anchor="t">
            <a:normAutofit/>
          </a:bodyPr>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يتم استخدام هذه الإستراتيجية كدليل إرشادي بالأنشطة والإدارات الأخرى المراد مراجعتها خلال فترة طويلة نسبيا (يمكن أن تكون من ثلاثة إلى خمس سنوات).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بعد ذلك تقسم الإستراتيجية إلى خطط سنوية وتقسم كل خطة سنوية إلى عدة مهام. </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علماً بأن خطة المراجعة تحتوي على إيضاحات إضافية للفترة التي تحتاج لها كل مهمة مراجعة والموارد المطلوبة في سبيل تحقيق ذلك.</a:t>
            </a:r>
            <a:endParaRPr b="0" lang="en-US" sz="2400" spc="-1" strike="noStrike">
              <a:solidFill>
                <a:srgbClr val="404040"/>
              </a:solidFill>
              <a:latin typeface="Trebuchet MS"/>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54a021"/>
                </a:solidFill>
                <a:latin typeface="Trebuchet MS"/>
                <a:ea typeface="Tahoma"/>
              </a:rPr>
              <a:t>«بتنفيذالمهام تتنفذ الخطط وبتنفيذ الخطط تتنفذ الاستراتجية»</a:t>
            </a:r>
            <a:endParaRPr b="0" lang="en-US" sz="2400" spc="-1" strike="noStrike">
              <a:solidFill>
                <a:srgbClr val="404040"/>
              </a:solidFill>
              <a:latin typeface="Trebuchet MS"/>
            </a:endParaRPr>
          </a:p>
          <a:p>
            <a:pPr marL="343080" indent="-343080" algn="just"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6" name=""/>
          <p:cNvSpPr txBox="1"/>
          <p:nvPr/>
        </p:nvSpPr>
        <p:spPr>
          <a:xfrm>
            <a:off x="677520" y="2160360"/>
            <a:ext cx="8596440" cy="3881160"/>
          </a:xfrm>
          <a:prstGeom prst="rect">
            <a:avLst/>
          </a:prstGeom>
          <a:noFill/>
          <a:ln w="0">
            <a:noFill/>
          </a:ln>
        </p:spPr>
        <p:txBody>
          <a:bodyPr anchor="t">
            <a:normAutofit/>
          </a:bodyPr>
          <a:p>
            <a:pPr algn="just" rtl="1">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400" spc="-1" strike="noStrike">
                <a:solidFill>
                  <a:srgbClr val="000000"/>
                </a:solidFill>
                <a:latin typeface="Trebuchet MS"/>
                <a:cs typeface="Tahoma"/>
              </a:rPr>
              <a:t>يراعى عند وضع الخطةالإستراتيجية العمل على تحقيق الأهداف التا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وضع إطار مناسب لاختيار المهام.</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مكين وحدة المراجعة من توجيه جهودها نحو المجالات الأكثر أهم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حديد المجالات التي ستكون محل تركيز أعمال المراجعة الداخلية في المستقبل.</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وضيح طبيعة أعمال المراجعة الداخلية.</a:t>
            </a:r>
            <a:endParaRPr b="0" lang="en-US" sz="2400" spc="-1" strike="noStrike">
              <a:solidFill>
                <a:srgbClr val="404040"/>
              </a:solidFill>
              <a:latin typeface="Trebuchet MS"/>
            </a:endParaRPr>
          </a:p>
          <a:p>
            <a:pPr algn="just"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400" spc="-1" strike="noStrike">
                <a:solidFill>
                  <a:srgbClr val="000000"/>
                </a:solidFill>
                <a:latin typeface="Trebuchet MS"/>
                <a:cs typeface="Tahoma"/>
              </a:rPr>
              <a:t>تقدير كمية الموارد المطلوبة لتنفيذ الإستراتيجية.</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3600" spc="-1" strike="noStrike">
                <a:solidFill>
                  <a:srgbClr val="90c226"/>
                </a:solidFill>
                <a:latin typeface="Trebuchet MS"/>
                <a:cs typeface="Tahoma"/>
              </a:rPr>
              <a:t>خطة المراجعة الداخلية (استراتيجية المراجعة)</a:t>
            </a:r>
            <a:endParaRPr b="0" lang="en-US" sz="3600" spc="-1" strike="noStrike">
              <a:solidFill>
                <a:srgbClr val="90c226"/>
              </a:solidFill>
              <a:latin typeface="Trebuchet MS"/>
            </a:endParaRPr>
          </a:p>
        </p:txBody>
      </p:sp>
      <p:sp>
        <p:nvSpPr>
          <p:cNvPr id="228" name=""/>
          <p:cNvSpPr txBox="1"/>
          <p:nvPr/>
        </p:nvSpPr>
        <p:spPr>
          <a:xfrm>
            <a:off x="677520" y="1930320"/>
            <a:ext cx="8596440" cy="4927680"/>
          </a:xfrm>
          <a:prstGeom prst="rect">
            <a:avLst/>
          </a:prstGeom>
          <a:noFill/>
          <a:ln w="0">
            <a:noFill/>
          </a:ln>
        </p:spPr>
        <p:txBody>
          <a:bodyPr anchor="t">
            <a:normAutofit/>
          </a:bodyPr>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ختيار مهام المراجعة عند وضع الخطة الاستراتيجية:</a:t>
            </a:r>
            <a:endParaRPr b="0" lang="en-US" sz="2000" spc="-1" strike="noStrike">
              <a:solidFill>
                <a:srgbClr val="404040"/>
              </a:solidFill>
              <a:latin typeface="Trebuchet MS"/>
            </a:endParaRPr>
          </a:p>
          <a:p>
            <a:pPr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عند اختيار مهام المراجعة يجب مراعاة ما يلي</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أهمية</a:t>
            </a:r>
            <a:r>
              <a:rPr b="0" lang="ar-SA" sz="2000" spc="-1" strike="noStrike">
                <a:solidFill>
                  <a:srgbClr val="000000"/>
                </a:solidFill>
                <a:latin typeface="Trebuchet MS"/>
                <a:ea typeface="Tahoma"/>
              </a:rPr>
              <a:t>: تتحدد أهمية مهمة معينة على أساس ما يمكن أن تسفر عنه عملية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القابلية للتلاعب</a:t>
            </a:r>
            <a:r>
              <a:rPr b="0" lang="ar-SA" sz="2000" spc="-1" strike="noStrike">
                <a:solidFill>
                  <a:srgbClr val="000000"/>
                </a:solidFill>
                <a:latin typeface="Trebuchet MS"/>
                <a:ea typeface="Tahoma"/>
              </a:rPr>
              <a:t>: قابلية تعرض نشاط معين للتلاعب والاحتيال يجعل له الأولوية عند تحديد المهام التي يجب تنفيذها في الخط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2000" spc="-1" strike="noStrike">
                <a:solidFill>
                  <a:srgbClr val="000000"/>
                </a:solidFill>
                <a:latin typeface="Trebuchet MS"/>
                <a:cs typeface="Tahoma"/>
              </a:rPr>
              <a:t>مدى ارتباط النشاط بأهداف أو رسالة الجهة</a:t>
            </a:r>
            <a:r>
              <a:rPr b="0" lang="ar-SA" sz="2000" spc="-1" strike="noStrike">
                <a:solidFill>
                  <a:srgbClr val="000000"/>
                </a:solidFill>
                <a:latin typeface="Trebuchet MS"/>
                <a:ea typeface="Tahoma"/>
              </a:rPr>
              <a:t>: الأنشطة التي يكون لها ارتباط كبير بأهداف أو رسالة الجهة يكون لها الأولوية في عملية المراجعة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ar-SA" sz="2000" spc="-1" strike="noStrike">
                <a:solidFill>
                  <a:srgbClr val="000000"/>
                </a:solidFill>
                <a:latin typeface="Trebuchet MS"/>
                <a:ea typeface="Tahoma"/>
              </a:rPr>
              <a:t> </a:t>
            </a:r>
            <a:r>
              <a:rPr b="1" lang="ar-SA" sz="2000" spc="-1" strike="noStrike">
                <a:solidFill>
                  <a:srgbClr val="000000"/>
                </a:solidFill>
                <a:latin typeface="Trebuchet MS"/>
                <a:cs typeface="Tahoma"/>
              </a:rPr>
              <a:t>تاريخ أخر مراجعة ونتيجتها</a:t>
            </a:r>
            <a:r>
              <a:rPr b="0" lang="ar-SA" sz="2000" spc="-1" strike="noStrike">
                <a:solidFill>
                  <a:srgbClr val="000000"/>
                </a:solidFill>
                <a:latin typeface="Trebuchet MS"/>
                <a:ea typeface="Tahoma"/>
              </a:rPr>
              <a:t>: إن تاريخ أخر مراجعة ونتيجتها يكون لها دور في اختيار المهام التي يجب تنفيذها. </a:t>
            </a:r>
            <a:endParaRPr b="0" lang="en-US" sz="2000" spc="-1" strike="noStrike">
              <a:solidFill>
                <a:srgbClr val="404040"/>
              </a:solidFill>
              <a:latin typeface="Trebuchet MS"/>
            </a:endParaRPr>
          </a:p>
          <a:p>
            <a:pPr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5:36:00Z</dcterms:created>
  <dc:creator>hana</dc:creator>
  <dc:description/>
  <dc:language>en-US</dc:language>
  <cp:lastModifiedBy>Hana Ageel Alageel</cp:lastModifiedBy>
  <dcterms:modified xsi:type="dcterms:W3CDTF">2016-10-18T08:34:16Z</dcterms:modified>
  <cp:revision>44</cp:revision>
  <dc:subject/>
  <dc:title>PowerPoint Presentation</dc:title>
</cp:coreProperties>
</file>