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347BC-8F3C-4865-B66C-CF28EE46E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F890-E25B-4E5B-B232-BA90B715F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1FDD7-CAFA-4F48-A7C9-93D702F6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16C99-2C30-4AC8-9147-4FED043CA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3A347-997B-4452-A98B-1847B3E29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11A55-B884-4683-9793-AB17E1A19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F58BA-9D80-4EA0-B7DA-6658B883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7FD09-B41D-4BD1-877F-086EA4902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818D9-6CEF-4BDE-9E79-4E43694EF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E3AA0-58D4-472F-9AC9-F3CE9897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5F014-C581-41EE-A3E3-B6D09152B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8816B-E933-4C67-871E-CBC8C6292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E1002-D00B-4B34-92A0-B0FFE34A1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629A1-37C3-4896-BB0A-337583C45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88A53-095E-472F-A83F-1F8392AB4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ED7CB-A00B-41C6-9FB8-C681D3C96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17D00-B126-4141-8FCD-7CB3D0D3B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FAE58-96CB-410E-A143-BFFF6E718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810DA-C5E1-4D3B-B849-A2B8092EB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569BF-813B-4E2B-A082-F1A06BAD8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37487-3F24-4682-95F1-A580005DF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287A3-57C2-4053-BEFB-9EC859239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8E801-47FF-42DA-96DF-69658373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FC65E1-3DA0-4D91-B38B-C51863696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F8D54-FBF6-46D3-A848-9CA1A860C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116C4-7CB8-4B78-80EE-E175AB7CD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55F03-0C75-4579-A5FA-1CC496E80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82201-825B-4C00-9996-AE840C6C35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72A1D-5945-44AD-B96C-1F90E469C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DC9BE0-5926-4332-A7AD-9A6E9D404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9ED6A2-B120-4184-B63D-920D9B83BC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72851-DA71-4561-B2E0-61C3856C0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C07F2-E999-4C9E-ADC0-D5992D70B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46E7-781B-4475-ACDF-A97B2E55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EC78E-0E3D-4C0A-A9AF-AB5E2AD61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65B0F-04C0-48CB-858D-7A07B9DA2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A8485-16E0-4C12-A18F-DEBD9C1BE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CAFE3-12E4-4D86-8528-FF88678CB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1DF3B-2705-4935-918C-22B25226D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80866-7CBA-4B00-AB1A-508ED9F57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16C19-0EB9-42DA-8C76-7DB23412A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4DBBD-7225-468D-960C-D09DA861EB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F8DF3-1B2E-42BF-B0FF-3D8F78EC5C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EC056-A9F5-45F6-AA9C-A1BE42153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3A89-F001-4140-BB3B-147EBDDA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E8125-4BCD-4FCB-A079-A5F12D485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8C4DD-380E-4E90-A42A-418D9F683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19D8-9866-4149-93E3-801D81825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76A6E-1B5E-42C2-BE91-7471F585FD9B}"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95E55-5D0C-4E5B-940E-6396B30F2B1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DC16A-067A-4F61-B497-112F209CBA6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0AEF2-7163-4689-A036-54A6DE7A1C9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1596600"/>
            <a:ext cx="7767720" cy="35672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br>
              <a:rPr sz="4800"/>
            </a:br>
            <a:br>
              <a:rPr sz="4800"/>
            </a:br>
            <a:r>
              <a:rPr b="0" lang="ar-SA" sz="3600" spc="-1" strike="noStrike">
                <a:solidFill>
                  <a:srgbClr val="90c226"/>
                </a:solidFill>
                <a:latin typeface="Trebuchet MS"/>
                <a:cs typeface="Tahoma"/>
              </a:rPr>
              <a:t>دليل المراجعة</a:t>
            </a:r>
            <a:br>
              <a:rPr sz="3600"/>
            </a:br>
            <a:r>
              <a:rPr b="0" lang="ar-SA" sz="3600" spc="-1" strike="noStrike">
                <a:solidFill>
                  <a:srgbClr val="90c226"/>
                </a:solidFill>
                <a:latin typeface="Trebuchet MS"/>
                <a:cs typeface="Tahoma"/>
              </a:rPr>
              <a:t>الفقرة الخامسة</a:t>
            </a:r>
            <a:br>
              <a:rPr sz="4800"/>
            </a:br>
            <a:r>
              <a:rPr b="0" lang="ar-SA" sz="4800" spc="-1" strike="noStrike">
                <a:solidFill>
                  <a:srgbClr val="90c226"/>
                </a:solidFill>
                <a:latin typeface="Trebuchet MS"/>
                <a:cs typeface="Tahoma"/>
              </a:rPr>
              <a:t>تخطيط المراجعة الداخلية</a:t>
            </a:r>
            <a:br>
              <a:rPr sz="5400"/>
            </a:b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غيير</a:t>
            </a:r>
            <a:r>
              <a:rPr b="0" lang="ar-SA" sz="2000" spc="-1" strike="noStrike">
                <a:solidFill>
                  <a:srgbClr val="000000"/>
                </a:solidFill>
                <a:latin typeface="Trebuchet MS"/>
                <a:ea typeface="Tahoma"/>
              </a:rPr>
              <a:t>: الأنشطة التي تكون عرضة للتغير يجب أن يكون لها أولوية عند تحديد المهام أكثر من تلك التي لا تكون معرضة للتغي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الإضافة إلى ما سبق يجب على القائم بتحديد المهام التي ستخضع للمراجعة مراعاة</a:t>
            </a:r>
            <a:r>
              <a:rPr b="1" lang="ar-SA" sz="2000" spc="-1" strike="noStrike">
                <a:solidFill>
                  <a:srgbClr val="000000"/>
                </a:solidFill>
                <a:latin typeface="Trebuchet MS"/>
                <a:ea typeface="Tahoma"/>
              </a:rPr>
              <a:t> ما يلي</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كفاية المراجعين الداخليين بوحدة المراجعة الداخلي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وقت اللازم لإنجاز المهام.</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موارد الأخرى اللازمة لإنجاز أعمال الفحص.</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عداد الميزانية التقديرية للوقت المطلوب للمهمة الواح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م تجهيز الميزانية التقديرية لكل مهمة أثناء تحضير خطة المراجعة الداخلية حتى يمكن تحقيق التناسق بين احتياجات كل مهمة وخطة المراجعة الداخلية ككل. وعند إعداد ميزانية الوقت التقديرية للمهمة  يجب أخذ </a:t>
            </a:r>
            <a:r>
              <a:rPr b="1" lang="ar-SA" sz="2000" spc="-1" strike="noStrike">
                <a:solidFill>
                  <a:srgbClr val="000000"/>
                </a:solidFill>
                <a:latin typeface="Trebuchet MS"/>
                <a:cs typeface="Tahoma"/>
              </a:rPr>
              <a:t>العوامل التالية في الاعتبار</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طاق المهمة وأهداف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تعقد مهمة المراجعة ومدى تناسبها مع خبرات الفريق المكلف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ذي استغرقته نفس المهمة في مراجعات سابق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صدار خطة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تجهيز خطة المراجعة الداخلية يتم عرضها على المسئول الأول  بالجهة لاعتمادها وقد يتم إجراء تعديلات عليها قبل الموافقة النهائية عليها.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90c226"/>
                </a:solidFill>
                <a:latin typeface="Trebuchet MS"/>
                <a:cs typeface="Tahoma"/>
              </a:rPr>
              <a:t>خطة المراجعة الداخلية (استراتيجية المراجعة)</a:t>
            </a:r>
            <a:br>
              <a:rPr sz="3200"/>
            </a:br>
            <a:endParaRPr b="0" lang="en-US" sz="3200" spc="-1" strike="noStrike">
              <a:solidFill>
                <a:srgbClr val="90c226"/>
              </a:solidFill>
              <a:latin typeface="Trebuchet MS"/>
            </a:endParaRPr>
          </a:p>
        </p:txBody>
      </p:sp>
      <p:sp>
        <p:nvSpPr>
          <p:cNvPr id="236" name=""/>
          <p:cNvSpPr txBox="1"/>
          <p:nvPr/>
        </p:nvSpPr>
        <p:spPr>
          <a:xfrm>
            <a:off x="677520" y="2147760"/>
            <a:ext cx="859644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حداث التعديلات على خطة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خطيط مهمة المراجعة</a:t>
            </a:r>
            <a:endParaRPr b="0" lang="en-US" sz="3600" spc="-1" strike="noStrike">
              <a:solidFill>
                <a:srgbClr val="90c226"/>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د خطة مراجعة خاصة بكل مهمة من قبل المراجع المسؤول عن تنفيذ المهمة ويقوم باعتمادها من مدير المراجعة الداخلية ويجب أن يتم </a:t>
            </a:r>
            <a:r>
              <a:rPr b="1" lang="ar-SA" sz="2200" spc="-1" strike="noStrike">
                <a:solidFill>
                  <a:srgbClr val="000000"/>
                </a:solidFill>
                <a:latin typeface="Trebuchet MS"/>
                <a:cs typeface="Tahoma"/>
              </a:rPr>
              <a:t>توثيقها</a:t>
            </a:r>
            <a:r>
              <a:rPr b="0" lang="ar-SA" sz="2200" spc="-1" strike="noStrike">
                <a:solidFill>
                  <a:srgbClr val="000000"/>
                </a:solidFill>
                <a:latin typeface="Trebuchet MS"/>
                <a:ea typeface="Tahoma"/>
              </a:rPr>
              <a:t>.</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عند تخطيط مهمة المراجعة يجب على القائم بالتخطيط أن يبني خطته استنادا إلى </a:t>
            </a:r>
            <a:r>
              <a:rPr b="1" lang="ar-SA" sz="2200" spc="-1" strike="noStrike">
                <a:solidFill>
                  <a:srgbClr val="000000"/>
                </a:solidFill>
                <a:latin typeface="Trebuchet MS"/>
                <a:cs typeface="Tahoma"/>
              </a:rPr>
              <a:t>الأمور التالية:  </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أهداف المطلوب تحقيقها من تنفيذ المهمة والتي يجب أن تكون متسقة مع  أهداف خطة وحدة المراجعة ككل.</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حصول على معلومات كافية عن الأنشطة التي سيتم مراجعتها.</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موارد اللازمة لإنجاز مهم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إبلاغ الأطراف المعنية ببدء عملي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مهمة المراجعة</a:t>
            </a:r>
            <a:endParaRPr b="0" lang="en-US" sz="3600" spc="-1" strike="noStrike">
              <a:solidFill>
                <a:srgbClr val="90c226"/>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fontScale="96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بع...</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مل دراسة حول الأنشطة والمخاطر ذات الصلة بالمهمة ووسائل الرقابة المستخدمة للحد منها.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دليل المراجعة لتحديد الإجراءات التي يتعين القيام بها في نطاق العم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كيف ومتى ولمن سيتم الإبلاغ بنتائج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صول على موافقة مدير المراجعة الداخلية باعتماد خطة المراجع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ثيق خطة مراجعة المهمة في مذكرة تخطيط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2" name=""/>
          <p:cNvSpPr txBox="1"/>
          <p:nvPr/>
        </p:nvSpPr>
        <p:spPr>
          <a:xfrm>
            <a:off x="677520" y="1929960"/>
            <a:ext cx="8596440" cy="425124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أهمية تحديد أهداف ونطا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ركيز الموارد المتاحة للمهمة على الجوانب الضرورية لتحقيق أهداف مهمة المراجعة أو التي تحتوي على نسبة تعرض للمخاطر عالي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جنب ضياع الوقت في مراجعة العمليات غير الضرورية لتحقيق أهداف المراجعة أو التي تحتوي على نسبة تعرض للمخاطر قليلة أو غير هام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سين عمليات الاتصال مع الإدارة المراد مراجعتها على جميع المستويات.</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ضمان تغطية كل 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4"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لتحديد أهداف مهمة المراجعة يمكن إتباع الخطوات الآت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طلاع على خطة المراجعة الشاملة للإدارة ودور المهمة في تحقيق أهداف الخط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مل مناقشة للأهداف العريضة للمهمة بين فريق العمل ومدير إدارة المراجعة الداخل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قيام ببعض الإجراءات التمهيدية لتقدير المخاطر.</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ناقشة فريق عمل المهمة في المخاطر المحيطة بها وتحديد الأهداف على ضوء المراجعة التمهيد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تفاق على الأهداف المحددة للمهمة سواء كانت مرتبطة بالفحص أو التحقق أو التقويم أو مراجعة الالتزام.</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6"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التوثيق:</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جب توثيق أهداف التخطيط ونطاق العمل عن طريق إدراجها في مذكرة تخطيط المراجعة. و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4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شمل مراجعة الهياكل التنظيمية، السياسات، الإجراءات، تفعيل تقنية المعلومات، وأي نوع آخر من المعلومات التي ستساعد فريق مهمة المراجعة الداخلية على الفهم الجيد للمناطق المراد مراجعت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عتمد الوقت المستنفذ في عمل المراجعة التمهيدية على مدى تعقد الأعمال المراد مراجعتها وعلى الوقت الذي استغرقته آخر عملية مراجعة لهذه الأعمال.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حديد عمق وطول المراجعة التمهيدية يأتي من ضمن مسؤوليات مدير المراجعة الداخلية.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عمل المراجعة التمهيدية على تزويد فريق المهمة بصورة واضحة عن العمليات وعن الرقابة الداخلية المعتمدة داخل الإدارة المراد مراجعتها.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وضوع اليوم سيشتمل بأذن الله على التالي:</a:t>
            </a:r>
            <a:endParaRPr b="0" lang="en-US" sz="3600" spc="-1" strike="noStrike">
              <a:solidFill>
                <a:srgbClr val="90c226"/>
              </a:solidFill>
              <a:latin typeface="Trebuchet MS"/>
            </a:endParaRPr>
          </a:p>
        </p:txBody>
      </p:sp>
      <p:sp>
        <p:nvSpPr>
          <p:cNvPr id="214" name=""/>
          <p:cNvSpPr txBox="1"/>
          <p:nvPr/>
        </p:nvSpPr>
        <p:spPr>
          <a:xfrm>
            <a:off x="677520" y="1929960"/>
            <a:ext cx="8596440" cy="4108680"/>
          </a:xfrm>
          <a:prstGeom prst="rect">
            <a:avLst/>
          </a:prstGeom>
          <a:noFill/>
          <a:ln w="0">
            <a:noFill/>
          </a:ln>
        </p:spPr>
        <p:txBody>
          <a:bodyPr anchor="t">
            <a:normAutofit fontScale="91000"/>
          </a:bodyPr>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ر المخاطر وترجمتها الى خطة مراجعة داخلية</a:t>
            </a:r>
            <a:endParaRPr b="0" lang="en-US" sz="2000" spc="-1" strike="noStrike">
              <a:solidFill>
                <a:srgbClr val="404040"/>
              </a:solidFill>
              <a:latin typeface="Trebuchet MS"/>
            </a:endParaRPr>
          </a:p>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خطة المراجعة الداخلية (الخطة الاستراتيجية)</a:t>
            </a:r>
            <a:endParaRPr b="0" lang="en-US" sz="20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ختيار مهام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عداد الميزانية التقديرية للوقت المطلوب للمهمة الواحد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صدار خطة المراجعة الداخلية إحداث التعديلات عليها </a:t>
            </a:r>
            <a:endParaRPr b="0" lang="en-US" sz="1800" spc="-1" strike="noStrike">
              <a:solidFill>
                <a:srgbClr val="404040"/>
              </a:solidFill>
              <a:latin typeface="Trebuchet MS"/>
            </a:endParaRPr>
          </a:p>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خطيط مهمة المراجعة</a:t>
            </a:r>
            <a:endParaRPr b="0" lang="en-US" sz="20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حديد نطاق واهداف مهمة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مراجعات التمهيدي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اجتماع الافتتاحي</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رامج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وراق العمل</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توثيق:</a:t>
            </a: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ea typeface="Tahoma"/>
              </a:rPr>
              <a:t> توثيق نتائج المراجعة التمهيدية، تحتاج وحدة المراجعة الداخلية إلى استخدام النماذج التالية لتعبئتها من قبل أعضاء </a:t>
            </a:r>
            <a:r>
              <a:rPr b="1" lang="ar-SA" sz="2400" spc="-1" strike="noStrike">
                <a:solidFill>
                  <a:srgbClr val="000000"/>
                </a:solidFill>
                <a:latin typeface="Trebuchet MS"/>
                <a:cs typeface="Tahoma"/>
              </a:rPr>
              <a:t>فري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ائمة أعمال المراجعة الواجب تنفيذها.</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ذكرة تخطيط المراجع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قائمة أعمال المراجعة الواجب تنفيذه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بعض ما تتضمنه قائمة أعمال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إدارات التي يجب زيارتها والأشخاص اللذين يجب مناقشت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توثيق المطلوب للعمل الذي ت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تقرير نتائج 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لازم للانتهاء من المهمة وشكل التقرير النهائي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راجعون المكلفون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خاطر المرتبطة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نتائج المتوقع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ذكرة 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مايجب أن تتضمنه مذكرة تخطيط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لومات عن الإدارات أو الأقسام التي سيتم مراجعة أعمالها وطبيعة تلك الأعمال والمخاطر المرتبطة بكل من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فراد والمسئولين عن الإدارات أو الأقسام التي سيتم مراجعة أعمالها والمهام المنوطة بكل من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يان واضح بنطاق مهمة المراجعة وحدود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قيت القيام بالمراحل الأساسية للمهم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ريق العمل المكلف بالمهمة ودور كل منهم ومتى يعود إلى رئيس فريق عمل المهم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نشطة التي سيتم القيام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التقرير وتوقيت تقديمه لإدار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مراجعة وتوثيق الظروف والأوضاع التي قد تؤثر على المهمة أو على أداء فريق العمل في مذكرة تخطيط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سئولية إعداد قائمة أعمال مراجعة المهمة ومذكرة التخطيط تقع على عاتق رئيس فريق المراجعة ويتعين عليه اعتمادها من مدير إدارة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بالإضافة</a:t>
            </a:r>
            <a:r>
              <a:rPr b="0" lang="ar-SA" sz="2000" spc="-1" strike="noStrike">
                <a:solidFill>
                  <a:srgbClr val="000000"/>
                </a:solidFill>
                <a:latin typeface="Trebuchet MS"/>
                <a:ea typeface="Tahoma"/>
              </a:rPr>
              <a:t> إلى كل ما ذكر فإن مذكرة تخطيط المراجعة يجب أن تلخص تفاصيل </a:t>
            </a:r>
            <a:r>
              <a:rPr b="1" lang="ar-SA" sz="2000" spc="-1" strike="noStrike">
                <a:solidFill>
                  <a:srgbClr val="54a021"/>
                </a:solidFill>
                <a:latin typeface="Trebuchet MS"/>
                <a:cs typeface="Tahoma"/>
              </a:rPr>
              <a:t>الاجتماع الافتتاحي </a:t>
            </a:r>
            <a:r>
              <a:rPr b="0" lang="ar-SA" sz="2000" spc="-1" strike="noStrike">
                <a:solidFill>
                  <a:srgbClr val="000000"/>
                </a:solidFill>
                <a:latin typeface="Trebuchet MS"/>
                <a:cs typeface="Tahoma"/>
              </a:rPr>
              <a:t>المنعقد. </a:t>
            </a:r>
            <a:r>
              <a:rPr b="1" lang="ar-SA" sz="2000" spc="-1" strike="noStrike">
                <a:solidFill>
                  <a:srgbClr val="000000"/>
                </a:solidFill>
                <a:latin typeface="Trebuchet MS"/>
                <a:cs typeface="Tahoma"/>
              </a:rPr>
              <a:t>من هذه التفاصي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وقت ومكان الاجتماع، (</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حضور، (</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وضوعات التي تم مناقشتها، (</a:t>
            </a:r>
            <a:r>
              <a:rPr b="0" lang="ar-SA" sz="2000" spc="-1" strike="noStrike">
                <a:solidFill>
                  <a:srgbClr val="000000"/>
                </a:solidFill>
                <a:latin typeface="Trebuchet MS"/>
                <a:ea typeface="Tahoma"/>
              </a:rPr>
              <a:t>4</a:t>
            </a:r>
            <a:r>
              <a:rPr b="0" lang="ar-SA" sz="2000" spc="-1" strike="noStrike">
                <a:solidFill>
                  <a:srgbClr val="000000"/>
                </a:solidFill>
                <a:latin typeface="Trebuchet MS"/>
                <a:ea typeface="Tahoma"/>
              </a:rPr>
              <a:t>) الاستنتاجات التي تم التوصل إليها، (</a:t>
            </a:r>
            <a:r>
              <a:rPr b="0" lang="ar-SA" sz="2000" spc="-1" strike="noStrike">
                <a:solidFill>
                  <a:srgbClr val="000000"/>
                </a:solidFill>
                <a:latin typeface="Trebuchet MS"/>
                <a:ea typeface="Tahoma"/>
              </a:rPr>
              <a:t>5</a:t>
            </a:r>
            <a:r>
              <a:rPr b="0" lang="ar-SA" sz="2000" spc="-1" strike="noStrike">
                <a:solidFill>
                  <a:srgbClr val="000000"/>
                </a:solidFill>
                <a:latin typeface="Trebuchet MS"/>
                <a:ea typeface="Tahoma"/>
              </a:rPr>
              <a:t>) التوقيتات المتوقعة للمراحل الأساسية للمراجعة، (</a:t>
            </a:r>
            <a:r>
              <a:rPr b="0" lang="ar-SA" sz="2000" spc="-1" strike="noStrike">
                <a:solidFill>
                  <a:srgbClr val="000000"/>
                </a:solidFill>
                <a:latin typeface="Trebuchet MS"/>
                <a:ea typeface="Tahoma"/>
              </a:rPr>
              <a:t>6</a:t>
            </a:r>
            <a:r>
              <a:rPr b="0" lang="ar-SA" sz="2000" spc="-1" strike="noStrike">
                <a:solidFill>
                  <a:srgbClr val="000000"/>
                </a:solidFill>
                <a:latin typeface="Trebuchet MS"/>
                <a:ea typeface="Tahoma"/>
              </a:rPr>
              <a:t>) تسجيل المواعيد المناسبة لبداية ونهاية </a:t>
            </a:r>
            <a:r>
              <a:rPr b="1" lang="ar-SA" sz="2000" spc="-1" strike="noStrike">
                <a:solidFill>
                  <a:srgbClr val="000000"/>
                </a:solidFill>
                <a:latin typeface="Trebuchet MS"/>
                <a:cs typeface="Tahoma"/>
              </a:rPr>
              <a:t>الأمور التالية الخاصة بالمه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العمل الميدان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مسودة التقرير.</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التقرير النهائي المؤقت.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حضور الاجتماع من قبل أعضاء الإدارة المهتمين بعملية المراجعة والذين يستطيعون تسهيل عمل المراجعة على الجهة المراد مراجع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على مدير المراجعة الداخلية أن يرأس فريق المراجعة في الاجتماع الافتتاح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تبرز أهمية الإجتماع الافتتاحي من أنه </a:t>
            </a:r>
            <a:r>
              <a:rPr b="1" lang="ar-SA" sz="2000" spc="-1" strike="noStrike">
                <a:solidFill>
                  <a:srgbClr val="000000"/>
                </a:solidFill>
                <a:latin typeface="Trebuchet MS"/>
                <a:cs typeface="Tahoma"/>
              </a:rPr>
              <a:t>يعتبر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بمثابة الفرصة الأولى للقاء موظفي الإدارة المراد مراجعتها بشكل رسمي،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كما أنه يرسم الاتجاهات العامة لباقي مراحل مهمة المراجعة.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الأمور التي يتم مناقشتها في الاجتماع الافتتاحي عادة ه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هدف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ريف المصطلح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تطلبات الجهة المراجع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رفع التقار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عاليات الاختتا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4" name=""/>
          <p:cNvSpPr txBox="1"/>
          <p:nvPr/>
        </p:nvSpPr>
        <p:spPr>
          <a:xfrm>
            <a:off x="677520" y="2160360"/>
            <a:ext cx="8596440" cy="388116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ن ضمن تخطيط المهمة اعداد برنامج المراجعة اللازم لتنفيذ المهمة والذي يوضح اجراءات المراجعة والفحص الواجب تنفيذه لكل مرحلةمن مراحل المهمة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ي ان البرنامج يقسم المهمة الى مراحل بحيث يعد البرنامج حسب طبيعة المهمة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رنامج المراجعة يهدف الى تسيهل عملية الاشراف والرقابة وللتأكد من شمولية التوثيق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أسس ثابتة لعملية توزيع العمل على فريق المراجعة الداخ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وسائل للسيطرة على الميزانيات الوقتية لمهمة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كأداة تدريب للمراجعين الداخليين حديثي الخبر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سجل تلخيصي بالعمل الذي تم إنجازه.</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مساعدة في جعل المهمة مألوفة لدى المراجع الداخ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خفيض الوقت المطلوب للإشراف المباشر على فريق المراجعة الداخلية.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نتهاء خطوات المراجعة، يجب أن يعلن المراجع عن انتهاء الواجبات المحددة في البرنامج وأن يحتفظ بأوراق العمل التي توثيق نتائج المراجعة.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شكل ومضمون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في بعض الحالات الخاصة قد يكون مفيداً استشارة اختصاصيين متمرسين للمساعدة في تحديد وتسلسل الإجراءات التي يجب تنفيذ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يشمل برنامج المراجعة كل التفاصيل الضرورية لتنفيذ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توقع وتؤرخ كل الإجراءات داخل برنامج العمل من قبل المعد مع ضرورة عمل مرجعية لها في أوراق العمل.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كما يجب عمل حيز خاص للتوقيع وكتابة مرجعية أوراق العمل داخل البرنامج.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لإضافة إلى كل ما ذكر فإنه يجب أن تصف أوراق العمل الفحص الذي تم إنجازه ونتائج هذا الفحص.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عدها تعبأ هذه النتائج في برنامج المراجعة وملف أوراق العمل الحا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المراجعة الداخلية</a:t>
            </a:r>
            <a:endParaRPr b="0" lang="en-US" sz="3600" spc="-1" strike="noStrike">
              <a:solidFill>
                <a:srgbClr val="90c226"/>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لزم المعيار الأول من معايير المراجعة الداخلية مدير المراجعة بوضع خطة لعملية المراجعة بناء على تقدير المخاطر بهدف تحديد المهام التي يجب على المراجعة الداخلية تنفيذها مع مراعاة أن تكون الخطة متسقة مع أهداف الوحد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تكون أولوية اختيار مهام المراجعة الداخلية بناء على قوة تأثيرها في تحسين عملية إدارة المخاطر بالوحد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0"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مسؤولية تحضير برنامج المراجعة</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2000" spc="-1" strike="noStrike">
                <a:solidFill>
                  <a:srgbClr val="000000"/>
                </a:solidFill>
                <a:latin typeface="Trebuchet MS"/>
                <a:cs typeface="Tahoma"/>
              </a:rPr>
              <a:t>يعتبر تحضير برنامج المراجعة من مسؤولية رئيس فريق مهمة المراجعة أو المرجع المسؤول بالاعتماد على:</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فهم طبيعة العمل بالجهة المراجع عليها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مخاطر التي تم تحديدها خلال مرحلة تقويم المخاطر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خاطر التي تم الإبلاغ عنها عن طريق موظفي الجهة المراجع علي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ع العلم بأن برنامج المراجعة يجب أن يراجع ويعتمد من قبل رئيس المهمة قبل البدء بالعمل الميداني. كما يجب أن يقوم مدير المراجعة بالمراجعة والموافقة على كل المستندات وذلك لضمان أن إدراك فريق المراجعة كافٍ لإعداد وتنفيذ برنامج المراجعة الذي سيستخدم في تحقيق أهداف وغايات مهمة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2"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فهم طبيعة العمل بالجهة المراجع عليها</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 لذلك فإن عملية فهم طبيعة العمل بالجهة المراجع عليها تعتبر الأساس في:</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ييم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عداد برنامج مراجعة جيد.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ويوجد طريقتين يمكن استخدامهما لتوثيق فهم طبيعة العمل وبيئة الرقابة بالجهة المراجع عليها هما: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وصف النثري للإجراءات</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خرائط التدفق البيان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4"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وصف النثري للإجراءات</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وم هذه الطريقة على وصف إجراءات العمل بطريقة نثرية منفصلة، وعلى توثيق الأنظمة والإجراءات عند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كون عملية تغييرات جذرية في النظام متوقعة الحدو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لا تتوافر إجراءات واضحة ومتبعة للرقابة الداخ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كون النظام غير معقد، وبالتالي يمكن توثيقه بسهولة على نماذج وصف الإجراءات كتابي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خرائط التدفق البياني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صور خرائط التدفق باستخدام الرسوم البيانية تدفق الإجراءات وأنظمة الرقابة على هيئة نماذج مرسومة لتسهيل عملية فهم طبيعة العمل وبيئة الرقابة بالجهة المراجع عليها. </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وفي بعض الأوقات قد يكون من الأكثر فعالية توثيق بعض أنواع الرقابة بطريقة وصف الإجراءات كتابياً ملحقة ومكملة بخرائط التدفق البيا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طوير البرنام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عد الانتهاء من مهمة المراجعة، يقوم فريق المراجعة الداخلية بتدوين –داخل أوراق العمل- اقتراحاتهم بتغيير وتعديل برنامج المراجعة، والذي سيتم تطبيقه قبل البدء بمهمة المرجعة اللاحق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حداث التعديلات في برامج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ي بعض الحالات، قد يكون من الضروري أن يقوم رئيس الفريق بتطوير أو تعديل فقرات من برنامج المراجعة أثناء العمل الميداني. مما يوجب إبلاغ مدير المراجعة بكل هذه التعديلات، قبل البدء بعملها، وذلك لضمان أن مثل هذه التغيرات لن تؤثر على نطاق وأهداف مهمة المراجعة العا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ستخدم أوراق العمل كوسيلة لـ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ثيق العمل الذي قامت وحدة المراجعة الداخلية بإنجازه خلال مراحل المهمة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دوين المعلومات والبيانات والأدلة التي تم تجميعها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ثيق الاختبارات والتحاليل التي تم تنفيذها على عينات المراجع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تحفظ أوراق المراجعة كما سبق أن ذكرنا في ملفين ه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المراجعة الدائ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مراجعة المهمة (الملف الجار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بدأ استخدام أوراق العمل منذ بداية التخطيط للمهمة وحتى الإنتهاء من تنفيذ المهمة وإصدار التقرير. أي أن </a:t>
            </a:r>
            <a:r>
              <a:rPr b="1" lang="ar-SA" sz="1800" spc="-1" strike="noStrike">
                <a:solidFill>
                  <a:srgbClr val="000000"/>
                </a:solidFill>
                <a:latin typeface="Trebuchet MS"/>
                <a:cs typeface="Tahoma"/>
              </a:rPr>
              <a:t>أوراق العمل تستخدم في توثيق الخطوات التا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خطط المراجعة، بما في ذلك برنامج المراجع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فحص وتقييم كفاءة وفعالية أنظمة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جراءات المراجعة المستخدمة، المعلومات التي تم الحصول عليها، والنتائج التي تم التوصل إلي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إشراف.</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تابعة الخاصة بتطبيق الإجراءات التصحيح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فهرس الموحد لأوراق العم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أوراق العمل: </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تنفيذ وإدارة مهمة المراجعة بكفاءة وفع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قديم الدعم والتأييد ل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مراجعة الأطراف الخارجية الأخرى.</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اهم أوراق العمل في تنفيذ </a:t>
            </a:r>
            <a:r>
              <a:rPr b="1" lang="ar-SA" sz="2000" spc="-1" strike="noStrike">
                <a:solidFill>
                  <a:srgbClr val="54a021"/>
                </a:solidFill>
                <a:latin typeface="Trebuchet MS"/>
                <a:cs typeface="Tahoma"/>
              </a:rPr>
              <a:t>الواجبات الإدارية </a:t>
            </a:r>
            <a:r>
              <a:rPr b="0" lang="ar-SA" sz="2000" spc="-1" strike="noStrike">
                <a:solidFill>
                  <a:srgbClr val="000000"/>
                </a:solidFill>
                <a:latin typeface="Trebuchet MS"/>
                <a:cs typeface="Tahoma"/>
              </a:rPr>
              <a:t>المختلفة لوحدة المراجعة الداخلية بكفاءة وفعا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المقصود بالواجبات الإدارية في الهدف الأخي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عملية تخطيط مهمة المراجعة بكفاءة (بما في ذلك تحديد الموارد الأساس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حقيق رقابة فعالة على العمل الميدان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نقيح وكتابة 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ديم الدعم لتقرير المراجع الداخ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مراجعة الطرف الثال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 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مدخل منظم لعمليات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قدير المخاطر</a:t>
            </a:r>
            <a:br>
              <a:rPr sz="3600"/>
            </a:br>
            <a:endParaRPr b="0" lang="en-US" sz="3600" spc="-1" strike="noStrike">
              <a:solidFill>
                <a:srgbClr val="90c226"/>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000000"/>
                </a:solidFill>
                <a:latin typeface="Trebuchet MS"/>
                <a:cs typeface="Tahoma"/>
              </a:rPr>
              <a:t>يجب أن يعد مدير وحدة المراجعة نموذج إرشادي لتقدير المخاطر يستخدمه المراجعين الداخليين.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قدير المخاطر يعني تقدير احتمالات حدوث أخطاء أو عمليات غش ولا تستطيع الإجراءات الرقابية الموضوعة إكتشافها أو منع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عتمد عملية تقدير المخاطر بصفة عامة على تحقيق المعرفة الكاملة بعمليات الوحدة الحكومية وربط هذه المعرفة بالإجراءات الرقابية الموضوعة لمعرفة ما إذا كانت هذه الإجراءات يمكنها منع حدوث أخطاء أو عمليات غش أو اكتشافها حال حدوث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معايير المتعلقة ب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وضوح وسهولة الف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كون وثيقة الصلة بالموضوع.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سم بالدق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اكتمال والثقة فيها وإمكانية الاعتماد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بسا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وضوع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يجب أن تتضمن كل ورقة عمل على نص واضح يبين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هداف.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حجم وأساليب اختيار العينة (النطاق)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صادر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فاصيل الفحص الذي تم إنجازه.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تائج الفحص (الاستنتاجات) .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رجعية برنامج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ستخدام الرموز والإشارات في 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رقيم أوراق العمل وربطها ببعضها بطريقة ملائمة يعتبر من متطلبات ملف أوراق العمل.</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حفظ أوراق العمل: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تبر أوراق العمل وملفات المراجعة من ملكية وحدة المراجعة الداخلية، ولا يسمح بالاحتفاظ بها أو الإطلاع على محتواها إلا من المراجعين الداخليين المعنيين أو من يصرح لهم المسئول الأول بالجهة ، وبهذا يجب حفظ أوراق العمل وملفات المراجعة بمكان آمن في الشركة بما يحفظها من التلف، والعبث، أو الاستخدام غير المسموح به.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8" name=""/>
          <p:cNvSpPr txBox="1"/>
          <p:nvPr/>
        </p:nvSpPr>
        <p:spPr>
          <a:xfrm>
            <a:off x="909720" y="203184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وراق العمل الإلكترونية</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أن تكون كل الملفات الالكترونية مراقبة ومحفوظة جيدا لتجنب المخاطر المصاحبة لاستخدامها. والتي قد تش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دخول غير المصرح به وإحداث تغيير غير ملائم على البيان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تلاف أو فقدان البيانات.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قدير المخاطر</a:t>
            </a:r>
            <a:endParaRPr b="0" lang="en-US" sz="36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مثلة لبعض الطرق التي من الممكن ان يطبقها المراجع الداخلي للحصول على المعلومات تساعده في تقدير الخطر :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حص  نظام العمل بالوحدة والوحدات الفرعية التابعة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جراء المقابلات مع المسئولين والاستفسار منهم عن طبيعة العمل وكيفية أداء ذلك العمل ، والاحتياجات المحتملة للتقرير بالنسبة ل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وظفين ودراسة طبيعة عملهم والتعرف على مؤهلاتهم وخبراتهم الوظيف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ستفيدين من الخدمة التي تقدمها الوحدة عن طبيعة احتياجاتهم ومدى الوفاء بهذه الاحتياج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رجمة نتائج تقدير المخاطر إلى خطة مراجعة داخلية</a:t>
            </a:r>
            <a:endParaRPr b="0" lang="en-US" sz="36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يقوم مدير المراجعة الداخلية بالتنسيق مع المسؤول الأول بالعمل على ترجمة نتائج تقدير المخاطر إلى خطة مراجعة 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كما 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يجب أن يراعي عند صياغة خطة المراجعة الداخلية أن تكون مرنة وان تستجيب للظروف المتغير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م استخدام هذه الإستراتيجية كدليل إرشادي بالأنشطة والإدارات الأخرى المراد مراجعتها خلال فترة طويلة نسبيا (يمكن أن تكون من ثلاثة إلى خمس سنوات).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ذلك تقسم الإستراتيجية إلى خطط سنوية وتقسم كل خطة سنوية إلى عدة مهام.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لماً بأن 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54a021"/>
                </a:solidFill>
                <a:latin typeface="Trebuchet MS"/>
                <a:ea typeface="Tahoma"/>
              </a:rPr>
              <a:t>«بتنفيذالمهام تتنفذ الخطط وبتنفيذ الخطط تتنفذ الاستراتج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راعى عند وضع الخطةالإستراتيجية العمل على تحقيق الأهداف التا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ضع إطار مناسب لاختيار المهام.</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ين وحدة المراجعة من توجيه جهودها نحو المجالات الأكثر أهم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مجالات التي ستكون محل تركيز أعمال المراجعة الداخلية في المستقبل.</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ضيح طبيعة أعمال المراجعة الداخ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ر كمية الموارد المطلوبة لتنفيذ الإستراتيج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8" name=""/>
          <p:cNvSpPr txBox="1"/>
          <p:nvPr/>
        </p:nvSpPr>
        <p:spPr>
          <a:xfrm>
            <a:off x="677520" y="1930320"/>
            <a:ext cx="8596440" cy="4927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ختيار مهام المراجعة عند وضع الخطة الاستراتيجية:</a:t>
            </a: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عند اختيار مهام المراجعة يجب مراعاة ما يل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أهمية</a:t>
            </a:r>
            <a:r>
              <a:rPr b="0" lang="ar-SA" sz="2000" spc="-1" strike="noStrike">
                <a:solidFill>
                  <a:srgbClr val="000000"/>
                </a:solidFill>
                <a:latin typeface="Trebuchet MS"/>
                <a:ea typeface="Tahoma"/>
              </a:rPr>
              <a:t>: تتحدد أهمية مهمة معينة على أساس ما يمكن أن تسفر عنه عملية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لاعب</a:t>
            </a:r>
            <a:r>
              <a:rPr b="0" lang="ar-SA" sz="2000" spc="-1" strike="noStrike">
                <a:solidFill>
                  <a:srgbClr val="000000"/>
                </a:solidFill>
                <a:latin typeface="Trebuchet MS"/>
                <a:ea typeface="Tahoma"/>
              </a:rPr>
              <a:t>: قابلية تعرض نشاط معين للتلاعب والاحتيال يجعل له الأولوية عند تحديد المهام التي يجب تنفيذها في الخط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دى ارتباط النشاط بأهداف أو رسالة الجهة</a:t>
            </a:r>
            <a:r>
              <a:rPr b="0" lang="ar-SA" sz="2000" spc="-1" strike="noStrike">
                <a:solidFill>
                  <a:srgbClr val="000000"/>
                </a:solidFill>
                <a:latin typeface="Trebuchet MS"/>
                <a:ea typeface="Tahoma"/>
              </a:rPr>
              <a:t>: الأنشطة التي يكون لها ارتباط كبير بأهداف أو رسالة الجهة يكون لها الأولوية في عملية المراجع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1" lang="ar-SA" sz="2000" spc="-1" strike="noStrike">
                <a:solidFill>
                  <a:srgbClr val="000000"/>
                </a:solidFill>
                <a:latin typeface="Trebuchet MS"/>
                <a:cs typeface="Tahoma"/>
              </a:rPr>
              <a:t>تاريخ أخر مراجعة ونتيجتها</a:t>
            </a:r>
            <a:r>
              <a:rPr b="0" lang="ar-SA" sz="2000" spc="-1" strike="noStrike">
                <a:solidFill>
                  <a:srgbClr val="000000"/>
                </a:solidFill>
                <a:latin typeface="Trebuchet MS"/>
                <a:ea typeface="Tahoma"/>
              </a:rPr>
              <a:t>: إن تاريخ أخر مراجعة ونتيجتها يكون لها دور في اختيار المهام التي يجب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5:36:00Z</dcterms:created>
  <dc:creator>hana</dc:creator>
  <dc:description/>
  <dc:language>en-US</dc:language>
  <cp:lastModifiedBy>Hana Ageel Alageel</cp:lastModifiedBy>
  <dcterms:modified xsi:type="dcterms:W3CDTF">2016-10-18T08:34:16Z</dcterms:modified>
  <cp:revision>44</cp:revision>
  <dc:subject/>
  <dc:title>PowerPoint Presentation</dc:title>
</cp:coreProperties>
</file>