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1.png" ContentType="image/png"/>
  <Override PartName="/ppt/media/image6.wmf" ContentType="image/x-wmf"/>
  <Override PartName="/ppt/media/image17.png" ContentType="image/png"/>
  <Override PartName="/ppt/media/image4.jpeg" ContentType="image/jpeg"/>
  <Override PartName="/ppt/media/image16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A664-CCF7-4332-A96F-AA864964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57C3-377D-4F80-9256-C586B4F3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60DC-E8FA-47FB-AD3B-9D3222F5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A020-3AD6-403D-AFD1-A5EF533D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B70B-5B61-48FB-81DE-A240DCCC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03F9-44E3-4002-8802-258F70F8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AE18-6F45-41BA-A763-868AEEE1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7CB2-CF5E-4B3C-8A0D-DC0A3CA1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E0F3-94CB-492E-A1FA-26C2A1E9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6F0C-7F01-4879-B962-D10F3B1C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C9DB-9728-4ECC-8386-8F799586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90D1-031D-418F-B3BE-2B3225C7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524B-6DDE-43EE-B6C9-0DBD7001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124C-975C-49F9-BB51-31F0540E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8419-68FE-413C-8790-33DB1E91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9F57-F7BF-465C-BBC3-F5F3AF29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67BD-DC9B-4A6A-818F-4E106A249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25C70-21EC-4AD0-9D0A-934C47E4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5BB0E-B897-427F-AA3D-3A63ABFE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C920C-979C-4212-AFE2-7CB1150A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E0CA7-1CB2-4630-93B1-5E47EA88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DE6C5-0AA7-450B-8CCD-45F74631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B5DD-6517-4C31-91B6-E607066A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63FB3-D2CF-4E9C-B750-17D4ED1E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A62CF-6D54-4FEB-808C-FED5451E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2584B-7211-4E20-9622-EFFDB89F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B8BF7-66FB-47D5-9C3F-17F78216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B3FC7-30E6-4478-9CF0-28EE15FE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AD804-025D-4A15-B14B-371BF2CF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7C806-BBF1-4378-AB2D-0C04D3FBC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C4AD4-0CA3-45DF-8ED9-A8EB2F9B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3E9B3-0AA2-4B47-BA1D-0FD68B93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AC7F3-B5ED-4F30-9402-37BA43F2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362D-1454-4E63-B372-F5608E1F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AA15C-685D-4B23-B6E7-FC690FBA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4E65D-32D2-4192-AA65-4AC54144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63346-1514-4008-8777-9C095C2B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3B983-C417-4E9C-9AEE-3E5AC69F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7E9E0-9B00-4945-A81F-D9E386E6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0C3AA-8B4A-493A-8F43-02D3EA25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58007-66B8-4DB8-B672-9F5DEF73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F40E8-1760-4B0F-93EB-FBD867B3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AC48A-887B-4681-8AE0-85CAD08A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DBB23-60C4-4708-A797-5F214E86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8C81-38C0-480C-AEE5-AB127522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0667A-81CA-4E20-814E-189C795F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CB02B-E8D1-47A0-8209-E5BE8AF9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BACBF-99EF-427B-B1D0-A86C32D7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D6A29-1113-413F-8F3F-CC1F8673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1D101-DDC7-404D-833B-3D67DFDB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E6CB9-14EE-4A8E-BC0B-0964FC72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AF5FF-CDAD-4956-BF9E-5EDB400A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DBDBC-D2F6-4A5B-847B-B266B9AF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509BC-5554-4AAF-9D79-BAB36E7C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175D2-A2FD-44B6-8E73-F4AB55D8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5512-8B2C-44E0-B908-C3A60AA1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64895-942C-4509-A0E0-00D6C5DB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F0B0F-694C-46B5-B023-74D4502A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0AB17-5A0A-4D1C-944C-4E4B7C0F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4BA05-6CBA-4B70-9E1E-ADCB65FB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72087-F8CE-4A83-95A0-A9A2F0B2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82F26-2136-46B0-B2FD-3D3BBB53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ADF85-764D-48B6-96E4-A6A02065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032E7-92EA-4B8B-A65F-91BA3BE5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D5D22-FF4E-4047-B0C4-6104252D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4D62D-D0B2-4C66-B364-F30959F7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6AD1-BF1D-4B20-B86C-DFE8F4DC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BBB4E-2F5A-49A6-AE84-FCED857A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4D59C-685D-4CFD-AC45-0FAB2033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CBE61-A9B4-4E72-B9EB-FE7A39DA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A8BA-F468-49C8-AAA8-22E94738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A135-88E7-4915-8545-B212ADC2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شكل حر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AD78-3E5D-430B-816A-E240E8CD28A9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شكل حر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شكل حر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6B0E-CB06-445D-97E2-A93DE791B3C2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شكل حر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شكل حر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4B7B-3EFC-4382-A749-E5980E91D367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6CCD-B29B-489F-A5BE-470911168253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شكل حر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شكل حر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7E57-0005-4416-897B-1C579FE7AF34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5FDE-B283-4102-9BED-58C5A41C8345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689040" y="189000"/>
            <a:ext cx="7772400" cy="2230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financial_planning"/>
          <p:cNvPicPr/>
          <p:nvPr/>
        </p:nvPicPr>
        <p:blipFill>
          <a:blip r:embed="rId2"/>
          <a:stretch/>
        </p:blipFill>
        <p:spPr>
          <a:xfrm>
            <a:off x="0" y="2708280"/>
            <a:ext cx="91440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عنصر نائب للمحتوى 1" descr=""/>
          <p:cNvPicPr/>
          <p:nvPr/>
        </p:nvPicPr>
        <p:blipFill>
          <a:blip r:embed="rId1"/>
          <a:stretch/>
        </p:blipFill>
        <p:spPr>
          <a:xfrm>
            <a:off x="176040" y="255600"/>
            <a:ext cx="8791920" cy="5840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dollar"/>
          <p:cNvPicPr/>
          <p:nvPr/>
        </p:nvPicPr>
        <p:blipFill>
          <a:blip r:embed="rId2"/>
          <a:stretch/>
        </p:blipFill>
        <p:spPr>
          <a:xfrm>
            <a:off x="3419640" y="2565360"/>
            <a:ext cx="24606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3" name="عنصر نائب للمحتوى 1" descr=""/>
          <p:cNvPicPr/>
          <p:nvPr/>
        </p:nvPicPr>
        <p:blipFill>
          <a:blip r:embed="rId1"/>
          <a:stretch/>
        </p:blipFill>
        <p:spPr>
          <a:xfrm>
            <a:off x="42840" y="146160"/>
            <a:ext cx="8997840" cy="59799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C:\Users\General\AppData\Local\Microsoft\Windows\Temporary Internet Files\Content.IE5\ZF1RAK9B\MP900430503[1].jpg"/>
          <p:cNvPicPr/>
          <p:nvPr/>
        </p:nvPicPr>
        <p:blipFill>
          <a:blip r:embed="rId2"/>
          <a:stretch/>
        </p:blipFill>
        <p:spPr>
          <a:xfrm>
            <a:off x="3116160" y="2349360"/>
            <a:ext cx="2737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رسم تخطيطي 1" descr=""/>
          <p:cNvPicPr/>
          <p:nvPr/>
        </p:nvPicPr>
        <p:blipFill>
          <a:blip r:embed="rId1"/>
          <a:stretch/>
        </p:blipFill>
        <p:spPr>
          <a:xfrm>
            <a:off x="36360" y="262080"/>
            <a:ext cx="8894880" cy="6333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C:\Program Files\Microsoft Office\MEDIA\CAGCAT10\j0195384.wmf"/>
          <p:cNvPicPr/>
          <p:nvPr/>
        </p:nvPicPr>
        <p:blipFill>
          <a:blip r:embed="rId2"/>
          <a:stretch/>
        </p:blipFill>
        <p:spPr>
          <a:xfrm>
            <a:off x="7020000" y="260280"/>
            <a:ext cx="17953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مستطيل 2"/>
          <p:cNvSpPr/>
          <p:nvPr/>
        </p:nvSpPr>
        <p:spPr>
          <a:xfrm>
            <a:off x="1979640" y="620640"/>
            <a:ext cx="5113440" cy="52380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4" descr="News_Paper_Employe"/>
          <p:cNvPicPr/>
          <p:nvPr/>
        </p:nvPicPr>
        <p:blipFill>
          <a:blip r:embed="rId1"/>
          <a:stretch/>
        </p:blipFill>
        <p:spPr>
          <a:xfrm>
            <a:off x="1042920" y="3638520"/>
            <a:ext cx="6881760" cy="3219480"/>
          </a:xfrm>
          <a:prstGeom prst="rect">
            <a:avLst/>
          </a:prstGeom>
          <a:ln w="0">
            <a:noFill/>
          </a:ln>
        </p:spPr>
      </p:pic>
      <p:sp>
        <p:nvSpPr>
          <p:cNvPr id="289" name="مربع نص 1"/>
          <p:cNvSpPr/>
          <p:nvPr/>
        </p:nvSpPr>
        <p:spPr>
          <a:xfrm>
            <a:off x="1763640" y="620640"/>
            <a:ext cx="49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خطوة الثالثة: تصويب الانحراف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سهم إلى اليمين 3"/>
          <p:cNvSpPr/>
          <p:nvPr/>
        </p:nvSpPr>
        <p:spPr>
          <a:xfrm rot="18400800">
            <a:off x="1033920" y="1757520"/>
            <a:ext cx="2425680" cy="17798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ahoma"/>
              </a:rPr>
              <a:t>ايجاب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3580920"/>
            <a:ext cx="746748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سهم إلى اليمين 7"/>
          <p:cNvSpPr/>
          <p:nvPr/>
        </p:nvSpPr>
        <p:spPr>
          <a:xfrm rot="18559800">
            <a:off x="3468960" y="1607400"/>
            <a:ext cx="1913040" cy="151128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ahoma"/>
              </a:rPr>
              <a:t>سلب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1814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دى التزام المرؤوسي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دى مناسبة الاقتراحات للإمكانيات المتاح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دى ايجابية النتائج المحققة عن هذه الاجراءات المستجد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مستطيل 1"/>
          <p:cNvSpPr/>
          <p:nvPr/>
        </p:nvSpPr>
        <p:spPr>
          <a:xfrm>
            <a:off x="3059280" y="620640"/>
            <a:ext cx="5616360" cy="80640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"/>
                <a:cs typeface="Tahoma"/>
              </a:rPr>
              <a:t>الخطوة الرابعة: اقتراح الحلول البديل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مستطيل 2"/>
          <p:cNvSpPr/>
          <p:nvPr/>
        </p:nvSpPr>
        <p:spPr>
          <a:xfrm>
            <a:off x="3882960" y="2581200"/>
            <a:ext cx="4827600" cy="91440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"/>
                <a:cs typeface="Tahoma"/>
              </a:rPr>
              <a:t>الخطوة الخامسة: المتابع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4" descr="C:\Program Files\Microsoft Office\MEDIA\CAGCAT10\j0195812.wmf"/>
          <p:cNvPicPr/>
          <p:nvPr/>
        </p:nvPicPr>
        <p:blipFill>
          <a:blip r:embed="rId1"/>
          <a:stretch/>
        </p:blipFill>
        <p:spPr>
          <a:xfrm>
            <a:off x="684360" y="1023840"/>
            <a:ext cx="177156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b0f0"/>
                </a:solidFill>
                <a:latin typeface="Franklin Gothic Book"/>
              </a:rPr>
              <a:t>المحتويات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lnSpc>
                <a:spcPct val="2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فهوم الرقا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2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وائد الرقا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2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خطوات عملية الرقابة الإدار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c00000"/>
                </a:solidFill>
                <a:latin typeface="Franklin Gothic Book"/>
              </a:rPr>
              <a:t>تعريف الرقابة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4" descr="تنسيق1"/>
          <p:cNvPicPr/>
          <p:nvPr/>
        </p:nvPicPr>
        <p:blipFill>
          <a:blip r:embed="rId1"/>
          <a:stretch/>
        </p:blipFill>
        <p:spPr>
          <a:xfrm>
            <a:off x="0" y="4108320"/>
            <a:ext cx="9144000" cy="2749680"/>
          </a:xfrm>
          <a:prstGeom prst="rect">
            <a:avLst/>
          </a:prstGeom>
          <a:ln w="0">
            <a:noFill/>
          </a:ln>
        </p:spPr>
      </p:pic>
      <p:sp>
        <p:nvSpPr>
          <p:cNvPr id="261" name="شكل بيضاوي 3"/>
          <p:cNvSpPr/>
          <p:nvPr/>
        </p:nvSpPr>
        <p:spPr>
          <a:xfrm>
            <a:off x="539640" y="1341360"/>
            <a:ext cx="6912000" cy="251928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Tahoma"/>
              </a:rPr>
              <a:t>هو التأكد من أن كل شيء في المنظمة يتم وفق الخطط الموضوعة , والتعليمات الصادرة, والمبادئ المعتمدة, وذلك لهدف كشف مواطن الضعف وتصحيحها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c00000"/>
                </a:solidFill>
                <a:latin typeface="Franklin Gothic Book"/>
              </a:rPr>
              <a:t>أنواع الانحرافات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سلبية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إيجابية الغير مقبولة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علم وفن"/>
          <p:cNvPicPr/>
          <p:nvPr/>
        </p:nvPicPr>
        <p:blipFill>
          <a:blip r:embed="rId1"/>
          <a:stretch/>
        </p:blipFill>
        <p:spPr>
          <a:xfrm>
            <a:off x="0" y="3753000"/>
            <a:ext cx="89647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رسم تخطيطي 1" descr=""/>
          <p:cNvPicPr/>
          <p:nvPr/>
        </p:nvPicPr>
        <p:blipFill>
          <a:blip r:embed="rId1"/>
          <a:stretch/>
        </p:blipFill>
        <p:spPr>
          <a:xfrm>
            <a:off x="249120" y="500040"/>
            <a:ext cx="8510760" cy="5145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C:\Program Files\Microsoft Office\MEDIA\CAGCAT10\j0195812.wmf"/>
          <p:cNvPicPr/>
          <p:nvPr/>
        </p:nvPicPr>
        <p:blipFill>
          <a:blip r:embed="rId2"/>
          <a:stretch/>
        </p:blipFill>
        <p:spPr>
          <a:xfrm>
            <a:off x="3635280" y="3068640"/>
            <a:ext cx="177336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91520" cy="12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صنفي الجهات التالية إلى جهات رقابية داخلية وجهات رقابية خارجية ؟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16280"/>
            <a:ext cx="74674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مشرف على العمال بالمصن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ديوان المراقبة العام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رئيس قسم التسويق على مرؤوسين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4" descr="team-work"/>
          <p:cNvPicPr/>
          <p:nvPr/>
        </p:nvPicPr>
        <p:blipFill>
          <a:blip r:embed="rId1"/>
          <a:stretch/>
        </p:blipFill>
        <p:spPr>
          <a:xfrm>
            <a:off x="0" y="447660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7467480" cy="1009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c00000"/>
                </a:solidFill>
                <a:latin typeface="Franklin Gothic Book"/>
              </a:rPr>
              <a:t>أولاً: فوائد الرقابة للمنظمة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560" y="1484280"/>
            <a:ext cx="8713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أكد من مدى تحقيق الأهداف للخطط المرسوم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أكد من مدى مطابقة الأداء الفعلي لمسارات الخطط المرسوم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أكد من مناسبة الموارد البشرية ، والمادية ، لمتطلبات الخطط (كما ونوعا ووقتا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أكد من الاستخدام الكفء للموار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C:\Program Files\Microsoft Office\MEDIA\CAGCAT10\j0217698.wmf"/>
          <p:cNvPicPr/>
          <p:nvPr/>
        </p:nvPicPr>
        <p:blipFill>
          <a:blip r:embed="rId1"/>
          <a:stretch/>
        </p:blipFill>
        <p:spPr>
          <a:xfrm>
            <a:off x="1476360" y="4076640"/>
            <a:ext cx="17463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Franklin Gothic Book"/>
              </a:rPr>
              <a:t>ثانياً: فوائد الرقابة للأفراد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9280" y="1628280"/>
            <a:ext cx="8785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3560" indent="-457200" algn="r" rtl="1">
              <a:lnSpc>
                <a:spcPct val="2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طمئنان العامل الكفء لعدالة عملية المراقبة عند تقييم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 algn="r" rtl="1">
              <a:lnSpc>
                <a:spcPct val="2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طمئنان العامل المقصر لعدالة عملية المراقبة عند تقييم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 algn="r" rtl="1">
              <a:lnSpc>
                <a:spcPct val="2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حفظ الحقوق لجمهور المتعاملين مع المنظم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 algn="r" rtl="1">
              <a:lnSpc>
                <a:spcPct val="15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 algn="r" rtl="1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Franklin Gothic Book"/>
              </a:rPr>
              <a:t>خطوات الرقابة الإدارية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8" name="عنصر نائب للمحتوى 2" descr=""/>
          <p:cNvPicPr/>
          <p:nvPr/>
        </p:nvPicPr>
        <p:blipFill>
          <a:blip r:embed="rId1"/>
          <a:stretch/>
        </p:blipFill>
        <p:spPr>
          <a:xfrm>
            <a:off x="1547640" y="1487520"/>
            <a:ext cx="7272360" cy="4614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work-stress"/>
          <p:cNvPicPr/>
          <p:nvPr/>
        </p:nvPicPr>
        <p:blipFill>
          <a:blip r:embed="rId2"/>
          <a:stretch/>
        </p:blipFill>
        <p:spPr>
          <a:xfrm>
            <a:off x="0" y="0"/>
            <a:ext cx="154764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1:15:47Z</dcterms:created>
  <dc:creator/>
  <dc:description/>
  <dc:language>en-US</dc:language>
  <cp:lastModifiedBy/>
  <dcterms:modified xsi:type="dcterms:W3CDTF">2017-10-01T21:50:03Z</dcterms:modified>
  <cp:revision>4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