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18.png" ContentType="image/png"/>
  <Override PartName="/ppt/media/image17.png" ContentType="image/png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8D7A-12AA-4ACE-A9AD-0D95311D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3D13-B81C-4583-84E1-14BB229B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1540-3D8A-4E07-89AF-2D0AE99B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3F1-93ED-4B59-8023-78759E63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5333-2E96-46A1-984E-1F1FD0F3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BBD0-D975-48E8-9BED-0F6AB0FD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3701-AFFF-4834-B6EB-C9B67A5F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04DE-6726-47E6-B2D6-8B364421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C031-B737-41A3-9686-4C04322A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0157-76B0-4CED-908D-A60A5DC9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064D-96F6-4EF8-BD77-ECE1FEF4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4A8B-B29E-4B01-9E36-B936A3C4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C344-765F-48F1-8133-F4AA13DE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F04E-7EB3-4D86-8FC8-DF5D6159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0871-2E02-45F8-8BEE-E635F229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81D5-2883-4BD1-92E6-BDE8124E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DB46-CAFF-4C61-939F-FBA584F0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8AE46-B8F8-4922-A965-9E5CAAF8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A979B-51F9-4689-AC80-974F70D8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3D69A-088B-4534-AF8F-E4AB5EEB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20E7A-A426-41CF-B667-7AE427CA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63F1A-0471-4AA9-9842-4AAB8AA1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115-5454-46C1-AB0E-980CB7FA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A8258-E0E6-48F1-9C6B-836F4EDD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95C30-220B-4ACB-A099-FA49CD0A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B7B16-9085-403C-8F93-5CC2EAA3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940AA-E8EF-4C6D-96F9-54647F94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E6689-A94E-4D70-922D-DD4B5256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C378D-40D8-40A4-9D54-A4EA29FF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E5C76-FF14-4AE8-AA10-1946568C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6A49D-21B0-4BD4-9DE7-4CBF7653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BB2FE-4511-4E69-8F1E-B03F3CD0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44865-5F90-434E-BE6C-72A4D8AF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B2E3-2C73-482F-9F63-5F48CDCC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FEF6F-C373-4FB9-8BF3-338D6EA5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8B92F-D5D3-4BC3-8AB3-5B1EFAA4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C5ABF-030C-4AD0-8C20-7A830CB5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9FB08-D27F-4426-9527-895F8411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60350-ED8E-455D-9793-C98B9937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2DBFA-ECC3-453B-BF19-EEBFA7C9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34AB7-AF29-4929-8EBE-9F99FBB1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93580-73BE-4215-869E-CEF98453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F0539-2345-49C9-8ADA-0128D233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E34C3-15E3-4636-B1A4-FE7DEF34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11EE-782E-4DD3-B3B5-AF8AA80D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8A4B0-D2E2-4B83-9A36-D7900F2E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DA44E-DC7F-4E9B-A170-E7647FBC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7A2B1-C733-49DE-8470-B7C699F9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E5473-0A38-4032-A9B5-E348E202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6BBEA-5609-4503-AD22-97B422EF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231D5-9983-4687-BE5A-E70A20AC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F67C7-9EAD-440E-9E85-CD4C75D6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60836-A573-410F-B8F3-987C12AF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726E8-F04E-47FD-8354-7EC1C9FD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38095-7EE9-49A6-B43F-43CE54D4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690-16C2-4234-9E8A-9B8FDB61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F33FD-0188-4EC6-8628-34AF6838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75A7F-50E6-4DE0-BFA5-E2A31D9C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9FC99-BE8E-40A1-9AEC-91DCE263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21425-CF7C-4692-A3D3-34EBB274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91A6F-B68B-48A4-9282-3A6B41EF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93679-4D79-47F2-B18D-1538BF04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97511-775D-4CF7-BEC2-B96C9EBD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A94C5-A0C9-4B69-AEE0-EE3E5CE8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481BD-78EE-4534-BB42-C8FDE8AF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4EF0F-5E2F-4B68-B830-22B30FC1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C0E-016C-4ECE-A9CF-82D33A80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DDFA8-5628-4AA2-A7C3-1AFF9752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92FA0-1255-4E1A-9D57-31E038E2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3561B-2B2A-41FB-B6C2-AFBEB7F1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F9F-E004-4DCD-9F0C-2ADBDE26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F79-7370-4ACE-B128-834227C7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5C67-992F-42AB-94B1-F1D8E1114CCC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شكل حر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شكل حر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EB74-2C4A-4E5A-9231-92656916380D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شكل حر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شكل حر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684C-C054-41BF-9583-78AAEAF6201D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7783-5670-4C2A-8CC2-233763241538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DC35-77E5-4EB0-A8D5-D995E1E5E56C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FCC0-7F29-415A-B249-A524811A3049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689040" y="6480"/>
            <a:ext cx="7772400" cy="2412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financial_planning"/>
          <p:cNvPicPr/>
          <p:nvPr/>
        </p:nvPicPr>
        <p:blipFill>
          <a:blip r:embed="rId2"/>
          <a:stretch/>
        </p:blipFill>
        <p:spPr>
          <a:xfrm>
            <a:off x="0" y="2708280"/>
            <a:ext cx="9144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عنصر نائب للمحتوى 1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791920" cy="5840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dollar"/>
          <p:cNvPicPr/>
          <p:nvPr/>
        </p:nvPicPr>
        <p:blipFill>
          <a:blip r:embed="rId2"/>
          <a:stretch/>
        </p:blipFill>
        <p:spPr>
          <a:xfrm>
            <a:off x="3419640" y="2565360"/>
            <a:ext cx="24606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3" name="عنصر نائب للمحتوى 1" descr=""/>
          <p:cNvPicPr/>
          <p:nvPr/>
        </p:nvPicPr>
        <p:blipFill>
          <a:blip r:embed="rId1"/>
          <a:stretch/>
        </p:blipFill>
        <p:spPr>
          <a:xfrm>
            <a:off x="42840" y="146160"/>
            <a:ext cx="8997840" cy="5979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C:\Users\General\AppData\Local\Microsoft\Windows\Temporary Internet Files\Content.IE5\ZF1RAK9B\MP900430503[1].jpg"/>
          <p:cNvPicPr/>
          <p:nvPr/>
        </p:nvPicPr>
        <p:blipFill>
          <a:blip r:embed="rId2"/>
          <a:stretch/>
        </p:blipFill>
        <p:spPr>
          <a:xfrm>
            <a:off x="3116160" y="2349360"/>
            <a:ext cx="2737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رسم تخطيطي 1" descr=""/>
          <p:cNvPicPr/>
          <p:nvPr/>
        </p:nvPicPr>
        <p:blipFill>
          <a:blip r:embed="rId1"/>
          <a:stretch/>
        </p:blipFill>
        <p:spPr>
          <a:xfrm>
            <a:off x="36360" y="262080"/>
            <a:ext cx="8894880" cy="6333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C:\Program Files\Microsoft Office\MEDIA\CAGCAT10\j0195384.wmf"/>
          <p:cNvPicPr/>
          <p:nvPr/>
        </p:nvPicPr>
        <p:blipFill>
          <a:blip r:embed="rId2"/>
          <a:stretch/>
        </p:blipFill>
        <p:spPr>
          <a:xfrm>
            <a:off x="7020000" y="260280"/>
            <a:ext cx="17953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مستطيل 2"/>
          <p:cNvSpPr/>
          <p:nvPr/>
        </p:nvSpPr>
        <p:spPr>
          <a:xfrm>
            <a:off x="1979640" y="620640"/>
            <a:ext cx="5113440" cy="5238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4" descr="News_Paper_Employe"/>
          <p:cNvPicPr/>
          <p:nvPr/>
        </p:nvPicPr>
        <p:blipFill>
          <a:blip r:embed="rId1"/>
          <a:stretch/>
        </p:blipFill>
        <p:spPr>
          <a:xfrm>
            <a:off x="1042920" y="3638520"/>
            <a:ext cx="6881760" cy="3219480"/>
          </a:xfrm>
          <a:prstGeom prst="rect">
            <a:avLst/>
          </a:prstGeom>
          <a:ln w="0">
            <a:noFill/>
          </a:ln>
        </p:spPr>
      </p:pic>
      <p:sp>
        <p:nvSpPr>
          <p:cNvPr id="289" name="مربع نص 1"/>
          <p:cNvSpPr/>
          <p:nvPr/>
        </p:nvSpPr>
        <p:spPr>
          <a:xfrm>
            <a:off x="1763640" y="62064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خطوة الثالثة: تصويب الانحراف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سهم إلى اليمين 3"/>
          <p:cNvSpPr/>
          <p:nvPr/>
        </p:nvSpPr>
        <p:spPr>
          <a:xfrm rot="18400800">
            <a:off x="1033920" y="1757520"/>
            <a:ext cx="2425680" cy="17798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ahoma"/>
              </a:rPr>
              <a:t>ايجاب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3580920"/>
            <a:ext cx="746748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سهم إلى اليمين 7"/>
          <p:cNvSpPr/>
          <p:nvPr/>
        </p:nvSpPr>
        <p:spPr>
          <a:xfrm rot="18559800">
            <a:off x="3468960" y="1607400"/>
            <a:ext cx="1913040" cy="151128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ahoma"/>
              </a:rPr>
              <a:t>سلب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1814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التزام المرؤوسي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مناسبة الاقتراحات للإمكانيات المتاح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ايجابية النتائج المحققة عن هذه الاجراءات المستجد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مستطيل 1"/>
          <p:cNvSpPr/>
          <p:nvPr/>
        </p:nvSpPr>
        <p:spPr>
          <a:xfrm>
            <a:off x="3059280" y="620640"/>
            <a:ext cx="5616360" cy="8064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  <a:cs typeface="Tahoma"/>
              </a:rPr>
              <a:t>الخطوة الرابعة: اقتراح الحلول البديل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مستطيل 2"/>
          <p:cNvSpPr/>
          <p:nvPr/>
        </p:nvSpPr>
        <p:spPr>
          <a:xfrm>
            <a:off x="3882960" y="2581200"/>
            <a:ext cx="4827600" cy="9144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  <a:cs typeface="Tahoma"/>
              </a:rPr>
              <a:t>الخطوة الخامسة: المتابع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C:\Program Files\Microsoft Office\MEDIA\CAGCAT10\j0195812.wmf"/>
          <p:cNvPicPr/>
          <p:nvPr/>
        </p:nvPicPr>
        <p:blipFill>
          <a:blip r:embed="rId1"/>
          <a:stretch/>
        </p:blipFill>
        <p:spPr>
          <a:xfrm>
            <a:off x="684360" y="1023840"/>
            <a:ext cx="177156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عنصر نائب للمحتوى 3" descr=""/>
          <p:cNvPicPr/>
          <p:nvPr/>
        </p:nvPicPr>
        <p:blipFill>
          <a:blip r:embed="rId1"/>
          <a:stretch/>
        </p:blipFill>
        <p:spPr>
          <a:xfrm>
            <a:off x="109440" y="0"/>
            <a:ext cx="913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Franklin Gothic Book"/>
              </a:rPr>
              <a:t>خصائص الرقابة الفعال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08000" y="1413000"/>
            <a:ext cx="8712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تكون المعايير الرقابية والوسائل المستخدمة مناسب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تكون الوسائل الرقابية اقتصادية بقدر الإمكا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يكون المراقب ملماً بكيفية استخدام هذه الوسائ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تعدد وتتنوع الوسائل والأدوات الرقابية المستعمل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تكون النظم الرقابية مرن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ن يتم مراعاة التوازن بين كل من اعتباري الكم والنو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480" indent="-493560" algn="r" rtl="1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1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1" dur="2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b0f0"/>
                </a:solidFill>
                <a:latin typeface="Franklin Gothic Book"/>
              </a:rPr>
              <a:t>المحتويات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فهوم الرقا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وائد الرقا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خطوات عملية الرقابة الإدا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نواع الرقا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خصائص الرقابة الفعال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تعريف الرقابة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تنسيق1"/>
          <p:cNvPicPr/>
          <p:nvPr/>
        </p:nvPicPr>
        <p:blipFill>
          <a:blip r:embed="rId1"/>
          <a:stretch/>
        </p:blipFill>
        <p:spPr>
          <a:xfrm>
            <a:off x="0" y="4108320"/>
            <a:ext cx="9144000" cy="2749680"/>
          </a:xfrm>
          <a:prstGeom prst="rect">
            <a:avLst/>
          </a:prstGeom>
          <a:ln w="0">
            <a:noFill/>
          </a:ln>
        </p:spPr>
      </p:pic>
      <p:sp>
        <p:nvSpPr>
          <p:cNvPr id="261" name="شكل بيضاوي 3"/>
          <p:cNvSpPr/>
          <p:nvPr/>
        </p:nvSpPr>
        <p:spPr>
          <a:xfrm>
            <a:off x="539640" y="1341360"/>
            <a:ext cx="6912000" cy="251928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Tahoma"/>
              </a:rPr>
              <a:t>هو التأكد من أن كل شيء في المنظمة يتم وفق الخطط الموضوعة , والتعليمات الصادرة, والمبادئ المعتمدة, وذلك لهدف كشف مواطن الضعف وتصحيحها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أنواع الانحرافات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سلبية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إيجابية الغير مقبولة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علم وفن"/>
          <p:cNvPicPr/>
          <p:nvPr/>
        </p:nvPicPr>
        <p:blipFill>
          <a:blip r:embed="rId1"/>
          <a:stretch/>
        </p:blipFill>
        <p:spPr>
          <a:xfrm>
            <a:off x="0" y="3753000"/>
            <a:ext cx="89647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رسم تخطيطي 1" descr=""/>
          <p:cNvPicPr/>
          <p:nvPr/>
        </p:nvPicPr>
        <p:blipFill>
          <a:blip r:embed="rId1"/>
          <a:stretch/>
        </p:blipFill>
        <p:spPr>
          <a:xfrm>
            <a:off x="249120" y="500040"/>
            <a:ext cx="8510760" cy="5145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C:\Program Files\Microsoft Office\MEDIA\CAGCAT10\j0195812.wmf"/>
          <p:cNvPicPr/>
          <p:nvPr/>
        </p:nvPicPr>
        <p:blipFill>
          <a:blip r:embed="rId2"/>
          <a:stretch/>
        </p:blipFill>
        <p:spPr>
          <a:xfrm>
            <a:off x="3635280" y="3068640"/>
            <a:ext cx="177336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91520" cy="12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صنفي الجهات التالية إلى جهات رقابية داخلية وجهات رقابية خارجية ؟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16280"/>
            <a:ext cx="74674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مشرف على العمال بالمصن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ديوان المراقبة العام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رئيس قسم التسويق على مرؤوسين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team-work"/>
          <p:cNvPicPr/>
          <p:nvPr/>
        </p:nvPicPr>
        <p:blipFill>
          <a:blip r:embed="rId1"/>
          <a:stretch/>
        </p:blipFill>
        <p:spPr>
          <a:xfrm>
            <a:off x="0" y="447660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7467480" cy="1009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أولاً: فوائد الرقابة للمنظمة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560" y="1484280"/>
            <a:ext cx="8713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مدى تحقيق الأهداف للخطط المرسوم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مدى مطابقة الأداء الفعلي لمسارات الخطط المرسوم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مناسبة الموارد البشرية ، والمادية ، لمتطلبات الخطط (كما ونوعا ووقتا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الاستخدام الكفء للموار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C:\Program Files\Microsoft Office\MEDIA\CAGCAT10\j0217698.wmf"/>
          <p:cNvPicPr/>
          <p:nvPr/>
        </p:nvPicPr>
        <p:blipFill>
          <a:blip r:embed="rId1"/>
          <a:stretch/>
        </p:blipFill>
        <p:spPr>
          <a:xfrm>
            <a:off x="1476360" y="4076640"/>
            <a:ext cx="17463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Franklin Gothic Book"/>
              </a:rPr>
              <a:t>ثانياً: فوائد الرقابة للأفراد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9280" y="162828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طمئنان العامل الكفء لعدالة عملية المراقبة عند تقييم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طمئنان العامل المقصر لعدالة عملية المراقبة عند تقييم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فظ الحقوق لجمهور المتعاملين مع المنظ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15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Franklin Gothic Book"/>
              </a:rPr>
              <a:t>خطوات الرقابة الإدارية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8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547640" y="1487520"/>
            <a:ext cx="7272360" cy="4614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work-stress"/>
          <p:cNvPicPr/>
          <p:nvPr/>
        </p:nvPicPr>
        <p:blipFill>
          <a:blip r:embed="rId2"/>
          <a:stretch/>
        </p:blipFill>
        <p:spPr>
          <a:xfrm>
            <a:off x="0" y="0"/>
            <a:ext cx="154764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1:15:47Z</dcterms:created>
  <dc:creator/>
  <dc:description/>
  <dc:language>en-US</dc:language>
  <cp:lastModifiedBy/>
  <dcterms:modified xsi:type="dcterms:W3CDTF">2016-04-14T06:35:26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