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18.png" ContentType="image/png"/>
  <Override PartName="/ppt/media/image17.png" ContentType="image/png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91E-BC2C-470F-A7EE-8E2FD99E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C15-E794-41B6-8136-1249851C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3C9-A8C6-42C4-92CC-26DDBA82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CAB-6E94-4C82-B7F6-8AAE2C2C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41B7-1359-4950-8E0C-160D933C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E685-9F19-4E11-926D-FE199946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892B-B330-4387-BDBF-28555B91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28C2-53C2-432C-8731-20068B27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FB64-79A6-4DA1-84EF-536D28BC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555B-BED4-405C-A099-C56A2680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8080-E823-48E6-8746-A3C985E8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A5A-5D72-402D-B963-DDB5257F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3CDC-FF77-444B-AA05-BA5C171B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7C3B-8DCB-449C-9730-AA60F4E6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E880-1117-4976-AB8B-67F6717E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34AD-0EB9-4202-A607-FBBBC64D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064F-9BC5-4F38-8669-59D66BB6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2ADAD-AB57-4C36-97E0-CD010E0E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98BC-7674-4DEC-B771-09BBCF2F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ABCC6-990F-496A-9378-DF27B923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8A0A-D95E-41D6-91AA-1092D0BD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744B0-0490-4337-B579-4654A8ED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C2B-CEC8-49CE-BAF4-8F6D2A0A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B04DD-A6F2-42C7-A457-F85B2860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0AE04-C15F-46AD-8308-13AB9D24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8F036-885B-4CAE-98FA-546C2AD5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410B-CD10-454B-B54C-872111E3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61AF2-26E7-4982-8CC7-B6038EE9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DEDC-8E1E-43A2-8906-EECDDF25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338A5-A9F7-49E5-A4D1-1B62DAF4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3E059-BDC2-4B7A-9068-9A6281FC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D2B9A-9186-47CC-9092-EBCEF098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41C47-4B3C-498A-8325-AA47403C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844-D872-4897-8789-0EC70F8E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4D550-0B3B-4C15-B4B8-44BC5497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6D73B-A867-438F-A98F-50186EC9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95CB3-9421-47FA-9CAD-A55CB62A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40A11-146C-4498-9139-C5B26742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B93B6-9ECB-4D34-BC06-CD1FF6F3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3EF4B-FE13-4F7A-A238-6FCDE351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ADA03-8386-4032-8C5C-816204E0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6127F-0F35-48FF-82AA-145C963A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BCB29-65E0-4E5A-AB53-72DCC531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74395-229F-4B62-AF4E-8BE7C9D4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B90-4B5E-4D76-9CF7-BAA2EDD2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3C12C-9C54-4B2E-982C-AC1BCEE0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1735A-A6F3-4BD8-B0C3-EBF06918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0772A-BA91-4F74-9D23-73FF5B3D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5BFBB-99C4-41E8-9583-37B73418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411E4-490E-4968-B076-D62CFD68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E7E28-8822-4989-AFD3-90EA9AD8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2185F-48E8-42DF-A01B-C705934C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AFB36-CFAD-4AB4-9B79-992D17F2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35505-42A2-40F1-B4A1-D13A5856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0F38F-42A1-4A9B-A8EF-25B2F31D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B9B-B3AE-4A5B-AA91-EA79B92C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80AF3-3F7A-4C3F-9061-F1285AE4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1D630-002E-440C-B828-01519C20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34C82-73D9-459A-8543-C6464A8A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98A5B-E73F-4198-AD38-D7E6119E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6E8E3-B9F8-4215-9F13-997546B8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A5FEE-3B85-49F4-8899-8B5A0CD9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5E29F-3804-4F34-9AD6-8B000CD8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F8BEC-9A5D-47C8-A7A1-4B9129CF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AC844-2F05-4A3F-BDF8-3121F6D2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E6072-1C41-4040-A7EF-A0778559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4DE-2D5F-4B37-BDC4-687D64DE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E6B79-7C16-4E9F-958A-AA862087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604E2-5D3E-439F-905E-6412618A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EEA50-B5EB-451F-978C-00F01AC8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FEE-ECF7-4EEC-A63F-7624C138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BA9-EA0E-4EE5-AD07-D17C75AE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54B9-9692-4F43-9DE5-1E2470D98778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شكل حر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شكل حر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3FFC-9AAB-4517-9651-0AD3E9256E69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شكل حر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شكل حر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1113-22A1-448A-9B2D-6385FFDC03A2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BE62-A172-44E4-A671-22A98851273D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C6D5-9ED5-4D39-9B8E-46DF5C8F70F4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BEF3-76B1-4712-BD2F-05FC42738916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689040" y="6480"/>
            <a:ext cx="7772400" cy="2412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financial_planning"/>
          <p:cNvPicPr/>
          <p:nvPr/>
        </p:nvPicPr>
        <p:blipFill>
          <a:blip r:embed="rId2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عنصر نائب للمحتوى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791920" cy="5840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dollar"/>
          <p:cNvPicPr/>
          <p:nvPr/>
        </p:nvPicPr>
        <p:blipFill>
          <a:blip r:embed="rId2"/>
          <a:stretch/>
        </p:blipFill>
        <p:spPr>
          <a:xfrm>
            <a:off x="3419640" y="2565360"/>
            <a:ext cx="24606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عنصر نائب للمحتوى 1" descr=""/>
          <p:cNvPicPr/>
          <p:nvPr/>
        </p:nvPicPr>
        <p:blipFill>
          <a:blip r:embed="rId1"/>
          <a:stretch/>
        </p:blipFill>
        <p:spPr>
          <a:xfrm>
            <a:off x="42840" y="146160"/>
            <a:ext cx="8997840" cy="5979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C:\Users\General\AppData\Local\Microsoft\Windows\Temporary Internet Files\Content.IE5\ZF1RAK9B\MP900430503[1].jpg"/>
          <p:cNvPicPr/>
          <p:nvPr/>
        </p:nvPicPr>
        <p:blipFill>
          <a:blip r:embed="rId2"/>
          <a:stretch/>
        </p:blipFill>
        <p:spPr>
          <a:xfrm>
            <a:off x="3116160" y="2349360"/>
            <a:ext cx="2737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رسم تخطيطي 1" descr=""/>
          <p:cNvPicPr/>
          <p:nvPr/>
        </p:nvPicPr>
        <p:blipFill>
          <a:blip r:embed="rId1"/>
          <a:stretch/>
        </p:blipFill>
        <p:spPr>
          <a:xfrm>
            <a:off x="36360" y="262080"/>
            <a:ext cx="8894880" cy="6333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7020000" y="260280"/>
            <a:ext cx="1795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مستطيل 2"/>
          <p:cNvSpPr/>
          <p:nvPr/>
        </p:nvSpPr>
        <p:spPr>
          <a:xfrm>
            <a:off x="1979640" y="620640"/>
            <a:ext cx="5113440" cy="5238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4" descr="News_Paper_Employe"/>
          <p:cNvPicPr/>
          <p:nvPr/>
        </p:nvPicPr>
        <p:blipFill>
          <a:blip r:embed="rId1"/>
          <a:stretch/>
        </p:blipFill>
        <p:spPr>
          <a:xfrm>
            <a:off x="1042920" y="3638520"/>
            <a:ext cx="6881760" cy="3219480"/>
          </a:xfrm>
          <a:prstGeom prst="rect">
            <a:avLst/>
          </a:prstGeom>
          <a:ln w="0">
            <a:noFill/>
          </a:ln>
        </p:spPr>
      </p:pic>
      <p:sp>
        <p:nvSpPr>
          <p:cNvPr id="289" name="مربع نص 1"/>
          <p:cNvSpPr/>
          <p:nvPr/>
        </p:nvSpPr>
        <p:spPr>
          <a:xfrm>
            <a:off x="1763640" y="62064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خطوة الثالثة: تصويب الانحراف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سهم إلى اليمين 3"/>
          <p:cNvSpPr/>
          <p:nvPr/>
        </p:nvSpPr>
        <p:spPr>
          <a:xfrm rot="18400800">
            <a:off x="1033920" y="1757520"/>
            <a:ext cx="2425680" cy="17798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ahoma"/>
              </a:rPr>
              <a:t>ايجاب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3580920"/>
            <a:ext cx="746748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سهم إلى اليمين 7"/>
          <p:cNvSpPr/>
          <p:nvPr/>
        </p:nvSpPr>
        <p:spPr>
          <a:xfrm rot="18559800">
            <a:off x="3468960" y="1607400"/>
            <a:ext cx="1913040" cy="15112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ahoma"/>
              </a:rPr>
              <a:t>سلب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1814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التزام المرؤوسي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مناسبة الاقتراحات للإمكانيات المتاح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ايجابية النتائج المحققة عن هذه الاجراءات المستجد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مستطيل 1"/>
          <p:cNvSpPr/>
          <p:nvPr/>
        </p:nvSpPr>
        <p:spPr>
          <a:xfrm>
            <a:off x="3059280" y="620640"/>
            <a:ext cx="5616360" cy="806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  <a:cs typeface="Tahoma"/>
              </a:rPr>
              <a:t>الخطوة الرابعة: اقتراح الحلول البديل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مستطيل 2"/>
          <p:cNvSpPr/>
          <p:nvPr/>
        </p:nvSpPr>
        <p:spPr>
          <a:xfrm>
            <a:off x="3882960" y="2581200"/>
            <a:ext cx="4827600" cy="914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  <a:cs typeface="Tahoma"/>
              </a:rPr>
              <a:t>الخطوة الخامسة: المتابع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684360" y="1023840"/>
            <a:ext cx="177156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عنصر نائب للمحتوى 3" descr=""/>
          <p:cNvPicPr/>
          <p:nvPr/>
        </p:nvPicPr>
        <p:blipFill>
          <a:blip r:embed="rId1"/>
          <a:stretch/>
        </p:blipFill>
        <p:spPr>
          <a:xfrm>
            <a:off x="109440" y="0"/>
            <a:ext cx="913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Franklin Gothic Book"/>
              </a:rPr>
              <a:t>خصائص الرقابة الفعال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08000" y="1413000"/>
            <a:ext cx="8712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تكون المعايير الرقابية والوسائل المستخدمة مناسب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تكون الوسائل الرقابية اقتصادية بقدر الإمكا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يكون المراقب ملماً بكيفية استخدام هذه الوسائ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تعدد وتتنوع الوسائل والأدوات الرقابية المستعمل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تكون النظم الرقابية مرن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يتم مراعاة التوازن بين كل من اعتباري الكم والنو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b0f0"/>
                </a:solidFill>
                <a:latin typeface="Franklin Gothic Book"/>
              </a:rPr>
              <a:t>المحتويات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فهوم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وائد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خطوات عملية الرقابة الإدا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نواع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خصائص الرقابة الفع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تعريف الرقابة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تنسيق1"/>
          <p:cNvPicPr/>
          <p:nvPr/>
        </p:nvPicPr>
        <p:blipFill>
          <a:blip r:embed="rId1"/>
          <a:stretch/>
        </p:blipFill>
        <p:spPr>
          <a:xfrm>
            <a:off x="0" y="4108320"/>
            <a:ext cx="9144000" cy="2749680"/>
          </a:xfrm>
          <a:prstGeom prst="rect">
            <a:avLst/>
          </a:prstGeom>
          <a:ln w="0">
            <a:noFill/>
          </a:ln>
        </p:spPr>
      </p:pic>
      <p:sp>
        <p:nvSpPr>
          <p:cNvPr id="261" name="شكل بيضاوي 3"/>
          <p:cNvSpPr/>
          <p:nvPr/>
        </p:nvSpPr>
        <p:spPr>
          <a:xfrm>
            <a:off x="539640" y="1341360"/>
            <a:ext cx="6912000" cy="251928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ahoma"/>
              </a:rPr>
              <a:t>هو التأكد من أن كل شيء في المنظمة يتم وفق الخطط الموضوعة , والتعليمات الصادرة, والمبادئ المعتمدة, وذلك لهدف كشف مواطن الضعف وتصحيحها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أنواع الانحرافات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سلبية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إيجابية الغير مقبولة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علم وفن"/>
          <p:cNvPicPr/>
          <p:nvPr/>
        </p:nvPicPr>
        <p:blipFill>
          <a:blip r:embed="rId1"/>
          <a:stretch/>
        </p:blipFill>
        <p:spPr>
          <a:xfrm>
            <a:off x="0" y="3753000"/>
            <a:ext cx="89647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رسم تخطيطي 1" descr=""/>
          <p:cNvPicPr/>
          <p:nvPr/>
        </p:nvPicPr>
        <p:blipFill>
          <a:blip r:embed="rId1"/>
          <a:stretch/>
        </p:blipFill>
        <p:spPr>
          <a:xfrm>
            <a:off x="249120" y="500040"/>
            <a:ext cx="8510760" cy="5145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C:\Program Files\Microsoft Office\MEDIA\CAGCAT10\j0195812.wmf"/>
          <p:cNvPicPr/>
          <p:nvPr/>
        </p:nvPicPr>
        <p:blipFill>
          <a:blip r:embed="rId2"/>
          <a:stretch/>
        </p:blipFill>
        <p:spPr>
          <a:xfrm>
            <a:off x="3635280" y="3068640"/>
            <a:ext cx="177336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91520" cy="12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صنفي الجهات التالية إلى جهات رقابية داخلية وجهات رقابية خارجية 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16280"/>
            <a:ext cx="7467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مشرف على العمال بالمصن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ديوان المراقبة العام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رئيس قسم التسويق على مرؤوسين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team-work"/>
          <p:cNvPicPr/>
          <p:nvPr/>
        </p:nvPicPr>
        <p:blipFill>
          <a:blip r:embed="rId1"/>
          <a:stretch/>
        </p:blipFill>
        <p:spPr>
          <a:xfrm>
            <a:off x="0" y="44766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7467480" cy="100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أولاً: فوائد الرقابة للمنظمة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560" y="1484280"/>
            <a:ext cx="8713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دى تحقيق الأهداف للخطط المرسوم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دى مطابقة الأداء الفعلي لمسارات الخطط المرسوم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ناسبة الموارد البشرية ، والمادية ، لمتطلبات الخطط (كما ونوعا ووقتا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الاستخدام الكفء للموار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1476360" y="4076640"/>
            <a:ext cx="17463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Franklin Gothic Book"/>
              </a:rPr>
              <a:t>ثانياً: فوائد الرقابة للأفراد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9280" y="162828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طمئنان العامل الكفء لعدالة عملية المراقبة عند تقييم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طمئنان العامل المقصر لعدالة عملية المراقبة عند تقييم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فظ الحقوق لجمهور المتعاملين مع المنظ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15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Franklin Gothic Book"/>
              </a:rPr>
              <a:t>خطوات الرقابة الإدارية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547640" y="1487520"/>
            <a:ext cx="7272360" cy="4614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work-stress"/>
          <p:cNvPicPr/>
          <p:nvPr/>
        </p:nvPicPr>
        <p:blipFill>
          <a:blip r:embed="rId2"/>
          <a:stretch/>
        </p:blipFill>
        <p:spPr>
          <a:xfrm>
            <a:off x="0" y="0"/>
            <a:ext cx="154764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1:15:47Z</dcterms:created>
  <dc:creator/>
  <dc:description/>
  <dc:language>en-US</dc:language>
  <cp:lastModifiedBy/>
  <dcterms:modified xsi:type="dcterms:W3CDTF">2016-04-14T06:35:26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