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8DAC-3E5B-4267-949C-6FF0BB000AD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65BE-A0D3-406B-BC7D-21BF1A82201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4C8E-0A62-499A-95FC-BAB9E866669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0DD-700A-4F92-B48E-869EC608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C67-8BB6-4538-BF46-3AEC6BE4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951-F431-4389-A606-2B07640D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A3D-B3FF-474C-A517-4062D886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2D27-E0EB-49EC-964A-F5CBB0D1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9C4D-F3B0-45ED-AEC3-3BB522B8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A30C-D7CD-4ADD-92B3-BC1C5EBB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819-C64C-42D6-B0CE-9584A5FA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007A-AC86-4F78-8B17-6AF65E1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5634-F13B-4B87-80F8-0833F908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1D24-EBE7-4027-AF86-36B9CF8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DD2-ACEE-4AE5-A186-4E7ECFCF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1451-98B4-4E46-861B-D199DDD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3D3-20CF-425A-B655-8B435C01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BD1E-9E0F-4E6F-8ECD-D1E615C6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243D-D538-4961-AE3C-021DE9D1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2099-612D-4D4D-81F3-9DABBF8B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A0F-3556-4B3B-9424-D22F0E4F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827-E64A-4B4D-935B-9E472CF2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7EF-CD44-4ECA-812B-09D9A504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B08-8541-45FA-939E-AC89689A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804-C994-4DC9-AFDD-82311E0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ED7-87C5-40D2-B237-960D327F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AC5-FAB3-4EC6-BE8B-777A6DC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0D35-2CE0-443B-B721-E49A401D1092}" type="slidenum">
              <a:rPr b="0" lang="ar-SA" sz="10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AA3A-8F97-4AE5-8D26-8A1D01A9F2F5}" type="slidenum">
              <a:rPr b="0" lang="ar-SA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endscreen&amp;v=2eXC6s9X6Wc&amp;NR=1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AuslY-Uuf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2833560" cy="42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3092400" y="1773360"/>
            <a:ext cx="2832120" cy="42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3"/>
          <a:stretch/>
        </p:blipFill>
        <p:spPr>
          <a:xfrm>
            <a:off x="5907240" y="1773360"/>
            <a:ext cx="2833560" cy="424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ahoma"/>
              </a:rPr>
              <a:t>تطبيقات هواتف ذكية تتيح متابعة جودة الهواء للجميع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أرقام المعنوية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Significant Figu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ابع الفصل السابق من كتاب د. الزا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ahoma"/>
              </a:rPr>
              <a:t>الأرقام المعنوية 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Significant Figur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أرقام الأكيدة + الرقم الأول من الأرقام المشكوك فيها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21.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0.21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،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0.0215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(الأرقام المعنوية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imes New Roman"/>
              </a:rPr>
              <a:t>متى تستخدم؟ ومتى لا تستخدم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قابل للقياس (طول طريق، مساحة أرض، كتلة مادة، تركيز عنصر،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قابل للعد (عدد العبوات، عدد المواد، مرات التخفيف، ..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4.2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×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3.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95.9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مربع (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9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قدم مربع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ليمون ×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2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كيس 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7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ليمون (الحصول على الرقم بواسطة العد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 (البعض يعد والآخر يقاس)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6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دورق زجاجي) ×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4.38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مل =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21.88888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مل (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21.9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ل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 algn="r" rtl="1">
              <a:lnSpc>
                <a:spcPct val="114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  <a:cs typeface="Times New Roman"/>
              </a:rPr>
              <a:t>مثال (كذلك):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500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رجل +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32.8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جرام (رز في الوجبة) = ؟؟؟؟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r" rtl="1">
              <a:lnSpc>
                <a:spcPct val="114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قة النتيجة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± 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0.05</a:t>
            </a: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 (إذاً، أول رقم مشكوك فيه هو الثاني بعد الفاصلة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عدد الأرقام المعنوي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1981080"/>
          <a:ext cx="7696440" cy="1981440"/>
        </p:xfrm>
        <a:graphic>
          <a:graphicData uri="http://schemas.openxmlformats.org/drawingml/2006/table">
            <a:tbl>
              <a:tblPr/>
              <a:tblGrid>
                <a:gridCol w="1043280"/>
                <a:gridCol w="880920"/>
                <a:gridCol w="2916360"/>
                <a:gridCol w="2855880"/>
              </a:tblGrid>
              <a:tr h="322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5 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جميع الأرقام غير الصفر تعتبر معنو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 c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صفر بين الأرقام يعتبر معنويا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صفر يمين الرقم </a:t>
                      </a: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لا يعتبر معنوياً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ذا لم تكن هناك فاصلة عشر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0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صفر يمين الرقم </a:t>
                      </a: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يعتبر معنويا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إذا كانت هناك فاصلة عشري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38 k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صفر يسار الرقم غير معنو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دلالة على وضع الفاصلة فق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990720" y="4419720"/>
          <a:ext cx="7772400" cy="2133360"/>
        </p:xfrm>
        <a:graphic>
          <a:graphicData uri="http://schemas.openxmlformats.org/drawingml/2006/table">
            <a:tbl>
              <a:tblPr/>
              <a:tblGrid>
                <a:gridCol w="1903320"/>
                <a:gridCol w="555480"/>
                <a:gridCol w="1586160"/>
                <a:gridCol w="635040"/>
                <a:gridCol w="2377800"/>
                <a:gridCol w="714600"/>
              </a:tblGrid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50010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2929ff"/>
                          </a:solidFill>
                          <a:latin typeface="Calibri"/>
                        </a:rPr>
                        <a:t>0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.0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0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53352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00000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.0000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89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.00</a:t>
                      </a: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003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533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ff"/>
                          </a:solidFill>
                          <a:latin typeface="Calibri"/>
                        </a:rPr>
                        <a:t>0.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8</a:t>
                      </a: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78001</a:t>
                      </a:r>
                      <a:r>
                        <a:rPr b="1" lang="en-US" sz="2400" spc="-1" strike="noStrike">
                          <a:solidFill>
                            <a:srgbClr val="0a0aff"/>
                          </a:solidFill>
                          <a:latin typeface="Calibri"/>
                        </a:rPr>
                        <a:t>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4d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الصفر والأرقام المعنوي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حذف الصفر (أو الأصفار) الرقم المتبقي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≠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رقم الأصلي، إذاً الصفر غير معنوي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رقم المتبقي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=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الرقم الأصلي، إذاً الصفر أو الأصفار معنو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3048120"/>
          <a:ext cx="7848720" cy="3504960"/>
        </p:xfrm>
        <a:graphic>
          <a:graphicData uri="http://schemas.openxmlformats.org/drawingml/2006/table">
            <a:tbl>
              <a:tblPr/>
              <a:tblGrid>
                <a:gridCol w="1962360"/>
                <a:gridCol w="2452680"/>
                <a:gridCol w="3433680"/>
              </a:tblGrid>
              <a:tr h="49680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 rtl="1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 rtl="1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دد الأرقام المعنو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680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0 ≠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536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034 ≠3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680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000 = 5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6800">
                <a:tc rowSpan="2">
                  <a:txBody>
                    <a:bodyPr lIns="5040" rIns="5040" tIns="936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≠6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rowSpan="2">
                  <a:txBody>
                    <a:bodyPr lIns="5040" rIns="5040" tIns="9360" bIns="0" anchor="ctr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0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01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5040" rIns="5040" tIns="9360" bIns="0" anchor="b">
                      <a:noAutofit/>
                    </a:bodyPr>
                    <a:p>
                      <a:pPr algn="ctr">
                        <a:lnSpc>
                          <a:spcPct val="11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ahoma"/>
              </a:rPr>
              <a:t>العمليات الحسابية للأرقام المعنوية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ضرب أو قسمة؟؟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Calibri"/>
              </a:rPr>
              <a:t>تساوي عدد الأرقام المعنوية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Calibri"/>
              </a:rPr>
              <a:t>اختلاف عدد الأرقام المعنوية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</a:rPr>
              <a:t>جمع وطرح؟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alibri"/>
                <a:cs typeface="Times New Roman"/>
              </a:rPr>
              <a:t>نعتمد العدد الأقل خانات  عشر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2438280"/>
          <a:ext cx="4572000" cy="4246560"/>
        </p:xfrm>
        <a:graphic>
          <a:graphicData uri="http://schemas.openxmlformats.org/drawingml/2006/table">
            <a:tbl>
              <a:tblPr/>
              <a:tblGrid>
                <a:gridCol w="1676520"/>
                <a:gridCol w="1600200"/>
                <a:gridCol w="1295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82÷2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f5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.385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f5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0f5f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2÷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6x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833x17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2881÷9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48.2577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621x8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019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020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9411x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.87x106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98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98 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2.4 hx0.1mm/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.24 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 m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.2+3.05+7.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.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320" y="19810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تلة حجر بواسطة ميزان بلاستيك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8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جر نفسه بواسطة ميزان لدى ناسا يعتمد على الليزر (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82.1039217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أول ليس دقيقاً جداً، والثاني في غاية الدق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حساب الكثافة (الكتلة على الحجم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8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÷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4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1.95238095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(بدأت بقياسات ليست دقيقة ولكن النتيجة تبدو عالية الدقة) (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2.0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جم/سم</a:t>
            </a:r>
            <a:r>
              <a:rPr b="0" lang="ar-SA" sz="2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ا يجب أن تكون دقة النتيجة النهائية أكبر من الدقة التي بدأت بها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الجمع والطر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youtube.com/watch?feature=endscreen&amp;v=2eXC6s9X6Wc&amp;NR=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رسم خطاً عمودياً عند أقرب خانة للفاصلة العشرية وتكون هي الحد للأرقام المعنو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94,0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+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82,11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91,113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29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8,679+0,3+5,88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4,859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14,9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youtube.com/watch?v=VAuslY-Uuf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ندما يعطيك عنوان غير محدد مستحيل تذهب مباشرة إلى حيث يوجد من تريد الوصول إلي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18:54:49Z</dcterms:created>
  <dc:creator>Administrator</dc:creator>
  <dc:description/>
  <dc:language>en-US</dc:language>
  <cp:lastModifiedBy>Abdullah Al-Farraj</cp:lastModifiedBy>
  <dcterms:modified xsi:type="dcterms:W3CDTF">2014-05-18T07:22:01Z</dcterms:modified>
  <cp:revision>265</cp:revision>
  <dc:subject/>
  <dc:title>Slide 1</dc:title>
</cp:coreProperties>
</file>