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EE96-25CC-460D-94AF-C30D7349006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5816-E966-4EE3-818F-B58EAB2A6172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6DE6-5BB6-4EF4-9DF0-9D0933697EBD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E5A-C6E8-4C7C-ADCA-7C484276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872C-FD59-4AB8-96AF-4B11E1C0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F01-6721-4292-A085-B87399BD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0917-624A-4BEC-8D2F-B5693357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EA68-C3C9-4FD4-9A06-8DED73B8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D99F-9637-4226-B9D2-B8121B25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5E7B-9757-4F30-92DE-01D482C6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061D-12D6-4DCB-B85A-31424DD5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73EF-5D5F-43B7-B5E6-3C9E20D3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F49C-C4F3-40CE-8C84-99EB2A89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E40D-918C-4D21-98C3-EE99AB05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51C-C631-47E4-8B6F-198A4963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F36B-2267-40E2-8FEC-6E371C1F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A119-DE97-4F08-841E-A47A3F89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90C4-443B-47D8-8BB0-23453550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7782-01D6-489D-AACB-8711E3E7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8B75-DEBC-4780-8495-B07745EF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BCA-23E1-415E-8E20-E8C58597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593-200B-4EE4-A806-E1190692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81A-F9D0-4036-92D3-C47E50C7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11D-DEDC-48EE-AD36-5A194141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226-04FC-40DC-AA49-9D02C8FE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DE7-DB54-4D7B-8BE7-38BB0435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BF7-2777-4185-BED9-E9EE1756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31B8-14B5-47A2-9DD9-B068BEBA4D21}" type="slidenum">
              <a:rPr b="0" lang="ar-SA" sz="10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E670-8CEC-49A0-BB27-401C506AC0D4}" type="slidenum">
              <a:rPr b="0" lang="ar-SA" sz="10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feature=endscreen&amp;v=2eXC6s9X6Wc&amp;NR=1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AuslY-Uuf4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2833560" cy="424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3092400" y="1773360"/>
            <a:ext cx="2832120" cy="424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5907240" y="1773360"/>
            <a:ext cx="2833560" cy="424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ahoma"/>
              </a:rPr>
              <a:t>تطبيقات هواتف ذكية تتيح متابعة جودة الهواء للجميع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الأرقام المعنوية 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Significant Figu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ابع الفصل السابق من كتاب د. الزام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ahoma"/>
              </a:rPr>
              <a:t>الأرقام المعنوية 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Significant Figu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14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أرقام الأكيدة + الرقم الأول من الأرقام المشكوك فيها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114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21.5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،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0.215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، 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</a:rPr>
              <a:t>0.0215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(الأرقام المعنوية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114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imes New Roman"/>
              </a:rPr>
              <a:t>متى تستخدم؟ ومتى لا تستخدم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r" rtl="1">
              <a:lnSpc>
                <a:spcPct val="114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  <a:cs typeface="Times New Roman"/>
              </a:rPr>
              <a:t>قابل للقياس (طول طريق، مساحة أرض، كتلة مادة، تركيز عنصر، ..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r" rtl="1">
              <a:lnSpc>
                <a:spcPct val="114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  <a:cs typeface="Times New Roman"/>
              </a:rPr>
              <a:t>قابل للعد (عدد العبوات، عدد المواد، مرات التخفيف، ..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r" rtl="1">
              <a:lnSpc>
                <a:spcPct val="114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  <a:cs typeface="Times New Roman"/>
              </a:rPr>
              <a:t>مثال: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4.2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قدم ×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3.8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قدم =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95.96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قدم مربع (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96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قدم مربع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r" rtl="1">
              <a:lnSpc>
                <a:spcPct val="114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  <a:cs typeface="Times New Roman"/>
              </a:rPr>
              <a:t>مثال: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ليمون ×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2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كيس =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76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ليمون (الحصول على الرقم بواسطة العد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r" rtl="1">
              <a:lnSpc>
                <a:spcPct val="114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  <a:cs typeface="Times New Roman"/>
              </a:rPr>
              <a:t>مثال (البعض يعد والآخر يقاس):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6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دورق زجاجي) ×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4.388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مل =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21.888888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مل (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21.9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cs typeface="Times New Roman"/>
              </a:rPr>
              <a:t>مل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r" rtl="1">
              <a:lnSpc>
                <a:spcPct val="114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  <a:cs typeface="Times New Roman"/>
              </a:rPr>
              <a:t>مثال (كذلك):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500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رجل +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32.8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جرام (رز في الوجبة) = ؟؟؟؟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114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دقة النتيجة 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± 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0.05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 (إذاً، أول رقم مشكوك فيه هو الثاني بعد الفاصلة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عدد الأرقام المعنوي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1981080"/>
          <a:ext cx="7696440" cy="1981440"/>
        </p:xfrm>
        <a:graphic>
          <a:graphicData uri="http://schemas.openxmlformats.org/drawingml/2006/table">
            <a:tbl>
              <a:tblPr/>
              <a:tblGrid>
                <a:gridCol w="1043280"/>
                <a:gridCol w="880920"/>
                <a:gridCol w="2916360"/>
                <a:gridCol w="2855880"/>
              </a:tblGrid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5 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ميع الأرقام غير الصفر تعتبر معنو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 c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صفر بين الأرقام يعتبر معنويا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634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صفر يمين الرقم </a:t>
                      </a: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لا يعتبر معنوياً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إذا لم تكن هناك فاصلة عشر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0 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صفر يمين الرقم </a:t>
                      </a: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يعتبر معنويا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إذا كانت هناك فاصلة عشر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038 k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صفر يسار الرقم غير معنو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لالة على وضع الفاصلة فق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990720" y="4419720"/>
          <a:ext cx="7772400" cy="2133360"/>
        </p:xfrm>
        <a:graphic>
          <a:graphicData uri="http://schemas.openxmlformats.org/drawingml/2006/table">
            <a:tbl>
              <a:tblPr/>
              <a:tblGrid>
                <a:gridCol w="1903320"/>
                <a:gridCol w="555480"/>
                <a:gridCol w="1586160"/>
                <a:gridCol w="635040"/>
                <a:gridCol w="2377800"/>
                <a:gridCol w="714600"/>
              </a:tblGrid>
              <a:tr h="53316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50010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.</a:t>
                      </a: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  <a:tr h="5335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1" lang="en-US" sz="2400" spc="-1" strike="noStrike">
                          <a:solidFill>
                            <a:srgbClr val="2929ff"/>
                          </a:solidFill>
                          <a:latin typeface="Calibri"/>
                        </a:rPr>
                        <a:t>00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a0aff"/>
                          </a:solidFill>
                          <a:latin typeface="Calibri"/>
                        </a:rPr>
                        <a:t>0.00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.</a:t>
                      </a: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  <a:tr h="5335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00000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a0aff"/>
                          </a:solidFill>
                          <a:latin typeface="Calibri"/>
                        </a:rPr>
                        <a:t>0.0000</a:t>
                      </a: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89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a0aff"/>
                          </a:solidFill>
                          <a:latin typeface="Calibri"/>
                        </a:rPr>
                        <a:t>0.00</a:t>
                      </a: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4003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  <a:tr h="53316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ff"/>
                          </a:solidFill>
                          <a:latin typeface="Calibri"/>
                        </a:rPr>
                        <a:t>0.0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8</a:t>
                      </a:r>
                      <a:r>
                        <a:rPr b="1" lang="en-US" sz="2400" spc="-1" strike="noStrike">
                          <a:solidFill>
                            <a:srgbClr val="0a0aff"/>
                          </a:solidFill>
                          <a:latin typeface="Calibri"/>
                        </a:rPr>
                        <a:t>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78001</a:t>
                      </a:r>
                      <a:r>
                        <a:rPr b="1" lang="en-US" sz="2400" spc="-1" strike="noStrike">
                          <a:solidFill>
                            <a:srgbClr val="0a0aff"/>
                          </a:solidFill>
                          <a:latin typeface="Calibri"/>
                        </a:rPr>
                        <a:t>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الصفر والأرقام المعنوي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حذف الصفر (أو الأصفار) الرقم المتبقي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≠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الرقم الأصلي، إذاً الصفر غير معنوي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رقم المتبقي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=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الرقم الأصلي، إذاً الصفر أو الأصفار معنو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048120"/>
          <a:ext cx="7848720" cy="3504960"/>
        </p:xfrm>
        <a:graphic>
          <a:graphicData uri="http://schemas.openxmlformats.org/drawingml/2006/table">
            <a:tbl>
              <a:tblPr/>
              <a:tblGrid>
                <a:gridCol w="1962360"/>
                <a:gridCol w="2452680"/>
                <a:gridCol w="3433680"/>
              </a:tblGrid>
              <a:tr h="496800"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 rtl="1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 rtl="1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دد الأرقام المعنو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496800"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000 ≠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495360"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34 ≠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496800"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000 = 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496800">
                <a:tc rowSpan="2">
                  <a:txBody>
                    <a:bodyPr lIns="5040" rIns="5040" tIns="936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≠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 rowSpan="2">
                  <a:txBody>
                    <a:bodyPr lIns="5040" rIns="5040" tIns="936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0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0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01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ahoma"/>
              </a:rPr>
              <a:t>العمليات الحسابية للأرقام المعنوية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ضرب أو قسمة؟؟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Calibri"/>
              </a:rPr>
              <a:t>تساوي عدد الأرقام المعنوية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Calibri"/>
              </a:rPr>
              <a:t>اختلاف عدد الأرقام المعنوية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جمع وطرح؟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نعتمد العدد الأقل خانات  عشر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280" y="2438280"/>
          <a:ext cx="4572000" cy="4246560"/>
        </p:xfrm>
        <a:graphic>
          <a:graphicData uri="http://schemas.openxmlformats.org/drawingml/2006/table">
            <a:tbl>
              <a:tblPr/>
              <a:tblGrid>
                <a:gridCol w="1676520"/>
                <a:gridCol w="1600200"/>
                <a:gridCol w="1295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782÷2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f5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.385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f5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f5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2÷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6x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5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4833x17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2881÷9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48.2577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621x8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0195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0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9411x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.87x106 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98.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98 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2.4 hx0.1mm/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.24 m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 m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.2+3.05+7.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1.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320" y="19810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تلة حجر بواسطة ميزان بلاستيك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8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ج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حجر نفسه بواسطة ميزان لدى ناسا يعتمد على الليزر (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82.1039217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جم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أول ليس دقيقاً جداً، والثاني في غاية الدق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حساب الكثافة (الكتلة على الحجم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8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÷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4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1.95238095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(بدأت بقياسات ليست دقيقة ولكن النتيجة تبدو عالية الدقة) (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2.0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جم/سم</a:t>
            </a:r>
            <a:r>
              <a:rPr b="0" lang="ar-SA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ا يجب أن تكون دقة النتيجة النهائية أكبر من الدقة التي بدأت بها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الجمع والطر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youtube.com/watch?feature=endscreen&amp;v=2eXC6s9X6Wc&amp;NR=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رسم خطاً عمودياً عند أقرب خانة للفاصلة العشرية وتكون هي الحد للأرقام المعنو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ثال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94,0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+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82,113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91,113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91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8,679+0,3+5,88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4,859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4,9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youtube.com/watch?v=VAuslY-Uuf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ندما يعطيك عنوان غير محدد مستحيل تذهب مباشرة إلى حيث يوجد من تريد الوصول إلي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8:54:49Z</dcterms:created>
  <dc:creator>Administrator</dc:creator>
  <dc:description/>
  <dc:language>en-US</dc:language>
  <cp:lastModifiedBy>Abdullah Al-Farraj</cp:lastModifiedBy>
  <dcterms:modified xsi:type="dcterms:W3CDTF">2014-05-18T07:22:01Z</dcterms:modified>
  <cp:revision>265</cp:revision>
  <dc:subject/>
  <dc:title>Slide 1</dc:title>
</cp:coreProperties>
</file>