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794-3BBB-4D91-A4FF-57E58C04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ADB-9FAB-45A0-8234-C353A51A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787-00EF-4147-BB28-7E9C6BD0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893-10EC-4E7C-BA13-BC2A2BDB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5D6-D992-4F60-9CE0-A1EEC5E4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A5C-2E8E-4A64-BAF7-276A8814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8B5-C106-469A-BF85-689A68BF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F4B-A7E1-47EE-9CE0-9AB37D0D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1ED-CFCD-4614-BE94-623356FC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9A4-84C6-4685-9AEE-2302EB4B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9E8-9F07-4CA3-9145-BB1FA885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EA8-EC8F-48E6-875A-09298F2F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4EA6-4B93-4316-946E-3A18158A5D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453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3"/>
          <p:cNvPicPr/>
          <p:nvPr/>
        </p:nvPicPr>
        <p:blipFill>
          <a:blip r:embed="rId1"/>
          <a:stretch/>
        </p:blipFill>
        <p:spPr>
          <a:xfrm>
            <a:off x="547560" y="274680"/>
            <a:ext cx="804708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4"/>
          <p:cNvPicPr/>
          <p:nvPr/>
        </p:nvPicPr>
        <p:blipFill>
          <a:blip r:embed="rId1"/>
          <a:stretch/>
        </p:blipFill>
        <p:spPr>
          <a:xfrm>
            <a:off x="1368360" y="274680"/>
            <a:ext cx="640728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24:26Z</dcterms:created>
  <dc:creator>Free User</dc:creator>
  <dc:description/>
  <dc:language>en-US</dc:language>
  <cp:lastModifiedBy>Tagreed</cp:lastModifiedBy>
  <dcterms:modified xsi:type="dcterms:W3CDTF">2014-05-29T09:10:11Z</dcterms:modified>
  <cp:revision>4</cp:revision>
  <dc:subject/>
  <dc:title>الشريحة 1</dc:title>
</cp:coreProperties>
</file>