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5A6-53C9-4798-B188-F503B476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A30-5130-4E70-99F1-FDBE2AF8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356-3918-4CD3-BEEA-F99C3DDC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2CC-7794-4A42-AE2E-516C1394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F89-6B93-4518-A1AE-F4698EB6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911-85FD-40C6-9BF9-165E06F5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6AE-6AA3-46EF-AB6B-10822A0B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3B9-F425-45F3-A7A0-D9E3D391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512-110C-4248-AEBA-EB22FFA6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CDB-C382-4F34-8021-7CD812D0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3A7-AB96-44CD-98EC-CA5B3CD6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87E-6B62-4770-B9B4-329A4528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A547-A41E-4816-858E-04A8C4C076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453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3"/>
          <p:cNvPicPr/>
          <p:nvPr/>
        </p:nvPicPr>
        <p:blipFill>
          <a:blip r:embed="rId1"/>
          <a:stretch/>
        </p:blipFill>
        <p:spPr>
          <a:xfrm>
            <a:off x="547560" y="274680"/>
            <a:ext cx="804708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4"/>
          <p:cNvPicPr/>
          <p:nvPr/>
        </p:nvPicPr>
        <p:blipFill>
          <a:blip r:embed="rId1"/>
          <a:stretch/>
        </p:blipFill>
        <p:spPr>
          <a:xfrm>
            <a:off x="1368360" y="274680"/>
            <a:ext cx="640728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24:26Z</dcterms:created>
  <dc:creator>Free User</dc:creator>
  <dc:description/>
  <dc:language>en-US</dc:language>
  <cp:lastModifiedBy>Tagreed</cp:lastModifiedBy>
  <dcterms:modified xsi:type="dcterms:W3CDTF">2014-05-29T09:10:11Z</dcterms:modified>
  <cp:revision>4</cp:revision>
  <dc:subject/>
  <dc:title>الشريحة 1</dc:title>
</cp:coreProperties>
</file>