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914-D191-480A-BF58-7A6CF5A3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CAA-727B-4C6C-AE3C-BDE07936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AC8-9CEF-4A0D-8975-992EEF9D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E20-30EC-4F39-9F0D-5918CC23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677-B613-4438-9D10-17C0ABCE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1AE-17D7-48BC-9E4A-0C3CA69A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D7A-9818-486F-BCB4-FD894BC2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CF2-04F7-4828-BAF4-D7133E48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03B-4AE1-4626-9C15-4571E231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3A8-C23B-4A9A-A60A-18596185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EAD-05A3-4AFF-BCCB-B11DC330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831-C1D9-42BA-8B1A-924E94CA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C437-3074-4B0A-9A4D-46862D7C6A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453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3"/>
          <p:cNvPicPr/>
          <p:nvPr/>
        </p:nvPicPr>
        <p:blipFill>
          <a:blip r:embed="rId1"/>
          <a:stretch/>
        </p:blipFill>
        <p:spPr>
          <a:xfrm>
            <a:off x="547560" y="274680"/>
            <a:ext cx="804708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4"/>
          <p:cNvPicPr/>
          <p:nvPr/>
        </p:nvPicPr>
        <p:blipFill>
          <a:blip r:embed="rId1"/>
          <a:stretch/>
        </p:blipFill>
        <p:spPr>
          <a:xfrm>
            <a:off x="1368360" y="274680"/>
            <a:ext cx="640728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24:26Z</dcterms:created>
  <dc:creator>Free User</dc:creator>
  <dc:description/>
  <dc:language>en-US</dc:language>
  <cp:lastModifiedBy>Tagreed</cp:lastModifiedBy>
  <dcterms:modified xsi:type="dcterms:W3CDTF">2014-05-29T09:10:11Z</dcterms:modified>
  <cp:revision>4</cp:revision>
  <dc:subject/>
  <dc:title>الشريحة 1</dc:title>
</cp:coreProperties>
</file>