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D137-2845-47E5-ADDF-D48A32F4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7BC-0AC2-4E6F-B3BF-B827A82E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92C-EAA0-4BAD-B139-F2C339BB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A3F-C8A0-4ECE-BAB8-E1427186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CB7B-C193-4493-9383-D2D28514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3913-4E60-40FC-BEEB-1B8887D2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710-78CD-4648-B14D-D828D869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021E-3944-41B7-B08A-68B2282C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8DD-13A9-4EE0-AB5A-41D6BD91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07DB-5384-481C-B8B9-A579ECE2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3379-FE4C-4781-903A-DDB6BD8C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464-6676-4EFE-9B96-BE8399FA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5F22-D9A6-4666-856E-704A03AD93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"/>
          <p:cNvPicPr/>
          <p:nvPr/>
        </p:nvPicPr>
        <p:blipFill>
          <a:blip r:embed="rId1"/>
          <a:stretch/>
        </p:blipFill>
        <p:spPr>
          <a:xfrm>
            <a:off x="324000" y="0"/>
            <a:ext cx="8569080" cy="6453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3"/>
          <p:cNvPicPr/>
          <p:nvPr/>
        </p:nvPicPr>
        <p:blipFill>
          <a:blip r:embed="rId1"/>
          <a:stretch/>
        </p:blipFill>
        <p:spPr>
          <a:xfrm>
            <a:off x="547560" y="274680"/>
            <a:ext cx="804708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4"/>
          <p:cNvPicPr/>
          <p:nvPr/>
        </p:nvPicPr>
        <p:blipFill>
          <a:blip r:embed="rId1"/>
          <a:stretch/>
        </p:blipFill>
        <p:spPr>
          <a:xfrm>
            <a:off x="1368360" y="274680"/>
            <a:ext cx="640728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9:24:26Z</dcterms:created>
  <dc:creator>Free User</dc:creator>
  <dc:description/>
  <dc:language>en-US</dc:language>
  <cp:lastModifiedBy>Tagreed</cp:lastModifiedBy>
  <dcterms:modified xsi:type="dcterms:W3CDTF">2014-05-29T09:10:11Z</dcterms:modified>
  <cp:revision>4</cp:revision>
  <dc:subject/>
  <dc:title>الشريحة 1</dc:title>
</cp:coreProperties>
</file>