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8F60-3020-4BFE-8E3F-FD1E47979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652C-73C0-44E8-89A5-39E31A7E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925F-FAA2-42B5-8B4B-922323055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CBBE-A2AD-4EF2-B08C-116E2A9A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3521-DFC1-4063-A933-9BD6F9FD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3A21-99DB-4FF1-8E86-849DE685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CF37-1C93-45C6-8A0E-8B2F013D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AE2E-37AF-4AD2-BA16-75D3CC15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5DEE-0D8C-4B75-8330-AC9D426A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5AD1-EE64-48EF-A13E-0EC80B8F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F047-BDEF-4771-A839-6CF155AD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ED8B-538D-4E15-BFF0-13705801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2229-08D2-4FB2-B256-3E2D61BA071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685800"/>
            <a:ext cx="9144000" cy="5486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7:55:06Z</dcterms:created>
  <dc:creator>Free User</dc:creator>
  <dc:description/>
  <dc:language>en-US</dc:language>
  <cp:lastModifiedBy>Tagreed</cp:lastModifiedBy>
  <dcterms:modified xsi:type="dcterms:W3CDTF">2014-05-29T09:11:16Z</dcterms:modified>
  <cp:revision>3</cp:revision>
  <dc:subject/>
  <dc:title>الشريحة 1</dc:title>
</cp:coreProperties>
</file>