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6536-0419-4751-873A-3A1D46B9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BAC-86B0-4247-A458-F77012F6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168-1AA7-4DA4-93BB-5FCFEDE8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942-BF90-4936-997C-D3A32C8C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F11-0BA1-4B89-8E9D-CD94616E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39C-D705-491B-9507-1040DE54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C0B9-810E-49D3-BF48-159458BA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D3DA-7824-4554-B30C-E2223301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3E9E-06E0-4EF2-8137-996B38B2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B3A-2AEC-46FC-9DC6-D1D5777E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B2C-CBD5-459C-BBAD-7F95EE95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32D9-A537-4FC2-80D4-6B32F952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EB03-BBDD-4CC2-ADB3-8313A53235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685800"/>
            <a:ext cx="914400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7:55:06Z</dcterms:created>
  <dc:creator>Free User</dc:creator>
  <dc:description/>
  <dc:language>en-US</dc:language>
  <cp:lastModifiedBy>Tagreed</cp:lastModifiedBy>
  <dcterms:modified xsi:type="dcterms:W3CDTF">2014-05-29T09:11:16Z</dcterms:modified>
  <cp:revision>3</cp:revision>
  <dc:subject/>
  <dc:title>الشريحة 1</dc:title>
</cp:coreProperties>
</file>