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9AE-7EB9-4A8D-A570-ADA9890E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CD6-63C7-4491-B748-71E4C097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994-D778-4226-8DEB-326D6C6A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B2C-C5A4-4998-A815-181E9EA1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18C-2B14-43ED-82EE-F1CB1696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D72-7092-438E-9FFC-496D3F7A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E6D-DAA9-4773-B457-534DFA62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6DE-0EDD-43C9-B693-6C85F968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2C5-35DE-4BDF-88CC-1BF3E24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27A-D685-458A-8D0D-0EBBD819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6D0-B361-4253-98C4-FAACCEC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B49-F96E-40EE-B8B9-902007D3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33C3-61E5-437F-A2F9-4FBEE5AEDF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685800"/>
            <a:ext cx="91440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5:06Z</dcterms:created>
  <dc:creator>Free User</dc:creator>
  <dc:description/>
  <dc:language>en-US</dc:language>
  <cp:lastModifiedBy>Tagreed</cp:lastModifiedBy>
  <dcterms:modified xsi:type="dcterms:W3CDTF">2014-05-29T09:11:16Z</dcterms:modified>
  <cp:revision>3</cp:revision>
  <dc:subject/>
  <dc:title>الشريحة 1</dc:title>
</cp:coreProperties>
</file>