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14A-3CE3-4AC7-A9BA-1B5303C4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CED5-0A93-452D-B6A5-C484D2D9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E8E-BD09-4316-8E07-04F4C01B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3FE-6F65-46B4-8191-86F92667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A44-A661-4F87-9996-89AC594A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10B-CC5B-4E02-A6AF-AD36A275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E8C-28ED-4BC9-AD5B-F9A9A36D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548-FFCE-4475-AA04-D0856672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415-4ECA-4401-A817-51CFEFF9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7F1-49E7-46E4-8520-BE59FEFB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76F-D953-468C-B369-15900C7F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87A-7F43-4DFB-BDFC-D3190CB6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0ED4-B530-4646-8010-081B66D866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685800"/>
            <a:ext cx="91440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7:55:06Z</dcterms:created>
  <dc:creator>Free User</dc:creator>
  <dc:description/>
  <dc:language>en-US</dc:language>
  <cp:lastModifiedBy>Tagreed</cp:lastModifiedBy>
  <dcterms:modified xsi:type="dcterms:W3CDTF">2014-05-29T09:11:16Z</dcterms:modified>
  <cp:revision>3</cp:revision>
  <dc:subject/>
  <dc:title>الشريحة 1</dc:title>
</cp:coreProperties>
</file>