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2D6-9D49-4D31-867A-96B929E7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6C3-A7AA-49B5-8EBE-ED32E873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34D-76E3-45DD-84DC-B25949B1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CE9-9A7C-4AE5-A870-9C171731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D7E-DC77-4BBD-B0CC-3F6A6E80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35E-1AC6-4B96-B2F0-498F025F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CF6-21BA-49D0-A59F-8E9DCAD1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15D-44F4-4262-9F3D-491A5C0A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9D2-9518-4CEC-80DD-9C347256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DEC-4FE3-416A-87FD-3E84BA57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632-E389-4096-9DF0-A07A05A4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E64-3302-4FCD-B176-C0F035B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126D-884F-40BC-8130-032D8EEE17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685800"/>
            <a:ext cx="91440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55:06Z</dcterms:created>
  <dc:creator>Free User</dc:creator>
  <dc:description/>
  <dc:language>en-US</dc:language>
  <cp:lastModifiedBy>Tagreed</cp:lastModifiedBy>
  <dcterms:modified xsi:type="dcterms:W3CDTF">2014-05-29T09:11:16Z</dcterms:modified>
  <cp:revision>3</cp:revision>
  <dc:subject/>
  <dc:title>الشريحة 1</dc:title>
</cp:coreProperties>
</file>