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ED3-4887-420A-96B0-4EA9A744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955-24A7-4FC1-8693-4ED6C73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A28-A836-434E-94E3-8631AC6B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6D3-D170-4AC8-97F2-833F8E01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342-9DBE-4BBC-A7A7-3426020F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A45-21CF-45CE-B11E-F0A6308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192-958A-4730-8595-3A695A9F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E14-A99D-46D1-AC9C-9145C54E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8F1-E952-4FF6-822A-6B5A1C4F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EC5-4384-475E-9AAD-1F62754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EE9-A2E2-4091-A196-82E5591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CE2-EAF0-4AE8-8D1D-6AC7B3C7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67B-7917-47B1-BDD4-C5B482F577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685800"/>
            <a:ext cx="91440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104760"/>
            <a:ext cx="9144000" cy="6648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7:55:06Z</dcterms:created>
  <dc:creator>Free User</dc:creator>
  <dc:description/>
  <dc:language>en-US</dc:language>
  <cp:lastModifiedBy>Tagreed</cp:lastModifiedBy>
  <dcterms:modified xsi:type="dcterms:W3CDTF">2014-05-29T09:11:16Z</dcterms:modified>
  <cp:revision>3</cp:revision>
  <dc:subject/>
  <dc:title>الشريحة 1</dc:title>
</cp:coreProperties>
</file>