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EE3-322D-4D29-98B3-8D2A6642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077-4A79-4D92-9131-8A81B56F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BFF-463C-4446-9CDB-DA1DAA5E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392-ED10-4187-9DC0-458C8A12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06A-2208-4E6E-90C7-E17CBBEF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BF8-A19D-413D-89ED-D83093E5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C89-2BF6-4438-8B29-C59B7A61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5DF-B255-46FE-A3FB-9F89A59F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0A3-905B-4912-B497-2C065A78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2BD-0D60-499C-9D0B-CE616FE6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61F-5827-43E4-973D-8E857C2D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BD0-12B0-4812-B571-A7550DBB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4A3F-82B0-4DA9-A766-F0C3E4607A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الشهادات 002"/>
          <p:cNvPicPr/>
          <p:nvPr/>
        </p:nvPicPr>
        <p:blipFill>
          <a:blip r:embed="rId1"/>
          <a:stretch/>
        </p:blipFill>
        <p:spPr>
          <a:xfrm>
            <a:off x="-1044720" y="0"/>
            <a:ext cx="10188720" cy="11350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الشهادات 011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الشهادات"/>
          <p:cNvPicPr/>
          <p:nvPr/>
        </p:nvPicPr>
        <p:blipFill>
          <a:blip r:embed="rId1"/>
          <a:stretch/>
        </p:blipFill>
        <p:spPr>
          <a:xfrm>
            <a:off x="785880" y="274680"/>
            <a:ext cx="810720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الشهادات 003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الشهادات 004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الشهادات 005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الشهادات 006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الشهادات 007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الشهادات 008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الشهادات 009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50:28Z</dcterms:created>
  <dc:creator>User</dc:creator>
  <dc:description/>
  <dc:language>en-US</dc:language>
  <cp:lastModifiedBy>Tagreed</cp:lastModifiedBy>
  <dcterms:modified xsi:type="dcterms:W3CDTF">2014-05-29T09:11:46Z</dcterms:modified>
  <cp:revision>3</cp:revision>
  <dc:subject/>
  <dc:title>الشريحة 1</dc:title>
</cp:coreProperties>
</file>