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C94-0248-4445-9D10-274CCE79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53D-9B3F-4D6E-8071-6D5E8BD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580-8AE8-4325-8504-7AA29717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084-CD9B-4CDB-9A91-3BA24861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95E-E3F0-42C2-BE9C-716FD17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833-B54A-4C82-9331-D68CE0A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671-2BE0-4381-9BE7-4C13E8E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515-66D8-407A-9E40-B93896E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EA5-6A7F-4D14-B3E3-BE83388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25D-2F78-4423-9425-7C33327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7EF-63F1-4BB6-B7F1-1390B22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34C-47DF-4565-94E4-F88FE07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8AEF-DA34-4AF7-B7AC-3DC3D6ED2D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الشهادات 002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1135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الشهادات 011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الشهادات"/>
          <p:cNvPicPr/>
          <p:nvPr/>
        </p:nvPicPr>
        <p:blipFill>
          <a:blip r:embed="rId1"/>
          <a:stretch/>
        </p:blipFill>
        <p:spPr>
          <a:xfrm>
            <a:off x="785880" y="274680"/>
            <a:ext cx="81072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الشهادات 003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الشهادات 004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الشهادات 005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الشهادات 006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الشهادات 007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الشهادات 008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الشهادات 009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0:28Z</dcterms:created>
  <dc:creator>User</dc:creator>
  <dc:description/>
  <dc:language>en-US</dc:language>
  <cp:lastModifiedBy>Tagreed</cp:lastModifiedBy>
  <dcterms:modified xsi:type="dcterms:W3CDTF">2014-05-29T09:11:46Z</dcterms:modified>
  <cp:revision>3</cp:revision>
  <dc:subject/>
  <dc:title>الشريحة 1</dc:title>
</cp:coreProperties>
</file>