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78F-D35A-4503-8D21-FF52C5D0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91F-C866-402A-914B-1F8060CE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D17-E1AA-455A-8971-75D09034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D1D-F4DC-4BE2-8590-2E8A3C15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607-17D5-41D1-9B62-92B3037D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29E-8A3A-4D81-A431-2B347F25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B12-E62E-4592-BAE3-C2639628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069-B7FA-41D6-85F3-35DC3C95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589-7B83-4C2B-B72A-65C49A18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A73-BF90-4F31-88E3-0A486C69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D21-8B56-48A7-BAC2-8CA6C812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EB4-AC56-4D8C-BDAA-600438A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E5F1-8C4C-4E7F-9D0F-72EDEFB4EA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الشهادات 002"/>
          <p:cNvPicPr/>
          <p:nvPr/>
        </p:nvPicPr>
        <p:blipFill>
          <a:blip r:embed="rId1"/>
          <a:stretch/>
        </p:blipFill>
        <p:spPr>
          <a:xfrm>
            <a:off x="-1044720" y="0"/>
            <a:ext cx="10188720" cy="1135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الشهادات 011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الشهادات"/>
          <p:cNvPicPr/>
          <p:nvPr/>
        </p:nvPicPr>
        <p:blipFill>
          <a:blip r:embed="rId1"/>
          <a:stretch/>
        </p:blipFill>
        <p:spPr>
          <a:xfrm>
            <a:off x="785880" y="274680"/>
            <a:ext cx="810720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الشهادات 003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الشهادات 004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الشهادات 005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الشهادات 006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الشهادات 007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الشهادات 008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الشهادات 009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50:28Z</dcterms:created>
  <dc:creator>User</dc:creator>
  <dc:description/>
  <dc:language>en-US</dc:language>
  <cp:lastModifiedBy>Tagreed</cp:lastModifiedBy>
  <dcterms:modified xsi:type="dcterms:W3CDTF">2014-05-29T09:11:46Z</dcterms:modified>
  <cp:revision>3</cp:revision>
  <dc:subject/>
  <dc:title>الشريحة 1</dc:title>
</cp:coreProperties>
</file>