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1E2-3033-4A42-AF9B-5B0FF7B1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E65-6506-44F4-8981-9B0FCC73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B3E-B22C-4657-BBC9-98E06829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44B-AA1C-416D-9CB6-FEF50A9F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5A8-8142-4A3E-99D4-EA503343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625-A0D7-4E6C-975C-5A65F005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E34-9667-4F48-AEC6-12FB84A8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2B0-D155-4620-BB87-FCAFA8F5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9E9-8717-4413-B342-29CFC13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D11-DEF2-4455-BB49-F35EF70D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39D-28A8-4C63-B7AA-C9D7E38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BC7-33CC-4BF6-BD27-C971196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348D-4194-4CC7-9F6A-53230F7363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الشهادات 002"/>
          <p:cNvPicPr/>
          <p:nvPr/>
        </p:nvPicPr>
        <p:blipFill>
          <a:blip r:embed="rId1"/>
          <a:stretch/>
        </p:blipFill>
        <p:spPr>
          <a:xfrm>
            <a:off x="-1044720" y="0"/>
            <a:ext cx="10188720" cy="1135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الشهادات 011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الشهادات"/>
          <p:cNvPicPr/>
          <p:nvPr/>
        </p:nvPicPr>
        <p:blipFill>
          <a:blip r:embed="rId1"/>
          <a:stretch/>
        </p:blipFill>
        <p:spPr>
          <a:xfrm>
            <a:off x="785880" y="274680"/>
            <a:ext cx="810720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الشهادات 003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الشهادات 004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الشهادات 005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الشهادات 006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الشهادات 007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الشهادات 008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الشهادات 009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585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50:28Z</dcterms:created>
  <dc:creator>User</dc:creator>
  <dc:description/>
  <dc:language>en-US</dc:language>
  <cp:lastModifiedBy>Tagreed</cp:lastModifiedBy>
  <dcterms:modified xsi:type="dcterms:W3CDTF">2014-05-29T09:11:46Z</dcterms:modified>
  <cp:revision>3</cp:revision>
  <dc:subject/>
  <dc:title>الشريحة 1</dc:title>
</cp:coreProperties>
</file>