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29B-DA5E-4589-8FF7-6B6E1D0A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549-BBA3-4631-B1B6-47009FB0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0493-9725-4AC2-97A3-8AC18835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984-D0EE-4860-9C53-00C212AE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9B13-0A01-4C79-926A-7CB7E3D2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1D32-BC07-4C52-B94A-DD50AEA8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1E5F-8067-4002-B147-D900F78B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CD0-570C-4B8F-892C-6CFAAA89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B12D-9689-46D4-AD0D-12C9E7F8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BF9-CA28-48CE-A568-AD3A711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744-FEE6-479F-A206-6664F6F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A53-57B6-49E0-B52D-210405BF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F14-6866-4EB8-A630-D11199A5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217-1E49-4B27-8880-ECEB502A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F9E-A42D-4D58-A032-198D0426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941-33B3-4768-A1C0-F597919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3BD-9F46-497B-9D0D-B0D7073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A88-53E7-4889-98FB-2982631A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0C4-CDD2-416C-BBB4-60B5EA2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809-DD0D-44F3-B7FB-8010DD7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18B-E8A8-4F55-86C8-2FAD83B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fd1"/>
            </a:gs>
            <a:gs pos="100000">
              <a:srgbClr val="fdf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7E3-2CDB-448A-9B0B-1D84385AC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KHAN\120x1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438280"/>
            <a:ext cx="449568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شجار المعرف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برنامج موهبة الصيفي لعام </a:t>
            </a: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2009</a:t>
            </a: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 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3200400" y="5410080"/>
            <a:ext cx="312408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1e4649"/>
                </a:solidFill>
                <a:latin typeface="Arial"/>
              </a:rPr>
              <a:t>د.مها حسن داغست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5" descr="شجرة الموهب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de0004"/>
          <p:cNvPicPr/>
          <p:nvPr/>
        </p:nvPicPr>
        <p:blipFill>
          <a:blip r:embed="rId1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de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lde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de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merghani</cp:lastModifiedBy>
  <dcterms:modified xsi:type="dcterms:W3CDTF">2009-07-29T05:13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