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C4C6-F9C8-4842-A325-0850E75C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0B85-D4A0-4B5E-95AB-D9BF83E73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3493-A4E1-4F40-932B-5B87A2FB2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6151-5FBD-48A4-94E8-4A12295DD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C0C4-EDB5-4A9A-B126-956D3142F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B7E7-AD99-44C6-A958-FFD68447B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2D6B-44CA-4E96-AA9F-016396669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4015-AEB5-4482-AB82-F29F05E51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C967-493E-4971-AFF9-40C36EB5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949-AB9F-437E-86F8-A3013597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4CE-0589-42BB-A4D1-6D702598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9F4-BD53-4011-9D0A-7C13342E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8B8-23E9-472D-B6DA-13556287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57E-8B9D-49F6-9CF2-56694553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00C-8B38-46C5-A6C1-7C1DF954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4FF-68D8-40F6-9529-2B3C6378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5EC-3A87-45DF-B48D-87F8EEAB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835-2918-44E3-B684-80EFA4F6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EEC-FC59-441D-9B0C-7B26B403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0C6-EDAB-4CB9-A1D7-D24393F5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CD3-9356-493B-899B-C7E9EDDE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fd1"/>
            </a:gs>
            <a:gs pos="100000">
              <a:srgbClr val="fdf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E4AD-F49A-47E7-A25E-1A38502F2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KHAN\120x1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920" y="2438280"/>
            <a:ext cx="449568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أشجار المعرف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9900"/>
                </a:solidFill>
                <a:latin typeface="Arial"/>
              </a:rPr>
              <a:t>برنامج موهبة الصيفي لعام </a:t>
            </a:r>
            <a:r>
              <a:rPr b="1" lang="ar-SA" sz="3200" spc="-1" strike="noStrike">
                <a:solidFill>
                  <a:srgbClr val="669900"/>
                </a:solidFill>
                <a:latin typeface="Arial"/>
              </a:rPr>
              <a:t>2009</a:t>
            </a:r>
            <a:r>
              <a:rPr b="1" lang="ar-SA" sz="3200" spc="-1" strike="noStrike">
                <a:solidFill>
                  <a:srgbClr val="669900"/>
                </a:solidFill>
                <a:latin typeface="Arial"/>
              </a:rPr>
              <a:t> 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5"/>
          <p:cNvSpPr/>
          <p:nvPr/>
        </p:nvSpPr>
        <p:spPr>
          <a:xfrm>
            <a:off x="3200400" y="5410080"/>
            <a:ext cx="312408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1e4649"/>
                </a:solidFill>
                <a:latin typeface="Arial"/>
              </a:rPr>
              <a:t>د.مها حسن داغست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5" descr="شجرة الموهبة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lde0004"/>
          <p:cNvPicPr/>
          <p:nvPr/>
        </p:nvPicPr>
        <p:blipFill>
          <a:blip r:embed="rId1"/>
          <a:stretch/>
        </p:blipFill>
        <p:spPr>
          <a:xfrm>
            <a:off x="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lde0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Slde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lde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merghani</cp:lastModifiedBy>
  <dcterms:modified xsi:type="dcterms:W3CDTF">2009-07-29T05:13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