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0BA-46EA-44FA-95E0-C387EDC4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A7B-34D3-42C9-8D9A-5FB9DE31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0B31-7B1A-4902-ADD9-45028DC1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B44-6B92-46D6-864B-2A5D5C69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2DF1-C208-4CE1-8601-60B60E1D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D2EB-C461-40B5-B54E-DAA476E8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87B8-4F74-41F8-BBC0-CA92D83A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DA7E-DDBA-414C-AFB8-754E687C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A05D-2FF6-42FA-B6B7-5FAD245A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845C-E919-4AB3-A4D6-90D96854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AEE2-BB31-4F6F-A031-A1EC694C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531-F0E4-4F7C-B9FD-A413B293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28E0-EA5A-4984-998D-E2814EAD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B935-1036-4817-898B-729B8D79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5CC5-0125-4B30-8229-693A0230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AD47-2E8A-4410-9672-E62B64AC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5609-F0B3-41DD-B5C5-9C09CC3C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0D2D9-8D9F-4400-BDFA-85733764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104F6-F335-4CF0-8B9A-8675F088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4C7BC-8288-46CD-AF7E-304CE24F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EDD19-F6CD-4447-8D9A-D18BCEF1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95C69-B98A-4409-9FBF-5F020B71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6FCE-AFB0-407F-AE14-EB55034C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A3837-C3FA-4AFB-AE3D-534226A0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4D808-0C00-4BB4-8DD9-CB9A42FA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33742-E35E-432A-8925-7F4D53EA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9A4C8-1F82-4D51-BB7B-10C072BC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DA7D2-3768-40D8-A148-BE7E2927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772B6-A410-4280-AB7A-6514F322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8F556-709A-4D0D-8F98-78804496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24175-5419-4732-87FB-4654F527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508B5-9B04-4906-9116-22AAD3BD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FC234-C1F2-40F7-B198-B58FC9B7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F5D-0541-4B7C-B174-6E7D9DFC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5A565-0D34-41BC-990D-5C2414F1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0CA08-9E75-4645-8ED1-04497692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792ED-F205-4F84-9D3D-4CAF3D2C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65D48-41AF-4EF8-92B9-DC843564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EA6A3-DF94-4B3E-B32E-55A8215F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0347D-D12F-4114-815D-0CBAC694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CAE7E-DED2-4720-BE27-8E8181D4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0CCF0-80E6-4ADB-8373-82F7D29A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B8B10-C121-40BE-BD48-AE8494D6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8E2416-59AA-47E5-AE33-1BB7424B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017F-F20C-4569-9232-C75D316B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D83C84-D658-4E93-83B7-57C4536A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2C6724-9070-4691-A7D0-788A50F1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41890-6DF6-4326-AF1C-20D5F327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127B5A-F174-41E5-9F10-265CCE15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557C5-7353-4105-8984-FC4D80EF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961CE3-A24A-4489-8597-D79C3A9F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A2445E-77EF-4EB9-9A56-CAD7EC3A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266BA3-51C6-44F7-8616-F1917F5A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3F7875-8A4C-4E1D-8FAF-7B6530CA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97EC6-2E63-4885-AD7B-71155C57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BCA-6204-41DF-AC3B-F1328B21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AE7F3D-F83D-4830-A252-03188E63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B8AD10-8C7A-4615-8FA3-D1797442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84197D-AE4A-4611-9002-435057BD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73C5C3-8931-4DA3-BD21-4EAA066B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588836-9C60-47A0-BBD3-4D0C3520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17AA55-B6D2-41A3-B97D-7D21AA40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E0FF6B-9827-433B-84A5-83D98F3E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68A3F5-BA49-4856-8B36-497BB717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ABC938-D80B-4FDF-8217-AD891A53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940245-D371-410B-A6E6-F85C511C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EAB-00F2-449E-9A69-E2C11285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12EA7-EB85-4D18-9721-30DD43D3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897BBB-ECF0-4E35-9EE8-807910C1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743AE4-4754-4819-BB32-9387C044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E13810-6B02-4C17-AD82-152FA1E2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56B645-E404-4FBB-AD7A-5EBF65DA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C53107-8DE2-40CB-9BE6-F12C3931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5B44CF-DBAB-4B15-ABD0-A7363FE7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BE8519-55D2-4A7D-86C8-92536032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B3E2FF-C1FB-4E51-9D77-44F470A3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5F87F3-B64C-4B2C-8444-7CBD8A31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A6FC-BCD5-42E8-AC54-D3CD7A06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AA3741-151E-4234-B928-32323AF2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01E455-2CB9-4100-AED3-9AB4D568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2C5A17-3128-4DD1-A6B2-7508FABE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104852-008B-4B9B-B05C-7E7691DD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409655-5ECB-46FF-8145-79D6700B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B86E-B238-4A48-AA3A-9724CD45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2FFD-80CF-4E1F-AA8D-CF187F7779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DEED-A08E-4826-8A56-1AB540A217E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DBFA-FA48-4BD4-AA0E-A4CF19E80C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C7DB-DD12-43FE-B940-1530B23AB5D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C376-CE3D-421B-A1FE-FEE3AE1EFA9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5C75-4F66-4D6D-89CE-E7352762179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D705-8804-4965-8E35-1396D8CE7E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الاستعداد للقراءة والكتابة</a:t>
            </a:r>
            <a:br>
              <a:rPr sz="3600"/>
            </a:br>
            <a:r>
              <a:rPr b="1" lang="ar-SA" sz="36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مشكلات القراءة والكتابة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إعداد الطفل للكتابة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عملية الكتابة تطلب التنسيق بين اكثر من جهاز وقدرة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قدرة على التحكم في عضلات اليد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توافق الحركي والعصبي والعضلي لحركة اصابع اليد مع حركة العينين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تدريب على اتجاه الكتابة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إعداد الطفل للكتابة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من مظاهر النضج الحركي استخدام  الطفل عدة ادوات للكتابة مثل الالوان الشمعية  والفلوماستر والفرشاة وقلم الرصاص ويجب ان يتدرب الطفل على التحكم بها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وبالنسبة للورق يفضل استخدام الورق السادة في البداية وان تكون المساحة كبيرة وغير محدده ..وبعدها يمكن الانتقال الى الورق المسطر او تحديد مكان الكتابة بالنسبة للطفل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طفل الاعسر: يجب عدم ارغامه على الكتابة باليد اليمنى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انشطة التدريب على الكتابة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في الروضة مجال واسع لذلك من خلال الرسم والتشكيل والعب البناء والفك والتركيب، اللعب بالرمل ، تحسس الحروف المجسمة،  التدريب الحر على الكتاب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ومن اهم الانشطة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ركيب قطع الاحاجي والدومينو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تشكيل بالصلصال والعجين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ضم الخرز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ستخدام المقصات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صق الخامات المستهلكة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مكعبات وخصوصا الصغيرة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نشطة خدمة الذات: اغلاق الازرار- ربط الحذاء- اغلاق المشابك.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دمى اليد والاصابع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575f6d"/>
                </a:solidFill>
                <a:latin typeface="Century Schoolbook"/>
                <a:cs typeface="Times New Roman"/>
              </a:rPr>
              <a:t>مشكلات القراءة والكتابة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مشكلات تتعلق بالحروف العربية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قارب بعض الحروف في النطق (ت ط) (س ص) ( ك ق) ( ث ذ)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شابه بعض الحروف في الشكل (ت ث ب) (ج ح خ) (د ذ) (س ش) (غ ع).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عدد اشكال بعض الحروف مثل (هـ - ـــه ) (ك –كــ)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عددصور الحرف في اول الكلمة ووسطها واخرها (يـ ، ـيــ ، ــــي)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حركات واهمتيها في نطق الكلمة ( صعوبة القراءة بدون حركات)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تنوين وهو صوت ينطق ولا يرسم في الكلمة 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هناك حروف تكتب ولا تلفظ مثل ( ذهبوا- عمرو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هناك حروف تلفظ ولا تكتب مثل ( هذا – التي- الذين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ختلاف نطق الحروف باختلاف الحرك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بعض الحروف تنطق بطرق مختلفة مثل ( شجرة) تنطق هـ عند الوقف ، وتنطق ت في مواضع اخرى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تعليم الطفل القراءة قبل ان يكون مستعد لها يؤدي الى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طالة مدة التدريب واجهاد الطفل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ورفع تكلفة التعليم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تكوين اتجاهات سلبية نحو القراء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قد يعطل عملية التعلم حتى بعد ان يبلغ الطفل مستوى الاستعداد المطلو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عوامل الاستعداد للقراءة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استعداد العقلي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استعداد الجسمي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استعداد الشخصي والانفعالي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استعداد في الخبرات والقدرا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الاستعداد العقلي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عمر العقلي للطفل له علاقة قوية بالاستعداد للقراءة والكتابة لما تتطلبه هاتان العمليتان من درجة معينة من الذكاء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عمر العقلي ليس العامل الوحيد فهناك عوامل اخرى تتداخل معه ، منها المناخ التربوي في غرفة الصف، ومهارة المعلم وعدد الاطفال  و المنهج المستخد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الاستعداد الجسمي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entury Schoolbook"/>
                <a:cs typeface="Times New Roman"/>
              </a:rPr>
              <a:t>استعداد البصر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تطلب القراءة القدرة على ملاحظة الفروق بين الاحرف والكلمات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بصر قد يكون سويا لكن ادراك الطفل للمرئيات لم يبلغ نضجه الكافي، كأن يركز الطفل على الشكل الخارجي ويهمل التفاصيل والفروقات الصغيرة بين الاشكال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كما يلاحظ الطفل الحروف او الكلمات بطريقة معكوسة فيرى (ن) وكأنها (ب) وكلمة (رز) يراها (زر)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تطلب القراءة تدريب العين على الاتجاه الصحيح اثناء القراءة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تابع الاستعداد الجسمي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استعداد السمع والنطق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حتى لو كانت حاسة السمع سليمة فإن الطفل يحتاج  الى الدقة في التمييز السمعي التي تمكنه من تمييز الاصوات والتعرف على المتشابه والمختلف وهذه القدرة اساسية في تعلم القراءة ( مثل التمييز بين ص س – د ت ...) والاطفال يحبون العاب التمييز السمعي ويستمتعون بالسجع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كما ان المشكلة احيانا تكون في نطق بعض الحروف مثل ( ش تنطق س) او  ( النب بدلا من ارنب)..ومع الوقت يتغلب الاطفال على هذه الصعوب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تابع الاستعداد الجسمي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الصحة العامة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علم القراءة عملية ليست سهلة ووتطلب انتباه وتركيز في كل مهارة فرعية لها، ويجب ان يكون الطفل سليم جسديا وتكون لديه الطاقة الكافية للتعلم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685800"/>
            <a:ext cx="7467480" cy="57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ثالثاً: الاستعداد الشخصي والانفعالي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رابعاً: الاستعداد في الخبرات والقدرات</a:t>
            </a:r>
            <a:r>
              <a:rPr b="1" lang="ar-SA" sz="32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سعة القاموس اللغوي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معاني والمفاهي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غة الحديث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قدرة على ادراك المختلف والمؤتل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قدرة على تذوق سلسلة من الافكا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رغبة في القراء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مهارات فرعية هامة للقراءة والكتابة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تنمية المهارات البصر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تنمية المهارات السمع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تنمية المهارات الحرك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مواقف تتطلب حل المشكلات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0:01:47Z</dcterms:created>
  <dc:creator>Guest</dc:creator>
  <dc:description/>
  <dc:language>en-US</dc:language>
  <cp:lastModifiedBy>H S</cp:lastModifiedBy>
  <dcterms:modified xsi:type="dcterms:W3CDTF">2014-01-26T19:34:01Z</dcterms:modified>
  <cp:revision>9</cp:revision>
  <dc:subject/>
  <dc:title>Slide 1</dc:title>
</cp:coreProperties>
</file>