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439-D4AB-40E4-8DD3-66DF9ADF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6A0-1834-43A0-9FDC-E1B01FF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650-E84C-4BBE-8D90-1F46478C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C80-17B6-42C9-B33F-96C324D1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C3C2-4517-4F64-B374-1398AB12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0126-66B0-4409-B29F-2854F1B4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A963-7A65-46F3-8F8F-06696190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776C-2B97-4FB1-BB01-913E932B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3F3C-BCA9-4A8D-8FF5-671CDE36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ABB1-07F0-4ED9-94F6-A3F95BF7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2646-A118-44AF-A86A-4736748F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A6A-2BA8-4EFE-9429-66D24E37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F68C-C4AB-4207-A03D-B32AE275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0FE9-6FEA-46F4-B107-08D77EA8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AF02-7ADD-4321-A9B0-82BEEEE0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60EC-1DD7-4841-A675-CA6D38F1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784A-0A62-46A6-8F67-34F34BC4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568A2-9E60-44FB-B4A3-57318804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1541B-B19C-4DC8-BC34-B2413E2F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78F56-738B-46F0-AC40-40B84850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1E8F0-6A46-4E7A-BA5F-D66739BD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E5797-993F-41B9-85AB-A7018285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F7A-AB62-4576-93FC-A2CE4AF5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26E6B-3DE6-4AEA-80A9-0015B6DA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3D6E6-824A-43DD-82D2-A6BE4B90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D9DAF-1218-400F-B803-EE163D35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519D3-792A-478B-A745-753FBC4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F026F-C4E9-4D4D-AA56-F00E61E0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84F62-6C83-40AD-84DF-41E126A1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7A7BF-6F03-4F4D-BB9A-1A91FB84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A9A6-3B11-4891-96D3-DBF58AC5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8C310-5078-41BB-BF6A-AA32148B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AB7F2-5CCB-4FCC-9567-591038A6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DC3-B348-4C40-9B91-C9B86777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0DFA8-0BC8-4E42-B386-6F7CD674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697F7-6CEE-4C2B-8304-381AE043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4F86C-C64F-4D77-980D-A78FC1A4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289C8-84DD-4AB2-91B2-314E1713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69080-A181-4E11-B3F3-2A811E9B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CFB59-BBF0-4D7C-81CC-7DBAFBCF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7624-5743-4414-BF2F-5F758784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6278D-3936-4F05-AEB1-AFC8C641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DEEBA-2585-4AF7-8843-350B1787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6721D-2B1A-43D9-9022-46FBB2B3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F70-3E25-484F-A04A-9A7B1B5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E06F0-0035-48E3-967B-3F52E930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4B1D4-5441-4A08-B38E-6BC82535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C3EC4-3404-48D5-A9FF-DD66DD7C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35617-7549-4A12-8EC1-859E5BE3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743DD-4B6D-4BF8-908C-0160C1E2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D744D-6FD6-4295-A168-7E704613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8D562-A319-4B23-B1E4-E0D66BF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004A2-2B63-4DBA-8287-27040A6A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C7A74-ADA2-47DA-BC3E-CA4328B3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E4C05-823F-4F4D-A7BB-FFB52BD6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FEA-1FD6-4B74-92A6-C82B023E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10FB7-6DB5-491A-8A84-D1585D74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9CA39-9402-40EB-8ABE-739841AD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3B548-A593-4992-BEF3-E2CD3B55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E2372-51AB-4469-AFE7-AC357DF3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ABCE94-37B7-45EA-9119-0F0EC500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B2BE9-BF0A-4251-8D5A-878D8DC9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43998-C581-43AC-84ED-F0D67BE9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19BA4-2187-4D5A-92EA-FC7B2770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277B2-4549-43F6-BF2B-9F1FA46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CD818-6740-401F-BB82-8E6C6B32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98E-1D41-49FA-9566-F03D5B5A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6682D-46BA-4F4A-A566-94AC44B0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11BF5-A46C-4001-8BC1-ACC2CF6A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1BB88-B35A-47F1-8F30-5242B140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F32CC-94D6-4868-B4BA-D444032C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AAF8B-3888-48CF-B12A-BC490E7F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746A9-DB6D-4231-B840-8A0263A4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3F191-6443-4CE8-82FD-454657FC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38DBF-5DEA-4B00-A997-A397FD10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C5C3C-4389-4A55-87DB-9DFF67B7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4B166-C314-4CE2-8371-3B91360D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659-8A20-4F38-AF85-B3544DAF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25E1F1-CDC2-4CE4-99DD-C8FC586C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337880-AC3A-4D9A-89A6-B1B0CAE9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EE86A-B2EB-4E9F-B20A-05B1234B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98D09-4F3E-46F5-A732-C8C01A8A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50E60-9A6F-42C6-BF8F-9075B708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3FB-AE79-4FB3-BB78-75CEB22D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A0CF-1873-468C-8BF3-2E01FF0601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D6E-CFE9-4F12-B116-91A1AC8EF9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B44-7E25-4FCF-9E32-4392F6B7AB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802C-6894-4D17-BDFC-E9BB79878D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F8E7-28C8-4F31-90B7-4DC4D54150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4A39-051A-4AE0-8181-1B3E586E93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8E7D-115C-4ACD-B5A2-DAC021FE3A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لاستعداد للقراءة والكتاب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مشكلات القراءة والكتابة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إعداد الطفل للكتابة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عملية الكتابة تطلب التنسيق بين اكثر من جهاز وقدرة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قدرة على التحكم في عضلات الي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وافق الحركي والعصبي والعضلي لحركة اصابع اليد مع حركة العينين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دريب على اتجاه الكتابة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إعداد الطفل للكتابة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ن مظاهر النضج الحركي استخدام  الطفل عدة ادوات للكتابة مثل الالوان الشمعية  والفلوماستر والفرشاة وقلم الرصاص ويجب ان يتدرب الطفل على التحكم بها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وبالنسبة للورق يفضل استخدام الورق السادة في البداية وان تكون المساحة كبيرة وغير محدده ..وبعدها يمكن الانتقال الى الورق المسطر او تحديد مكان الكتابة بالنسبة للطف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طفل الاعسر: يجب عدم ارغامه على الكتابة باليد اليمن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نشطة التدريب على الكتاب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في الروضة مجال واسع لذلك من خلال الرسم والتشكيل والعب البناء والفك والتركيب، اللعب بالرمل ، تحسس الحروف المجسمة،  التدريب الحر على الكتاب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ومن اهم الانشطة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ركيب قطع الاحاجي والدومينو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شكيل بالصلصال والعجين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ضم الخر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ستخدام المقصات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صق الخامات المستهلكة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مكعبات وخصوصا الصغيرة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نشطة خدمة الذات: اغلاق الازرار- ربط الحذاء- اغلاق المشابك.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دمى اليد والاصاب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75f6d"/>
                </a:solidFill>
                <a:latin typeface="Century Schoolbook"/>
                <a:cs typeface="Times New Roman"/>
              </a:rPr>
              <a:t>مشكلات القراءة والكتاب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مشكلات تتعلق بالحروف العربية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قارب بعض الحروف في النطق (ت ط) (س ص) ( ك ق) ( ث ذ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شابه بعض الحروف في الشكل (ت ث ب) (ج ح خ) (د ذ) (س ش) (غ ع).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دد اشكال بعض الحروف مثل (هـ - ـــه ) (ك –كــ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ددصور الحرف في اول الكلمة ووسطها واخرها (يـ ، ـيــ ، ــــي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حركات واهمتيها في نطق الكلمة ( صعوبة القراءة بدون حركات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نوين وهو صوت ينطق ولا يرسم في الكلمة 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ناك حروف تكتب ولا تلفظ مثل ( ذهبوا- عمرو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هناك حروف تلفظ ولا تكتب مثل ( هذا – التي- الذين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ختلاف نطق الحروف باختلاف الحرك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بعض الحروف تنطق بطرق مختلفة مثل ( شجرة) تنطق هـ عند الوقف ، وتنطق ت في مواضع اخرى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عليم الطفل القراءة قبل ان يكون مستعد لها يؤدي الى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طالة مدة التدريب واجهاد الطفل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ورفع تكلفة التعليم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تكوين اتجاهات سلبية نحو القراء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قد يعطل عملية التعلم حتى بعد ان يبلغ الطفل مستوى الاستعداد المطلو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عوامل الاستعداد للقراءة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استعداد العقل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استعداد الجسم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استعداد الشخصي والانفعال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استعداد في الخبرات والقدر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لاستعداد العقلي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عمر العقلي للطفل له علاقة قوية بالاستعداد للقراءة والكتابة لما تتطلبه هاتان العمليتان من درجة معينة من الذكا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عمر العقلي ليس العامل الوحيد فهناك عوامل اخرى تتداخل معه ، منها المناخ التربوي في غرفة الصف، ومهارة المعلم وعدد الاطفال  و المنهج المستخد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لاستعداد الجسمي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Times New Roman"/>
              </a:rPr>
              <a:t>استعداد البصر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تطلب القراءة القدرة على ملاحظة الفروق بين الاحرف والكلمات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بصر قد يكون سويا لكن ادراك الطفل للمرئيات لم يبلغ نضجه الكافي، كأن يركز الطفل على الشكل الخارجي ويهمل التفاصيل والفروقات الصغيرة بين الاشكال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كما يلاحظ الطفل الحروف او الكلمات بطريقة معكوسة فيرى (ن) وكأنها (ب) وكلمة (رز) يراها (زر)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تطلب القراءة تدريب العين على الاتجاه الصحيح اثناء القراءة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ابع الاستعداد الجسمي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ستعداد السمع والنطق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حتى لو كانت حاسة السمع سليمة فإن الطفل يحتاج  الى الدقة في التمييز السمعي التي تمكنه من تمييز الاصوات والتعرف على المتشابه والمختلف وهذه القدرة اساسية في تعلم القراءة ( مثل التمييز بين ص س – د ت ...) والاطفال يحبون العاب التمييز السمعي ويستمتعون بالسجع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كما ان المشكلة احيانا تكون في نطق بعض الحروف مثل ( ش تنطق س) او  ( النب بدلا من ارنب)..ومع الوقت يتغلب الاطفال على هذه الصعوب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ابع الاستعداد الجسمي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الصحة العامة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لم القراءة عملية ليست سهلة ووتطلب انتباه وتركيز في كل مهارة فرعية لها، ويجب ان يكون الطفل سليم جسديا وتكون لديه الطاقة الكافية للتعلم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685800"/>
            <a:ext cx="746748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ثالثاً: الاستعداد الشخصي والانفعالي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رابعاً: الاستعداد في الخبرات والقدرات</a:t>
            </a:r>
            <a:r>
              <a:rPr b="1" lang="ar-SA" sz="32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سعة القاموس اللغو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معاني والمفاهي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غة الحديث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قدرة على ادراك المختلف والمؤتل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قدرة على تذوق سلسلة من الافكا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رغبة في القراء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مهارات فرعية هامة للقراءة والكتابة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نمية المهارات البصر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نمية المهارات السمع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تنمية المهارات الحرك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entury Schoolbook"/>
                <a:cs typeface="Times New Roman"/>
              </a:rPr>
              <a:t>مواقف تتطلب حل المشكلات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0:01:47Z</dcterms:created>
  <dc:creator>Guest</dc:creator>
  <dc:description/>
  <dc:language>en-US</dc:language>
  <cp:lastModifiedBy>H S</cp:lastModifiedBy>
  <dcterms:modified xsi:type="dcterms:W3CDTF">2014-01-26T19:34:01Z</dcterms:modified>
  <cp:revision>9</cp:revision>
  <dc:subject/>
  <dc:title>Slide 1</dc:title>
</cp:coreProperties>
</file>