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F13-AD2B-48AF-8EA3-9A49D5DA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DFC-2C19-414F-8745-85E71C74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CF0-13F8-4DF1-AAB9-A9B9C998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3CD-8103-438E-BB5D-BF646471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6500-2B28-4A91-AC6C-B2614397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A737-AE14-4882-8EF1-835358FA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92DF-8A73-497C-BBFE-C4B6B851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52C1-27FE-4D90-B1EB-3BF7FCD5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DB23-3AD1-42AC-8565-3BEAF266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4EEB-28F7-49A2-A78D-3A67ECB1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7F25-9329-4FB9-AC30-4DAB2D8F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22F-416C-433F-9129-A350760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8BAD-9390-43C4-94F4-15344016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01A2-91F8-4EC6-93DF-CD6F151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89AF-64FB-49FF-ABF3-7FBA08CD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940E-C921-4987-890A-BB733633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09F2-365E-4AEE-BA9B-DE787D82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3C6B-4B6E-4BAA-935D-F05ACA61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C6CE-C231-461C-A8B9-0C9EA409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C5CC-641A-469D-8388-3033FF3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163B-C6C0-400D-95F5-6C406983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0F26-C746-402C-8115-DAE31C70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033-F65C-4D44-B298-4A3464F5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BD9A-00E9-4F11-82EC-3658F7FD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7F43-E415-4BF9-9BDA-40446D6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75E8-D248-4288-BE15-72E6436A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BC86F-4149-4847-BED6-379EECD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1D89-D2E0-47D3-A341-F7A3EACF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2CC1-E912-45C8-912D-C5CBC220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B635-3FD2-4C81-883E-72796A7D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CCB1-A098-4DB2-95C1-239DF7ED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C9A0-0429-4C9A-B985-D8BDB545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7C7CE-02F6-4CA3-85A5-79107092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6C6-69ED-4277-9876-24905C2A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2E64-C8F9-4230-8121-93F40618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2598-30B0-4F6B-AFF7-294F0E8C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81DD-A406-48D3-97FC-E052C63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F1D1-0BF5-43F5-A537-62BA4A6E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322F-4808-4611-8D7F-A523BE5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0A70-0729-4BDB-9C7F-17174587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AC5B-56A7-44AF-BAE7-1F6C78C8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00817-CEEE-4337-8BA4-6F275DF6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C0D7-63B3-4087-A20A-E288C38C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5098B-3D59-460C-8C0F-963BD35B4E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5F3-F972-4186-9481-6C90677A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D8038-A39D-4928-B179-8852EA9A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606CE-D652-4777-BBBB-4160B801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920EA-1136-4442-87B6-25A507EF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6F9BC-5366-43FA-9CD6-B1794B40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8AFEF-D3ED-48E4-93E1-7B9C1A9E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AA74B-1C72-4504-BAD5-BC9E39EA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01A843-81A8-44FB-A999-1D97D168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E338D-1035-4CA4-95F2-5C72E874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7F3C8-DA39-49C2-9C22-A3497A01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59A86-F995-41E0-AC12-BF58AB3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6BE-572A-4B83-9E3A-E0A0E8A8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AD3E4-09B2-4D47-A548-6280121088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E03-7DDF-4322-BA16-40B6A03D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E4A-27D7-4B60-BEB4-342FBDBF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82A-83B1-4A88-8044-A8FAE50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5" name="Oval 7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6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8" name="Oval 8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D00B-9A41-40BF-83CD-94BC99B6B490}" type="slidenum">
              <a:rPr b="1" lang="ar-SA" sz="14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Rectangle 9"/>
          <p:cNvGrpSpPr/>
          <p:nvPr/>
        </p:nvGrpSpPr>
        <p:grpSpPr>
          <a:xfrm>
            <a:off x="920880" y="1347840"/>
            <a:ext cx="10223280" cy="79200"/>
            <a:chOff x="920880" y="1347840"/>
            <a:chExt cx="10223280" cy="79200"/>
          </a:xfrm>
        </p:grpSpPr>
        <p:pic>
          <p:nvPicPr>
            <p:cNvPr id="47" name="Rectangle 9" descr=""/>
            <p:cNvPicPr/>
            <p:nvPr/>
          </p:nvPicPr>
          <p:blipFill>
            <a:blip r:embed="rId2"/>
            <a:stretch/>
          </p:blipFill>
          <p:spPr>
            <a:xfrm>
              <a:off x="920880" y="1349280"/>
              <a:ext cx="1022328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20880" y="1347840"/>
              <a:ext cx="1022328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49" name="Rectangle 10"/>
          <p:cNvGrpSpPr/>
          <p:nvPr/>
        </p:nvGrpSpPr>
        <p:grpSpPr>
          <a:xfrm>
            <a:off x="920880" y="4297320"/>
            <a:ext cx="10223280" cy="85680"/>
            <a:chOff x="920880" y="4297320"/>
            <a:chExt cx="10223280" cy="85680"/>
          </a:xfrm>
        </p:grpSpPr>
        <p:pic>
          <p:nvPicPr>
            <p:cNvPr id="50" name="Rectangle 10" descr=""/>
            <p:cNvPicPr/>
            <p:nvPr/>
          </p:nvPicPr>
          <p:blipFill>
            <a:blip r:embed="rId3"/>
            <a:stretch/>
          </p:blipFill>
          <p:spPr>
            <a:xfrm>
              <a:off x="920880" y="4297320"/>
              <a:ext cx="102232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20880" y="4299120"/>
              <a:ext cx="1022328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920880" y="1487520"/>
            <a:ext cx="10223280" cy="2742840"/>
            <a:chOff x="920880" y="1487520"/>
            <a:chExt cx="10223280" cy="274284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920880" y="1490400"/>
              <a:ext cx="1022328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20880" y="1487520"/>
              <a:ext cx="1022328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5" name="Group 12"/>
          <p:cNvGrpSpPr/>
          <p:nvPr/>
        </p:nvGrpSpPr>
        <p:grpSpPr>
          <a:xfrm>
            <a:off x="9648720" y="4068720"/>
            <a:ext cx="1081080" cy="1081080"/>
            <a:chOff x="9648720" y="4068720"/>
            <a:chExt cx="1081080" cy="1081080"/>
          </a:xfrm>
        </p:grpSpPr>
        <p:grpSp>
          <p:nvGrpSpPr>
            <p:cNvPr id="56" name="Oval 13"/>
            <p:cNvGrpSpPr/>
            <p:nvPr/>
          </p:nvGrpSpPr>
          <p:grpSpPr>
            <a:xfrm>
              <a:off x="9648720" y="4068720"/>
              <a:ext cx="1081080" cy="1081080"/>
              <a:chOff x="9648720" y="4068720"/>
              <a:chExt cx="1081080" cy="1081080"/>
            </a:xfrm>
          </p:grpSpPr>
          <p:pic>
            <p:nvPicPr>
              <p:cNvPr id="57" name="Oval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9648720" y="4068720"/>
                <a:ext cx="108108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9806400" y="4229280"/>
                <a:ext cx="765720" cy="76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59" name="Oval 14"/>
            <p:cNvSpPr/>
            <p:nvPr/>
          </p:nvSpPr>
          <p:spPr>
            <a:xfrm>
              <a:off x="9756000" y="4179240"/>
              <a:ext cx="866520" cy="8614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9593280" y="4289040"/>
            <a:ext cx="1193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2846-EDA4-410E-BC5E-DB368FD828E5}" type="slidenum">
              <a:rPr b="1" lang="ar-SA" sz="28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9"/>
          <p:cNvGrpSpPr/>
          <p:nvPr/>
        </p:nvGrpSpPr>
        <p:grpSpPr>
          <a:xfrm>
            <a:off x="0" y="4919760"/>
            <a:ext cx="12192120" cy="1938240"/>
            <a:chOff x="0" y="4919760"/>
            <a:chExt cx="12192120" cy="1938240"/>
          </a:xfrm>
        </p:grpSpPr>
        <p:pic>
          <p:nvPicPr>
            <p:cNvPr id="102" name="Rectangle 9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1219212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919760"/>
              <a:ext cx="121921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896760" y="2325600"/>
            <a:ext cx="1081440" cy="1081080"/>
            <a:chOff x="896760" y="2325600"/>
            <a:chExt cx="1081440" cy="1081080"/>
          </a:xfrm>
        </p:grpSpPr>
        <p:grpSp>
          <p:nvGrpSpPr>
            <p:cNvPr id="105" name="Oval 11"/>
            <p:cNvGrpSpPr/>
            <p:nvPr/>
          </p:nvGrpSpPr>
          <p:grpSpPr>
            <a:xfrm>
              <a:off x="896760" y="2325600"/>
              <a:ext cx="1081440" cy="1081080"/>
              <a:chOff x="896760" y="2325600"/>
              <a:chExt cx="1081440" cy="1081080"/>
            </a:xfrm>
          </p:grpSpPr>
          <p:pic>
            <p:nvPicPr>
              <p:cNvPr id="106" name="Oval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96760" y="2325600"/>
                <a:ext cx="108144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055520" y="2481120"/>
                <a:ext cx="761760" cy="76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8" name="Oval 12"/>
            <p:cNvSpPr/>
            <p:nvPr/>
          </p:nvSpPr>
          <p:spPr>
            <a:xfrm>
              <a:off x="1005480" y="2431080"/>
              <a:ext cx="861840" cy="866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8593200" y="6272280"/>
            <a:ext cx="264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182680" y="6272280"/>
            <a:ext cx="632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43120" y="2506680"/>
            <a:ext cx="118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4E67-F3E8-470E-A382-EE4A59F8BCA0}" type="slidenum">
              <a:rPr b="1" lang="ar-SA" sz="28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9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151" name="Rectangle 9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3" name="Group 10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154" name="Oval 11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155" name="Oval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7" name="Oval 12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2EC2-6EA9-4A4B-B8E5-CA56B99DFFC6}" type="slidenum">
              <a:rPr b="1" lang="ar-SA" sz="14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9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200" name="Rectangle 9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2" name="Group 10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203" name="Oval 11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204" name="Oval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6" name="Oval 12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AE5-A5F1-4D59-A17D-F8D48753B158}" type="slidenum">
              <a:rPr b="1" lang="ar-SA" sz="14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884240" y="1700280"/>
            <a:ext cx="9144000" cy="2390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523880" y="55861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Rockwell"/>
              </a:rPr>
              <a:t>إعداد أ. ريم الصلاحي</a:t>
            </a: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9232920" y="155520"/>
            <a:ext cx="2809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قسم المحاسبة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كلية إدارة الأعمال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نسخ البيانات 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نسخ البيانات من مصدر خارجي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أنواع لصق البيانات ( نص فقط / معادلات / بكامل التنسيق )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4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 : نسخ البيانات 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9920" y="2050560"/>
            <a:ext cx="100584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قومي بنسخ البيانات التالية إلى ورقة عمل جديدة في اكسل</a:t>
            </a:r>
            <a:endParaRPr b="0" lang="en-US" sz="30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994040" y="3165480"/>
          <a:ext cx="8991360" cy="1482840"/>
        </p:xfrm>
        <a:graphic>
          <a:graphicData uri="http://schemas.openxmlformats.org/drawingml/2006/table">
            <a:tbl>
              <a:tblPr/>
              <a:tblGrid>
                <a:gridCol w="2247840"/>
                <a:gridCol w="2247840"/>
                <a:gridCol w="2247840"/>
                <a:gridCol w="2247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مدة الخدمة الإجما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عدد الأجهز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ال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البي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/2/1439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بلاغ عطل فني 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/2/14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بلاغ صيا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/2/14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بلاغ نظام الكترون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ابع 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4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 : التعديل على البيانات المنسوخة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69920" y="2050920"/>
            <a:ext cx="100584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53000" indent="-15300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قومي بتنسيق البيانات التي تم نسخها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53000" indent="-15300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أضيفي عمود للأرقام التسلسلية في بداية الجدول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53000" indent="-15300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أضيفي عمود بعنوان مدة الخدمة للوحدة في نهاية الجدول بافتراض أن الموظف يحصل على ريال ونصف مقابل كل دقيقة عمل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53000" indent="-15300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ابع 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4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 : التعديل على البيانات المنسوخة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69920" y="2050920"/>
            <a:ext cx="100584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ادرجي رسم بياني يوضح المبلغ المدفوع لكل نوع بلاغ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ادرجي رسم بياني يوضح مدة الزمن التي تستغرقها معالجة الوحدة الواحدة من البلاغ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b2d1f"/>
                </a:solidFill>
                <a:latin typeface="Rockwell Condensed"/>
              </a:rPr>
              <a:t>تطبيق عملي: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5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Rockwell"/>
              </a:rPr>
              <a:t>باستخدام النموذج الذي تحضره المتدربة، حددي العناصر الثابتة والعناصر المتغيرة في النموذج ثم انشئي جدول الكتروني مرن لتسهيل عملك مستقبلا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التعريف ببرنامج إكسل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1360" indent="-171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استخدامات برنامج إكسل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71360" indent="-171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مكونات برنامج إكسل (الملف / ورقة العمل / الخلية / شريط الدالة )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71360" indent="-171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إكسل هو برنامج مساعد وليس برنامج رئيسي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إنشاء الجداول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إنشاء الجداول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تنسيق الجداول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لتعديل على الجداول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فرز محتوى الجدول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خاصية الدمج و خاصية «إظهار / إخفاء»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دريب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1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إنشاء الجداول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60560" indent="-160560" algn="r" rtl="1">
              <a:lnSpc>
                <a:spcPct val="1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أنشئي جدول يمثل قاعدة بيانات الموظفات بقسم الإدارة المالية على أن يحتوي على الأعمدة التالية: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0560" indent="-160560" algn="r" rtl="1">
              <a:lnSpc>
                <a:spcPct val="1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رقم التسلسل - الاسم – الرقم الوظيفي – المسمى الوظيفي – المرتبة – الشهادات وتشمل (ثانوي / دبلوم / بكالوريوس) – تاريخ التعيين – رقم الهاتف – رقم المكتب – رقم الجوال – الإيميل – عمود لآخر دورتين وتشمل (الدورة الأولى / الدورة الثانية )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دريب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2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التعديل على الجداول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69920" y="2050560"/>
            <a:ext cx="10058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 قومي بإدخال بيانات وهمية لثلاث موظفات على الأقل 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 قومي بتنسيق الجدول حسب رغبتك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 قومي بفرز بيانات الموظفات حسب تاريخ التعيين من الأحدث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 قومي بفرز بيانات الموظفات حسب الاسم من أ إلى ي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قومي بإدراج عمود جديد في نهاية الجدول بعنوان «طبيعة العمل»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قومي بنقل هذا العمود إلى مكان آخر أنسب له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قومي بتسمية ورقة العمل باسم «بيانات الموظفات» ومن ثم لونيها بلون مناسب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إنشاء المعادلات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العمليات الأساسية ( + - × ÷ )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ستخدام الأقواس 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ستخدام الدوال 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لمعدل 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Average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         المجموع 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Sum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               العدد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Count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لقيمة الأعلى 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Max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       القيمة الأدنى 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Min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           الدالة الشرطية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If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إنشاء المعادلات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قومي بتكوين جدول في ورقة عمل جديدة باسم المشتريات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ادرجي البيانات التالية للمشتريات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852720" y="4299120"/>
          <a:ext cx="6096240" cy="1482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سعر الوح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عدد الوحد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الصن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مواد نظا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مواد صيا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مواد أخر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ابع 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إنشاء المعادلات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2360" indent="-162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احسبي مجموع المشتريات</a:t>
            </a:r>
            <a:endParaRPr b="0" lang="en-US" sz="3000" spc="-1" strike="noStrike">
              <a:solidFill>
                <a:srgbClr val="000000"/>
              </a:solidFill>
              <a:latin typeface="Rockwell"/>
            </a:endParaRPr>
          </a:p>
          <a:p>
            <a:pPr marL="162360" indent="-162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أضيفي عمود جديد قبل عمود المجموع باسم «خصم المشتريات» علماً بأن خصم المشتريات الإجمالي لمواد النظافة هو </a:t>
            </a: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50</a:t>
            </a: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ريال ، ولمواد الصيانة </a:t>
            </a: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100</a:t>
            </a: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ريال</a:t>
            </a:r>
            <a:endParaRPr b="0" lang="en-US" sz="3000" spc="-1" strike="noStrike">
              <a:solidFill>
                <a:srgbClr val="000000"/>
              </a:solidFill>
              <a:latin typeface="Rockwell"/>
            </a:endParaRPr>
          </a:p>
          <a:p>
            <a:pPr marL="162360" indent="-162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احسبي صافي المشتريات بعد الخصم</a:t>
            </a:r>
            <a:endParaRPr b="0" lang="en-US" sz="3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ابع 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إنشاء المعادلات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يمنح البائع خصم إضافي بقيمة ريال لكل وحدة في حال تجاوز عدد الوحدات المشتراة 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80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وحدة.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58760" indent="-158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أضيفي جدول إحصائي واحسبي فيه المعلومات التالية: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58760" indent="-158760" algn="ctr" rtl="1"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متوسط سعر الشراء – إجمالي المبلغ المدفوع – إجمالي الخصومات 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58760" indent="-158760" algn="ctr" rtl="1"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أعلى عدد وحدات مشتراة – أقل عدد وحدات مشتراة – عدد أنواع الأصناف المشتراة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08:01:37Z</dcterms:created>
  <dc:creator>Reem Hasan Alslahi</dc:creator>
  <dc:description/>
  <dc:language>en-US</dc:language>
  <cp:lastModifiedBy>Reem Hasan Alslahi</cp:lastModifiedBy>
  <dcterms:modified xsi:type="dcterms:W3CDTF">2017-12-12T13:42:08Z</dcterms:modified>
  <cp:revision>23</cp:revision>
  <dc:subject/>
  <dc:title>دورة تدريبية  استخدامات برنامج إكسل في الإدارة المالي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C03A3FC-2170-4187-BB85-CC63AAFCAC65</vt:lpwstr>
  </property>
  <property fmtid="{D5CDD505-2E9C-101B-9397-08002B2CF9AE}" pid="3" name="ArticulatePath">
    <vt:lpwstr>Presentation1</vt:lpwstr>
  </property>
</Properties>
</file>