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082A-82FC-4484-83AE-0023DF636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9920" y="423720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56E4-56A3-4109-ACA6-DA25ED33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2404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AC77-C54D-4943-9DC4-B41CE96CD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7084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87176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992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47084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787176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1F54-3B61-4C3D-9583-BFDB5D489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5969-A90D-40B0-872A-51A781AFE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4F580-5657-4FBB-BB5D-786BDB11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A8C8-DBA5-4CC9-A8C6-1DA89EE7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F8190-7D3D-4C8E-B7F1-831594D2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EE52-C38B-4577-8CD3-6A9D290D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9920" y="483840"/>
            <a:ext cx="10058400" cy="74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A611-3562-4201-8EC8-C44D5B5C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9E83-E8EE-47A5-8CF0-E728165E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03FC-AE3A-47EA-A88F-0DC2958A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2404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28126-343B-4ADD-A338-BF7B2F3F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DE13-73C6-41BE-8B6B-7C284341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9920" y="423720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F7B0-84B7-4171-AAD2-589000F9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22404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7DBC-066E-46CA-9545-E71BC2C5E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7084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87176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992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47084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787176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62961-33A1-4E55-BB6B-4F00D74D8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D61E9-9F5F-4DAB-B669-E0941DE81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28E70-56B4-44B7-A8FF-16AB2668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8F5DF-3288-4911-8301-38731B1B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0B0CE-3922-4CFC-B0D3-548CB036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EDA3D-6B27-42D9-80B5-8F324530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2A60-B50F-4919-B9DE-A8338010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069920" y="483840"/>
            <a:ext cx="10058400" cy="74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E9697-8BBD-449F-B6AB-F05827EC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AB93F-5FAD-47F4-AD9F-09196BAE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2404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8A97D-9648-4AD1-82C7-165344B0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B5078-DAD9-42B0-8778-FA7DC429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069920" y="423720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6701A-0160-4394-8A52-399B17ED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22404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D4DED-1B6C-4242-99FF-98E351699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47084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87176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06992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47084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787176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E0A8F-5137-41D7-B186-D65FE6843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45DFA-4BF5-4355-9CC0-8F717E064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3F817-EBA9-45B9-9B0B-9C4E9614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4D3EF-CE3F-47F5-BA8E-44AB7AE7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4F32-D73C-417E-BD92-43530BD3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71E14-C7B5-4143-B840-E8A76EA7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3B0F0-8CE3-4059-9C3E-068C51C0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069920" y="483840"/>
            <a:ext cx="10058400" cy="74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C3768-89DC-4C42-85E3-A25A126E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FC52E-4DE2-4393-99E1-C0E18279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2404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887BA-C627-4C5D-A881-A02EFE84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FD260-DEFA-4324-8FD2-89F6089F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069920" y="423720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1D69A-EE64-4585-A725-7A599F73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22404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6EA6B-2A7B-4685-8243-67AA7D100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47084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87176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106992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447084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787176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AA73E-0F47-4473-BBB0-A60B76E04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D5D257-6181-4582-9FE0-B9244965C7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A89D-ECD4-4416-9221-35889276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7572A6-D586-4E9B-8805-153F7259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1287AF-A29E-48B7-BC21-C04024E7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527B13-76D5-47F4-B53E-873DF79B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FB3E2C-A8DB-44EC-8CE4-D834E3900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1069920" y="483840"/>
            <a:ext cx="10058400" cy="74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A34319-99C5-43DE-8B3E-838C9D2DD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1A8D6E-BDA6-4D8A-AF25-296B639B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2404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5D9E7A-6051-4EA1-86FF-CE7854B1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9D77E5-A452-42D7-8C66-DE8C2291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1069920" y="423720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FFE027-1117-4E77-8A77-BED9E15B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22404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C6F95E-4E85-497A-A9A8-22F50985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69920" y="483840"/>
            <a:ext cx="10058400" cy="74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AE77-8320-48C7-BF67-1297B138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47084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871760" y="212076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106992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447084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7871760" y="4237200"/>
            <a:ext cx="323856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6A2C6F-52E9-4AB2-96DC-2BA1558B2B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9072-E3E9-4EAA-A1FC-8E86EF46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24040" y="423720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2C69-9444-4E13-95CF-863DE233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992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24040" y="2120760"/>
            <a:ext cx="490824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9920" y="4237200"/>
            <a:ext cx="10058400" cy="19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25F5-8E26-4466-9B96-BB91ABB2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Rockwell Condensed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 algn="r" rtl="1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2" marL="730080" indent="-182520" algn="r" rtl="1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 algn="r" rtl="1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182520" algn="r" rtl="1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182520" algn="r" rtl="1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182520" algn="r" rtl="1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964640" y="6272280"/>
            <a:ext cx="3273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87200" y="6272280"/>
            <a:ext cx="63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11401560" y="6229440"/>
            <a:ext cx="457200" cy="457200"/>
            <a:chOff x="11401560" y="6229440"/>
            <a:chExt cx="457200" cy="457200"/>
          </a:xfrm>
        </p:grpSpPr>
        <p:grpSp>
          <p:nvGrpSpPr>
            <p:cNvPr id="5" name="Oval 7"/>
            <p:cNvGrpSpPr/>
            <p:nvPr/>
          </p:nvGrpSpPr>
          <p:grpSpPr>
            <a:xfrm>
              <a:off x="11401560" y="6229440"/>
              <a:ext cx="457200" cy="457200"/>
              <a:chOff x="11401560" y="6229440"/>
              <a:chExt cx="457200" cy="457200"/>
            </a:xfrm>
          </p:grpSpPr>
          <p:pic>
            <p:nvPicPr>
              <p:cNvPr id="6" name="Oval 7" descr=""/>
              <p:cNvPicPr/>
              <p:nvPr/>
            </p:nvPicPr>
            <p:blipFill>
              <a:blip r:embed="rId2"/>
              <a:stretch/>
            </p:blipFill>
            <p:spPr>
              <a:xfrm>
                <a:off x="11401560" y="622944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" name=""/>
              <p:cNvSpPr/>
              <p:nvPr/>
            </p:nvSpPr>
            <p:spPr>
              <a:xfrm>
                <a:off x="11470680" y="6295680"/>
                <a:ext cx="32328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</p:grpSp>
        <p:sp>
          <p:nvSpPr>
            <p:cNvPr id="8" name="Oval 8"/>
            <p:cNvSpPr/>
            <p:nvPr/>
          </p:nvSpPr>
          <p:spPr>
            <a:xfrm>
              <a:off x="11432880" y="6257880"/>
              <a:ext cx="398880" cy="39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11310480" y="6272280"/>
            <a:ext cx="63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Rockwell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C7C8-DBC3-48B4-9BDA-4D734D8EEEFD}" type="slidenum">
              <a:rPr b="1" lang="ar-SA" sz="1400" spc="-1" strike="noStrike">
                <a:solidFill>
                  <a:srgbClr val="ffffff"/>
                </a:solidFill>
                <a:latin typeface="Rockwell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Rectangle 9"/>
          <p:cNvGrpSpPr/>
          <p:nvPr/>
        </p:nvGrpSpPr>
        <p:grpSpPr>
          <a:xfrm>
            <a:off x="920880" y="1347840"/>
            <a:ext cx="10223280" cy="79200"/>
            <a:chOff x="920880" y="1347840"/>
            <a:chExt cx="10223280" cy="79200"/>
          </a:xfrm>
        </p:grpSpPr>
        <p:pic>
          <p:nvPicPr>
            <p:cNvPr id="47" name="Rectangle 9" descr=""/>
            <p:cNvPicPr/>
            <p:nvPr/>
          </p:nvPicPr>
          <p:blipFill>
            <a:blip r:embed="rId2"/>
            <a:stretch/>
          </p:blipFill>
          <p:spPr>
            <a:xfrm>
              <a:off x="920880" y="1349280"/>
              <a:ext cx="10223280" cy="7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920880" y="1347840"/>
              <a:ext cx="10223280" cy="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49" name="Rectangle 10"/>
          <p:cNvGrpSpPr/>
          <p:nvPr/>
        </p:nvGrpSpPr>
        <p:grpSpPr>
          <a:xfrm>
            <a:off x="920880" y="4297320"/>
            <a:ext cx="10223280" cy="85680"/>
            <a:chOff x="920880" y="4297320"/>
            <a:chExt cx="10223280" cy="85680"/>
          </a:xfrm>
        </p:grpSpPr>
        <p:pic>
          <p:nvPicPr>
            <p:cNvPr id="50" name="Rectangle 10" descr=""/>
            <p:cNvPicPr/>
            <p:nvPr/>
          </p:nvPicPr>
          <p:blipFill>
            <a:blip r:embed="rId3"/>
            <a:stretch/>
          </p:blipFill>
          <p:spPr>
            <a:xfrm>
              <a:off x="920880" y="4297320"/>
              <a:ext cx="1022328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920880" y="4299120"/>
              <a:ext cx="10223280" cy="8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920880" y="1487520"/>
            <a:ext cx="10223280" cy="2742840"/>
            <a:chOff x="920880" y="1487520"/>
            <a:chExt cx="10223280" cy="274284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920880" y="1490400"/>
              <a:ext cx="10223280" cy="27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920880" y="1487520"/>
              <a:ext cx="10223280" cy="27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55" name="Group 12"/>
          <p:cNvGrpSpPr/>
          <p:nvPr/>
        </p:nvGrpSpPr>
        <p:grpSpPr>
          <a:xfrm>
            <a:off x="9648720" y="4068720"/>
            <a:ext cx="1081080" cy="1081080"/>
            <a:chOff x="9648720" y="4068720"/>
            <a:chExt cx="1081080" cy="1081080"/>
          </a:xfrm>
        </p:grpSpPr>
        <p:grpSp>
          <p:nvGrpSpPr>
            <p:cNvPr id="56" name="Oval 13"/>
            <p:cNvGrpSpPr/>
            <p:nvPr/>
          </p:nvGrpSpPr>
          <p:grpSpPr>
            <a:xfrm>
              <a:off x="9648720" y="4068720"/>
              <a:ext cx="1081080" cy="1081080"/>
              <a:chOff x="9648720" y="4068720"/>
              <a:chExt cx="1081080" cy="1081080"/>
            </a:xfrm>
          </p:grpSpPr>
          <p:pic>
            <p:nvPicPr>
              <p:cNvPr id="57" name="Oval 13" descr=""/>
              <p:cNvPicPr/>
              <p:nvPr/>
            </p:nvPicPr>
            <p:blipFill>
              <a:blip r:embed="rId5"/>
              <a:stretch/>
            </p:blipFill>
            <p:spPr>
              <a:xfrm>
                <a:off x="9648720" y="4068720"/>
                <a:ext cx="1081080" cy="108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9806400" y="4229280"/>
                <a:ext cx="765720" cy="76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</p:grpSp>
        <p:sp>
          <p:nvSpPr>
            <p:cNvPr id="59" name="Oval 14"/>
            <p:cNvSpPr/>
            <p:nvPr/>
          </p:nvSpPr>
          <p:spPr>
            <a:xfrm>
              <a:off x="9756000" y="4179240"/>
              <a:ext cx="866520" cy="8614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Rockwell Condensed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 algn="r" rtl="1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2" marL="730080" indent="-182520" algn="r" rtl="1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 algn="r" rtl="1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182520" algn="r" rtl="1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182520" algn="r" rtl="1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182520" algn="r" rtl="1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7964640" y="6272280"/>
            <a:ext cx="3273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1087200" y="6272280"/>
            <a:ext cx="63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9593280" y="4289040"/>
            <a:ext cx="1193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800" spc="-1" strike="noStrike">
                <a:solidFill>
                  <a:srgbClr val="ffffff"/>
                </a:solidFill>
                <a:latin typeface="Rockwell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6F05-19FB-4A8D-B15F-4E30DE80105E}" type="slidenum">
              <a:rPr b="1" lang="ar-SA" sz="2800" spc="-1" strike="noStrike">
                <a:solidFill>
                  <a:srgbClr val="ffffff"/>
                </a:solidFill>
                <a:latin typeface="Rockwell Condensed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Rectangle 9"/>
          <p:cNvGrpSpPr/>
          <p:nvPr/>
        </p:nvGrpSpPr>
        <p:grpSpPr>
          <a:xfrm>
            <a:off x="0" y="4919760"/>
            <a:ext cx="12192120" cy="1938240"/>
            <a:chOff x="0" y="4919760"/>
            <a:chExt cx="12192120" cy="1938240"/>
          </a:xfrm>
        </p:grpSpPr>
        <p:pic>
          <p:nvPicPr>
            <p:cNvPr id="102" name="Rectangle 9" descr=""/>
            <p:cNvPicPr/>
            <p:nvPr/>
          </p:nvPicPr>
          <p:blipFill>
            <a:blip r:embed="rId2"/>
            <a:stretch/>
          </p:blipFill>
          <p:spPr>
            <a:xfrm>
              <a:off x="0" y="4921200"/>
              <a:ext cx="12192120" cy="19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0" y="4919760"/>
              <a:ext cx="12192120" cy="19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104" name="Group 10"/>
          <p:cNvGrpSpPr/>
          <p:nvPr/>
        </p:nvGrpSpPr>
        <p:grpSpPr>
          <a:xfrm>
            <a:off x="896760" y="2325600"/>
            <a:ext cx="1081440" cy="1081080"/>
            <a:chOff x="896760" y="2325600"/>
            <a:chExt cx="1081440" cy="1081080"/>
          </a:xfrm>
        </p:grpSpPr>
        <p:grpSp>
          <p:nvGrpSpPr>
            <p:cNvPr id="105" name="Oval 11"/>
            <p:cNvGrpSpPr/>
            <p:nvPr/>
          </p:nvGrpSpPr>
          <p:grpSpPr>
            <a:xfrm>
              <a:off x="896760" y="2325600"/>
              <a:ext cx="1081440" cy="1081080"/>
              <a:chOff x="896760" y="2325600"/>
              <a:chExt cx="1081440" cy="1081080"/>
            </a:xfrm>
          </p:grpSpPr>
          <p:pic>
            <p:nvPicPr>
              <p:cNvPr id="106" name="Oval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96760" y="2325600"/>
                <a:ext cx="1081440" cy="108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1055520" y="2481120"/>
                <a:ext cx="761760" cy="76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</p:grpSp>
        <p:sp>
          <p:nvSpPr>
            <p:cNvPr id="108" name="Oval 12"/>
            <p:cNvSpPr/>
            <p:nvPr/>
          </p:nvSpPr>
          <p:spPr>
            <a:xfrm>
              <a:off x="1005480" y="2431080"/>
              <a:ext cx="861840" cy="8665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Rockwell Condensed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 algn="r" rtl="1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2" marL="730080" indent="-182520" algn="r" rtl="1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 algn="r" rtl="1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182520" algn="r" rtl="1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182520" algn="r" rtl="1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182520" algn="r" rtl="1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8593200" y="6272280"/>
            <a:ext cx="264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182680" y="6272280"/>
            <a:ext cx="6328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843120" y="2506680"/>
            <a:ext cx="1188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800" spc="-1" strike="noStrike">
                <a:solidFill>
                  <a:srgbClr val="ffffff"/>
                </a:solidFill>
                <a:latin typeface="Rockwell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8F77-7AB1-48C5-BB88-94E205B710D1}" type="slidenum">
              <a:rPr b="1" lang="ar-SA" sz="2800" spc="-1" strike="noStrike">
                <a:solidFill>
                  <a:srgbClr val="ffffff"/>
                </a:solidFill>
                <a:latin typeface="Rockwell Condensed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Rectangle 9"/>
          <p:cNvGrpSpPr/>
          <p:nvPr/>
        </p:nvGrpSpPr>
        <p:grpSpPr>
          <a:xfrm>
            <a:off x="8302680" y="0"/>
            <a:ext cx="3889440" cy="6858000"/>
            <a:chOff x="8302680" y="0"/>
            <a:chExt cx="3889440" cy="6858000"/>
          </a:xfrm>
        </p:grpSpPr>
        <p:pic>
          <p:nvPicPr>
            <p:cNvPr id="151" name="Rectangle 9" descr=""/>
            <p:cNvPicPr/>
            <p:nvPr/>
          </p:nvPicPr>
          <p:blipFill>
            <a:blip r:embed="rId2"/>
            <a:stretch/>
          </p:blipFill>
          <p:spPr>
            <a:xfrm>
              <a:off x="8302680" y="0"/>
              <a:ext cx="38894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8304120" y="0"/>
              <a:ext cx="3888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153" name="Group 10"/>
          <p:cNvGrpSpPr/>
          <p:nvPr/>
        </p:nvGrpSpPr>
        <p:grpSpPr>
          <a:xfrm>
            <a:off x="11401560" y="6229440"/>
            <a:ext cx="457200" cy="457200"/>
            <a:chOff x="11401560" y="6229440"/>
            <a:chExt cx="457200" cy="457200"/>
          </a:xfrm>
        </p:grpSpPr>
        <p:grpSp>
          <p:nvGrpSpPr>
            <p:cNvPr id="154" name="Oval 11"/>
            <p:cNvGrpSpPr/>
            <p:nvPr/>
          </p:nvGrpSpPr>
          <p:grpSpPr>
            <a:xfrm>
              <a:off x="11401560" y="6229440"/>
              <a:ext cx="457200" cy="457200"/>
              <a:chOff x="11401560" y="6229440"/>
              <a:chExt cx="457200" cy="457200"/>
            </a:xfrm>
          </p:grpSpPr>
          <p:pic>
            <p:nvPicPr>
              <p:cNvPr id="155" name="Oval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1401560" y="622944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" name=""/>
              <p:cNvSpPr/>
              <p:nvPr/>
            </p:nvSpPr>
            <p:spPr>
              <a:xfrm>
                <a:off x="11470680" y="6295680"/>
                <a:ext cx="32328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</p:grpSp>
        <p:sp>
          <p:nvSpPr>
            <p:cNvPr id="157" name="Oval 12"/>
            <p:cNvSpPr/>
            <p:nvPr/>
          </p:nvSpPr>
          <p:spPr>
            <a:xfrm>
              <a:off x="11432880" y="6257880"/>
              <a:ext cx="398880" cy="39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Rockwell Condensed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 algn="r" rtl="1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2" marL="730080" indent="-182520" algn="r" rtl="1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 algn="r" rtl="1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182520" algn="r" rtl="1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182520" algn="r" rtl="1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182520" algn="r" rtl="1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7964640" y="6272280"/>
            <a:ext cx="3273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1087200" y="6272280"/>
            <a:ext cx="63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11310480" y="6272280"/>
            <a:ext cx="63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Rockwell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867A-EB6A-436E-B802-D316EA0F4ACE}" type="slidenum">
              <a:rPr b="1" lang="ar-SA" sz="1400" spc="-1" strike="noStrike">
                <a:solidFill>
                  <a:srgbClr val="ffffff"/>
                </a:solidFill>
                <a:latin typeface="Rockwell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Rectangle 9"/>
          <p:cNvGrpSpPr/>
          <p:nvPr/>
        </p:nvGrpSpPr>
        <p:grpSpPr>
          <a:xfrm>
            <a:off x="8302680" y="0"/>
            <a:ext cx="3889440" cy="6858000"/>
            <a:chOff x="8302680" y="0"/>
            <a:chExt cx="3889440" cy="6858000"/>
          </a:xfrm>
        </p:grpSpPr>
        <p:pic>
          <p:nvPicPr>
            <p:cNvPr id="200" name="Rectangle 9" descr=""/>
            <p:cNvPicPr/>
            <p:nvPr/>
          </p:nvPicPr>
          <p:blipFill>
            <a:blip r:embed="rId2"/>
            <a:stretch/>
          </p:blipFill>
          <p:spPr>
            <a:xfrm>
              <a:off x="8302680" y="0"/>
              <a:ext cx="38894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8304120" y="0"/>
              <a:ext cx="3888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grpSp>
        <p:nvGrpSpPr>
          <p:cNvPr id="202" name="Group 10"/>
          <p:cNvGrpSpPr/>
          <p:nvPr/>
        </p:nvGrpSpPr>
        <p:grpSpPr>
          <a:xfrm>
            <a:off x="11401560" y="6229440"/>
            <a:ext cx="457200" cy="457200"/>
            <a:chOff x="11401560" y="6229440"/>
            <a:chExt cx="457200" cy="457200"/>
          </a:xfrm>
        </p:grpSpPr>
        <p:grpSp>
          <p:nvGrpSpPr>
            <p:cNvPr id="203" name="Oval 11"/>
            <p:cNvGrpSpPr/>
            <p:nvPr/>
          </p:nvGrpSpPr>
          <p:grpSpPr>
            <a:xfrm>
              <a:off x="11401560" y="6229440"/>
              <a:ext cx="457200" cy="457200"/>
              <a:chOff x="11401560" y="6229440"/>
              <a:chExt cx="457200" cy="457200"/>
            </a:xfrm>
          </p:grpSpPr>
          <p:pic>
            <p:nvPicPr>
              <p:cNvPr id="204" name="Oval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1401560" y="622944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>
                <a:off x="11470680" y="6295680"/>
                <a:ext cx="323280" cy="3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Rockwell"/>
                </a:endParaRPr>
              </a:p>
            </p:txBody>
          </p:sp>
        </p:grpSp>
        <p:sp>
          <p:nvSpPr>
            <p:cNvPr id="206" name="Oval 12"/>
            <p:cNvSpPr/>
            <p:nvPr/>
          </p:nvSpPr>
          <p:spPr>
            <a:xfrm>
              <a:off x="11432880" y="6257880"/>
              <a:ext cx="398880" cy="39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Rockwell"/>
              </a:endParaRPr>
            </a:p>
          </p:txBody>
        </p: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Rockwell Condensed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 algn="r" rtl="1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1" marL="457200" indent="-182520" algn="r" rtl="1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2" marL="730080" indent="-182520" algn="r" rtl="1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 algn="r" rtl="1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4" marL="1279440" indent="-182520" algn="r" rtl="1">
              <a:lnSpc>
                <a:spcPct val="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5" marL="1279440" indent="-182520" algn="r" rtl="1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6" marL="1279440" indent="-182520" algn="r" rtl="1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7964640" y="6272280"/>
            <a:ext cx="3273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sldNum" idx="14"/>
          </p:nvPr>
        </p:nvSpPr>
        <p:spPr>
          <a:xfrm>
            <a:off x="11310480" y="6272280"/>
            <a:ext cx="63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Rockwell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AF55-01BF-44BD-94E3-B60409166A98}" type="slidenum">
              <a:rPr b="1" lang="ar-SA" sz="1400" spc="-1" strike="noStrike">
                <a:solidFill>
                  <a:srgbClr val="ffffff"/>
                </a:solidFill>
                <a:latin typeface="Rockwell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Title 1" descr=""/>
          <p:cNvPicPr/>
          <p:nvPr/>
        </p:nvPicPr>
        <p:blipFill>
          <a:blip r:embed="rId1"/>
          <a:stretch/>
        </p:blipFill>
        <p:spPr>
          <a:xfrm>
            <a:off x="1884240" y="1700280"/>
            <a:ext cx="9144000" cy="23907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523880" y="558612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Rockwell"/>
              </a:rPr>
              <a:t>إعداد أ. ريم الصلاحي</a:t>
            </a:r>
            <a:endParaRPr b="0" lang="en-US" sz="2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9232920" y="155520"/>
            <a:ext cx="28098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Rockwell"/>
              </a:rPr>
              <a:t>قسم المحاسبة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Rockwell"/>
              </a:rPr>
              <a:t>كلية إدارة الأعمال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Rockwel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Rockwell Condensed"/>
              </a:rPr>
              <a:t>نسخ البيانات </a:t>
            </a:r>
            <a:endParaRPr b="0" lang="en-US" sz="4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069920" y="2050920"/>
            <a:ext cx="10058400" cy="44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r" rtl="1">
              <a:lnSpc>
                <a:spcPct val="20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Rockwell"/>
              </a:rPr>
              <a:t> نسخ البيانات من مصدر خارجي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 algn="r" rtl="1">
              <a:lnSpc>
                <a:spcPct val="20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Rockwell"/>
              </a:rPr>
              <a:t>أنواع لصق البيانات ( نص فقط / معادلات / بكامل التنسيق )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Rockwell Condensed"/>
              </a:rPr>
              <a:t>تدريب </a:t>
            </a:r>
            <a:r>
              <a:rPr b="1" lang="ar-SA" sz="4400" spc="-1" strike="noStrike">
                <a:solidFill>
                  <a:srgbClr val="c00000"/>
                </a:solidFill>
                <a:latin typeface="Rockwell Condensed"/>
              </a:rPr>
              <a:t>4</a:t>
            </a:r>
            <a:r>
              <a:rPr b="1" lang="ar-SA" sz="4400" spc="-1" strike="noStrike">
                <a:solidFill>
                  <a:srgbClr val="c00000"/>
                </a:solidFill>
                <a:latin typeface="Rockwell Condensed"/>
              </a:rPr>
              <a:t> : نسخ البيانات </a:t>
            </a:r>
            <a:endParaRPr b="0" lang="en-US" sz="4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069920" y="2050560"/>
            <a:ext cx="10058400" cy="9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58760" indent="-158760" algn="r" rtl="1">
              <a:lnSpc>
                <a:spcPct val="18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Rockwell"/>
              </a:rPr>
              <a:t> قومي بنسخ البيانات التالية إلى ورقة عمل جديدة في اكسل</a:t>
            </a:r>
            <a:endParaRPr b="0" lang="en-US" sz="3000" spc="-1" strike="noStrike">
              <a:solidFill>
                <a:srgbClr val="000000"/>
              </a:solidFill>
              <a:latin typeface="Rockwel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994040" y="3165480"/>
          <a:ext cx="8991360" cy="1482840"/>
        </p:xfrm>
        <a:graphic>
          <a:graphicData uri="http://schemas.openxmlformats.org/drawingml/2006/table">
            <a:tbl>
              <a:tblPr/>
              <a:tblGrid>
                <a:gridCol w="2247840"/>
                <a:gridCol w="2247840"/>
                <a:gridCol w="2247840"/>
                <a:gridCol w="22478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مدة الخدمة الإجمال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عدد الأجهز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التاري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البيا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2/2/1439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بلاغ عطل فني عا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4/2/14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بلاغ صيان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5/2/14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بلاغ نظام الكترون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Rockwell Condensed"/>
              </a:rPr>
              <a:t>تابع تدريب </a:t>
            </a:r>
            <a:r>
              <a:rPr b="1" lang="ar-SA" sz="4400" spc="-1" strike="noStrike">
                <a:solidFill>
                  <a:srgbClr val="c00000"/>
                </a:solidFill>
                <a:latin typeface="Rockwell Condensed"/>
              </a:rPr>
              <a:t>4</a:t>
            </a:r>
            <a:r>
              <a:rPr b="1" lang="ar-SA" sz="4400" spc="-1" strike="noStrike">
                <a:solidFill>
                  <a:srgbClr val="c00000"/>
                </a:solidFill>
                <a:latin typeface="Rockwell Condensed"/>
              </a:rPr>
              <a:t> : التعديل على البيانات المنسوخة</a:t>
            </a:r>
            <a:endParaRPr b="0" lang="en-US" sz="4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069920" y="2050920"/>
            <a:ext cx="100584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53000" indent="-153000" algn="r" rtl="1">
              <a:lnSpc>
                <a:spcPct val="20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Rockwell"/>
              </a:rPr>
              <a:t> قومي بتنسيق البيانات التي تم نسخها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153000" indent="-153000" algn="r" rtl="1">
              <a:lnSpc>
                <a:spcPct val="20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Rockwell"/>
              </a:rPr>
              <a:t> أضيفي عمود للأرقام التسلسلية في بداية الجدول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153000" indent="-153000" algn="r" rtl="1">
              <a:lnSpc>
                <a:spcPct val="20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Rockwell"/>
              </a:rPr>
              <a:t> أضيفي عمود بعنوان مدة الخدمة للوحدة في نهاية الجدول بافتراض أن الموظف يحصل على ريال ونصف مقابل كل دقيقة عمل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153000" indent="-153000" algn="r" rtl="1">
              <a:lnSpc>
                <a:spcPct val="20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Rockwell Condensed"/>
              </a:rPr>
              <a:t>تابع تدريب </a:t>
            </a:r>
            <a:r>
              <a:rPr b="1" lang="ar-SA" sz="4400" spc="-1" strike="noStrike">
                <a:solidFill>
                  <a:srgbClr val="c00000"/>
                </a:solidFill>
                <a:latin typeface="Rockwell Condensed"/>
              </a:rPr>
              <a:t>4</a:t>
            </a:r>
            <a:r>
              <a:rPr b="1" lang="ar-SA" sz="4400" spc="-1" strike="noStrike">
                <a:solidFill>
                  <a:srgbClr val="c00000"/>
                </a:solidFill>
                <a:latin typeface="Rockwell Condensed"/>
              </a:rPr>
              <a:t> : التعديل على البيانات المنسوخة</a:t>
            </a:r>
            <a:endParaRPr b="0" lang="en-US" sz="4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069920" y="2050920"/>
            <a:ext cx="100584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r" rtl="1">
              <a:lnSpc>
                <a:spcPct val="20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Rockwell"/>
              </a:rPr>
              <a:t> ادرجي رسم بياني يوضح المبلغ المدفوع لكل نوع بلاغ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 algn="r" rtl="1">
              <a:lnSpc>
                <a:spcPct val="20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Rockwell"/>
              </a:rPr>
              <a:t>ادرجي رسم بياني يوضح مدة الزمن التي تستغرقها معالجة الوحدة الواحدة من البلاغ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9b2d1f"/>
                </a:solidFill>
                <a:latin typeface="Rockwell Condensed"/>
              </a:rPr>
              <a:t>تطبيق عملي:</a:t>
            </a:r>
            <a:endParaRPr b="0" lang="en-US" sz="5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r" rtl="1">
              <a:lnSpc>
                <a:spcPct val="15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Rockwell"/>
              </a:rPr>
              <a:t>باستخدام النموذج الذي تحضره المتدربة، حددي العناصر الثابتة والعناصر المتغيرة في النموذج ثم انشئي جدول الكتروني مرن لتسهيل عملك مستقبلا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Rockwell Condensed"/>
              </a:rPr>
              <a:t>التعريف ببرنامج إكسل</a:t>
            </a:r>
            <a:endParaRPr b="0" lang="en-US" sz="4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069920" y="2120760"/>
            <a:ext cx="1005840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71360" indent="-171360" algn="r" rtl="1">
              <a:lnSpc>
                <a:spcPct val="20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Rockwell"/>
              </a:rPr>
              <a:t>استخدامات برنامج إكسل 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171360" indent="-171360" algn="r" rtl="1">
              <a:lnSpc>
                <a:spcPct val="20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Rockwell"/>
              </a:rPr>
              <a:t> مكونات برنامج إكسل (الملف / ورقة العمل / الخلية / شريط الدالة )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171360" indent="-171360" algn="r" rtl="1">
              <a:lnSpc>
                <a:spcPct val="20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Rockwell"/>
              </a:rPr>
              <a:t>إكسل هو برنامج مساعد وليس برنامج رئيسي 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Rockwell Condensed"/>
              </a:rPr>
              <a:t>إنشاء الجداول</a:t>
            </a:r>
            <a:endParaRPr b="0" lang="en-US" sz="4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069920" y="2050920"/>
            <a:ext cx="10058400" cy="44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r" rtl="1">
              <a:lnSpc>
                <a:spcPct val="18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Rockwell"/>
              </a:rPr>
              <a:t>إنشاء الجداول</a:t>
            </a:r>
            <a:endParaRPr b="0" lang="en-US" sz="27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 algn="r" rtl="1">
              <a:lnSpc>
                <a:spcPct val="18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Rockwell"/>
              </a:rPr>
              <a:t>تنسيق الجداول</a:t>
            </a:r>
            <a:endParaRPr b="0" lang="en-US" sz="27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 algn="r" rtl="1">
              <a:lnSpc>
                <a:spcPct val="18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Rockwell"/>
              </a:rPr>
              <a:t>التعديل على الجداول</a:t>
            </a:r>
            <a:endParaRPr b="0" lang="en-US" sz="27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 algn="r" rtl="1">
              <a:lnSpc>
                <a:spcPct val="18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Rockwell"/>
              </a:rPr>
              <a:t>فرز محتوى الجدول</a:t>
            </a:r>
            <a:endParaRPr b="0" lang="en-US" sz="27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 algn="r" rtl="1">
              <a:lnSpc>
                <a:spcPct val="18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Rockwell"/>
              </a:rPr>
              <a:t>خاصية الدمج و خاصية «إظهار / إخفاء»</a:t>
            </a:r>
            <a:endParaRPr b="0" lang="en-US" sz="27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Rockwell Condensed"/>
              </a:rPr>
              <a:t>تدريب</a:t>
            </a:r>
            <a:r>
              <a:rPr b="1" lang="ar-SA" sz="4400" spc="-1" strike="noStrike">
                <a:solidFill>
                  <a:srgbClr val="c00000"/>
                </a:solidFill>
                <a:latin typeface="Rockwell Condensed"/>
              </a:rPr>
              <a:t>1</a:t>
            </a:r>
            <a:r>
              <a:rPr b="1" lang="ar-SA" sz="4400" spc="-1" strike="noStrike">
                <a:solidFill>
                  <a:srgbClr val="c00000"/>
                </a:solidFill>
                <a:latin typeface="Rockwell Condensed"/>
              </a:rPr>
              <a:t>: إنشاء الجداول</a:t>
            </a:r>
            <a:endParaRPr b="0" lang="en-US" sz="4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069920" y="2050920"/>
            <a:ext cx="10058400" cy="44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160560" indent="-160560" algn="r" rtl="1">
              <a:lnSpc>
                <a:spcPct val="19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Rockwell"/>
              </a:rPr>
              <a:t>أنشئي جدول يمثل قاعدة بيانات الموظفات بقسم الإدارة المالية على أن يحتوي على الأعمدة التالية:</a:t>
            </a:r>
            <a:endParaRPr b="0" lang="en-US" sz="2700" spc="-1" strike="noStrike">
              <a:solidFill>
                <a:srgbClr val="000000"/>
              </a:solidFill>
              <a:latin typeface="Rockwell"/>
            </a:endParaRPr>
          </a:p>
          <a:p>
            <a:pPr marL="160560" indent="-160560" algn="r" rtl="1">
              <a:lnSpc>
                <a:spcPct val="1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Rockwell"/>
              </a:rPr>
              <a:t>رقم التسلسل - الاسم – الرقم الوظيفي – المسمى الوظيفي – المرتبة – الشهادات وتشمل (ثانوي / دبلوم / بكالوريوس) – تاريخ التعيين – رقم الهاتف – رقم المكتب – رقم الجوال – الإيميل – عمود لآخر دورتين وتشمل (الدورة الأولى / الدورة الثانية )</a:t>
            </a:r>
            <a:endParaRPr b="0" lang="en-US" sz="27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Rockwell Condensed"/>
              </a:rPr>
              <a:t>تدريب</a:t>
            </a:r>
            <a:r>
              <a:rPr b="1" lang="ar-SA" sz="4400" spc="-1" strike="noStrike">
                <a:solidFill>
                  <a:srgbClr val="c00000"/>
                </a:solidFill>
                <a:latin typeface="Rockwell Condensed"/>
              </a:rPr>
              <a:t>2</a:t>
            </a:r>
            <a:r>
              <a:rPr b="1" lang="ar-SA" sz="4400" spc="-1" strike="noStrike">
                <a:solidFill>
                  <a:srgbClr val="c00000"/>
                </a:solidFill>
                <a:latin typeface="Rockwell Condensed"/>
              </a:rPr>
              <a:t>: التعديل على الجداول</a:t>
            </a:r>
            <a:endParaRPr b="0" lang="en-US" sz="4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069920" y="2050560"/>
            <a:ext cx="10058400" cy="46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r" rtl="1">
              <a:lnSpc>
                <a:spcPct val="18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Rockwell"/>
              </a:rPr>
              <a:t> قومي بإدخال بيانات وهمية لثلاث موظفات على الأقل 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 algn="r" rtl="1">
              <a:lnSpc>
                <a:spcPct val="18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Rockwell"/>
              </a:rPr>
              <a:t> قومي بتنسيق الجدول حسب رغبتك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 algn="r" rtl="1">
              <a:lnSpc>
                <a:spcPct val="18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Rockwell"/>
              </a:rPr>
              <a:t> قومي بفرز بيانات الموظفات حسب تاريخ التعيين من الأحدث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 algn="r" rtl="1">
              <a:lnSpc>
                <a:spcPct val="18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Rockwell"/>
              </a:rPr>
              <a:t> قومي بفرز بيانات الموظفات حسب الاسم من أ إلى ي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 algn="r" rtl="1">
              <a:lnSpc>
                <a:spcPct val="18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Rockwell"/>
              </a:rPr>
              <a:t>قومي بإدراج عمود جديد في نهاية الجدول بعنوان «طبيعة العمل»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 algn="r" rtl="1">
              <a:lnSpc>
                <a:spcPct val="18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Rockwell"/>
              </a:rPr>
              <a:t>قومي بنقل هذا العمود إلى مكان آخر أنسب له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 algn="r" rtl="1">
              <a:lnSpc>
                <a:spcPct val="18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Rockwell"/>
              </a:rPr>
              <a:t>قومي بتسمية ورقة العمل باسم «بيانات الموظفات» ومن ثم لونيها بلون مناسب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Rockwell Condensed"/>
              </a:rPr>
              <a:t>إنشاء المعادلات</a:t>
            </a:r>
            <a:endParaRPr b="0" lang="en-US" sz="4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069920" y="2050920"/>
            <a:ext cx="10058400" cy="44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167760" indent="-167760" algn="r" rtl="1">
              <a:lnSpc>
                <a:spcPct val="18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Rockwell"/>
              </a:rPr>
              <a:t> العمليات الأساسية ( + - × ÷ )</a:t>
            </a:r>
            <a:endParaRPr b="0" lang="en-US" sz="2700" spc="-1" strike="noStrike">
              <a:solidFill>
                <a:srgbClr val="000000"/>
              </a:solidFill>
              <a:latin typeface="Rockwell"/>
            </a:endParaRPr>
          </a:p>
          <a:p>
            <a:pPr marL="167760" indent="-167760" algn="r" rtl="1">
              <a:lnSpc>
                <a:spcPct val="18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Rockwell"/>
              </a:rPr>
              <a:t>استخدام الأقواس </a:t>
            </a:r>
            <a:endParaRPr b="0" lang="en-US" sz="2700" spc="-1" strike="noStrike">
              <a:solidFill>
                <a:srgbClr val="000000"/>
              </a:solidFill>
              <a:latin typeface="Rockwell"/>
            </a:endParaRPr>
          </a:p>
          <a:p>
            <a:pPr marL="167760" indent="-167760" algn="r" rtl="1">
              <a:lnSpc>
                <a:spcPct val="18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Rockwell"/>
              </a:rPr>
              <a:t>استخدام الدوال </a:t>
            </a:r>
            <a:endParaRPr b="0" lang="en-US" sz="2700" spc="-1" strike="noStrike">
              <a:solidFill>
                <a:srgbClr val="000000"/>
              </a:solidFill>
              <a:latin typeface="Rockwell"/>
            </a:endParaRPr>
          </a:p>
          <a:p>
            <a:pPr marL="167760" indent="-167760" algn="r" rtl="1">
              <a:lnSpc>
                <a:spcPct val="1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Rockwell"/>
              </a:rPr>
              <a:t>المعدل  </a:t>
            </a:r>
            <a:r>
              <a:rPr b="1" lang="en-US" sz="2700" spc="-1" strike="noStrike">
                <a:solidFill>
                  <a:srgbClr val="000000"/>
                </a:solidFill>
                <a:latin typeface="Rockwell"/>
              </a:rPr>
              <a:t>Average</a:t>
            </a:r>
            <a:r>
              <a:rPr b="1" lang="ar-SA" sz="2700" spc="-1" strike="noStrike">
                <a:solidFill>
                  <a:srgbClr val="000000"/>
                </a:solidFill>
                <a:latin typeface="Rockwell"/>
              </a:rPr>
              <a:t>          المجموع  </a:t>
            </a:r>
            <a:r>
              <a:rPr b="1" lang="en-US" sz="2700" spc="-1" strike="noStrike">
                <a:solidFill>
                  <a:srgbClr val="000000"/>
                </a:solidFill>
                <a:latin typeface="Rockwell"/>
              </a:rPr>
              <a:t>Sum</a:t>
            </a:r>
            <a:r>
              <a:rPr b="1" lang="ar-SA" sz="2700" spc="-1" strike="noStrike">
                <a:solidFill>
                  <a:srgbClr val="000000"/>
                </a:solidFill>
                <a:latin typeface="Rockwell"/>
              </a:rPr>
              <a:t>                العدد </a:t>
            </a:r>
            <a:r>
              <a:rPr b="1" lang="en-US" sz="2700" spc="-1" strike="noStrike">
                <a:solidFill>
                  <a:srgbClr val="000000"/>
                </a:solidFill>
                <a:latin typeface="Rockwell"/>
              </a:rPr>
              <a:t>Count</a:t>
            </a:r>
            <a:endParaRPr b="0" lang="en-US" sz="2700" spc="-1" strike="noStrike">
              <a:solidFill>
                <a:srgbClr val="000000"/>
              </a:solidFill>
              <a:latin typeface="Rockwell"/>
            </a:endParaRPr>
          </a:p>
          <a:p>
            <a:pPr marL="167760" indent="-167760" algn="r" rtl="1">
              <a:lnSpc>
                <a:spcPct val="1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Rockwell"/>
              </a:rPr>
              <a:t>القيمة الأعلى  </a:t>
            </a:r>
            <a:r>
              <a:rPr b="1" lang="en-US" sz="2700" spc="-1" strike="noStrike">
                <a:solidFill>
                  <a:srgbClr val="000000"/>
                </a:solidFill>
                <a:latin typeface="Rockwell"/>
              </a:rPr>
              <a:t>Max</a:t>
            </a:r>
            <a:r>
              <a:rPr b="1" lang="ar-SA" sz="2700" spc="-1" strike="noStrike">
                <a:solidFill>
                  <a:srgbClr val="000000"/>
                </a:solidFill>
                <a:latin typeface="Rockwell"/>
              </a:rPr>
              <a:t>        القيمة الأدنى  </a:t>
            </a:r>
            <a:r>
              <a:rPr b="1" lang="en-US" sz="2700" spc="-1" strike="noStrike">
                <a:solidFill>
                  <a:srgbClr val="000000"/>
                </a:solidFill>
                <a:latin typeface="Rockwell"/>
              </a:rPr>
              <a:t>Min</a:t>
            </a:r>
            <a:r>
              <a:rPr b="1" lang="ar-SA" sz="2700" spc="-1" strike="noStrike">
                <a:solidFill>
                  <a:srgbClr val="000000"/>
                </a:solidFill>
                <a:latin typeface="Rockwell"/>
              </a:rPr>
              <a:t>            الدالة الشرطية </a:t>
            </a:r>
            <a:r>
              <a:rPr b="1" lang="en-US" sz="2700" spc="-1" strike="noStrike">
                <a:solidFill>
                  <a:srgbClr val="000000"/>
                </a:solidFill>
                <a:latin typeface="Rockwell"/>
              </a:rPr>
              <a:t>If</a:t>
            </a:r>
            <a:endParaRPr b="0" lang="en-US" sz="27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Rockwell Condensed"/>
              </a:rPr>
              <a:t>تدريب </a:t>
            </a:r>
            <a:r>
              <a:rPr b="1" lang="ar-SA" sz="4400" spc="-1" strike="noStrike">
                <a:solidFill>
                  <a:srgbClr val="c00000"/>
                </a:solidFill>
                <a:latin typeface="Rockwell Condensed"/>
              </a:rPr>
              <a:t>3</a:t>
            </a:r>
            <a:r>
              <a:rPr b="1" lang="ar-SA" sz="4400" spc="-1" strike="noStrike">
                <a:solidFill>
                  <a:srgbClr val="c00000"/>
                </a:solidFill>
                <a:latin typeface="Rockwell Condensed"/>
              </a:rPr>
              <a:t>: إنشاء المعادلات</a:t>
            </a:r>
            <a:endParaRPr b="0" lang="en-US" sz="4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069920" y="2050920"/>
            <a:ext cx="10058400" cy="44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r" rtl="1">
              <a:lnSpc>
                <a:spcPct val="20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Rockwell"/>
              </a:rPr>
              <a:t> قومي بتكوين جدول في ورقة عمل جديدة باسم المشتريات 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182520" indent="-182520" algn="r" rtl="1">
              <a:lnSpc>
                <a:spcPct val="20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Rockwell"/>
              </a:rPr>
              <a:t> ادرجي البيانات التالية للمشتريات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3852720" y="4299120"/>
          <a:ext cx="6096240" cy="14824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سعر الوحد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2d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عدد الوحد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2d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الصن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2d1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مواد نظاف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dc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مواد صيان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8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مواد أخر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d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Rockwell Condensed"/>
              </a:rPr>
              <a:t>تابع تدريب </a:t>
            </a:r>
            <a:r>
              <a:rPr b="1" lang="ar-SA" sz="4400" spc="-1" strike="noStrike">
                <a:solidFill>
                  <a:srgbClr val="c00000"/>
                </a:solidFill>
                <a:latin typeface="Rockwell Condensed"/>
              </a:rPr>
              <a:t>3</a:t>
            </a:r>
            <a:r>
              <a:rPr b="1" lang="ar-SA" sz="4400" spc="-1" strike="noStrike">
                <a:solidFill>
                  <a:srgbClr val="c00000"/>
                </a:solidFill>
                <a:latin typeface="Rockwell Condensed"/>
              </a:rPr>
              <a:t>: إنشاء المعادلات</a:t>
            </a:r>
            <a:endParaRPr b="0" lang="en-US" sz="4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069920" y="2050920"/>
            <a:ext cx="10058400" cy="44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162360" indent="-162360" algn="r" rtl="1">
              <a:lnSpc>
                <a:spcPct val="20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Rockwell"/>
              </a:rPr>
              <a:t> احسبي مجموع المشتريات</a:t>
            </a:r>
            <a:endParaRPr b="0" lang="en-US" sz="3000" spc="-1" strike="noStrike">
              <a:solidFill>
                <a:srgbClr val="000000"/>
              </a:solidFill>
              <a:latin typeface="Rockwell"/>
            </a:endParaRPr>
          </a:p>
          <a:p>
            <a:pPr marL="162360" indent="-162360" algn="r" rtl="1">
              <a:lnSpc>
                <a:spcPct val="20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Rockwell"/>
              </a:rPr>
              <a:t> أضيفي عمود جديد قبل عمود المجموع باسم «خصم المشتريات» علماً بأن خصم المشتريات الإجمالي لمواد النظافة هو </a:t>
            </a:r>
            <a:r>
              <a:rPr b="1" lang="ar-SA" sz="3000" spc="-1" strike="noStrike">
                <a:solidFill>
                  <a:srgbClr val="000000"/>
                </a:solidFill>
                <a:latin typeface="Rockwell"/>
              </a:rPr>
              <a:t>50</a:t>
            </a:r>
            <a:r>
              <a:rPr b="1" lang="ar-SA" sz="3000" spc="-1" strike="noStrike">
                <a:solidFill>
                  <a:srgbClr val="000000"/>
                </a:solidFill>
                <a:latin typeface="Rockwell"/>
              </a:rPr>
              <a:t> ريال ، ولمواد الصيانة </a:t>
            </a:r>
            <a:r>
              <a:rPr b="1" lang="ar-SA" sz="3000" spc="-1" strike="noStrike">
                <a:solidFill>
                  <a:srgbClr val="000000"/>
                </a:solidFill>
                <a:latin typeface="Rockwell"/>
              </a:rPr>
              <a:t>100</a:t>
            </a:r>
            <a:r>
              <a:rPr b="1" lang="ar-SA" sz="3000" spc="-1" strike="noStrike">
                <a:solidFill>
                  <a:srgbClr val="000000"/>
                </a:solidFill>
                <a:latin typeface="Rockwell"/>
              </a:rPr>
              <a:t> ريال</a:t>
            </a:r>
            <a:endParaRPr b="0" lang="en-US" sz="3000" spc="-1" strike="noStrike">
              <a:solidFill>
                <a:srgbClr val="000000"/>
              </a:solidFill>
              <a:latin typeface="Rockwell"/>
            </a:endParaRPr>
          </a:p>
          <a:p>
            <a:pPr marL="162360" indent="-162360" algn="r" rtl="1">
              <a:lnSpc>
                <a:spcPct val="20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Rockwell"/>
              </a:rPr>
              <a:t>احسبي صافي المشتريات بعد الخصم</a:t>
            </a:r>
            <a:endParaRPr b="0" lang="en-US" sz="30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9920" y="483840"/>
            <a:ext cx="10058400" cy="16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Rockwell Condensed"/>
              </a:rPr>
              <a:t>تابع تدريب </a:t>
            </a:r>
            <a:r>
              <a:rPr b="1" lang="ar-SA" sz="4400" spc="-1" strike="noStrike">
                <a:solidFill>
                  <a:srgbClr val="c00000"/>
                </a:solidFill>
                <a:latin typeface="Rockwell Condensed"/>
              </a:rPr>
              <a:t>3</a:t>
            </a:r>
            <a:r>
              <a:rPr b="1" lang="ar-SA" sz="4400" spc="-1" strike="noStrike">
                <a:solidFill>
                  <a:srgbClr val="c00000"/>
                </a:solidFill>
                <a:latin typeface="Rockwell Condensed"/>
              </a:rPr>
              <a:t>: إنشاء المعادلات</a:t>
            </a:r>
            <a:endParaRPr b="0" lang="en-US" sz="4400" spc="-1" strike="noStrike">
              <a:solidFill>
                <a:srgbClr val="000000"/>
              </a:solidFill>
              <a:latin typeface="Rockwell Condensed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069920" y="2050920"/>
            <a:ext cx="10058400" cy="44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58760" indent="-158760" algn="r" rtl="1">
              <a:lnSpc>
                <a:spcPct val="18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Rockwell"/>
              </a:rPr>
              <a:t> يمنح البائع خصم إضافي بقيمة ريال لكل وحدة في حال تجاوز عدد الوحدات المشتراة </a:t>
            </a:r>
            <a:r>
              <a:rPr b="1" lang="ar-SA" sz="2700" spc="-1" strike="noStrike">
                <a:solidFill>
                  <a:srgbClr val="000000"/>
                </a:solidFill>
                <a:latin typeface="Rockwell"/>
              </a:rPr>
              <a:t>80</a:t>
            </a:r>
            <a:r>
              <a:rPr b="1" lang="ar-SA" sz="2700" spc="-1" strike="noStrike">
                <a:solidFill>
                  <a:srgbClr val="000000"/>
                </a:solidFill>
                <a:latin typeface="Rockwell"/>
              </a:rPr>
              <a:t> وحدة.</a:t>
            </a:r>
            <a:endParaRPr b="0" lang="en-US" sz="2700" spc="-1" strike="noStrike">
              <a:solidFill>
                <a:srgbClr val="000000"/>
              </a:solidFill>
              <a:latin typeface="Rockwell"/>
            </a:endParaRPr>
          </a:p>
          <a:p>
            <a:pPr marL="158760" indent="-158760" algn="r" rtl="1">
              <a:lnSpc>
                <a:spcPct val="180000"/>
              </a:lnSpc>
              <a:spcBef>
                <a:spcPts val="1199"/>
              </a:spcBef>
              <a:buClr>
                <a:srgbClr val="9e3611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Rockwell"/>
              </a:rPr>
              <a:t> أضيفي جدول إحصائي واحسبي فيه المعلومات التالية:</a:t>
            </a:r>
            <a:endParaRPr b="0" lang="en-US" sz="2700" spc="-1" strike="noStrike">
              <a:solidFill>
                <a:srgbClr val="000000"/>
              </a:solidFill>
              <a:latin typeface="Rockwell"/>
            </a:endParaRPr>
          </a:p>
          <a:p>
            <a:pPr marL="158760" indent="-158760" algn="ctr" rtl="1">
              <a:lnSpc>
                <a:spcPct val="1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Rockwell"/>
              </a:rPr>
              <a:t>متوسط سعر الشراء – إجمالي المبلغ المدفوع – إجمالي الخصومات </a:t>
            </a:r>
            <a:endParaRPr b="0" lang="en-US" sz="2700" spc="-1" strike="noStrike">
              <a:solidFill>
                <a:srgbClr val="000000"/>
              </a:solidFill>
              <a:latin typeface="Rockwell"/>
            </a:endParaRPr>
          </a:p>
          <a:p>
            <a:pPr marL="158760" indent="-158760" algn="ctr" rtl="1">
              <a:lnSpc>
                <a:spcPct val="1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Rockwell"/>
              </a:rPr>
              <a:t>أعلى عدد وحدات مشتراة – أقل عدد وحدات مشتراة – عدد أنواع الأصناف المشتراة</a:t>
            </a:r>
            <a:endParaRPr b="0" lang="en-US" sz="27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7T08:01:37Z</dcterms:created>
  <dc:creator>Reem Hasan Alslahi</dc:creator>
  <dc:description/>
  <dc:language>en-US</dc:language>
  <cp:lastModifiedBy>Reem Hasan Alslahi</cp:lastModifiedBy>
  <dcterms:modified xsi:type="dcterms:W3CDTF">2017-12-12T13:42:08Z</dcterms:modified>
  <cp:revision>23</cp:revision>
  <dc:subject/>
  <dc:title>دورة تدريبية  استخدامات برنامج إكسل في الإدارة المالية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4C03A3FC-2170-4187-BB85-CC63AAFCAC65</vt:lpwstr>
  </property>
  <property fmtid="{D5CDD505-2E9C-101B-9397-08002B2CF9AE}" pid="3" name="ArticulatePath">
    <vt:lpwstr>Presentation1</vt:lpwstr>
  </property>
</Properties>
</file>