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74F-0B46-450E-B02A-8A2A11FA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7A3-EE6A-47E3-ADEA-04437E6D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394-F993-41D4-9991-CD96F02F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D45-5837-44A9-B817-0692B199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4DE-EF5E-404F-A46C-D7A4D6BB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030-3DB4-4178-9E85-3882BAFE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A27-E134-4A76-A1A4-551CC92C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628-D981-4587-A3F4-6B560D3B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308-7868-46D1-9DC5-3EE3B09A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CF5-D5C1-4EBA-B63F-BB9541CB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63F-2737-464F-BE9C-DAA5ADDC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26B8-5FEA-4BD3-BB61-FFFE0479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67D8-92A8-4DAD-BAAF-089120F0623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جهة التدريب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دارة العلاقات العامة والإعلام بجامعة الملك سعو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سلبيات التدريب داخل الأقسام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دريب العملي ببعض الأقسام غير موجود ويكتفي المسئول بمحاضرة نظرية للتعريف بمهام القس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دريب العملي غير كافي داخل الأقسام ولا يحقق الأهداف المرجوة من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دريب إلى حد كبير مقتصر على العمل البروتوكولي ولا يوجد تدريب على وظائف العلاقات العامة الأخرى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جم الأقسام كان صغير جدا ولايستوعب عدد طلاب المجموعة الواحد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إيجابيات التي لاحظتها داخل الأقسام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عامل الجيد من العاملين داخل الأقسا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ان البعض حريص على أن نخرج بفائدة خلال فترة تواجدنا في القسم الذي يعمل ب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ستفادة من المعلومات النظرية بشكل جي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عرفة مهام جميع أقسام العلاقات العام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سلبيات التي لاحظتها خلال تنظيم الفعاليات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زدحام عند عملية التسجيل في كثير من الفعالي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دد المنظمين في بعض الفعاليات كان كبي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دم وجود مياه ومرطبات في احدى الفعالي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حد المسؤولين عن التنظيم طلب من بعض المنظمين الوقوف لحراسة البوفيه وقاموا بسحب المياه والعصيرات من الضيوف بشكل غير لائ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ي بعض الفعاليات كانت مهامنا غير واضحه وكانت بشكل عشوائي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دم وجود بطاقات تعريف في بعض الفعاليات لطلاب التدري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5ffff"/>
                </a:solidFill>
                <a:latin typeface="Tahoma"/>
              </a:rPr>
              <a:t>الايجابيات التي لاحظتها خلال تنظيم الفعاليات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رص المسئول على استفادة الطلا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نظيم الجيد بكثير من الفعالي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فضل تنظيم كان من قبل الشباب الص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دد الفعاليات التي اقيمت كان كبير واستفاد منها عدد كبير من الطلا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فوائد التي خرجت منها من التدريب العملي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إحتكاك برجال العلاقات العامة والتعرف على سير العم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عرف على  مهام جميع الأقسا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عرف على كيفية تنظيم وادارة الفعالي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ستفادة والتعلم من توجيهات المشر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ستفاده  والتعلم من بعض المواقف الحرجة التي تعرضنا ل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علاقات الشخصية مع بعض الأشخاص من داخل الجامعة وخارج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اقتراحات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خصيص فصل دراسي كامل للتدري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فعيل التدريب العملي بشكل اكبر مما هو عليه الان وعدم قصره على العمل التنظيمي بحيث يكون هناك تدريب على باقي مهام رجال العلاقات العام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خصيص قاعة للمحاضرات النظرية للتعريف بمهام الاقسا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ن يكون هناك تنسيق مسبق مع المتدربين قبل اقامة أي فعالية بوقت كاف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اقتراحات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خفيض عدد الطلاب المتدربين أو توزيعهم على جهات اخرى فالعدد كان كبي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معلومات المتدرب والمشرفين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سم: خالد ابراهيم بختاو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رقم الجامعي: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4301072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شرف الأكاديمي: د.سعيد الغام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شرف الاداري:أ.وليد السلي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 ما قمت به خلال فترة التدريب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شاركة في تنظيم عدد من الفعالي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دارة فعاليتين بشكل كام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مرور على الاقسام وفق ماهو موضوع بالجدو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نجاز الأعمال التي طلبت مني من قبل الاستاذ وليد السلي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5ffff"/>
                </a:solidFill>
                <a:latin typeface="Tahoma"/>
              </a:rPr>
              <a:t>الفعاليات التي شاركت بها خلال فترة التدريب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ندوة العلاقات العامة والطمو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اسبوع القانو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وقيع اتفاقية بين قسم الاعلام والغرفة التجار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برنامج المنصة الرياض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فل مرور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عام على افتتاح كلية الهندسة وفعاليات يوم المه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فعاليات التي قمت بالمشاركة في تنظيمها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رشة عمل الخطة الوطنية للعلوم والتق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فل تكريم الكليات المطبقة للائحة التدخ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سلسة دورات مجتمعي (ثلاث اجزاء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لتقى العلمي الرابع لطلاب وطالبات جامعة الملك سعو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فعاليات التي قمت بإدارتها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لتقى السنوي الخليجي الخامس لشباب الصم انا واثنين من زملائي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حدى فعاليات مجتمعي (ثلاثة أيا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أقسام التي تدربت بها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سم القاع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سم المعلوم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سم المؤتمر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سم الاساتذة الزائر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سم المراس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سم الاعلا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الأعمال التي طلبها مني مسؤلي الأقسام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تابة مقال (قسم الاعلام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ستخراج الاجابات على الأسئلة الصحفية من خبر (قسم الاعلام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مشاركة في اعداد جدول زيارة وفد اجنبي (قسم المراسم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عداد فهرس يحتوي على ارقام (ادارات – كليات – عمادات) ثلاث جامعات سعودية جامعة حائل, جامعة الامام,جامعة جازان.(قسم المعلومات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تابة خطاب افتراضي موجه لوزير التعليم العالي لطلب  الموافقة على اقامة فعالية (قسم المؤتمرات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توجه لقاعة الدرعية لمشاهدة سير العملية التنظيمية لأحدى الفعاليات (قسم القاعات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5ffff"/>
                </a:solidFill>
                <a:latin typeface="Tahoma"/>
              </a:rPr>
              <a:t>الأعمال الأخرى التي كلفني بها المشرف الإداري: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شاركة في اعداد دليل هاتف لإدارة العلاقات العامة بالجامعة يحتوي على ارقام (كليات- ادارات-عمادات-عمداء-رؤساء اقسام-أشخاص أخرين)  من جامعة الملك سعود بالاضافة إلى أرقام جهات وأشخاص تحتاجهم الإدارة من خارج الجامع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شاركة في فرز تقرير جميع الطلاب عن الأقسام وفق تصنيف مع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بعض الأعمال مثل (التصوير-الطباع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4:41:14Z</dcterms:created>
  <dc:creator>Dell</dc:creator>
  <dc:description/>
  <dc:language>en-US</dc:language>
  <cp:lastModifiedBy>User</cp:lastModifiedBy>
  <dcterms:modified xsi:type="dcterms:W3CDTF">2015-05-14T22:49:19Z</dcterms:modified>
  <cp:revision>5</cp:revision>
  <dc:subject/>
  <dc:title>جهة التدريب</dc:title>
</cp:coreProperties>
</file>