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A04-E3FB-433E-9A88-D74331E4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B7E-8E82-43B1-AD57-4CB9B485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982-61F3-42D5-AA08-A7A8DEE5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6A5-00A3-4B43-BE6F-2A297FE1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955-D984-43FB-8999-C70F8DF6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C372-9FDA-4BCB-97A5-2B3A610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EED7-93F8-4992-96A3-FB9B25B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DD0-A039-4124-9DAA-A5A1622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57D-B4D1-49A2-A627-35C18D62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9BF4-814F-4AD7-99BC-EAB5A32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D95-BA5C-4F00-902E-C90BE03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0D-C03E-4897-9473-ED26EA97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576A-2489-4352-8F37-193F46F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980-9B42-46F4-8BE3-33C570D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0273-75DF-4338-9E7E-0988A2E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70E-00C6-4F99-A8CC-B5E04BE9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9018-2742-42B1-9317-3B4FA952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A0F-9167-4E23-99EC-6FB45DB3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328-7602-42D8-81FC-05F8216B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EA8-A500-4C5A-B634-584849F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A9D-83E0-4004-8F9D-7C34037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3B1-0B9E-49BC-A0F3-E5B8B7D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46F-45F9-4B09-BE22-D4D348D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C5A-AA94-46B8-AC6D-A4B69D7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A2AC-CB13-4115-B037-DE42636AA6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C93-14F9-4C54-8611-B63A127CF6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6666"/>
                </a:solidFill>
                <a:latin typeface="Arial"/>
              </a:rPr>
              <a:t>التدريب اثناء الخدمة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د. طارق الثوين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صادر تحليل وتحديد الاحتياجات التدريبي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69800" y="1523520"/>
            <a:ext cx="731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 تحليل المنظم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 تحليل العمل او تحليل المها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تحليل الموظف او العام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تحليل الأد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وبواسطة نواتج التحاليل يمكن الإجابة على الأسئلة التالية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 أين يقع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ن يجب تدريبه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محتوى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ي فئة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مستوى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الهدف الرئيسي من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ى النتائج المتوقعة من وراء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تخطيط التدريب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71600" y="1676520"/>
            <a:ext cx="7313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ما هو العمل المطلوب ؟     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AT</a:t>
            </a: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لماذا تقوم بهذا العمل (الاهداف)؟          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كيف تقوم بهذا العمل؟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H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من يقوم بهذا العمل؟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o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أين ومتى يؤدى هذا العمل؟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en &amp; Where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عنصر نائب للمحتوى 3" descr=""/>
          <p:cNvPicPr/>
          <p:nvPr/>
        </p:nvPicPr>
        <p:blipFill>
          <a:blip r:embed="rId1"/>
          <a:stretch/>
        </p:blipFill>
        <p:spPr>
          <a:xfrm>
            <a:off x="-176040" y="0"/>
            <a:ext cx="93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285840" y="214200"/>
            <a:ext cx="8857800" cy="6643440"/>
            <a:chOff x="285840" y="214200"/>
            <a:chExt cx="8857800" cy="6643440"/>
          </a:xfrm>
        </p:grpSpPr>
        <p:sp>
          <p:nvSpPr>
            <p:cNvPr id="170" name="Oval 5"/>
            <p:cNvSpPr/>
            <p:nvPr/>
          </p:nvSpPr>
          <p:spPr>
            <a:xfrm>
              <a:off x="5971680" y="2600640"/>
              <a:ext cx="3171960" cy="3479400"/>
            </a:xfrm>
            <a:prstGeom prst="ellipse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Verdana"/>
                </a:rPr>
                <a:t>الوظيف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Oval 6"/>
            <p:cNvSpPr/>
            <p:nvPr/>
          </p:nvSpPr>
          <p:spPr>
            <a:xfrm>
              <a:off x="3784320" y="1415520"/>
              <a:ext cx="179208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3164040" y="3359160"/>
              <a:ext cx="179208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4043880" y="5373720"/>
              <a:ext cx="179244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2628360" y="265680"/>
              <a:ext cx="1155600" cy="89964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1769040" y="602640"/>
              <a:ext cx="1155600" cy="90108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2181240" y="1344960"/>
              <a:ext cx="1155600" cy="90108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492480" y="214200"/>
              <a:ext cx="96480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Verdana"/>
                </a:rPr>
                <a:t>معارف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285840" y="885240"/>
              <a:ext cx="1051200" cy="47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Verdana"/>
                </a:rPr>
                <a:t>مهارات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79" name="AutoShape 14"/>
            <p:cNvCxnSpPr/>
            <p:nvPr/>
          </p:nvCxnSpPr>
          <p:spPr>
            <a:xfrm flipH="1" flipV="1">
              <a:off x="5575680" y="2705040"/>
              <a:ext cx="6210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AutoShape 15"/>
            <p:cNvCxnSpPr/>
            <p:nvPr/>
          </p:nvCxnSpPr>
          <p:spPr>
            <a:xfrm flipH="1" flipV="1">
              <a:off x="5162040" y="4224600"/>
              <a:ext cx="672840" cy="1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16"/>
            <p:cNvCxnSpPr/>
            <p:nvPr/>
          </p:nvCxnSpPr>
          <p:spPr>
            <a:xfrm flipH="1">
              <a:off x="5834160" y="5373720"/>
              <a:ext cx="362520" cy="3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17"/>
            <p:cNvCxnSpPr/>
            <p:nvPr/>
          </p:nvCxnSpPr>
          <p:spPr>
            <a:xfrm flipH="1" flipV="1">
              <a:off x="3783960" y="1167840"/>
              <a:ext cx="258480" cy="3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18"/>
            <p:cNvCxnSpPr/>
            <p:nvPr/>
          </p:nvCxnSpPr>
          <p:spPr>
            <a:xfrm flipH="1" flipV="1">
              <a:off x="3249360" y="1415160"/>
              <a:ext cx="534960" cy="37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19"/>
            <p:cNvCxnSpPr/>
            <p:nvPr/>
          </p:nvCxnSpPr>
          <p:spPr>
            <a:xfrm flipH="1" flipV="1">
              <a:off x="3335760" y="2121840"/>
              <a:ext cx="448560" cy="31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AutoShape 20"/>
            <p:cNvCxnSpPr/>
            <p:nvPr/>
          </p:nvCxnSpPr>
          <p:spPr>
            <a:xfrm flipH="1" flipV="1">
              <a:off x="1456920" y="602280"/>
              <a:ext cx="310680" cy="19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AutoShape 21"/>
            <p:cNvCxnSpPr/>
            <p:nvPr/>
          </p:nvCxnSpPr>
          <p:spPr>
            <a:xfrm flipH="1">
              <a:off x="1336320" y="1167840"/>
              <a:ext cx="43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33"/>
                </a:solidFill>
                <a:latin typeface="Arial"/>
              </a:rPr>
              <a:t>مرحلة التصميم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مر مرحلة التصميم بالخطوات التالية 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1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تحديد أهداف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يجب على فريق التصميم يحدد هدفا عام للبرنامج ويكون بشكل موجز  يوضح مايهدف البرنامج إلى تحقيقه , ويحدد بعد ذلك أهدافا تفصيلية ويراعي أن تكون أهدافا سلوكية تتصف بالوضوح وقابليتها للقياس مثل : ( في نهاية البرنامج ينبغي أن يكون المتدرب قادرا على ....)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2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- تحديد شروط القبول في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فيوضح وتحدد في الشروط المهارات والمعارف التي يجب توافرها في المرشح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3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إعداد المنهاج التدريبي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يقصد بالمنهاج التدريبي كيفية تغطية المعارف والمهارات التي تم التوصل إليها عند تحيل المهام الحيوية ويستلزم إعداد المنهاج التدريبي القيام بثلاث خطوات مترابطة هي 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نظيم وسلسلة المحتوى : وينظم في شكل وحدات تدريبية بحيث تكون كل وحدة عبارة عن مجموعة متجانسة من المعارف والمهارات التي يمكن للمتدرب تعلمها بشكل مستقل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اختيار الأنشطة والمعينات التدريبية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حديد الوقت والمكان المخصص للتدريب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ذكر حوافز الحضور للدورة 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4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إعداد دليل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وهي الخطوة الأخيرة في تصميم البرنامج التدريبي ويشتمل هذا الدليل على : اسم البرنامج , الهدف العام للبرنامج , الأهداف التفصيلية للبرنامج الوظائف التي يستهدفها البرنامج , شروط القبول في البرنامج , المنهاج التدريبي بالتفصيل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مخرجات وأهداف التعل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كيف يعرف متدربيك إلى أين هم ذاهبون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هل تعرف إلى أين ت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خذ متدربيك في كل فصل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ي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نوع من أنواع المركبات تستخدم للوصول للهد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ما هي النتيجة التدريبية</a:t>
            </a:r>
            <a:r>
              <a:rPr b="1" lang="ar-EG" sz="2900" spc="-1" strike="noStrike">
                <a:solidFill>
                  <a:srgbClr val="000000"/>
                </a:solidFill>
                <a:latin typeface="Verdana"/>
              </a:rPr>
              <a:t>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و أداء عام يعرف ما سيكون المتدرب قادرا على فعله في نهاية النشاط التدريبي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Arial"/>
              </a:rPr>
              <a:t>ما هو الهدف التدريبي ؟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لهدف التدريبي هو أداء أكثر تفصيلا عن ما ينبغي أن يكون قد تعلمه المتدرب في نهاية النشاط التدريب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900" spc="-1" strike="noStrike">
                <a:solidFill>
                  <a:srgbClr val="000000"/>
                </a:solidFill>
                <a:latin typeface="Verdana"/>
              </a:rPr>
              <a:t>مخرج نتائج التدرب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في نهاية هذا المرشد لنتائج التدرب سوف تكون قادرا على إيجاد المعلومات باستخدام تقنيات البحث المختلف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Arial"/>
              </a:rPr>
              <a:t>الهدف التدريبي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في نهاية هذا المرشد لنتائج التدرب سوف تكن قادرا على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نظام الكتالوج المكتب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مكتبة المؤسسة الالكترون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عمل أبحاث الكمبيوتر ل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 من ممتلكات المكتبة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قاعدة البيانات الموجودة في الأقراص المدمجة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داء الأبحاث على الإنترنت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لقيام بعمليات البحث على الإنترنت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الهدف من التدريب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   تطوير الإمكانات البشرية لمساعدة الإفراد و المنظمات في تحقيق أهدافه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مزيا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حسين الأداء 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استخدام أفضل للموارد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حسن رضا العاملين 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انخفاض تسرب العاملي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وزيع اجدى للعاملي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عناصر وأطراف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5" name="_s20502"/>
          <p:cNvGrpSpPr/>
          <p:nvPr/>
        </p:nvGrpSpPr>
        <p:grpSpPr>
          <a:xfrm>
            <a:off x="2438280" y="1755720"/>
            <a:ext cx="1279800" cy="1195560"/>
            <a:chOff x="2438280" y="1755720"/>
            <a:chExt cx="1279800" cy="1195560"/>
          </a:xfrm>
        </p:grpSpPr>
        <p:pic>
          <p:nvPicPr>
            <p:cNvPr id="96" name="_s20502" descr=""/>
            <p:cNvPicPr/>
            <p:nvPr/>
          </p:nvPicPr>
          <p:blipFill>
            <a:blip r:embed="rId1"/>
            <a:stretch/>
          </p:blipFill>
          <p:spPr>
            <a:xfrm>
              <a:off x="2438280" y="1755720"/>
              <a:ext cx="1279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668680" y="194472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خطة التدريب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" name="_s20504"/>
          <p:cNvGrpSpPr/>
          <p:nvPr/>
        </p:nvGrpSpPr>
        <p:grpSpPr>
          <a:xfrm>
            <a:off x="2438280" y="4346640"/>
            <a:ext cx="1279800" cy="1195200"/>
            <a:chOff x="2438280" y="4346640"/>
            <a:chExt cx="1279800" cy="1195200"/>
          </a:xfrm>
        </p:grpSpPr>
        <p:pic>
          <p:nvPicPr>
            <p:cNvPr id="99" name="_s20504" descr=""/>
            <p:cNvPicPr/>
            <p:nvPr/>
          </p:nvPicPr>
          <p:blipFill>
            <a:blip r:embed="rId2"/>
            <a:stretch/>
          </p:blipFill>
          <p:spPr>
            <a:xfrm>
              <a:off x="2438280" y="4346640"/>
              <a:ext cx="1279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670120" y="4535640"/>
              <a:ext cx="819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ماك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_s20506"/>
          <p:cNvSpPr/>
          <p:nvPr/>
        </p:nvSpPr>
        <p:spPr>
          <a:xfrm>
            <a:off x="4191120" y="4724280"/>
            <a:ext cx="1158840" cy="1078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SKR HEAD1"/>
              </a:rPr>
              <a:t>التجهيزا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_s20510"/>
          <p:cNvGrpSpPr/>
          <p:nvPr/>
        </p:nvGrpSpPr>
        <p:grpSpPr>
          <a:xfrm>
            <a:off x="5718240" y="3975120"/>
            <a:ext cx="1566720" cy="1481040"/>
            <a:chOff x="5718240" y="3975120"/>
            <a:chExt cx="1566720" cy="1481040"/>
          </a:xfrm>
        </p:grpSpPr>
        <p:pic>
          <p:nvPicPr>
            <p:cNvPr id="103" name="_s20510" descr=""/>
            <p:cNvPicPr/>
            <p:nvPr/>
          </p:nvPicPr>
          <p:blipFill>
            <a:blip r:embed="rId3"/>
            <a:stretch/>
          </p:blipFill>
          <p:spPr>
            <a:xfrm>
              <a:off x="5718240" y="3975120"/>
              <a:ext cx="15667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31000" y="41720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متدر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_s20512"/>
          <p:cNvGrpSpPr/>
          <p:nvPr/>
        </p:nvGrpSpPr>
        <p:grpSpPr>
          <a:xfrm>
            <a:off x="5559480" y="2444760"/>
            <a:ext cx="1279440" cy="1193760"/>
            <a:chOff x="5559480" y="2444760"/>
            <a:chExt cx="1279440" cy="1193760"/>
          </a:xfrm>
        </p:grpSpPr>
        <p:pic>
          <p:nvPicPr>
            <p:cNvPr id="106" name="_s20512" descr=""/>
            <p:cNvPicPr/>
            <p:nvPr/>
          </p:nvPicPr>
          <p:blipFill>
            <a:blip r:embed="rId4"/>
            <a:stretch/>
          </p:blipFill>
          <p:spPr>
            <a:xfrm>
              <a:off x="5559480" y="2444760"/>
              <a:ext cx="1279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89520" y="2633760"/>
              <a:ext cx="820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مدر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_s20508"/>
          <p:cNvGrpSpPr/>
          <p:nvPr/>
        </p:nvGrpSpPr>
        <p:grpSpPr>
          <a:xfrm>
            <a:off x="4114800" y="1530360"/>
            <a:ext cx="1279440" cy="1193760"/>
            <a:chOff x="4114800" y="1530360"/>
            <a:chExt cx="1279440" cy="1193760"/>
          </a:xfrm>
        </p:grpSpPr>
        <p:pic>
          <p:nvPicPr>
            <p:cNvPr id="109" name="_s20508" descr=""/>
            <p:cNvPicPr/>
            <p:nvPr/>
          </p:nvPicPr>
          <p:blipFill>
            <a:blip r:embed="rId5"/>
            <a:stretch/>
          </p:blipFill>
          <p:spPr>
            <a:xfrm>
              <a:off x="4114800" y="1530360"/>
              <a:ext cx="1279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343400" y="171612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دارة التدري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_s20509"/>
          <p:cNvGrpSpPr/>
          <p:nvPr/>
        </p:nvGrpSpPr>
        <p:grpSpPr>
          <a:xfrm>
            <a:off x="3797280" y="3286080"/>
            <a:ext cx="1305000" cy="1273320"/>
            <a:chOff x="3797280" y="3286080"/>
            <a:chExt cx="1305000" cy="1273320"/>
          </a:xfrm>
        </p:grpSpPr>
        <p:pic>
          <p:nvPicPr>
            <p:cNvPr id="112" name="_s20509" descr=""/>
            <p:cNvPicPr/>
            <p:nvPr/>
          </p:nvPicPr>
          <p:blipFill>
            <a:blip r:embed="rId6"/>
            <a:stretch/>
          </p:blipFill>
          <p:spPr>
            <a:xfrm>
              <a:off x="3797280" y="3286080"/>
              <a:ext cx="1305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052880" y="34718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تفاعل متباد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لجميع عناصر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_s20502"/>
          <p:cNvGrpSpPr/>
          <p:nvPr/>
        </p:nvGrpSpPr>
        <p:grpSpPr>
          <a:xfrm>
            <a:off x="1981080" y="2975040"/>
            <a:ext cx="1279800" cy="1195200"/>
            <a:chOff x="1981080" y="2975040"/>
            <a:chExt cx="1279800" cy="1195200"/>
          </a:xfrm>
        </p:grpSpPr>
        <p:pic>
          <p:nvPicPr>
            <p:cNvPr id="115" name="_s20502" descr=""/>
            <p:cNvPicPr/>
            <p:nvPr/>
          </p:nvPicPr>
          <p:blipFill>
            <a:blip r:embed="rId7"/>
            <a:stretch/>
          </p:blipFill>
          <p:spPr>
            <a:xfrm>
              <a:off x="1981080" y="2975040"/>
              <a:ext cx="1279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211480" y="31640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برامج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7" name="Line 59"/>
          <p:cNvSpPr/>
          <p:nvPr/>
        </p:nvSpPr>
        <p:spPr>
          <a:xfrm>
            <a:off x="5334120" y="20574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72"/>
          <p:cNvSpPr/>
          <p:nvPr/>
        </p:nvSpPr>
        <p:spPr>
          <a:xfrm>
            <a:off x="63244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75"/>
          <p:cNvSpPr/>
          <p:nvPr/>
        </p:nvSpPr>
        <p:spPr>
          <a:xfrm flipH="1">
            <a:off x="548604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76"/>
          <p:cNvSpPr/>
          <p:nvPr/>
        </p:nvSpPr>
        <p:spPr>
          <a:xfrm flipH="1" flipV="1">
            <a:off x="3657600" y="5181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77"/>
          <p:cNvSpPr/>
          <p:nvPr/>
        </p:nvSpPr>
        <p:spPr>
          <a:xfrm flipH="1" flipV="1">
            <a:off x="2666880" y="40381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78"/>
          <p:cNvSpPr/>
          <p:nvPr/>
        </p:nvSpPr>
        <p:spPr>
          <a:xfrm flipV="1">
            <a:off x="2590920" y="2666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79"/>
          <p:cNvSpPr/>
          <p:nvPr/>
        </p:nvSpPr>
        <p:spPr>
          <a:xfrm flipV="1">
            <a:off x="3657600" y="2057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معادلة الناجحة ل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الكفاية التدريبية (الحد الاعلى من التدريب الناجح 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 خطة تدريبية سليمة + مساعدات ومعدات تدريبية صالحة + اماكن تدريب مناسبة + مدرب ماهر مؤهل علميا وعمليا +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متدرب مهيأ وله رغب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ستويات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اول: اكساب المتدرب المعرفة الاجرائ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ثاني: اكساب المتدرب الادراك والوعي لاكتساب معرفة جديد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ثالث: اكساب المتدرب تطبيق المعرفة النظرية في شكل عمل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رابع: نقل المعرفة الجديدة الى مواقف جديدة لم يتعرض اليها المتدر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خطوات تصميم وتطوير البرامج التدريبي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Diagram 19"/>
          <p:cNvGrpSpPr/>
          <p:nvPr/>
        </p:nvGrpSpPr>
        <p:grpSpPr>
          <a:xfrm>
            <a:off x="1857240" y="1916280"/>
            <a:ext cx="4875120" cy="4536720"/>
            <a:chOff x="1857240" y="1916280"/>
            <a:chExt cx="4875120" cy="4536720"/>
          </a:xfrm>
        </p:grpSpPr>
        <p:sp>
          <p:nvSpPr>
            <p:cNvPr id="131" name="_s20501"/>
            <p:cNvSpPr/>
            <p:nvPr/>
          </p:nvSpPr>
          <p:spPr>
            <a:xfrm flipH="1" flipV="1">
              <a:off x="3063960" y="3750480"/>
              <a:ext cx="53532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2" name="_s20502"/>
            <p:cNvGrpSpPr/>
            <p:nvPr/>
          </p:nvGrpSpPr>
          <p:grpSpPr>
            <a:xfrm>
              <a:off x="1857240" y="2913120"/>
              <a:ext cx="1357560" cy="1192680"/>
              <a:chOff x="1857240" y="2913120"/>
              <a:chExt cx="1357560" cy="1192680"/>
            </a:xfrm>
          </p:grpSpPr>
          <p:pic>
            <p:nvPicPr>
              <p:cNvPr id="133" name="_s2050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7240" y="2913120"/>
                <a:ext cx="1357560" cy="11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2100960" y="309960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متابعة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أثر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5" name="_s20503"/>
            <p:cNvSpPr/>
            <p:nvPr/>
          </p:nvSpPr>
          <p:spPr>
            <a:xfrm flipH="1">
              <a:off x="3065760" y="4561200"/>
              <a:ext cx="53532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_s20504"/>
            <p:cNvGrpSpPr/>
            <p:nvPr/>
          </p:nvGrpSpPr>
          <p:grpSpPr>
            <a:xfrm>
              <a:off x="1857240" y="4534200"/>
              <a:ext cx="1357560" cy="1198800"/>
              <a:chOff x="1857240" y="4534200"/>
              <a:chExt cx="1357560" cy="1198800"/>
            </a:xfrm>
          </p:grpSpPr>
          <p:pic>
            <p:nvPicPr>
              <p:cNvPr id="137" name="_s20504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7240" y="4534200"/>
                <a:ext cx="1357560" cy="119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02760" y="472140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نفيذ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_s20505"/>
            <p:cNvSpPr/>
            <p:nvPr/>
          </p:nvSpPr>
          <p:spPr>
            <a:xfrm>
              <a:off x="4131720" y="4829040"/>
              <a:ext cx="0" cy="54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20506"/>
            <p:cNvSpPr/>
            <p:nvPr/>
          </p:nvSpPr>
          <p:spPr>
            <a:xfrm>
              <a:off x="3518640" y="5371560"/>
              <a:ext cx="1228680" cy="1081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cs typeface="SKR HEAD1"/>
                </a:rPr>
                <a:t>تصميم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cs typeface="SKR HEAD1"/>
                </a:rPr>
                <a:t>الحقائ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ea typeface="SKR HEAD1"/>
                </a:rPr>
                <a:t> التدريبية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20511"/>
            <p:cNvSpPr/>
            <p:nvPr/>
          </p:nvSpPr>
          <p:spPr>
            <a:xfrm>
              <a:off x="4660560" y="4559400"/>
              <a:ext cx="53532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_s20510"/>
            <p:cNvGrpSpPr/>
            <p:nvPr/>
          </p:nvGrpSpPr>
          <p:grpSpPr>
            <a:xfrm>
              <a:off x="5071320" y="4515120"/>
              <a:ext cx="1661040" cy="1522440"/>
              <a:chOff x="5071320" y="4515120"/>
              <a:chExt cx="1661040" cy="1522440"/>
            </a:xfrm>
          </p:grpSpPr>
          <p:pic>
            <p:nvPicPr>
              <p:cNvPr id="143" name="_s205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1320" y="4515120"/>
                <a:ext cx="1661040" cy="15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293080" y="4718880"/>
                <a:ext cx="86832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صمي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برامج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" name="_s20513"/>
            <p:cNvSpPr/>
            <p:nvPr/>
          </p:nvSpPr>
          <p:spPr>
            <a:xfrm flipV="1">
              <a:off x="4660560" y="3749040"/>
              <a:ext cx="53388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6" name="_s20512"/>
            <p:cNvGrpSpPr/>
            <p:nvPr/>
          </p:nvGrpSpPr>
          <p:grpSpPr>
            <a:xfrm>
              <a:off x="5051520" y="2906640"/>
              <a:ext cx="1356840" cy="1229040"/>
              <a:chOff x="5051520" y="2906640"/>
              <a:chExt cx="1356840" cy="1229040"/>
            </a:xfrm>
          </p:grpSpPr>
          <p:pic>
            <p:nvPicPr>
              <p:cNvPr id="147" name="_s205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1520" y="2906640"/>
                <a:ext cx="135684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292720" y="3097800"/>
                <a:ext cx="8679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حديد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أهداف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" name="_s20507"/>
            <p:cNvSpPr/>
            <p:nvPr/>
          </p:nvSpPr>
          <p:spPr>
            <a:xfrm flipV="1">
              <a:off x="4130280" y="32094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_s20508"/>
            <p:cNvGrpSpPr/>
            <p:nvPr/>
          </p:nvGrpSpPr>
          <p:grpSpPr>
            <a:xfrm>
              <a:off x="3453480" y="1916280"/>
              <a:ext cx="1356840" cy="1436400"/>
              <a:chOff x="3453480" y="1916280"/>
              <a:chExt cx="1356840" cy="1436400"/>
            </a:xfrm>
          </p:grpSpPr>
          <p:pic>
            <p:nvPicPr>
              <p:cNvPr id="151" name="_s2050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53480" y="1916280"/>
                <a:ext cx="1356840" cy="14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695760" y="2287080"/>
                <a:ext cx="867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حديد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احتياجات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3" name="_s20509"/>
            <p:cNvGrpSpPr/>
            <p:nvPr/>
          </p:nvGrpSpPr>
          <p:grpSpPr>
            <a:xfrm>
              <a:off x="3415320" y="3720240"/>
              <a:ext cx="1396800" cy="1278360"/>
              <a:chOff x="3415320" y="3720240"/>
              <a:chExt cx="1396800" cy="1278360"/>
            </a:xfrm>
          </p:grpSpPr>
          <p:pic>
            <p:nvPicPr>
              <p:cNvPr id="154" name="_s2050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5320" y="3720240"/>
                <a:ext cx="1396800" cy="127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3696480" y="391032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قويم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قبلي ، تكويني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بعدي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راحل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 تحديد وتحليل الاحتياجات التدريب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خطيط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نفيذ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قييم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تحديد و تحليل الاحتياجات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حاجة التدريبية: هي المعرفة او المهارة التي يجب ان يتعلمها او يكتسبها الفرد للنجاح في أداء الأعمال المطلوب منه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عملية مقارنة الاداء الفعلي للمنظمة بالأداء المرغوب به, لتحديد حجم الفجوة التي يمكن معالجتها او سدها في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جالات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إدار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فن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سلوك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55:22Z</dcterms:created>
  <dc:creator>User</dc:creator>
  <dc:description/>
  <dc:language>en-US</dc:language>
  <cp:lastModifiedBy>المستخدم</cp:lastModifiedBy>
  <dcterms:modified xsi:type="dcterms:W3CDTF">2014-12-14T09:28:33Z</dcterms:modified>
  <cp:revision>17</cp:revision>
  <dc:subject/>
  <dc:title>التدريب اثناء الخدمة</dc:title>
</cp:coreProperties>
</file>