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9.png" ContentType="image/png"/>
  <Override PartName="/ppt/media/image44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34.png" ContentType="image/png"/>
  <Override PartName="/ppt/media/image12.jpeg" ContentType="image/jpeg"/>
  <Override PartName="/ppt/media/image45.jpeg" ContentType="image/jpe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31.jpeg" ContentType="image/jpeg"/>
  <Override PartName="/ppt/media/image48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5.jpeg" ContentType="image/jpeg"/>
  <Override PartName="/ppt/media/image3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4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4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0D10-C514-4637-B001-C2BA81A23A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59A8-FEB8-40B9-9014-E89CC23C317F}" type="slidenum">
              <a:rPr b="0" lang="ar-SA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6B8A-1EE3-42C0-A46F-CA2DFA4E4C5A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80AF-8B8D-495A-8C61-32EFDE9C8529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CAE1-0995-4F16-914E-123A536ECC52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884-D2DF-4F68-9688-D927C01B36EE}" type="slidenum">
              <a:rPr b="0" lang="ar-SA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C063-AB14-4C78-A20E-8ACB1AB04DF8}" type="slidenum">
              <a:rPr b="0" lang="ar-SA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91A3-3861-4DF5-9DBB-477BD9F64E87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4EB7-F5D5-4896-A942-91A1FE9D46EF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C368-A64A-4E96-BE20-6214C069437F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64C9-944E-4A57-81A2-AC94BC8B2C44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BE47-0F13-4DCD-A3C0-C50D6E672FEF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7A7-E74E-48D2-888F-A4A13776DE25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C9E-9606-4ACA-B0A9-2CD41CE4200E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755-C63F-4358-B514-17178AAC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770-959D-44F9-ABBB-299BFB42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EE54C-77D2-4A7F-9172-4F3C9B1F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A19302-F4EA-475D-A67A-881C315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C9336-A08F-4A73-BC88-BE9F564A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869E6-BD9D-418E-B343-D99DFF4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48C31-DC37-4C65-8A04-4174A406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DBAD3-D7FD-4DE9-A1D1-1FCA6B97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22A17-2734-4892-9337-36398AC5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EA611D-0E3B-4CD8-94F2-4EC6B9CC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BB26E-6650-4498-86A6-ADDCF1A6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21406C-0039-44EE-B5CC-030F983C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43B-C084-4887-A8BF-56584B18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CAB26-0A39-401B-881E-A257822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54388-10DE-4130-8299-043F03CC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903CFA-0D26-4A54-9C86-17FAC7D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0DBD38-BFAE-429A-BE0F-1E5B3FF8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A5F130-AF1A-41BE-A6A7-D706205D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4745E9-440E-4668-A4BF-E658EC14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CD39FA-FAF4-4ADC-8BC6-4967060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BA434E-E100-445C-958C-F2AD03EA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7116A-C2D1-4A6F-BD37-7DA773D5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390862-E302-4C8E-B0AE-C694B137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8E3-63F6-42F5-95C8-1E36C895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7BEF04-CDB9-4F1A-9651-62951953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EBCE6D-DF46-4D08-9548-E6FC0AA7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68306F-D3E4-484C-86B0-B2DE028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4B2315-6C53-4FF6-8A2D-4A2E794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F8BA95-6ABF-4ED8-A3F5-9258883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D61937-745E-4B06-88AC-A7951DF3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3B928D-B219-40A7-87C8-B17D0692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DBB980-8EFF-4E7E-9A57-EA50F44D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C82278-E531-47DE-81FF-02D8DDD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D8FA45-41D5-471E-84AF-1AEF70B4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C28B-94B8-4837-9990-323A131B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56CE45-0876-4832-8047-971353A0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918540-0CB2-421A-A60C-C4E42C9A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AAD393-525F-4276-82A4-238A834C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8DE33F-0792-42C3-A335-8FD1286B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84AEF2-90B3-4DDF-AE1C-491F68F7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E14A7B-5956-4866-BC5C-6E103749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A87EDB-AC41-4320-A90D-A088496A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726FC4-FA0B-4999-AD5A-7C85624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9CA30D-47CE-4909-9314-3DC04E13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8D0A11-FEA6-42BC-AB62-47829B55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A24D-9EC7-4B9B-8682-5377BE70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D94835-AFBA-4D31-B9A4-390EC5E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CA76EF-BB28-4AD3-A5DC-421E34B3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D9FEEE-52E6-4E25-8B9A-FEAAAF11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D7B33E-AD2E-45CB-8EA0-F2F47E1C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DD7D69-A7B3-4190-A85B-EC6C7719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8309D2-2874-4AD6-8A90-E97ADF49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243936-36EF-4682-A02F-9B9BA874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FCDD3C-B4A7-4D77-B963-8F1B976A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0B1FC4-B7F3-4D33-920C-B4235B3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31EAB0-7E03-4924-AB16-6B485265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C5AE-34CC-490D-BD4E-E3634559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DB9CFD-44A6-4D88-B8CE-346593E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6F21B0-EB74-417E-B8DF-0B016DB9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68B9A-4DE1-4114-B3A9-6218C38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72CAF8-D92B-406F-A8FA-DCD7433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7442A1-93E9-4410-83BE-DD595801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1A861D-0EA8-4BCB-A51E-68C94EBF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E779FB-DE78-42EE-8C8D-7CA1C06F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6135C5-335B-47E9-B18A-A7F579BE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5F68CA-14A7-483B-8B95-6DFC175C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BFB9A5-7067-45C9-B15E-1536012C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E1F9-C954-4BAE-8B48-5170059F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759499-541B-4C6F-B64F-7A1F05E5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0C03EA-79A3-446F-A31B-60A72BBB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25471B-6370-42A3-AE5D-2C4DD83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584279-66EC-4F25-B725-C29843FB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5E663B-FB9B-4677-BDCD-D0760B7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1B638C-4FCD-4BE6-8D16-8BA41F0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409AA9-EB8E-4B70-8CAF-657369F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F0819D-1E52-4093-ABA7-BC7D8074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21854C-922A-4EEE-BA5C-804FB292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E5C6-F3C2-4614-B162-8B9CC816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65CC-907F-4BA2-9844-6882CF86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8DAE-A11E-4E17-868B-E261BFD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EC1-AE71-4F73-B1FF-3E9CED68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5847-8E8E-426E-95FD-F74E9D7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71F0-0815-4EBE-B818-10F5E3B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88F8-F55C-40D8-ABB6-843C16B3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9F22-849D-4A3B-93D2-55D87352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13EF-F43E-4871-8263-0D96792E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7B5EC-B583-413C-A4D1-8B8BC170E7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5A3B9-46D9-4F5C-A80A-D8177321A8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527CB-6900-4B9D-97E3-346665DCCD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F6F3C-962F-4381-8FF1-9099BD9DE4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70AF2-AEA5-4192-9C2D-1DFEE309A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B8F-956D-4507-89AF-70005B1F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D278D-0313-4AC9-B676-E8B8A5ADFF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E26B7-437B-44A3-85CB-A7A95E2C58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7A62C-7B4B-468C-8C40-FFD04F2851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F4A66-4D10-40D1-B34E-0588512EAB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19310-E524-4DEF-A90A-9FF8E97169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9EE7E-CA3F-4DE0-B526-446F27981A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AAFC2-0630-4DB0-9044-97D97C0A51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1B0FB-4BC2-436A-8BC5-7DFE3E6F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742D1-5863-4093-A9D8-8E22A8E0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7FDB0-13ED-4170-82D0-3DC9CDA6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3F6-D506-4417-9586-D4E61540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DA89C-1C56-4FE4-BE61-F744BB75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1A9B8-C41B-4D62-A828-483A3FCE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3797E-2470-4403-B584-2AABB1A4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2775D-48E7-4669-9447-A48F2C3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0EFFE4-6355-4C4A-846C-3A702CE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DC71F-B6FC-43C0-B7E1-2115EDAB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A1937-564F-471B-A857-E64C93E4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BA04F-4CCD-436D-A516-7EB7E8C7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3E99E-2FE6-43C7-A7A2-594B5EC3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5291A-E75E-409B-92CD-EFB6774F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641-323A-4D22-BB50-B84E88AD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17535-0F0E-46B2-810D-E4048D4A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1271D-61E9-4ABC-9155-F407D026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8282D-ABCB-4744-AE4E-11A4F025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E6DC8-3C9B-4C36-8285-05168CD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A29DE-9EBA-463B-B1F0-15727468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4AA55-DF4A-46EF-85FD-A3737D6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6D6CC-E826-41A9-8673-C5AD83E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E29AF-6BC6-4EF3-A3BD-D48A2ADF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C1CE4-4F1F-4638-998D-FD2CD2A4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D278B-99F1-4F8C-A1F3-619E4D1B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B96-D414-4B16-9B97-246BACA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876CF-CB34-4419-9027-7161DA5C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E28D5-BC44-4010-BD5D-35438D4A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491F7-8D68-41B0-B3DB-995D9696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AC3C5-71B1-4B9F-9FB1-29265945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9D098-A0F0-4DC0-A3A8-0FB1581C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548BE-8D44-4390-B59A-98040697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0D8CE-5305-4BB4-BEDE-83046DF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D9FA4-03AD-4C53-901F-8554FF4F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EB871-662A-4B38-A470-5D2CAB19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7C63C-E18C-4093-AA51-6836CC5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C72-DF0D-43FB-9769-504DB69F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60868-CFB6-4B79-9F9B-845D29E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34AAC-8392-4898-9501-DE39C9EA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67276-BE34-4ADC-A30C-46D6EC57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43E57-85B6-4846-9B10-4318F658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77D94-467F-42D9-A6F0-951B8EBA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0E9B9-C7E4-404A-B81D-7DF04E1B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5E72BC-5515-4E54-B1E0-21DCBFC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9B907-858E-4E8F-AF0E-6C8A712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78AE7-4CD1-44C3-8D3E-5B6B05D5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30D9E-28F4-4503-B95E-13EE542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690-DE0F-4CA3-A702-8AE3607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B205A-88DA-4817-B3EB-6065FAF9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05975-9732-4DC4-903D-625878A3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E1D87-2706-4389-A7EC-15296D90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52D76-D017-4287-A6B8-1DAE1FF8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61AB8-1F86-4A83-A5CC-1427F3FB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1B2DD-C70C-43E2-8083-21EC0977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6A212-FD24-4109-A45B-B3F841EA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24840-7A4D-4643-99CF-93E824D9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898966-17DA-4F8E-A917-F436F04B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FDF7E-B565-4CF4-BCE9-DE304DE4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0F1-6A55-417F-B6A7-A6A7207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427D8A-2583-4C8B-A636-E5403261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6F055E-0856-4BE5-8D83-AF38F4B8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AE2B1-94CF-45CD-98C8-D52603A2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F3DB7-D5E8-468A-9812-7A772F0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B63C9-14B5-4C1F-A676-49F527C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B2A71-494D-4C39-AED6-3AE53CE3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F5CB4-ACAA-4CA6-8932-BBFDB787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26AB62-1514-44B2-82B1-9A0D94CD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3E2E2-6BE7-4450-8404-12C1702C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D037F0-6C8D-4A4F-B3BB-F0CD9E7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F697-3B8C-44E0-B691-C4CBDB963C3B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0105-BAA7-4CFE-8CD6-5689F2E15CD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F14F-C2C8-4920-B4D1-E521B4B35F0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F66-20FF-4418-AF26-CD808EEED67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3AF8-32CC-4614-8FE0-A155C5DF9F49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5E9E-4B54-4177-A51C-882044170A9C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5C03-D2C9-4477-8C58-6E9000B05D1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8DC-2850-4887-A194-F062510AE277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B7CD-509A-4C2B-8E52-FB2BDCAA1F61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08D7-4B26-4282-81B4-6FB1979AEC17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8676-B216-4D26-BB90-35D4C1D6AEA2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413D-DC40-4B13-B471-B5AF2383CBC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C386-464B-47B3-A1EA-A03F6899063F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793B-CE0D-4F12-99AB-70E679F9789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eqt.com/2013/01/30/article_728569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watan.com.sa/m/News_Detail.aspx?NewsID=133388&amp;CategoryID=5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د. عبدالله بن سليمان الفراج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228600" y="304812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5600" spc="-1" strike="noStrike">
                <a:solidFill>
                  <a:srgbClr val="ffffff"/>
                </a:solidFill>
                <a:latin typeface="Arial"/>
                <a:cs typeface="Arial"/>
              </a:rPr>
              <a:t>التحديات البيئية </a:t>
            </a:r>
            <a:r>
              <a:rPr b="0" lang="ar-SA" sz="5600" spc="-1" strike="noStrike">
                <a:solidFill>
                  <a:srgbClr val="ffff00"/>
                </a:solidFill>
                <a:latin typeface="Arial"/>
                <a:cs typeface="Arial"/>
              </a:rPr>
              <a:t>في المملكة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04" name="صورة 3" descr=""/>
          <p:cNvPicPr/>
          <p:nvPr/>
        </p:nvPicPr>
        <p:blipFill>
          <a:blip r:embed="rId2"/>
          <a:stretch/>
        </p:blipFill>
        <p:spPr>
          <a:xfrm>
            <a:off x="7956720" y="5084640"/>
            <a:ext cx="11952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نتيجة: تراكيز عالية للعناصر الثقيلة في التربة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2" name="Picture 2" descr="G:\رجب 432\إعلام\صناعية الرياض الثانية\الزيادة في تركيز العناصر الثقيلة.jpg"/>
          <p:cNvPicPr/>
          <p:nvPr/>
        </p:nvPicPr>
        <p:blipFill>
          <a:blip r:embed="rId1"/>
          <a:stretch/>
        </p:blipFill>
        <p:spPr>
          <a:xfrm>
            <a:off x="1187280" y="1357200"/>
            <a:ext cx="7086600" cy="505944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4"/>
          <p:cNvSpPr/>
          <p:nvPr/>
        </p:nvSpPr>
        <p:spPr>
          <a:xfrm>
            <a:off x="-11916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-11916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3968640" cy="142884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alibri"/>
              </a:rPr>
              <a:t>الحقيقة المؤلمة: المملكة (تسجل مستويات تلوث عالية)</a:t>
            </a:r>
            <a:endParaRPr b="0" lang="en-US" sz="29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571680" y="3214800"/>
          <a:ext cx="3786120" cy="1920600"/>
        </p:xfrm>
        <a:graphic>
          <a:graphicData uri="http://schemas.openxmlformats.org/drawingml/2006/table">
            <a:tbl>
              <a:tblPr/>
              <a:tblGrid>
                <a:gridCol w="1965240"/>
                <a:gridCol w="1820880"/>
              </a:tblGrid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00040" y="2714760"/>
          <a:ext cx="4038480" cy="3456000"/>
        </p:xfrm>
        <a:graphic>
          <a:graphicData uri="http://schemas.openxmlformats.org/drawingml/2006/table">
            <a:tbl>
              <a:tblPr/>
              <a:tblGrid>
                <a:gridCol w="2286000"/>
                <a:gridCol w="1752480"/>
              </a:tblGrid>
              <a:tr h="9327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ميكروجرام/م مكعب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891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مدينة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891e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ينبع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دمام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جدة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مكة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هفوف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رياض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3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Calibri"/>
                          <a:cs typeface="Times New Roman"/>
                        </a:rPr>
                        <a:t>المتوسط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</a:tbl>
          </a:graphicData>
        </a:graphic>
      </p:graphicFrame>
      <p:sp>
        <p:nvSpPr>
          <p:cNvPr id="649" name="Content Placeholder 13"/>
          <p:cNvSpPr/>
          <p:nvPr/>
        </p:nvSpPr>
        <p:spPr>
          <a:xfrm>
            <a:off x="4643280" y="1643040"/>
            <a:ext cx="40388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تركيز العوالق القابلة للاستنشاق في الهواء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تقرير سبتمبر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11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شمل التقرير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10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دينة من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91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دولة، وغطى (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03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-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08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)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قدمت المملكة قياسات لعام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03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 فقط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قياس منظمة الصحة العالمية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يكروجرام/م مكعب (</a:t>
            </a:r>
            <a:r>
              <a:rPr b="1" lang="en-US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PM1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)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نظام البيئي السعودي يشترط (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8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يكروجرام) في المناطق الصناعية والتعدينية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حقيقة المؤلمة: المملكة (تسجل مستويات تلوث عالية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1" name="مخطط 5" descr=""/>
          <p:cNvPicPr/>
          <p:nvPr/>
        </p:nvPicPr>
        <p:blipFill>
          <a:blip r:embed="rId1"/>
          <a:stretch/>
        </p:blipFill>
        <p:spPr>
          <a:xfrm>
            <a:off x="969840" y="1481040"/>
            <a:ext cx="71805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حقيقة المؤلمة: المملكة (تسجل مستويات تلوث عالية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6840" y="1676160"/>
            <a:ext cx="8115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مدينة مهد الذهب == منجم مهد الذهب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320</a:t>
            </a: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 ألف طن خام مستغل (</a:t>
            </a: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1,5</a:t>
            </a: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 ألف طن مستغل)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4" name="Picture 2" descr="المنجم وتظهر المرادم بعض المعالم"/>
          <p:cNvPicPr/>
          <p:nvPr/>
        </p:nvPicPr>
        <p:blipFill>
          <a:blip r:embed="rId1"/>
          <a:stretch/>
        </p:blipFill>
        <p:spPr>
          <a:xfrm>
            <a:off x="1357200" y="3071880"/>
            <a:ext cx="6329520" cy="34290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7" name="Picture 7" descr="G:\رجب 432\أبحاث\مهد الذهب 2\مهد الذهب\New Folder\DSC00376.JPG"/>
          <p:cNvPicPr/>
          <p:nvPr/>
        </p:nvPicPr>
        <p:blipFill>
          <a:blip r:embed="rId2"/>
          <a:stretch/>
        </p:blipFill>
        <p:spPr>
          <a:xfrm>
            <a:off x="1357200" y="3000240"/>
            <a:ext cx="6357960" cy="3581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9.JPG"/>
          <p:cNvPicPr/>
          <p:nvPr/>
        </p:nvPicPr>
        <p:blipFill>
          <a:blip r:embed="rId3"/>
          <a:stretch/>
        </p:blipFill>
        <p:spPr>
          <a:xfrm>
            <a:off x="1392120" y="2995560"/>
            <a:ext cx="635976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533520" y="152280"/>
          <a:ext cx="7924680" cy="974880"/>
        </p:xfrm>
        <a:graphic>
          <a:graphicData uri="http://schemas.openxmlformats.org/drawingml/2006/table">
            <a:tbl>
              <a:tblPr/>
              <a:tblGrid>
                <a:gridCol w="2771640"/>
                <a:gridCol w="2544840"/>
                <a:gridCol w="2608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الحد الأعلى عالمياً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متوسط ترب مهد الذهب (ملجم/كجم)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جامعة مموريال بكندا</a:t>
                      </a:r>
                      <a:endParaRPr b="0" lang="en-US" sz="2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جامعة الملك سعود</a:t>
                      </a:r>
                      <a:endParaRPr b="0" lang="en-US" sz="2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660" name="Rounded Rectangle 13"/>
          <p:cNvSpPr/>
          <p:nvPr/>
        </p:nvSpPr>
        <p:spPr>
          <a:xfrm>
            <a:off x="533520" y="76320"/>
            <a:ext cx="792468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1" name="Rectangle 1"/>
          <p:cNvSpPr/>
          <p:nvPr/>
        </p:nvSpPr>
        <p:spPr>
          <a:xfrm>
            <a:off x="500040" y="3959280"/>
            <a:ext cx="38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raditional Arabic"/>
                <a:cs typeface="Traditional Arabic"/>
              </a:rPr>
              <a:t>مقارنة بين متوسط تركيز العناصر الثقيلة (ملجم كجم</a:t>
            </a:r>
            <a:r>
              <a:rPr b="1" lang="ar-SA" sz="2400" spc="-1" strike="noStrike" baseline="30000">
                <a:solidFill>
                  <a:srgbClr val="262626"/>
                </a:solidFill>
                <a:latin typeface="Traditional Arabic"/>
                <a:ea typeface="Traditional Arabic"/>
              </a:rPr>
              <a:t>-</a:t>
            </a:r>
            <a:r>
              <a:rPr b="1" lang="ar-SA" sz="2400" spc="-1" strike="noStrike" baseline="30000">
                <a:solidFill>
                  <a:srgbClr val="26262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262626"/>
                </a:solidFill>
                <a:latin typeface="Traditional Arabic"/>
                <a:ea typeface="Traditional Arabic"/>
              </a:rPr>
              <a:t>) لترب مهد الذهب، مقارنة بأعلى حد يمكن أن يوجد في تربة غير ملوثة بالعناصر الثقيلة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حصاد الم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50920" y="4797360"/>
            <a:ext cx="5400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تلوث بالعناصر الثقيلة (تربة، نبات، مياه، غذاء، هواء، ..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نظائر المشعة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غازات السامة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سيانيد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292360" y="4680000"/>
            <a:ext cx="33526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فشل الكلوي (الكادميوم)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ربو (العوالق الدقيقة)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سرطان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ذكاء وصعوبات التعلم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....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7" name="صورة 4" descr=""/>
          <p:cNvPicPr/>
          <p:nvPr/>
        </p:nvPicPr>
        <p:blipFill>
          <a:blip r:embed="rId1"/>
          <a:stretch/>
        </p:blipFill>
        <p:spPr>
          <a:xfrm>
            <a:off x="1403280" y="1109520"/>
            <a:ext cx="5616720" cy="353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سد وادي بيش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0" y="1412640"/>
            <a:ext cx="41148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64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Calibri"/>
              </a:rPr>
              <a:t>السدود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سد وادي بيش: الصيف الماضي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اجتاح بعض القرى، مما أضطر إلى إغلاقه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تقدم جبهة السبخات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انخفاض خصوبة التربة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انخفاض المياه الجوفية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قلة الأراضي القابلة للاستزراع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24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474747"/>
                </a:solidFill>
                <a:latin typeface="Calibri"/>
              </a:rPr>
              <a:t>محلي بيشة يناقش أزمة التلوث بسد الملك فهد (الوطن </a:t>
            </a:r>
            <a:r>
              <a:rPr b="1" lang="ar-SA" sz="2100" spc="-1" strike="noStrike">
                <a:solidFill>
                  <a:srgbClr val="474747"/>
                </a:solidFill>
                <a:latin typeface="Calibri"/>
              </a:rPr>
              <a:t>2011/10/2</a:t>
            </a:r>
            <a:r>
              <a:rPr b="1" lang="ar-SA" sz="2100" spc="-1" strike="noStrike">
                <a:solidFill>
                  <a:srgbClr val="474747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نواقل الأمراض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2108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قدمة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06" name="Content Placeholder 5" descr="DSC01572.JPG"/>
          <p:cNvPicPr/>
          <p:nvPr/>
        </p:nvPicPr>
        <p:blipFill>
          <a:blip r:embed="rId1"/>
          <a:stretch/>
        </p:blipFill>
        <p:spPr>
          <a:xfrm>
            <a:off x="395280" y="414972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DSC01563.JPG"/>
          <p:cNvPicPr/>
          <p:nvPr/>
        </p:nvPicPr>
        <p:blipFill>
          <a:blip r:embed="rId2"/>
          <a:stretch/>
        </p:blipFill>
        <p:spPr>
          <a:xfrm>
            <a:off x="395280" y="155736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3635280" y="1628280"/>
            <a:ext cx="4903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ثورة الصناعية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نهج المادي للحضارة (الرأسمالية والاشتراكية)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بروز الاهتمام البيئي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27920" indent="-280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نظمات بيئية، قوانين بيئية، مؤتمرات، ..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727920" indent="-280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إلزام بالقوانين البيئية، معالجة الآثار البيئية، دفع التعويضات ..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nkley, CA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284720" y="1676160"/>
            <a:ext cx="44020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السكان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1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عام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2000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4747"/>
                </a:solidFill>
                <a:latin typeface="Calibri"/>
              </a:rPr>
              <a:t>Pacific Gas and Electric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تلوث مياه الشرب بالكروم السداسي (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52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-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66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4747"/>
                </a:solidFill>
                <a:latin typeface="Calibri"/>
              </a:rPr>
              <a:t>Erin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1993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 (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333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ون دولار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48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شخصا (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26,7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%) </a:t>
            </a:r>
            <a:r>
              <a:rPr b="1" lang="en-US" sz="2400" spc="-1" strike="noStrike">
                <a:solidFill>
                  <a:srgbClr val="474747"/>
                </a:solidFill>
                <a:latin typeface="Calibri"/>
              </a:rPr>
              <a:t>≤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سنوات تصنف أنها معاقة، (المعدل الوطني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,3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%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ا بين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96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-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2008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، لم تسجل حالات سرطان أعلى من المعدل الطبيعي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357120" y="39290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C:\Users\Dr. Abdullah\Desktop\Hinkley, CA.jpg"/>
          <p:cNvPicPr/>
          <p:nvPr/>
        </p:nvPicPr>
        <p:blipFill>
          <a:blip r:embed="rId2"/>
          <a:stretch/>
        </p:blipFill>
        <p:spPr>
          <a:xfrm>
            <a:off x="357120" y="1714680"/>
            <a:ext cx="4071960" cy="223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شركة "بي بي”  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Calibri"/>
                <a:hlinkClick r:id="rId1"/>
              </a:rPr>
              <a:t>http://www.aleqt.com/2013/01/30/article_728569.html</a:t>
            </a: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284720" y="1676160"/>
            <a:ext cx="44020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انفجار منصة الحفر "هورايزون” تعمل في المياه العميقة وغرقت قبالة ساحل ولاية لويزيانا، مما أدى إلى تسرب النفط لعدة أشهر قبل أن يتم إغلاق البئر المتضررة في قاع البحر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84400" indent="-284400" algn="r" rtl="1">
              <a:spcBef>
                <a:spcPts val="601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تقر بالذنب وتدفع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ات دولار بسبب كارثة خليج المكسيك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16680" indent="-237240" algn="r" rtl="1">
              <a:spcBef>
                <a:spcPts val="4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مقتل </a:t>
            </a: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11</a:t>
            </a: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 من عمال منصة الحف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616680" indent="-237240" algn="r" rtl="1">
              <a:spcBef>
                <a:spcPts val="4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تلويث شواطئ على طول ساحل الخليج الأمريكي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616680" indent="-237240" algn="r" rtl="1">
              <a:spcBef>
                <a:spcPts val="4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تعطيل صناعات في المنطقة،بما في ذلك صناعتا السياحة وصيد الأسماك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4400" indent="-284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15" name="Picture 2" descr="http://www.aleqt.com/a/728569_250168.jpg"/>
          <p:cNvPicPr/>
          <p:nvPr/>
        </p:nvPicPr>
        <p:blipFill>
          <a:blip r:embed="rId2"/>
          <a:stretch/>
        </p:blipFill>
        <p:spPr>
          <a:xfrm>
            <a:off x="250920" y="119700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6"/>
          <p:cNvSpPr/>
          <p:nvPr/>
        </p:nvSpPr>
        <p:spPr>
          <a:xfrm>
            <a:off x="324000" y="4292640"/>
            <a:ext cx="3816360" cy="2837160"/>
          </a:xfrm>
          <a:prstGeom prst="rect">
            <a:avLst/>
          </a:prstGeom>
          <a:solidFill>
            <a:srgbClr val="fde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مارس </a:t>
            </a: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2012</a:t>
            </a: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، قامت الشركة بتسوية دعاوى قضائية خاصة مقابل </a:t>
            </a:r>
            <a:r>
              <a:rPr b="1" lang="ar-SA" sz="2400" spc="-1" strike="noStrike" u="sng">
                <a:solidFill>
                  <a:srgbClr val="262626"/>
                </a:solidFill>
                <a:uFillTx/>
                <a:latin typeface="Calibri"/>
              </a:rPr>
              <a:t>8.7</a:t>
            </a: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 مليار دولار لمسؤوليتها تجاه مدعين أفراد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صور مشرقة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11280" y="1676520"/>
            <a:ext cx="4475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أكبر مصدر للطاقة في العالم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الإنتاج، التكرير، التصدير، ..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98440" indent="-29844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صناعات بتروكيميائية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298440" indent="-29844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نهضة تعدينية كبرى (</a:t>
            </a: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2010</a:t>
            </a: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622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رخصة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373,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ون طن خام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00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 ريال (الاستثمارات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6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 ريال (الإيرادات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6,2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 ريال (الأرباح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19" name="Picture 4" descr="http://azoz.me/wp-content/uploads/2009/07/P26-07-09_09.5701.jpg"/>
          <p:cNvPicPr/>
          <p:nvPr/>
        </p:nvPicPr>
        <p:blipFill>
          <a:blip r:embed="rId1"/>
          <a:stretch/>
        </p:blipFill>
        <p:spPr>
          <a:xfrm>
            <a:off x="428760" y="3357720"/>
            <a:ext cx="2944800" cy="271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http://www.aleqt.com/a/515873_153198.jpg"/>
          <p:cNvPicPr/>
          <p:nvPr/>
        </p:nvPicPr>
        <p:blipFill>
          <a:blip r:embed="rId2"/>
          <a:stretch/>
        </p:blipFill>
        <p:spPr>
          <a:xfrm>
            <a:off x="428760" y="1643040"/>
            <a:ext cx="294624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الوجه الآخ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2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292720" y="1387440"/>
            <a:ext cx="3414600" cy="32148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" descr=""/>
          <p:cNvPicPr/>
          <p:nvPr/>
        </p:nvPicPr>
        <p:blipFill>
          <a:blip r:embed="rId2"/>
          <a:stretch/>
        </p:blipFill>
        <p:spPr>
          <a:xfrm>
            <a:off x="5275440" y="4602240"/>
            <a:ext cx="3431880" cy="1847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"/>
          <p:cNvPicPr/>
          <p:nvPr/>
        </p:nvPicPr>
        <p:blipFill>
          <a:blip r:embed="rId3"/>
          <a:stretch/>
        </p:blipFill>
        <p:spPr>
          <a:xfrm>
            <a:off x="395280" y="1357200"/>
            <a:ext cx="4286160" cy="2363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4"/>
          <a:stretch/>
        </p:blipFill>
        <p:spPr>
          <a:xfrm>
            <a:off x="395280" y="3830760"/>
            <a:ext cx="4286160" cy="2679480"/>
          </a:xfrm>
          <a:prstGeom prst="rect">
            <a:avLst/>
          </a:prstGeom>
          <a:ln w="0">
            <a:noFill/>
          </a:ln>
        </p:spPr>
      </p:pic>
      <p:sp>
        <p:nvSpPr>
          <p:cNvPr id="626" name="مستطيل 1"/>
          <p:cNvSpPr/>
          <p:nvPr/>
        </p:nvSpPr>
        <p:spPr>
          <a:xfrm>
            <a:off x="324000" y="3873600"/>
            <a:ext cx="4430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سحابة الدخان سوداء  تهدد صحة 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 قرية شرق جازان (سبق: 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2011/07/29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الوجه الآخ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648320" y="16761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600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أنبوب صرف صحي تصب في شاطئ جدة (الرياض، محرم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433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هـ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29" name="Picture 8" descr="صرف جدة في البحر.jpg"/>
          <p:cNvPicPr/>
          <p:nvPr/>
        </p:nvPicPr>
        <p:blipFill>
          <a:blip r:embed="rId1"/>
          <a:stretch/>
        </p:blipFill>
        <p:spPr>
          <a:xfrm>
            <a:off x="4668840" y="3357720"/>
            <a:ext cx="3838680" cy="2500200"/>
          </a:xfrm>
          <a:prstGeom prst="rect">
            <a:avLst/>
          </a:prstGeom>
          <a:ln w="0">
            <a:noFill/>
          </a:ln>
        </p:spPr>
      </p:pic>
      <p:pic>
        <p:nvPicPr>
          <p:cNvPr id="630" name="Content Placeholder 7" descr="عبارة التصريف عام 1424هـ.jpg"/>
          <p:cNvPicPr/>
          <p:nvPr/>
        </p:nvPicPr>
        <p:blipFill>
          <a:blip r:embed="rId2"/>
          <a:stretch/>
        </p:blipFill>
        <p:spPr>
          <a:xfrm>
            <a:off x="571680" y="3286080"/>
            <a:ext cx="3524040" cy="2643120"/>
          </a:xfrm>
          <a:prstGeom prst="rect">
            <a:avLst/>
          </a:prstGeom>
          <a:ln w="0">
            <a:noFill/>
          </a:ln>
        </p:spPr>
      </p:pic>
      <p:sp>
        <p:nvSpPr>
          <p:cNvPr id="631" name="Content Placeholder 13"/>
          <p:cNvSpPr/>
          <p:nvPr/>
        </p:nvSpPr>
        <p:spPr>
          <a:xfrm>
            <a:off x="324000" y="1714680"/>
            <a:ext cx="41432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&gt;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4000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 مكعب يومياً صرف صناعي غير معالج (المنطقة الصناعية بالرياض،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426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هـ)، وما زالت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الوجه الآخ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48320" y="16761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Traditional Arabic"/>
                <a:ea typeface="Traditional Arabic"/>
                <a:hlinkClick r:id="rId1"/>
              </a:rPr>
              <a:t>http://www.alwatan.com.sa/m/News_Detail.aspx?NewsID=133388&amp;CategoryID=5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وطن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6/02/2013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تكلفة التلوث البيئي لحرب الخليج الثانية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8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ليار دولار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Content Placeholder 13"/>
          <p:cNvSpPr/>
          <p:nvPr/>
        </p:nvSpPr>
        <p:spPr>
          <a:xfrm>
            <a:off x="324000" y="1714680"/>
            <a:ext cx="41432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تلوث شاطئ جدة تخطّى المعايير العالمية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35" name="Picture 2" descr="النوافير تمثل عامل جذب للمتنزهين على كورنيش جدة.  «الاقتصادية»"/>
          <p:cNvPicPr/>
          <p:nvPr/>
        </p:nvPicPr>
        <p:blipFill>
          <a:blip r:embed="rId2"/>
          <a:stretch/>
        </p:blipFill>
        <p:spPr>
          <a:xfrm>
            <a:off x="395280" y="3429000"/>
            <a:ext cx="4094280" cy="2651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نتيجة: تلوث بيئي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48320" y="16761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38" name="صورة 1" descr=""/>
          <p:cNvPicPr/>
          <p:nvPr/>
        </p:nvPicPr>
        <p:blipFill>
          <a:blip r:embed="rId1"/>
          <a:stretch/>
        </p:blipFill>
        <p:spPr>
          <a:xfrm>
            <a:off x="3924360" y="3078000"/>
            <a:ext cx="4884840" cy="3664080"/>
          </a:xfrm>
          <a:prstGeom prst="rect">
            <a:avLst/>
          </a:prstGeom>
          <a:ln w="0">
            <a:noFill/>
          </a:ln>
        </p:spPr>
      </p:pic>
      <p:pic>
        <p:nvPicPr>
          <p:cNvPr id="639" name="صورة 2" descr=""/>
          <p:cNvPicPr/>
          <p:nvPr/>
        </p:nvPicPr>
        <p:blipFill>
          <a:blip r:embed="rId2"/>
          <a:stretch/>
        </p:blipFill>
        <p:spPr>
          <a:xfrm>
            <a:off x="3924360" y="1041480"/>
            <a:ext cx="4895640" cy="26748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"/>
          <p:cNvPicPr/>
          <p:nvPr/>
        </p:nvPicPr>
        <p:blipFill>
          <a:blip r:embed="rId3"/>
          <a:stretch/>
        </p:blipFill>
        <p:spPr>
          <a:xfrm>
            <a:off x="903240" y="907920"/>
            <a:ext cx="1646280" cy="593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0:41:16Z</dcterms:created>
  <dc:creator/>
  <dc:description/>
  <dc:language>en-US</dc:language>
  <cp:lastModifiedBy/>
  <dcterms:modified xsi:type="dcterms:W3CDTF">2017-10-03T10:33:20Z</dcterms:modified>
  <cp:revision>1</cp:revision>
  <dc:subject/>
  <dc:title/>
</cp:coreProperties>
</file>