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9.png" ContentType="image/png"/>
  <Override PartName="/ppt/media/image44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4.png" ContentType="image/png"/>
  <Override PartName="/ppt/media/image12.jpeg" ContentType="image/jpeg"/>
  <Override PartName="/ppt/media/image45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1.jpeg" ContentType="image/jpeg"/>
  <Override PartName="/ppt/media/image48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dt" idx="4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4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 type="sldNum" idx="4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CD7F-C388-46F0-B12C-2E6359F8E1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F92-C89A-483E-BE92-BC634CAAB595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4AB1-C131-4209-894F-B472DCDFD9A3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F6C-BA6D-40F7-9F76-D2CE81C29B01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1BFC-EBD1-42A1-BDBF-52EC39B221EE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F872-8154-4455-9721-375D90401647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959-F707-47C4-81D8-31651938320F}" type="slidenum">
              <a:rPr b="0" lang="ar-SA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D517-55C2-44EA-8E90-AAEDF4404105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9DC3-885A-48A7-AA6D-021EB7BDCCB9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BB35-568D-457C-A426-9FE541700909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EEF1-7C9D-4735-8A55-C8C079630D7A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697-17C7-48C4-A523-D5F06BB70583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CDE8-90FC-481C-BE54-BD0230EDF618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99BF-1ECE-40E5-B7C2-1A1B1BAD07EA}" type="slidenum">
              <a:rPr b="0" lang="en-US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507-FC0B-4642-9428-76077762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611-84EC-49B4-93D5-1F6E6759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AA6A3-F9D9-4C6D-8A9D-78F7B47F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C2887A-077C-44DB-BD70-AE75DEC4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878C1D-F157-40F0-B894-7A70305D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A6103F-C9E0-43C2-997B-020F8FD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A42253-B0AD-41E7-834E-AD083AFF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1F50B-7816-4F4A-BBB0-59A4217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EC5B2-B33C-4FEA-B015-DB68860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DF7525-4604-4E2D-AF9F-6BF48BA6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78E0AD-432E-475C-8424-7B8205E9B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4705E-9189-41BF-8103-952FC4B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FA2-9F49-4D57-A845-15571CD62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343C6B-424A-4083-ADB5-DCAF11BB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BBCB98-4B77-4EF5-BDF7-8F83C61E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E9807D-B624-42B6-A315-B70975C9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CB0C96-A235-4AE1-BCE7-CF8488DA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12BFD-E546-4595-8222-CF614782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049C30-7462-4101-BCF0-BB999B9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ED74C7-22D0-4D29-B399-2518DF49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CF68DD-EBD9-41C0-8656-15325DE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DB2341-8540-40AC-8147-EF45A1D3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EC3D1-E090-4016-B9BC-949A6481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6046-A5A3-4E8E-AF87-2E12C31C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063CDA-B5A4-4A95-8D26-F2468B59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03D85F-0B76-4FAA-ADF6-4EC789F5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85EDE-4B6F-4AE4-97ED-9707ADD9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7156C5-4D11-426A-8EDC-05767136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1C9A3F-8DF7-4881-A508-EBA17D45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E6FAF0-7DCF-4DA0-A472-5C6528B0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F0EE6-1837-4B9E-9218-E2DC0BD7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B76C72-6DFD-4931-BA71-13A7CC7E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B43E12-7C9F-49F0-A123-DB6059DB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B61AD1-D81B-4161-A241-1872187A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8258-4B26-457E-AC9C-7B9EDDB1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2D9F11-E6D2-422E-ADED-73BDFA14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EA1F1B-E335-4AB8-B22C-03BA56D3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860DD4-D2FA-4EFE-A960-CF23A767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364191-9554-45B2-87DE-F0FC9D1C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CF4EB7-AA2F-4A6A-9DE5-5A28F8A9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9F3156-F296-45BB-B2AB-86E0F483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39A584-8090-4C85-B4A8-0724F68D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4F0C5B-3C84-4F66-B678-61707C96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4D790B-1323-4878-B5A3-4D2B19E8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2F32BE-2D92-4B21-B48D-90874ECD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952-B7FA-4858-8067-E9C770D8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82918A-0C58-4676-B556-5237FFE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F9A019-91B4-4B7F-914F-22B4A2E8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C87E0-2C03-47BD-8839-5C043BD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12F1D3-93CE-443D-887F-70C166D5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AFE0CF-9889-4D19-94A7-766F166F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37A96D-9BB0-411F-9771-E5D2AA3A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B34E6-6A14-422D-8835-8660C7DB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7A63F6-41B3-4C1F-AED3-21BB9405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B8962-3B36-4EE6-8CC4-F8C5C7F9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285701-CB2D-4EE1-A142-A9216DA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B201-FA61-4735-86EF-4BAD83D9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D4788-37FD-455E-9FB4-147BF527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58305D-A77C-469E-8A8C-7A3105B6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46D66F-5E80-4FB1-97A2-2BB6E748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89860B-4B37-475C-B5D0-9880DBB1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7FA5D6-AEDB-4C47-98D3-2F635F84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3DB9DB-4B5C-4D0B-8264-E8DBEC6A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F07305-7AB6-4E79-9380-6780BDFF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621803-9CB4-4A5C-8C2E-21E514B3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AD3ECC-7715-4727-B4E0-89E0F6CC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44210F-9054-484D-B4B1-31305674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34C9-AD72-4EC4-9EA2-CF1FEE7B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FA1777-7D01-49DB-8422-208E9292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AB0E81-9338-4B51-8768-45B197E2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044741-5435-459C-A0B4-A74FBCB9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A9D214-2419-4D03-8BC7-139C5CD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8D46B2-6160-491D-9031-A8F5025E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288069-DC95-4923-B0A9-72FD611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7B7E10-4C28-490D-99B0-BCF2ED9B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3E7514-31CE-4645-9183-492CAB2D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EBD834-3FF5-48BE-B52E-13F6204C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A0F6-330A-40EE-9457-C580F796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4DC-AE19-4BC4-BFB6-334CD082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D37D-C7B0-4C92-91A6-54D36BB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D6BE-0E60-4D6B-8298-6D82E7B2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8423-6077-4A30-94C2-18BCC06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B7CE-631A-4D81-8188-E784F5B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86F-11B1-4AFB-AF64-A9EFDCB6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1185-1FA8-4469-9F39-81B938A1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B9F-E671-4847-9B32-AB0342B1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7CCB6-9410-424A-A5A5-4A69407646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03F2F-B499-4FEF-921B-3A2A2868D6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2714C-54F0-4610-995C-65E50FDCCD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2C2A1-B9D1-4F3A-AB25-FD4A92A72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42D82-4471-471A-97EB-E9931BE916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4D8-F2B8-48D5-8CAD-40938EE7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E65332-9EAA-428C-A892-35028FD522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9AFC9-AF1A-4E9D-A95E-119962C8B5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FBE13-927B-4903-A252-903E5F87E9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C543B-DEB7-43EC-9B41-31A0F4AAFF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DF478F-AF22-427F-A503-E74196BDB9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A5AAA-87A8-404B-B507-EFCEC4051D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3D5185-4B28-4C90-9C7E-8CBFC45296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7C238-5DD5-448C-8BC9-9F130E9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11056-CF44-44E4-B16B-BA01052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79F64-3233-4810-A93B-910CE06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803-B424-42CE-B8FC-F89C6F1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C6C23-3A39-4C62-AFFB-B36F3879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6B15E8-B8EA-42DC-9C8B-92CB12A1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AEB581-29BF-4799-A0DE-7FCE6E2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C1D6A-AE04-4D2B-B02B-35FB2427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3E956-9D6F-4906-AD53-456CFDB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22D6C9-F313-4F9D-AB20-F5C7E20D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FF02D-A169-4AC7-8594-FACA266B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63FAC-C569-4BE6-979D-E3B322D0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1068C-9666-4A0E-B176-FE2832BA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B6806-E5AA-4470-8D07-0BE1D56D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CEB-4EBB-492E-AAB5-58540E4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A6551-23B0-4B1B-B36E-78488E6F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9BDF8-28B4-4692-9137-56855BBF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E0590-9955-4B5E-BADA-B451C1F6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9268F-CF4D-441F-9F39-A8732C2F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23C7F-06CE-4671-830A-23300819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FDB75-C943-4D78-A655-1C4831EA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9AD143-B19C-4F6E-A48D-9F061E58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41659-7B90-4D16-8A22-AC9C1F70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6BE8A-30D3-4188-8A49-398DF651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354E4A-F43E-4C69-8C44-FEBB8305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92B-A6CA-41F6-BFC5-9AE196B7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A5217E-56F7-4FE5-B65B-AF45E3A4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BBC118-92EB-4CC6-806B-8C5B83CB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5717FC-6168-4FC6-80AE-D8E540D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C4DFC-F03E-473C-8F5D-B5CED11F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62FC1-0A4E-4C81-ACF8-F7D525B5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B4D74-62E4-45D1-93DF-2DB3537C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00862-8CC8-412E-A826-2CF70216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1F5D7-32EF-4678-9CE3-9A68E253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27A5A-2B64-4DC2-8432-E6EB6E16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C73DD-FCC8-47B7-82CF-85D44A3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ECA-313D-4246-BED8-E5C2FDB5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45DD5-D710-4304-99C7-FB4D38A9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C69153-D929-447D-BB0A-EA7792BE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1BD42-B44F-4818-B721-8B4EA5EB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59DCF-83EF-42C4-B6FE-97164207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B87DB-C757-4535-9C69-DEF2E9BE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F32E0-DE6E-446C-9A28-0A7BE09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C5AAB6-3F8E-42E0-86D4-5F763BBE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61726-5270-47C1-9F62-7EFA67AC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520B72-F9B1-4BD4-B252-983EF431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8B670E-3C7F-4705-8E00-1569FC3C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A726-E097-409B-8A4B-0FD1ED92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9F6FB-ACC4-4A65-87A3-27C28EAD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7AB19-179E-4C7D-80B2-32CC5FBD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A7D196-26D9-4AAC-B3B7-42B1354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AEF86-3DE2-4E5E-8F01-8A70D5A8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C47E61-F357-49B7-B266-7C7ED4E6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47D50-49D3-4B02-85F5-F9B25379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C6DDE1-FB77-4A42-94FD-4CD34D01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A4E29-0DDC-41DF-ADF3-2E09E6AC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258BC3-9978-4B5B-A804-C4ECA90D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D9D3E6-23E5-4D51-A9FD-CE7B142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9D5-99E1-40C7-A121-4F21DCE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D92C2-0373-4E64-B062-745F5E1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64ADF-019E-4982-881B-EE64F388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393BA-4F69-4F7F-82BE-267737AE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D51B49-63B9-459D-A13B-E7D3C8BA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777CBD-898C-4628-925A-C38E8E6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EB8382-13F3-46AB-BA04-EB6EE3D0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866F0-917D-430A-BF0A-BE5AAE79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545EC-C68E-466F-974A-A49F6A66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E5C08-A8D3-4B8E-A2CB-5E7C5269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0BE249-B0EF-4757-8DAA-42398D50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ECDE-8BB5-499B-8EDE-634139F5D510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75A3-E61B-4D50-9458-EE9EAFB1315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39FA-85D8-41C0-B09E-7E788FF69C4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FDFC-1C4C-4893-B603-8EE84E5E92C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ADE-B7BB-4D52-A803-6AD03D9F68CF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B42B-3B62-488C-9213-2FCA6CE1DE6A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5510-57D8-46A6-A12C-273E28BA885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CE33-520F-4CCB-A66F-7DD5790A4A34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228F-7953-4889-8F3C-76DA165D84CA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962E-71A7-4579-91C0-48E2A6BD158D}" type="slidenum">
              <a:rPr b="0" lang="ar-SA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E33F-FA07-4588-A5DF-E32BA27ACFF4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D42-8354-44DC-97C6-34CD10939D9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A6F2-CDC5-4D8E-A9CD-15DD577EC549}" type="slidenum">
              <a:rPr b="0" lang="ar-SA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3592-12FA-4673-9801-1FC74832FBA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eqt.com/2013/01/30/article_728569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watan.com.sa/m/News_Detail.aspx?NewsID=133388&amp;CategoryID=5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Calibri"/>
              </a:rPr>
              <a:t>د. عبدالله بن سليمان الفراج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title"/>
          </p:nvPr>
        </p:nvSpPr>
        <p:spPr>
          <a:xfrm>
            <a:off x="228600" y="304812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ar-SA" sz="5600" spc="-1" strike="noStrike">
                <a:solidFill>
                  <a:srgbClr val="ffffff"/>
                </a:solidFill>
                <a:latin typeface="Arial"/>
                <a:cs typeface="Arial"/>
              </a:rPr>
              <a:t>التحديات البيئية </a:t>
            </a:r>
            <a:r>
              <a:rPr b="0" lang="ar-SA" sz="5600" spc="-1" strike="noStrike">
                <a:solidFill>
                  <a:srgbClr val="ffff00"/>
                </a:solidFill>
                <a:latin typeface="Arial"/>
                <a:cs typeface="Arial"/>
              </a:rPr>
              <a:t>في المملكة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04" name="صورة 3" descr=""/>
          <p:cNvPicPr/>
          <p:nvPr/>
        </p:nvPicPr>
        <p:blipFill>
          <a:blip r:embed="rId2"/>
          <a:stretch/>
        </p:blipFill>
        <p:spPr>
          <a:xfrm>
            <a:off x="7956720" y="5084640"/>
            <a:ext cx="11952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نتيجة: تراكيز عالية للعناصر الثقيلة في الترب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2" name="Picture 2" descr="G:\رجب 432\إعلام\صناعية الرياض الثانية\الزيادة في تركيز العناصر الثقيلة.jpg"/>
          <p:cNvPicPr/>
          <p:nvPr/>
        </p:nvPicPr>
        <p:blipFill>
          <a:blip r:embed="rId1"/>
          <a:stretch/>
        </p:blipFill>
        <p:spPr>
          <a:xfrm>
            <a:off x="1187280" y="1357200"/>
            <a:ext cx="7086600" cy="5059440"/>
          </a:xfrm>
          <a:prstGeom prst="rect">
            <a:avLst/>
          </a:prstGeom>
          <a:ln w="0">
            <a:noFill/>
          </a:ln>
        </p:spPr>
      </p:pic>
      <p:sp>
        <p:nvSpPr>
          <p:cNvPr id="643" name="AutoShape 4"/>
          <p:cNvSpPr/>
          <p:nvPr/>
        </p:nvSpPr>
        <p:spPr>
          <a:xfrm>
            <a:off x="-11916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-11916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" descr=""/>
          <p:cNvPicPr/>
          <p:nvPr/>
        </p:nvPicPr>
        <p:blipFill>
          <a:blip r:embed="rId1"/>
          <a:stretch/>
        </p:blipFill>
        <p:spPr>
          <a:xfrm>
            <a:off x="571680" y="1357200"/>
            <a:ext cx="3968640" cy="142884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900" spc="-1" strike="noStrike">
              <a:solidFill>
                <a:srgbClr val="262626"/>
              </a:solidFill>
              <a:latin typeface="Calibri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571680" y="3214800"/>
          <a:ext cx="3786120" cy="1920600"/>
        </p:xfrm>
        <a:graphic>
          <a:graphicData uri="http://schemas.openxmlformats.org/drawingml/2006/table">
            <a:tbl>
              <a:tblPr/>
              <a:tblGrid>
                <a:gridCol w="1965240"/>
                <a:gridCol w="1820880"/>
              </a:tblGrid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00040" y="2714760"/>
          <a:ext cx="4038480" cy="345600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</a:tblGrid>
              <a:tr h="93276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ميكروجرام/م مكعب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891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مدين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891e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ينبع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دمام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جد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مكة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هفوف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62626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Times New Roman"/>
                          <a:cs typeface="Times New Roman"/>
                        </a:rPr>
                        <a:t>الرياض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de7"/>
                    </a:solidFill>
                  </a:tcPr>
                </a:tc>
              </a:tr>
              <a:tr h="420840"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143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  <a:tc>
                  <a:txBody>
                    <a:bodyPr lIns="45360" rIns="45360" tIns="0" bIns="0" anchor="b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  <a:cs typeface="Times New Roman"/>
                        </a:rPr>
                        <a:t>المتوسط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b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acc"/>
                    </a:solidFill>
                  </a:tcPr>
                </a:tc>
              </a:tr>
            </a:tbl>
          </a:graphicData>
        </a:graphic>
      </p:graphicFrame>
      <p:sp>
        <p:nvSpPr>
          <p:cNvPr id="649" name="Content Placeholder 13"/>
          <p:cNvSpPr/>
          <p:nvPr/>
        </p:nvSpPr>
        <p:spPr>
          <a:xfrm>
            <a:off x="4643280" y="1643040"/>
            <a:ext cx="403884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ركيز العوالق القابلة للاستنشاق في الهواء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قرير سبتمبر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11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شمل التقرير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10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دينة من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91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دولة، وغطى (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3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-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8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)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قدمت المملكة قياسات لعام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03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 فقط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قياس منظمة الصحة العالمية 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يكروجرام/م مكعب (</a:t>
            </a:r>
            <a:r>
              <a:rPr b="1" lang="en-US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PM1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)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نظام البيئي السعودي يشترط (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80</a:t>
            </a:r>
            <a:r>
              <a:rPr b="1" lang="ar-SA" sz="26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يكروجرام) في المناطق الصناعية والتعدينية.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1" name="مخطط 5" descr=""/>
          <p:cNvPicPr/>
          <p:nvPr/>
        </p:nvPicPr>
        <p:blipFill>
          <a:blip r:embed="rId1"/>
          <a:stretch/>
        </p:blipFill>
        <p:spPr>
          <a:xfrm>
            <a:off x="969840" y="1481040"/>
            <a:ext cx="71805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alibri"/>
              </a:rPr>
              <a:t>الحقيقة المؤلمة: المملكة (تسجل مستويات تلوث عالية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6840" y="1676160"/>
            <a:ext cx="8115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مدينة مهد الذهب == منجم مهد الذهب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320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 ألف طن خام مستغل (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1,5</a:t>
            </a:r>
            <a:r>
              <a:rPr b="0" lang="ar-SA" sz="2800" spc="-1" strike="noStrike">
                <a:solidFill>
                  <a:srgbClr val="474747"/>
                </a:solidFill>
                <a:latin typeface="Calibri"/>
              </a:rPr>
              <a:t> ألف طن مستغل)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4" name="Picture 2" descr="المنجم وتظهر المرادم بعض المعالم"/>
          <p:cNvPicPr/>
          <p:nvPr/>
        </p:nvPicPr>
        <p:blipFill>
          <a:blip r:embed="rId1"/>
          <a:stretch/>
        </p:blipFill>
        <p:spPr>
          <a:xfrm>
            <a:off x="1357200" y="3071880"/>
            <a:ext cx="6329520" cy="342900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57" name="Picture 7" descr="G:\رجب 432\أبحاث\مهد الذهب 2\مهد الذهب\New Folder\DSC00376.JPG"/>
          <p:cNvPicPr/>
          <p:nvPr/>
        </p:nvPicPr>
        <p:blipFill>
          <a:blip r:embed="rId2"/>
          <a:stretch/>
        </p:blipFill>
        <p:spPr>
          <a:xfrm>
            <a:off x="1357200" y="3000240"/>
            <a:ext cx="6357960" cy="3581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1" descr="9.JPG"/>
          <p:cNvPicPr/>
          <p:nvPr/>
        </p:nvPicPr>
        <p:blipFill>
          <a:blip r:embed="rId3"/>
          <a:stretch/>
        </p:blipFill>
        <p:spPr>
          <a:xfrm>
            <a:off x="1392120" y="2995560"/>
            <a:ext cx="635976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9" name=""/>
          <p:cNvGraphicFramePr/>
          <p:nvPr/>
        </p:nvGraphicFramePr>
        <p:xfrm>
          <a:off x="533520" y="152280"/>
          <a:ext cx="7924680" cy="974880"/>
        </p:xfrm>
        <a:graphic>
          <a:graphicData uri="http://schemas.openxmlformats.org/drawingml/2006/table">
            <a:tbl>
              <a:tblPr/>
              <a:tblGrid>
                <a:gridCol w="2771640"/>
                <a:gridCol w="2544840"/>
                <a:gridCol w="26082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الحد الأعلى عالمياً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متوسط ترب مهد الذهب (ملجم/كجم)</a:t>
                      </a:r>
                      <a:endParaRPr b="0" lang="en-US" sz="24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جامعة مموريال بكندا</a:t>
                      </a:r>
                      <a:endParaRPr b="0" lang="en-US" sz="2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جامعة الملك سعود</a:t>
                      </a:r>
                      <a:endParaRPr b="0" lang="en-US" sz="2800" spc="-1" strike="noStrike">
                        <a:solidFill>
                          <a:srgbClr val="262626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660" name="Rounded Rectangle 13"/>
          <p:cNvSpPr/>
          <p:nvPr/>
        </p:nvSpPr>
        <p:spPr>
          <a:xfrm>
            <a:off x="533520" y="76320"/>
            <a:ext cx="792468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1" name="Rectangle 1"/>
          <p:cNvSpPr/>
          <p:nvPr/>
        </p:nvSpPr>
        <p:spPr>
          <a:xfrm>
            <a:off x="500040" y="3959280"/>
            <a:ext cx="385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Traditional Arabic"/>
                <a:cs typeface="Traditional Arabic"/>
              </a:rPr>
              <a:t>مقارنة بين متوسط تركيز العناصر الثقيلة (ملجم كجم</a:t>
            </a:r>
            <a:r>
              <a:rPr b="1" lang="ar-SA" sz="2400" spc="-1" strike="noStrike" baseline="30000">
                <a:solidFill>
                  <a:srgbClr val="262626"/>
                </a:solidFill>
                <a:latin typeface="Traditional Arabic"/>
                <a:ea typeface="Traditional Arabic"/>
              </a:rPr>
              <a:t>-</a:t>
            </a:r>
            <a:r>
              <a:rPr b="1" lang="ar-SA" sz="2400" spc="-1" strike="noStrike" baseline="30000">
                <a:solidFill>
                  <a:srgbClr val="262626"/>
                </a:solidFill>
                <a:latin typeface="Traditional Arabic"/>
                <a:ea typeface="Traditional Arabic"/>
              </a:rPr>
              <a:t>1</a:t>
            </a:r>
            <a:r>
              <a:rPr b="1" lang="ar-SA" sz="2400" spc="-1" strike="noStrike">
                <a:solidFill>
                  <a:srgbClr val="262626"/>
                </a:solidFill>
                <a:latin typeface="Traditional Arabic"/>
                <a:ea typeface="Traditional Arabic"/>
              </a:rPr>
              <a:t>) لترب مهد الذهب، مقارنة بأعلى حد يمكن أن يوجد في تربة غير ملوثة بالعناصر الثقيلة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حصاد الم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4797360"/>
            <a:ext cx="5400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تلوث بالعناصر الثقيلة (تربة، نبات، مياه، غذاء، هواء، ..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نظائر المشعة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غازات السامة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سيانيد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1160" indent="-28116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5292360" y="4680000"/>
            <a:ext cx="335268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فشل الكلوي (الكادميوم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ربو (العوالق الدقيقة)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سرطان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الذكاء وصعوبات التعلم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12400" indent="-212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....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67" name="صورة 4" descr=""/>
          <p:cNvPicPr/>
          <p:nvPr/>
        </p:nvPicPr>
        <p:blipFill>
          <a:blip r:embed="rId1"/>
          <a:stretch/>
        </p:blipFill>
        <p:spPr>
          <a:xfrm>
            <a:off x="1403280" y="1109520"/>
            <a:ext cx="5616720" cy="353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سد وادي بيش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0" y="1412640"/>
            <a:ext cx="41148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64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474747"/>
                </a:solidFill>
                <a:latin typeface="Calibri"/>
              </a:rPr>
              <a:t>السدود</a:t>
            </a:r>
            <a:endParaRPr b="0" lang="en-US" sz="26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سد وادي بيش: الصيف الماضي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جتاح بعض القرى، مما أضطر إلى إغلاقه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تقدم جبهة السبخات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نخفاض خصوبة الترب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انخفاض المياه الجوفية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قلة الأراضي القابلة للاستزراع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24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محلي بيشة يناقش أزمة التلوث بسد الملك فهد (الوطن </a:t>
            </a: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2011/10/2</a:t>
            </a:r>
            <a:r>
              <a:rPr b="1" lang="ar-SA" sz="2100" spc="-1" strike="noStrike">
                <a:solidFill>
                  <a:srgbClr val="474747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262626"/>
              </a:solidFill>
              <a:latin typeface="Calibri"/>
            </a:endParaRPr>
          </a:p>
          <a:p>
            <a:pPr lvl="1" marL="586800" indent="-225720" algn="r" rtl="1">
              <a:spcBef>
                <a:spcPts val="55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474747"/>
                </a:solidFill>
                <a:latin typeface="Calibri"/>
              </a:rPr>
              <a:t>نواقل الأمراض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2108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مقدم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06" name="Content Placeholder 5" descr="DSC01572.JPG"/>
          <p:cNvPicPr/>
          <p:nvPr/>
        </p:nvPicPr>
        <p:blipFill>
          <a:blip r:embed="rId1"/>
          <a:stretch/>
        </p:blipFill>
        <p:spPr>
          <a:xfrm>
            <a:off x="395280" y="414972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6" descr="DSC01563.JPG"/>
          <p:cNvPicPr/>
          <p:nvPr/>
        </p:nvPicPr>
        <p:blipFill>
          <a:blip r:embed="rId2"/>
          <a:stretch/>
        </p:blipFill>
        <p:spPr>
          <a:xfrm>
            <a:off x="395280" y="1557360"/>
            <a:ext cx="3168720" cy="23763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3635280" y="1628280"/>
            <a:ext cx="49039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ثورة الصناعية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نهج المادي للحضارة (الرأسمالية والاشتراكية)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marL="335880" indent="-335880" algn="r" rtl="1">
              <a:lnSpc>
                <a:spcPct val="100000"/>
              </a:lnSpc>
              <a:spcBef>
                <a:spcPts val="7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بروز الاهتمام البيئي.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27920" indent="-280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نظمات بيئية، قوانين بيئية، مؤتمرات، ..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727920" indent="-280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إلزام بالقوانين البيئية، معالجة الآثار البيئية، دفع التعويضات ..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Hinkley, CA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4720" y="1676160"/>
            <a:ext cx="44020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لسكان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1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عام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000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Pacific Gas and Electric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تلوث مياه الشرب بالكروم السداسي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5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6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Erin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199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33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ون دولار)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48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شخصا (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6,7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%) </a:t>
            </a:r>
            <a:r>
              <a:rPr b="1" lang="en-US" sz="2400" spc="-1" strike="noStrike">
                <a:solidFill>
                  <a:srgbClr val="474747"/>
                </a:solidFill>
                <a:latin typeface="Calibri"/>
              </a:rPr>
              <a:t>≤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سنوات تصنف أنها معاقة، (المعدل الوطني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,3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%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25800" indent="-325800" algn="r" rtl="1">
              <a:lnSpc>
                <a:spcPct val="114000"/>
              </a:lnSpc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ا بين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99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2008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م، لم تسجل حالات سرطان أعلى من المعدل الطبيعي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357120" y="39290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C:\Users\Dr. Abdullah\Desktop\Hinkley, CA.jpg"/>
          <p:cNvPicPr/>
          <p:nvPr/>
        </p:nvPicPr>
        <p:blipFill>
          <a:blip r:embed="rId2"/>
          <a:stretch/>
        </p:blipFill>
        <p:spPr>
          <a:xfrm>
            <a:off x="357120" y="1714680"/>
            <a:ext cx="4071960" cy="223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شركة "بي بي”  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Calibri"/>
                <a:hlinkClick r:id="rId1"/>
              </a:rPr>
              <a:t>http://www.aleqt.com/2013/01/30/article_728569.html</a:t>
            </a:r>
            <a:r>
              <a:rPr b="1" lang="ar-S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84720" y="1676160"/>
            <a:ext cx="440208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نفجار منصة الحفر "هورايزون” تعمل في المياه العميقة وغرقت قبالة ساحل ولاية لويزيانا، مما أدى إلى تسرب النفط لعدة أشهر قبل أن يتم إغلاق البئر المتضررة في قاع البحر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84400" indent="-284400" algn="r" rtl="1">
              <a:spcBef>
                <a:spcPts val="601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تقر بالذنب وتدفع 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ات دولار بسبب كارثة خليج المكسيك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مقتل </a:t>
            </a: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11</a:t>
            </a: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 من عمال منصة الحفر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تلويث شواطئ على طول ساحل الخليج الأمريكي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lvl="1" marL="616680" indent="-237240" algn="r" rtl="1">
              <a:spcBef>
                <a:spcPts val="4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474747"/>
                </a:solidFill>
                <a:latin typeface="Calibri"/>
              </a:rPr>
              <a:t>تعطيل صناعات في المنطقة،بما في ذلك صناعتا السياحة وصيد الأسماك.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284400" indent="-284400" algn="r" rtl="1">
              <a:spcBef>
                <a:spcPts val="499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5" name="Picture 2" descr="http://www.aleqt.com/a/728569_250168.jpg"/>
          <p:cNvPicPr/>
          <p:nvPr/>
        </p:nvPicPr>
        <p:blipFill>
          <a:blip r:embed="rId2"/>
          <a:stretch/>
        </p:blipFill>
        <p:spPr>
          <a:xfrm>
            <a:off x="250920" y="119700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6"/>
          <p:cNvSpPr/>
          <p:nvPr/>
        </p:nvSpPr>
        <p:spPr>
          <a:xfrm>
            <a:off x="324000" y="4292640"/>
            <a:ext cx="3816360" cy="2837160"/>
          </a:xfrm>
          <a:prstGeom prst="rect">
            <a:avLst/>
          </a:prstGeom>
          <a:solidFill>
            <a:srgbClr val="fde7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مارس 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2012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، قامت الشركة بتسوية دعاوى قضائية خاصة مقابل </a:t>
            </a:r>
            <a:r>
              <a:rPr b="1" lang="ar-SA" sz="2400" spc="-1" strike="noStrike" u="sng">
                <a:solidFill>
                  <a:srgbClr val="262626"/>
                </a:solidFill>
                <a:uFillTx/>
                <a:latin typeface="Calibri"/>
              </a:rPr>
              <a:t>8.7</a:t>
            </a:r>
            <a:r>
              <a:rPr b="1" lang="ar-SA" sz="2400" spc="-1" strike="noStrike">
                <a:solidFill>
                  <a:srgbClr val="262626"/>
                </a:solidFill>
                <a:latin typeface="Calibri"/>
              </a:rPr>
              <a:t> مليار دولار لمسؤوليتها تجاه مدعين أفراد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صور مشرقة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11280" y="1676520"/>
            <a:ext cx="4475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أكبر مصدر للطاقة في العالم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الإنتاج، التكرير، التصدير، ..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صناعات بتروكيميائية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298440" indent="-29844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نهضة تعدينية كبرى (</a:t>
            </a: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2010</a:t>
            </a:r>
            <a:r>
              <a:rPr b="1" lang="ar-SA" sz="2800" spc="-1" strike="noStrike">
                <a:solidFill>
                  <a:srgbClr val="474747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62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رخصة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373,5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ون طن خام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00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استثمارات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16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إيرادات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646200" indent="-248400" algn="r" rtl="1">
              <a:spcBef>
                <a:spcPts val="601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6,2</a:t>
            </a:r>
            <a:r>
              <a:rPr b="1" lang="ar-SA" sz="2400" spc="-1" strike="noStrike">
                <a:solidFill>
                  <a:srgbClr val="474747"/>
                </a:solidFill>
                <a:latin typeface="Calibri"/>
              </a:rPr>
              <a:t> مليار ريال (الأرباح)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19" name="Picture 4" descr="http://azoz.me/wp-content/uploads/2009/07/P26-07-09_09.5701.jpg"/>
          <p:cNvPicPr/>
          <p:nvPr/>
        </p:nvPicPr>
        <p:blipFill>
          <a:blip r:embed="rId1"/>
          <a:stretch/>
        </p:blipFill>
        <p:spPr>
          <a:xfrm>
            <a:off x="428760" y="3357720"/>
            <a:ext cx="2944800" cy="2714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2" descr="http://www.aleqt.com/a/515873_153198.jpg"/>
          <p:cNvPicPr/>
          <p:nvPr/>
        </p:nvPicPr>
        <p:blipFill>
          <a:blip r:embed="rId2"/>
          <a:stretch/>
        </p:blipFill>
        <p:spPr>
          <a:xfrm>
            <a:off x="428760" y="1643040"/>
            <a:ext cx="294624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22" name="عنصر نائب للمحتوى 3" descr=""/>
          <p:cNvPicPr/>
          <p:nvPr/>
        </p:nvPicPr>
        <p:blipFill>
          <a:blip r:embed="rId1"/>
          <a:stretch/>
        </p:blipFill>
        <p:spPr>
          <a:xfrm>
            <a:off x="5292720" y="1387440"/>
            <a:ext cx="3414600" cy="3214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2" descr=""/>
          <p:cNvPicPr/>
          <p:nvPr/>
        </p:nvPicPr>
        <p:blipFill>
          <a:blip r:embed="rId2"/>
          <a:stretch/>
        </p:blipFill>
        <p:spPr>
          <a:xfrm>
            <a:off x="5275440" y="4602240"/>
            <a:ext cx="3431880" cy="18478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"/>
          <p:cNvPicPr/>
          <p:nvPr/>
        </p:nvPicPr>
        <p:blipFill>
          <a:blip r:embed="rId3"/>
          <a:stretch/>
        </p:blipFill>
        <p:spPr>
          <a:xfrm>
            <a:off x="395280" y="1357200"/>
            <a:ext cx="4286160" cy="23637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4"/>
          <a:stretch/>
        </p:blipFill>
        <p:spPr>
          <a:xfrm>
            <a:off x="395280" y="3830760"/>
            <a:ext cx="4286160" cy="2679480"/>
          </a:xfrm>
          <a:prstGeom prst="rect">
            <a:avLst/>
          </a:prstGeom>
          <a:ln w="0">
            <a:noFill/>
          </a:ln>
        </p:spPr>
      </p:pic>
      <p:sp>
        <p:nvSpPr>
          <p:cNvPr id="626" name="مستطيل 1"/>
          <p:cNvSpPr/>
          <p:nvPr/>
        </p:nvSpPr>
        <p:spPr>
          <a:xfrm>
            <a:off x="324000" y="3873600"/>
            <a:ext cx="443052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سحابة الدخان سوداء  تهدد صحة 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 قرية شرق جازان (سبق: 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2011/07/29</a:t>
            </a:r>
            <a:r>
              <a:rPr b="1" lang="ar-SA" sz="23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600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أنبوب صرف صحي تصب في شاطئ جدة (الرياض، محرم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433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هـ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29" name="Picture 8" descr="صرف جدة في البحر.jpg"/>
          <p:cNvPicPr/>
          <p:nvPr/>
        </p:nvPicPr>
        <p:blipFill>
          <a:blip r:embed="rId1"/>
          <a:stretch/>
        </p:blipFill>
        <p:spPr>
          <a:xfrm>
            <a:off x="4668840" y="3357720"/>
            <a:ext cx="3838680" cy="2500200"/>
          </a:xfrm>
          <a:prstGeom prst="rect">
            <a:avLst/>
          </a:prstGeom>
          <a:ln w="0">
            <a:noFill/>
          </a:ln>
        </p:spPr>
      </p:pic>
      <p:pic>
        <p:nvPicPr>
          <p:cNvPr id="630" name="Content Placeholder 7" descr="عبارة التصريف عام 1424هـ.jpg"/>
          <p:cNvPicPr/>
          <p:nvPr/>
        </p:nvPicPr>
        <p:blipFill>
          <a:blip r:embed="rId2"/>
          <a:stretch/>
        </p:blipFill>
        <p:spPr>
          <a:xfrm>
            <a:off x="571680" y="3286080"/>
            <a:ext cx="3524040" cy="2643120"/>
          </a:xfrm>
          <a:prstGeom prst="rect">
            <a:avLst/>
          </a:prstGeom>
          <a:ln w="0">
            <a:noFill/>
          </a:ln>
        </p:spPr>
      </p:pic>
      <p:sp>
        <p:nvSpPr>
          <p:cNvPr id="631" name="Content Placeholder 13"/>
          <p:cNvSpPr/>
          <p:nvPr/>
        </p:nvSpPr>
        <p:spPr>
          <a:xfrm>
            <a:off x="324000" y="1714680"/>
            <a:ext cx="4143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&gt;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4000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 م مكعب يومياً صرف صناعي غير معالج (المنطقة الصناعية بالرياض،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426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هـ)، وما زالت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مملكة: الوجه الآخر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f0"/>
                </a:solidFill>
                <a:uFillTx/>
                <a:latin typeface="Traditional Arabic"/>
                <a:ea typeface="Traditional Arabic"/>
                <a:hlinkClick r:id="rId1"/>
              </a:rPr>
              <a:t>http://www.alwatan.com.sa/m/News_Detail.aspx?NewsID=133388&amp;CategoryID=5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الوطن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16/02/2013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4747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تكلفة التلوث البيئي لحرب الخليج الثانية 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ea typeface="Traditional Arabic"/>
              </a:rPr>
              <a:t>28</a:t>
            </a:r>
            <a:r>
              <a:rPr b="1" lang="ar-SA" sz="2800" spc="-1" strike="noStrike">
                <a:solidFill>
                  <a:srgbClr val="474747"/>
                </a:solidFill>
                <a:latin typeface="Traditional Arabic"/>
                <a:cs typeface="Traditional Arabic"/>
              </a:rPr>
              <a:t>مليار دولار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Content Placeholder 13"/>
          <p:cNvSpPr/>
          <p:nvPr/>
        </p:nvSpPr>
        <p:spPr>
          <a:xfrm>
            <a:off x="324000" y="1714680"/>
            <a:ext cx="4143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تلوث شاطئ جدة تخطّى المعايير العالمية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35" name="Picture 2" descr="النوافير تمثل عامل جذب للمتنزهين على كورنيش جدة.  «الاقتصادية»"/>
          <p:cNvPicPr/>
          <p:nvPr/>
        </p:nvPicPr>
        <p:blipFill>
          <a:blip r:embed="rId2"/>
          <a:stretch/>
        </p:blipFill>
        <p:spPr>
          <a:xfrm>
            <a:off x="395280" y="3429000"/>
            <a:ext cx="4094280" cy="2651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067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النتيجة: تلوث بيئي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48320" y="1676160"/>
            <a:ext cx="403848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474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38" name="صورة 1" descr=""/>
          <p:cNvPicPr/>
          <p:nvPr/>
        </p:nvPicPr>
        <p:blipFill>
          <a:blip r:embed="rId1"/>
          <a:stretch/>
        </p:blipFill>
        <p:spPr>
          <a:xfrm>
            <a:off x="3924360" y="3078000"/>
            <a:ext cx="4884840" cy="3664080"/>
          </a:xfrm>
          <a:prstGeom prst="rect">
            <a:avLst/>
          </a:prstGeom>
          <a:ln w="0">
            <a:noFill/>
          </a:ln>
        </p:spPr>
      </p:pic>
      <p:pic>
        <p:nvPicPr>
          <p:cNvPr id="639" name="صورة 2" descr=""/>
          <p:cNvPicPr/>
          <p:nvPr/>
        </p:nvPicPr>
        <p:blipFill>
          <a:blip r:embed="rId2"/>
          <a:stretch/>
        </p:blipFill>
        <p:spPr>
          <a:xfrm>
            <a:off x="3924360" y="1041480"/>
            <a:ext cx="4895640" cy="26748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2" descr=""/>
          <p:cNvPicPr/>
          <p:nvPr/>
        </p:nvPicPr>
        <p:blipFill>
          <a:blip r:embed="rId3"/>
          <a:stretch/>
        </p:blipFill>
        <p:spPr>
          <a:xfrm>
            <a:off x="903240" y="907920"/>
            <a:ext cx="1646280" cy="593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0:41:16Z</dcterms:created>
  <dc:creator/>
  <dc:description/>
  <dc:language>en-US</dc:language>
  <cp:lastModifiedBy/>
  <dcterms:modified xsi:type="dcterms:W3CDTF">2017-10-03T10:33:20Z</dcterms:modified>
  <cp:revision>1</cp:revision>
  <dc:subject/>
  <dc:title/>
</cp:coreProperties>
</file>