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16E7-1F01-48C9-BA8A-FB32511ACB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AA47-65AE-48E7-A5E3-468EBD1419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F0B4-F82B-4D74-A7B6-A7BA65B86E7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B2B8-5619-40D0-8945-204F4C6A32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4B58-ED88-4855-A09A-41A0D7B5C05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9652-B19A-4555-8805-1BEF04B8FBA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67F-9B01-4399-B920-0D3991E344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CD8-3EE5-4B04-88B2-8A65D92527E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0B22-1B5A-446B-A94F-4E3C1EB61CA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B0EB-894C-4660-8BE2-E8A455EF10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510-BC57-4FC0-8255-6D5645D6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EB5-B160-4B23-8768-60C3275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359-6F25-4342-94E8-72ADDDA1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E7B-3DA5-4D2B-9BCE-049CBE85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67236-DB18-4143-A7D3-6F2F5A49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B519A-AEC5-481A-B9EE-16E0973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A6929-78A8-47C2-8FCD-8BDB0920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58D4F-C0B9-48FD-9E15-C99E2EF6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B443A-7A4B-4012-A626-F26D033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CD0E7-DB20-4591-885A-F8EE25B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C0B49-B573-4051-BF21-DD988AC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E02-7F39-4FF9-840B-5206ABB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9631D-8E4F-4067-99CC-4362469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0D21-A357-44EC-8322-B7378840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26A94-CB4E-448F-85BD-AD0E108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72BA-696E-4F10-AA79-25B31CE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C8769-0FCF-4B3B-BD24-A3A0CB89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FB6D4-A141-4FD3-833E-E93EF41E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7AADE-E583-461B-ABBD-FE9583EF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D9C4A-5E6F-4B67-9968-06ED9CAC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4B09D-5019-4096-9789-D1A21F38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EE2DB-5055-4436-931D-4E877B7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7D3-275C-4384-9E84-606BC2A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9412D-989E-4FE1-9F0C-FCE136AE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BFCB3-13C5-4B36-94F6-D388FCC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EE074-DE0C-4541-B859-71D68F4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0CFB2-DFA3-4DFC-ACD6-DD4AADDA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E217A-ABD5-40DD-A3AC-0774E485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E154F-C1D8-467C-9A5B-F00E84AF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5D365-B5AE-4555-BFE8-C6F993E7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00C9-6AAA-4E3C-B209-1DCE4905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B979-E0DC-4186-9946-71BB4AD0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FAB58-9EA0-4B72-83F0-896FA97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7E1-FD38-47F0-9108-E3C2AF9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5643-477D-4869-83E3-887CBCAA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1A4F-1349-4D0D-BC2F-309667B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FA3F-E3E7-43CA-9409-22C5E75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2C15-87DA-4B76-A90B-3E75DA7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18636-710C-4289-801F-89C578A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5253-73DE-4699-AAEC-0F08FA8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761F9-76D8-4800-9425-3D013C7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BCE3-40A2-4DE5-A2E8-D2F4CD8C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A8E75-7409-482F-B77B-890508DE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B8B9-0DC0-4BB0-8EAB-D6661FF9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001-CFD9-49A7-91D3-25AF3AB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90E0-070C-4E3F-BE56-EB14F5BF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04CC-F8D7-454A-82C8-F8A76726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7B180-2DF1-43D9-AB32-C6D2592C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2ED5-6ADB-420D-ABDE-B77E866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19FB-07EC-4939-87AF-25ACACE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AD5E-0FDF-4B75-BFA3-C8E7E05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91CB-3801-41FC-9B1C-7E9D6E1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91AA-C3A3-4A88-A64D-326166C3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63B8D-847A-4888-97A6-953A424C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5321-98C0-4890-B297-00113DD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7BA-937B-45B4-B678-AF9B1467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EFEC-C172-4621-9774-A59C8A2B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6395-7E63-43C4-932E-BA294570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60CD-1AE0-44C6-886C-50A74C2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2CCD1-F1BB-4865-9938-7F2237FB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0210-4CF8-49C2-A7B3-9969D22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C87D-09F1-4162-A43C-961033AA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7888-D860-408D-9200-23B96D8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AD72-D4FD-43F3-A165-CB158CD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1C7C6-2839-4D4D-AA57-92F11FA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7640-4BC6-49B9-B5BD-F8B6E47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6DB-1942-4411-936F-17DB8AE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B461F-FB4B-413A-832B-548AA40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98EB9-F4E1-456C-B409-BD60449A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CE29-E2A1-419B-8AAC-DC721643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1C242-BE97-4E1F-8E48-F6AB7EAF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6EFF-1390-4E5D-8AD4-5D76CBB6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7926-E508-4B7C-90ED-9AEDB170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675B-9B3C-4F67-ACC5-60584DD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3415-CF32-48A1-B0ED-1C4DA1D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90A46-AB9C-4667-BE38-27145C91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8524-E2DE-43ED-8D7A-8C89432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EDF-AFE6-46DE-BC69-D2D96D1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BD6D-A5AE-4989-B3AD-11BBE2C3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A7B8-4084-44E9-AAF7-00F1623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FEF00-3263-4A34-A43F-397C45A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4A78-64C6-4298-BE51-7A8CFB97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858AF-6FBB-45FC-9451-9581B4D4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19AB-5F09-4308-8EFF-8C3801A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5E77-A01E-426C-AC83-1E700D9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26261-67AD-488B-B264-73966C18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7133-9BBD-4A33-AD2A-7977377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E06A-F28C-4C58-97CA-2A2DD9B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40F-22F0-4C00-8C99-724820A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429B-DB52-41F5-8567-324FAAA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D0D48-A8F9-46B6-838C-4BF16B9B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DEC98-A075-4C5A-8572-9BE4386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E1484-AF55-459D-9010-DB2FC91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84C0-CD74-403E-B6EF-0A8B936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EA82-DE7B-4E5C-95C0-26B1B41E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A89E4-FF3B-458A-8A20-D412DE4E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0D2C-D4B0-4340-84EC-9F2C20C47F6E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431-7F4C-4FCA-BC9A-5CEF1996BAA9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B67-2CF1-4D9C-8DB6-560BD80B505F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3B4-8466-4845-884C-E4246CB38055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6F7-F779-4E81-BD38-DA1C2EB7D59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8A2E-2351-4FC7-8901-09EAA5CF0FB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620F-CC26-4750-BF4E-41956309FA82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671-E7BE-4EE7-98F1-26D5C1DC6EDC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ما هي الأهداف الممكنة في هذا الموضوع؟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</a:rPr>
              <a:t>التحليل الكيميائي  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HEMICAL ANALYSIS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تعريفه: تحديد التركيب الكيميائي للمواد الطبيعية والمصنعة فهو يهتم بالتقدير الكمي والنوعي سواء للعناصر أو المركبات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نواعه (حسب الطريقة أو الهدف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ما قبل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ختيار طريقة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دقة والمصداقية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 الفعا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حليل النوعي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alitative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للتعرف على المكونات سواءً عناصر أو مركبات (عضوي، غير عضوي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حديد المكونات من العناصر لا  يكفي للتعرف على المركبات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يكون بطرق كيميائية وأخرى آلية تقيس الصفات الفيزيائية والكيميائية للمواد، ويمكن إدراك بعضها بالحوا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حليل الكمي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antitative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للتعرف على كمية المكونات (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 كيميائي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عتمد على التفاعل الكيميائي (وزني أو حجمي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50920" indent="-25092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Y + xX === 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نشاط للتدريب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صلت على عينة ملح طعام، وأردت التعرف على مدى نقاوته، فاستخدمت طريقة وزنية، بحيث أذبت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جم ملح، ثم أضفت نترات الفضة، وحصلت على راسب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جم. فما هي نقاوة ملح الطعام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Constantia"/>
              </a:rPr>
              <a:t>تقليدي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assical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 آلية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trumental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لا يوجد تفاعل كيميائي خاص للتقدير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يعتمد على خواص العنصر أو المركب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تقيس الطاقة بدلاً من الكتلة أو الحجم كما في الكيميائية (أو التقليدية)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جمع العينات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amplin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عينات بسيطة وممثل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منطقة من الأرض، غذاء (أكوام، صناديق)، ماء (معبأ، بئر، نهر ...) ..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تجهيز العينة الممثل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تجهيز العينة ل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تجفي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قدير الكتلة (الوزن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إذابة، الاستخلاص، الهضم الجزئي أو الكلي (ماء، أحماض، عضوية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حرق الجاف والرطب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تخزين (التفكك، الامتزاز، التلوث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فصل المكونات لمنع التداخل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الترسيب الكيميائي، الترسيب الكهربائي، الفصل الكروماتوجرافي، الحجب الكيميائي، تغيير حالة الأكسدة، التحكم في الحموض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الوقت عامل رئيسي في الحياة، وهو متأكد في قضايا التلوث</a:t>
            </a:r>
            <a:endParaRPr b="0" lang="en-US" sz="34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ادثة غاز الإيبوكسي كانت في يوم الثلاثاء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أكتوبر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2011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في يوم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أكتوبر ظهرت أول نتائج للقياسات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حدث تسرب غاز الإيبوكسي في 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10/11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 وفي الوطن 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2011/10/28</a:t>
            </a:r>
            <a:endParaRPr b="0" lang="en-US" sz="34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4" name="صورة 3" descr=""/>
          <p:cNvPicPr/>
          <p:nvPr/>
        </p:nvPicPr>
        <p:blipFill>
          <a:blip r:embed="rId1"/>
          <a:stretch/>
        </p:blipFill>
        <p:spPr>
          <a:xfrm>
            <a:off x="287280" y="1828800"/>
            <a:ext cx="8601120" cy="3733920"/>
          </a:xfrm>
          <a:prstGeom prst="rect">
            <a:avLst/>
          </a:prstGeom>
          <a:ln w="60120">
            <a:solidFill>
              <a:srgbClr val="79b5b0"/>
            </a:solidFill>
            <a:miter/>
          </a:ln>
        </p:spPr>
      </p:pic>
      <p:sp>
        <p:nvSpPr>
          <p:cNvPr id="875" name="مستطيل مستدير الزوايا 2"/>
          <p:cNvSpPr/>
          <p:nvPr/>
        </p:nvSpPr>
        <p:spPr>
          <a:xfrm>
            <a:off x="1676520" y="2133720"/>
            <a:ext cx="5181480" cy="457200"/>
          </a:xfrm>
          <a:prstGeom prst="roundRect">
            <a:avLst>
              <a:gd name="adj" fmla="val 16667"/>
            </a:avLst>
          </a:prstGeom>
          <a:noFill/>
          <a:ln w="601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ختيار طريقة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عتمد على خبرة الباحث أو الفني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وقت المتاح، الدقة والمصداقية، إمكانية التنفيذ، عدد التحاليل المطلوب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كمية (نسبة، تركيز) العنصر أو المركب في العينة (محلول أو صلب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طبيعية (جم لتر</a:t>
            </a:r>
            <a:r>
              <a:rPr b="0" lang="ar-SA" sz="25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ar-SA" sz="2500" spc="-1" strike="noStrike" baseline="30000">
                <a:solidFill>
                  <a:srgbClr val="ffffff"/>
                </a:solidFill>
                <a:latin typeface="Constantia"/>
              </a:rPr>
              <a:t>1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 (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pm, ppb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 (نسبة مئوية وزنية أو حجمية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كيميائية (مول أو مكافئ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تركيز الفعال (القوة الأيونية للمحلول، مهمة في المحاليل غير المخففة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6-12-04T11:56:44Z</dcterms:modified>
  <cp:revision>131</cp:revision>
  <dc:subject/>
  <dc:title>عرض تقديمي في PowerPoint</dc:title>
</cp:coreProperties>
</file>