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41.jpeg" ContentType="image/jpe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move the slide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9775-2566-4746-BABC-A5EA1CC1F4D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E6C3-735E-40EC-9417-FA3CF2F62F2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63A8-73D7-4EE0-8A71-04470B66A61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6B91-D698-47DE-A5B1-7BD18BD6AA3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46FE-8DC5-486D-85C6-DF923C1C459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5074-9F81-4AE9-BE32-3B5DCA1C7AA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6092-C356-43BC-AB17-1E5117C83D8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5606-36D7-41E5-BDB5-EC1DB96CFA5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BA04-53EA-4789-B926-D60910EF43B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523B-6057-49B0-AE61-EC1F085C5A8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9E6-AE73-4F9A-B9FA-A7E90B1A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E5A-8E92-411C-BE88-D38AC1C6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9A9-42E2-4E69-BE01-0020BAA9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8FD-F712-43AD-9024-05590273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4E4DB-6B47-4B4E-9FD4-94D8F0C8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FA9C3-7E09-47B9-8484-ECE224A8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39C5C-92BF-4643-B808-71A928AB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6A310-059A-4138-A890-115C2682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39E68-66EE-4E9F-98BC-BAB0D170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9AE3C-C2F0-4763-B983-D401726A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6E4B3-8C11-45D2-ABD0-E662902E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CB6-C7C1-4C9D-BDB6-26E35398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DD8DE-222E-44B8-8D7C-A74F4A32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F64BB-04DF-4D93-A8C9-2EF14237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75F95-6436-4CBF-9F11-72DD1C06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38DCE-A24D-4AEF-BEF7-9770AC08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11470-4EAC-4CDF-9D1F-E6E9584A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FA4E6-935A-429E-B652-1324CBE2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AE711-ED69-4326-BE34-D256D23E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9E5E4-CAFA-4763-874E-4D73E37B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FCB8B-ECA2-48EC-A9D2-43831112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439E2-B72C-49D0-92CC-A9D8B2D5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3D5-C369-402A-9BDF-413116F1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F5BA9-F7AB-4E0C-9D74-4DD12297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889E6-3E73-4E05-AC5B-53E28ECB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39441-2DCD-4F61-8B8C-4DF0FEFC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BBFA8-9EB5-4092-A587-5944899A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3903C-1099-4E97-ACD5-B99025AB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D865C-E6C3-4EE0-81A3-48C0258C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591AF-16D5-4A21-96AB-AD58C5B0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49C3D-B4DB-414D-B2A3-4223F73D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CD09D-A6C3-493C-8F19-EB31C3B3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BD24F-5CA4-4953-9D5B-2FDE57B8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C06-03AA-4434-8B41-AA10CD26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E5291-3FBB-48DA-BE7E-F5DEF42C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7A134-CEC2-4D68-9902-AA1A6A0E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B05C7-009F-4E60-9B5B-D6502F94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F2F8F-FB0E-4101-8655-F0E77031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81954-42D0-4CF8-B530-705E1DCD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E3003-E678-487B-ACDB-307C117A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EBD6E-BD3F-4006-8641-5F7B2752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0471-6D71-4BF1-9972-446DA0F1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3641C-6D40-46DA-A3BA-94E2721A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2E171-F792-48C7-B347-3C3A11BC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850-4116-4637-B994-C09F4C0F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BAA8B-3199-44B1-BC5D-6DA0858C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A54B5-87E2-4ED7-91DC-80E1EE7D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CF41D-2BB6-47AE-897C-B2BE684E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669FB-A456-4F75-9B2A-FF02A825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AA4DA-3C9A-4C9B-9B7B-CD3B4B7D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1DBC8-C2CA-42AD-A2D8-6539E517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A918D-7195-4B64-B80A-E0AD41C4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1A05B-8E1B-4445-A326-6756FA38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E4422-0ED8-4CE9-8325-FB2FF56A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3A3E7-6DDB-44A3-8F6C-04C0C299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FDB-6588-4007-BD3B-94B3E6B1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55589-FC36-472A-A2E6-9F757A0D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A46F3-C9DF-4750-A75A-809A377A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D3C31-C334-4AD0-B77E-8A5C0487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257D4-A890-467B-803E-DEF74AF5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F7CAD-CEF9-4A87-9976-0FF571C2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613B9-C384-4E9E-98E8-338CF469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97947-2CA2-4572-8023-C3CA58DA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55A3E-C268-4D56-89CD-BC0BAC27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687DE-A008-430F-A8A9-D6C1B0C8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0DDE5-E9FE-4CCD-9E31-60EC83A9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EB4-7398-4A78-9FDA-3A6D949B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827D5-DAB3-4517-AEA4-BB3D76CB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0EA4A-749F-4F55-AD70-A947A0B1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0CECE-5DF2-442E-BAC1-9B84DEE1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DC652-7B63-4435-A898-4673F6BF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61E12-88E1-434F-8264-048933F8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1F298-C273-480E-B1A5-E29959B2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C25C9-FACD-43EA-9552-C674AF98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73EF6-2A5F-4375-8270-0406E4AC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43CA0-BA19-40B5-895F-E68A4AE8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B29C9-49C6-43F2-B5EF-D9BAA159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97F8-CA2E-45F4-950A-7041E193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DE444-1825-4D19-85E9-ABC7A604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539B4-9B25-4167-91AB-E2B19908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ECBD7-3058-44D1-A004-27A14489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69D97-7B34-441B-8000-231FF5BE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328C1-734F-4370-B59F-7356B670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F8DAA-475D-4BF2-ABB6-DE42E96B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0D76B-4BD0-4319-839A-5AB38A92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90F34-052F-46A8-92E5-FEF2FB8C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F4AF1-2CD8-41E0-8957-A5C191BA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F0B22-EECC-441B-A623-F62D0F50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A3A-09E4-435D-A139-246623F8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6B3C0-AFB2-4ECA-B3DD-E36FAFC7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5D194-0A6B-4BED-BD85-03377E8F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6A569-0B9E-4D05-8A21-4E169606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7C8CE-D0EC-4144-9436-F65E7EAF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15D9B-6059-4BA4-9BB8-342FEA60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CD9FF-1BE7-412D-B1B6-47DF0E64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B3834-4A63-491D-A4AD-44A464C2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3.xml"/><Relationship Id="rId30" Type="http://schemas.openxmlformats.org/officeDocument/2006/relationships/slideLayout" Target="../slideLayouts/slideLayout14.xml"/><Relationship Id="rId31" Type="http://schemas.openxmlformats.org/officeDocument/2006/relationships/slideLayout" Target="../slideLayouts/slideLayout15.xml"/><Relationship Id="rId32" Type="http://schemas.openxmlformats.org/officeDocument/2006/relationships/slideLayout" Target="../slideLayouts/slideLayout16.xml"/><Relationship Id="rId33" Type="http://schemas.openxmlformats.org/officeDocument/2006/relationships/slideLayout" Target="../slideLayouts/slideLayout17.xml"/><Relationship Id="rId34" Type="http://schemas.openxmlformats.org/officeDocument/2006/relationships/slideLayout" Target="../slideLayouts/slideLayout18.xml"/><Relationship Id="rId35" Type="http://schemas.openxmlformats.org/officeDocument/2006/relationships/slideLayout" Target="../slideLayouts/slideLayout19.xml"/><Relationship Id="rId36" Type="http://schemas.openxmlformats.org/officeDocument/2006/relationships/slideLayout" Target="../slideLayouts/slideLayout20.xml"/><Relationship Id="rId37" Type="http://schemas.openxmlformats.org/officeDocument/2006/relationships/slideLayout" Target="../slideLayouts/slideLayout21.xml"/><Relationship Id="rId38" Type="http://schemas.openxmlformats.org/officeDocument/2006/relationships/slideLayout" Target="../slideLayouts/slideLayout22.xml"/><Relationship Id="rId39" Type="http://schemas.openxmlformats.org/officeDocument/2006/relationships/slideLayout" Target="../slideLayouts/slideLayout23.xml"/><Relationship Id="rId4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25.xml"/><Relationship Id="rId29" Type="http://schemas.openxmlformats.org/officeDocument/2006/relationships/slideLayout" Target="../slideLayouts/slideLayout26.xml"/><Relationship Id="rId30" Type="http://schemas.openxmlformats.org/officeDocument/2006/relationships/slideLayout" Target="../slideLayouts/slideLayout27.xml"/><Relationship Id="rId31" Type="http://schemas.openxmlformats.org/officeDocument/2006/relationships/slideLayout" Target="../slideLayouts/slideLayout28.xml"/><Relationship Id="rId32" Type="http://schemas.openxmlformats.org/officeDocument/2006/relationships/slideLayout" Target="../slideLayouts/slideLayout29.xml"/><Relationship Id="rId33" Type="http://schemas.openxmlformats.org/officeDocument/2006/relationships/slideLayout" Target="../slideLayouts/slideLayout30.xml"/><Relationship Id="rId34" Type="http://schemas.openxmlformats.org/officeDocument/2006/relationships/slideLayout" Target="../slideLayouts/slideLayout31.xml"/><Relationship Id="rId35" Type="http://schemas.openxmlformats.org/officeDocument/2006/relationships/slideLayout" Target="../slideLayouts/slideLayout32.xml"/><Relationship Id="rId36" Type="http://schemas.openxmlformats.org/officeDocument/2006/relationships/slideLayout" Target="../slideLayouts/slideLayout33.xml"/><Relationship Id="rId37" Type="http://schemas.openxmlformats.org/officeDocument/2006/relationships/slideLayout" Target="../slideLayouts/slideLayout34.xml"/><Relationship Id="rId38" Type="http://schemas.openxmlformats.org/officeDocument/2006/relationships/slideLayout" Target="../slideLayouts/slideLayout35.xml"/><Relationship Id="rId3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61.xml"/><Relationship Id="rId29" Type="http://schemas.openxmlformats.org/officeDocument/2006/relationships/slideLayout" Target="../slideLayouts/slideLayout62.xml"/><Relationship Id="rId30" Type="http://schemas.openxmlformats.org/officeDocument/2006/relationships/slideLayout" Target="../slideLayouts/slideLayout63.xml"/><Relationship Id="rId31" Type="http://schemas.openxmlformats.org/officeDocument/2006/relationships/slideLayout" Target="../slideLayouts/slideLayout64.xml"/><Relationship Id="rId32" Type="http://schemas.openxmlformats.org/officeDocument/2006/relationships/slideLayout" Target="../slideLayouts/slideLayout65.xml"/><Relationship Id="rId33" Type="http://schemas.openxmlformats.org/officeDocument/2006/relationships/slideLayout" Target="../slideLayouts/slideLayout66.xml"/><Relationship Id="rId34" Type="http://schemas.openxmlformats.org/officeDocument/2006/relationships/slideLayout" Target="../slideLayouts/slideLayout67.xml"/><Relationship Id="rId35" Type="http://schemas.openxmlformats.org/officeDocument/2006/relationships/slideLayout" Target="../slideLayouts/slideLayout68.xml"/><Relationship Id="rId36" Type="http://schemas.openxmlformats.org/officeDocument/2006/relationships/slideLayout" Target="../slideLayouts/slideLayout69.xml"/><Relationship Id="rId37" Type="http://schemas.openxmlformats.org/officeDocument/2006/relationships/slideLayout" Target="../slideLayouts/slideLayout70.xml"/><Relationship Id="rId38" Type="http://schemas.openxmlformats.org/officeDocument/2006/relationships/slideLayout" Target="../slideLayouts/slideLayout71.xml"/><Relationship Id="rId3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85.xml"/><Relationship Id="rId17" Type="http://schemas.openxmlformats.org/officeDocument/2006/relationships/slideLayout" Target="../slideLayouts/slideLayout86.xml"/><Relationship Id="rId18" Type="http://schemas.openxmlformats.org/officeDocument/2006/relationships/slideLayout" Target="../slideLayouts/slideLayout87.xml"/><Relationship Id="rId19" Type="http://schemas.openxmlformats.org/officeDocument/2006/relationships/slideLayout" Target="../slideLayouts/slideLayout88.xml"/><Relationship Id="rId20" Type="http://schemas.openxmlformats.org/officeDocument/2006/relationships/slideLayout" Target="../slideLayouts/slideLayout89.xml"/><Relationship Id="rId21" Type="http://schemas.openxmlformats.org/officeDocument/2006/relationships/slideLayout" Target="../slideLayouts/slideLayout90.xml"/><Relationship Id="rId22" Type="http://schemas.openxmlformats.org/officeDocument/2006/relationships/slideLayout" Target="../slideLayouts/slideLayout91.xml"/><Relationship Id="rId23" Type="http://schemas.openxmlformats.org/officeDocument/2006/relationships/slideLayout" Target="../slideLayouts/slideLayout92.xml"/><Relationship Id="rId24" Type="http://schemas.openxmlformats.org/officeDocument/2006/relationships/slideLayout" Target="../slideLayouts/slideLayout93.xml"/><Relationship Id="rId25" Type="http://schemas.openxmlformats.org/officeDocument/2006/relationships/slideLayout" Target="../slideLayouts/slideLayout94.xml"/><Relationship Id="rId26" Type="http://schemas.openxmlformats.org/officeDocument/2006/relationships/slideLayout" Target="../slideLayouts/slideLayout95.xml"/><Relationship Id="rId2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4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7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10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13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16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19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22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25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28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31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34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37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40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43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46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49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52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55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58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61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64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67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70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1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2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3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8140-2242-40F0-8737-1CC0518EF383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114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117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120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123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126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129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132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135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138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141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144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147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150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153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156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159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162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165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168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171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174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177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180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183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Rectangle 30" descr=""/>
          <p:cNvPicPr/>
          <p:nvPr/>
        </p:nvPicPr>
        <p:blipFill>
          <a:blip r:embed="rId27"/>
          <a:stretch/>
        </p:blipFill>
        <p:spPr>
          <a:xfrm>
            <a:off x="0" y="243828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37" descr=""/>
          <p:cNvPicPr/>
          <p:nvPr/>
        </p:nvPicPr>
        <p:blipFill>
          <a:blip r:embed="rId28"/>
          <a:stretch/>
        </p:blipFill>
        <p:spPr>
          <a:xfrm>
            <a:off x="0" y="91440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4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4E8D-8D06-47F6-8202-54AFD0BB4EB0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6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9"/>
    <p:sldLayoutId id="2147483663" r:id="rId30"/>
    <p:sldLayoutId id="2147483664" r:id="rId31"/>
    <p:sldLayoutId id="2147483665" r:id="rId32"/>
    <p:sldLayoutId id="2147483666" r:id="rId33"/>
    <p:sldLayoutId id="2147483667" r:id="rId34"/>
    <p:sldLayoutId id="2147483668" r:id="rId35"/>
    <p:sldLayoutId id="2147483669" r:id="rId36"/>
    <p:sldLayoutId id="2147483670" r:id="rId37"/>
    <p:sldLayoutId id="2147483671" r:id="rId38"/>
    <p:sldLayoutId id="2147483672" r:id="rId39"/>
    <p:sldLayoutId id="2147483673" r:id="rId4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229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232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235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238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241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244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247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250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253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256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259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262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265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268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271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274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277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280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283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286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289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292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295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298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0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7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4094-8716-4A6F-AF7D-C99868B768E2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9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8"/>
    <p:sldLayoutId id="2147483676" r:id="rId29"/>
    <p:sldLayoutId id="2147483677" r:id="rId30"/>
    <p:sldLayoutId id="2147483678" r:id="rId31"/>
    <p:sldLayoutId id="2147483679" r:id="rId32"/>
    <p:sldLayoutId id="2147483680" r:id="rId33"/>
    <p:sldLayoutId id="2147483681" r:id="rId34"/>
    <p:sldLayoutId id="2147483682" r:id="rId35"/>
    <p:sldLayoutId id="2147483683" r:id="rId36"/>
    <p:sldLayoutId id="2147483684" r:id="rId37"/>
    <p:sldLayoutId id="2147483685" r:id="rId38"/>
    <p:sldLayoutId id="2147483686" r:id="rId3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343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346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349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352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355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358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361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364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367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370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373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376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379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382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385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388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391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394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397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400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403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406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409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412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4" name="Rectangle 30" descr=""/>
          <p:cNvPicPr/>
          <p:nvPr/>
        </p:nvPicPr>
        <p:blipFill>
          <a:blip r:embed="rId27"/>
          <a:stretch/>
        </p:blipFill>
        <p:spPr>
          <a:xfrm>
            <a:off x="0" y="495612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37" descr=""/>
          <p:cNvPicPr/>
          <p:nvPr/>
        </p:nvPicPr>
        <p:blipFill>
          <a:blip r:embed="rId28"/>
          <a:stretch/>
        </p:blipFill>
        <p:spPr>
          <a:xfrm>
            <a:off x="0" y="34322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0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11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12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3B7C-9593-48DE-AD8A-FBD29688D5F1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458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461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464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467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470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473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476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479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1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482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4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485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488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491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3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494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497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9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500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503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506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8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509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1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512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515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7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518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0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521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3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524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6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527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9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13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14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1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FDD5-10E1-41A3-B49D-1A55D1E0FAF6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572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4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575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7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578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0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581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584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587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590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593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596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8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599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602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4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605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7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608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611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3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614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6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617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620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2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623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5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626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629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1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632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635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638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0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641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3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16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17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1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7309-43CC-467D-84C7-4FF37B16915E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8"/>
    <p:sldLayoutId id="2147483715" r:id="rId29"/>
    <p:sldLayoutId id="2147483716" r:id="rId30"/>
    <p:sldLayoutId id="2147483717" r:id="rId31"/>
    <p:sldLayoutId id="2147483718" r:id="rId32"/>
    <p:sldLayoutId id="2147483719" r:id="rId33"/>
    <p:sldLayoutId id="2147483720" r:id="rId34"/>
    <p:sldLayoutId id="2147483721" r:id="rId35"/>
    <p:sldLayoutId id="2147483722" r:id="rId36"/>
    <p:sldLayoutId id="2147483723" r:id="rId37"/>
    <p:sldLayoutId id="2147483724" r:id="rId38"/>
    <p:sldLayoutId id="2147483725" r:id="rId3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Rectangle 30"/>
          <p:cNvGrpSpPr/>
          <p:nvPr/>
        </p:nvGrpSpPr>
        <p:grpSpPr>
          <a:xfrm>
            <a:off x="-19080" y="-19080"/>
            <a:ext cx="2622600" cy="6889680"/>
            <a:chOff x="-19080" y="-19080"/>
            <a:chExt cx="2622600" cy="6889680"/>
          </a:xfrm>
        </p:grpSpPr>
        <p:pic>
          <p:nvPicPr>
            <p:cNvPr id="686" name="Rectangle 30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260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0" y="0"/>
              <a:ext cx="2590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Oval 37"/>
          <p:cNvGrpSpPr/>
          <p:nvPr/>
        </p:nvGrpSpPr>
        <p:grpSpPr>
          <a:xfrm>
            <a:off x="1547640" y="4322880"/>
            <a:ext cx="1055880" cy="1054080"/>
            <a:chOff x="1547640" y="4322880"/>
            <a:chExt cx="1055880" cy="1054080"/>
          </a:xfrm>
        </p:grpSpPr>
        <p:pic>
          <p:nvPicPr>
            <p:cNvPr id="689" name="Oval 37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1714680" y="4487760"/>
              <a:ext cx="7254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Rectangle 38"/>
          <p:cNvGrpSpPr/>
          <p:nvPr/>
        </p:nvGrpSpPr>
        <p:grpSpPr>
          <a:xfrm>
            <a:off x="-19080" y="365040"/>
            <a:ext cx="2165400" cy="2421000"/>
            <a:chOff x="-19080" y="365040"/>
            <a:chExt cx="2165400" cy="2421000"/>
          </a:xfrm>
        </p:grpSpPr>
        <p:pic>
          <p:nvPicPr>
            <p:cNvPr id="692" name="Rectangle 3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6540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0" y="380880"/>
              <a:ext cx="21337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Rectangle 39"/>
          <p:cNvGrpSpPr/>
          <p:nvPr/>
        </p:nvGrpSpPr>
        <p:grpSpPr>
          <a:xfrm>
            <a:off x="1432080" y="-19080"/>
            <a:ext cx="1207800" cy="665280"/>
            <a:chOff x="1432080" y="-19080"/>
            <a:chExt cx="1207800" cy="665280"/>
          </a:xfrm>
        </p:grpSpPr>
        <p:pic>
          <p:nvPicPr>
            <p:cNvPr id="695" name="Rectangle 39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78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1447920" y="0"/>
              <a:ext cx="11746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Oval 40"/>
          <p:cNvGrpSpPr/>
          <p:nvPr/>
        </p:nvGrpSpPr>
        <p:grpSpPr>
          <a:xfrm>
            <a:off x="42840" y="-19080"/>
            <a:ext cx="2335320" cy="2414520"/>
            <a:chOff x="42840" y="-19080"/>
            <a:chExt cx="2335320" cy="2414520"/>
          </a:xfrm>
        </p:grpSpPr>
        <p:pic>
          <p:nvPicPr>
            <p:cNvPr id="698" name="Oval 40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53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396720" y="347760"/>
              <a:ext cx="16290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Oval 41"/>
          <p:cNvGrpSpPr/>
          <p:nvPr/>
        </p:nvGrpSpPr>
        <p:grpSpPr>
          <a:xfrm>
            <a:off x="-19080" y="3260880"/>
            <a:ext cx="927000" cy="914400"/>
            <a:chOff x="-19080" y="3260880"/>
            <a:chExt cx="927000" cy="914400"/>
          </a:xfrm>
        </p:grpSpPr>
        <p:pic>
          <p:nvPicPr>
            <p:cNvPr id="701" name="Oval 41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7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30320" y="3406680"/>
              <a:ext cx="6300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Oval 42"/>
          <p:cNvGrpSpPr/>
          <p:nvPr/>
        </p:nvGrpSpPr>
        <p:grpSpPr>
          <a:xfrm>
            <a:off x="781200" y="1706400"/>
            <a:ext cx="1431720" cy="1433520"/>
            <a:chOff x="781200" y="1706400"/>
            <a:chExt cx="1431720" cy="1433520"/>
          </a:xfrm>
        </p:grpSpPr>
        <p:pic>
          <p:nvPicPr>
            <p:cNvPr id="704" name="Oval 42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317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998640" y="1927080"/>
              <a:ext cx="9921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6" name="Oval 43"/>
          <p:cNvGrpSpPr/>
          <p:nvPr/>
        </p:nvGrpSpPr>
        <p:grpSpPr>
          <a:xfrm>
            <a:off x="590400" y="4022640"/>
            <a:ext cx="1586160" cy="1586160"/>
            <a:chOff x="590400" y="4022640"/>
            <a:chExt cx="1586160" cy="1586160"/>
          </a:xfrm>
        </p:grpSpPr>
        <p:pic>
          <p:nvPicPr>
            <p:cNvPr id="707" name="Oval 4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61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836640" y="4265640"/>
              <a:ext cx="110016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Oval 44"/>
          <p:cNvGrpSpPr/>
          <p:nvPr/>
        </p:nvGrpSpPr>
        <p:grpSpPr>
          <a:xfrm>
            <a:off x="139680" y="2346480"/>
            <a:ext cx="482760" cy="488880"/>
            <a:chOff x="139680" y="2346480"/>
            <a:chExt cx="482760" cy="488880"/>
          </a:xfrm>
        </p:grpSpPr>
        <p:pic>
          <p:nvPicPr>
            <p:cNvPr id="710" name="Oval 44" descr=""/>
            <p:cNvPicPr/>
            <p:nvPr/>
          </p:nvPicPr>
          <p:blipFill>
            <a:blip r:embed="rId10"/>
            <a:stretch/>
          </p:blipFill>
          <p:spPr>
            <a:xfrm>
              <a:off x="139680" y="2346480"/>
              <a:ext cx="4827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219240" y="242892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2" name="Oval 45"/>
          <p:cNvGrpSpPr/>
          <p:nvPr/>
        </p:nvGrpSpPr>
        <p:grpSpPr>
          <a:xfrm>
            <a:off x="1736640" y="365040"/>
            <a:ext cx="488880" cy="488880"/>
            <a:chOff x="1736640" y="365040"/>
            <a:chExt cx="488880" cy="488880"/>
          </a:xfrm>
        </p:grpSpPr>
        <p:pic>
          <p:nvPicPr>
            <p:cNvPr id="713" name="Oval 45" descr=""/>
            <p:cNvPicPr/>
            <p:nvPr/>
          </p:nvPicPr>
          <p:blipFill>
            <a:blip r:embed="rId11"/>
            <a:stretch/>
          </p:blipFill>
          <p:spPr>
            <a:xfrm>
              <a:off x="1736640" y="365040"/>
              <a:ext cx="48888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1819440" y="44784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Oval 46"/>
          <p:cNvGrpSpPr/>
          <p:nvPr/>
        </p:nvGrpSpPr>
        <p:grpSpPr>
          <a:xfrm>
            <a:off x="560520" y="2498760"/>
            <a:ext cx="2043000" cy="2043000"/>
            <a:chOff x="560520" y="2498760"/>
            <a:chExt cx="2043000" cy="2043000"/>
          </a:xfrm>
        </p:grpSpPr>
        <p:pic>
          <p:nvPicPr>
            <p:cNvPr id="716" name="Oval 46" descr=""/>
            <p:cNvPicPr/>
            <p:nvPr/>
          </p:nvPicPr>
          <p:blipFill>
            <a:blip r:embed="rId12"/>
            <a:stretch/>
          </p:blipFill>
          <p:spPr>
            <a:xfrm>
              <a:off x="560520" y="2498760"/>
              <a:ext cx="204300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873000" y="280980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Rectangle 47"/>
          <p:cNvGrpSpPr/>
          <p:nvPr/>
        </p:nvGrpSpPr>
        <p:grpSpPr>
          <a:xfrm>
            <a:off x="-19080" y="5699160"/>
            <a:ext cx="1635120" cy="1171440"/>
            <a:chOff x="-19080" y="5699160"/>
            <a:chExt cx="1635120" cy="1171440"/>
          </a:xfrm>
        </p:grpSpPr>
        <p:pic>
          <p:nvPicPr>
            <p:cNvPr id="719" name="Rectangle 47" descr=""/>
            <p:cNvPicPr/>
            <p:nvPr/>
          </p:nvPicPr>
          <p:blipFill>
            <a:blip r:embed="rId13"/>
            <a:stretch/>
          </p:blipFill>
          <p:spPr>
            <a:xfrm>
              <a:off x="-19080" y="5699160"/>
              <a:ext cx="16351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0" y="571500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Oval 48"/>
          <p:cNvGrpSpPr/>
          <p:nvPr/>
        </p:nvGrpSpPr>
        <p:grpSpPr>
          <a:xfrm>
            <a:off x="1311120" y="5857920"/>
            <a:ext cx="762120" cy="762120"/>
            <a:chOff x="1311120" y="5857920"/>
            <a:chExt cx="762120" cy="762120"/>
          </a:xfrm>
        </p:grpSpPr>
        <p:pic>
          <p:nvPicPr>
            <p:cNvPr id="722" name="Oval 48" descr=""/>
            <p:cNvPicPr/>
            <p:nvPr/>
          </p:nvPicPr>
          <p:blipFill>
            <a:blip r:embed="rId14"/>
            <a:stretch/>
          </p:blipFill>
          <p:spPr>
            <a:xfrm>
              <a:off x="1311120" y="585792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1430280" y="5981760"/>
              <a:ext cx="517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4" name="Oval 49"/>
          <p:cNvGrpSpPr/>
          <p:nvPr/>
        </p:nvGrpSpPr>
        <p:grpSpPr>
          <a:xfrm>
            <a:off x="19080" y="5200560"/>
            <a:ext cx="1670040" cy="1676520"/>
            <a:chOff x="19080" y="5200560"/>
            <a:chExt cx="1670040" cy="1676520"/>
          </a:xfrm>
        </p:grpSpPr>
        <p:pic>
          <p:nvPicPr>
            <p:cNvPr id="725" name="Oval 49" descr=""/>
            <p:cNvPicPr/>
            <p:nvPr/>
          </p:nvPicPr>
          <p:blipFill>
            <a:blip r:embed="rId15"/>
            <a:stretch/>
          </p:blipFill>
          <p:spPr>
            <a:xfrm>
              <a:off x="19080" y="5200560"/>
              <a:ext cx="1670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271440" y="5452920"/>
              <a:ext cx="11635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9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20"/>
          </p:nvPr>
        </p:nvSpPr>
        <p:spPr>
          <a:xfrm>
            <a:off x="2285640" y="6357600"/>
            <a:ext cx="3429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1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643F-F954-49D8-9082-662888E1772E}" type="slidenum">
              <a: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Rectangle 30"/>
          <p:cNvGrpSpPr/>
          <p:nvPr/>
        </p:nvGrpSpPr>
        <p:grpSpPr>
          <a:xfrm>
            <a:off x="-19080" y="-19080"/>
            <a:ext cx="2622600" cy="6889680"/>
            <a:chOff x="-19080" y="-19080"/>
            <a:chExt cx="2622600" cy="6889680"/>
          </a:xfrm>
        </p:grpSpPr>
        <p:pic>
          <p:nvPicPr>
            <p:cNvPr id="769" name="Rectangle 30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260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0" y="0"/>
              <a:ext cx="2590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Oval 37"/>
          <p:cNvGrpSpPr/>
          <p:nvPr/>
        </p:nvGrpSpPr>
        <p:grpSpPr>
          <a:xfrm>
            <a:off x="1547640" y="4322880"/>
            <a:ext cx="1055880" cy="1054080"/>
            <a:chOff x="1547640" y="4322880"/>
            <a:chExt cx="1055880" cy="1054080"/>
          </a:xfrm>
        </p:grpSpPr>
        <p:pic>
          <p:nvPicPr>
            <p:cNvPr id="772" name="Oval 37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1714680" y="4487760"/>
              <a:ext cx="7254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Rectangle 38"/>
          <p:cNvGrpSpPr/>
          <p:nvPr/>
        </p:nvGrpSpPr>
        <p:grpSpPr>
          <a:xfrm>
            <a:off x="-19080" y="365040"/>
            <a:ext cx="2165400" cy="2421000"/>
            <a:chOff x="-19080" y="365040"/>
            <a:chExt cx="2165400" cy="2421000"/>
          </a:xfrm>
        </p:grpSpPr>
        <p:pic>
          <p:nvPicPr>
            <p:cNvPr id="775" name="Rectangle 3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6540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/>
            <p:nvPr/>
          </p:nvSpPr>
          <p:spPr>
            <a:xfrm>
              <a:off x="0" y="380880"/>
              <a:ext cx="21337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7" name="Rectangle 39"/>
          <p:cNvGrpSpPr/>
          <p:nvPr/>
        </p:nvGrpSpPr>
        <p:grpSpPr>
          <a:xfrm>
            <a:off x="1432080" y="-19080"/>
            <a:ext cx="1207800" cy="665280"/>
            <a:chOff x="1432080" y="-19080"/>
            <a:chExt cx="1207800" cy="665280"/>
          </a:xfrm>
        </p:grpSpPr>
        <p:pic>
          <p:nvPicPr>
            <p:cNvPr id="778" name="Rectangle 39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78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1447920" y="0"/>
              <a:ext cx="11746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Oval 40"/>
          <p:cNvGrpSpPr/>
          <p:nvPr/>
        </p:nvGrpSpPr>
        <p:grpSpPr>
          <a:xfrm>
            <a:off x="42840" y="-19080"/>
            <a:ext cx="2335320" cy="2414520"/>
            <a:chOff x="42840" y="-19080"/>
            <a:chExt cx="2335320" cy="2414520"/>
          </a:xfrm>
        </p:grpSpPr>
        <p:pic>
          <p:nvPicPr>
            <p:cNvPr id="781" name="Oval 40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53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396720" y="347760"/>
              <a:ext cx="16290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Oval 41"/>
          <p:cNvGrpSpPr/>
          <p:nvPr/>
        </p:nvGrpSpPr>
        <p:grpSpPr>
          <a:xfrm>
            <a:off x="-19080" y="3260880"/>
            <a:ext cx="927000" cy="914400"/>
            <a:chOff x="-19080" y="3260880"/>
            <a:chExt cx="927000" cy="914400"/>
          </a:xfrm>
        </p:grpSpPr>
        <p:pic>
          <p:nvPicPr>
            <p:cNvPr id="784" name="Oval 41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7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130320" y="3406680"/>
              <a:ext cx="6300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6" name="Oval 42"/>
          <p:cNvGrpSpPr/>
          <p:nvPr/>
        </p:nvGrpSpPr>
        <p:grpSpPr>
          <a:xfrm>
            <a:off x="781200" y="1706400"/>
            <a:ext cx="1431720" cy="1433520"/>
            <a:chOff x="781200" y="1706400"/>
            <a:chExt cx="1431720" cy="1433520"/>
          </a:xfrm>
        </p:grpSpPr>
        <p:pic>
          <p:nvPicPr>
            <p:cNvPr id="787" name="Oval 42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317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998640" y="1927080"/>
              <a:ext cx="9921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Oval 43"/>
          <p:cNvGrpSpPr/>
          <p:nvPr/>
        </p:nvGrpSpPr>
        <p:grpSpPr>
          <a:xfrm>
            <a:off x="590400" y="4022640"/>
            <a:ext cx="1586160" cy="1586160"/>
            <a:chOff x="590400" y="4022640"/>
            <a:chExt cx="1586160" cy="1586160"/>
          </a:xfrm>
        </p:grpSpPr>
        <p:pic>
          <p:nvPicPr>
            <p:cNvPr id="790" name="Oval 4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61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836640" y="4265640"/>
              <a:ext cx="110016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2" name="Oval 44"/>
          <p:cNvGrpSpPr/>
          <p:nvPr/>
        </p:nvGrpSpPr>
        <p:grpSpPr>
          <a:xfrm>
            <a:off x="1736640" y="365040"/>
            <a:ext cx="488880" cy="488880"/>
            <a:chOff x="1736640" y="365040"/>
            <a:chExt cx="488880" cy="488880"/>
          </a:xfrm>
        </p:grpSpPr>
        <p:pic>
          <p:nvPicPr>
            <p:cNvPr id="793" name="Oval 44" descr=""/>
            <p:cNvPicPr/>
            <p:nvPr/>
          </p:nvPicPr>
          <p:blipFill>
            <a:blip r:embed="rId10"/>
            <a:stretch/>
          </p:blipFill>
          <p:spPr>
            <a:xfrm>
              <a:off x="1736640" y="365040"/>
              <a:ext cx="48888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819440" y="44784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5" name="Oval 45"/>
          <p:cNvGrpSpPr/>
          <p:nvPr/>
        </p:nvGrpSpPr>
        <p:grpSpPr>
          <a:xfrm>
            <a:off x="560520" y="2498760"/>
            <a:ext cx="2043000" cy="2043000"/>
            <a:chOff x="560520" y="2498760"/>
            <a:chExt cx="2043000" cy="2043000"/>
          </a:xfrm>
        </p:grpSpPr>
        <p:pic>
          <p:nvPicPr>
            <p:cNvPr id="796" name="Oval 45" descr=""/>
            <p:cNvPicPr/>
            <p:nvPr/>
          </p:nvPicPr>
          <p:blipFill>
            <a:blip r:embed="rId11"/>
            <a:stretch/>
          </p:blipFill>
          <p:spPr>
            <a:xfrm>
              <a:off x="560520" y="2498760"/>
              <a:ext cx="204300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873000" y="280980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Rectangle 46"/>
          <p:cNvGrpSpPr/>
          <p:nvPr/>
        </p:nvGrpSpPr>
        <p:grpSpPr>
          <a:xfrm>
            <a:off x="-19080" y="5699160"/>
            <a:ext cx="1635120" cy="1171440"/>
            <a:chOff x="-19080" y="5699160"/>
            <a:chExt cx="1635120" cy="1171440"/>
          </a:xfrm>
        </p:grpSpPr>
        <p:pic>
          <p:nvPicPr>
            <p:cNvPr id="799" name="Rectangle 46" descr=""/>
            <p:cNvPicPr/>
            <p:nvPr/>
          </p:nvPicPr>
          <p:blipFill>
            <a:blip r:embed="rId12"/>
            <a:stretch/>
          </p:blipFill>
          <p:spPr>
            <a:xfrm>
              <a:off x="-19080" y="5699160"/>
              <a:ext cx="16351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0" y="571500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Oval 47"/>
          <p:cNvGrpSpPr/>
          <p:nvPr/>
        </p:nvGrpSpPr>
        <p:grpSpPr>
          <a:xfrm>
            <a:off x="1311120" y="5857920"/>
            <a:ext cx="762120" cy="762120"/>
            <a:chOff x="1311120" y="5857920"/>
            <a:chExt cx="762120" cy="762120"/>
          </a:xfrm>
        </p:grpSpPr>
        <p:pic>
          <p:nvPicPr>
            <p:cNvPr id="802" name="Oval 47" descr=""/>
            <p:cNvPicPr/>
            <p:nvPr/>
          </p:nvPicPr>
          <p:blipFill>
            <a:blip r:embed="rId13"/>
            <a:stretch/>
          </p:blipFill>
          <p:spPr>
            <a:xfrm>
              <a:off x="1311120" y="585792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1430280" y="5981760"/>
              <a:ext cx="517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Oval 48"/>
          <p:cNvGrpSpPr/>
          <p:nvPr/>
        </p:nvGrpSpPr>
        <p:grpSpPr>
          <a:xfrm>
            <a:off x="19080" y="5200560"/>
            <a:ext cx="1670040" cy="1676520"/>
            <a:chOff x="19080" y="5200560"/>
            <a:chExt cx="1670040" cy="1676520"/>
          </a:xfrm>
        </p:grpSpPr>
        <p:pic>
          <p:nvPicPr>
            <p:cNvPr id="805" name="Oval 48" descr=""/>
            <p:cNvPicPr/>
            <p:nvPr/>
          </p:nvPicPr>
          <p:blipFill>
            <a:blip r:embed="rId14"/>
            <a:stretch/>
          </p:blipFill>
          <p:spPr>
            <a:xfrm>
              <a:off x="19080" y="5200560"/>
              <a:ext cx="1670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/>
            <p:cNvSpPr/>
            <p:nvPr/>
          </p:nvSpPr>
          <p:spPr>
            <a:xfrm>
              <a:off x="271440" y="5452920"/>
              <a:ext cx="11635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Oval 49"/>
          <p:cNvGrpSpPr/>
          <p:nvPr/>
        </p:nvGrpSpPr>
        <p:grpSpPr>
          <a:xfrm>
            <a:off x="139680" y="2346480"/>
            <a:ext cx="482760" cy="488880"/>
            <a:chOff x="139680" y="2346480"/>
            <a:chExt cx="482760" cy="488880"/>
          </a:xfrm>
        </p:grpSpPr>
        <p:pic>
          <p:nvPicPr>
            <p:cNvPr id="808" name="Oval 49" descr=""/>
            <p:cNvPicPr/>
            <p:nvPr/>
          </p:nvPicPr>
          <p:blipFill>
            <a:blip r:embed="rId15"/>
            <a:stretch/>
          </p:blipFill>
          <p:spPr>
            <a:xfrm>
              <a:off x="139680" y="2346480"/>
              <a:ext cx="4827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219240" y="242892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22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23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24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8D40-1818-432A-A496-BA271914ED73}" type="slidenum">
              <a: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6"/>
    <p:sldLayoutId id="2147483741" r:id="rId17"/>
    <p:sldLayoutId id="2147483742" r:id="rId18"/>
    <p:sldLayoutId id="2147483743" r:id="rId19"/>
    <p:sldLayoutId id="2147483744" r:id="rId20"/>
    <p:sldLayoutId id="2147483745" r:id="rId21"/>
    <p:sldLayoutId id="2147483746" r:id="rId22"/>
    <p:sldLayoutId id="2147483747" r:id="rId23"/>
    <p:sldLayoutId id="2147483748" r:id="rId24"/>
    <p:sldLayoutId id="2147483749" r:id="rId25"/>
    <p:sldLayoutId id="2147483750" r:id="rId26"/>
    <p:sldLayoutId id="2147483751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80880" y="2437920"/>
            <a:ext cx="8305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onstantia"/>
              </a:rPr>
              <a:t>ما هي الأهداف الممكنة في هذا الموضوع؟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</a:rPr>
              <a:t>التحليل الكيميائي   </a:t>
            </a:r>
            <a:r>
              <a:rPr b="0" lang="en-US" sz="3600" spc="-1" strike="noStrike">
                <a:solidFill>
                  <a:srgbClr val="ff0000"/>
                </a:solidFill>
                <a:latin typeface="Constantia"/>
              </a:rPr>
              <a:t>CHEMICAL ANALYSIS</a:t>
            </a:r>
            <a:endParaRPr b="0" lang="en-US" sz="3600" spc="-1" strike="noStrike">
              <a:solidFill>
                <a:srgbClr val="d1e1e3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التحليل الكيميائي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تعريفه: تحديد التركيب الكيميائي للمواد الطبيعية والمصنعة فهو يهتم بالتقدير الكمي والنوعي سواء للعناصر أو المركبات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أنواعه (حسب الطريقة أو الهدف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ما قبل التحليل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ختيار طريقة التحليل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دقة والمصداقية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تركي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تركيز الفعال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أنواع التحليل الكيميائي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تحليل النوعي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Qualitative Analysi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للتعرف على المكونات سواءً عناصر أو مركبات (عضوي، غير عضوي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تحديد المكونات من العناصر لا  يكفي للتعرف على المركبات..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يكون بطرق كيميائية وأخرى آلية تقيس الصفات الفيزيائية والكيميائية للمواد، ويمكن إدراك بعضها بالحواس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تحليل الكمي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Quantitative Analysi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للتعرف على كمية المكونات (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طرق كيميائية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250920" indent="-25092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تعتمد على التفاعل الكيميائي (وزني أو حجمي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250920" indent="-25092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Y + xX === P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نشاط للتدريب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حصلت على عينة ملح طعام، وأردت التعرف على مدى نقاوته، فاستخدمت طريقة وزنية، بحيث أذبت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5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 جم ملح، ثم أضفت نترات الفضة، وحصلت على راسب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 جم. فما هي نقاوة ملح الطعام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أنواع التحليل الكيميائي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طرق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Constantia"/>
              </a:rPr>
              <a:t>تقليدية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assical Analysi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طرق آلية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strumental Analysi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Constantia"/>
              </a:rPr>
              <a:t>لا يوجد تفاعل كيميائي خاص للتقدير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Constantia"/>
              </a:rPr>
              <a:t>يعتمد على خواص العنصر أو المركب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Constantia"/>
              </a:rPr>
              <a:t>تقيس الطاقة بدلاً من الكتلة أو الحجم كما في الكيميائية (أو التقليدية)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Constantia"/>
              </a:rPr>
              <a:t>جمع العينات </a:t>
            </a: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ampling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Constantia"/>
              </a:rPr>
              <a:t>عينات بسيطة وممثلة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Constantia"/>
              </a:rPr>
              <a:t>منطقة من الأرض، غذاء (أكوام، صناديق)، ماء (معبأ، بئر، نهر ...) ..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Constantia"/>
              </a:rPr>
              <a:t>تجهيز العينة الممثلة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أنواع التحليل الكيميائي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تجهيز العينة للتحليل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التجفيف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تقدير الكتلة (الوزن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الإذابة، الاستخلاص، الهضم الجزئي أو الكلي (ماء، أحماض، عضوية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الحرق الجاف والرطب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التخزين (التفكك، الامتزاز، التلوث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فصل المكونات لمنع التداخل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Constantia"/>
              </a:rPr>
              <a:t>الترسيب الكيميائي، الترسيب الكهربائي، الفصل الكروماتوجرافي، الحجب الكيميائي، تغيير حالة الأكسدة، التحكم في الحموضة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d1e1e3"/>
                </a:solidFill>
                <a:latin typeface="Constantia"/>
              </a:rPr>
              <a:t>الوقت عامل رئيسي في الحياة، وهو متأكد في قضايا التلوث</a:t>
            </a:r>
            <a:endParaRPr b="0" lang="en-US" sz="34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حادثة غاز الإيبوكسي كانت في يوم الثلاثاء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 أكتوبر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2011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في يوم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17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 أكتوبر ظهرت أول نتائج للقياسات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d1e1e3"/>
                </a:solidFill>
                <a:latin typeface="Constantia"/>
              </a:rPr>
              <a:t>حدث تسرب غاز الإيبوكسي في </a:t>
            </a:r>
            <a:r>
              <a:rPr b="0" lang="ar-SA" sz="3400" spc="-1" strike="noStrike">
                <a:solidFill>
                  <a:srgbClr val="d1e1e3"/>
                </a:solidFill>
                <a:latin typeface="Constantia"/>
              </a:rPr>
              <a:t>10/11</a:t>
            </a:r>
            <a:r>
              <a:rPr b="0" lang="ar-SA" sz="3400" spc="-1" strike="noStrike">
                <a:solidFill>
                  <a:srgbClr val="d1e1e3"/>
                </a:solidFill>
                <a:latin typeface="Constantia"/>
              </a:rPr>
              <a:t> وفي الوطن </a:t>
            </a:r>
            <a:r>
              <a:rPr b="0" lang="ar-SA" sz="3400" spc="-1" strike="noStrike">
                <a:solidFill>
                  <a:srgbClr val="d1e1e3"/>
                </a:solidFill>
                <a:latin typeface="Constantia"/>
              </a:rPr>
              <a:t>2011/10/28</a:t>
            </a:r>
            <a:endParaRPr b="0" lang="en-US" sz="34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74" name="صورة 3" descr=""/>
          <p:cNvPicPr/>
          <p:nvPr/>
        </p:nvPicPr>
        <p:blipFill>
          <a:blip r:embed="rId1"/>
          <a:stretch/>
        </p:blipFill>
        <p:spPr>
          <a:xfrm>
            <a:off x="287280" y="1828800"/>
            <a:ext cx="8601120" cy="3733920"/>
          </a:xfrm>
          <a:prstGeom prst="rect">
            <a:avLst/>
          </a:prstGeom>
          <a:ln w="60120">
            <a:solidFill>
              <a:srgbClr val="79b5b0"/>
            </a:solidFill>
            <a:miter/>
          </a:ln>
        </p:spPr>
      </p:pic>
      <p:sp>
        <p:nvSpPr>
          <p:cNvPr id="875" name="مستطيل مستدير الزوايا 2"/>
          <p:cNvSpPr/>
          <p:nvPr/>
        </p:nvSpPr>
        <p:spPr>
          <a:xfrm>
            <a:off x="1676520" y="2133720"/>
            <a:ext cx="5181480" cy="457200"/>
          </a:xfrm>
          <a:prstGeom prst="roundRect">
            <a:avLst>
              <a:gd name="adj" fmla="val 16667"/>
            </a:avLst>
          </a:prstGeom>
          <a:noFill/>
          <a:ln w="601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أنواع التحليل الكيميائي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ختيار طريقة التحليل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تعتمد على خبرة الباحث أو الفني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nstantia"/>
              </a:rPr>
              <a:t>الوقت المتاح، الدقة والمصداقية، إمكانية التنفيذ، عدد التحاليل المطلوبة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تركي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كمية (نسبة، تركيز) العنصر أو المركب في العينة (محلول أو صلب)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582120" indent="-24804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طبيعية (جم لتر</a:t>
            </a:r>
            <a:r>
              <a:rPr b="0" lang="ar-SA" sz="2500" spc="-1" strike="noStrike" baseline="30000">
                <a:solidFill>
                  <a:srgbClr val="ffffff"/>
                </a:solidFill>
                <a:latin typeface="Constantia"/>
              </a:rPr>
              <a:t>-</a:t>
            </a:r>
            <a:r>
              <a:rPr b="0" lang="ar-SA" sz="2500" spc="-1" strike="noStrike" baseline="30000">
                <a:solidFill>
                  <a:srgbClr val="ffffff"/>
                </a:solidFill>
                <a:latin typeface="Constantia"/>
              </a:rPr>
              <a:t>1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) (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ppm, ppb</a:t>
            </a: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) (نسبة مئوية وزنية أو حجمية)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582120" indent="-24804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كيميائية (مول أو مكافئ)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582120" indent="-24804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التركيز الفعال (القوة الأيونية للمحلول، مهمة في المحاليل غير المخففة)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5:36:41Z</dcterms:created>
  <dc:creator>أميرة المنزل</dc:creator>
  <dc:description/>
  <dc:language>en-US</dc:language>
  <cp:lastModifiedBy>Abdullah Al-Farraj</cp:lastModifiedBy>
  <dcterms:modified xsi:type="dcterms:W3CDTF">2016-12-04T11:56:44Z</dcterms:modified>
  <cp:revision>131</cp:revision>
  <dc:subject/>
  <dc:title>عرض تقديمي في PowerPoint</dc:title>
</cp:coreProperties>
</file>