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5F86-F829-4810-9FCD-731768243F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77DE-F3C5-4000-B0B0-0A475ED04B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A5B-6AEF-4A84-854C-0D3B708ECD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1B73-19E9-4258-8ABF-B74D052C53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4068-3FDF-455A-93AB-A683D4FA04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5E95-B466-415E-BAEF-8BF20E69ED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C1A-BDEA-40B4-8EDC-87BE715474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2D1-785D-4E03-86DF-8230A981D9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B992-5402-4DC0-A7C6-1474A8B46E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031-23DC-4B23-AB7A-EB1508F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34E-E25E-4FE4-BB89-E707163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443-9C08-468A-A5CF-19FBA7AB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BA3-4BC9-439D-B639-A3CEE308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5EA7-5C22-4BD5-85FA-03627934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EEDF-0379-4AAF-B112-742E32B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57FE-69C8-443C-93A0-389BB3D8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B67-C59E-4C7B-BD48-2F03C548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00FD-A015-4C35-BC08-C4752E22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2B4B-1F2F-4195-8AAF-30870A30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4801-BF89-41A9-A2BB-E0F5426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E7B-D45B-4FB8-8786-1572C6C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F8CB-DFEC-4C21-AB62-C11ACC4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498-75BE-4047-951C-FB39177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C3EF-D606-4162-A344-8D055AE0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FF0-8A94-4BF9-9BB5-F9AD0A63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CA7-C82F-433C-92A1-D483B2D3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BC8-E14E-4D6D-9FCE-3332C272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273-AA42-4276-9442-EC08DFA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CEC-FD6D-4ACD-993F-21223B2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B36-B949-40DC-AF58-90DC260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193-AB36-4F4B-90A2-3F0081F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1A0-9782-407B-9124-B10AD49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A00-1CCB-4A04-BF8D-382E971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D765-3F0A-4127-8CFB-55BCA5AE775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915B-194E-4491-9A71-37F37B1D9309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762120" y="228600"/>
            <a:ext cx="7924680" cy="6629400"/>
          </a:xfrm>
          <a:prstGeom prst="flowChartMultidocumen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حاضرات في ( التحرير العربي 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قدمها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دكتورة / عرفة محمَّد محمَّد خير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ستاذ المساعد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بقسم اللغة العربي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 معنى التحري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المعنى اللـُّغوي 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  واسْتَحَرَّ القتلُ وحَرَّ بمعنى اشتدَّ وفي حديث عمر : إِن القتل قد اسْتَحَرَّ يوم اليمامة بِقُرَّاءِ القرآن أَي اشتدَّ وكثر وهو استفعل من الحَرِّ الشِّدَّةِ . حَرَّ العبدُ يَحَرُّ حَرارَةً بالفتح أَي صار حُرّا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التحرير في الاصطلاح معناه الدقة والضبط والالتزام والتركيز على كيفية الكتابة  والعمل على ضبطها وفق أصول وقواعد متعارف عليها . والتحرير أخص من الكتابة لأنه يعني تصحيح المكتوب وإقامة الإعوجاج وإصلاح الخطأ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Verdana"/>
              </a:rPr>
              <a:t>ويرى آخرون أنه مرادف للكتابة على التوسع وعلى سبيل الشيو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914400" y="990720"/>
            <a:ext cx="7620120" cy="64767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تسمى الألف اليابسة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هي حرف مخصوص يقبل الحرك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 بخلاف الألف اللينة  التي لا تقبل الحركة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وهي نوعان :همزة وصل وهمزة قطع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أكَلَ     : همزتها قطع ويابسة تقبل الحركة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اِستغفرَ : همزتها وصل ويابسة تقبل الحرك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فتى : همزتها لينة لا تقبل الحركة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وكذلك : دعا وقال واستدعى واهتد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62120" y="0"/>
            <a:ext cx="7162560" cy="1981080"/>
          </a:xfrm>
          <a:custGeom>
            <a:avLst/>
            <a:gdLst>
              <a:gd name="textAreaLeft" fmla="*/ 1635120 w 7162560"/>
              <a:gd name="textAreaRight" fmla="*/ 5527440 w 716256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تعريف الهمز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876920" y="1600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16765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543800" y="39625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124080" y="167652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143000" y="1600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ا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172200" y="3886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724280" y="38862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إ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581280" y="3581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ؤ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ُ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48520" y="289548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قطع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486400" y="533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وص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09680" y="36576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9600" spc="-1" strike="noStrike">
                <a:solidFill>
                  <a:srgbClr val="000000"/>
                </a:solidFill>
                <a:latin typeface="Arial"/>
              </a:rPr>
              <a:t>ئـ</a:t>
            </a: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ِ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85800" y="35812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ءَ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5400" spc="-1" strike="noStrike">
                <a:solidFill>
                  <a:srgbClr val="006666"/>
                </a:solidFill>
                <a:latin typeface="Arial"/>
              </a:rPr>
              <a:t>ما الفرق بينهما ؟ ؟ ؟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952880" y="38862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3868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1460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693432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572000" y="1600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581280" y="1523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14600" y="3809880"/>
            <a:ext cx="68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ئـ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80060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733920" y="3886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ؤ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371600" y="41148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095880" y="39625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7315200" y="388620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000000"/>
                </a:solidFill>
                <a:latin typeface="Verdana"/>
              </a:rPr>
              <a:t>عـ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7238880" y="41148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019920" y="41911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8000" spc="-1" strike="noStrike">
                <a:solidFill>
                  <a:srgbClr val="000000"/>
                </a:solidFill>
                <a:latin typeface="Verdana"/>
              </a:rPr>
              <a:t>ا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395280" y="1571760"/>
            <a:ext cx="8034480" cy="5643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هي ألف عليها نبرة ( </a:t>
            </a:r>
            <a:r>
              <a:rPr b="1" lang="ar-SA" sz="8000" spc="-1" strike="noStrike">
                <a:solidFill>
                  <a:srgbClr val="0000cc"/>
                </a:solidFill>
                <a:latin typeface="Verdana"/>
              </a:rPr>
              <a:t>أ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تكتب وتلفظ وتأتي ف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أول الكلمة وفي وسطها وفي آخرها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وتوضع أعلى ألفها همزة في حالت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الضم والفتح وأسفلها في حالة الكس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                                      تكتب على الألف والواو والياء والسطر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609480" y="152280"/>
            <a:ext cx="7162920" cy="141948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324000 h 1419480"/>
              <a:gd name="textAreaBottom" fmla="*/ 1095480 h 141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همزة القطع :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0000"/>
                </a:solidFill>
                <a:latin typeface="Arial"/>
              </a:rPr>
              <a:t>تعريفها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133720" y="152280"/>
            <a:ext cx="3809880" cy="137160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اضع همزة القط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588000" y="2492280"/>
            <a:ext cx="2556000" cy="43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ي كل الحرو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والضمائ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مهموز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ا (ال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تعريفي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87640" y="2637000"/>
            <a:ext cx="2879640" cy="378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في الفعل الرباع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قبل وأفرج وأحسن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ماضي ومضار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فعل الثلاثي المهمو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كل يأكل أمر يأم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ومضارع الخماس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لسداسي للمتكل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نطلق ُ  أستغفرُ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492280"/>
            <a:ext cx="248436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جميع الأسماء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عربية والأعجمي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برار إنعام أطف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سماعيل إبراهي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406728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21"/>
          <p:cNvSpPr/>
          <p:nvPr/>
        </p:nvSpPr>
        <p:spPr>
          <a:xfrm flipH="1">
            <a:off x="1403280" y="1916280"/>
            <a:ext cx="63374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140328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4067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766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مواضع همزة القطع في الكلم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57600" y="2513160"/>
            <a:ext cx="2209680" cy="36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في وسط الكلمة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س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ل ر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ى زأ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ctr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س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ؤ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ال ز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ئ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ير مر</a:t>
            </a:r>
            <a:r>
              <a:rPr b="1" lang="ar-SA" sz="4400" spc="-1" strike="noStrike">
                <a:solidFill>
                  <a:srgbClr val="cc0000"/>
                </a:solidFill>
                <a:latin typeface="Garamond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Garamond"/>
              </a:rPr>
              <a:t>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80880" y="2514600"/>
            <a:ext cx="23623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في آخر الكلمة</a:t>
            </a:r>
            <a:br>
              <a:rPr sz="4400"/>
            </a:b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قر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سما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ء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شي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ء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مكا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ة مكا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ئ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 كف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ؤ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400800" y="2438280"/>
            <a:ext cx="25146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في أول الكلمة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لى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نَّ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كل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مر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أ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سلم </a:t>
            </a:r>
            <a:br>
              <a:rPr sz="4400"/>
            </a:b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إ</a:t>
            </a:r>
            <a:r>
              <a:rPr b="1" lang="ar-SA" sz="4400" spc="-1" strike="noStrike">
                <a:solidFill>
                  <a:srgbClr val="0000cc"/>
                </a:solidFill>
                <a:latin typeface="Arial"/>
              </a:rPr>
              <a:t>سلام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7524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472428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77724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7242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17524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7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9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334120" y="1676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نْطلق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0" y="1676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</a:t>
            </a:r>
            <a:r>
              <a:rPr b="1" lang="ar-IQ" sz="6000" spc="-1" strike="noStrike">
                <a:solidFill>
                  <a:srgbClr val="006600"/>
                </a:solidFill>
                <a:latin typeface="Arial"/>
              </a:rPr>
              <a:t>ُ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كْتُبْ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3915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ُ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خ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81280" y="1676520"/>
            <a:ext cx="19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ْتغفر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133720" y="1676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اَلل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5627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َ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505320" y="38098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قر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أ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َ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8862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إ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لام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867280" y="3048120"/>
            <a:ext cx="26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قطع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486400" y="5335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0000"/>
                </a:solidFill>
                <a:latin typeface="Arial"/>
              </a:rPr>
              <a:t>همزة الوص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7391520" y="50292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ؤ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ْ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ؤ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257800" y="5105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مباد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ئ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733920" y="5029200"/>
            <a:ext cx="144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جز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ء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057400" y="51055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ما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ء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80880" y="51055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ئ</a:t>
            </a:r>
            <a:r>
              <a:rPr b="1" lang="ar-SA" sz="6000" spc="-1" strike="noStrike">
                <a:solidFill>
                  <a:srgbClr val="990033"/>
                </a:solidFill>
                <a:latin typeface="Arial"/>
              </a:rPr>
              <a:t>ِ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14400" y="17524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6000" spc="-1" strike="noStrike">
                <a:solidFill>
                  <a:srgbClr val="990033"/>
                </a:solidFill>
                <a:latin typeface="Arial"/>
              </a:rPr>
              <a:t>ا</a:t>
            </a:r>
            <a:r>
              <a:rPr b="1" lang="ar-IQ" sz="6000" spc="-1" strike="noStrike">
                <a:solidFill>
                  <a:srgbClr val="000000"/>
                </a:solidFill>
                <a:latin typeface="Arial"/>
              </a:rPr>
              <a:t>ِبْن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1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3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6"/>
          <p:cNvSpPr/>
          <p:nvPr/>
        </p:nvSpPr>
        <p:spPr>
          <a:xfrm>
            <a:off x="609480" y="152280"/>
            <a:ext cx="7162920" cy="1219320"/>
          </a:xfrm>
          <a:custGeom>
            <a:avLst/>
            <a:gdLst>
              <a:gd name="textAreaLeft" fmla="*/ 1635120 w 7162920"/>
              <a:gd name="textAreaRight" fmla="*/ 5527800 w 71629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همزة الوصل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عريفها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62120" y="1219320"/>
            <a:ext cx="7162560" cy="5638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لف بدون نبرة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أتي في أول الكلمة فق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ون على الألف دائماً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ؤتى بها للتوصل للنطق بالساك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لفظ وتكتب في أول الكلا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وتكتب ولا تلفظ في الدرج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2133720" y="152280"/>
            <a:ext cx="3809880" cy="1371600"/>
          </a:xfrm>
          <a:custGeom>
            <a:avLst/>
            <a:gdLst>
              <a:gd name="textAreaLeft" fmla="*/ 869760 w 3809880"/>
              <a:gd name="textAreaRight" fmla="*/ 2940120 w 380988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واضع همزة الوصل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AutoShape 6"/>
          <p:cNvSpPr/>
          <p:nvPr/>
        </p:nvSpPr>
        <p:spPr>
          <a:xfrm flipV="1">
            <a:off x="1447920" y="1599120"/>
            <a:ext cx="5638680" cy="762120"/>
          </a:xfrm>
          <a:custGeom>
            <a:avLst/>
            <a:gdLst>
              <a:gd name="textAreaLeft" fmla="*/ 563760 w 5638680"/>
              <a:gd name="textAreaRight" fmla="*/ 5074920 w 5638680"/>
              <a:gd name="textAreaTop" fmla="*/ 435600 h 762120"/>
              <a:gd name="textAreaBottom" fmla="*/ 653400 h 762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553080" y="266688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الحرو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352680" y="2590920"/>
            <a:ext cx="1600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الأفع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3352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</a:rPr>
              <a:t>في الأسماء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086600" y="35053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6324480" y="426708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 التعريفي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962520" y="32767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3276720" y="4038480"/>
            <a:ext cx="22860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مر الفعل الثلاث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، اشرح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3352680" y="5181480"/>
            <a:ext cx="2514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اضي وأم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م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3429000" y="5943600"/>
            <a:ext cx="25146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اضي وأمر الفع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سد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1143000" y="3581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457200" y="4191120"/>
            <a:ext cx="1600200" cy="228600"/>
          </a:xfrm>
          <a:prstGeom prst="leftRightArrow">
            <a:avLst>
              <a:gd name="adj1" fmla="val 50000"/>
              <a:gd name="adj2" fmla="val 139352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0200" y="4572000"/>
            <a:ext cx="990720" cy="175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صادر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فعلي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ماسي 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داس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76320" y="4572000"/>
            <a:ext cx="838080" cy="16765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أسم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عشر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1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3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5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2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6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762120" y="228600"/>
            <a:ext cx="7924680" cy="6629400"/>
          </a:xfrm>
          <a:prstGeom prst="flowChartMultidocument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رمز المقرر ورقمه : عرب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 المقرر  : التحرير العرب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وحدات : ساعتان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429000" y="533520"/>
            <a:ext cx="16765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ي الحرو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590920" y="2286000"/>
            <a:ext cx="3962160" cy="44197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في (أل) التعريفية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اسم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حرف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فعل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سَّماء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أرض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لـَّيل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نـَّهار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لكت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4114800" y="121932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429000" y="228600"/>
            <a:ext cx="16002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3200400" y="1066680"/>
            <a:ext cx="198108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ر الفعل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لاث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1981080" y="2438280"/>
            <a:ext cx="4648320" cy="34290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ربِّ 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شرح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لي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حلل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عقدة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عفُ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عنا 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غفر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لنا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و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رحمن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</a:t>
            </a:r>
            <a:r>
              <a:rPr b="1" lang="ar-SA" sz="44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نصرنا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4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8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5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297324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637640"/>
            <a:ext cx="253260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76000"/>
          </a:bodyPr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اضي وأمر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0640" indent="-260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الخم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438280" y="3124080"/>
            <a:ext cx="4724640" cy="37339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إذا السماء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نشقت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إذا الكواكب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نتثرت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فمن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هتدى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، أو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عتمر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قال </a:t>
            </a:r>
            <a:r>
              <a:rPr b="1" lang="ar-SA" sz="48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تقوا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الل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81280" y="151920"/>
            <a:ext cx="24400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في الأفعال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1484640"/>
            <a:ext cx="2209320" cy="9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  ماضي وأم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الفعل السد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209680" y="2743200"/>
            <a:ext cx="5257800" cy="41148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إذ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سق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وس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ما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طاعو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ه نقبا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طع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أهلها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ف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عذ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بالل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ا أبت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أجر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ستعينو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بالصب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200400" y="304920"/>
            <a:ext cx="3276720" cy="99036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أسماء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2971800" y="1447920"/>
            <a:ext cx="3276720" cy="1447560"/>
          </a:xfrm>
          <a:custGeom>
            <a:avLst/>
            <a:gdLst>
              <a:gd name="textAreaLeft" fmla="*/ 327600 w 3276720"/>
              <a:gd name="textAreaRight" fmla="*/ 2949120 w 3276720"/>
              <a:gd name="textAreaTop" fmla="*/ 827280 h 1447560"/>
              <a:gd name="textAreaBottom" fmla="*/ 1240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172200" y="2514600"/>
            <a:ext cx="2514600" cy="358128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ماء العشر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مثنيا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ؤ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رأ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م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م  –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نان -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ثنتا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28600" y="2514600"/>
            <a:ext cx="2590920" cy="388620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صدر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خماسي والسداس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بتغ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رضات ال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نفصا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ها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فاتِّباع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لمعروف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ا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استغف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براهيم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تدريب (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كتب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المفردات الآتية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أبطأ العاملُ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، سافر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بن بطوطة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حول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عالم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نتقلت الكلية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إلى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المقر الجديد 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و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بدأ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فصل 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دراسي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وأقبلت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طالبات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نتظمت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Verdana"/>
              </a:rPr>
              <a:t>ال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دراسة في جميع </a:t>
            </a:r>
            <a:r>
              <a:rPr b="1" lang="ar-SA" sz="4000" spc="-1" strike="noStrike">
                <a:solidFill>
                  <a:srgbClr val="0000cc"/>
                </a:solidFill>
                <a:latin typeface="Verdana"/>
              </a:rPr>
              <a:t>الأقسام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ا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نتبهي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لدينك ،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عتصمي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بحبل الله ، </a:t>
            </a:r>
            <a:r>
              <a:rPr b="1" lang="ar-SA" sz="4000" spc="-1" strike="noStrike">
                <a:solidFill>
                  <a:srgbClr val="cc0000"/>
                </a:solidFill>
                <a:latin typeface="Verdana"/>
              </a:rPr>
              <a:t>واستعيني به ، واتقي الله يجعل لك مخرجاً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2362320" y="304920"/>
            <a:ext cx="4724280" cy="106668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جوه حذف همزة الوصل 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895480" y="1447920"/>
            <a:ext cx="3276720" cy="1676160"/>
          </a:xfrm>
          <a:custGeom>
            <a:avLst/>
            <a:gdLst>
              <a:gd name="textAreaLeft" fmla="*/ 327600 w 3276720"/>
              <a:gd name="textAreaRight" fmla="*/ 2949120 w 3276720"/>
              <a:gd name="textAreaTop" fmla="*/ 957960 h 1676160"/>
              <a:gd name="textAreaBottom" fmla="*/ 1436760 h 1676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867280" y="2514600"/>
            <a:ext cx="2819520" cy="396252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لفظاً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</a:rPr>
              <a:t>وخطَّاً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04920" y="2666880"/>
            <a:ext cx="2514600" cy="3581640"/>
          </a:xfrm>
          <a:prstGeom prst="rect">
            <a:avLst/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فظاً لا خطَّا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ذا وقعت في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سط الكلا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ء 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ج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قلتُ 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ذهب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6666"/>
                </a:solidFill>
                <a:latin typeface="Arial"/>
              </a:rPr>
              <a:t>أحكام خاصة الهمزة في أول الكلم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تكتب الهمزة في أول الكلمة على ألف :مثل 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إن ،أن ، أما ، أُم ، إذا ، أُستاذ ، أسماء ، إِسلام .أرأيت إبراهيم ، إسماعيل ، أكل ، أنجز ، إنجاز ، أُنجزُ ، أجملَ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وتكتب الهمزة في أول الكلمة مدَّاً :ويأتي المد من اجتماع همزة متحركة وأخرى ساكنة أو ألف مد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إذا وقع بعد الهمزة المفتوحة في أول الكلمة همزة ساكنة مثل : ( أَ + أْ ) أَأْخُذُ أَفْعُلُ = آخذ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، ومثلها : آمُل وآكُل ، وآسَى على وزن فَاعَلَ ومثلها : آذى وآنَس، وآزَر ،وأفعال : آثار ،آداب ، </a:t>
            </a:r>
            <a:r>
              <a:rPr b="1" lang="ar-IQ" sz="3600" spc="-1" strike="noStrike">
                <a:solidFill>
                  <a:srgbClr val="000000"/>
                </a:solidFill>
                <a:latin typeface="Verdana"/>
              </a:rPr>
              <a:t>آمال ، آذان ، آفاق ، ومفاعل : مآذن ومآثر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5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2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3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4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9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0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1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6666"/>
                </a:solidFill>
                <a:latin typeface="Arial"/>
              </a:rPr>
              <a:t>أحكام خاصة الهمزة في أول الكلم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357200"/>
            <a:ext cx="8964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Verdana"/>
              </a:rPr>
              <a:t>إذا دخلت حروف الجر على الهمزة في أول الكلمة لا يتغير شيء في كتابة الكلمة ويستثنى من ذلك 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000000"/>
                </a:solidFill>
                <a:latin typeface="Verdana"/>
              </a:rPr>
              <a:t>( لـَ + إن ) تكتب : لـَئن .</a:t>
            </a: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 لأن الهمزة مكسورة بعد فتح  والكسر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(لـِ + ألاّ ) تكتب : لِئَلا .لأنها مفتوحة بعد كسر والكسر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Verdana"/>
              </a:rPr>
              <a:t>( ها + أُولاء ) تكتب هؤلاء . لأنها ساكنة بعد ضم والضم أقوى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إذا دخلت همزة على همزتي الوصل والقطع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200016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- إذا كانت الهمزة الأولى وصل مكسورة وبعدها همزة قطع ساكنة ترسم الثانية على نبرة لمناسبة الكسر مثل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 + أتى :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ِ 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 + أَذَنَ :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ذَن ، ا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لاف ، ا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زار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ِئْ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مان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- إذا كانت الهمزة الأولى وصل أو قطع مضمومة بعدها همزة قطع ساكنة ترسم على واو لتناسب الضمة مثل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ُمن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ا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ُلف ، </a:t>
            </a:r>
            <a:r>
              <a:rPr b="1" lang="ar-SA" sz="3600" spc="-1" strike="noStrike">
                <a:solidFill>
                  <a:srgbClr val="ff0000"/>
                </a:solidFill>
                <a:latin typeface="Verdana"/>
              </a:rPr>
              <a:t>اُ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تمر  .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ُ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خي ،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ؤ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اخذ ُ   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4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1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4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1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2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تدريس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يرمي هذا المقرر إلى تحقيق عدد من الأهداف أهمها ما يلي 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اتجاهات إيجابية لدى الطالب نحو اللغة العربية في جانبها الكتابي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قدرات الطالب في التعبير الكتابي نحوياً وإملائياً وموضوعياً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دريب الطالب على عناصر الكتابة الموضوعية وأنماطها المعاصر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تنمية مهارات الطالب نحو الدقة في التعبير والكتابة المركز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يتعرف الطالب على علامات الترقيم ومواقعها وإتقان استخدامها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يتعرف الطالب  على أنواع التحرير المختلفة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50200" indent="-25020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Verdana"/>
              </a:rPr>
              <a:t>أن تتجنب الأخطاء الشائعة في الإعلام والسمو بالأساليب المعاصرة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دخول همزة الاستفهام على الهمزتين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إذا دخلت همزة الاستفهام على همزة الوصل تحذف همزة الوصل  إلا همزة ال فتقلب مداً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 + ا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صطفى = أصطفى ؟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+ا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سمك = أسمك محمد 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آلله أذن لكم ، آلذكرين أم الأنثيين 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أما مع همزة القطع فالأفضل بقاؤها 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أ + أنت = </a:t>
            </a:r>
            <a:r>
              <a:rPr b="1" lang="ar-SA" sz="3600" spc="-1" strike="noStrike">
                <a:solidFill>
                  <a:srgbClr val="cc0000"/>
                </a:solidFill>
                <a:latin typeface="Verdana"/>
              </a:rPr>
              <a:t>أأ</a:t>
            </a: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نت محمد ؟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Verdana"/>
              </a:rPr>
              <a:t>     أ + انتصر = أنتصر المسلمون ؟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6960" indent="-246960" algn="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8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5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تحذف همزة الوصل </a:t>
            </a:r>
            <a:br>
              <a:rPr sz="3600"/>
            </a:b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ع همزة الاستفها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0000"/>
          </a:bodyPr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ar-SA" sz="6000" spc="-1" strike="noStrike">
                <a:solidFill>
                  <a:srgbClr val="0000ff"/>
                </a:solidFill>
                <a:latin typeface="Verdana"/>
                <a:ea typeface="DecoType Naskh"/>
              </a:rPr>
              <a:t>{أَصْطَفَى الْبَنَاتِ عَلَى الْبَنِينَ }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  <a:cs typeface="DecoType Naskh"/>
              </a:rPr>
              <a:t>اصطفى دخلت عليه همزة الاستفها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</a:rPr>
              <a:t>أنتقلت الكلية ؟ انتقلت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 algn="r" rtl="1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ff"/>
                </a:solidFill>
                <a:latin typeface="Verdana"/>
              </a:rPr>
              <a:t>أستغفر العبد ربه ؟ استغفر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لفظاً لا خطَّا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419076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إذا وقعت في وسط الكلام مثل :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ف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صبر ، باسمك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و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لسماء ، واعفُ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لت 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كتب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ف</a:t>
            </a:r>
            <a:r>
              <a:rPr b="1" lang="ar-SA" sz="4600" spc="-1" strike="noStrike">
                <a:solidFill>
                  <a:srgbClr val="ff00ff"/>
                </a:solidFill>
                <a:latin typeface="Verdana"/>
              </a:rPr>
              <a:t>ا</a:t>
            </a: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غفر لنا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86080" y="301320"/>
            <a:ext cx="433368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متى تثبت همزة (ابن) ؟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محمد هو ابن عبد الله . </a:t>
            </a:r>
            <a:r>
              <a:rPr b="1" lang="ar-SA" sz="4000" spc="-1" strike="noStrike">
                <a:solidFill>
                  <a:srgbClr val="0000ff"/>
                </a:solidFill>
                <a:latin typeface="Verdana"/>
              </a:rPr>
              <a:t>لوجود فاصل بينها وبين العلم السابق لها  وهو الضمير 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زيد وعمرو ابنا محمد . دلت  على تثنية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ال ابن مالك . لم تقع بين اسمين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قالت : ... عزيرٌ ابن الله . لوقوعها خبراً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ff"/>
                </a:solidFill>
                <a:latin typeface="Verdana"/>
              </a:rPr>
              <a:t>عيسى ابن مريم . ما بعدها ليس أباً لها .محمد ابن عبد الله . وقعت في أول السطر .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تدريب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 ( 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ستخرج الكلمات المبدوءة بهمزة الوصل والتي بها همزة القط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قال تعالى 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إذا السّماءُ انفطرت ” وإذا الأرض ... وألقت ...“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 اجعلوا بضاعتهم في ... إذا انقلبوا ”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” ثم استخرجها من وعاء أخيه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” وابيضت عيناه من الحزن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واشتعل الرأس شيباً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0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2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4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7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8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9" dur="8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4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5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1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2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8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8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9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0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5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6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7" dur="8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تدريب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 ( 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3200"/>
            </a:br>
            <a:r>
              <a:rPr b="1" lang="ar-SA" sz="3200" spc="-1" strike="noStrike">
                <a:solidFill>
                  <a:srgbClr val="006666"/>
                </a:solidFill>
                <a:latin typeface="Arial"/>
              </a:rPr>
              <a:t>استخرج الكلمات المبدوءة بهمزة الوصل والتي بها همزة القطع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73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قال تعالى 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إذا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 السّماءُ انشقت، وأذنت لربها وحقت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وقضى ربك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ألا تعبدوا إلا إياه وبالوالدين إحسانا إما يبلغنَّ عندك الكبر أحدهما أو كلاهما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قد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أفلح المؤمنون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 algn="r" rtl="1">
              <a:lnSpc>
                <a:spcPct val="100000"/>
              </a:lnSpc>
              <a:spcBef>
                <a:spcPts val="10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” وكذلك بعثناهم </a:t>
            </a:r>
            <a:r>
              <a:rPr b="0" lang="ar-SA" sz="4000" spc="-1" strike="noStrike">
                <a:solidFill>
                  <a:srgbClr val="000000"/>
                </a:solidFill>
                <a:latin typeface="Verdana"/>
              </a:rPr>
              <a:t>ليتساءلوا قال قائل منهم 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5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9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5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6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8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تدريب (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ar-SA" sz="4400" spc="-1" strike="noStrike">
                <a:solidFill>
                  <a:srgbClr val="006666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827000"/>
            <a:ext cx="87631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عيني مواضع الهمزات وبيني نوعها :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اكتب الدرس ، واستخلصي النتائج ، وتأكدي من فهمها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استعانت الجامعة بالخبراء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أحسنوا تربية أبنائكم وبروا آباءكم 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r" rtl="1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أصبحت الجودة جزءاً من العملية التدريسية </a:t>
            </a:r>
            <a:r>
              <a:rPr b="1" lang="ar-SA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3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0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اختبار على همزتي الوصل والقطع</a:t>
            </a:r>
            <a:br>
              <a:rPr sz="3600"/>
            </a:b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والتاء المربوطة والمبسوطة والألف اللينة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ما الهمزة اليابسة وما نوعاها ؟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ضعي دائرة حول رمز الإجابة الصحيح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الفعل الماضي من يسخرج يكتب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أ- أستخرجَ . ب- إستخرجَ . ج- استخرجَ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الفعل الماضي من ينتجُ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- انتجَ . ب- أنتجَ . ج- أُنتِجَ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كلمة (سماء ) عند تنوينها نصباً تكتب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- سماءاً     ب- سماءً    ج – سمأً 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اكتب مثنيات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ضوء ..........شيء ........ قضاء ................. 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0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1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6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7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8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3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4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5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0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1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8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7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8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9" dur="8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4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5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8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1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2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8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8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0" dur="8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6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7" dur="8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استخرج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الهمزات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وبيني نوعها وعللى كتابتها على الصورة التي عليها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         أحسنوا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تربية 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أبنائكم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وبروا 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آباءكم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 انطلاقاً من هدي الكتاب والسنة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</a:rPr>
              <a:t>- عللي كتابة الهمزة فيما يأت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         كؤوس ، بئيس ، ملجآن ، آخر . مآثر ، مكافآت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6</a:t>
            </a: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- نوني المفردات الآتية تنوين نصب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Verdana"/>
              </a:rPr>
              <a:t>      شيء ، طارئ ، مبتدأ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7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أسندي الفعل ( بدأ) إلى واو الجماعة وبيني ما قياسه وما الذي يجوز في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8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اذكري القاعدة العامة للآتي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كتابة الهمزة المتوسطة    ،    كتابة الهمزة المتطرف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9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 ما (هاء التأنيث ) وما ( تاء التأنيث ) ؟ ومثلي لهما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10</a:t>
            </a: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-اذكري موضعين من مواضع كتابة الألف اللينة ياء في طرف الكلمة ومثل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Verdana"/>
              </a:rPr>
              <a:t>والله ولي التوفي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1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2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3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8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9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0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8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3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8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9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0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1" dur="8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6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7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8" dur="8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3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4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5" dur="8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0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1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8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7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8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9" dur="8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1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2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3" dur="8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حتوى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وتتحقق الأهداف السابقة من خلال المحتوى التالي وصفه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قضايا الإملاء :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    همزة الوصل وهمزة القطع ، كتابة التاء المفتوحة والتاء المربوطة ، الهاء والألف الفارقة الألف اللين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قواعد  الترقيم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الشروط الموضوعية للكتاب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-267480" algn="r" rtl="1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أنماط التحرير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r" rtl="1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المقال, البحث, الرسالة, التقرير, الخلاصة والتلخيص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قويم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أعمال السنة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أربعون درجة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الاختبار الفصلي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ستون درج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مجموع الدرجات 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ar-SA" sz="3300" spc="-1" strike="noStrike">
                <a:solidFill>
                  <a:srgbClr val="000000"/>
                </a:solidFill>
                <a:latin typeface="Verdana"/>
              </a:rPr>
              <a:t> مائة درجة 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تراتيجيات تدريس المقر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514600" y="1295280"/>
            <a:ext cx="3886200" cy="38862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محاضرة 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حوار والمناقش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طبيقات العملية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- التعلم التعاوني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راجع المقترحة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التحرير العربي ، د. أحمد شوقي رضوان ود. عثمان صالح الفريح مطبوعات العبيكان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مرجع مساعد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فن التحرير العربي ضوابطه وأنماطه ، د. محمد صالح الشنطي ، دار الأندلس للنشر والتوزيع ، حائل 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بسولة أولى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827000"/>
            <a:ext cx="8074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قال الله تعالى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775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اقْرَأ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بِاسْمِ رَبِّكَ الَّذِي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خَلَق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خَلَق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الْإِنسَانَ مِنْ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عَلَقٍ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اقْرَأ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وَرَبُّكَ الْأَكْرَمُ } {الَّذِي عَلَّمَ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بِالْقَلَمِ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 {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عَلَّمَ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الْإِنسَانَ مَا لَمْ </a:t>
            </a:r>
            <a:r>
              <a:rPr b="1" lang="ar-SA" sz="4800" spc="-1" strike="noStrike">
                <a:solidFill>
                  <a:srgbClr val="ff0000"/>
                </a:solidFill>
                <a:latin typeface="Verdana"/>
                <a:cs typeface="DecoType Naskh"/>
              </a:rPr>
              <a:t>يَعْلَمْ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}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             العلق (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1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2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 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3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4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 -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5</a:t>
            </a:r>
            <a:r>
              <a:rPr b="1" lang="ar-SA" sz="4800" spc="-1" strike="noStrike">
                <a:solidFill>
                  <a:srgbClr val="000000"/>
                </a:solidFill>
                <a:latin typeface="Verdana"/>
                <a:ea typeface="DecoType Naskh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بسولة ثانية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074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قال الشاعر 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لأستسهلَنَّ الصَّعبَ أو أُدركَ المُنى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Verdana"/>
              </a:rPr>
              <a:t>                           فما انقَادَتِ الآمالُ إلاَّ لصابرٍ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7:58:38Z</dcterms:created>
  <dc:creator>user</dc:creator>
  <dc:description/>
  <dc:language>en-US</dc:language>
  <cp:lastModifiedBy>haz san</cp:lastModifiedBy>
  <dcterms:modified xsi:type="dcterms:W3CDTF">2016-01-27T08:46:47Z</dcterms:modified>
  <cp:revision>170</cp:revision>
  <dc:subject/>
  <dc:title>الشريحة 1</dc:title>
</cp:coreProperties>
</file>